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27C-9746-4579-BA43-BD4CDE35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048-B9FF-4255-80F0-9CA70946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62E-D7F9-4377-8C7B-9CE18417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189-2FCB-4DF7-862F-8D5A3C08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F6E-0212-4742-BAD5-F86712FE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AE6-798E-4A6C-A332-5E1AC885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AD0-5728-4DAC-B04E-EC280618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1FB-CFA2-4851-9B0B-530E1E0E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F43-FD7E-4E74-9BBE-443E2F73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ED9-0CF8-40BF-BB67-F7138A18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089-2998-4637-81DB-7AF8235C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D85-717E-4014-910C-8BE7005A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AF6C-F701-4192-8447-A9DAFB39B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دراسة بنية الخبرة الذات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كتيب تعليمات لكيفية استعمال الانسان لدماغ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موقف ومنهج يخلفان ورائهما عددا من الأسال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طريقة مبتكرة لمعرفة أسرار النف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بشر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طريقة التعامل معها بطرق وأساليب معينة بحيث يمكن التاثير في عملية الادراك والتصو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الشعو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بالتال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سلوك والمهارات والأداء الجسدي والفك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5335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برمجة اللغوية العص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الهندسة النفس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32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00"/>
                </a:solidFill>
                <a:latin typeface="Arial"/>
              </a:rPr>
              <a:t>                   </a:t>
            </a:r>
            <a:r>
              <a:rPr b="1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تاريخ البرمجة اللغوية العصب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في منتصف السبعينات وضع العالمان الامريكيان جون غرندر (عالم لغويات) وريتشارد باندلر (عالم لغويات) أصول علم البرمجة اللغوية العص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من خلال ابحاث قام بها علماء آخرون أمثال فرجينيا ساتير, ملتون, تشومسكي وبافلوف وغير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1911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r" rt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برمجة اللغوية العصبية ليست علم النف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لمها يعتمد على الممارسة والخب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r" rtl="1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لمنا الهندسة النفسية كيف نصنع النجا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4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طبيقات البرمجة اللغوية العص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ربية والتعليم والتدر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دارة والتجارة والأعم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طوير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كتساب المهارات الطفي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نمية الحوافز للعمل والانت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طوير التفكير الابدا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فع مستوى الاداء الرياضي والفني والمه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رفع كفاية الطلبة والباحث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تربية والتعل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رعة التعلم والتذك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تقان تهجي الكلمات والا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زيادة فعالية وسائل الايض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شحذ القدرة على التفكي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سين السلو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مستوى الاداء للمدر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سين الحفظ والاستظه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914400"/>
            <a:ext cx="4038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ادارة والأعم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خطيط الاستراتي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ناعة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فيز الموظف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هارات التفا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هارات البيع والتسو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بداع وحل المشك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ارة الاجتما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دارة الوق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وظ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ebpage"/>
          <p:cNvSpPr/>
          <p:nvPr/>
        </p:nvSpPr>
        <p:spPr>
          <a:xfrm>
            <a:off x="5105520" y="1676520"/>
            <a:ext cx="3657600" cy="4572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الم في ذهن الانسان ليس هو العالم الحقي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الم في الذهن هو العالم الوحيد الذي ندرك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مكن ان نغير العالم اذا غيرنا العالم الذي في اذهان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ناك ثلاثة عوامل تحد من ادراكنا للعالم الخارج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و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ل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عتقدات والقيم والمعا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عتبر أيضا مرشحات لعملية الادرا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كل من هذه المرشحات عي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ستراتيجية التف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لهد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رهاف الحو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خطوة الأو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؟ هل تحقق الهدف..................المرو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حصي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ar-SA" sz="1600" spc="-1" strike="noStrike" u="sng">
                <a:solidFill>
                  <a:srgbClr val="ffffff"/>
                </a:solidFill>
                <a:uFillTx/>
                <a:latin typeface="Arial"/>
              </a:rPr>
              <a:t>الافتراضات الأساسية في البرمجة اللغوية العصب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خارطة ليست هي الواق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عقل والجسم منظومة واحد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ذا كنت تفعل دائما ما اعتدت على فعله, فانك تحصل دائما على ما اعتدت الحصول ع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لا يوجد فشل بل نتائ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خيار افضل من اللاخي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نت لست سلوك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733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اذا لم تحصل على نتيجة مما تفعله, فافعل شيئا آخ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لكل سلوك قصد ايج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يمتلك كل انسان الموارد التي يحتاج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يستجيب الانسان لخارطة الواقع التي في ذهنه وليس للواقع نفس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اذا كان شئ ما ممكنا في هذا العالم فانه ممكن 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ليس هناك مشكلة ليس لها 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مأساة الحياة لاتكمن في عدم وصولك للهدف, ولكنها تكمن في أن لايكون لك هدف تحاول الوصول الي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cc00"/>
                </a:solidFill>
                <a:uFillTx/>
                <a:latin typeface="Arial"/>
              </a:rPr>
              <a:t>البرمجة اللغوية العصبية</a:t>
            </a:r>
            <a:br>
              <a:rPr sz="2800"/>
            </a:b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676520"/>
            <a:ext cx="76964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وسيلة الوحيدة للنجاح هي الاستمرار بالقوة حتى النهاية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352680"/>
            <a:ext cx="75438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شخص الناجح هو الذي يستطيع أن يصنع أساس ثابت من الحجارة التي يلقيها الآخرون عليه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3:28:49Z</dcterms:created>
  <dc:creator>fathalbab</dc:creator>
  <dc:description/>
  <dc:language>en-US</dc:language>
  <cp:lastModifiedBy>PC3</cp:lastModifiedBy>
  <dcterms:modified xsi:type="dcterms:W3CDTF">2006-03-13T13:52:21Z</dcterms:modified>
  <cp:revision>22</cp:revision>
  <dc:subject/>
  <dc:title>الشريحة 1</dc:title>
</cp:coreProperties>
</file>