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CF1-2260-4E9D-BD2C-1C6A31F0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58F-F71C-40AD-9CFD-915EB5B9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B36-9F69-4291-BBB7-EDE5A30C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84F-7485-447B-9F1D-5D68D6B0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AF7-8239-4860-ABF7-79175251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FDC-8E95-43AE-8E81-5E8FE1A1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B6F-0621-465D-A769-11C02E00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28B-E5F0-45D7-96DE-07F6E757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EC1-5DCC-4D97-9300-467549BB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28D-D4C5-4282-9539-88EE2E4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356-EC16-46F3-A505-21BB9BA9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166-C744-4B7C-99D3-D6AE39D7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5E51-47E1-4665-BC43-624D7FFB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دراسة بنية الخبرة الذات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كتيب تعليمات لكيفية استعمال الانسان لدماغ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موقف ومنهج يخلفان ورائهما عددا من الأسال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طريقة مبتكرة لمعرفة أسرار النف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بش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طريقة التعامل معها بطرق وأساليب معينة بحيث يمكن التاثير في عملية الادراك والتص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الشع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بالتال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سلوك والمهارات والأداء الجسدي والفك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برمجة اللغوية العص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هندسة النفس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32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       </a:t>
            </a:r>
            <a:r>
              <a:rPr b="1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تاريخ البرمجة اللغوية العصب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في منتصف السبعينات وضع العالمان الامريكيان جون غرندر (عالم لغويات) وريتشارد باندلر (عالم لغويات) أصول علم البرمجة اللغوية العص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ن خلال ابحاث قام بها علماء آخرون أمثال فرجينيا ساتير, ملتون, تشومسكي وبافلوف وغير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911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برمجة اللغوية العصبية ليست علم النف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ها يعتمد على الممارسة والخب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نا الهندسة النفسية كيف نصنع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4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بيقات البرمجة اللغوية العص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ربية والتعليم 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دارة والتجارة والأع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كتساب المهارات الطفي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نمية الحوافز للعمل والانت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تفكير الابد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مستوى الاداء الرياضي والفني والمه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كفاية الطلبة والباح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تربية والتعل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رعة التعلم والت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تقان تهجي الكلمات والا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زيادة فعالية وسائل 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حذ القدرة على التفكي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سلو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مستوى الاداء للمدر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حفظ والاستظه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914400"/>
            <a:ext cx="4038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ادارة والأعم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خطيط الاستراتي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ناعة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فيز الموظ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تفا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بيع والتسو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بداع وحل المشك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اجتم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و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ebpage"/>
          <p:cNvSpPr/>
          <p:nvPr/>
        </p:nvSpPr>
        <p:spPr>
          <a:xfrm>
            <a:off x="5105520" y="1676520"/>
            <a:ext cx="3657600" cy="4572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ذهن الانسان ليس هو العالم الحقي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الذهن هو العالم الوحيد الذي ندرك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ن نغير العالم اذا غيرنا العالم الذي في اذهان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ناك ثلاثة عوامل تحد من ادراكنا للعالم الخار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و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عتقدات والقيم والمعا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بر أيضا مرشحات لعملية الادرا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كل من هذه المرشحات عي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ستراتيجية التف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هد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رهاف الحو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خطوة الأو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؟ هل تحقق الهدف..................المرو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صي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Arial"/>
              </a:rPr>
              <a:t>الافتراضات الأساسية في البرمجة اللغوية العص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ارطة ليست هي الواق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عقل والجسم منظومة واحد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ذا كنت تفعل دائما ما اعتدت على فعله, فانك تحصل دائما على ما اعتدت الحصول ع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لا يوجد فشل بل نتائ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يار افضل من اللاخي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نت لست سلوك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لم تحصل على نتيجة مما تفعله, فافعل شيئا آخ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كل سلوك قصد ايج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متلك كل انسان الموارد التي يحتاج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ستجيب الانسان لخارطة الواقع التي في ذهنه وليس للواقع نفس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كان شئ ما ممكنا في هذا العالم فانه ممكن 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يس هناك مشكلة ليس لها 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مأساة الحياة لاتكمن في عدم وصولك للهدف, ولكنها تكمن في أن لايكون لك هدف تحاول الوصول ا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7696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وسيلة الوحيدة للنجاح هي الاستمرار بالقوة حتى النهاية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352680"/>
            <a:ext cx="75438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شخص الناجح هو الذي يستطيع أن يصنع أساس ثابت من الحجارة التي يلقيها الآخرون ع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3:28:49Z</dcterms:created>
  <dc:creator>fathalbab</dc:creator>
  <dc:description/>
  <dc:language>en-US</dc:language>
  <cp:lastModifiedBy>PC3</cp:lastModifiedBy>
  <dcterms:modified xsi:type="dcterms:W3CDTF">2006-03-13T13:52:21Z</dcterms:modified>
  <cp:revision>22</cp:revision>
  <dc:subject/>
  <dc:title>الشريحة 1</dc:title>
</cp:coreProperties>
</file>