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5FB-64F1-41AA-B608-3CCD178D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4A8-CC38-459D-B63A-9C6940C6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0E3-5CB4-444F-B92A-A83352E0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EEB-F9A8-4A72-A537-BFC2CCC7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CC7-2E90-47AD-ACD0-95B27CB9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6A0-91E4-4E20-B27F-A812E022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169-BF4A-4ACD-BF2D-18936522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564-3325-4EFB-A6DC-2B7308EF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320-41FE-4AC9-8719-BE07166D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9E9-D1FD-4564-9905-5803F452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11D-4046-4CED-9682-33779C1D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929-0218-4B3D-B2A5-D545A61D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7DF9-41E0-44AB-8C1E-8E0D132CE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21200" y="1290600"/>
            <a:ext cx="784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Mateen"/>
              </a:rPr>
              <a:t>القلق ... كيف تتعامل معه 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440" y="3125880"/>
            <a:ext cx="785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Al-Mothnna"/>
              </a:rPr>
              <a:t>الاستاذ الدكتور/ علي علي مفتا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ea typeface="Al-Mothnna"/>
              </a:rPr>
              <a:t>	</a:t>
            </a: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استاذ علم النفس الإكليني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والاستشاري النفسي بمركز التوجيه والإرش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955880"/>
            <a:ext cx="864216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ثيان ، الاسهال ، الاضطرابات المعو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Mateen"/>
              </a:rPr>
              <a:t>ملحوظة:</a:t>
            </a:r>
            <a:r>
              <a:rPr b="0" lang="ar-SA" sz="3800" spc="-1" strike="noStrike">
                <a:solidFill>
                  <a:srgbClr val="006600"/>
                </a:solidFill>
                <a:latin typeface="Arial"/>
                <a:ea typeface="AL-Mateen"/>
              </a:rPr>
              <a:t> تحدث بعض هذه الأعراض عند الإفراط في تناول القهوة أو أمراض الغدة الدرق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73160"/>
            <a:ext cx="864216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بغي عليك القيام ب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ن دوماً  على استعداد للاختب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اع طرق الاستذكار الصح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شاملة لكل الدروس بصفة اسبو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جابة على أسئلة الاختبارات السابق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هدفك الحصول على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+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بتعاد عن المشكلات الأسر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073160"/>
            <a:ext cx="86421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سهر لتجنب إرهاق الجهاز العصبي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وتمارين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بدأ بالصعب قبل الشعور بالأرهاق وأحذر السلوك الهروبي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073160"/>
            <a:ext cx="864216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حفاظ على صلاة الفجر، حتى تكون قد بدأت يومك بطاعة، وأصبحت في ذمة الله عز وجل وأرضيته عز وجل، وتذكر: إذا أمسيت فلا تنتظر الصباح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قة في الله عز وجل وفي نفس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اقش أحداً من الزملاء في المادة ليلة الاختبا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سريعة ليلة الاختبار </a:t>
            </a: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othnna"/>
              </a:rPr>
              <a:t>وليس الاستذك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أعلم أن انفعالات الخوف الشديد تؤدي للتشتت والنسيا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73160"/>
            <a:ext cx="864216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هلع النفس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مفاجئ بأنقباض شديد وفزع وخوف ، ناتج من القلق الحاد والشديد ، ويشعر أنه قريباً من الموت أو يكاد يفقد عقلة أو سيصاب بالجنون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ستمر لأقل من ساعة وتحدث فجأة وتختفي وليس لها سبب عضوي، ينتشر بنسبة تصل إلى 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5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% بين المرضى النفسي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049400"/>
            <a:ext cx="864216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عراض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حساس بالانقباض والخوف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خروج من المنزل أو مع مراف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أماكن المزدح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دهور الحياة العمل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289160"/>
            <a:ext cx="86421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رهاب الاجتماع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وف شديد من الحديث أمام الناس، أو إمامة المصلين أو تناول الطعام في المطاعم العا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بدأ تجنب المواقف الاجتماعية، ثم يتطور الأمر إلى أن يتصف بالسلوك التجنب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47312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سباب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دمان بغرض التخلص من القلق ومحاولة زيادة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عاملة القاسية في محيط الأسر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مدرسين لطرق خاطئة في الترب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319040"/>
            <a:ext cx="86421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أثبتت الدراسات والبحوث أنه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آونة الأخيرة تضاعفت نسبة الذين يعانون من القلق والعصبية وأشارت أنهم معرضون أكثر من غيرهم للاصابة بأمراض القلب والاكتئاب والأمراض المزمن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أيها الشاكي ومــــا بك داء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كيف تشكو إذا غدوت عليلاً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351080"/>
            <a:ext cx="864216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وراثة وصناع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ستعداد الطبيعي والتهيؤ الوراث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ضغوط أو الصدمات أو الهزات الانفعال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981000"/>
            <a:ext cx="8640720" cy="78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تعريف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عام غامض غير سار بالتوجس والخوف والتحفز والتوتر مصحوب عادة ببعض الاحساسات الجسمية خاصة الجهاز العصبي للارداي ويظهر في صورة نوبات متكررة مثل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ضيق في التنفس أو الشعور بنبضات القلب أو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الصداع أو كثرة الحركة أو توتر العضلات .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92320"/>
            <a:ext cx="8569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لق والأمراض تنتشر بكثرة في مرحلة المراهقة وتقل في الرشد والشباب ثم ترتفع في الشيخ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تشر بين الإناث أكثر منه لدى الذكو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ناية بالأبناء بدرجة مبالغ فيها، يؤدي إلى فقد الابن ثقته في نفس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92320"/>
            <a:ext cx="856908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سراف في التدليل، حيث يولد الشعور بالحاجة إلى 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 الطفل لأمراض وإصاب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خصية الأبوين (التقبل ، الحب والضبط ، مشاعر الذنب ، العداوة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192320"/>
            <a:ext cx="8569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أزمات الاجتماعية والخبرات الصدمية (التوترات، الحروب ،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628640"/>
            <a:ext cx="8640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مقارنة الابن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تذكيره بأخطائه ونقاط ضعف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حقير من شأ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617840"/>
            <a:ext cx="8640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حياتك من غيرنا صعبة (لسان حال الأبوين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صرفات والسلوك الخاطئ عند الأزم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عدم استقلالية الاب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1452600"/>
            <a:ext cx="8569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هل تعرف بقي كام على الامتحان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خويف المستمر من العالم والمستقب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قاب المستمر عند الخطأ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زوف عن الحوار والتركيز على النقد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627200"/>
            <a:ext cx="85690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شكوى الدائمة من الظروف الحيات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ذاكر لكي تصبح مهندساً كبيراً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دفع المستمر للمنافس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إثارة أهداف غير واق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19700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معرفي : يعتمد على توسيع أفق المعرفة والفهم لحل المشك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نفسي : يقوم على تذكر الصراعات في اللاوعي من النفس، للتحرر من تأثيرها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19232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ناء هرم القل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مذجة : ملاحظة من يتعامل بنجاح مع المثيرات التي تهدد المريض ، المواجهة حيث أن لها نتائج إيجابية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دوائي : لا يُحبذ استخدامه وهو أقل تأثيراً ولا بد أن يصاحب العلاج النفس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1923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كف بالنقيض : التعريض تدريجياً لما يثير الخوف، في الوقت نفسه تُقدم استجابة محببة لل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كيد الذات : لتنمية مشاعر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تعريض : مواجهة المواقف المثيرة للقلق (ركوب المصعد ، الخوف من الكلب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39840"/>
            <a:ext cx="86421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يزداد القلق في الحالات التالي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إقبال الشخص على أزمة صح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ه لضائقة أو أزمة ماد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مواقف اجتماعية متأزمة (زواجية، مهنية، أسرية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شكلات الاكاديم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ohanad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26540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لجوء إلى الله سبحا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قبل ما لا يمكن تغييره (في الحياة الماضية او الحالية ، أو المشاكل الجسمية والعقلية ، أو الحياة الأكاديمية ، المصائب ، الأمراض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درة على التواصل الجيد والفاعلية 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120" y="1125360"/>
            <a:ext cx="86709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خبرات الاجتماعية المؤلمة المتعلقة بالماض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مقارنة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هتم بأمر نفسك ، حيث لن يهتم بأمرك إلا أنت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لى المرء أن يسعى وليس عليه إدراك النجاح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125360"/>
            <a:ext cx="864072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فاع عن الحقوق والمكاسب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عدوان والصراع من أجل الصر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شعور بالندم والتأنيب الدائم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حسن المظه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125360"/>
            <a:ext cx="86425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هتمام بالصح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125360"/>
            <a:ext cx="864252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جعل ضمن أهدافك مواجهة القل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عتدال في احلام اليقظ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ناء الذاتي والإدراك الايجابي لها 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حذر من الايحاءات السلبية (أنا طاقتي محدودة ، صعب علي تغيير الواقع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125360"/>
            <a:ext cx="86425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قلل من شأن قدرتك العقلية ولا تبالغ في وصف الآخرين بالذكاء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لاة الفجر حتى تكون قد بدأت يومك بطاعة وأصبحت في ذمة الله وأرضيت الله عزجل، وتذكر : إذا أمسيت فلا تنتظر الصبا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25360"/>
            <a:ext cx="864252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انفعالات العنيفة أثناء النه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بل النوم .. تجنب الاثارة الذهنية أو الجسدية أو الجنسي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دم على ما ف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لا بذكر الله تطمئن القلو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213840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 أن الفرق بين المتفائل والمتشائم ، أن الأول يفرح بما هو موجود، في الوقت الذي يبكي فيه الثاني على المفقود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172260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يقول عيسى بن طلحة عندما دخل على عروة بن الزبير وقد قُطعت رجله ”الحمد لله الذي أبقى لنا اكثرك،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l-Mothnna"/>
              </a:rPr>
              <a:t>”سمعك وبصرك ولسانك وعقلك واحدى رجليك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L-Mohanad Bold"/>
              </a:rPr>
              <a:t> فقال عروة والله يا عيسى ما عزاني أحد بمثل ما عزيتني به 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د. علي علي مفتاح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ستاذ علم النفس 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استشاري النفسي بمركز التوجيه والإرشاد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عنوان / مبنى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 مكتب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تلفون المكتب / 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6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-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860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بريد الإلكتروني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L-Battar"/>
              </a:rPr>
              <a:t>moftah@kfupm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03400"/>
            <a:ext cx="85690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ما يعلم الآب أن ابنه أصابه مكرو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يض الذي يخبره الطبيب بأن نتائج الفحوصات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غير طيب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طالب الذي يدرك أن الاختبار بات قريباً وهو غير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مستع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05876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قرب الاختبارات الشفهية أو المقابلات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زوجة التي تعلم أن زوجها يوشك على طلاقها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تأخر الزوج عن موعد عودته المعتا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603680"/>
            <a:ext cx="590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  <a:cs typeface="AL-Mateen"/>
              </a:rPr>
              <a:t>ولذلك يُعرف القلق انه انفعال يتسم بالخوف والتوجس من اشياء مرتقبة تنطوي على تهديد حقيقي أو مجهو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255680"/>
            <a:ext cx="856908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أنواع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ff"/>
                </a:solidFill>
                <a:latin typeface="Arial"/>
                <a:cs typeface="AL-Mateen"/>
              </a:rPr>
              <a:t>القلق الموضوعي (السوى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وهو قلق صحي غير مرّضي (قلق الطالب من الامتحان، عطل السيارة قبل الامتحان، اختيار التخصص، الوظيفة الجديدة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1239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العصاب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لق شديد وتوقع حدوث شي سيئ حول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و أكثر من ظروف الحياة لفترة لا تقل عن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شهور . ولابد من وجود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عراض على الأقل من 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رعة الاحساس بالتع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استقرار في مكان واحد فترة طويل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تر العض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05264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تركيز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دخول في النوم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هولة الاستثارة والعصبية الشديد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فزع عند سماع الأصوات المفاجئ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هجان والد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23192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فقان القل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ضيق الت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صد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ثرة التبو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رودة اليدين وعرض الكف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0:51:54Z</dcterms:created>
  <dc:creator>ITC</dc:creator>
  <dc:description/>
  <dc:language>en-US</dc:language>
  <cp:lastModifiedBy>ITC</cp:lastModifiedBy>
  <dcterms:modified xsi:type="dcterms:W3CDTF">2005-11-29T10:48:27Z</dcterms:modified>
  <cp:revision>12</cp:revision>
  <dc:subject/>
  <dc:title>د. علي علي مفتاح   استاذ علم النفس  الاستشاري النفسي بمركز التوجيه والإرشاد   العنوان / مبنى رقم (17) مكتب رقم (117) تلفون المكتب / 860-1167 البريد الإلكتروني moftah@kfupm.edu.sa</dc:title>
</cp:coreProperties>
</file>