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872-74FB-4981-99F6-D31763F3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D81-5029-4F89-B155-1665E477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354-4B0B-4B9C-8026-40F500A5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342-D8EE-41EB-AAA6-7A7F6045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752-83A6-4709-8115-702C43C1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DE99-7E71-4219-AFC9-2C69E4B3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483-03DE-4CA7-9029-6397FD55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458-687B-47A7-9CC1-5471F015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FBE-C7F5-4AAE-B1C7-83785CD1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9F6-E12E-4C89-A98A-D52CC8B2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8E0-771B-459A-A6CD-2154BD77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2119-A3F9-40C3-999C-BBDF51F7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C099-4418-41A4-97EC-55573BB1C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21200" y="1290600"/>
            <a:ext cx="784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AL-Mateen"/>
              </a:rPr>
              <a:t>القلق ... كيف تتعامل معه 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440" y="3125880"/>
            <a:ext cx="7856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Al-Mothnna"/>
              </a:rPr>
              <a:t>الاستاذ الدكتور/ علي علي مفتا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ff"/>
                </a:solidFill>
                <a:latin typeface="Arial"/>
                <a:ea typeface="Al-Mothnna"/>
              </a:rPr>
              <a:t>	</a:t>
            </a:r>
            <a:r>
              <a:rPr b="0" lang="ar-SA" sz="3200" spc="-1" strike="noStrike">
                <a:solidFill>
                  <a:srgbClr val="0066ff"/>
                </a:solidFill>
                <a:latin typeface="Arial"/>
                <a:cs typeface="Al-Mothnna"/>
              </a:rPr>
              <a:t>استاذ علم النفس الإكليني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ff"/>
                </a:solidFill>
                <a:latin typeface="Arial"/>
                <a:cs typeface="Al-Mothnna"/>
              </a:rPr>
              <a:t>والاستشاري النفسي بمركز التوجيه والإرش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1955880"/>
            <a:ext cx="864216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ثيان ، الاسهال ، الاضطرابات المعو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Mateen"/>
              </a:rPr>
              <a:t>ملحوظة:</a:t>
            </a:r>
            <a:r>
              <a:rPr b="0" lang="ar-SA" sz="3800" spc="-1" strike="noStrike">
                <a:solidFill>
                  <a:srgbClr val="006600"/>
                </a:solidFill>
                <a:latin typeface="Arial"/>
                <a:ea typeface="AL-Mateen"/>
              </a:rPr>
              <a:t> تحدث بعض هذه الأعراض عند الإفراط في تناول القهوة أو أمراض الغدة الدرقي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1073160"/>
            <a:ext cx="8642160" cy="60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نبغي عليك القيام بالتالي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كن دوماً  على استعداد للاختبا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تباع طرق الاستذكار الصح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اجعة الشاملة لكل الدروس بصفة اسبو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جابة على أسئلة الاختبارات السابق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جعل هدفك الحصول على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+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بتعاد عن المشكلات الأسرية و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1073160"/>
            <a:ext cx="864216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ذاء المتواز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سهر لتجنب إرهاق الجهاز العصبي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رياضة وتمارين 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بدأ بالصعب قبل الشعور بالأرهاق وأحذر السلوك الهروبي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1073160"/>
            <a:ext cx="864216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حفاظ على صلاة الفجر، حتى تكون قد بدأت يومك بطاعة، وأصبحت في ذمة الله عز وجل وأرضيته عز وجل، وتذكر: إذا أمسيت فلا تنتظر الصباح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ثقة في الله عز وجل وفي نفس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ناقش أحداً من الزملاء في المادة ليلة الاختبا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اجعة السريعة ليلة الاختبار </a:t>
            </a:r>
            <a:r>
              <a:rPr b="0" lang="hi-IN" sz="3600" spc="-1" strike="noStrike">
                <a:solidFill>
                  <a:srgbClr val="0000ff"/>
                </a:solidFill>
                <a:latin typeface="Arial"/>
                <a:cs typeface="Al-Mothnna"/>
              </a:rPr>
              <a:t>وليس الاستذك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L-Mohanad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أعلم أن انفعالات الخوف الشديد تؤدي للتشتت والنسيا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073160"/>
            <a:ext cx="8642160" cy="57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هلع النفس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شعور مفاجئ بأنقباض شديد وفزع وخوف ، ناتج من القلق الحاد والشديد ، ويشعر أنه قريباً من الموت أو يكاد يفقد عقلة أو سيصاب بالجنون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ستمر لأقل من ساعة وتحدث فجأة وتختفي وليس لها سبب عضوي، ينتشر بنسبة تصل إلى 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25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% بين المرضى النفسي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049400"/>
            <a:ext cx="864216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أعراض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حساس بالانقباض والخوف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خروج من المنزل أو مع مرافق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أماكن المزدحم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دهور الحياة العملية و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289160"/>
            <a:ext cx="864216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رهاب الاجتماع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خوف شديد من الحديث أمام الناس، أو إمامة المصلين أو تناول الطعام في المطاعم العام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بدأ تجنب المواقف الاجتماعية، ثم يتطور الأمر إلى أن يتصف بالسلوك التجنب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1473120"/>
            <a:ext cx="864216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أسباب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دمان بغرض التخلص من القلق ومحاولة زيادة الثقة بالنفس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عاملة القاسية في محيط الأسر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مدرسين لطرق خاطئة في التربي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1319040"/>
            <a:ext cx="864216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أثبتت الدراسات والبحوث أنه: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آونة الأخيرة تضاعفت نسبة الذين يعانون من القلق والعصبية وأشارت أنهم معرضون أكثر من غيرهم للاصابة بأمراض القلب والاكتئاب والأمراض المزمن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Battar"/>
              </a:rPr>
              <a:t>أيها الشاكي ومــــا بك داء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Battar"/>
              </a:rPr>
              <a:t>كيف تشكو إذا غدوت عليلاً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1351080"/>
            <a:ext cx="8642160" cy="40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لق وراثة وصناعة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ستعداد الطبيعي والتهيؤ الوراث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علم الاجتماع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ضغوط أو الصدمات أو الهزات الانفعال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981000"/>
            <a:ext cx="8640720" cy="78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تعريف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شعور عام غامض غير سار بالتوجس والخوف والتحفز والتوتر مصحوب عادة ببعض الاحساسات الجسمية خاصة الجهاز العصبي للارداي ويظهر في صورة نوبات متكررة مثل  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ea typeface="AL-Mohanad Bold"/>
              </a:rPr>
              <a:t>   ضيق في التنفس أو الشعور بنبضات القلب أو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ea typeface="AL-Mohanad Bold"/>
              </a:rPr>
              <a:t>   الصداع أو كثرة الحركة أو توتر العضلات .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192320"/>
            <a:ext cx="8569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قلق والأمراض تنتشر بكثرة في مرحلة المراهقة وتقل في الرشد والشباب ثم ترتفع في الشيخوخ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نتشر بين الإناث أكثر منه لدى الذكو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ناية بالأبناء بدرجة مبالغ فيها، يؤدي إلى فقد الابن ثقته في نفس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192320"/>
            <a:ext cx="856908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سراف في التدليل، حيث يولد الشعور بالحاجة إلى 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عرض الطفل لأمراض وإصاب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شخصية الأبوين (التقبل ، الحب والضبط ، مشاعر الذنب ، العداوة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1192320"/>
            <a:ext cx="85690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علم الاجتماع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أزمات الاجتماعية والخبرات الصدمية (التوترات، الحروب ، ...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1628640"/>
            <a:ext cx="864072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مقارنة الابن ب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تذكيره بأخطائه ونقاط ضعف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حقير من شأن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1617840"/>
            <a:ext cx="864072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حياتك من غيرنا صعبة (لسان حال الأبوين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صرفات والسلوك الخاطئ عند الأزم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عدم استقلالية الاب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1452600"/>
            <a:ext cx="856908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هل تعرف بقي كام على الامتحان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خويف المستمر من العالم والمستقبل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عقاب المستمر عند الخطأ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عزوف عن الحوار والتركيز على النقد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1627200"/>
            <a:ext cx="856908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شكوى الدائمة من الظروف الحيات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ذاكر لكي تصبح مهندساً كبيراً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دفع المستمر للمنافس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إثارة أهداف غير واق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1197000"/>
            <a:ext cx="864216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معرفي : يعتمد على توسيع أفق المعرفة والفهم لحل المشكل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نفسي : يقوم على تذكر الصراعات في اللاوعي من النفس، للتحرر من تأثيرها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ب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1192320"/>
            <a:ext cx="864216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بناء هرم القلق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مذجة : ملاحظة من يتعامل بنجاح مع المثيرات التي تهدد المريض ، المواجهة حيث أن لها نتائج إيجابية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دوائي : لا يُحبذ استخدامه وهو أقل تأثيراً ولا بد أن يصاحب العلاج النفس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1192320"/>
            <a:ext cx="864216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كف بالنقيض : التعريض تدريجياً لما يثير الخوف، في الوقت نفسه تُقدم استجابة محببة للنفس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وكيد الذات : لتنمية مشاعر الثقة بالنفس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بالتعريض : مواجهة المواقف المثيرة للقلق (ركوب المصعد ، الخوف من الكلب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239840"/>
            <a:ext cx="864216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يزداد القلق في الحالات التالية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إقبال الشخص على أزمة صحية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تعرضه لضائقة أو أزمة مادية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مواقف اجتماعية متأزمة (زواجية، مهنية، أسرية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شكلات الاكاديم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ohanad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265400"/>
            <a:ext cx="864216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لجوء إلى الله سبحان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قبل ما لا يمكن تغييره (في الحياة الماضية او الحالية ، أو المشاكل الجسمية والعقلية ، أو الحياة الأكاديمية ، المصائب ، الأمراض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قدرة على التواصل الجيد والفاعلية 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2120" y="1125360"/>
            <a:ext cx="86709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خبرات الاجتماعية المؤلمة المتعلقة بالماض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مقارنة ب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هتم بأمر نفسك ، حيث لن يهتم بأمرك إلا أنت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لى المرء أن يسعى وليس عليه إدراك النجاح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125360"/>
            <a:ext cx="864072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دفاع عن الحقوق والمكاسب الشخص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عدوان والصراع من أجل الصراع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شعور بالندم والتأنيب الدائم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حسن المظه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1125360"/>
            <a:ext cx="864252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هتمام بالصح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رياض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ذاء المتواز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1125360"/>
            <a:ext cx="8642520" cy="54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أجعل ضمن أهدافك مواجهة القلق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عتدال في احلام اليقظ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ثناء الذاتي والإدراك الايجابي لها 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حذر من الايحاءات السلبية (أنا طاقتي محدودة ، صعب علي تغيير الواقع ...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1125360"/>
            <a:ext cx="86425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قلل من شأن قدرتك العقلية ولا تبالغ في وصف الآخرين بالذكاء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لاة الفجر حتى تكون قد بدأت يومك بطاعة وأصبحت في ذمة الله وأرضيت الله عزجل، وتذكر : إذا أمسيت فلا تنتظر الصبا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125360"/>
            <a:ext cx="864252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انفعالات العنيفة أثناء النها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قبل النوم .. تجنب الاثارة الذهنية أو الجسدية أو الجنسية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ندم على ما ف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ألا بذكر الله تطمئن القلو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213840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000000"/>
                </a:solidFill>
                <a:latin typeface="Arial"/>
                <a:cs typeface="AL-Mohanad Bold"/>
              </a:rPr>
              <a:t>تذكر أن الفرق بين المتفائل والمتشائم ، أن الأول يفرح بما هو موجود، في الوقت الذي يبكي فيه الثاني على المفقود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172260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000000"/>
                </a:solidFill>
                <a:latin typeface="Arial"/>
                <a:cs typeface="AL-Mohanad Bold"/>
              </a:rPr>
              <a:t>يقول عيسى بن طلحة عندما دخل على عروة بن الزبير وقد قُطعت رجله ”الحمد لله الذي أبقى لنا اكثرك،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l-Mothnna"/>
              </a:rPr>
              <a:t>”سمعك وبصرك ولسانك وعقلك واحدى رجليك“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L-Mohanad Bold"/>
              </a:rPr>
              <a:t> فقال عروة والله يا عيسى ما عزاني أحد بمثل ما عزيتني به 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د. علي علي مفتاح 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ستاذ علم النفس 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استشاري النفسي بمركز التوجيه والإرشاد 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عنوان / مبنى رقم (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) مكتب رقم (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1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)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تلفون المكتب / 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16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-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860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بريد الإلكتروني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L-Battar"/>
              </a:rPr>
              <a:t>moftah@kfupm.edu.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103400"/>
            <a:ext cx="856908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وعلى سبيل المثال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ما يعلم الآب أن ابنه أصابه مكرو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يض الذي يخبره الطبيب بأن نتائج الفحوصات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    غير طيب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طالب الذي يدرك أن الاختبار بات قريباً وهو غير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    مستعد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1058760"/>
            <a:ext cx="864216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وعلى سبيل المثال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 قرب الاختبارات الشفهية أو المقابلات الشخص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زوجة التي تعلم أن زوجها يوشك على طلاقها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 تأخر الزوج عن موعد عودته المعتاد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603680"/>
            <a:ext cx="590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Arial"/>
                <a:cs typeface="AL-Mateen"/>
              </a:rPr>
              <a:t>ولذلك يُعرف القلق انه انفعال يتسم بالخوف والتوجس من اشياء مرتقبة تنطوي على تهديد حقيقي أو مجهول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1255680"/>
            <a:ext cx="856908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أنواع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ff"/>
                </a:solidFill>
                <a:latin typeface="Arial"/>
                <a:cs typeface="AL-Mateen"/>
              </a:rPr>
              <a:t>القلق الموضوعي (السوى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وهو قلق صحي غير مرّضي (قلق الطالب من الامتحان، عطل السيارة قبل الامتحان، اختيار التخصص، الوظيفة الجديدة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123920"/>
            <a:ext cx="864216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لق العصاب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قلق شديد وتوقع حدوث شي سيئ حول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2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أو أكثر من ظروف الحياة لفترة لا تقل عن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6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شهور . ولابد من وجود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6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أعراض على الأقل من التالي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سرعة الاحساس بالتع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استقرار في مكان واحد فترة طويل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وتر العضل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1052640"/>
            <a:ext cx="86421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عوبة التركيز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عوبة الدخول في النوم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سهولة الاستثارة والعصبية الشديد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فزع عند سماع الأصوات المفاجئ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هجان والدوخ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231920"/>
            <a:ext cx="86421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خفقان القل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ضيق التنفس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صداع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كثرة التبول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برودة اليدين وعرض الكف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0:51:54Z</dcterms:created>
  <dc:creator>ITC</dc:creator>
  <dc:description/>
  <dc:language>en-US</dc:language>
  <cp:lastModifiedBy>ITC</cp:lastModifiedBy>
  <dcterms:modified xsi:type="dcterms:W3CDTF">2005-11-29T10:48:27Z</dcterms:modified>
  <cp:revision>12</cp:revision>
  <dc:subject/>
  <dc:title>د. علي علي مفتاح   استاذ علم النفس  الاستشاري النفسي بمركز التوجيه والإرشاد   العنوان / مبنى رقم (17) مكتب رقم (117) تلفون المكتب / 860-1167 البريد الإلكتروني moftah@kfupm.edu.sa</dc:title>
</cp:coreProperties>
</file>