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F3F0-6EF7-47B8-B83A-6D4776A43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4D4A-F887-4F28-8CBD-35F1B7D3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6849-F697-44F0-A1B3-A15DB820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22F6-112C-4120-8F8C-C85C0564A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0D81-763F-4B75-AA0A-3161ADFF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4380-FDF4-4D39-BC61-E212F019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6892-41EB-41B5-9370-A31D0F07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FAED-097B-4784-A667-805A9E12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422E-5072-45E1-A49D-E1FA3768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F5FE-5CC4-496F-9400-EE82DD04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CDD8-AD91-4F47-B79F-3C90C2B5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864D-5405-48AC-8C5C-AC4C96AB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0C83-7FFF-4572-B98D-281E0B1E9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21200" y="1290600"/>
            <a:ext cx="784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  <a:cs typeface="AL-Mateen"/>
              </a:rPr>
              <a:t>القلق ... كيف تتعامل معه 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0440" y="3125880"/>
            <a:ext cx="7856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Arial"/>
                <a:cs typeface="Al-Mothnna"/>
              </a:rPr>
              <a:t>الاستاذ الدكتور/ علي علي مفتا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ff"/>
                </a:solidFill>
                <a:latin typeface="Arial"/>
                <a:ea typeface="Al-Mothnna"/>
              </a:rPr>
              <a:t>	</a:t>
            </a:r>
            <a:r>
              <a:rPr b="0" lang="ar-SA" sz="3200" spc="-1" strike="noStrike">
                <a:solidFill>
                  <a:srgbClr val="0066ff"/>
                </a:solidFill>
                <a:latin typeface="Arial"/>
                <a:cs typeface="Al-Mothnna"/>
              </a:rPr>
              <a:t>استاذ علم النفس الإكلينيك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ff"/>
                </a:solidFill>
                <a:latin typeface="Arial"/>
                <a:cs typeface="Al-Mothnna"/>
              </a:rPr>
              <a:t>والاستشاري النفسي بمركز التوجيه والإرشا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1955880"/>
            <a:ext cx="864216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غثيان ، الاسهال ، الاضطرابات المعو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ff"/>
                </a:solidFill>
                <a:latin typeface="Arial"/>
                <a:cs typeface="AL-Mateen"/>
              </a:rPr>
              <a:t>ملحوظة:</a:t>
            </a:r>
            <a:r>
              <a:rPr b="0" lang="ar-SA" sz="3800" spc="-1" strike="noStrike">
                <a:solidFill>
                  <a:srgbClr val="006600"/>
                </a:solidFill>
                <a:latin typeface="Arial"/>
                <a:ea typeface="AL-Mateen"/>
              </a:rPr>
              <a:t> تحدث بعض هذه الأعراض عند الإفراط في تناول القهوة أو أمراض الغدة الدرقية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1073160"/>
            <a:ext cx="8642160" cy="60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قلق الاختبارات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ينبغي عليك القيام بالتالي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كن دوماً  على استعداد للاختبار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تباع طرق الاستذكار الصح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راجعة الشاملة لكل الدروس بصفة اسبوع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جابة على أسئلة الاختبارات السابقة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جعل هدفك الحصول على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A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+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بتعاد عن المشكلات الأسرية والاجتماع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0920" y="1073160"/>
            <a:ext cx="864216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قلق الاختبارات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غذاء المتواز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دم السهر لتجنب إرهاق الجهاز العصبي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ممارسة الرياضة وتمارين الاسترخاء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بدأ بالصعب قبل الشعور بالأرهاق وأحذر السلوك الهروبي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1073160"/>
            <a:ext cx="8642160" cy="68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قلق الاختبارات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حفاظ على صلاة الفجر، حتى تكون قد بدأت يومك بطاعة، وأصبحت في ذمة الله عز وجل وأرضيته عز وجل، وتذكر: إذا أمسيت فلا تنتظر الصباح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ثقة في الله عز وجل وفي نفس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لا تناقش أحداً من الزملاء في المادة ليلة الاختبا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راجعة السريعة ليلة الاختبار </a:t>
            </a:r>
            <a:r>
              <a:rPr b="0" lang="hi-IN" sz="3600" spc="-1" strike="noStrike">
                <a:solidFill>
                  <a:srgbClr val="0000ff"/>
                </a:solidFill>
                <a:latin typeface="Arial"/>
                <a:cs typeface="Al-Mothnna"/>
              </a:rPr>
              <a:t>وليس الاستذكا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L-Mohanad Bold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أعلم أن انفعالات الخوف الشديد تؤدي للتشتت والنسيا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0920" y="1073160"/>
            <a:ext cx="8642160" cy="57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هلع النفسي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شعور مفاجئ بأنقباض شديد وفزع وخوف ، ناتج من القلق الحاد والشديد ، ويشعر أنه قريباً من الموت أو يكاد يفقد عقلة أو سيصاب بالجنون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ستمر لأقل من ساعة وتحدث فجأة وتختفي وليس لها سبب عضوي، ينتشر بنسبة تصل إلى 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25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% بين المرضى النفسيي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1049400"/>
            <a:ext cx="8642160" cy="49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أعراض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حساس بالانقباض والخوف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دم الخروج من المنزل أو مع مرافق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جنب الأماكن المزدحم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دهور الحياة العملية والاجتماع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1289160"/>
            <a:ext cx="864216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رهاب الاجتماعي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خوف شديد من الحديث أمام الناس، أو إمامة المصلين أو تناول الطعام في المطاعم العام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يبدأ تجنب المواقف الاجتماعية، ثم يتطور الأمر إلى أن يتصف بالسلوك التجنبي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1473120"/>
            <a:ext cx="8642160" cy="46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أسباب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إدمان بغرض التخلص من القلق ومحاولة زيادة الثقة بالنفس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عاملة القاسية في محيط الأسر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ممارسة المدرسين لطرق خاطئة في التربية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1319040"/>
            <a:ext cx="864216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أثبتت الدراسات والبحوث أنه: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في الآونة الأخيرة تضاعفت نسبة الذين يعانون من القلق والعصبية وأشارت أنهم معرضون أكثر من غيرهم للاصابة بأمراض القلب والاكتئاب والأمراض المزمن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ff"/>
                </a:solidFill>
                <a:latin typeface="Arial"/>
                <a:ea typeface="AL-Battar"/>
              </a:rPr>
              <a:t>	</a:t>
            </a:r>
            <a:r>
              <a:rPr b="0" lang="ar-SA" sz="3800" spc="-1" strike="noStrike">
                <a:solidFill>
                  <a:srgbClr val="0000ff"/>
                </a:solidFill>
                <a:latin typeface="Arial"/>
                <a:cs typeface="AL-Battar"/>
              </a:rPr>
              <a:t>أيها الشاكي ومــــا بك داء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ff"/>
                </a:solidFill>
                <a:latin typeface="Arial"/>
                <a:ea typeface="AL-Battar"/>
              </a:rPr>
              <a:t>	</a:t>
            </a:r>
            <a:r>
              <a:rPr b="0" lang="ar-SA" sz="3800" spc="-1" strike="noStrike">
                <a:solidFill>
                  <a:srgbClr val="0000ff"/>
                </a:solidFill>
                <a:latin typeface="Arial"/>
                <a:ea typeface="AL-Battar"/>
              </a:rPr>
              <a:t>	</a:t>
            </a:r>
            <a:r>
              <a:rPr b="0" lang="ar-SA" sz="3800" spc="-1" strike="noStrike">
                <a:solidFill>
                  <a:srgbClr val="0000ff"/>
                </a:solidFill>
                <a:latin typeface="Arial"/>
                <a:ea typeface="AL-Battar"/>
              </a:rPr>
              <a:t>	</a:t>
            </a:r>
            <a:r>
              <a:rPr b="0" lang="ar-SA" sz="3800" spc="-1" strike="noStrike">
                <a:solidFill>
                  <a:srgbClr val="0000ff"/>
                </a:solidFill>
                <a:latin typeface="Arial"/>
                <a:cs typeface="AL-Battar"/>
              </a:rPr>
              <a:t>كيف تشكو إذا غدوت عليلاً 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1351080"/>
            <a:ext cx="8642160" cy="40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لق وراثة وصناعة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ستعداد الطبيعي والتهيؤ الوراثي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علم الاجتماعي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ضغوط أو الصدمات أو الهزات الانفعال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981000"/>
            <a:ext cx="8640720" cy="78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تعريف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Arial"/>
                <a:cs typeface="AL-Mohanad Bold"/>
              </a:rPr>
              <a:t>شعور عام غامض غير سار بالتوجس والخوف والتحفز والتوتر مصحوب عادة ببعض الاحساسات الجسمية خاصة الجهاز العصبي للارداي ويظهر في صورة نوبات متكررة مثل  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Arial"/>
                <a:ea typeface="AL-Mohanad Bold"/>
              </a:rPr>
              <a:t>   ضيق في التنفس أو الشعور بنبضات القلب أو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Arial"/>
                <a:ea typeface="AL-Mohanad Bold"/>
              </a:rPr>
              <a:t>   الصداع أو كثرة الحركة أو توتر العضلات .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0920" y="1192320"/>
            <a:ext cx="85690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صناع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قلق والأمراض تنتشر بكثرة في مرحلة المراهقة وتقل في الرشد والشباب ثم ترتفع في الشيخوخ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ينتشر بين الإناث أكثر منه لدى الذكور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ناية بالأبناء بدرجة مبالغ فيها، يؤدي إلى فقد الابن ثقته في نفسه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1192320"/>
            <a:ext cx="8569080" cy="46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صناع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إسراف في التدليل، حيث يولد الشعور بالحاجة إلى الآخري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عرض الطفل لأمراض وإصابات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شخصية الأبوين (التقبل ، الحب والضبط ، مشاعر الذنب ، العداوة )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920" y="1192320"/>
            <a:ext cx="856908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صناع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علم الاجتماعي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أزمات الاجتماعية والخبرات الصدمية (التوترات، الحروب ، ... )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4000" y="1628640"/>
            <a:ext cx="864072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993300"/>
                </a:solidFill>
                <a:latin typeface="Arial"/>
                <a:cs typeface="Al-Hadith2"/>
              </a:rPr>
              <a:t>الاخطاء السلوكية التي تمارسها الأسر الصانعة للقلق 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مقارنة الابن بالآخري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تذكيره بأخطائه ونقاط ضعفه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تحقير من شأنه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1617840"/>
            <a:ext cx="8640720" cy="50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993300"/>
                </a:solidFill>
                <a:latin typeface="Arial"/>
                <a:cs typeface="Al-Hadith2"/>
              </a:rPr>
              <a:t>الاخطاء السلوكية التي تمارسها الأسر الصانعة للقلق 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حياتك من غيرنا صعبة (لسان حال الأبوين)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تصرفات والسلوك الخاطئ عند الأزمات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عدم استقلالية الاب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000" y="1452600"/>
            <a:ext cx="8569080" cy="59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993300"/>
                </a:solidFill>
                <a:latin typeface="Arial"/>
                <a:cs typeface="Al-Hadith2"/>
              </a:rPr>
              <a:t>الاخطاء السلوكية التي تمارسها الأسر الصانعة للقلق 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هل تعرف بقي كام على الامتحان 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تخويف المستمر من العالم والمستقبل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عقاب المستمر عند الخطأ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عزوف عن الحوار والتركيز على النقد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0920" y="1627200"/>
            <a:ext cx="8569080" cy="53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993300"/>
                </a:solidFill>
                <a:latin typeface="Arial"/>
                <a:cs typeface="Al-Hadith2"/>
              </a:rPr>
              <a:t>الاخطاء السلوكية التي تمارسها الأسر الصانعة للقلق 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شكوى الدائمة من الظروف الحيات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ذاكر لكي تصبح مهندساً كبيراً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دفع المستمر للمنافس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إثارة أهداف غير واقع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1197000"/>
            <a:ext cx="864216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علاج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لاج المعرفي : يعتمد على توسيع أفق المعرفة والفهم لحل المشكلات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لاج النفسي : يقوم على تذكر الصراعات في اللاوعي من النفس، للتحرر من تأثيرها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لاج بالاسترخاء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0920" y="1192320"/>
            <a:ext cx="864216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علاج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بناء هرم القلق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نمذجة : ملاحظة من يتعامل بنجاح مع المثيرات التي تهدد المريض ، المواجهة حيث أن لها نتائج إيجابية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لاج الدوائي : لا يُحبذ استخدامه وهو أقل تأثيراً ولا بد أن يصاحب العلاج النفسي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0920" y="1192320"/>
            <a:ext cx="8642160" cy="63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علاج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كف بالنقيض : التعريض تدريجياً لما يثير الخوف، في الوقت نفسه تُقدم استجابة محببة للنفس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وكيد الذات : لتنمية مشاعر الثقة بالنفس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لاج بالتعريض : مواجهة المواقف المثيرة للقلق (ركوب المصعد ، الخوف من الكلب)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1239840"/>
            <a:ext cx="864216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يزداد القلق في الحالات التالية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Arial"/>
                <a:cs typeface="AL-Mohanad Bold"/>
              </a:rPr>
              <a:t>إقبال الشخص على أزمة صحية 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Arial"/>
                <a:cs typeface="AL-Mohanad Bold"/>
              </a:rPr>
              <a:t>تعرضه لضائقة أو أزمة مادية 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Mohanad Bold"/>
              </a:rPr>
              <a:t>مواقف اجتماعية متأزمة (زواجية، مهنية، أسرية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شكلات الاكاديمية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ohanad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1265400"/>
            <a:ext cx="864216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لجوء إلى الله سبحانه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قبل ما لا يمكن تغييره (في الحياة الماضية او الحالية ، أو المشاكل الجسمية والعقلية ، أو الحياة الأكاديمية ، المصائب ، الأمراض)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قدرة على التواصل الجيد والفاعلية الاجتماع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2120" y="1125360"/>
            <a:ext cx="8670960" cy="60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حرر من الخبرات الاجتماعية المؤلمة المتعلقة بالماضي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جنب المقارنة بالآخري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هتم بأمر نفسك ، حيث لن يهتم بأمرك إلا أنت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لى المرء أن يسعى وليس عليه إدراك النجاح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1125360"/>
            <a:ext cx="8640720" cy="60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دفاع عن الحقوق والمكاسب الشخص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حرر من العدوان والصراع من أجل الصراع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حرر من الشعور بالندم والتأنيب الدائم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حسن المظهر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1125360"/>
            <a:ext cx="8642520" cy="43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هتمام بالصح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ممارسة الرياض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ممارسة الاسترخاء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غذاء المتواز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79280" y="1125360"/>
            <a:ext cx="8642520" cy="54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أجعل ضمن أهدافك مواجهة القلق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عتدال في احلام اليقظ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ثناء الذاتي والإدراك الايجابي لها .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حذر من الايحاءات السلبية (أنا طاقتي محدودة ، صعب علي تغيير الواقع ... )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9280" y="1125360"/>
            <a:ext cx="86425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لا تقلل من شأن قدرتك العقلية ولا تبالغ في وصف الآخرين بالذكاء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صلاة الفجر حتى تكون قد بدأت يومك بطاعة وأصبحت في ذمة الله وأرضيت الله عزجل، وتذكر : إذا أمسيت فلا تنتظر الصباح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79280" y="1125360"/>
            <a:ext cx="8642520" cy="49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جنب الانفعالات العنيفة أثناء النهار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قبل النوم .. تجنب الاثارة الذهنية أو الجسدية أو الجنسية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لا تندم على ما فات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ألا بذكر الله تطمئن القلوب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4000" y="213840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200" spc="-1" strike="noStrike">
                <a:solidFill>
                  <a:srgbClr val="000000"/>
                </a:solidFill>
                <a:latin typeface="Arial"/>
                <a:cs typeface="AL-Mohanad Bold"/>
              </a:rPr>
              <a:t>تذكر أن الفرق بين المتفائل والمتشائم ، أن الأول يفرح بما هو موجود، في الوقت الذي يبكي فيه الثاني على المفقود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4000" y="1722600"/>
            <a:ext cx="856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200" spc="-1" strike="noStrike">
                <a:solidFill>
                  <a:srgbClr val="000000"/>
                </a:solidFill>
                <a:latin typeface="Arial"/>
                <a:cs typeface="AL-Mohanad Bold"/>
              </a:rPr>
              <a:t>يقول عيسى بن طلحة عندما دخل على عروة بن الزبير وقد قُطعت رجله ”الحمد لله الذي أبقى لنا اكثرك،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  <a:ea typeface="Al-Mothnna"/>
              </a:rPr>
              <a:t>”سمعك وبصرك ولسانك وعقلك واحدى رجليك“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L-Mohanad Bold"/>
              </a:rPr>
              <a:t> فقال عروة والله يا عيسى ما عزاني أحد بمثل ما عزيتني به 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0000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ff"/>
                </a:solidFill>
                <a:latin typeface="Arial"/>
                <a:cs typeface="AL-Battar"/>
              </a:rPr>
              <a:t>د. علي علي مفتاح </a:t>
            </a:r>
            <a:br>
              <a:rPr sz="4000"/>
            </a:br>
            <a:br>
              <a:rPr sz="4000"/>
            </a:br>
            <a:r>
              <a:rPr b="0" lang="ar-SA" sz="4000" spc="-1" strike="noStrike">
                <a:solidFill>
                  <a:srgbClr val="0000ff"/>
                </a:solidFill>
                <a:latin typeface="Arial"/>
                <a:cs typeface="AL-Battar"/>
              </a:rPr>
              <a:t>استاذ علم النفس </a:t>
            </a:r>
            <a:br>
              <a:rPr sz="4000"/>
            </a:br>
            <a:r>
              <a:rPr b="0" lang="ar-SA" sz="4000" spc="-1" strike="noStrike">
                <a:solidFill>
                  <a:srgbClr val="0000ff"/>
                </a:solidFill>
                <a:latin typeface="Arial"/>
                <a:cs typeface="AL-Battar"/>
              </a:rPr>
              <a:t>الاستشاري النفسي بمركز التوجيه والإرشاد </a:t>
            </a:r>
            <a:br>
              <a:rPr sz="4000"/>
            </a:br>
            <a:br>
              <a:rPr sz="4000"/>
            </a:br>
            <a:r>
              <a:rPr b="0" lang="ar-SA" sz="4000" spc="-1" strike="noStrike">
                <a:solidFill>
                  <a:srgbClr val="0000ff"/>
                </a:solidFill>
                <a:latin typeface="Arial"/>
                <a:cs typeface="AL-Battar"/>
              </a:rPr>
              <a:t>العنوان / مبنى رقم (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17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) مكتب رقم (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117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)</a:t>
            </a:r>
            <a:br>
              <a:rPr sz="4000"/>
            </a:br>
            <a:r>
              <a:rPr b="0" lang="ar-SA" sz="4000" spc="-1" strike="noStrike">
                <a:solidFill>
                  <a:srgbClr val="0000ff"/>
                </a:solidFill>
                <a:latin typeface="Arial"/>
                <a:cs typeface="AL-Battar"/>
              </a:rPr>
              <a:t>تلفون المكتب / 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1167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-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860</a:t>
            </a:r>
            <a:br>
              <a:rPr sz="4000"/>
            </a:br>
            <a:r>
              <a:rPr b="0" lang="ar-SA" sz="4000" spc="-1" strike="noStrike">
                <a:solidFill>
                  <a:srgbClr val="0000ff"/>
                </a:solidFill>
                <a:latin typeface="Arial"/>
                <a:cs typeface="AL-Battar"/>
              </a:rPr>
              <a:t>البريد الإلكتروني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L-Battar"/>
              </a:rPr>
              <a:t>moftah@kfupm.edu.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1103400"/>
            <a:ext cx="856908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وعلى سبيل المثال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ندما يعلم الآب أن ابنه أصابه مكروه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ريض الذي يخبره الطبيب بأن نتائج الفحوصات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    غير طيب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طالب الذي يدرك أن الاختبار بات قريباً وهو غير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    مستعد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1058760"/>
            <a:ext cx="8642160" cy="46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وعلى سبيل المثال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ند قرب الاختبارات الشفهية أو المقابلات الشخص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زوجة التي تعلم أن زوجها يوشك على طلاقها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ند تأخر الزوج عن موعد عودته المعتاد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4603680"/>
            <a:ext cx="5905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6600"/>
                </a:solidFill>
                <a:latin typeface="Arial"/>
                <a:cs typeface="AL-Mateen"/>
              </a:rPr>
              <a:t>ولذلك يُعرف القلق انه انفعال يتسم بالخوف والتوجس من اشياء مرتقبة تنطوي على تهديد حقيقي أو مجهول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1255680"/>
            <a:ext cx="8569080" cy="37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أنواع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ff"/>
                </a:solidFill>
                <a:latin typeface="Arial"/>
                <a:cs typeface="AL-Mateen"/>
              </a:rPr>
              <a:t>القلق الموضوعي (السوى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وهو قلق صحي غير مرّضي (قلق الطالب من الامتحان، عطل السيارة قبل الامتحان، اختيار التخصص، الوظيفة الجديدة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1123920"/>
            <a:ext cx="8642160" cy="63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لق العصابي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قلق شديد وتوقع حدوث شي سيئ حول (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2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) أو أكثر من ظروف الحياة لفترة لا تقل عن (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6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) شهور . ولابد من وجود (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6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) أعراض على الأقل من التالي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سرعة الاحساس بالتعب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دم الاستقرار في مكان واحد فترة طويل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وتر العضلات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0920" y="1052640"/>
            <a:ext cx="864216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صعوبة التركيز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صعوبة الدخول في النوم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سهولة الاستثارة والعصبية الشديد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فزع عند سماع الأصوات المفاجئ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نهجان والدوخ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1231920"/>
            <a:ext cx="864216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خفقان القلب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ضيق التنفس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صداع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كثرة التبول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برودة اليدين وعرض الكفي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0:51:54Z</dcterms:created>
  <dc:creator>ITC</dc:creator>
  <dc:description/>
  <dc:language>en-US</dc:language>
  <cp:lastModifiedBy>ITC</cp:lastModifiedBy>
  <dcterms:modified xsi:type="dcterms:W3CDTF">2005-11-29T10:48:27Z</dcterms:modified>
  <cp:revision>12</cp:revision>
  <dc:subject/>
  <dc:title>د. علي علي مفتاح   استاذ علم النفس  الاستشاري النفسي بمركز التوجيه والإرشاد   العنوان / مبنى رقم (17) مكتب رقم (117) تلفون المكتب / 860-1167 البريد الإلكتروني moftah@kfupm.edu.sa</dc:title>
</cp:coreProperties>
</file>