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1.gif" ContentType="image/gif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7.jpeg" ContentType="image/jpeg"/>
  <Override PartName="/ppt/media/image5.wmf" ContentType="image/x-wmf"/>
  <Override PartName="/ppt/media/image6.jpeg" ContentType="image/jpe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CSS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6-02-27T12:16:21.562000000" idx="1">
    <p:pos x="1114" y="2045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FA6-2505-40B2-BC6B-90F94EE8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62E6-290A-4396-B05C-858AACE2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2B2-AEEC-4BD0-A2F1-81631CE1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EF9B-0B08-4C7D-BDA4-DB2F09C5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C30C-9B90-4093-8CF0-51F3D4D4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9B5-2BDB-43D3-A2D8-1C5EA40A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66F-1F98-4C4C-8C76-D2EAF6C1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E489-59DD-44CD-AB42-34AFED5D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DE6-2A99-40AD-9E6B-7DD91A69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8E8-E4E8-4EBE-9C20-02C07E4A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4B07-A96E-48FF-90D9-96FCF039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D9F-F7FF-4A78-8F88-5CD2CF8F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D055-9DD2-4FE3-8DC2-A6F86E45BAA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2193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كيف تقنع محدثك فى أقل من ثلاثين ثا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26370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. أسامة الم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45813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05320" y="609480"/>
            <a:ext cx="5029200" cy="66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)المقد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ثارة الاهتم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حكمة تقول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"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ا أردت عقول الناس فاضرب على جيوبهم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تذكر أن ترمي طعماً ليتجه إليك السم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و الطعم؟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و المادة التي تستخدم لجذب الانتباه وهو عبارة ع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طرفة وفكاهة-حادثة يومية-قصة واقعية شخصية-سؤال وإجاب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لابد أن تختار طعماً واحدا مما سبق يتصل بموضوعك وبهدفك وبمستمعك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8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9400"/>
                            </p:stCondLst>
                            <p:childTnLst>
                              <p:par>
                                <p:cTn id="14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71800" y="193680"/>
            <a:ext cx="5715000" cy="75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)طرح الموضو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سم اللوح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ذكر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نك لا تريد من مستمعك أن يكون مستمعاً فقط بل مشاهداً فعبارتك الواصفة ستساعده على تخيل اللوحة بصرياً وتلوينها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أن الاستعارة تعطي الكلام قوة وتجعله يبقى طويلاً في الذاكر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تماري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كر أي العبارتين التي تؤثر فيك أكثر من الأخرى ولماذا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أولى:"لتفادي شدة الارتطام أثناء حادث ما عليك بربط حزام الأمان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ثانية:"إذا كنت لا ترغب بالخروج من نافذة السيارة أثناء حادث ما عليك بربط حزام الأم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69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38280" y="914400"/>
            <a:ext cx="6248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)الخاتم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الذي أنتظره من مستمع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بد أن تطلب من مستمعك القيام بعمل محدد في إطار زمني محدد وبشكل محترم ودو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تذكر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“إ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 من لم يحدد ردة فعل المستمعين تجاه إعلانه في ثلاثين ثانية وترك الأمر يعود إلى مزاجهم وميولهم كمن أضاع السمك بعد جهد كبير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!!!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457200"/>
            <a:ext cx="7467480" cy="66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ين تجد الثلاثون ثانية في الحياة الي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لى الهاتف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رك رسالة مسجل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بريد الالكتروني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علان قصير للجمهور في الإعلام تلفزيون-إذاعة</a:t>
            </a: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ليق في محاضرة عام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ليق في محاضرة تعليمية أو ندوة أو اجتماع</a:t>
            </a: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قاء مع شخص مهم.</a:t>
            </a: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ثال تطبيق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كم أعلى رقم ضحايا أكبر الصراعات الدولية شراسة يومياً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إنه لا يتعدى عشرة قتلى بشكل يومي في العا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إذن:لدينا أكثر الصراعات دموية في العالم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74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66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9320" y="990720"/>
            <a:ext cx="70102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ثلاثون ثانية على الور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ثالها: مذكرة إدارية-رسالة شكر –إهداء-نصيحة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رف هدف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رف المتلق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ختر الطريقة المناسب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بدأ بطع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طور موضوعك بتلهف واختمه بخاتمة مقنع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90920" y="1371600"/>
            <a:ext cx="58672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ثلاثون ثانية....ثلاثون سا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سألت أحد الطهاة ما الفرق بين غداء لشخصين أو لخمسمائة شخص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جاب: لا فرق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نفس المكونات ولكن بحجم أكب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81280" y="1371600"/>
            <a:ext cx="5029200" cy="47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abic Transparent"/>
              </a:rPr>
              <a:t>       </a:t>
            </a:r>
            <a:r>
              <a:rPr b="1" lang="ar-SA" sz="2800" spc="-1" strike="noStrike">
                <a:solidFill>
                  <a:srgbClr val="000000"/>
                </a:solidFill>
                <a:latin typeface="Arabic Transparent"/>
              </a:rPr>
              <a:t>لماذا الثلاثون ثانية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-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قلة الوقت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"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ليس لديك وحدك بل لدى مستمعيك في الجهة الأخرى من الطاولة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حجم الاهتما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"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ذهن محدثك قادر على استيعاب كمية محددة من المعلومات ضمن حدود فكرة واحدة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434340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66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43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8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93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38280" y="1371600"/>
            <a:ext cx="60962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abic Transparent"/>
              </a:rPr>
              <a:t>تمري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تفحص غرفتك جيدا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ركز انتباهك على المص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سوف ترى أن بعد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30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ثانية بدأت تفكر بشيء مختل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الإحصائيات الإعلامية تؤكد</a:t>
            </a: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:"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بأن متوسط حجم انتباه المشاهد العادي في الدعاية والإعلان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30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 ثانية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1557360"/>
          <a:ext cx="28908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557360"/>
                    <a:ext cx="2890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43200" y="457200"/>
            <a:ext cx="579132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و العمل؟؟؟؟؟؟؟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أولاً: حدد هدفك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ارين: اطرح السؤال  (ماذا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أنا ذاهب إلى هناك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الذي أنوي تحقيقه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تهمني هذه المحادثة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أريد أن أكتب تلك الرسالة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أنوي لقاء هذا الشخص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هذا الشيء ممتع لي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لماذا أتكلم في هذا الاجتماع؟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-609480"/>
            <a:ext cx="225108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2133720"/>
            <a:ext cx="2209680" cy="1904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038480"/>
            <a:ext cx="2209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2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43200" y="1219320"/>
            <a:ext cx="56386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انياً:أعرف محدث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ارين:اطرح السؤال(من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ا لم تعرف محدثك ابحث عن الشخص الضروري:أنا في ورشة تصليح السيار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273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0" y="2743200"/>
          <a:ext cx="289080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743200"/>
                    <a:ext cx="2890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1800" y="1295280"/>
            <a:ext cx="5410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الثاً:اختيار الطريق السلي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ارين:اطرح السؤال(كيف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و الطريق؟؟؟؟؟؟؟ ليتنا نعرف الطريق للمليون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472428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4495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400"/>
                            </p:stCondLst>
                            <p:childTnLst>
                              <p:par>
                                <p:cTn id="95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9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1295280"/>
            <a:ext cx="678204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جميع الأضواء موجهة إلي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خلق الانطباع الأول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بذل جهدا حتى أبقى طويلا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و تخيلنا أننا سنقوم بزيارة ثلاثة أطباء لقيام عملية ما أيهما سنختارلتنفيذها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قالا في صحيفة-فيلماً سينمائياً-مباراة كرة قدم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ن الذي يخلق الانطباع الأول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38280" y="762120"/>
            <a:ext cx="6172200" cy="67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الجزء اللاشفه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و تخيلنا رجلاً قدم فكرته ف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30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انية من خلال إعلان متقن وبدقة عالية واستخدماً طعماً مغرياً وأنهى إعلانه بطلب مايريد واستخدم روح الفكاهة إلا أ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 ألقاه بوتيرة واحدة ونظره إلى الأرض دون أن يبتسم ،وتكلم عن ظهر غيب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ذا ستكون النتيجة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سيقضي الجزء اللاشفهي على الجزء الشفهي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ري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قرأ العبارة التالي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كثير من قصص الأطفال مسّل لكن القصص حول معاملة الأطفال القاسية مرعبة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8280" y="1219320"/>
            <a:ext cx="59436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ن: الطريق الأمثل للملي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بتس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ظر للحضور بشكل واث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درس كل حركة وأجعلها لصالح موضوع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كلم بوضو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جعل مظهرك العام لائقا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كن سيد نصك لاعبداً له: الخروج من الطائرة بلا مضلة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تمد على مخاطبة العقل حيناً وإثارة العاطفة حيناً آخ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أخيراً: ابد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20:47:15Z</dcterms:created>
  <dc:creator>Compuman</dc:creator>
  <dc:description/>
  <dc:language>en-US</dc:language>
  <cp:lastModifiedBy>CSS</cp:lastModifiedBy>
  <dcterms:modified xsi:type="dcterms:W3CDTF">2006-03-20T07:57:33Z</dcterms:modified>
  <cp:revision>23</cp:revision>
  <dc:subject/>
  <dc:title>PowerPoint Presentation</dc:title>
</cp:coreProperties>
</file>