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SS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27T12:16:21.562000000" idx="1">
    <p:pos x="1114" y="20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AA4-1F3E-43A5-905A-07E5A3B5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DF6-0B1D-4142-8482-062A2492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83B-2A10-478B-AD2F-28727952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3CB-4F17-4941-AFF6-6E000727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012-D58D-4F73-A646-57FB500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F71-54C3-4379-BA1A-789B902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991-1DD8-48D4-AC82-0E282083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229-528B-4FF4-8C9D-4270721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D54-A46D-4044-9ABA-F6C755A0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B77-8EE6-4887-905A-F91EDAC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952-9932-4895-AB52-F4AF55C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548-DEF0-4315-8CD2-30428292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7C8A-4725-493C-8043-AA26E3A53A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2193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كيف تقنع محدثك فى أقل من ثلاثين 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2637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. أسامة الم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50292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)المق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ثارة الاهت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كمة تقو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أردت عقول الناس فاضرب على جيوبه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 أن ترمي طعماً ليتجه إليك السم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عم؟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المادة التي تستخدم لجذب الانتباه وهو عبارة ع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رفة وفكاهة-حادثة يومية-قصة واقعية شخصية-سؤال وإجا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بد أن تختار طعماً واحدا مما سبق يتصل بموضوعك وبهدفك وبمستمع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4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71800" y="193680"/>
            <a:ext cx="5715000" cy="75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)طرح الموضو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سم الل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ك لا تريد من مستمعك أن يكون مستمعاً فقط بل مشاهداً فعبارتك الواصفة ستساعده على تخيل اللوحة بصرياً وتلوينها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 الاستعارة تعطي الكلام قوة وتجعله يبقى طويلاً في الذاكر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تما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كر أي العبارتين التي تؤثر فيك أكثر من الأخرى ولماذا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ولى:"لتفادي شدة الارتطام أثناء حادث ما عليك بربط حزام الأمان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انية:"إذا كنت لا ترغب بالخروج من نافذة السيارة أثناء حادث ما عليك بربط حزام الأ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91440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)الخات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تظره من مستم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بد أن تطلب من مستمعك القيام بعمل محدد في إطار زمني محدد وبشكل محترم ود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“إ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 من لم يحدد ردة فعل المستمعين تجاه إعلانه في ثلاثين ثانية وترك الأمر يعود إلى مزاجهم وميولهم كمن أضاع السمك بعد جهد كبي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46748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ين تجد الثلاثون ثانية في الحياة الي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الهات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رك رسالة مسجل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بريد الالكتروني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علان قصير للجمهور في الإعلام تلفزيون-إذاعة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عام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تعليمية أو ندوة أو اجتماع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قاء مع شخص مهم.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 تطبيق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كم أعلى رقم ضحايا أكبر الصراعات الدولية شراسة يومياً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إنه لا يتعدى عشرة قتلى بشكل يومي في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ذن:لدينا أكثر الصراعات دموية في العالم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6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 على الو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ها: مذكرة إدارية-رسالة شكر –إهداء-نصيحة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هدف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المتلق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ختر الطريقة المناس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دأ بطع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ر موضوعك بتلهف واختمه بخاتمة مقنع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1371600"/>
            <a:ext cx="5867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....ثلاثون س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ألت أحد الطهاة ما الفرق بين غداء لشخصين أو لخمسمائة شخص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جاب: لا فر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نفس المكونات ولكن بحجم أكب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1371600"/>
            <a:ext cx="502920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abic Transparent"/>
              </a:rPr>
              <a:t>       </a:t>
            </a:r>
            <a:r>
              <a:rPr b="1" lang="ar-SA" sz="2800" spc="-1" strike="noStrike">
                <a:solidFill>
                  <a:srgbClr val="000000"/>
                </a:solidFill>
                <a:latin typeface="Arabic Transparent"/>
              </a:rPr>
              <a:t>لماذا الثلاثون ثان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قلة الوقت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ليس لديك وحدك بل لدى مستمعيك في الجهة الأخرى من الطاول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حجم الاهتما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ذهن محدثك قادر على استيعاب كمية محددة من المعلومات ضمن حدود فكرة واحدة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3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1371600"/>
            <a:ext cx="6096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تفحص غرفتك جيد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ركز انتباهك على المص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سوف ترى أن بعد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ثانية بدأت تفكر بشيء مختل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الإحصائيات الإعلامية تؤكد</a:t>
            </a: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: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بأن متوسط حجم انتباه المشاهد العادي في الدعاية والإعلان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 ثاني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2890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7913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عمل؟؟؟؟؟؟؟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أولاً: حدد هدفك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 اطرح السؤال  (ماذا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ا ذاهب إلى هناك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وي تحقيقه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تهمني هذه المحادث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ريد أن أكتب تلك الرسال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وي لقاء هذا الشخص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هذا الشيء ممتع لي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لماذا أتكلم في هذا الاجتماع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22510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1219320"/>
            <a:ext cx="5638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اً:أعرف محدث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من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لم تعرف محدثك ابحث عن الشخص الضروري:أنا في ورشة تصليح السيا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2743200"/>
          <a:ext cx="28908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295280"/>
            <a:ext cx="5410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لثاً:اختيار الطريق السلي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كيف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ريق؟؟؟؟؟؟؟ ليتنا نعرف الطريق للمليون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6782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جميع الأضواء موجهة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خلق الانطباع الأو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بذل جهدا حتى أبقى طويل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أننا سنقوم بزيارة ثلاثة أطباء لقيام عملية ما أيهما سنختارلتنفيذها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قالا في صحيفة-فيلماً سينمائياً-مباراة كرة قدم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الذي يخلق الانطباع الأول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8280" y="762120"/>
            <a:ext cx="61722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الجزء اللاشفه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رجلاً قدم فكرته ف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ة من خلال إعلان متقن وبدقة عالية واستخدماً طعماً مغرياً وأنهى إعلانه بطلب مايريد واستخدم روح الفكاهة إلا أ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 ألقاه بوتيرة واحدة ونظره إلى الأرض دون أن يبتسم ،وتكلم عن ظهر غي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ذا ستكون النتيجة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يقضي الجزء اللاشفهي على الجزء الشفهي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قرأ العبارة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كثير من قصص الأطفال مسّل لكن القصص حول معاملة الأطفال القاسية مرعب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219320"/>
            <a:ext cx="5943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ن: الطريق الأمثل للملي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تس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ظر للحضور بشكل واث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رس كل حركة وأجعلها لصالح موضوع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كلم بوضو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عل مظهرك العام لائقا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ن سيد نصك لاعبداً له: الخروج من الطائرة بلا مضل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تمد على مخاطبة العقل حيناً وإثارة العاطفة حيناً آ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خيراً: ابد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20:47:15Z</dcterms:created>
  <dc:creator>Compuman</dc:creator>
  <dc:description/>
  <dc:language>en-US</dc:language>
  <cp:lastModifiedBy>CSS</cp:lastModifiedBy>
  <dcterms:modified xsi:type="dcterms:W3CDTF">2006-03-20T07:57:33Z</dcterms:modified>
  <cp:revision>23</cp:revision>
  <dc:subject/>
  <dc:title>PowerPoint Presentation</dc:title>
</cp:coreProperties>
</file>