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1.gif" ContentType="image/gif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7.jpeg" ContentType="image/jpeg"/>
  <Override PartName="/ppt/media/image5.wmf" ContentType="image/x-wmf"/>
  <Override PartName="/ppt/media/image6.jpeg" ContentType="image/jpe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SS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6-02-27T12:16:21.562000000" idx="1">
    <p:pos x="1114" y="2045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5F2-55BE-432E-8F4F-C7D9565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00C-0DD8-4417-9B9A-234F722E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80A-9E9C-45D0-A3BC-053503E0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1553-E722-419A-97B1-D0F0A467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840-D1F1-4F2D-895C-88B04BD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158-BDAC-42E0-9071-637B9B0A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EE5-7EB3-4FCD-8B44-25A4367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626-AA67-470A-ABB2-F75CEBED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262-DD0C-4C9B-91D7-CCA136C3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3DA-4E21-4710-A779-EDC1194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52B-7842-4C2C-99A2-94B7040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946-B6CB-40EE-A518-0D71CB9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852-DB1B-4E40-AA77-9837C778C7C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21932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كيف تقنع محدثك فى أقل من ثلاثين 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26370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. أسامة الم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581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05320" y="609480"/>
            <a:ext cx="5029200" cy="66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)المق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ثارة الاهتم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كمة تقول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أردت عقول الناس فاضرب على جيوبهم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 أن ترمي طعماً ليتجه إليك السم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عم؟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و المادة التي تستخدم لجذب الانتباه وهو عبارة ع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رفة وفكاهة-حادثة يومية-قصة واقعية شخصية-سؤال وإجا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لابد أن تختار طعماً واحدا مما سبق يتصل بموضوعك وبهدفك وبمستمعك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400"/>
                            </p:stCondLst>
                            <p:childTnLst>
                              <p:par>
                                <p:cTn id="14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71800" y="193680"/>
            <a:ext cx="5715000" cy="75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)طرح الموضو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سم اللو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نك لا تريد من مستمعك أن يكون مستمعاً فقط بل مشاهداً فعبارتك الواصفة ستساعده على تخيل اللوحة بصرياً وتلوينها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أن الاستعارة تعطي الكلام قوة وتجعله يبقى طويلاً في الذاكر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تما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كر أي العبارتين التي تؤثر فيك أكثر من الأخرى ولماذا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أولى:"لتفادي شدة الارتطام أثناء حادث ما عليك بربط حزام الأمان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انية:"إذا كنت لا ترغب بالخروج من نافذة السيارة أثناء حادث ما عليك بربط حزام الأ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69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8280" y="914400"/>
            <a:ext cx="6248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)الخاتم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تظره من مستم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بد أن تطلب من مستمعك القيام بعمل محدد في إطار زمني محدد وبشكل محترم ودو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تذكر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“إ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 من لم يحدد ردة فعل المستمعين تجاه إعلانه في ثلاثين ثانية وترك الأمر يعود إلى مزاجهم وميولهم كمن أضاع السمك بعد جهد كبير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457200"/>
            <a:ext cx="746748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ين تجد الثلاثون ثانية في الحياة الي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لى الهاتف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رك رسالة مسجل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بريد الالكتروني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علان قصير للجمهور في الإعلام تلفزيون-إذاعة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- 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عامة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عليق في محاضرة تعليمية أو ندوة أو اجتماع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قاء مع شخص مهم.</a:t>
            </a:r>
            <a:r>
              <a:rPr b="1" lang="ar-EG" sz="2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 تطبيق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كم أعلى رقم ضحايا أكبر الصراعات الدولية شراسة يومياً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إنه لا يتعدى عشرة قتلى بشكل يومي في العا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ذن:لدينا أكثر الصراعات دموية في العالم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66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990720"/>
            <a:ext cx="7010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 على الو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ثالها: مذكرة إدارية-رسالة شكر –إهداء-نصيحة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هدف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رف المتلق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ختر الطريقة المناسب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دأ بطع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طور موضوعك بتلهف واختمه بخاتمة مقنع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1371600"/>
            <a:ext cx="58672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ثلاثون ثانية....ثلاثون س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ألت أحد الطهاة ما الفرق بين غداء لشخصين أو لخمسمائة شخص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جاب: لا فرق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نفس المكونات ولكن بحجم أكب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581280" y="1371600"/>
            <a:ext cx="5029200" cy="47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abic Transparent"/>
              </a:rPr>
              <a:t>       </a:t>
            </a:r>
            <a:r>
              <a:rPr b="1" lang="ar-SA" sz="2800" spc="-1" strike="noStrike">
                <a:solidFill>
                  <a:srgbClr val="000000"/>
                </a:solidFill>
                <a:latin typeface="Arabic Transparent"/>
              </a:rPr>
              <a:t>لماذا الثلاثون ثانية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قلة الوقت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ليس لديك وحدك بل لدى مستمعيك في الجهة الأخرى من الطاول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حجم الاهتما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ذهن محدثك قادر على استيعاب كمية محددة من المعلومات ضمن حدود فكرة واحدة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6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43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8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93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1371600"/>
            <a:ext cx="60962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تفحص غرفتك جيد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ركز انتباهك على المص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سوف ترى أن بعد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ثانية بدأت تفكر بشيء مختل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الإحصائيات الإعلامية تؤكد</a:t>
            </a:r>
            <a:r>
              <a:rPr b="1" lang="ar-EG" sz="2400" spc="-1" strike="noStrike">
                <a:solidFill>
                  <a:srgbClr val="000000"/>
                </a:solidFill>
                <a:latin typeface="Arabic Transparent"/>
              </a:rPr>
              <a:t>:"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بأن متوسط حجم انتباه المشاهد العادي في الدعاية والإعلان 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Arabic Transparent"/>
              </a:rPr>
              <a:t> ثاني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4000" y="1557360"/>
          <a:ext cx="28908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55736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457200"/>
            <a:ext cx="57913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عمل؟؟؟؟؟؟؟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أولاً: حدد هدفك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 اطرح السؤال  (ماذا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ا ذاهب إلى هناك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الذي أنوي تحقيقه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تهمني هذه المحادث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ريد أن أكتب تلك الرسالة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أنوي لقاء هذا الشخص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ماذا هذا الشيء ممتع لي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لماذا أتكلم في هذا الاجتماع؟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609480"/>
            <a:ext cx="225108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2133720"/>
            <a:ext cx="220968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209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43200" y="1219320"/>
            <a:ext cx="56386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اً:أعرف محدث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من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ا لم تعرف محدثك ابحث عن الشخص الضروري:أنا في ورشة تصليح السيا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0" y="2743200"/>
          <a:ext cx="2890800" cy="411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7432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1800" y="1295280"/>
            <a:ext cx="5410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لثاً:اختيار الطريق السلي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ارين:اطرح السؤال(كيف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و الطريق؟؟؟؟؟؟؟ ليتنا نعرف الطريق للمليون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9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6782040" cy="46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جميع الأضواء موجهة إلي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خلق الانطباع الأول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بذل جهدا حتى أبقى طويلا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أننا سنقوم بزيارة ثلاثة أطباء لقيام عملية ما أيهما سنختارلتنفيذها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قالا في صحيفة-فيلماً سينمائياً-مباراة كرة قدم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الذي يخلق الانطباع الأول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438280" y="762120"/>
            <a:ext cx="6172200" cy="67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Arabic Transparent"/>
              </a:rPr>
              <a:t>الجزء اللاشفه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و تخيلنا رجلاً قدم فكرته ف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انية من خلال إعلان متقن وبدقة عالية واستخدماً طعماً مغرياً وأنهى إعلانه بطلب مايريد واستخدم روح الفكاهة إلا أ</a:t>
            </a:r>
            <a:r>
              <a:rPr b="1" lang="ar-EG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 ألقاه بوتيرة واحدة ونظره إلى الأرض دون أن يبتسم ،وتكلم عن ظهر غي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ذا ستكون النتيجة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سيقضي الجزء اللاشفهي على الجزء الشفهي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مرين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قرأ العبارة التال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كثير من قصص الأطفال مسّل لكن القصص حول معاملة الأطفال القاسية مرعب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219320"/>
            <a:ext cx="59436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ذن: الطريق الأمثل للملي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بتس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نظر للحضور بشكل واث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رس كل حركة وأجعلها لصالح موضوع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تكلم بوضو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جعل مظهرك العام لائقا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ن سيد نصك لاعبداً له: الخروج من الطائرة بلا مضلة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عتمد على مخاطبة العقل حيناً وإثارة العاطفة حيناً آخ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*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أخيراً: ابد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20:47:15Z</dcterms:created>
  <dc:creator>Compuman</dc:creator>
  <dc:description/>
  <dc:language>en-US</dc:language>
  <cp:lastModifiedBy>CSS</cp:lastModifiedBy>
  <dcterms:modified xsi:type="dcterms:W3CDTF">2006-03-20T07:57:33Z</dcterms:modified>
  <cp:revision>23</cp:revision>
  <dc:subject/>
  <dc:title>PowerPoint Presentation</dc:title>
</cp:coreProperties>
</file>