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gif" ContentType="image/gif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SS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6-02-27T12:16:21.562000000" idx="1">
    <p:pos x="1114" y="204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B31-D59D-4D1D-8D6B-DD6C9D77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272-68C8-4118-8BCC-CB15EA5A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80BC-32F6-49FB-926B-B27BA077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BA1-378F-4423-9731-84ECB6D5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802-B078-4340-8D89-C4E48F06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B58-F80D-4B57-8564-07F1A599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9CD-6CA6-463C-959C-B20EE359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309-706C-4137-979F-CC9EC143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8BD-8928-4A34-B4AD-417CAFAF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6B4-6023-4C2C-9D2B-EEFEFED2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EF6-86D3-4E20-ADFC-10990B25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384-0AB3-4AF2-AFC4-103CAA52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F858-B3B1-4BBA-A810-90A488BB634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2193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كيف تقنع محدثك فى أقل من ثلاثين ث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26370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. أسامة الم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581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05320" y="609480"/>
            <a:ext cx="5029200" cy="66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)المقد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ثارة الاهتم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كمة تقول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ا أردت عقول الناس فاضرب على جيوبهم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تذكر أن ترمي طعماً ليتجه إليك السم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طعم؟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و المادة التي تستخدم لجذب الانتباه وهو عبارة ع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رفة وفكاهة-حادثة يومية-قصة واقعية شخصية-سؤال وإجاب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ابد أن تختار طعماً واحدا مما سبق يتصل بموضوعك وبهدفك وبمستمعك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8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9400"/>
                            </p:stCondLst>
                            <p:childTnLst>
                              <p:par>
                                <p:cTn id="14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71800" y="193680"/>
            <a:ext cx="5715000" cy="75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)طرح الموضو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سم اللو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ذكر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ك لا تريد من مستمعك أن يكون مستمعاً فقط بل مشاهداً فعبارتك الواصفة ستساعده على تخيل اللوحة بصرياً وتلوينها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ن الاستعارة تعطي الكلام قوة وتجعله يبقى طويلاً في الذاكر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تما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كر أي العبارتين التي تؤثر فيك أكثر من الأخرى ولماذا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أولى:"لتفادي شدة الارتطام أثناء حادث ما عليك بربط حزام الأمان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انية:"إذا كنت لا ترغب بالخروج من نافذة السيارة أثناء حادث ما عليك بربط حزام الأم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69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38280" y="914400"/>
            <a:ext cx="6248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)الخاتم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لذي أنتظره من مستمع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بد أن تطلب من مستمعك القيام بعمل محدد في إطار زمني محدد وبشكل محترم ودو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تذكر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“إ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 من لم يحدد ردة فعل المستمعين تجاه إعلانه في ثلاثين ثانية وترك الأمر يعود إلى مزاجهم وميولهم كمن أضاع السمك بعد جهد كبير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!!!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457200"/>
            <a:ext cx="7467480" cy="66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ين تجد الثلاثون ثانية في الحياة الي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لى الهاتف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رك رسالة مسجل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بريد الالكتروني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علان قصير للجمهور في الإعلام تلفزيون-إذاعة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ليق في محاضرة عام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ليق في محاضرة تعليمية أو ندوة أو اجتماع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قاء مع شخص مهم.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ثال تطبيق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كم أعلى رقم ضحايا أكبر الصراعات الدولية شراسة يومياً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إنه لا يتعدى عشرة قتلى بشكل يومي في العا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ذن:لدينا أكثر الصراعات دموية في العالم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66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990720"/>
            <a:ext cx="70102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لاثون ثانية على الور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ثالها: مذكرة إدارية-رسالة شكر –إهداء-نصيحة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رف هدف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رف المتلق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ختر الطريقة المناسب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بدأ بطع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ور موضوعك بتلهف واختمه بخاتمة مقنع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90920" y="1371600"/>
            <a:ext cx="58672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لاثون ثانية....ثلاثون سا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ألت أحد الطهاة ما الفرق بين غداء لشخصين أو لخمسمائة شخص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جاب: لا فر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نفس المكونات ولكن بحجم أكب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81280" y="1371600"/>
            <a:ext cx="5029200" cy="47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abic Transparent"/>
              </a:rPr>
              <a:t>       </a:t>
            </a:r>
            <a:r>
              <a:rPr b="1" lang="ar-SA" sz="2800" spc="-1" strike="noStrike">
                <a:solidFill>
                  <a:srgbClr val="000000"/>
                </a:solidFill>
                <a:latin typeface="Arabic Transparent"/>
              </a:rPr>
              <a:t>لماذا الثلاثون ثانية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قلة الوقت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ليس لديك وحدك بل لدى مستمعيك في الجهة الأخرى من الطاولة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حجم الاهتما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ذهن محدثك قادر على استيعاب كمية محددة من المعلومات ضمن حدود فكرة واحدة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434340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43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8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93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38280" y="1371600"/>
            <a:ext cx="60962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abic Transparent"/>
              </a:rPr>
              <a:t>تم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تفحص غرفتك جيدا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ركز انتباهك على المص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سوف ترى أن بعد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ثانية بدأت تفكر بشيء مختل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الإحصائيات الإعلامية تؤكد</a:t>
            </a: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: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بأن متوسط حجم انتباه المشاهد العادي في الدعاية والإعلان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 ثانية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1557360"/>
          <a:ext cx="28908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55736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457200"/>
            <a:ext cx="57913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عمل؟؟؟؟؟؟؟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أولاً: حدد هدفك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 اطرح السؤال  (ماذا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نا ذاهب إلى هناك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لذي أنوي تحقيقه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تهمني هذه المحادثة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ريد أن أكتب تلك الرسالة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نوي لقاء هذا الشخص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هذا الشيء ممتع لي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لماذا أتكلم في هذا الاجتماع؟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-609480"/>
            <a:ext cx="225108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2209680" cy="190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2209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43200" y="1219320"/>
            <a:ext cx="56386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نياً:أعرف محدث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اطرح السؤال(من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ا لم تعرف محدثك ابحث عن الشخص الضروري:أنا في ورشة تصليح السيار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273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0" y="2743200"/>
          <a:ext cx="289080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74320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1800" y="1295280"/>
            <a:ext cx="5410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لثاً:اختيار الطريق السلي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اطرح السؤال(كيف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طريق؟؟؟؟؟؟؟ ليتنا نعرف الطريق للمليون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472428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495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400"/>
                            </p:stCondLst>
                            <p:childTnLst>
                              <p:par>
                                <p:cTn id="95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9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1295280"/>
            <a:ext cx="678204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جميع الأضواء موجهة إل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خلق الانطباع الأو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بذل جهدا حتى أبقى طويلا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و تخيلنا أننا سنقوم بزيارة ثلاثة أطباء لقيام عملية ما أيهما سنختارلتنفيذها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قالا في صحيفة-فيلماً سينمائياً-مباراة كرة قدم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 الذي يخلق الانطباع الأول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8280" y="762120"/>
            <a:ext cx="617220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الجزء اللاشفه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و تخيلنا رجلاً قدم فكرته ف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نية من خلال إعلان متقن وبدقة عالية واستخدماً طعماً مغرياً وأنهى إعلانه بطلب مايريد واستخدم روح الفكاهة إلا أ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 ألقاه بوتيرة واحدة ونظره إلى الأرض دون أن يبتسم ،وتكلم عن ظهر غيب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ذا ستكون النتيجة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يقضي الجزء اللاشفهي على الجزء الشفهي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قرأ العبارة التال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كثير من قصص الأطفال مسّل لكن القصص حول معاملة الأطفال القاسية مرعبة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219320"/>
            <a:ext cx="59436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ن: الطريق الأمثل للملي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بتس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ظر للحضور بشكل واث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درس كل حركة وأجعلها لصالح موضوع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كلم بوضو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جعل مظهرك العام لائقا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كن سيد نصك لاعبداً له: الخروج من الطائرة بلا مضلة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تمد على مخاطبة العقل حيناً وإثارة العاطفة حيناً آخ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أخيراً: ابد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20:47:15Z</dcterms:created>
  <dc:creator>Compuman</dc:creator>
  <dc:description/>
  <dc:language>en-US</dc:language>
  <cp:lastModifiedBy>CSS</cp:lastModifiedBy>
  <dcterms:modified xsi:type="dcterms:W3CDTF">2006-03-20T07:57:33Z</dcterms:modified>
  <cp:revision>23</cp:revision>
  <dc:subject/>
  <dc:title>PowerPoint Presentation</dc:title>
</cp:coreProperties>
</file>