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9EB-E8B7-4A97-B03C-DEB283E0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DD3-99FA-42C1-92CB-B1D8A6A5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0D5-27D3-4435-93B9-0872BA42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AD7-8700-4121-B31E-B9C2758D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74FF-B431-469F-8688-CA4CD85D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447D-9365-44E4-82D8-D022494C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CCB5-4874-4E35-B9A3-236BF699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98CF-4AAA-4D1D-8A19-3BFE0E43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95CD-81CE-4DBD-A604-26B21C2D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D94E-2BCE-4DC1-9A1A-20014071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1D76-D9CD-4EEF-9D25-847246E5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B63-C81F-474C-B8D3-948A4342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71BA-CC6C-4F03-8FA6-F4625769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A460-BDF4-4A4A-9B9F-7F545B24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612E-9BFA-4B3D-BA12-662E391F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4825-232E-4501-9BF0-ECEE27E7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E6C3-AFE2-45D7-8502-10A6DF1D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073-6939-4E21-9778-78DEAECE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D470-341A-4746-9B39-3E4C8FD8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8A3-C4D2-44DC-B60D-8DBC60CE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C38B-3069-497E-8026-38DFFB68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DB3F-A176-4A7C-8702-9F58D8D4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4C54-BD38-4577-B504-836B888E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2E7-694F-4E2D-9E5E-0578EF0F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3EC6-C843-48D2-9127-C6083BE0EB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D548-DAEA-4986-8672-3EEA491936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Arial"/>
              </a:rPr>
              <a:t>نصائح مهمة للاستذكا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كوني متفوق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تهيئة المكان</a:t>
            </a:r>
            <a:r>
              <a:rPr b="0" lang="ar-SA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من المفيد أن يكون المكان هادئا بعيد عن ضوضاء الراديو والمنزل , وأن يكون صحيا يتوفر فيه الضوء الكافي والتهوية المناسبة , ولا يكون مساعدا على الاسترخاء كحجرة النوم , أو فوق السرير .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33"/>
                </a:solidFill>
                <a:latin typeface="Arial"/>
                <a:cs typeface="AL-Hor"/>
              </a:rPr>
              <a:t>المذاكرة وتوزيع الوقت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32360" y="1197000"/>
            <a:ext cx="1224000" cy="9367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40000" y="2276640"/>
            <a:ext cx="6400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في أيام المراجعة التي تسبق الاختبارات قومي بتقسيم المادة إلى أقسام , ووزعيها على أوقات معينة , جزء في الصباح وآخر في المساء , وهكذا , فمن رام العلم جملة ذهب عنه جملة , والقرآن الكريم نزل منجما ومفرقا ومن ميزات ذلك سهولة حفظه واستيعاب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4005c"/>
                </a:solidFill>
                <a:latin typeface="바탕"/>
                <a:cs typeface="AL-Hor"/>
              </a:rPr>
              <a:t>أساليب المذاكرة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طريقة الترقيم </a:t>
            </a:r>
            <a:br>
              <a:rPr sz="3600"/>
            </a:br>
            <a:br>
              <a:rPr sz="36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فترقيم المعلومات أدعى لاسترجاعها , كما أنه أدعى لترتيب المعلومة في الذهن , ومن ثم سهولة استرجاعها , وقبل ذلك سهولة استيعاب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33"/>
                </a:solidFill>
                <a:latin typeface="Arial"/>
                <a:cs typeface="AL-Hor"/>
              </a:rPr>
              <a:t>ضعي لنفسك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r>
              <a:rPr b="1" lang="hi-IN" sz="3600" spc="-1" strike="noStrike">
                <a:solidFill>
                  <a:srgbClr val="ff9933"/>
                </a:solidFill>
                <a:latin typeface="Arial"/>
                <a:cs typeface="AL-Hor"/>
              </a:rPr>
              <a:t>أسئلة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قد تمر عليك بين ثنايا الكتاب معلومات من الممكن أن ترد في الاختبار , لذا ضعي لها أسئلة جانبية , ولا تنسي كتابة ذلك بالقلم الرصاص , وفي حواشي الكتاب , حتى يكون مرتبا منظما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خــــــــمـّنـي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ضعي بعض التخمينات الذكية للأسئلة , ثم قومي بتعديلها على ضوء ما تقرئينه , فالافتراضات تحافظ على تركيزنا عند القراءة , وتجعلنا نشعر بالإثارة عندما تتحقق تصوراتنا لما قرأناه أو سمعناه فيما بعد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ستخدام علامات أو إشارات المؤلف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إحدى الطرق لتحديد الأفكار التفصيلية الهامة , والتأكد من فرز الأفكار الرئيسية , بالإضافة إلى العنوان الرئيس الذي يعطي دلالة على الأفكار الرئيسية هي الانتباه إلى العلامات والدلائل الموجودة في الكتاب المدرسي , وهي نوعان دلائل بصرية , ودلائل فعلية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33"/>
                </a:solidFill>
                <a:latin typeface="Arial"/>
                <a:cs typeface="Times New Roman"/>
              </a:rPr>
              <a:t>الدلائل البصرية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الكلمات التي يوجد أسفلها خط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الكلمات المكتوبة بخط سميك عن بقية الكلمات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 المعلومات المدونة في جداول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 الجمل المدونة في أطر ملونة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 الكلمات المكتوبة بخط ملون . </a:t>
            </a:r>
            <a:br>
              <a:rPr sz="28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* الجمل التي تحمل أرقاما متسلسلة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cc33"/>
                </a:solidFill>
                <a:latin typeface="Arial"/>
                <a:cs typeface="Times New Roman"/>
              </a:rPr>
              <a:t>الدلائل الفعلية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052280"/>
            <a:ext cx="64008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لابد من الانتباه إلى بعض الكلمات التي تربط الجمل ببعضها , وهذه الروابط تساعد كثيرا في فهم المعاني , وفهم العلاقات بين الجمل , ويمكن تقسيم عبارات الربط إلى ما يلي : </a:t>
            </a:r>
            <a:br>
              <a:rPr sz="2800"/>
            </a:b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تعداد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مثل أولا , ثاني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تلخيص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وخلاصة القول , وباختصا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استدراك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ولكن , وبالرغم من ذل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استطراد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بالإضافة إلى هذ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توضيح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 : وكمثال على ذلك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Arial"/>
              </a:rPr>
              <a:t>عبارات السببية والمقارنة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: وسبب ذل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,والفرق ب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4005c"/>
                </a:solidFill>
                <a:latin typeface="Arial"/>
                <a:cs typeface="AL-Hor"/>
              </a:rPr>
              <a:t>كيف تذاكرين وتحفظين المعلومات لأطول فترة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طريقة الببغاء</a:t>
            </a:r>
            <a:r>
              <a:rPr b="1" lang="en-US" sz="32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24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وهي الاعتماد على إعادة المعلومات عدة مرات حتى يتم حفظها , لكن يعيب هذا الأسلوب , أن المعلومات التي تُحفظ وقت القلق والاضطراب النفسي قد تُنسى , وهذا لا يعني أن هذه الطريقة فاشلة , ولكن يجب أن تطور هذا الأسلوب , وتستخدم وسائل أخرى مدعمة له , مثل قوة التخيل والربط التسلسلي وطرق أخرى مختلفة , سنتعرف عليها فيما يل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طريقة التخيل</a:t>
            </a:r>
            <a:r>
              <a:rPr b="0" lang="ar-SA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9966ff"/>
                </a:solidFill>
                <a:latin typeface="Arial"/>
                <a:cs typeface="Times New Roman"/>
              </a:rPr>
              <a:t>هي عملية تكوين صورة عقلية لشئ تم ملاحظته . </a:t>
            </a:r>
            <a:br>
              <a:rPr sz="3200"/>
            </a:br>
            <a:br>
              <a:rPr sz="32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تخيّلي أنك ترين العالم من خلال عين مخرج سينمائي , حينذاك كل شئ سيأخذ بعدا بصريا وحركيا وسمعياً , مما سيعمل على دعم وتعزيز قوة الذاكرة .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e4005c"/>
                </a:solidFill>
                <a:latin typeface="바탕"/>
                <a:cs typeface="AL-Hor"/>
              </a:rPr>
              <a:t>بسم الله الرحمن الرحيم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lnSpc>
                <a:spcPct val="8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바탕"/>
                <a:cs typeface="AL-Hor"/>
              </a:rPr>
              <a:t>التفوق والتميز هو بغية كل طالب علم 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000099"/>
                </a:solidFill>
                <a:latin typeface="바탕"/>
                <a:cs typeface="AL-Hor"/>
              </a:rPr>
              <a:t>يسعى إليه حثيثا باذلا كل جهد للوصول إليه ومن خلاله يستطيع تحقيق كل هدف وأمنية 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000099"/>
                </a:solidFill>
                <a:latin typeface="바탕"/>
                <a:cs typeface="AL-Hor"/>
              </a:rPr>
              <a:t>وهناك العديد من المهارات الدراسية التي يجب أن يكتسبها ويمارسها بصورة دائمة حتى يصل لما يري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바탕"/>
                <a:cs typeface="AL-Hor"/>
              </a:rPr>
              <a:t>وهذه ثمة نصائح وخبرات ننثرها لكِ في رحلة سريعة , متمنين لك المتعة والفائ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طريقة الربط الذهني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إحدى الطرق المتفرعة من قوة التخيل , وهي أشبه ما تكون بالحبل الذي يربط به الحيوانات السائبة, فهي إن لم تُربط فنها ستنفلت , وكذلك المعلومات لابد من ربطها ببعضها أو بأمور أخرى </a:t>
            </a:r>
            <a:br>
              <a:rPr sz="2800"/>
            </a:br>
            <a:br>
              <a:rPr sz="2800"/>
            </a:br>
            <a:r>
              <a:rPr b="1" lang="ar-SA" sz="3600" spc="-1" strike="noStrike">
                <a:solidFill>
                  <a:srgbClr val="ff9933"/>
                </a:solidFill>
                <a:latin typeface="Times New Roman"/>
                <a:cs typeface="Times New Roman"/>
              </a:rPr>
              <a:t>مثال </a:t>
            </a:r>
            <a:br>
              <a:rPr sz="3600"/>
            </a:b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لحفظ اسم كتاب والمؤلف , بالإمكان تكوين جملة من خلاله , مثلا ياقوت الحموي وضع معجم البلدان , ولحفظه نقول ( ياقوت حمى معجم البلدان ) .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4005c"/>
                </a:solidFill>
                <a:latin typeface="Arial"/>
                <a:cs typeface="AL-Hor"/>
              </a:rPr>
              <a:t>وفي الختام</a:t>
            </a:r>
            <a:r>
              <a:rPr b="0" lang="ar-SA" sz="3600" spc="-1" strike="noStrike">
                <a:solidFill>
                  <a:srgbClr val="e4005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لجد الجد و لا تيأسي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  <a:ea typeface="AL-Hor"/>
              </a:rPr>
              <a:t> </a:t>
            </a:r>
            <a:br>
              <a:rPr sz="3600"/>
            </a:br>
            <a:br>
              <a:rPr sz="36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الجد طريق المجد , وليس هناك وقت للخور في حياة المسلم , والطالبة أيضا في هذا المضمار ليس لديها أي كلمات في قاموس حياتها التعليمية تقبل الخور والكس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ستعيني بالله تعالى</a:t>
            </a:r>
            <a:r>
              <a:rPr b="0" lang="ar-SA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وهذه مزية الفتاة المسلمة تشعر دائما بالفقر والعجز والحاجة لله تعالى ولذا تندفع نحو الاستعانة به سبحانه 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lahaonline</a:t>
            </a:r>
            <a:r>
              <a:rPr b="1" lang="ar-SA" sz="3200" spc="-1" strike="noStrike">
                <a:solidFill>
                  <a:srgbClr val="9966ff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9966ff"/>
                </a:solidFill>
                <a:latin typeface="Arial"/>
              </a:rPr>
              <a:t>com</a:t>
            </a:r>
            <a:r>
              <a:rPr b="1" lang="ar-SA" sz="3200" spc="-1" strike="noStrike">
                <a:solidFill>
                  <a:srgbClr val="ff99ff"/>
                </a:solidFill>
                <a:latin typeface="Arial"/>
              </a:rPr>
              <a:t>(المنتدي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4005c"/>
                </a:solidFill>
                <a:latin typeface="Arial"/>
                <a:cs typeface="AL-Hor"/>
              </a:rPr>
              <a:t>قـــــــــــــــــبل البـــــــــــــدء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9933"/>
                </a:solidFill>
                <a:latin typeface="Times New Roman"/>
                <a:cs typeface="Times New Roman"/>
              </a:rPr>
              <a:t>تحملي مسئولية نفسك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"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Times New Roman"/>
              </a:rPr>
              <a:t>العقول العظيمة تمتلك أهدافا واضحة , بينما غيرها لا يمتلك إلا الأمنيات</a:t>
            </a:r>
            <a:r>
              <a:rPr b="1" lang="en-US" sz="2800" spc="-1" strike="noStrike">
                <a:solidFill>
                  <a:srgbClr val="9966ff"/>
                </a:solidFill>
                <a:latin typeface="Times New Roman"/>
                <a:ea typeface="Times New Roman"/>
              </a:rPr>
              <a:t> "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واشنطن آرفنج</a:t>
            </a:r>
            <a:br>
              <a:rPr sz="2800"/>
            </a:br>
            <a:r>
              <a:rPr b="1" lang="ar-SA" sz="2800" spc="-1" strike="noStrike">
                <a:solidFill>
                  <a:srgbClr val="000099"/>
                </a:solidFill>
                <a:latin typeface="Times New Roman"/>
                <a:cs typeface="Times New Roman"/>
              </a:rPr>
              <a:t>في السنوات الأولى من دراستك ؛ أي في المرحلة الابتدائية غالبا ما كنتي تشعرين أنك تفعلين أشياء تُملى عليك من قِبَل أشخاص آخرين , وتحت إشرافهم كالأبوين أو أحد أفراد الأسرة , ولكن في المراحل الدراسية العليا كالمتوسطة والثانوية والجامعية , عليك أن تتحملي مسئولياتك تجاه نفسك , فهذه فرصتك لتطوير نفسك لتكوني شخصا ذاتي الدافعي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9933"/>
                </a:solidFill>
                <a:latin typeface="Arial"/>
                <a:cs typeface="AL-Hor"/>
              </a:rPr>
              <a:t>حــــددي</a:t>
            </a:r>
            <a:r>
              <a:rPr b="1" lang="ar-SA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9933"/>
                </a:solidFill>
                <a:latin typeface="Arial"/>
                <a:cs typeface="AL-Hor"/>
              </a:rPr>
              <a:t>هـــــدفك</a:t>
            </a:r>
            <a:r>
              <a:rPr b="1" lang="ar-SA" sz="28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989000"/>
            <a:ext cx="64008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hi-IN" sz="2800" spc="-1" strike="noStrike">
                <a:solidFill>
                  <a:srgbClr val="000099"/>
                </a:solidFill>
                <a:latin typeface="Arial"/>
              </a:rPr>
              <a:t>فليس المسلم من يتخبط خبط عشواء , ويدرس ولايدري لماذا يدرس , ويتخصص في مجال ولا يدري لماذا يتخصص , وليس له في ذلك مقصد ولا غاية , لأن ذلك عبث يتنزه عنه الفرد المسلم , يقول سبحانه : { </a:t>
            </a:r>
            <a:r>
              <a:rPr b="1" lang="hi-IN" sz="2800" spc="-1" strike="noStrike">
                <a:solidFill>
                  <a:srgbClr val="009900"/>
                </a:solidFill>
                <a:latin typeface="Arial"/>
              </a:rPr>
              <a:t>قُلْ إِنَّ صَلاتِي وَنُسُكِي وَمَحْيَايَ وَمَمَاتِي للهِ رَبِّ الْعَالَمِينَ لاَ شَرِيكَ لَهُ وَبِذَلِكَ أُمِرْتُ وَأَنَا أَوَّلُ المُسْلِمِينَ }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فهدفه هوإرضاء الله وتحصيل ما يستعين به على طاعة الله , وخدمة أمة الإسلام , ودفع أسباب الضعف والخور عنه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003640" y="1052640"/>
            <a:ext cx="109548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9933"/>
                </a:solidFill>
                <a:latin typeface="Arial"/>
                <a:cs typeface="AL-Hor"/>
              </a:rPr>
              <a:t>ارتـــــقي بــــنـــفســـك</a:t>
            </a:r>
            <a:r>
              <a:rPr b="0" lang="ar-SA" sz="32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ct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</a:t>
            </a: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ن السعي للتعلم مما يحثه الشرع الحكيم ,ومما تتطلبه أمور الحياة . إن من أهم جوانب إصلاح الشخصية المسلمة والارتقاء بالنفس هو التعلم والسعي لبناء عقل واعي , لكن ذلك وحده لا يكفي إذ على الطالبة أن تسعى كذلك للارتقاء بنفسها إيمانيا وأخلاقيا لأن العلم مالم يُضبط بإيمان وأدب وخلق,فإن مضرته كثيرا ما تكون أكثر من منفعته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حترام المعلم وتوقيره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علمي أن طالب العلم لا ينال العلم ولا ينتفع به إلا بتعظيم العلم وأهله , وتعظيم الأستاذ وتوقيره , يقول شيخ الإسلام بن تيمية (رحمه الله ) : " </a:t>
            </a:r>
            <a:r>
              <a:rPr b="1" lang="ar-SA" sz="3200" spc="-1" strike="noStrike">
                <a:solidFill>
                  <a:srgbClr val="9966ff"/>
                </a:solidFill>
                <a:latin typeface="Arial"/>
              </a:rPr>
              <a:t>وإذا كان الرجل قد علّمه أستاذه ؛ عرف قدر إحسانه إليه وشكره "</a:t>
            </a: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 فالحاصل أنه يطلب رضاه ويتجنب سخطه ويمتثل أمره في غير معصية الله تعالى .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33"/>
                </a:solidFill>
                <a:latin typeface="Arial"/>
                <a:cs typeface="AL-Hor"/>
              </a:rPr>
              <a:t>الشريك في تحصيل الدروس</a:t>
            </a: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لا شك أن حسن اختيار الشريك في المذاكرة يتوقف عليه الحصول على ثمرة هذه المذاكرة , فعلى الطالبة أن تختار المجدة وصاحبة الطبع المستقيم وتفر من المعطِّلة والمِكثارة  ( وهي كثيرة الكلام ) والمُفسِدة والفتّانة .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e4005c"/>
                </a:solidFill>
                <a:latin typeface="바탕"/>
                <a:cs typeface="AL-Hor"/>
              </a:rPr>
              <a:t>قبل البدء في الاستذكار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اجتنبي الأفكار السلبية </a:t>
            </a:r>
            <a:br>
              <a:rPr sz="3600"/>
            </a:br>
            <a:br>
              <a:rPr sz="36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الخوف والقلق والتفكير في أمور مضت أمر لا يفيد , فركزي تفكيرك على حاضرك ومستقبل أيامك معتمدة على الله تعالى .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9933"/>
                </a:solidFill>
                <a:latin typeface="Arial"/>
                <a:cs typeface="AL-Hor"/>
              </a:rPr>
              <a:t>وللجسد دور أيضًا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000099"/>
                </a:solidFill>
                <a:latin typeface="Arial"/>
              </a:rPr>
              <a:t>ينبغي الاهتمام بالماء والغذاء الجيد, وقد أثبتت الأبحاث أن المخ يفقد الماء أكثر من أي عضو آخر في الجسم , والغذاء الجيد له دور كبير في القدرة على التركيز والاستيعاب .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3:18:30Z</dcterms:created>
  <dc:creator>faisal</dc:creator>
  <dc:description/>
  <dc:language>en-US</dc:language>
  <cp:lastModifiedBy>faisal</cp:lastModifiedBy>
  <dcterms:modified xsi:type="dcterms:W3CDTF">2004-05-03T07:52:25Z</dcterms:modified>
  <cp:revision>6</cp:revision>
  <dc:subject/>
  <dc:title>نصائح مهمة للاستذكار</dc:title>
</cp:coreProperties>
</file>