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FEE0-4311-40BF-BFEB-1E8B6B5F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D1E-1ABA-4B45-9C7D-95509E19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825-7EEE-4A8B-AECB-DE025519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834-7594-4F4D-92A7-59368ACB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8810-DBB5-4F90-B064-B94A4A17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E35D-CB7F-4371-9C4E-EF8A7182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2BB4-B329-40E8-BD09-AE6CB751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2455-D90B-4D63-BCAD-C0989485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2419-7C13-4C4C-A081-296F4070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27CD-628E-40B7-BD93-F26EB9F8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4FC3-112F-4757-B9C9-E643EA1C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07E-564B-4783-9AF5-564743F0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D10D-5EFC-4381-AAD9-00F08492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2DA2-1023-4E4E-A202-98DB6903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3B4B-BA12-4AA0-A321-54336004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AAD0-0B5B-44E7-88AB-22E7012E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60BB-035A-4A3A-ABB7-EE756068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57A-3A76-40FF-8407-2E0D5AF3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96E-60CC-4E4D-BBFB-EAA86330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037-E822-481C-95C5-A7197A30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3F4-4A99-4824-94C6-ED668767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EB4-C4E8-438A-9701-45A25787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A45-FD47-40C4-98B7-3299A70E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FCC-757A-4E66-908B-F95226C4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FB65-FCE9-4370-ADA2-9437BB8DD6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EFEC-A258-4647-9B8F-62A9CC21CF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نصائح مهمة للاستذكا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كوني متفو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تهيئة المكان</a:t>
            </a:r>
            <a:r>
              <a:rPr b="0" lang="ar-SA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من المفيد أن يكون المكان هادئا بعيد عن ضوضاء الراديو والمنزل , وأن يكون صحيا يتوفر فيه الضوء الكافي والتهوية المناسبة , ولا يكون مساعدا على الاسترخاء كحجرة النوم , أو فوق السرير .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المذاكرة وتوزيع الوقت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32360" y="1197000"/>
            <a:ext cx="1224000" cy="936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40000" y="2276640"/>
            <a:ext cx="6400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في أيام المراجعة التي تسبق الاختبارات قومي بتقسيم المادة إلى أقسام , ووزعيها على أوقات معينة , جزء في الصباح وآخر في المساء , وهكذا , فمن رام العلم جملة ذهب عنه جملة , والقرآن الكريم نزل منجما ومفرقا ومن ميزات ذلك سهولة حفظه واستيعاب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4005c"/>
                </a:solidFill>
                <a:latin typeface="바탕"/>
                <a:cs typeface="AL-Hor"/>
              </a:rPr>
              <a:t>أساليب المذاكرة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ترقيم </a:t>
            </a:r>
            <a:br>
              <a:rPr sz="3600"/>
            </a:br>
            <a:br>
              <a:rPr sz="36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فترقيم المعلومات أدعى لاسترجاعها , كما أنه أدعى لترتيب المعلومة في الذهن , ومن ثم سهولة استرجاعها , وقبل ذلك سهولة استيعاب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ضعي لنفسك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أسئلة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قد تمر عليك بين ثنايا الكتاب معلومات من الممكن أن ترد في الاختبار , لذا ضعي لها أسئلة جانبية , ولا تنسي كتابة ذلك بالقلم الرصاص , وفي حواشي الكتاب , حتى يكون مرتبا منظما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خــــــــمـّنـي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ضعي بعض التخمينات الذكية للأسئلة , ثم قومي بتعديلها على ضوء ما تقرئينه , فالافتراضات تحافظ على تركيزنا عند القراءة , وتجعلنا نشعر بالإثارة عندما تتحقق تصوراتنا لما قرأناه أو سمعناه فيما بعد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ستخدام علامات أو إشارات المؤلف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إحدى الطرق لتحديد الأفكار التفصيلية الهامة , والتأكد من فرز الأفكار الرئيسية , بالإضافة إلى العنوان الرئيس الذي يعطي دلالة على الأفكار الرئيسية هي الانتباه إلى العلامات والدلائل الموجودة في الكتاب المدرسي , وهي نوعان دلائل بصرية , ودلائل فعلية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  <a:cs typeface="Times New Roman"/>
              </a:rPr>
              <a:t>الدلائل البصرية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الكلمات التي يوجد أسفلها خط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الكلمات المكتوبة بخط سميك عن بقية الكلمات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معلومات المدونة في جداول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جمل المدونة في أطر ملونة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كلمات المكتوبة بخط ملون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جمل التي تحمل أرقاما متسلسلة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  <a:cs typeface="Times New Roman"/>
              </a:rPr>
              <a:t>الدلائل الفعلية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052280"/>
            <a:ext cx="64008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لابد من الانتباه إلى بعض الكلمات التي تربط الجمل ببعضها , وهذه الروابط تساعد كثيرا في فهم المعاني , وفهم العلاقات بين الجمل , ويمكن تقسيم عبارات الربط إلى ما يلي : </a:t>
            </a:r>
            <a:br>
              <a:rPr sz="2800"/>
            </a:b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تعداد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مثل أولا , ثاني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تلخيص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وخلاصة القول , وباختصا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استدراك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ولكن , وبالرغم من ذل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استطراد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بالإضافة إلى هذ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توضيح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وكمثال على ذلك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سببية والمقارنة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: وسبب ذل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,والفرق ب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4005c"/>
                </a:solidFill>
                <a:latin typeface="Arial"/>
                <a:cs typeface="AL-Hor"/>
              </a:rPr>
              <a:t>كيف تذاكرين وتحفظين المعلومات لأطول فترة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ببغاء</a:t>
            </a:r>
            <a:r>
              <a:rPr b="1" lang="en-US" sz="32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24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وهي الاعتماد على إعادة المعلومات عدة مرات حتى يتم حفظها , لكن يعيب هذا الأسلوب , أن المعلومات التي تُحفظ وقت القلق والاضطراب النفسي قد تُنسى , وهذا لا يعني أن هذه الطريقة فاشلة , ولكن يجب أن تطور هذا الأسلوب , وتستخدم وسائل أخرى مدعمة له , مثل قوة التخيل والربط التسلسلي وطرق أخرى مختلفة , سنتعرف عليها فيما يل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تخيل</a:t>
            </a:r>
            <a:r>
              <a:rPr b="0" lang="ar-SA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9966ff"/>
                </a:solidFill>
                <a:latin typeface="Arial"/>
                <a:cs typeface="Times New Roman"/>
              </a:rPr>
              <a:t>هي عملية تكوين صورة عقلية لشئ تم ملاحظته . </a:t>
            </a:r>
            <a:br>
              <a:rPr sz="3200"/>
            </a:br>
            <a:br>
              <a:rPr sz="32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تخيّلي أنك ترين العالم من خلال عين مخرج سينمائي , حينذاك كل شئ سيأخذ بعدا بصريا وحركيا وسمعياً , مما سيعمل على دعم وتعزيز قوة الذاكرة .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e4005c"/>
                </a:solidFill>
                <a:latin typeface="바탕"/>
                <a:cs typeface="AL-Hor"/>
              </a:rPr>
              <a:t>بسم الله الرحمن الرحيم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التفوق والتميز هو بغية كل طالب علم 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يسعى إليه حثيثا باذلا كل جهد للوصول إليه ومن خلاله يستطيع تحقيق كل هدف وأمنية 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وهناك العديد من المهارات الدراسية التي يجب أن يكتسبها ويمارسها بصورة دائمة حتى يصل لما يري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وهذه ثمة نصائح وخبرات ننثرها لكِ في رحلة سريعة , متمنين لك المتعة والفائ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ربط الذهني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إحدى الطرق المتفرعة من قوة التخيل , وهي أشبه ما تكون بالحبل الذي يربط به الحيوانات السائبة, فهي إن لم تُربط فنها ستنفلت , وكذلك المعلومات لابد من ربطها ببعضها أو بأمور أخرى </a:t>
            </a:r>
            <a:br>
              <a:rPr sz="2800"/>
            </a:br>
            <a:br>
              <a:rPr sz="2800"/>
            </a:br>
            <a:r>
              <a:rPr b="1" lang="ar-SA" sz="3600" spc="-1" strike="noStrike">
                <a:solidFill>
                  <a:srgbClr val="ff9933"/>
                </a:solidFill>
                <a:latin typeface="Times New Roman"/>
                <a:cs typeface="Times New Roman"/>
              </a:rPr>
              <a:t>مثال </a:t>
            </a:r>
            <a:br>
              <a:rPr sz="36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لحفظ اسم كتاب والمؤلف , بالإمكان تكوين جملة من خلاله , مثلا ياقوت الحموي وضع معجم البلدان , ولحفظه نقول ( ياقوت حمى معجم البلدان ) .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4005c"/>
                </a:solidFill>
                <a:latin typeface="Arial"/>
                <a:cs typeface="AL-Hor"/>
              </a:rPr>
              <a:t>وفي الختام</a:t>
            </a:r>
            <a:r>
              <a:rPr b="0" lang="ar-SA" sz="3600" spc="-1" strike="noStrike">
                <a:solidFill>
                  <a:srgbClr val="e4005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لجد الجد و لا تيأسي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AL-Hor"/>
              </a:rPr>
              <a:t> </a:t>
            </a:r>
            <a:br>
              <a:rPr sz="3600"/>
            </a:br>
            <a:br>
              <a:rPr sz="36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الجد طريق المجد , وليس هناك وقت للخور في حياة المسلم , والطالبة أيضا في هذا المضمار ليس لديها أي كلمات في قاموس حياتها التعليمية تقبل الخور والكس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ستعيني بالله تعالى</a:t>
            </a:r>
            <a:r>
              <a:rPr b="0" lang="ar-SA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وهذه مزية الفتاة المسلمة تشعر دائما بالفقر والعجز والحاجة لله تعالى ولذا تندفع نحو الاستعانة به سبحانه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lahaonline</a:t>
            </a:r>
            <a:r>
              <a:rPr b="1" lang="ar-SA" sz="3200" spc="-1" strike="noStrike">
                <a:solidFill>
                  <a:srgbClr val="9966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com</a:t>
            </a:r>
            <a:r>
              <a:rPr b="1" lang="ar-SA" sz="3200" spc="-1" strike="noStrike">
                <a:solidFill>
                  <a:srgbClr val="ff99ff"/>
                </a:solidFill>
                <a:latin typeface="Arial"/>
              </a:rPr>
              <a:t>(المنتدي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4005c"/>
                </a:solidFill>
                <a:latin typeface="Arial"/>
                <a:cs typeface="AL-Hor"/>
              </a:rPr>
              <a:t>قـــــــــــــــــبل البـــــــــــــدء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Times New Roman"/>
                <a:cs typeface="Times New Roman"/>
              </a:rPr>
              <a:t>تحملي مسئولية نفسك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"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Times New Roman"/>
              </a:rPr>
              <a:t>العقول العظيمة تمتلك أهدافا واضحة , بينما غيرها لا يمتلك إلا الأمنيات</a:t>
            </a:r>
            <a:r>
              <a:rPr b="1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 "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واشنطن آرفنج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في السنوات الأولى من دراستك ؛ أي في المرحلة الابتدائية غالبا ما كنتي تشعرين أنك تفعلين أشياء تُملى عليك من قِبَل أشخاص آخرين , وتحت إشرافهم كالأبوين أو أحد أفراد الأسرة , ولكن في المراحل الدراسية العليا كالمتوسطة والثانوية والجامعية , عليك أن تتحملي مسئولياتك تجاه نفسك , فهذه فرصتك لتطوير نفسك لتكوني شخصا ذاتي الدافعي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33"/>
                </a:solidFill>
                <a:latin typeface="Arial"/>
                <a:cs typeface="AL-Hor"/>
              </a:rPr>
              <a:t>حــــددي</a:t>
            </a:r>
            <a:r>
              <a:rPr b="1" lang="ar-SA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9933"/>
                </a:solidFill>
                <a:latin typeface="Arial"/>
                <a:cs typeface="AL-Hor"/>
              </a:rPr>
              <a:t>هـــــدفك</a:t>
            </a:r>
            <a:r>
              <a:rPr b="1" lang="ar-SA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989000"/>
            <a:ext cx="64008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فليس المسلم من يتخبط خبط عشواء , ويدرس ولايدري لماذا يدرس , ويتخصص في مجال ولا يدري لماذا يتخصص , وليس له في ذلك مقصد ولا غاية , لأن ذلك عبث يتنزه عنه الفرد المسلم , يقول سبحانه : { </a:t>
            </a:r>
            <a:r>
              <a:rPr b="1" lang="hi-IN" sz="2800" spc="-1" strike="noStrike">
                <a:solidFill>
                  <a:srgbClr val="009900"/>
                </a:solidFill>
                <a:latin typeface="Arial"/>
              </a:rPr>
              <a:t>قُلْ إِنَّ صَلاتِي وَنُسُكِي وَمَحْيَايَ وَمَمَاتِي للهِ رَبِّ الْعَالَمِينَ لاَ شَرِيكَ لَهُ وَبِذَلِكَ أُمِرْتُ وَأَنَا أَوَّلُ المُسْلِمِينَ }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فهدفه هوإرضاء الله وتحصيل ما يستعين به على طاعة الله , وخدمة أمة الإسلام , ودفع أسباب الضعف والخور عن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10954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33"/>
                </a:solidFill>
                <a:latin typeface="Arial"/>
                <a:cs typeface="AL-Hor"/>
              </a:rPr>
              <a:t>ارتـــــقي بــــنـــفســـك</a:t>
            </a:r>
            <a:r>
              <a:rPr b="0" lang="ar-SA" sz="32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ن السعي للتعلم مما يحثه الشرع الحكيم ,ومما تتطلبه أمور الحياة . إن من أهم جوانب إصلاح الشخصية المسلمة والارتقاء بالنفس هو التعلم والسعي لبناء عقل واعي , لكن ذلك وحده لا يكفي إذ على الطالبة أن تسعى كذلك للارتقاء بنفسها إيمانيا وأخلاقيا لأن العلم مالم يُضبط بإيمان وأدب وخلق,فإن مضرته كثيرا ما تكون أكثر من منفعته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حترام المعلم وتوقيره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علمي أن طالب العلم لا ينال العلم ولا ينتفع به إلا بتعظيم العلم وأهله , وتعظيم الأستاذ وتوقيره , يقول شيخ الإسلام بن تيمية (رحمه الله ) : " </a:t>
            </a:r>
            <a:r>
              <a:rPr b="1" lang="ar-SA" sz="3200" spc="-1" strike="noStrike">
                <a:solidFill>
                  <a:srgbClr val="9966ff"/>
                </a:solidFill>
                <a:latin typeface="Arial"/>
              </a:rPr>
              <a:t>وإذا كان الرجل قد علّمه أستاذه ؛ عرف قدر إحسانه إليه وشكره "</a:t>
            </a: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 فالحاصل أنه يطلب رضاه ويتجنب سخطه ويمتثل أمره في غير معصية الله تعالى .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الشريك في تحصيل الدروس</a:t>
            </a: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لا شك أن حسن اختيار الشريك في المذاكرة يتوقف عليه الحصول على ثمرة هذه المذاكرة , فعلى الطالبة أن تختار المجدة وصاحبة الطبع المستقيم وتفر من المعطِّلة والمِكثارة  ( وهي كثيرة الكلام ) والمُفسِدة والفتّانة 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e4005c"/>
                </a:solidFill>
                <a:latin typeface="바탕"/>
                <a:cs typeface="AL-Hor"/>
              </a:rPr>
              <a:t>قبل البدء في الاستذكار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جتنبي الأفكار السلبية </a:t>
            </a:r>
            <a:br>
              <a:rPr sz="3600"/>
            </a:br>
            <a:br>
              <a:rPr sz="36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الخوف والقلق والتفكير في أمور مضت أمر لا يفيد , فركزي تفكيرك على حاضرك ومستقبل أيامك معتمدة على الله تعالى .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وللجسد دور أيضًا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ينبغي الاهتمام بالماء والغذاء الجيد, وقد أثبتت الأبحاث أن المخ يفقد الماء أكثر من أي عضو آخر في الجسم , والغذاء الجيد له دور كبير في القدرة على التركيز والاستيعاب .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3:18:30Z</dcterms:created>
  <dc:creator>faisal</dc:creator>
  <dc:description/>
  <dc:language>en-US</dc:language>
  <cp:lastModifiedBy>faisal</cp:lastModifiedBy>
  <dcterms:modified xsi:type="dcterms:W3CDTF">2004-05-03T07:52:25Z</dcterms:modified>
  <cp:revision>6</cp:revision>
  <dc:subject/>
  <dc:title>نصائح مهمة للاستذكار</dc:title>
</cp:coreProperties>
</file>