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0D2-743F-4406-B6D9-D0E0DCDF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7C3-698D-4408-903F-9D49B53C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A6A-B237-4737-AF4B-A2D76EFB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024-C14E-448D-93EC-AF01203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8A94-B133-46FB-983E-02365D0C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7CE-24A6-48E1-B901-B4CFFF74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AFE6-93C0-4B84-84CF-2DBFB78F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F717-B9A1-4852-ACD7-ACADFAD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6D6-DD00-497F-A6B6-D3E2697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C51F-430A-4F0D-A3AA-7BA5A44B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CA2-661A-4E5C-AFEC-022CE1D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59B-E2A9-409C-8D82-08D87C18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B16C-B7E8-4056-A5D0-0AF5BD9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A75-B359-4EE7-B680-BC69E10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F203-457C-4684-B492-A4A437B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C2B3-D16E-4FF9-8133-AEE7ED91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746-4183-491C-8650-7DFA550B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7A8-75D0-42C6-B137-4DEEE78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EFE-4989-4EF1-ACF3-CD2DCB62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AFC-1C61-41B8-BFC2-13F2E5F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5B4-12F2-4175-9EF1-EE81AED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F48-6A59-4E44-B4E0-1858A49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CA6-5783-4B8A-852F-94B4873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75D-1B74-447E-94B5-1C2D9A8F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928-BD73-4007-87F5-362FC5E11A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904-F8A1-4271-B932-07100A3A9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نصائح مهمة للاستذك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كوني متفو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تهيئة المكان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من المفيد أن يكون المكان هادئا بعيد عن ضوضاء الراديو والمنزل , وأن يكون صحيا يتوفر فيه الضوء الكافي والتهوية المناسبة , ولا يكون مساعدا على الاسترخاء كحجرة النوم , أو فوق السرير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مذاكرة وتوزيع الوقت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2276640"/>
            <a:ext cx="6400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ي أيام المراجعة التي تسبق الاختبارات قومي بتقسيم المادة إلى أقسام , ووزعيها على أوقات معينة , جزء في الصباح وآخر في المساء , وهكذا , فمن رام العلم جملة ذهب عنه جملة , والقرآن الكريم نزل منجما ومفرقا ومن ميزات ذلك سهولة حفظه واستيعا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4005c"/>
                </a:solidFill>
                <a:latin typeface="바탕"/>
                <a:cs typeface="AL-Hor"/>
              </a:rPr>
              <a:t>أساليب المذاكرة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رقيم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ترقيم المعلومات أدعى لاسترجاعها , كما أنه أدعى لترتيب المعلومة في الذهن , ومن ثم سهولة استرجاعها , وقبل ذلك سهولة استيعاب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ضعي لنفسك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أسئلة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قد تمر عليك بين ثنايا الكتاب معلومات من الممكن أن ترد في الاختبار , لذا ضعي لها أسئلة جانبية , ولا تنسي كتابة ذلك بالقلم الرصاص , وفي حواشي الكتاب , حتى يكون مرتبا منظما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خــــــــمـّنـي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ضعي بعض التخمينات الذكية للأسئلة , ثم قومي بتعديلها على ضوء ما تقرئينه , فالافتراضات تحافظ على تركيزنا عند القراءة , وتجعلنا نشعر بالإثارة عندما تتحقق تصوراتنا لما قرأناه أو سمعناه فيما بع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خدام علامات أو إشارات المؤلف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إحدى الطرق لتحديد الأفكار التفصيلية الهامة , والتأكد من فرز الأفكار الرئيسية , بالإضافة إلى العنوان الرئيس الذي يعطي دلالة على الأفكار الرئيسية هي الانتباه إلى العلامات والدلائل الموجودة في الكتاب المدرسي , وهي نوعان دلائل بصرية , ودلائل فعلية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بصرية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كلمات التي يوجد أسفلها خط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الكلمات المكتوبة بخط سميك عن بقية الكلمات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معلومات المدونة في جداول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مدونة في أطر ملونة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كلمات المكتوبة بخط ملون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تي تحمل أرقاما متسلسل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فعلية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ابد من الانتباه إلى بعض الكلمات التي تربط الجمل ببعضها , وهذه الروابط تساعد كثيرا في فهم المعاني , وفهم العلاقات بين الجمل , ويمكن تقسيم عبارات الربط إلى ما يلي : </a:t>
            </a:r>
            <a:br>
              <a:rPr sz="2800"/>
            </a:b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عد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مثل أولا , ث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لخيص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خلاصة القول , وباختص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دراك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لكن , وبالرغم من ذل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طر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بالإضافة إلى هذ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وضيح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كمثال على ذ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سببية والمقارنة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: وسبب ذل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,والفرق ب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كيف تذاكرين وتحفظين المعلومات لأطول فترة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ببغاء</a:t>
            </a: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ي الاعتماد على إعادة المعلومات عدة مرات حتى يتم حفظها , لكن يعيب هذا الأسلوب , أن المعلومات التي تُحفظ وقت القلق والاضطراب النفسي قد تُنسى , وهذا لا يعني أن هذه الطريقة فاشلة , ولكن يجب أن تطور هذا الأسلوب , وتستخدم وسائل أخرى مدعمة له , مثل قوة التخيل والربط التسلسلي وطرق أخرى مختلفة , سنتعرف عليها في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خيل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66ff"/>
                </a:solidFill>
                <a:latin typeface="Arial"/>
                <a:cs typeface="Times New Roman"/>
              </a:rPr>
              <a:t>هي عملية تكوين صورة عقلية لشئ تم ملاحظته . </a:t>
            </a:r>
            <a:br>
              <a:rPr sz="3200"/>
            </a:b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تخيّلي أنك ترين العالم من خلال عين مخرج سينمائي , حينذاك كل شئ سيأخذ بعدا بصريا وحركيا وسمعياً , مما سيعمل على دعم وتعزيز قوة الذاكرة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بسم الله الرحمن الرحي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التفوق والتميز هو بغية كل طالب علم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يسعى إليه حثيثا باذلا كل جهد للوصول إليه ومن خلاله يستطيع تحقيق كل هدف وأمنية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ناك العديد من المهارات الدراسية التي يجب أن يكتسبها ويمارسها بصورة دائمة حتى يصل لما ير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ذه ثمة نصائح وخبرات ننثرها لكِ في رحلة سريعة , متمنين لك المتعة وال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ربط الذهني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إحدى الطرق المتفرعة من قوة التخيل , وهي أشبه ما تكون بالحبل الذي يربط به الحيوانات السائبة, فهي إن لم تُربط فنها ستنفلت , وكذلك المعلومات لابد من ربطها ببعضها أو بأمور أخرى </a:t>
            </a:r>
            <a:br>
              <a:rPr sz="2800"/>
            </a:br>
            <a:br>
              <a:rPr sz="2800"/>
            </a:br>
            <a:r>
              <a:rPr b="1" lang="ar-SA" sz="36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مثال </a:t>
            </a:r>
            <a:br>
              <a:rPr sz="36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حفظ اسم كتاب والمؤلف , بالإمكان تكوين جملة من خلاله , مثلا ياقوت الحموي وضع معجم البلدان , ولحفظه نقول ( ياقوت حمى معجم البلدان )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وفي الختام</a:t>
            </a:r>
            <a:r>
              <a:rPr b="0" lang="ar-SA" sz="3600" spc="-1" strike="noStrike">
                <a:solidFill>
                  <a:srgbClr val="e4005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لجد الجد و لا تيأسي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L-Hor"/>
              </a:rPr>
              <a:t> </a:t>
            </a:r>
            <a:br>
              <a:rPr sz="3600"/>
            </a:br>
            <a:br>
              <a:rPr sz="36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جد طريق المجد , وليس هناك وقت للخور في حياة المسلم , والطالبة أيضا في هذا المضمار ليس لديها أي كلمات في قاموس حياتها التعليمية تقبل الخور والك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عيني بالله تعالى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ذه مزية الفتاة المسلمة تشعر دائما بالفقر والعجز والحاجة لله تعالى ولذا تندفع نحو الاستعانة به سبحانه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lahaonline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om</a:t>
            </a: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(المنتدي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4005c"/>
                </a:solidFill>
                <a:latin typeface="Arial"/>
                <a:cs typeface="AL-Hor"/>
              </a:rPr>
              <a:t>قـــــــــــــــــبل البـــــــــــــدء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تحملي مسئولية نفسك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"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Times New Roman"/>
              </a:rPr>
              <a:t>العقول العظيمة تمتلك أهدافا واضحة , بينما غيرها لا يمتلك إلا الأمنيات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"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واشنطن آرفنج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في السنوات الأولى من دراستك ؛ أي في المرحلة الابتدائية غالبا ما كنتي تشعرين أنك تفعلين أشياء تُملى عليك من قِبَل أشخاص آخرين , وتحت إشرافهم كالأبوين أو أحد أفراد الأسرة , ولكن في المراحل الدراسية العليا كالمتوسطة والثانوية والجامعية , عليك أن تتحملي مسئولياتك تجاه نفسك , فهذه فرصتك لتطوير نفسك لتكوني شخصا ذاتي الدافعي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حــــددي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هـــــدفك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فليس المسلم من يتخبط خبط عشواء , ويدرس ولايدري لماذا يدرس , ويتخصص في مجال ولا يدري لماذا يتخصص , وليس له في ذلك مقصد ولا غاية , لأن ذلك عبث يتنزه عنه الفرد المسلم , يقول سبحانه : { </a:t>
            </a:r>
            <a:r>
              <a:rPr b="1" lang="hi-IN" sz="2800" spc="-1" strike="noStrike">
                <a:solidFill>
                  <a:srgbClr val="009900"/>
                </a:solidFill>
                <a:latin typeface="Arial"/>
              </a:rPr>
              <a:t>قُلْ إِنَّ صَلاتِي وَنُسُكِي وَمَحْيَايَ وَمَمَاتِي للهِ رَبِّ الْعَالَمِينَ لاَ شَرِيكَ لَهُ وَبِذَلِكَ أُمِرْتُ وَأَنَا أَوَّلُ المُسْلِمِينَ }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فهدفه هوإرضاء الله وتحصيل ما يستعين به على طاعة الله , وخدمة أمة الإسلام , ودفع أسباب الضعف والخور عن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10954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ارتـــــقي بــــنـــفســـك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ن السعي للتعلم مما يحثه الشرع الحكيم ,ومما تتطلبه أمور الحياة . إن من أهم جوانب إصلاح الشخصية المسلمة والارتقاء بالنفس هو التعلم والسعي لبناء عقل واعي , لكن ذلك وحده لا يكفي إذ على الطالبة أن تسعى كذلك للارتقاء بنفسها إيمانيا وأخلاقيا لأن العلم مالم يُضبط بإيمان وأدب وخلق,فإن مضرته كثيرا ما تكون أكثر من منفعته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حترام المعلم وتوقيره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علمي أن طالب العلم لا ينال العلم ولا ينتفع به إلا بتعظيم العلم وأهله , وتعظيم الأستاذ وتوقيره , يقول شيخ الإسلام بن تيمية (رحمه الله ) : " 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وإذا كان الرجل قد علّمه أستاذه ؛ عرف قدر إحسانه إليه وشكره "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 فالحاصل أنه يطلب رضاه ويتجنب سخطه ويمتثل أمره في غير معصية الله تعالى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شريك في تحصيل الدروس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لا شك أن حسن اختيار الشريك في المذاكرة يتوقف عليه الحصول على ثمرة هذه المذاكرة , فعلى الطالبة أن تختار المجدة وصاحبة الطبع المستقيم وتفر من المعطِّلة والمِكثارة  ( وهي كثيرة الكلام ) والمُفسِدة والفتّان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قبل البدء في الاستذكار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جتنبي الأفكار السلبية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الخوف والقلق والتفكير في أمور مضت أمر لا يفيد , فركزي تفكيرك على حاضرك ومستقبل أيامك معتمدة على الله تعالى 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وللجسد دور أيضًا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ينبغي الاهتمام بالماء والغذاء الجيد, وقد أثبتت الأبحاث أن المخ يفقد الماء أكثر من أي عضو آخر في الجسم , والغذاء الجيد له دور كبير في القدرة على التركيز والاستيعاب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3:18:30Z</dcterms:created>
  <dc:creator>faisal</dc:creator>
  <dc:description/>
  <dc:language>en-US</dc:language>
  <cp:lastModifiedBy>faisal</cp:lastModifiedBy>
  <dcterms:modified xsi:type="dcterms:W3CDTF">2004-05-03T07:52:25Z</dcterms:modified>
  <cp:revision>6</cp:revision>
  <dc:subject/>
  <dc:title>نصائح مهمة للاستذكار</dc:title>
</cp:coreProperties>
</file>