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3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CAMERA.WAV" ContentType="audio/x-wav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08E-96FE-468F-9ACE-8F407229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E41-1714-499B-B8F6-D22EAADB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941-C9E8-40FD-8800-17073426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7AD-D468-4B52-8411-F48F44E6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1E78-E530-4725-9CDB-E2163A71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E2ED-3515-4B3A-9E4F-A10B1DD7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4447-9A1B-4154-8EF4-A2163993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AFD1-1EDF-435E-A438-5B7E3074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A0AD-4989-445C-BB78-4782FFA6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6387-2E22-496E-A07F-CF8C8685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8149-D5E8-4A29-972C-2304477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5A6-457C-4D62-84A5-078CC5AF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C827-0FEA-49DE-B25A-8776C9A3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E202-3A09-44A1-8CC1-B3231073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0D3D-EBAD-4EC3-8D8B-386C3AC4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9129-BB71-485E-BDE1-14D2068B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70B7-DEF5-429D-834A-2E589C16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348-071B-443C-818F-347878D9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42C-C394-4BC7-ADDB-A6591AE2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5A6-1834-4347-9241-08C3293C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D4E-6C1D-41AF-A9C5-97D45462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381-17AC-40BA-ADDD-2EE8B29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033-160B-4A00-9901-AF3AB436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D4A-9B77-4771-9AAD-EB7D1D95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2A11-E6E9-4C4D-98E4-EE5ED6781FD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5217-D1F6-4E7A-A11B-C084015214F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4.jpeg"/><Relationship Id="rId9" Type="http://schemas.openxmlformats.org/officeDocument/2006/relationships/oleObject" Target="../embeddings/oleObject3.bin"/><Relationship Id="rId10" Type="http://schemas.openxmlformats.org/officeDocument/2006/relationships/slide" Target=""/><Relationship Id="rId11" Type="http://schemas.openxmlformats.org/officeDocument/2006/relationships/image" Target="../media/image8.wmf"/><Relationship Id="rId12" Type="http://schemas.openxmlformats.org/officeDocument/2006/relationships/image" Target="../media/image4.jpe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wmf"/><Relationship Id="rId15" Type="http://schemas.openxmlformats.org/officeDocument/2006/relationships/image" Target="../media/image4.jpeg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.wmf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7800" y="2781360"/>
            <a:ext cx="799308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F_Najed"/>
              </a:rPr>
              <a:t>كيف تستثمر وقت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92360" y="3068640"/>
            <a:ext cx="439272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إحلال العادات السيئة بجدي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3527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AL-Mohanad Bold"/>
              </a:rPr>
              <a:t>الممارسة</a:t>
            </a:r>
            <a:r>
              <a:rPr b="0" lang="ar-SA" sz="3200" spc="-1" strike="noStrike">
                <a:solidFill>
                  <a:srgbClr val="333399"/>
                </a:solidFill>
                <a:latin typeface="Times New Roman"/>
                <a:ea typeface="Tahoma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191628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 عادات مذاكرة جيد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907920"/>
            <a:ext cx="4248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عد لتصبح استمرارياً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98900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ع التعليمات (الامتحانات مثلا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14972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عرف مدرسي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3213000"/>
            <a:ext cx="759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خوراً بعملك وقدمه بالشكل المناس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وافع الداخلية والخارج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69228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هرم الاهد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27280" y="1628640"/>
            <a:ext cx="6121440" cy="3024360"/>
            <a:chOff x="2627280" y="1628640"/>
            <a:chExt cx="6121440" cy="3024360"/>
          </a:xfrm>
        </p:grpSpPr>
        <p:sp>
          <p:nvSpPr>
            <p:cNvPr id="156" name=""/>
            <p:cNvSpPr/>
            <p:nvPr/>
          </p:nvSpPr>
          <p:spPr>
            <a:xfrm>
              <a:off x="2627280" y="1628640"/>
              <a:ext cx="6121440" cy="3024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2360" y="242100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6600"/>
                  </a:solidFill>
                  <a:latin typeface="Arial"/>
                </a:rPr>
                <a:t>المهن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14784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مرحلة الجام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38685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990000"/>
                  </a:solidFill>
                  <a:latin typeface="Arial"/>
                </a:rPr>
                <a:t>مهارات مختلف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27640" y="4797360"/>
            <a:ext cx="273708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بعيد الم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1040" y="5373720"/>
            <a:ext cx="3524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متوسط المدى (المراحل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802480"/>
            <a:ext cx="43210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قصير المدى (الخطو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4936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د تتغير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2637000"/>
            <a:ext cx="7056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عملية وضع الأهداف جزاً من حيات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484280"/>
            <a:ext cx="6048360" cy="10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المكافآت كمحفزات صن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3649680"/>
            <a:ext cx="619308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عند تحديد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في توقع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كز على النواحي التي تنبيء بأفضل فرص التح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اقب الإنجاز واستمر في عملية إعادة 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يأس بسهو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19640" y="4724280"/>
            <a:ext cx="2376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ثلاث طرق عظمى للوصول إلى أ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ستوى من النظام (الانضبا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284640"/>
            <a:ext cx="7417080" cy="265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غييرات البسيطة تحدث فرقاً كبيراً بمرور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قاعدة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80: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(مبداء باريتو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ا هي الـ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%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غل الوقت البي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907920"/>
            <a:ext cx="575964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درجة الكمال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05884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محيط المذاكرة الذي يلائم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4219560"/>
            <a:ext cx="4824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كان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213000"/>
            <a:ext cx="52912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جموعات ا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يم مكان مذاكر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3068640"/>
            <a:ext cx="792144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حينما تكون في احسن حال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عد النظر في عادات نوم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وقتم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ضع في الاعتبار حجم صعوبة الواجب عند توزيع وقت المذاك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ستخدم الساعات التي لا تكون فيها في أحسن حالات المذاكرة لعمل الواجبات السه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جو المذاكر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1052640"/>
            <a:ext cx="813600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يف تحافظ على تركيزك أثناء ا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068640"/>
            <a:ext cx="7921440" cy="204372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وجد بيئة مذاكرة تشعر فيها بالرا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رفع مستوى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واعد مناسبة لك يدركها المقرب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ذ ما تحتاج إليه من 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03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cc99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30751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الحمد لله رب العالمي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والصلاة والسلام على خاتم النبي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2200" y="263700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وضع الخطوط " شدة المؤش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تل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إعادة ترتيب الملاحظ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لاحظات الهامش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ربط القديم ب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اومة الت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04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2200" y="2205000"/>
            <a:ext cx="7921800" cy="4848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قاومة أثر الز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اجع المادة الدراسية من حين لأخ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ادة المحاضرة القديمة استعداداً للجدي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حاضرات الأسبوع في عطلة نهاية الأسب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اعمل ملخصات للمادة الدر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عدم الاستعما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وم والحف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فعال والحف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الإرهاق والمل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2200" y="2589120"/>
            <a:ext cx="7921800" cy="39934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ذ سنه من الن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دقيقة (تصبح موهب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ناول مشر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هد حرارة المك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كان الدافئ جداً مدعاة للكس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حرك رج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غير جدول ا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بحث عن 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2200" y="2589120"/>
            <a:ext cx="7921800" cy="35060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حضير للم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لا بد أن يكون لك أسلوب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عرف مدرسك وتكيف مع أسلو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كمل الواجب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راجعة الساب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بالقرب من المقد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جنب الزملاء الذين يشتتون انتباه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2200" y="2565360"/>
            <a:ext cx="7921800" cy="253116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منتصب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مع للإشارات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نتبه للإشارات غير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دوين الجيد ل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ذا تفعل بعد الح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انص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2200" y="256536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ن ينصت يفهم ومن الآخرين ي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تكلم يبيع والمستمع يشت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 الفرق بين السماع والإنص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تدو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2565360"/>
            <a:ext cx="7921800" cy="20437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قس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عمال الرسوم والتخطيط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يف تنظم وقتك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2200" y="2589120"/>
            <a:ext cx="7921800" cy="43603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إن من يسيئون استثمار الوقت هم أول من يشكون من قص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قد لا يكون هناك وقت يكفي لكل ش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كن هناك وقتاً كافياً ل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48360" y="1413000"/>
            <a:ext cx="1981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قدمة وتمه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4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3300"/>
                </a:solidFill>
                <a:latin typeface="Arial"/>
                <a:cs typeface="Tahoma (Arabic)"/>
              </a:rPr>
              <a:t>عناصر الع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96360" y="1268280"/>
          <a:ext cx="114300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268280"/>
                    <a:ext cx="1143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96360" y="2349360"/>
            <a:ext cx="85716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3280" y="2133720"/>
            <a:ext cx="2448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عوامل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812000" y="3284640"/>
          <a:ext cx="49680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12000" y="328464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11640" y="3573360"/>
            <a:ext cx="28177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ف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7640" y="4221000"/>
          <a:ext cx="8049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67640" y="4221000"/>
                    <a:ext cx="804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27280" y="4437000"/>
            <a:ext cx="4606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يف تنظم وقت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24720" y="5013360"/>
          <a:ext cx="92232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720" y="5013360"/>
                    <a:ext cx="92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47640" y="6140520"/>
            <a:ext cx="5708880" cy="457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755640" y="3213000"/>
            <a:ext cx="171936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900000" y="476280"/>
            <a:ext cx="118764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4932360" y="10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40720" y="5935680"/>
          <a:ext cx="496800" cy="92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740720" y="593568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59280" y="5276880"/>
            <a:ext cx="4114800" cy="4572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1440000" cy="825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مذاكرة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ahoma (Arabic)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إشارات سريعة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old"/>
              </a:rPr>
              <a:t>لتنظيم الوقت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2200" y="2589120"/>
            <a:ext cx="7921800" cy="40546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نقطة البد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جمع ما تحتاج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مفكرة لتخطيط الفص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ائمة بالأع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رتب أولويات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ملأ  الجدول اليو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بيق الوسائل بفاع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2894760"/>
            <a:ext cx="98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ffff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4360" y="1557360"/>
            <a:ext cx="7632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ترك طريقة النوم المبكر و الاستيقاظ في الليل للدراسة فهذه طريقة مرهقة  وذلك حسب التجار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فترة الصباح بعد صلاة الفجر من أفضل الفترات على الإطلاق للمذاكرة و الحفظ على وجه الخصوص فعليك باستغلا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تذكر دائما أن التوفيق من الله تعالى ولكن الأسباب من الإنسا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دع الله دائماً ولا تيأس من الدعاء فلو رد القضاء شيئاً لكان من الدع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L-Mohanad Bold"/>
              </a:rPr>
              <a:t>( ومن يتق الله يجعل له مخرجاً ويرزقه من حيث لا يحتسب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24440" y="625320"/>
            <a:ext cx="472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"/>
                <a:cs typeface="SKR HEAD1"/>
              </a:rPr>
              <a:t>في طريقك للنجا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عج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فكر أن تقول ” أنا لا أستطيع“ 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اعلم أن أفضل طريقة لاكتشاف المستقبل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  <a:cs typeface="AL-Mohanad Bold"/>
              </a:rPr>
              <a:t>صناع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لا تنشغل  بما لا فائدة في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236120" y="2352600"/>
            <a:ext cx="445104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THANK YOU</a:t>
            </a: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4869000"/>
            <a:ext cx="3673440" cy="1368360"/>
          </a:xfrm>
          <a:prstGeom prst="wedgeEllipseCallout">
            <a:avLst>
              <a:gd name="adj1" fmla="val 83148"/>
              <a:gd name="adj2" fmla="val -785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زيمة / المبا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0280"/>
            <a:ext cx="3600360" cy="1656000"/>
          </a:xfrm>
          <a:prstGeom prst="wedgeEllipseCallout">
            <a:avLst>
              <a:gd name="adj1" fmla="val 66226"/>
              <a:gd name="adj2" fmla="val 84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ضوح الرؤية (الاهدا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21000"/>
            <a:ext cx="3095640" cy="1439640"/>
          </a:xfrm>
          <a:prstGeom prst="wedgeEllipseCallout">
            <a:avLst>
              <a:gd name="adj1" fmla="val 86615"/>
              <a:gd name="adj2" fmla="val 22546"/>
            </a:avLst>
          </a:prstGeom>
          <a:solidFill>
            <a:srgbClr val="adc0fb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خذ بالأسبا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00720" y="2492280"/>
            <a:ext cx="3382560" cy="2367720"/>
            <a:chOff x="4500720" y="2492280"/>
            <a:chExt cx="3382560" cy="2367720"/>
          </a:xfrm>
        </p:grpSpPr>
        <p:sp>
          <p:nvSpPr>
            <p:cNvPr id="113" name=""/>
            <p:cNvSpPr/>
            <p:nvPr/>
          </p:nvSpPr>
          <p:spPr>
            <a:xfrm>
              <a:off x="4500720" y="2492280"/>
              <a:ext cx="3382560" cy="19749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2400" y="2755080"/>
              <a:ext cx="251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ن اهم عوامل النجا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عا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1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060640"/>
            <a:ext cx="7921440" cy="30186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رغبة في الدراسة والتحص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ظيم 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ختيار المكان المناسب ل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عداد للمحضرات قبل الذهاب إل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ُسن تدوين الملاحظات من ا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عادات القرائية الح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3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060640"/>
            <a:ext cx="7921440" cy="350604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فادة من المكت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هارة الكتابية ال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سن الاستعداد ل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ًسن أداء ا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خدام معينات ال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ويع الاساليب القرائية وفقاً للهدف من القر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Times New Roman"/>
                  <a:cs typeface="AL-Mohanad Bold"/>
                </a:rPr>
                <a:t>العوامل الأساسية للتعل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L-Mohanad Bol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773360"/>
            <a:ext cx="7921800" cy="442008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ثقة ب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استمتا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قوة الإر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تركيز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حديد الهد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وزيع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cs typeface="Arial"/>
              </a:rPr>
              <a:t>الاسترا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دقة الملاحظ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تقليل التداخل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88000" y="3213000"/>
            <a:ext cx="2448000" cy="1068840"/>
          </a:xfrm>
          <a:prstGeom prst="rect">
            <a:avLst/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القدرات الا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149720"/>
            <a:ext cx="3527280" cy="106884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بيئة التعلم والحالة الص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084640"/>
            <a:ext cx="3024000" cy="581400"/>
          </a:xfrm>
          <a:prstGeom prst="rect">
            <a:avLst/>
          </a:prstGeom>
          <a:blipFill rotWithShape="0">
            <a:blip r:embed="rId3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مهارات المذا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25800" y="115920"/>
            <a:ext cx="5182920" cy="1616400"/>
            <a:chOff x="3925800" y="115920"/>
            <a:chExt cx="5182920" cy="1616400"/>
          </a:xfrm>
        </p:grpSpPr>
        <p:sp>
          <p:nvSpPr>
            <p:cNvPr id="136" name=""/>
            <p:cNvSpPr/>
            <p:nvPr/>
          </p:nvSpPr>
          <p:spPr>
            <a:xfrm>
              <a:off x="3925800" y="115920"/>
              <a:ext cx="518292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5920" y="297720"/>
              <a:ext cx="3854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000000"/>
                  </a:solidFill>
                  <a:latin typeface="Arial"/>
                </a:rPr>
                <a:t>كيف تنظم مذاكرت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4248000" cy="8650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ماذا المذاكرة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924280"/>
            <a:ext cx="1995480" cy="825480"/>
          </a:xfrm>
          <a:prstGeom prst="cloudCallout">
            <a:avLst>
              <a:gd name="adj1" fmla="val 87629"/>
              <a:gd name="adj2" fmla="val -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76640"/>
            <a:ext cx="1995480" cy="825480"/>
          </a:xfrm>
          <a:prstGeom prst="cloudCallout">
            <a:avLst>
              <a:gd name="adj1" fmla="val 57398"/>
              <a:gd name="adj2" fmla="val 25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157720"/>
            <a:ext cx="1995480" cy="825480"/>
          </a:xfrm>
          <a:prstGeom prst="cloudCallout">
            <a:avLst>
              <a:gd name="adj1" fmla="val 57796"/>
              <a:gd name="adj2" fmla="val -1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04:02Z</dcterms:created>
  <dc:creator>Dr. Saad Aiban</dc:creator>
  <dc:description/>
  <dc:language>en-US</dc:language>
  <cp:lastModifiedBy>CAAC</cp:lastModifiedBy>
  <dcterms:modified xsi:type="dcterms:W3CDTF">2004-09-03T14:26:04Z</dcterms:modified>
  <cp:revision>24</cp:revision>
  <dc:subject/>
  <dc:title>Slide 1</dc:title>
</cp:coreProperties>
</file>