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5.jpeg" ContentType="image/jpeg"/>
  <Override PartName="/ppt/media/image1.jpeg" ContentType="image/jpeg"/>
  <Override PartName="/ppt/media/image5.jpeg" ContentType="image/jpeg"/>
  <Override PartName="/ppt/media/image14.wmf" ContentType="image/x-wmf"/>
  <Override PartName="/ppt/media/image3.gif" ContentType="image/gif"/>
  <Override PartName="/ppt/media/image11.wmf" ContentType="image/x-wmf"/>
  <Override PartName="/ppt/media/image6.jpeg" ContentType="image/jpeg"/>
  <Override PartName="/ppt/media/image12.wmf" ContentType="image/x-wmf"/>
  <Override PartName="/ppt/media/image4.png" ContentType="image/png"/>
  <Override PartName="/ppt/media/image7.jpeg" ContentType="image/jpeg"/>
  <Override PartName="/ppt/media/image10.wmf" ContentType="image/x-wmf"/>
  <Override PartName="/ppt/media/image2.png" ContentType="image/png"/>
  <Override PartName="/ppt/media/image8.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 descr="برنامج تنمية مهارات المدربين "/>
          <p:cNvPicPr/>
          <p:nvPr/>
        </p:nvPicPr>
        <p:blipFill>
          <a:blip r:embed="rId3"/>
          <a:stretch/>
        </p:blipFill>
        <p:spPr>
          <a:xfrm>
            <a:off x="0" y="-27000"/>
            <a:ext cx="9144000" cy="863640"/>
          </a:xfrm>
          <a:prstGeom prst="rect">
            <a:avLst/>
          </a:prstGeom>
          <a:ln w="0">
            <a:noFill/>
          </a:ln>
        </p:spPr>
      </p:pic>
      <p:sp>
        <p:nvSpPr>
          <p:cNvPr id="1" name=""/>
          <p:cNvSpPr/>
          <p:nvPr/>
        </p:nvSpPr>
        <p:spPr>
          <a:xfrm>
            <a:off x="5940360" y="-14400"/>
            <a:ext cx="3095640" cy="1059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Arial"/>
                <a:cs typeface="Kufi20 Normal"/>
              </a:rPr>
              <a:t>وزارة المعارف </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ffff"/>
                </a:solidFill>
                <a:latin typeface="Arial"/>
                <a:cs typeface="Kufi20 Normal"/>
              </a:rPr>
              <a:t>الإدارة العامة للتدريب التربوي والابتعاث</a:t>
            </a:r>
            <a:r>
              <a:rPr b="0" lang="en-US" sz="1800" spc="-1" strike="noStrike">
                <a:solidFill>
                  <a:srgbClr val="000000"/>
                </a:solidFill>
                <a:latin typeface="Arial"/>
                <a:ea typeface="Kufi20 Normal"/>
              </a:rPr>
              <a:t> </a:t>
            </a:r>
            <a:endParaRPr b="0" lang="en-US" sz="1800" spc="-1" strike="noStrike">
              <a:solidFill>
                <a:srgbClr val="000000"/>
              </a:solidFill>
              <a:latin typeface="Arial"/>
            </a:endParaRPr>
          </a:p>
        </p:txBody>
      </p:sp>
      <p:sp>
        <p:nvSpPr>
          <p:cNvPr id="2" name=""/>
          <p:cNvSpPr txBox="1"/>
          <p:nvPr/>
        </p:nvSpPr>
        <p:spPr>
          <a:xfrm>
            <a:off x="971640" y="115920"/>
            <a:ext cx="4897440" cy="431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0000ff"/>
                  </a:solidFill>
                  <a:miter/>
                </a:ln>
                <a:solidFill>
                  <a:srgbClr val="ffffff"/>
                </a:solidFill>
                <a:latin typeface="Al-Homam"/>
              </a:rPr>
              <a:t>برنامج تنمية مهارات المدربين</a:t>
            </a:r>
            <a:endParaRPr b="1" lang="en-US" sz="1800" spc="1" strike="noStrike">
              <a:ln w="12600">
                <a:solidFill>
                  <a:srgbClr val="0000ff"/>
                </a:solidFill>
                <a:miter/>
              </a:ln>
              <a:solidFill>
                <a:srgbClr val="ffffff"/>
              </a:solidFill>
              <a:latin typeface="Al-Homam"/>
              <a:ea typeface="Al-Homam"/>
            </a:endParaRPr>
          </a:p>
        </p:txBody>
      </p:sp>
      <p:pic>
        <p:nvPicPr>
          <p:cNvPr id="3" name="" descr=""/>
          <p:cNvPicPr/>
          <p:nvPr/>
        </p:nvPicPr>
        <p:blipFill>
          <a:blip r:embed="rId4"/>
          <a:stretch/>
        </p:blipFill>
        <p:spPr>
          <a:xfrm>
            <a:off x="0" y="0"/>
            <a:ext cx="755640" cy="76500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8520" indent="-257040" algn="r" rtl="1">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cond Outline Level</a:t>
            </a:r>
            <a:endParaRPr b="1" lang="en-US" sz="4400" spc="-1" strike="noStrike">
              <a:solidFill>
                <a:srgbClr val="000000"/>
              </a:solidFill>
              <a:latin typeface="Arial"/>
            </a:endParaRPr>
          </a:p>
          <a:p>
            <a:pPr lvl="2" marL="1028520" indent="-205560" algn="r" rtl="1">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40000" indent="-205560" algn="r" rtl="1">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urth Outline Level</a:t>
            </a:r>
            <a:endParaRPr b="1" lang="en-US" sz="3600" spc="-1" strike="noStrike">
              <a:solidFill>
                <a:srgbClr val="000000"/>
              </a:solidFill>
              <a:latin typeface="Arial"/>
            </a:endParaRPr>
          </a:p>
          <a:p>
            <a:pPr lvl="4" marL="1851480" indent="-205560" algn="r" rtl="1">
              <a:spcBef>
                <a:spcPts val="9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fth Outline Level</a:t>
            </a:r>
            <a:endParaRPr b="1" lang="en-US" sz="3600" spc="-1" strike="noStrike">
              <a:solidFill>
                <a:srgbClr val="000000"/>
              </a:solidFill>
              <a:latin typeface="Arial"/>
            </a:endParaRPr>
          </a:p>
          <a:p>
            <a:pPr lvl="5" marL="1851480" indent="-205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xth Outline Level</a:t>
            </a:r>
            <a:endParaRPr b="1" lang="en-US" sz="3600" spc="-1" strike="noStrike">
              <a:solidFill>
                <a:srgbClr val="000000"/>
              </a:solidFill>
              <a:latin typeface="Arial"/>
            </a:endParaRPr>
          </a:p>
          <a:p>
            <a:pPr lvl="6" marL="1851480" indent="-2055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venth Outline Level</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gif"/><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216000" y="806400"/>
            <a:ext cx="8861400" cy="108000"/>
          </a:xfrm>
          <a:custGeom>
            <a:avLst/>
            <a:gdLst/>
            <a:ahLst/>
            <a:rect l="l" t="t" r="r" b="b"/>
            <a:pathLst>
              <a:path w="5582" h="68">
                <a:moveTo>
                  <a:pt x="5582" y="37"/>
                </a:moveTo>
                <a:lnTo>
                  <a:pt x="5509" y="0"/>
                </a:lnTo>
                <a:lnTo>
                  <a:pt x="0" y="0"/>
                </a:lnTo>
                <a:lnTo>
                  <a:pt x="0" y="68"/>
                </a:lnTo>
                <a:lnTo>
                  <a:pt x="5509" y="68"/>
                </a:lnTo>
                <a:lnTo>
                  <a:pt x="5446" y="37"/>
                </a:lnTo>
                <a:lnTo>
                  <a:pt x="5582" y="37"/>
                </a:lnTo>
                <a:lnTo>
                  <a:pt x="5582" y="0"/>
                </a:lnTo>
                <a:lnTo>
                  <a:pt x="5509" y="0"/>
                </a:lnTo>
                <a:lnTo>
                  <a:pt x="5582" y="37"/>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8861400" y="865080"/>
            <a:ext cx="216000" cy="5802480"/>
          </a:xfrm>
          <a:custGeom>
            <a:avLst/>
            <a:gdLst/>
            <a:ahLst/>
            <a:rect l="l" t="t" r="r" b="b"/>
            <a:pathLst>
              <a:path w="136" h="3655">
                <a:moveTo>
                  <a:pt x="63" y="3655"/>
                </a:moveTo>
                <a:lnTo>
                  <a:pt x="136" y="3618"/>
                </a:lnTo>
                <a:lnTo>
                  <a:pt x="136" y="0"/>
                </a:lnTo>
                <a:lnTo>
                  <a:pt x="0" y="0"/>
                </a:lnTo>
                <a:lnTo>
                  <a:pt x="0" y="3618"/>
                </a:lnTo>
                <a:lnTo>
                  <a:pt x="63" y="3587"/>
                </a:lnTo>
                <a:lnTo>
                  <a:pt x="63" y="3655"/>
                </a:lnTo>
                <a:lnTo>
                  <a:pt x="136" y="3655"/>
                </a:lnTo>
                <a:lnTo>
                  <a:pt x="136" y="3618"/>
                </a:lnTo>
                <a:lnTo>
                  <a:pt x="63" y="3655"/>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00080" y="6559560"/>
            <a:ext cx="8861400" cy="108000"/>
          </a:xfrm>
          <a:custGeom>
            <a:avLst/>
            <a:gdLst/>
            <a:ahLst/>
            <a:rect l="l" t="t" r="r" b="b"/>
            <a:pathLst>
              <a:path w="5582" h="68">
                <a:moveTo>
                  <a:pt x="0" y="31"/>
                </a:moveTo>
                <a:lnTo>
                  <a:pt x="73" y="68"/>
                </a:lnTo>
                <a:lnTo>
                  <a:pt x="5582" y="68"/>
                </a:lnTo>
                <a:lnTo>
                  <a:pt x="5582" y="0"/>
                </a:lnTo>
                <a:lnTo>
                  <a:pt x="73" y="0"/>
                </a:lnTo>
                <a:lnTo>
                  <a:pt x="146" y="31"/>
                </a:lnTo>
                <a:lnTo>
                  <a:pt x="0" y="31"/>
                </a:lnTo>
                <a:lnTo>
                  <a:pt x="0" y="68"/>
                </a:lnTo>
                <a:lnTo>
                  <a:pt x="73" y="68"/>
                </a:lnTo>
                <a:lnTo>
                  <a:pt x="0" y="31"/>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00080" y="806400"/>
            <a:ext cx="231840" cy="5802480"/>
          </a:xfrm>
          <a:custGeom>
            <a:avLst/>
            <a:gdLst/>
            <a:ahLst/>
            <a:rect l="l" t="t" r="r" b="b"/>
            <a:pathLst>
              <a:path w="146" h="3655">
                <a:moveTo>
                  <a:pt x="73" y="0"/>
                </a:moveTo>
                <a:lnTo>
                  <a:pt x="0" y="37"/>
                </a:lnTo>
                <a:lnTo>
                  <a:pt x="0" y="3655"/>
                </a:lnTo>
                <a:lnTo>
                  <a:pt x="146" y="3655"/>
                </a:lnTo>
                <a:lnTo>
                  <a:pt x="146" y="37"/>
                </a:lnTo>
                <a:lnTo>
                  <a:pt x="73" y="68"/>
                </a:lnTo>
                <a:lnTo>
                  <a:pt x="73" y="0"/>
                </a:lnTo>
                <a:lnTo>
                  <a:pt x="0" y="0"/>
                </a:lnTo>
                <a:lnTo>
                  <a:pt x="0" y="37"/>
                </a:lnTo>
                <a:lnTo>
                  <a:pt x="73"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0" y="765000"/>
            <a:ext cx="2411280" cy="2959200"/>
          </a:xfrm>
          <a:custGeom>
            <a:avLst/>
            <a:gdLst/>
            <a:ahLst/>
            <a:rect l="l" t="t" r="r" b="b"/>
            <a:pathLst>
              <a:path w="1519" h="1864">
                <a:moveTo>
                  <a:pt x="1519" y="0"/>
                </a:moveTo>
                <a:lnTo>
                  <a:pt x="1487" y="31"/>
                </a:lnTo>
                <a:lnTo>
                  <a:pt x="1456" y="63"/>
                </a:lnTo>
                <a:lnTo>
                  <a:pt x="1424" y="105"/>
                </a:lnTo>
                <a:lnTo>
                  <a:pt x="1393" y="147"/>
                </a:lnTo>
                <a:lnTo>
                  <a:pt x="1372" y="194"/>
                </a:lnTo>
                <a:lnTo>
                  <a:pt x="1341" y="241"/>
                </a:lnTo>
                <a:lnTo>
                  <a:pt x="1309" y="293"/>
                </a:lnTo>
                <a:lnTo>
                  <a:pt x="1278" y="351"/>
                </a:lnTo>
                <a:lnTo>
                  <a:pt x="1257" y="408"/>
                </a:lnTo>
                <a:lnTo>
                  <a:pt x="1225" y="471"/>
                </a:lnTo>
                <a:lnTo>
                  <a:pt x="1194" y="534"/>
                </a:lnTo>
                <a:lnTo>
                  <a:pt x="1162" y="597"/>
                </a:lnTo>
                <a:lnTo>
                  <a:pt x="1131" y="665"/>
                </a:lnTo>
                <a:lnTo>
                  <a:pt x="1110" y="733"/>
                </a:lnTo>
                <a:lnTo>
                  <a:pt x="1079" y="801"/>
                </a:lnTo>
                <a:lnTo>
                  <a:pt x="1047" y="874"/>
                </a:lnTo>
                <a:lnTo>
                  <a:pt x="1016" y="942"/>
                </a:lnTo>
                <a:lnTo>
                  <a:pt x="984" y="1011"/>
                </a:lnTo>
                <a:lnTo>
                  <a:pt x="943" y="1084"/>
                </a:lnTo>
                <a:lnTo>
                  <a:pt x="911" y="1152"/>
                </a:lnTo>
                <a:lnTo>
                  <a:pt x="880" y="1225"/>
                </a:lnTo>
                <a:lnTo>
                  <a:pt x="838" y="1293"/>
                </a:lnTo>
                <a:lnTo>
                  <a:pt x="806" y="1361"/>
                </a:lnTo>
                <a:lnTo>
                  <a:pt x="765" y="1424"/>
                </a:lnTo>
                <a:lnTo>
                  <a:pt x="723" y="1487"/>
                </a:lnTo>
                <a:lnTo>
                  <a:pt x="681" y="1550"/>
                </a:lnTo>
                <a:lnTo>
                  <a:pt x="628" y="1613"/>
                </a:lnTo>
                <a:lnTo>
                  <a:pt x="586" y="1670"/>
                </a:lnTo>
                <a:lnTo>
                  <a:pt x="534" y="1723"/>
                </a:lnTo>
                <a:lnTo>
                  <a:pt x="492" y="1775"/>
                </a:lnTo>
                <a:lnTo>
                  <a:pt x="440" y="1822"/>
                </a:lnTo>
                <a:lnTo>
                  <a:pt x="377" y="1864"/>
                </a:lnTo>
                <a:lnTo>
                  <a:pt x="10" y="1864"/>
                </a:lnTo>
                <a:lnTo>
                  <a:pt x="0" y="0"/>
                </a:lnTo>
                <a:lnTo>
                  <a:pt x="1519"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0" y="765000"/>
            <a:ext cx="2411280" cy="2959200"/>
          </a:xfrm>
          <a:custGeom>
            <a:avLst/>
            <a:gdLst/>
            <a:ahLst/>
            <a:rect l="l" t="t" r="r" b="b"/>
            <a:pathLst>
              <a:path w="1519" h="1864">
                <a:moveTo>
                  <a:pt x="1519" y="0"/>
                </a:moveTo>
                <a:lnTo>
                  <a:pt x="1487" y="31"/>
                </a:lnTo>
                <a:lnTo>
                  <a:pt x="1456" y="63"/>
                </a:lnTo>
                <a:lnTo>
                  <a:pt x="1424" y="105"/>
                </a:lnTo>
                <a:lnTo>
                  <a:pt x="1393" y="147"/>
                </a:lnTo>
                <a:lnTo>
                  <a:pt x="1372" y="194"/>
                </a:lnTo>
                <a:lnTo>
                  <a:pt x="1341" y="241"/>
                </a:lnTo>
                <a:lnTo>
                  <a:pt x="1309" y="293"/>
                </a:lnTo>
                <a:lnTo>
                  <a:pt x="1278" y="351"/>
                </a:lnTo>
                <a:lnTo>
                  <a:pt x="1257" y="408"/>
                </a:lnTo>
                <a:lnTo>
                  <a:pt x="1225" y="471"/>
                </a:lnTo>
                <a:lnTo>
                  <a:pt x="1194" y="534"/>
                </a:lnTo>
                <a:lnTo>
                  <a:pt x="1162" y="597"/>
                </a:lnTo>
                <a:lnTo>
                  <a:pt x="1131" y="665"/>
                </a:lnTo>
                <a:lnTo>
                  <a:pt x="1110" y="733"/>
                </a:lnTo>
                <a:lnTo>
                  <a:pt x="1079" y="801"/>
                </a:lnTo>
                <a:lnTo>
                  <a:pt x="1047" y="874"/>
                </a:lnTo>
                <a:lnTo>
                  <a:pt x="1016" y="942"/>
                </a:lnTo>
                <a:lnTo>
                  <a:pt x="984" y="1011"/>
                </a:lnTo>
                <a:lnTo>
                  <a:pt x="943" y="1084"/>
                </a:lnTo>
                <a:lnTo>
                  <a:pt x="911" y="1152"/>
                </a:lnTo>
                <a:lnTo>
                  <a:pt x="880" y="1225"/>
                </a:lnTo>
                <a:lnTo>
                  <a:pt x="838" y="1293"/>
                </a:lnTo>
                <a:lnTo>
                  <a:pt x="806" y="1361"/>
                </a:lnTo>
                <a:lnTo>
                  <a:pt x="765" y="1424"/>
                </a:lnTo>
                <a:lnTo>
                  <a:pt x="723" y="1487"/>
                </a:lnTo>
                <a:lnTo>
                  <a:pt x="681" y="1550"/>
                </a:lnTo>
                <a:lnTo>
                  <a:pt x="628" y="1613"/>
                </a:lnTo>
                <a:lnTo>
                  <a:pt x="586" y="1670"/>
                </a:lnTo>
                <a:lnTo>
                  <a:pt x="534" y="1723"/>
                </a:lnTo>
                <a:lnTo>
                  <a:pt x="492" y="1775"/>
                </a:lnTo>
                <a:lnTo>
                  <a:pt x="440" y="1822"/>
                </a:lnTo>
                <a:lnTo>
                  <a:pt x="377" y="1864"/>
                </a:lnTo>
                <a:lnTo>
                  <a:pt x="10" y="1864"/>
                </a:lnTo>
                <a:lnTo>
                  <a:pt x="0" y="0"/>
                </a:lnTo>
                <a:lnTo>
                  <a:pt x="1519" y="0"/>
                </a:lnTo>
              </a:path>
            </a:pathLst>
          </a:custGeom>
          <a:noFill/>
          <a:ln w="0">
            <a:solidFill>
              <a:srgbClr val="0e0d0c"/>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431640" y="765000"/>
            <a:ext cx="316080" cy="963720"/>
          </a:xfrm>
          <a:custGeom>
            <a:avLst/>
            <a:gdLst/>
            <a:ahLst/>
            <a:rect l="l" t="t" r="r" b="b"/>
            <a:pathLst>
              <a:path w="199" h="607">
                <a:moveTo>
                  <a:pt x="32" y="0"/>
                </a:moveTo>
                <a:lnTo>
                  <a:pt x="32" y="79"/>
                </a:lnTo>
                <a:lnTo>
                  <a:pt x="32" y="152"/>
                </a:lnTo>
                <a:lnTo>
                  <a:pt x="21" y="230"/>
                </a:lnTo>
                <a:lnTo>
                  <a:pt x="11" y="309"/>
                </a:lnTo>
                <a:lnTo>
                  <a:pt x="11" y="382"/>
                </a:lnTo>
                <a:lnTo>
                  <a:pt x="0" y="461"/>
                </a:lnTo>
                <a:lnTo>
                  <a:pt x="0" y="534"/>
                </a:lnTo>
                <a:lnTo>
                  <a:pt x="0" y="607"/>
                </a:lnTo>
                <a:lnTo>
                  <a:pt x="11" y="571"/>
                </a:lnTo>
                <a:lnTo>
                  <a:pt x="21" y="534"/>
                </a:lnTo>
                <a:lnTo>
                  <a:pt x="42" y="492"/>
                </a:lnTo>
                <a:lnTo>
                  <a:pt x="63" y="450"/>
                </a:lnTo>
                <a:lnTo>
                  <a:pt x="84" y="408"/>
                </a:lnTo>
                <a:lnTo>
                  <a:pt x="105" y="361"/>
                </a:lnTo>
                <a:lnTo>
                  <a:pt x="115" y="314"/>
                </a:lnTo>
                <a:lnTo>
                  <a:pt x="126" y="262"/>
                </a:lnTo>
                <a:lnTo>
                  <a:pt x="136" y="204"/>
                </a:lnTo>
                <a:lnTo>
                  <a:pt x="147" y="157"/>
                </a:lnTo>
                <a:lnTo>
                  <a:pt x="157" y="126"/>
                </a:lnTo>
                <a:lnTo>
                  <a:pt x="168" y="99"/>
                </a:lnTo>
                <a:lnTo>
                  <a:pt x="178" y="73"/>
                </a:lnTo>
                <a:lnTo>
                  <a:pt x="178" y="52"/>
                </a:lnTo>
                <a:lnTo>
                  <a:pt x="189" y="31"/>
                </a:lnTo>
                <a:lnTo>
                  <a:pt x="199" y="0"/>
                </a:lnTo>
                <a:lnTo>
                  <a:pt x="32" y="0"/>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230480" y="765000"/>
            <a:ext cx="298440" cy="349560"/>
          </a:xfrm>
          <a:custGeom>
            <a:avLst/>
            <a:gdLst/>
            <a:ahLst/>
            <a:rect l="l" t="t" r="r" b="b"/>
            <a:pathLst>
              <a:path w="188" h="220">
                <a:moveTo>
                  <a:pt x="0" y="0"/>
                </a:moveTo>
                <a:lnTo>
                  <a:pt x="10" y="42"/>
                </a:lnTo>
                <a:lnTo>
                  <a:pt x="21" y="73"/>
                </a:lnTo>
                <a:lnTo>
                  <a:pt x="21" y="105"/>
                </a:lnTo>
                <a:lnTo>
                  <a:pt x="10" y="131"/>
                </a:lnTo>
                <a:lnTo>
                  <a:pt x="10" y="152"/>
                </a:lnTo>
                <a:lnTo>
                  <a:pt x="0" y="178"/>
                </a:lnTo>
                <a:lnTo>
                  <a:pt x="0" y="199"/>
                </a:lnTo>
                <a:lnTo>
                  <a:pt x="0" y="220"/>
                </a:lnTo>
                <a:lnTo>
                  <a:pt x="42" y="194"/>
                </a:lnTo>
                <a:lnTo>
                  <a:pt x="73" y="162"/>
                </a:lnTo>
                <a:lnTo>
                  <a:pt x="105" y="136"/>
                </a:lnTo>
                <a:lnTo>
                  <a:pt x="126" y="105"/>
                </a:lnTo>
                <a:lnTo>
                  <a:pt x="146" y="73"/>
                </a:lnTo>
                <a:lnTo>
                  <a:pt x="157" y="47"/>
                </a:lnTo>
                <a:lnTo>
                  <a:pt x="178" y="21"/>
                </a:lnTo>
                <a:lnTo>
                  <a:pt x="188" y="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100080" y="3524400"/>
            <a:ext cx="82440" cy="199800"/>
          </a:xfrm>
          <a:custGeom>
            <a:avLst/>
            <a:gdLst/>
            <a:ahLst/>
            <a:rect l="l" t="t" r="r" b="b"/>
            <a:pathLst>
              <a:path w="52" h="126">
                <a:moveTo>
                  <a:pt x="0" y="126"/>
                </a:moveTo>
                <a:lnTo>
                  <a:pt x="0" y="95"/>
                </a:lnTo>
                <a:lnTo>
                  <a:pt x="0" y="63"/>
                </a:lnTo>
                <a:lnTo>
                  <a:pt x="0" y="32"/>
                </a:lnTo>
                <a:lnTo>
                  <a:pt x="0" y="0"/>
                </a:lnTo>
                <a:lnTo>
                  <a:pt x="10" y="27"/>
                </a:lnTo>
                <a:lnTo>
                  <a:pt x="21" y="53"/>
                </a:lnTo>
                <a:lnTo>
                  <a:pt x="21" y="74"/>
                </a:lnTo>
                <a:lnTo>
                  <a:pt x="31" y="89"/>
                </a:lnTo>
                <a:lnTo>
                  <a:pt x="42" y="100"/>
                </a:lnTo>
                <a:lnTo>
                  <a:pt x="52" y="105"/>
                </a:lnTo>
                <a:lnTo>
                  <a:pt x="52" y="116"/>
                </a:lnTo>
                <a:lnTo>
                  <a:pt x="52" y="126"/>
                </a:lnTo>
                <a:lnTo>
                  <a:pt x="0" y="126"/>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216000" y="3218040"/>
            <a:ext cx="166680" cy="506160"/>
          </a:xfrm>
          <a:custGeom>
            <a:avLst/>
            <a:gdLst/>
            <a:ahLst/>
            <a:rect l="l" t="t" r="r" b="b"/>
            <a:pathLst>
              <a:path w="105" h="319">
                <a:moveTo>
                  <a:pt x="73" y="319"/>
                </a:moveTo>
                <a:lnTo>
                  <a:pt x="42" y="272"/>
                </a:lnTo>
                <a:lnTo>
                  <a:pt x="31" y="230"/>
                </a:lnTo>
                <a:lnTo>
                  <a:pt x="31" y="193"/>
                </a:lnTo>
                <a:lnTo>
                  <a:pt x="52" y="157"/>
                </a:lnTo>
                <a:lnTo>
                  <a:pt x="63" y="120"/>
                </a:lnTo>
                <a:lnTo>
                  <a:pt x="84" y="83"/>
                </a:lnTo>
                <a:lnTo>
                  <a:pt x="105" y="42"/>
                </a:lnTo>
                <a:lnTo>
                  <a:pt x="105" y="0"/>
                </a:lnTo>
                <a:lnTo>
                  <a:pt x="94" y="42"/>
                </a:lnTo>
                <a:lnTo>
                  <a:pt x="73" y="83"/>
                </a:lnTo>
                <a:lnTo>
                  <a:pt x="42" y="125"/>
                </a:lnTo>
                <a:lnTo>
                  <a:pt x="31" y="162"/>
                </a:lnTo>
                <a:lnTo>
                  <a:pt x="11" y="199"/>
                </a:lnTo>
                <a:lnTo>
                  <a:pt x="0" y="235"/>
                </a:lnTo>
                <a:lnTo>
                  <a:pt x="11" y="277"/>
                </a:lnTo>
                <a:lnTo>
                  <a:pt x="21" y="319"/>
                </a:lnTo>
                <a:lnTo>
                  <a:pt x="73" y="319"/>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398520" y="3251160"/>
            <a:ext cx="299880" cy="473040"/>
          </a:xfrm>
          <a:custGeom>
            <a:avLst/>
            <a:gdLst/>
            <a:ahLst/>
            <a:rect l="l" t="t" r="r" b="b"/>
            <a:pathLst>
              <a:path w="189" h="298">
                <a:moveTo>
                  <a:pt x="0" y="298"/>
                </a:moveTo>
                <a:lnTo>
                  <a:pt x="0" y="277"/>
                </a:lnTo>
                <a:lnTo>
                  <a:pt x="21" y="240"/>
                </a:lnTo>
                <a:lnTo>
                  <a:pt x="42" y="193"/>
                </a:lnTo>
                <a:lnTo>
                  <a:pt x="74" y="146"/>
                </a:lnTo>
                <a:lnTo>
                  <a:pt x="94" y="99"/>
                </a:lnTo>
                <a:lnTo>
                  <a:pt x="126" y="57"/>
                </a:lnTo>
                <a:lnTo>
                  <a:pt x="157" y="26"/>
                </a:lnTo>
                <a:lnTo>
                  <a:pt x="189" y="0"/>
                </a:lnTo>
                <a:lnTo>
                  <a:pt x="157" y="41"/>
                </a:lnTo>
                <a:lnTo>
                  <a:pt x="136" y="89"/>
                </a:lnTo>
                <a:lnTo>
                  <a:pt x="115" y="130"/>
                </a:lnTo>
                <a:lnTo>
                  <a:pt x="94" y="172"/>
                </a:lnTo>
                <a:lnTo>
                  <a:pt x="74" y="209"/>
                </a:lnTo>
                <a:lnTo>
                  <a:pt x="63" y="246"/>
                </a:lnTo>
                <a:lnTo>
                  <a:pt x="63" y="277"/>
                </a:lnTo>
                <a:lnTo>
                  <a:pt x="53" y="298"/>
                </a:lnTo>
                <a:lnTo>
                  <a:pt x="0" y="298"/>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0" y="3832200"/>
            <a:ext cx="2260440" cy="3025800"/>
          </a:xfrm>
          <a:custGeom>
            <a:avLst/>
            <a:gdLst/>
            <a:ahLst/>
            <a:rect l="l" t="t" r="r" b="b"/>
            <a:pathLst>
              <a:path w="1424" h="1906">
                <a:moveTo>
                  <a:pt x="0" y="105"/>
                </a:moveTo>
                <a:lnTo>
                  <a:pt x="0" y="1906"/>
                </a:lnTo>
                <a:lnTo>
                  <a:pt x="1424" y="1906"/>
                </a:lnTo>
                <a:lnTo>
                  <a:pt x="1393" y="1880"/>
                </a:lnTo>
                <a:lnTo>
                  <a:pt x="1361" y="1854"/>
                </a:lnTo>
                <a:lnTo>
                  <a:pt x="1341" y="1827"/>
                </a:lnTo>
                <a:lnTo>
                  <a:pt x="1320" y="1796"/>
                </a:lnTo>
                <a:lnTo>
                  <a:pt x="1299" y="1765"/>
                </a:lnTo>
                <a:lnTo>
                  <a:pt x="1278" y="1733"/>
                </a:lnTo>
                <a:lnTo>
                  <a:pt x="1267" y="1702"/>
                </a:lnTo>
                <a:lnTo>
                  <a:pt x="1246" y="1665"/>
                </a:lnTo>
                <a:lnTo>
                  <a:pt x="1236" y="1628"/>
                </a:lnTo>
                <a:lnTo>
                  <a:pt x="1225" y="1592"/>
                </a:lnTo>
                <a:lnTo>
                  <a:pt x="1215" y="1555"/>
                </a:lnTo>
                <a:lnTo>
                  <a:pt x="1204" y="1513"/>
                </a:lnTo>
                <a:lnTo>
                  <a:pt x="1194" y="1471"/>
                </a:lnTo>
                <a:lnTo>
                  <a:pt x="1194" y="1435"/>
                </a:lnTo>
                <a:lnTo>
                  <a:pt x="1183" y="1393"/>
                </a:lnTo>
                <a:lnTo>
                  <a:pt x="1173" y="1351"/>
                </a:lnTo>
                <a:lnTo>
                  <a:pt x="1162" y="1293"/>
                </a:lnTo>
                <a:lnTo>
                  <a:pt x="1162" y="1241"/>
                </a:lnTo>
                <a:lnTo>
                  <a:pt x="1152" y="1183"/>
                </a:lnTo>
                <a:lnTo>
                  <a:pt x="1152" y="1126"/>
                </a:lnTo>
                <a:lnTo>
                  <a:pt x="1142" y="1063"/>
                </a:lnTo>
                <a:lnTo>
                  <a:pt x="1131" y="995"/>
                </a:lnTo>
                <a:lnTo>
                  <a:pt x="1110" y="916"/>
                </a:lnTo>
                <a:lnTo>
                  <a:pt x="1089" y="827"/>
                </a:lnTo>
                <a:lnTo>
                  <a:pt x="1079" y="775"/>
                </a:lnTo>
                <a:lnTo>
                  <a:pt x="1058" y="728"/>
                </a:lnTo>
                <a:lnTo>
                  <a:pt x="1026" y="676"/>
                </a:lnTo>
                <a:lnTo>
                  <a:pt x="995" y="623"/>
                </a:lnTo>
                <a:lnTo>
                  <a:pt x="963" y="576"/>
                </a:lnTo>
                <a:lnTo>
                  <a:pt x="922" y="524"/>
                </a:lnTo>
                <a:lnTo>
                  <a:pt x="880" y="471"/>
                </a:lnTo>
                <a:lnTo>
                  <a:pt x="838" y="419"/>
                </a:lnTo>
                <a:lnTo>
                  <a:pt x="785" y="367"/>
                </a:lnTo>
                <a:lnTo>
                  <a:pt x="733" y="314"/>
                </a:lnTo>
                <a:lnTo>
                  <a:pt x="681" y="262"/>
                </a:lnTo>
                <a:lnTo>
                  <a:pt x="618" y="210"/>
                </a:lnTo>
                <a:lnTo>
                  <a:pt x="566" y="157"/>
                </a:lnTo>
                <a:lnTo>
                  <a:pt x="503" y="105"/>
                </a:lnTo>
                <a:lnTo>
                  <a:pt x="450" y="52"/>
                </a:lnTo>
                <a:lnTo>
                  <a:pt x="387" y="0"/>
                </a:lnTo>
                <a:lnTo>
                  <a:pt x="0" y="105"/>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0" y="3832200"/>
            <a:ext cx="2260440" cy="3025800"/>
          </a:xfrm>
          <a:custGeom>
            <a:avLst/>
            <a:gdLst/>
            <a:ahLst/>
            <a:rect l="l" t="t" r="r" b="b"/>
            <a:pathLst>
              <a:path w="1424" h="1906">
                <a:moveTo>
                  <a:pt x="0" y="105"/>
                </a:moveTo>
                <a:lnTo>
                  <a:pt x="0" y="1906"/>
                </a:lnTo>
                <a:lnTo>
                  <a:pt x="1424" y="1906"/>
                </a:lnTo>
                <a:lnTo>
                  <a:pt x="1393" y="1880"/>
                </a:lnTo>
                <a:lnTo>
                  <a:pt x="1361" y="1854"/>
                </a:lnTo>
                <a:lnTo>
                  <a:pt x="1341" y="1827"/>
                </a:lnTo>
                <a:lnTo>
                  <a:pt x="1320" y="1796"/>
                </a:lnTo>
                <a:lnTo>
                  <a:pt x="1299" y="1765"/>
                </a:lnTo>
                <a:lnTo>
                  <a:pt x="1278" y="1733"/>
                </a:lnTo>
                <a:lnTo>
                  <a:pt x="1267" y="1702"/>
                </a:lnTo>
                <a:lnTo>
                  <a:pt x="1246" y="1665"/>
                </a:lnTo>
                <a:lnTo>
                  <a:pt x="1236" y="1628"/>
                </a:lnTo>
                <a:lnTo>
                  <a:pt x="1225" y="1592"/>
                </a:lnTo>
                <a:lnTo>
                  <a:pt x="1215" y="1555"/>
                </a:lnTo>
                <a:lnTo>
                  <a:pt x="1204" y="1513"/>
                </a:lnTo>
                <a:lnTo>
                  <a:pt x="1194" y="1471"/>
                </a:lnTo>
                <a:lnTo>
                  <a:pt x="1194" y="1435"/>
                </a:lnTo>
                <a:lnTo>
                  <a:pt x="1183" y="1393"/>
                </a:lnTo>
                <a:lnTo>
                  <a:pt x="1173" y="1351"/>
                </a:lnTo>
                <a:lnTo>
                  <a:pt x="1162" y="1293"/>
                </a:lnTo>
                <a:lnTo>
                  <a:pt x="1162" y="1241"/>
                </a:lnTo>
                <a:lnTo>
                  <a:pt x="1152" y="1183"/>
                </a:lnTo>
                <a:lnTo>
                  <a:pt x="1152" y="1126"/>
                </a:lnTo>
                <a:lnTo>
                  <a:pt x="1142" y="1063"/>
                </a:lnTo>
                <a:lnTo>
                  <a:pt x="1131" y="995"/>
                </a:lnTo>
                <a:lnTo>
                  <a:pt x="1110" y="916"/>
                </a:lnTo>
                <a:lnTo>
                  <a:pt x="1089" y="827"/>
                </a:lnTo>
                <a:lnTo>
                  <a:pt x="1079" y="775"/>
                </a:lnTo>
                <a:lnTo>
                  <a:pt x="1058" y="728"/>
                </a:lnTo>
                <a:lnTo>
                  <a:pt x="1026" y="676"/>
                </a:lnTo>
                <a:lnTo>
                  <a:pt x="995" y="623"/>
                </a:lnTo>
                <a:lnTo>
                  <a:pt x="963" y="576"/>
                </a:lnTo>
                <a:lnTo>
                  <a:pt x="922" y="524"/>
                </a:lnTo>
                <a:lnTo>
                  <a:pt x="880" y="471"/>
                </a:lnTo>
                <a:lnTo>
                  <a:pt x="838" y="419"/>
                </a:lnTo>
                <a:lnTo>
                  <a:pt x="785" y="367"/>
                </a:lnTo>
                <a:lnTo>
                  <a:pt x="733" y="314"/>
                </a:lnTo>
                <a:lnTo>
                  <a:pt x="681" y="262"/>
                </a:lnTo>
                <a:lnTo>
                  <a:pt x="618" y="210"/>
                </a:lnTo>
                <a:lnTo>
                  <a:pt x="566" y="157"/>
                </a:lnTo>
                <a:lnTo>
                  <a:pt x="503" y="105"/>
                </a:lnTo>
                <a:lnTo>
                  <a:pt x="450" y="52"/>
                </a:lnTo>
                <a:lnTo>
                  <a:pt x="387" y="0"/>
                </a:lnTo>
                <a:lnTo>
                  <a:pt x="0" y="105"/>
                </a:lnTo>
              </a:path>
            </a:pathLst>
          </a:custGeom>
          <a:noFill/>
          <a:ln w="0">
            <a:solidFill>
              <a:srgbClr val="0e0d0c"/>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431640" y="3849840"/>
            <a:ext cx="200160" cy="298440"/>
          </a:xfrm>
          <a:custGeom>
            <a:avLst/>
            <a:gdLst/>
            <a:ahLst/>
            <a:rect l="l" t="t" r="r" b="b"/>
            <a:pathLst>
              <a:path w="126" h="188">
                <a:moveTo>
                  <a:pt x="0" y="21"/>
                </a:moveTo>
                <a:lnTo>
                  <a:pt x="11" y="36"/>
                </a:lnTo>
                <a:lnTo>
                  <a:pt x="32" y="52"/>
                </a:lnTo>
                <a:lnTo>
                  <a:pt x="42" y="68"/>
                </a:lnTo>
                <a:lnTo>
                  <a:pt x="53" y="83"/>
                </a:lnTo>
                <a:lnTo>
                  <a:pt x="74" y="104"/>
                </a:lnTo>
                <a:lnTo>
                  <a:pt x="84" y="120"/>
                </a:lnTo>
                <a:lnTo>
                  <a:pt x="95" y="136"/>
                </a:lnTo>
                <a:lnTo>
                  <a:pt x="105" y="151"/>
                </a:lnTo>
                <a:lnTo>
                  <a:pt x="115" y="157"/>
                </a:lnTo>
                <a:lnTo>
                  <a:pt x="115" y="167"/>
                </a:lnTo>
                <a:lnTo>
                  <a:pt x="126" y="178"/>
                </a:lnTo>
                <a:lnTo>
                  <a:pt x="126" y="188"/>
                </a:lnTo>
                <a:lnTo>
                  <a:pt x="126" y="162"/>
                </a:lnTo>
                <a:lnTo>
                  <a:pt x="115" y="141"/>
                </a:lnTo>
                <a:lnTo>
                  <a:pt x="115" y="115"/>
                </a:lnTo>
                <a:lnTo>
                  <a:pt x="105" y="94"/>
                </a:lnTo>
                <a:lnTo>
                  <a:pt x="95" y="68"/>
                </a:lnTo>
                <a:lnTo>
                  <a:pt x="84" y="47"/>
                </a:lnTo>
                <a:lnTo>
                  <a:pt x="84" y="21"/>
                </a:lnTo>
                <a:lnTo>
                  <a:pt x="74" y="0"/>
                </a:lnTo>
                <a:lnTo>
                  <a:pt x="0" y="21"/>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31920" y="3890880"/>
            <a:ext cx="83880" cy="157320"/>
          </a:xfrm>
          <a:custGeom>
            <a:avLst/>
            <a:gdLst/>
            <a:ahLst/>
            <a:rect l="l" t="t" r="r" b="b"/>
            <a:pathLst>
              <a:path w="53" h="99">
                <a:moveTo>
                  <a:pt x="42" y="0"/>
                </a:moveTo>
                <a:lnTo>
                  <a:pt x="53" y="21"/>
                </a:lnTo>
                <a:lnTo>
                  <a:pt x="53" y="52"/>
                </a:lnTo>
                <a:lnTo>
                  <a:pt x="42" y="78"/>
                </a:lnTo>
                <a:lnTo>
                  <a:pt x="32" y="99"/>
                </a:lnTo>
                <a:lnTo>
                  <a:pt x="32" y="89"/>
                </a:lnTo>
                <a:lnTo>
                  <a:pt x="32" y="78"/>
                </a:lnTo>
                <a:lnTo>
                  <a:pt x="21" y="63"/>
                </a:lnTo>
                <a:lnTo>
                  <a:pt x="11" y="52"/>
                </a:lnTo>
                <a:lnTo>
                  <a:pt x="11" y="42"/>
                </a:lnTo>
                <a:lnTo>
                  <a:pt x="0" y="31"/>
                </a:lnTo>
                <a:lnTo>
                  <a:pt x="0" y="21"/>
                </a:lnTo>
                <a:lnTo>
                  <a:pt x="0" y="10"/>
                </a:lnTo>
                <a:lnTo>
                  <a:pt x="42" y="0"/>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0" y="3940200"/>
            <a:ext cx="149400" cy="515880"/>
          </a:xfrm>
          <a:custGeom>
            <a:avLst/>
            <a:gdLst/>
            <a:ahLst/>
            <a:rect l="l" t="t" r="r" b="b"/>
            <a:pathLst>
              <a:path w="94" h="325">
                <a:moveTo>
                  <a:pt x="94" y="0"/>
                </a:moveTo>
                <a:lnTo>
                  <a:pt x="94" y="42"/>
                </a:lnTo>
                <a:lnTo>
                  <a:pt x="94" y="79"/>
                </a:lnTo>
                <a:lnTo>
                  <a:pt x="84" y="121"/>
                </a:lnTo>
                <a:lnTo>
                  <a:pt x="73" y="162"/>
                </a:lnTo>
                <a:lnTo>
                  <a:pt x="63" y="204"/>
                </a:lnTo>
                <a:lnTo>
                  <a:pt x="52" y="246"/>
                </a:lnTo>
                <a:lnTo>
                  <a:pt x="42" y="288"/>
                </a:lnTo>
                <a:lnTo>
                  <a:pt x="42" y="325"/>
                </a:lnTo>
                <a:lnTo>
                  <a:pt x="21" y="257"/>
                </a:lnTo>
                <a:lnTo>
                  <a:pt x="21" y="189"/>
                </a:lnTo>
                <a:lnTo>
                  <a:pt x="21" y="115"/>
                </a:lnTo>
                <a:lnTo>
                  <a:pt x="10" y="53"/>
                </a:lnTo>
                <a:lnTo>
                  <a:pt x="10" y="47"/>
                </a:lnTo>
                <a:lnTo>
                  <a:pt x="0" y="37"/>
                </a:lnTo>
                <a:lnTo>
                  <a:pt x="0" y="32"/>
                </a:lnTo>
                <a:lnTo>
                  <a:pt x="0" y="21"/>
                </a:lnTo>
                <a:lnTo>
                  <a:pt x="94" y="0"/>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98440" y="5719680"/>
            <a:ext cx="449280" cy="1138320"/>
          </a:xfrm>
          <a:custGeom>
            <a:avLst/>
            <a:gdLst/>
            <a:ahLst/>
            <a:rect l="l" t="t" r="r" b="b"/>
            <a:pathLst>
              <a:path w="283" h="717">
                <a:moveTo>
                  <a:pt x="53" y="712"/>
                </a:moveTo>
                <a:lnTo>
                  <a:pt x="63" y="602"/>
                </a:lnTo>
                <a:lnTo>
                  <a:pt x="53" y="497"/>
                </a:lnTo>
                <a:lnTo>
                  <a:pt x="53" y="403"/>
                </a:lnTo>
                <a:lnTo>
                  <a:pt x="32" y="314"/>
                </a:lnTo>
                <a:lnTo>
                  <a:pt x="21" y="230"/>
                </a:lnTo>
                <a:lnTo>
                  <a:pt x="11" y="146"/>
                </a:lnTo>
                <a:lnTo>
                  <a:pt x="0" y="73"/>
                </a:lnTo>
                <a:lnTo>
                  <a:pt x="0" y="0"/>
                </a:lnTo>
                <a:lnTo>
                  <a:pt x="11" y="47"/>
                </a:lnTo>
                <a:lnTo>
                  <a:pt x="32" y="94"/>
                </a:lnTo>
                <a:lnTo>
                  <a:pt x="53" y="152"/>
                </a:lnTo>
                <a:lnTo>
                  <a:pt x="74" y="214"/>
                </a:lnTo>
                <a:lnTo>
                  <a:pt x="95" y="277"/>
                </a:lnTo>
                <a:lnTo>
                  <a:pt x="105" y="340"/>
                </a:lnTo>
                <a:lnTo>
                  <a:pt x="126" y="408"/>
                </a:lnTo>
                <a:lnTo>
                  <a:pt x="137" y="466"/>
                </a:lnTo>
                <a:lnTo>
                  <a:pt x="137" y="497"/>
                </a:lnTo>
                <a:lnTo>
                  <a:pt x="147" y="529"/>
                </a:lnTo>
                <a:lnTo>
                  <a:pt x="157" y="560"/>
                </a:lnTo>
                <a:lnTo>
                  <a:pt x="178" y="591"/>
                </a:lnTo>
                <a:lnTo>
                  <a:pt x="199" y="623"/>
                </a:lnTo>
                <a:lnTo>
                  <a:pt x="220" y="654"/>
                </a:lnTo>
                <a:lnTo>
                  <a:pt x="252" y="686"/>
                </a:lnTo>
                <a:lnTo>
                  <a:pt x="283" y="717"/>
                </a:lnTo>
                <a:lnTo>
                  <a:pt x="53" y="712"/>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0480" y="6200640"/>
            <a:ext cx="349200" cy="657360"/>
          </a:xfrm>
          <a:custGeom>
            <a:avLst/>
            <a:gdLst/>
            <a:ahLst/>
            <a:rect l="l" t="t" r="r" b="b"/>
            <a:pathLst>
              <a:path w="220" h="414">
                <a:moveTo>
                  <a:pt x="84" y="414"/>
                </a:moveTo>
                <a:lnTo>
                  <a:pt x="73" y="393"/>
                </a:lnTo>
                <a:lnTo>
                  <a:pt x="73" y="377"/>
                </a:lnTo>
                <a:lnTo>
                  <a:pt x="63" y="356"/>
                </a:lnTo>
                <a:lnTo>
                  <a:pt x="52" y="335"/>
                </a:lnTo>
                <a:lnTo>
                  <a:pt x="42" y="320"/>
                </a:lnTo>
                <a:lnTo>
                  <a:pt x="31" y="299"/>
                </a:lnTo>
                <a:lnTo>
                  <a:pt x="21" y="278"/>
                </a:lnTo>
                <a:lnTo>
                  <a:pt x="21" y="262"/>
                </a:lnTo>
                <a:lnTo>
                  <a:pt x="10" y="199"/>
                </a:lnTo>
                <a:lnTo>
                  <a:pt x="0" y="142"/>
                </a:lnTo>
                <a:lnTo>
                  <a:pt x="0" y="79"/>
                </a:lnTo>
                <a:lnTo>
                  <a:pt x="21" y="0"/>
                </a:lnTo>
                <a:lnTo>
                  <a:pt x="31" y="53"/>
                </a:lnTo>
                <a:lnTo>
                  <a:pt x="42" y="100"/>
                </a:lnTo>
                <a:lnTo>
                  <a:pt x="52" y="152"/>
                </a:lnTo>
                <a:lnTo>
                  <a:pt x="73" y="205"/>
                </a:lnTo>
                <a:lnTo>
                  <a:pt x="94" y="257"/>
                </a:lnTo>
                <a:lnTo>
                  <a:pt x="126" y="309"/>
                </a:lnTo>
                <a:lnTo>
                  <a:pt x="167" y="362"/>
                </a:lnTo>
                <a:lnTo>
                  <a:pt x="220" y="414"/>
                </a:lnTo>
                <a:lnTo>
                  <a:pt x="84" y="414"/>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3724200"/>
            <a:ext cx="665280" cy="282600"/>
          </a:xfrm>
          <a:custGeom>
            <a:avLst/>
            <a:gdLst/>
            <a:ahLst/>
            <a:rect l="l" t="t" r="r" b="b"/>
            <a:pathLst>
              <a:path w="419" h="178">
                <a:moveTo>
                  <a:pt x="0" y="0"/>
                </a:moveTo>
                <a:lnTo>
                  <a:pt x="419" y="0"/>
                </a:lnTo>
                <a:lnTo>
                  <a:pt x="419" y="63"/>
                </a:lnTo>
                <a:lnTo>
                  <a:pt x="0" y="178"/>
                </a:lnTo>
                <a:lnTo>
                  <a:pt x="0" y="0"/>
                </a:lnTo>
                <a:close/>
              </a:path>
            </a:pathLst>
          </a:custGeom>
          <a:solidFill>
            <a:srgbClr val="ffb30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3724200"/>
            <a:ext cx="665280" cy="282600"/>
          </a:xfrm>
          <a:custGeom>
            <a:avLst/>
            <a:gdLst/>
            <a:ahLst/>
            <a:rect l="l" t="t" r="r" b="b"/>
            <a:pathLst>
              <a:path w="419" h="178">
                <a:moveTo>
                  <a:pt x="0" y="0"/>
                </a:moveTo>
                <a:lnTo>
                  <a:pt x="419" y="0"/>
                </a:lnTo>
                <a:lnTo>
                  <a:pt x="419" y="63"/>
                </a:lnTo>
                <a:lnTo>
                  <a:pt x="0" y="178"/>
                </a:lnTo>
                <a:lnTo>
                  <a:pt x="0" y="0"/>
                </a:lnTo>
              </a:path>
            </a:pathLst>
          </a:custGeom>
          <a:noFill/>
          <a:ln w="0">
            <a:solidFill>
              <a:srgbClr val="0e0d0c"/>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732720" y="765000"/>
            <a:ext cx="2411280" cy="2959200"/>
          </a:xfrm>
          <a:custGeom>
            <a:avLst/>
            <a:gdLst/>
            <a:ahLst/>
            <a:rect l="l" t="t" r="r" b="b"/>
            <a:pathLst>
              <a:path w="1519" h="1864">
                <a:moveTo>
                  <a:pt x="0" y="0"/>
                </a:moveTo>
                <a:lnTo>
                  <a:pt x="32" y="31"/>
                </a:lnTo>
                <a:lnTo>
                  <a:pt x="63" y="63"/>
                </a:lnTo>
                <a:lnTo>
                  <a:pt x="95" y="105"/>
                </a:lnTo>
                <a:lnTo>
                  <a:pt x="126" y="147"/>
                </a:lnTo>
                <a:lnTo>
                  <a:pt x="147" y="194"/>
                </a:lnTo>
                <a:lnTo>
                  <a:pt x="178" y="241"/>
                </a:lnTo>
                <a:lnTo>
                  <a:pt x="210" y="293"/>
                </a:lnTo>
                <a:lnTo>
                  <a:pt x="241" y="351"/>
                </a:lnTo>
                <a:lnTo>
                  <a:pt x="262" y="408"/>
                </a:lnTo>
                <a:lnTo>
                  <a:pt x="294" y="471"/>
                </a:lnTo>
                <a:lnTo>
                  <a:pt x="325" y="534"/>
                </a:lnTo>
                <a:lnTo>
                  <a:pt x="357" y="597"/>
                </a:lnTo>
                <a:lnTo>
                  <a:pt x="388" y="665"/>
                </a:lnTo>
                <a:lnTo>
                  <a:pt x="409" y="733"/>
                </a:lnTo>
                <a:lnTo>
                  <a:pt x="440" y="801"/>
                </a:lnTo>
                <a:lnTo>
                  <a:pt x="472" y="874"/>
                </a:lnTo>
                <a:lnTo>
                  <a:pt x="503" y="942"/>
                </a:lnTo>
                <a:lnTo>
                  <a:pt x="535" y="1011"/>
                </a:lnTo>
                <a:lnTo>
                  <a:pt x="576" y="1084"/>
                </a:lnTo>
                <a:lnTo>
                  <a:pt x="608" y="1152"/>
                </a:lnTo>
                <a:lnTo>
                  <a:pt x="639" y="1225"/>
                </a:lnTo>
                <a:lnTo>
                  <a:pt x="681" y="1293"/>
                </a:lnTo>
                <a:lnTo>
                  <a:pt x="713" y="1361"/>
                </a:lnTo>
                <a:lnTo>
                  <a:pt x="754" y="1424"/>
                </a:lnTo>
                <a:lnTo>
                  <a:pt x="796" y="1487"/>
                </a:lnTo>
                <a:lnTo>
                  <a:pt x="838" y="1550"/>
                </a:lnTo>
                <a:lnTo>
                  <a:pt x="891" y="1613"/>
                </a:lnTo>
                <a:lnTo>
                  <a:pt x="933" y="1670"/>
                </a:lnTo>
                <a:lnTo>
                  <a:pt x="985" y="1723"/>
                </a:lnTo>
                <a:lnTo>
                  <a:pt x="1027" y="1775"/>
                </a:lnTo>
                <a:lnTo>
                  <a:pt x="1079" y="1822"/>
                </a:lnTo>
                <a:lnTo>
                  <a:pt x="1142" y="1864"/>
                </a:lnTo>
                <a:lnTo>
                  <a:pt x="1509" y="1864"/>
                </a:lnTo>
                <a:lnTo>
                  <a:pt x="1519" y="0"/>
                </a:lnTo>
                <a:lnTo>
                  <a:pt x="0"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732720" y="765000"/>
            <a:ext cx="2411280" cy="2959200"/>
          </a:xfrm>
          <a:custGeom>
            <a:avLst/>
            <a:gdLst/>
            <a:ahLst/>
            <a:rect l="l" t="t" r="r" b="b"/>
            <a:pathLst>
              <a:path w="1519" h="1864">
                <a:moveTo>
                  <a:pt x="0" y="0"/>
                </a:moveTo>
                <a:lnTo>
                  <a:pt x="32" y="31"/>
                </a:lnTo>
                <a:lnTo>
                  <a:pt x="63" y="63"/>
                </a:lnTo>
                <a:lnTo>
                  <a:pt x="95" y="105"/>
                </a:lnTo>
                <a:lnTo>
                  <a:pt x="126" y="147"/>
                </a:lnTo>
                <a:lnTo>
                  <a:pt x="147" y="194"/>
                </a:lnTo>
                <a:lnTo>
                  <a:pt x="178" y="241"/>
                </a:lnTo>
                <a:lnTo>
                  <a:pt x="210" y="293"/>
                </a:lnTo>
                <a:lnTo>
                  <a:pt x="241" y="351"/>
                </a:lnTo>
                <a:lnTo>
                  <a:pt x="262" y="408"/>
                </a:lnTo>
                <a:lnTo>
                  <a:pt x="294" y="471"/>
                </a:lnTo>
                <a:lnTo>
                  <a:pt x="325" y="534"/>
                </a:lnTo>
                <a:lnTo>
                  <a:pt x="357" y="597"/>
                </a:lnTo>
                <a:lnTo>
                  <a:pt x="388" y="665"/>
                </a:lnTo>
                <a:lnTo>
                  <a:pt x="409" y="733"/>
                </a:lnTo>
                <a:lnTo>
                  <a:pt x="440" y="801"/>
                </a:lnTo>
                <a:lnTo>
                  <a:pt x="472" y="874"/>
                </a:lnTo>
                <a:lnTo>
                  <a:pt x="503" y="942"/>
                </a:lnTo>
                <a:lnTo>
                  <a:pt x="535" y="1011"/>
                </a:lnTo>
                <a:lnTo>
                  <a:pt x="576" y="1084"/>
                </a:lnTo>
                <a:lnTo>
                  <a:pt x="608" y="1152"/>
                </a:lnTo>
                <a:lnTo>
                  <a:pt x="639" y="1225"/>
                </a:lnTo>
                <a:lnTo>
                  <a:pt x="681" y="1293"/>
                </a:lnTo>
                <a:lnTo>
                  <a:pt x="713" y="1361"/>
                </a:lnTo>
                <a:lnTo>
                  <a:pt x="754" y="1424"/>
                </a:lnTo>
                <a:lnTo>
                  <a:pt x="796" y="1487"/>
                </a:lnTo>
                <a:lnTo>
                  <a:pt x="838" y="1550"/>
                </a:lnTo>
                <a:lnTo>
                  <a:pt x="891" y="1613"/>
                </a:lnTo>
                <a:lnTo>
                  <a:pt x="933" y="1670"/>
                </a:lnTo>
                <a:lnTo>
                  <a:pt x="985" y="1723"/>
                </a:lnTo>
                <a:lnTo>
                  <a:pt x="1027" y="1775"/>
                </a:lnTo>
                <a:lnTo>
                  <a:pt x="1079" y="1822"/>
                </a:lnTo>
                <a:lnTo>
                  <a:pt x="1142" y="1864"/>
                </a:lnTo>
                <a:lnTo>
                  <a:pt x="1509" y="1864"/>
                </a:lnTo>
                <a:lnTo>
                  <a:pt x="1519" y="0"/>
                </a:lnTo>
                <a:lnTo>
                  <a:pt x="0" y="0"/>
                </a:lnTo>
              </a:path>
            </a:pathLst>
          </a:custGeom>
          <a:noFill/>
          <a:ln w="0">
            <a:solidFill>
              <a:srgbClr val="0e0d0c"/>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8263080" y="765000"/>
            <a:ext cx="315720" cy="963720"/>
          </a:xfrm>
          <a:custGeom>
            <a:avLst/>
            <a:gdLst/>
            <a:ahLst/>
            <a:rect l="l" t="t" r="r" b="b"/>
            <a:pathLst>
              <a:path w="199" h="607">
                <a:moveTo>
                  <a:pt x="167" y="0"/>
                </a:moveTo>
                <a:lnTo>
                  <a:pt x="167" y="79"/>
                </a:lnTo>
                <a:lnTo>
                  <a:pt x="167" y="152"/>
                </a:lnTo>
                <a:lnTo>
                  <a:pt x="178" y="230"/>
                </a:lnTo>
                <a:lnTo>
                  <a:pt x="188" y="309"/>
                </a:lnTo>
                <a:lnTo>
                  <a:pt x="188" y="382"/>
                </a:lnTo>
                <a:lnTo>
                  <a:pt x="199" y="461"/>
                </a:lnTo>
                <a:lnTo>
                  <a:pt x="199" y="534"/>
                </a:lnTo>
                <a:lnTo>
                  <a:pt x="199" y="607"/>
                </a:lnTo>
                <a:lnTo>
                  <a:pt x="188" y="571"/>
                </a:lnTo>
                <a:lnTo>
                  <a:pt x="178" y="534"/>
                </a:lnTo>
                <a:lnTo>
                  <a:pt x="157" y="492"/>
                </a:lnTo>
                <a:lnTo>
                  <a:pt x="136" y="450"/>
                </a:lnTo>
                <a:lnTo>
                  <a:pt x="115" y="408"/>
                </a:lnTo>
                <a:lnTo>
                  <a:pt x="94" y="361"/>
                </a:lnTo>
                <a:lnTo>
                  <a:pt x="84" y="314"/>
                </a:lnTo>
                <a:lnTo>
                  <a:pt x="73" y="262"/>
                </a:lnTo>
                <a:lnTo>
                  <a:pt x="63" y="204"/>
                </a:lnTo>
                <a:lnTo>
                  <a:pt x="52" y="157"/>
                </a:lnTo>
                <a:lnTo>
                  <a:pt x="42" y="126"/>
                </a:lnTo>
                <a:lnTo>
                  <a:pt x="31" y="99"/>
                </a:lnTo>
                <a:lnTo>
                  <a:pt x="21" y="73"/>
                </a:lnTo>
                <a:lnTo>
                  <a:pt x="21" y="52"/>
                </a:lnTo>
                <a:lnTo>
                  <a:pt x="10" y="31"/>
                </a:lnTo>
                <a:lnTo>
                  <a:pt x="0" y="0"/>
                </a:lnTo>
                <a:lnTo>
                  <a:pt x="167" y="0"/>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481880" y="765000"/>
            <a:ext cx="298440" cy="349560"/>
          </a:xfrm>
          <a:custGeom>
            <a:avLst/>
            <a:gdLst/>
            <a:ahLst/>
            <a:rect l="l" t="t" r="r" b="b"/>
            <a:pathLst>
              <a:path w="188" h="220">
                <a:moveTo>
                  <a:pt x="188" y="0"/>
                </a:moveTo>
                <a:lnTo>
                  <a:pt x="178" y="42"/>
                </a:lnTo>
                <a:lnTo>
                  <a:pt x="167" y="73"/>
                </a:lnTo>
                <a:lnTo>
                  <a:pt x="167" y="105"/>
                </a:lnTo>
                <a:lnTo>
                  <a:pt x="178" y="131"/>
                </a:lnTo>
                <a:lnTo>
                  <a:pt x="178" y="152"/>
                </a:lnTo>
                <a:lnTo>
                  <a:pt x="188" y="178"/>
                </a:lnTo>
                <a:lnTo>
                  <a:pt x="188" y="199"/>
                </a:lnTo>
                <a:lnTo>
                  <a:pt x="188" y="220"/>
                </a:lnTo>
                <a:lnTo>
                  <a:pt x="146" y="194"/>
                </a:lnTo>
                <a:lnTo>
                  <a:pt x="115" y="162"/>
                </a:lnTo>
                <a:lnTo>
                  <a:pt x="83" y="136"/>
                </a:lnTo>
                <a:lnTo>
                  <a:pt x="62" y="105"/>
                </a:lnTo>
                <a:lnTo>
                  <a:pt x="42" y="73"/>
                </a:lnTo>
                <a:lnTo>
                  <a:pt x="31" y="47"/>
                </a:lnTo>
                <a:lnTo>
                  <a:pt x="10" y="21"/>
                </a:lnTo>
                <a:lnTo>
                  <a:pt x="0" y="0"/>
                </a:lnTo>
                <a:lnTo>
                  <a:pt x="188" y="0"/>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8961480" y="3524400"/>
            <a:ext cx="82440" cy="199800"/>
          </a:xfrm>
          <a:custGeom>
            <a:avLst/>
            <a:gdLst/>
            <a:ahLst/>
            <a:rect l="l" t="t" r="r" b="b"/>
            <a:pathLst>
              <a:path w="52" h="126">
                <a:moveTo>
                  <a:pt x="52" y="126"/>
                </a:moveTo>
                <a:lnTo>
                  <a:pt x="52" y="95"/>
                </a:lnTo>
                <a:lnTo>
                  <a:pt x="52" y="63"/>
                </a:lnTo>
                <a:lnTo>
                  <a:pt x="52" y="32"/>
                </a:lnTo>
                <a:lnTo>
                  <a:pt x="52" y="0"/>
                </a:lnTo>
                <a:lnTo>
                  <a:pt x="42" y="27"/>
                </a:lnTo>
                <a:lnTo>
                  <a:pt x="31" y="53"/>
                </a:lnTo>
                <a:lnTo>
                  <a:pt x="31" y="74"/>
                </a:lnTo>
                <a:lnTo>
                  <a:pt x="21" y="89"/>
                </a:lnTo>
                <a:lnTo>
                  <a:pt x="10" y="100"/>
                </a:lnTo>
                <a:lnTo>
                  <a:pt x="0" y="105"/>
                </a:lnTo>
                <a:lnTo>
                  <a:pt x="0" y="116"/>
                </a:lnTo>
                <a:lnTo>
                  <a:pt x="0" y="126"/>
                </a:lnTo>
                <a:lnTo>
                  <a:pt x="52" y="126"/>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8694720" y="3218040"/>
            <a:ext cx="166680" cy="506160"/>
          </a:xfrm>
          <a:custGeom>
            <a:avLst/>
            <a:gdLst/>
            <a:ahLst/>
            <a:rect l="l" t="t" r="r" b="b"/>
            <a:pathLst>
              <a:path w="105" h="319">
                <a:moveTo>
                  <a:pt x="32" y="319"/>
                </a:moveTo>
                <a:lnTo>
                  <a:pt x="63" y="272"/>
                </a:lnTo>
                <a:lnTo>
                  <a:pt x="74" y="230"/>
                </a:lnTo>
                <a:lnTo>
                  <a:pt x="74" y="193"/>
                </a:lnTo>
                <a:lnTo>
                  <a:pt x="63" y="157"/>
                </a:lnTo>
                <a:lnTo>
                  <a:pt x="42" y="120"/>
                </a:lnTo>
                <a:lnTo>
                  <a:pt x="21" y="83"/>
                </a:lnTo>
                <a:lnTo>
                  <a:pt x="0" y="42"/>
                </a:lnTo>
                <a:lnTo>
                  <a:pt x="0" y="0"/>
                </a:lnTo>
                <a:lnTo>
                  <a:pt x="11" y="42"/>
                </a:lnTo>
                <a:lnTo>
                  <a:pt x="32" y="83"/>
                </a:lnTo>
                <a:lnTo>
                  <a:pt x="63" y="125"/>
                </a:lnTo>
                <a:lnTo>
                  <a:pt x="74" y="162"/>
                </a:lnTo>
                <a:lnTo>
                  <a:pt x="94" y="199"/>
                </a:lnTo>
                <a:lnTo>
                  <a:pt x="105" y="235"/>
                </a:lnTo>
                <a:lnTo>
                  <a:pt x="94" y="277"/>
                </a:lnTo>
                <a:lnTo>
                  <a:pt x="84" y="319"/>
                </a:lnTo>
                <a:lnTo>
                  <a:pt x="32" y="319"/>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8312040" y="3251160"/>
            <a:ext cx="300240" cy="473040"/>
          </a:xfrm>
          <a:custGeom>
            <a:avLst/>
            <a:gdLst/>
            <a:ahLst/>
            <a:rect l="l" t="t" r="r" b="b"/>
            <a:pathLst>
              <a:path w="189" h="298">
                <a:moveTo>
                  <a:pt x="189" y="298"/>
                </a:moveTo>
                <a:lnTo>
                  <a:pt x="189" y="277"/>
                </a:lnTo>
                <a:lnTo>
                  <a:pt x="168" y="240"/>
                </a:lnTo>
                <a:lnTo>
                  <a:pt x="147" y="193"/>
                </a:lnTo>
                <a:lnTo>
                  <a:pt x="115" y="146"/>
                </a:lnTo>
                <a:lnTo>
                  <a:pt x="95" y="99"/>
                </a:lnTo>
                <a:lnTo>
                  <a:pt x="63" y="57"/>
                </a:lnTo>
                <a:lnTo>
                  <a:pt x="32" y="26"/>
                </a:lnTo>
                <a:lnTo>
                  <a:pt x="0" y="0"/>
                </a:lnTo>
                <a:lnTo>
                  <a:pt x="32" y="41"/>
                </a:lnTo>
                <a:lnTo>
                  <a:pt x="53" y="89"/>
                </a:lnTo>
                <a:lnTo>
                  <a:pt x="74" y="130"/>
                </a:lnTo>
                <a:lnTo>
                  <a:pt x="95" y="172"/>
                </a:lnTo>
                <a:lnTo>
                  <a:pt x="115" y="209"/>
                </a:lnTo>
                <a:lnTo>
                  <a:pt x="126" y="246"/>
                </a:lnTo>
                <a:lnTo>
                  <a:pt x="126" y="277"/>
                </a:lnTo>
                <a:lnTo>
                  <a:pt x="136" y="298"/>
                </a:lnTo>
                <a:lnTo>
                  <a:pt x="189" y="298"/>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6883560" y="3832200"/>
            <a:ext cx="2260440" cy="3025800"/>
          </a:xfrm>
          <a:custGeom>
            <a:avLst/>
            <a:gdLst/>
            <a:ahLst/>
            <a:rect l="l" t="t" r="r" b="b"/>
            <a:pathLst>
              <a:path w="1424" h="1906">
                <a:moveTo>
                  <a:pt x="1424" y="105"/>
                </a:moveTo>
                <a:lnTo>
                  <a:pt x="1424" y="1906"/>
                </a:lnTo>
                <a:lnTo>
                  <a:pt x="0" y="1906"/>
                </a:lnTo>
                <a:lnTo>
                  <a:pt x="31" y="1880"/>
                </a:lnTo>
                <a:lnTo>
                  <a:pt x="63" y="1854"/>
                </a:lnTo>
                <a:lnTo>
                  <a:pt x="83" y="1827"/>
                </a:lnTo>
                <a:lnTo>
                  <a:pt x="104" y="1796"/>
                </a:lnTo>
                <a:lnTo>
                  <a:pt x="125" y="1765"/>
                </a:lnTo>
                <a:lnTo>
                  <a:pt x="146" y="1733"/>
                </a:lnTo>
                <a:lnTo>
                  <a:pt x="157" y="1702"/>
                </a:lnTo>
                <a:lnTo>
                  <a:pt x="178" y="1665"/>
                </a:lnTo>
                <a:lnTo>
                  <a:pt x="188" y="1628"/>
                </a:lnTo>
                <a:lnTo>
                  <a:pt x="199" y="1592"/>
                </a:lnTo>
                <a:lnTo>
                  <a:pt x="209" y="1555"/>
                </a:lnTo>
                <a:lnTo>
                  <a:pt x="220" y="1513"/>
                </a:lnTo>
                <a:lnTo>
                  <a:pt x="230" y="1471"/>
                </a:lnTo>
                <a:lnTo>
                  <a:pt x="230" y="1435"/>
                </a:lnTo>
                <a:lnTo>
                  <a:pt x="241" y="1393"/>
                </a:lnTo>
                <a:lnTo>
                  <a:pt x="251" y="1351"/>
                </a:lnTo>
                <a:lnTo>
                  <a:pt x="262" y="1293"/>
                </a:lnTo>
                <a:lnTo>
                  <a:pt x="262" y="1241"/>
                </a:lnTo>
                <a:lnTo>
                  <a:pt x="272" y="1183"/>
                </a:lnTo>
                <a:lnTo>
                  <a:pt x="272" y="1126"/>
                </a:lnTo>
                <a:lnTo>
                  <a:pt x="282" y="1063"/>
                </a:lnTo>
                <a:lnTo>
                  <a:pt x="293" y="995"/>
                </a:lnTo>
                <a:lnTo>
                  <a:pt x="314" y="916"/>
                </a:lnTo>
                <a:lnTo>
                  <a:pt x="335" y="827"/>
                </a:lnTo>
                <a:lnTo>
                  <a:pt x="345" y="775"/>
                </a:lnTo>
                <a:lnTo>
                  <a:pt x="366" y="728"/>
                </a:lnTo>
                <a:lnTo>
                  <a:pt x="398" y="676"/>
                </a:lnTo>
                <a:lnTo>
                  <a:pt x="429" y="623"/>
                </a:lnTo>
                <a:lnTo>
                  <a:pt x="461" y="576"/>
                </a:lnTo>
                <a:lnTo>
                  <a:pt x="502" y="524"/>
                </a:lnTo>
                <a:lnTo>
                  <a:pt x="544" y="471"/>
                </a:lnTo>
                <a:lnTo>
                  <a:pt x="586" y="419"/>
                </a:lnTo>
                <a:lnTo>
                  <a:pt x="639" y="367"/>
                </a:lnTo>
                <a:lnTo>
                  <a:pt x="691" y="314"/>
                </a:lnTo>
                <a:lnTo>
                  <a:pt x="743" y="262"/>
                </a:lnTo>
                <a:lnTo>
                  <a:pt x="806" y="210"/>
                </a:lnTo>
                <a:lnTo>
                  <a:pt x="858" y="157"/>
                </a:lnTo>
                <a:lnTo>
                  <a:pt x="921" y="105"/>
                </a:lnTo>
                <a:lnTo>
                  <a:pt x="974" y="52"/>
                </a:lnTo>
                <a:lnTo>
                  <a:pt x="1037" y="0"/>
                </a:lnTo>
                <a:lnTo>
                  <a:pt x="1424" y="105"/>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6883560" y="3832200"/>
            <a:ext cx="2260440" cy="3025800"/>
          </a:xfrm>
          <a:custGeom>
            <a:avLst/>
            <a:gdLst/>
            <a:ahLst/>
            <a:rect l="l" t="t" r="r" b="b"/>
            <a:pathLst>
              <a:path w="1424" h="1906">
                <a:moveTo>
                  <a:pt x="1424" y="105"/>
                </a:moveTo>
                <a:lnTo>
                  <a:pt x="1424" y="1906"/>
                </a:lnTo>
                <a:lnTo>
                  <a:pt x="0" y="1906"/>
                </a:lnTo>
                <a:lnTo>
                  <a:pt x="31" y="1880"/>
                </a:lnTo>
                <a:lnTo>
                  <a:pt x="63" y="1854"/>
                </a:lnTo>
                <a:lnTo>
                  <a:pt x="83" y="1827"/>
                </a:lnTo>
                <a:lnTo>
                  <a:pt x="104" y="1796"/>
                </a:lnTo>
                <a:lnTo>
                  <a:pt x="125" y="1765"/>
                </a:lnTo>
                <a:lnTo>
                  <a:pt x="146" y="1733"/>
                </a:lnTo>
                <a:lnTo>
                  <a:pt x="157" y="1702"/>
                </a:lnTo>
                <a:lnTo>
                  <a:pt x="178" y="1665"/>
                </a:lnTo>
                <a:lnTo>
                  <a:pt x="188" y="1628"/>
                </a:lnTo>
                <a:lnTo>
                  <a:pt x="199" y="1592"/>
                </a:lnTo>
                <a:lnTo>
                  <a:pt x="209" y="1555"/>
                </a:lnTo>
                <a:lnTo>
                  <a:pt x="220" y="1513"/>
                </a:lnTo>
                <a:lnTo>
                  <a:pt x="230" y="1471"/>
                </a:lnTo>
                <a:lnTo>
                  <a:pt x="230" y="1435"/>
                </a:lnTo>
                <a:lnTo>
                  <a:pt x="241" y="1393"/>
                </a:lnTo>
                <a:lnTo>
                  <a:pt x="251" y="1351"/>
                </a:lnTo>
                <a:lnTo>
                  <a:pt x="262" y="1293"/>
                </a:lnTo>
                <a:lnTo>
                  <a:pt x="262" y="1241"/>
                </a:lnTo>
                <a:lnTo>
                  <a:pt x="272" y="1183"/>
                </a:lnTo>
                <a:lnTo>
                  <a:pt x="272" y="1126"/>
                </a:lnTo>
                <a:lnTo>
                  <a:pt x="282" y="1063"/>
                </a:lnTo>
                <a:lnTo>
                  <a:pt x="293" y="995"/>
                </a:lnTo>
                <a:lnTo>
                  <a:pt x="314" y="916"/>
                </a:lnTo>
                <a:lnTo>
                  <a:pt x="335" y="827"/>
                </a:lnTo>
                <a:lnTo>
                  <a:pt x="345" y="775"/>
                </a:lnTo>
                <a:lnTo>
                  <a:pt x="366" y="728"/>
                </a:lnTo>
                <a:lnTo>
                  <a:pt x="398" y="676"/>
                </a:lnTo>
                <a:lnTo>
                  <a:pt x="429" y="623"/>
                </a:lnTo>
                <a:lnTo>
                  <a:pt x="461" y="576"/>
                </a:lnTo>
                <a:lnTo>
                  <a:pt x="502" y="524"/>
                </a:lnTo>
                <a:lnTo>
                  <a:pt x="544" y="471"/>
                </a:lnTo>
                <a:lnTo>
                  <a:pt x="586" y="419"/>
                </a:lnTo>
                <a:lnTo>
                  <a:pt x="639" y="367"/>
                </a:lnTo>
                <a:lnTo>
                  <a:pt x="691" y="314"/>
                </a:lnTo>
                <a:lnTo>
                  <a:pt x="743" y="262"/>
                </a:lnTo>
                <a:lnTo>
                  <a:pt x="806" y="210"/>
                </a:lnTo>
                <a:lnTo>
                  <a:pt x="858" y="157"/>
                </a:lnTo>
                <a:lnTo>
                  <a:pt x="921" y="105"/>
                </a:lnTo>
                <a:lnTo>
                  <a:pt x="974" y="52"/>
                </a:lnTo>
                <a:lnTo>
                  <a:pt x="1037" y="0"/>
                </a:lnTo>
                <a:lnTo>
                  <a:pt x="1424" y="105"/>
                </a:lnTo>
              </a:path>
            </a:pathLst>
          </a:custGeom>
          <a:noFill/>
          <a:ln w="0">
            <a:solidFill>
              <a:srgbClr val="0e0d0c"/>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8445600" y="3849840"/>
            <a:ext cx="199800" cy="298440"/>
          </a:xfrm>
          <a:custGeom>
            <a:avLst/>
            <a:gdLst/>
            <a:ahLst/>
            <a:rect l="l" t="t" r="r" b="b"/>
            <a:pathLst>
              <a:path w="126" h="188">
                <a:moveTo>
                  <a:pt x="126" y="21"/>
                </a:moveTo>
                <a:lnTo>
                  <a:pt x="115" y="36"/>
                </a:lnTo>
                <a:lnTo>
                  <a:pt x="94" y="52"/>
                </a:lnTo>
                <a:lnTo>
                  <a:pt x="84" y="68"/>
                </a:lnTo>
                <a:lnTo>
                  <a:pt x="73" y="83"/>
                </a:lnTo>
                <a:lnTo>
                  <a:pt x="52" y="104"/>
                </a:lnTo>
                <a:lnTo>
                  <a:pt x="42" y="120"/>
                </a:lnTo>
                <a:lnTo>
                  <a:pt x="31" y="136"/>
                </a:lnTo>
                <a:lnTo>
                  <a:pt x="21" y="151"/>
                </a:lnTo>
                <a:lnTo>
                  <a:pt x="11" y="157"/>
                </a:lnTo>
                <a:lnTo>
                  <a:pt x="11" y="167"/>
                </a:lnTo>
                <a:lnTo>
                  <a:pt x="0" y="178"/>
                </a:lnTo>
                <a:lnTo>
                  <a:pt x="0" y="188"/>
                </a:lnTo>
                <a:lnTo>
                  <a:pt x="0" y="162"/>
                </a:lnTo>
                <a:lnTo>
                  <a:pt x="11" y="141"/>
                </a:lnTo>
                <a:lnTo>
                  <a:pt x="11" y="115"/>
                </a:lnTo>
                <a:lnTo>
                  <a:pt x="21" y="94"/>
                </a:lnTo>
                <a:lnTo>
                  <a:pt x="31" y="68"/>
                </a:lnTo>
                <a:lnTo>
                  <a:pt x="42" y="47"/>
                </a:lnTo>
                <a:lnTo>
                  <a:pt x="42" y="21"/>
                </a:lnTo>
                <a:lnTo>
                  <a:pt x="52" y="0"/>
                </a:lnTo>
                <a:lnTo>
                  <a:pt x="126" y="21"/>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8728200" y="3890880"/>
            <a:ext cx="83880" cy="157320"/>
          </a:xfrm>
          <a:custGeom>
            <a:avLst/>
            <a:gdLst/>
            <a:ahLst/>
            <a:rect l="l" t="t" r="r" b="b"/>
            <a:pathLst>
              <a:path w="53" h="99">
                <a:moveTo>
                  <a:pt x="11" y="0"/>
                </a:moveTo>
                <a:lnTo>
                  <a:pt x="0" y="21"/>
                </a:lnTo>
                <a:lnTo>
                  <a:pt x="0" y="52"/>
                </a:lnTo>
                <a:lnTo>
                  <a:pt x="11" y="78"/>
                </a:lnTo>
                <a:lnTo>
                  <a:pt x="21" y="99"/>
                </a:lnTo>
                <a:lnTo>
                  <a:pt x="21" y="89"/>
                </a:lnTo>
                <a:lnTo>
                  <a:pt x="21" y="78"/>
                </a:lnTo>
                <a:lnTo>
                  <a:pt x="32" y="63"/>
                </a:lnTo>
                <a:lnTo>
                  <a:pt x="42" y="52"/>
                </a:lnTo>
                <a:lnTo>
                  <a:pt x="42" y="42"/>
                </a:lnTo>
                <a:lnTo>
                  <a:pt x="53" y="31"/>
                </a:lnTo>
                <a:lnTo>
                  <a:pt x="53" y="21"/>
                </a:lnTo>
                <a:lnTo>
                  <a:pt x="53" y="10"/>
                </a:lnTo>
                <a:lnTo>
                  <a:pt x="11" y="0"/>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8861400" y="3940200"/>
            <a:ext cx="149400" cy="515880"/>
          </a:xfrm>
          <a:custGeom>
            <a:avLst/>
            <a:gdLst/>
            <a:ahLst/>
            <a:rect l="l" t="t" r="r" b="b"/>
            <a:pathLst>
              <a:path w="94" h="325">
                <a:moveTo>
                  <a:pt x="0" y="0"/>
                </a:moveTo>
                <a:lnTo>
                  <a:pt x="0" y="42"/>
                </a:lnTo>
                <a:lnTo>
                  <a:pt x="0" y="79"/>
                </a:lnTo>
                <a:lnTo>
                  <a:pt x="10" y="121"/>
                </a:lnTo>
                <a:lnTo>
                  <a:pt x="21" y="162"/>
                </a:lnTo>
                <a:lnTo>
                  <a:pt x="31" y="204"/>
                </a:lnTo>
                <a:lnTo>
                  <a:pt x="42" y="246"/>
                </a:lnTo>
                <a:lnTo>
                  <a:pt x="52" y="288"/>
                </a:lnTo>
                <a:lnTo>
                  <a:pt x="52" y="325"/>
                </a:lnTo>
                <a:lnTo>
                  <a:pt x="73" y="257"/>
                </a:lnTo>
                <a:lnTo>
                  <a:pt x="73" y="189"/>
                </a:lnTo>
                <a:lnTo>
                  <a:pt x="73" y="115"/>
                </a:lnTo>
                <a:lnTo>
                  <a:pt x="84" y="53"/>
                </a:lnTo>
                <a:lnTo>
                  <a:pt x="84" y="47"/>
                </a:lnTo>
                <a:lnTo>
                  <a:pt x="94" y="37"/>
                </a:lnTo>
                <a:lnTo>
                  <a:pt x="94" y="32"/>
                </a:lnTo>
                <a:lnTo>
                  <a:pt x="94" y="21"/>
                </a:lnTo>
                <a:lnTo>
                  <a:pt x="0" y="0"/>
                </a:lnTo>
                <a:close/>
              </a:path>
            </a:pathLst>
          </a:custGeom>
          <a:solidFill>
            <a:srgbClr val="4c42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8263080" y="5719680"/>
            <a:ext cx="449280" cy="1138320"/>
          </a:xfrm>
          <a:custGeom>
            <a:avLst/>
            <a:gdLst/>
            <a:ahLst/>
            <a:rect l="l" t="t" r="r" b="b"/>
            <a:pathLst>
              <a:path w="283" h="717">
                <a:moveTo>
                  <a:pt x="230" y="712"/>
                </a:moveTo>
                <a:lnTo>
                  <a:pt x="220" y="602"/>
                </a:lnTo>
                <a:lnTo>
                  <a:pt x="230" y="497"/>
                </a:lnTo>
                <a:lnTo>
                  <a:pt x="230" y="403"/>
                </a:lnTo>
                <a:lnTo>
                  <a:pt x="251" y="314"/>
                </a:lnTo>
                <a:lnTo>
                  <a:pt x="262" y="230"/>
                </a:lnTo>
                <a:lnTo>
                  <a:pt x="272" y="146"/>
                </a:lnTo>
                <a:lnTo>
                  <a:pt x="283" y="73"/>
                </a:lnTo>
                <a:lnTo>
                  <a:pt x="283" y="0"/>
                </a:lnTo>
                <a:lnTo>
                  <a:pt x="272" y="47"/>
                </a:lnTo>
                <a:lnTo>
                  <a:pt x="251" y="94"/>
                </a:lnTo>
                <a:lnTo>
                  <a:pt x="230" y="152"/>
                </a:lnTo>
                <a:lnTo>
                  <a:pt x="209" y="214"/>
                </a:lnTo>
                <a:lnTo>
                  <a:pt x="188" y="277"/>
                </a:lnTo>
                <a:lnTo>
                  <a:pt x="178" y="340"/>
                </a:lnTo>
                <a:lnTo>
                  <a:pt x="157" y="408"/>
                </a:lnTo>
                <a:lnTo>
                  <a:pt x="146" y="466"/>
                </a:lnTo>
                <a:lnTo>
                  <a:pt x="146" y="497"/>
                </a:lnTo>
                <a:lnTo>
                  <a:pt x="136" y="529"/>
                </a:lnTo>
                <a:lnTo>
                  <a:pt x="126" y="560"/>
                </a:lnTo>
                <a:lnTo>
                  <a:pt x="105" y="591"/>
                </a:lnTo>
                <a:lnTo>
                  <a:pt x="84" y="623"/>
                </a:lnTo>
                <a:lnTo>
                  <a:pt x="63" y="654"/>
                </a:lnTo>
                <a:lnTo>
                  <a:pt x="31" y="686"/>
                </a:lnTo>
                <a:lnTo>
                  <a:pt x="0" y="717"/>
                </a:lnTo>
                <a:lnTo>
                  <a:pt x="230" y="712"/>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431120" y="6200640"/>
            <a:ext cx="349200" cy="657360"/>
          </a:xfrm>
          <a:custGeom>
            <a:avLst/>
            <a:gdLst/>
            <a:ahLst/>
            <a:rect l="l" t="t" r="r" b="b"/>
            <a:pathLst>
              <a:path w="220" h="414">
                <a:moveTo>
                  <a:pt x="136" y="414"/>
                </a:moveTo>
                <a:lnTo>
                  <a:pt x="147" y="393"/>
                </a:lnTo>
                <a:lnTo>
                  <a:pt x="147" y="377"/>
                </a:lnTo>
                <a:lnTo>
                  <a:pt x="157" y="356"/>
                </a:lnTo>
                <a:lnTo>
                  <a:pt x="168" y="335"/>
                </a:lnTo>
                <a:lnTo>
                  <a:pt x="178" y="320"/>
                </a:lnTo>
                <a:lnTo>
                  <a:pt x="189" y="299"/>
                </a:lnTo>
                <a:lnTo>
                  <a:pt x="199" y="278"/>
                </a:lnTo>
                <a:lnTo>
                  <a:pt x="199" y="262"/>
                </a:lnTo>
                <a:lnTo>
                  <a:pt x="210" y="199"/>
                </a:lnTo>
                <a:lnTo>
                  <a:pt x="220" y="142"/>
                </a:lnTo>
                <a:lnTo>
                  <a:pt x="220" y="79"/>
                </a:lnTo>
                <a:lnTo>
                  <a:pt x="199" y="0"/>
                </a:lnTo>
                <a:lnTo>
                  <a:pt x="189" y="53"/>
                </a:lnTo>
                <a:lnTo>
                  <a:pt x="178" y="100"/>
                </a:lnTo>
                <a:lnTo>
                  <a:pt x="168" y="152"/>
                </a:lnTo>
                <a:lnTo>
                  <a:pt x="147" y="205"/>
                </a:lnTo>
                <a:lnTo>
                  <a:pt x="126" y="257"/>
                </a:lnTo>
                <a:lnTo>
                  <a:pt x="94" y="309"/>
                </a:lnTo>
                <a:lnTo>
                  <a:pt x="53" y="362"/>
                </a:lnTo>
                <a:lnTo>
                  <a:pt x="0" y="414"/>
                </a:lnTo>
                <a:lnTo>
                  <a:pt x="136" y="414"/>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8478720" y="3724200"/>
            <a:ext cx="665280" cy="282600"/>
          </a:xfrm>
          <a:custGeom>
            <a:avLst/>
            <a:gdLst/>
            <a:ahLst/>
            <a:rect l="l" t="t" r="r" b="b"/>
            <a:pathLst>
              <a:path w="419" h="178">
                <a:moveTo>
                  <a:pt x="419" y="0"/>
                </a:moveTo>
                <a:lnTo>
                  <a:pt x="0" y="0"/>
                </a:lnTo>
                <a:lnTo>
                  <a:pt x="0" y="63"/>
                </a:lnTo>
                <a:lnTo>
                  <a:pt x="419" y="178"/>
                </a:lnTo>
                <a:lnTo>
                  <a:pt x="419" y="0"/>
                </a:lnTo>
                <a:close/>
              </a:path>
            </a:pathLst>
          </a:custGeom>
          <a:solidFill>
            <a:srgbClr val="ffb30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8478720" y="3724200"/>
            <a:ext cx="665280" cy="282600"/>
          </a:xfrm>
          <a:custGeom>
            <a:avLst/>
            <a:gdLst/>
            <a:ahLst/>
            <a:rect l="l" t="t" r="r" b="b"/>
            <a:pathLst>
              <a:path w="419" h="178">
                <a:moveTo>
                  <a:pt x="419" y="0"/>
                </a:moveTo>
                <a:lnTo>
                  <a:pt x="0" y="0"/>
                </a:lnTo>
                <a:lnTo>
                  <a:pt x="0" y="63"/>
                </a:lnTo>
                <a:lnTo>
                  <a:pt x="419" y="178"/>
                </a:lnTo>
                <a:lnTo>
                  <a:pt x="419" y="0"/>
                </a:lnTo>
              </a:path>
            </a:pathLst>
          </a:custGeom>
          <a:noFill/>
          <a:ln w="0">
            <a:solidFill>
              <a:srgbClr val="0e0d0c"/>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txBox="1"/>
          <p:nvPr/>
        </p:nvSpPr>
        <p:spPr>
          <a:xfrm>
            <a:off x="2700360" y="1268280"/>
            <a:ext cx="3024000" cy="5256360"/>
          </a:xfrm>
          <a:prstGeom prst="rect">
            <a:avLst/>
          </a:prstGeom>
        </p:spPr>
        <p:txBody>
          <a:bodyPr wrap="none" lIns="90000" rIns="90000" tIns="46800" bIns="46800" anchor="t" anchorCtr="1">
            <a:prstTxWarp prst="textPlain">
              <a:avLst>
                <a:gd name="adj" fmla="val 4963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ff">
                    <a:alpha val="48000"/>
                  </a:srgbClr>
                </a:solidFill>
                <a:latin typeface="Zokrofi"/>
              </a:rPr>
              <a:t>ييي</a:t>
            </a:r>
            <a:endParaRPr b="1" lang="en-US" sz="1800" spc="1" strike="noStrike">
              <a:ln w="9360">
                <a:solidFill>
                  <a:srgbClr val="000000"/>
                </a:solidFill>
                <a:miter/>
              </a:ln>
              <a:solidFill>
                <a:srgbClr val="0000ff">
                  <a:alpha val="48000"/>
                </a:srgbClr>
              </a:solidFill>
              <a:latin typeface="Zokrofi"/>
              <a:ea typeface="Zokrof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78"/>
                                        </p:tgtEl>
                                        <p:attrNameLst>
                                          <p:attrName>style.visibility</p:attrName>
                                        </p:attrNameLst>
                                      </p:cBhvr>
                                      <p:to>
                                        <p:strVal val="visible"/>
                                      </p:to>
                                    </p:set>
                                    <p:anim calcmode="lin" valueType="num">
                                      <p:cBhvr additive="repl">
                                        <p:cTn id="7" dur="1000" fill="hold"/>
                                        <p:tgtEl>
                                          <p:spTgt spid="78"/>
                                        </p:tgtEl>
                                        <p:attrNameLst>
                                          <p:attrName>ppt_w</p:attrName>
                                        </p:attrNameLst>
                                      </p:cBhvr>
                                      <p:tavLst>
                                        <p:tav tm="0">
                                          <p:val>
                                            <p:fltVal val="0"/>
                                          </p:val>
                                        </p:tav>
                                        <p:tav tm="100000">
                                          <p:val>
                                            <p:strVal val="#ppt_w"/>
                                          </p:val>
                                        </p:tav>
                                      </p:tavLst>
                                    </p:anim>
                                    <p:anim calcmode="lin" valueType="num">
                                      <p:cBhvr additive="repl">
                                        <p:cTn id="8" dur="1000" fill="hold"/>
                                        <p:tgtEl>
                                          <p:spTgt spid="78"/>
                                        </p:tgtEl>
                                        <p:attrNameLst>
                                          <p:attrName>ppt_h</p:attrName>
                                        </p:attrNameLst>
                                      </p:cBhvr>
                                      <p:tavLst>
                                        <p:tav tm="0">
                                          <p:val>
                                            <p:fltVal val="0"/>
                                          </p:val>
                                        </p:tav>
                                        <p:tav tm="100000">
                                          <p:val>
                                            <p:strVal val="#ppt_h"/>
                                          </p:val>
                                        </p:tav>
                                      </p:tavLst>
                                    </p:anim>
                                    <p:anim calcmode="lin" valueType="num">
                                      <p:cBhvr additive="repl">
                                        <p:cTn id="9" dur="1000" fill="hold"/>
                                        <p:tgtEl>
                                          <p:spTgt spid="78"/>
                                        </p:tgtEl>
                                        <p:attrNameLst>
                                          <p:attrName>r</p:attrName>
                                        </p:attrNameLst>
                                      </p:cBhvr>
                                      <p:tavLst>
                                        <p:tav tm="0">
                                          <p:val>
                                            <p:strVal val="90"/>
                                          </p:val>
                                        </p:tav>
                                        <p:tav tm="100000">
                                          <p:val>
                                            <p:strVal val="0"/>
                                          </p:val>
                                        </p:tav>
                                      </p:tavLst>
                                    </p:anim>
                                    <p:animEffect filter="fade" transition="in">
                                      <p:cBhvr additive="repl">
                                        <p:cTn id="10" dur="1000"/>
                                        <p:tgtEl>
                                          <p:spTgt spid="78"/>
                                        </p:tgtEl>
                                      </p:cBhvr>
                                    </p:animEffect>
                                  </p:childTnLst>
                                </p:cTn>
                              </p:par>
                            </p:childTnLst>
                          </p:cTn>
                        </p:par>
                        <p:par>
                          <p:cTn id="11" fill="hold">
                            <p:stCondLst>
                              <p:cond delay="1000"/>
                            </p:stCondLst>
                            <p:childTnLst>
                              <p:par>
                                <p:cTn id="12" nodeType="afterEffect" fill="hold" presetClass="emph" presetID="23" repeatCount="indefinite">
                                  <p:stCondLst>
                                    <p:cond delay="0"/>
                                  </p:stCondLst>
                                  <p:iterate type="lt">
                                    <p:tmAbs val="0"/>
                                  </p:iterate>
                                  <p:childTnLst>
                                    <p:animClr clrSpc="hsl" dir="cw">
                                      <p:cBhvr>
                                        <p:cTn id="13" dur="500" fill="hold"/>
                                        <p:tgtEl>
                                          <p:spTgt spid="78"/>
                                        </p:tgtEl>
                                        <p:attrNameLst>
                                          <p:attrName>style.color</p:attrName>
                                        </p:attrNameLst>
                                      </p:cBhvr>
                                      <p:by>
                                        <p:hsl h="10842352.9411765" s="0" l="0"/>
                                      </p:by>
                                    </p:animClr>
                                    <p:animClr clrSpc="hsl" dir="cw">
                                      <p:cBhvr>
                                        <p:cTn id="14" dur="500" fill="hold"/>
                                        <p:tgtEl>
                                          <p:spTgt spid="78"/>
                                        </p:tgtEl>
                                        <p:attrNameLst>
                                          <p:attrName>fillcolor</p:attrName>
                                        </p:attrNameLst>
                                      </p:cBhvr>
                                      <p:by>
                                        <p:hsl h="10842352.9411765" s="0" l="0"/>
                                      </p:by>
                                    </p:animClr>
                                    <p:animClr clrSpc="hsl" dir="cw">
                                      <p:cBhvr>
                                        <p:cTn id="15" dur="500" fill="hold"/>
                                        <p:tgtEl>
                                          <p:spTgt spid="78"/>
                                        </p:tgtEl>
                                        <p:attrNameLst>
                                          <p:attrName>stroke.color</p:attrName>
                                        </p:attrNameLst>
                                      </p:cBhvr>
                                      <p:by>
                                        <p:hsl h="10842352.9411765" s="0" l="0"/>
                                      </p:by>
                                    </p:animClr>
                                    <p:set>
                                      <p:cBhvr>
                                        <p:cTn id="16" dur="500" fill="hold"/>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C"/>
          <p:cNvSpPr/>
          <p:nvPr/>
        </p:nvSpPr>
        <p:spPr>
          <a:xfrm>
            <a:off x="360360" y="1484280"/>
            <a:ext cx="8459640" cy="5400720"/>
          </a:xfrm>
          <a:prstGeom prst="pie">
            <a:avLst/>
          </a:prstGeom>
          <a:gradFill rotWithShape="0">
            <a:gsLst>
              <a:gs pos="0">
                <a:srgbClr val="66ffff">
                  <a:alpha val="46274"/>
                </a:srgbClr>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AL-Mohanad"/>
              </a:rPr>
              <a:t>يرجع ذلك إلى الخوف من أن يظهر الشخص أمام الآخرين بمظهر يدعو للسخرية لأنه أتى بشئ أبعد ما يكون عن المألوف بالنسبة لهم </a:t>
            </a:r>
            <a:r>
              <a:rPr b="0" lang="en-US" sz="4400" spc="-1" strike="noStrike">
                <a:solidFill>
                  <a:srgbClr val="ffffff"/>
                </a:solidFill>
                <a:latin typeface="Arial"/>
                <a:ea typeface="AL-Mohanad"/>
              </a:rPr>
              <a:t>0</a:t>
            </a:r>
            <a:endParaRPr b="0" lang="en-US" sz="4400" spc="-1" strike="noStrike">
              <a:solidFill>
                <a:srgbClr val="000000"/>
              </a:solidFill>
              <a:latin typeface="Arial"/>
            </a:endParaRPr>
          </a:p>
        </p:txBody>
      </p:sp>
      <p:sp>
        <p:nvSpPr>
          <p:cNvPr id="145" name=""/>
          <p:cNvSpPr/>
          <p:nvPr/>
        </p:nvSpPr>
        <p:spPr>
          <a:xfrm>
            <a:off x="179280" y="836640"/>
            <a:ext cx="8713800" cy="1440000"/>
          </a:xfrm>
          <a:custGeom>
            <a:avLst/>
            <a:gdLst>
              <a:gd name="textAreaLeft" fmla="*/ 1089000 w 8713800"/>
              <a:gd name="textAreaRight" fmla="*/ 7624800 w 8713800"/>
              <a:gd name="textAreaTop" fmla="*/ 97920 h 1440000"/>
              <a:gd name="textAreaBottom" fmla="*/ 839880 h 1440000"/>
            </a:gdLst>
            <a:ahLst/>
            <a:rect l="textAreaLeft" t="textAreaTop" r="textAreaRight" b="textAreaBottom"/>
            <a:pathLst>
              <a:path w="21600" h="21600">
                <a:moveTo>
                  <a:pt x="0" y="9000"/>
                </a:moveTo>
                <a:arcTo wR="21600" hR="20153" stAng="-7304956" swAng="498571"/>
                <a:lnTo>
                  <a:pt x="2700" y="1471"/>
                </a:lnTo>
                <a:arcTo wR="21600" hR="20153" stAng="-6806385" swAng="2812770"/>
                <a:lnTo>
                  <a:pt x="18900" y="7771"/>
                </a:lnTo>
                <a:arcTo wR="21600" hR="20153" stAng="-3993615" swAng="498571"/>
                <a:lnTo>
                  <a:pt x="18900" y="14071"/>
                </a:lnTo>
                <a:lnTo>
                  <a:pt x="21600" y="21600"/>
                </a:lnTo>
                <a:lnTo>
                  <a:pt x="21600" y="21600"/>
                </a:lnTo>
                <a:arcTo wR="21600" hR="20153" stAng="-3495044" swAng="-976834"/>
                <a:lnTo>
                  <a:pt x="16200" y="13240"/>
                </a:lnTo>
                <a:arcTo wR="21600" hR="20153" stAng="-4471878" swAng="-1856244"/>
                <a:lnTo>
                  <a:pt x="5400" y="19540"/>
                </a:lnTo>
                <a:arcTo wR="21600" hR="20153" stAng="-6328122" swAng="-976834"/>
                <a:lnTo>
                  <a:pt x="2700" y="14071"/>
                </a:lnTo>
                <a:close/>
              </a:path>
              <a:path fill="none" w="21600" h="21600">
                <a:moveTo>
                  <a:pt x="5400" y="13240"/>
                </a:moveTo>
                <a:arcTo wR="21600" hR="20153" stAng="-6328122" swAng="-478263"/>
                <a:lnTo>
                  <a:pt x="5400" y="19540"/>
                </a:lnTo>
              </a:path>
              <a:path fill="none" w="21600" h="21600">
                <a:moveTo>
                  <a:pt x="16200" y="13240"/>
                </a:moveTo>
                <a:arcTo wR="21600" hR="20153" stAng="-4471878" swAng="478263"/>
                <a:lnTo>
                  <a:pt x="16200" y="19540"/>
                </a:lnTo>
              </a:path>
              <a:path fill="none" w="21600" h="21600">
                <a:moveTo>
                  <a:pt x="2700" y="7771"/>
                </a:moveTo>
                <a:lnTo>
                  <a:pt x="2700" y="14071"/>
                </a:lnTo>
              </a:path>
              <a:path fill="none" w="21600" h="21600">
                <a:moveTo>
                  <a:pt x="18900" y="7771"/>
                </a:moveTo>
                <a:lnTo>
                  <a:pt x="18900" y="14071"/>
                </a:lnTo>
              </a:path>
            </a:pathLst>
          </a:custGeom>
          <a:gradFill rotWithShape="0">
            <a:gsLst>
              <a:gs pos="0">
                <a:srgbClr val="bbe0e3"/>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l-Homam"/>
              </a:rPr>
              <a:t>3</a:t>
            </a:r>
            <a:r>
              <a:rPr b="0" lang="en-US" sz="3200" spc="-1" strike="noStrike">
                <a:solidFill>
                  <a:srgbClr val="ffffff"/>
                </a:solidFill>
                <a:latin typeface="Arial"/>
                <a:ea typeface="Al-Homam"/>
              </a:rPr>
              <a:t>-التركيز على ضرورة التوافق مع الآخرين</a:t>
            </a:r>
            <a:r>
              <a:rPr b="0" lang="en-US" sz="3200" spc="-1" strike="noStrike">
                <a:solidFill>
                  <a:srgbClr val="ffffff"/>
                </a:solidFill>
                <a:latin typeface="Arial"/>
                <a:ea typeface="Al-Mothnn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55">
                                  <p:stCondLst>
                                    <p:cond delay="0"/>
                                  </p:stCondLst>
                                  <p:childTnLst>
                                    <p:set>
                                      <p:cBhvr>
                                        <p:cTn id="600" dur="1" fill="hold">
                                          <p:stCondLst>
                                            <p:cond delay="0"/>
                                          </p:stCondLst>
                                        </p:cTn>
                                        <p:tgtEl>
                                          <p:spTgt spid="145"/>
                                        </p:tgtEl>
                                        <p:attrNameLst>
                                          <p:attrName>style.visibility</p:attrName>
                                        </p:attrNameLst>
                                      </p:cBhvr>
                                      <p:to>
                                        <p:strVal val="visible"/>
                                      </p:to>
                                    </p:set>
                                    <p:anim calcmode="lin" valueType="num">
                                      <p:cBhvr additive="repl">
                                        <p:cTn id="601" dur="1000" fill="hold"/>
                                        <p:tgtEl>
                                          <p:spTgt spid="145"/>
                                        </p:tgtEl>
                                        <p:attrNameLst>
                                          <p:attrName>ppt_w</p:attrName>
                                        </p:attrNameLst>
                                      </p:cBhvr>
                                      <p:tavLst>
                                        <p:tav tm="0">
                                          <p:val>
                                            <p:strVal val="#ppt_w*0.70"/>
                                          </p:val>
                                        </p:tav>
                                        <p:tav tm="100000">
                                          <p:val>
                                            <p:strVal val="#ppt_w"/>
                                          </p:val>
                                        </p:tav>
                                      </p:tavLst>
                                    </p:anim>
                                    <p:anim calcmode="lin" valueType="num">
                                      <p:cBhvr additive="repl">
                                        <p:cTn id="602" dur="1000" fill="hold"/>
                                        <p:tgtEl>
                                          <p:spTgt spid="145"/>
                                        </p:tgtEl>
                                        <p:attrNameLst>
                                          <p:attrName>ppt_h</p:attrName>
                                        </p:attrNameLst>
                                      </p:cBhvr>
                                      <p:tavLst>
                                        <p:tav tm="0">
                                          <p:val>
                                            <p:strVal val="#ppt_h"/>
                                          </p:val>
                                        </p:tav>
                                        <p:tav tm="100000">
                                          <p:val>
                                            <p:strVal val="#ppt_h"/>
                                          </p:val>
                                        </p:tav>
                                      </p:tavLst>
                                    </p:anim>
                                    <p:animEffect filter="fade" transition="in">
                                      <p:cBhvr additive="repl">
                                        <p:cTn id="603" dur="1000"/>
                                        <p:tgtEl>
                                          <p:spTgt spid="145"/>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56">
                                  <p:stCondLst>
                                    <p:cond delay="0"/>
                                  </p:stCondLst>
                                  <p:iterate type="lt">
                                    <p:tmAbs val="100"/>
                                  </p:iterate>
                                  <p:childTnLst>
                                    <p:set>
                                      <p:cBhvr>
                                        <p:cTn id="607" dur="1" fill="hold">
                                          <p:stCondLst>
                                            <p:cond delay="0"/>
                                          </p:stCondLst>
                                        </p:cTn>
                                        <p:tgtEl>
                                          <p:spTgt spid="145">
                                            <p:txEl>
                                              <p:pRg st="0" end="0"/>
                                            </p:txEl>
                                          </p:spTgt>
                                        </p:tgtEl>
                                        <p:attrNameLst>
                                          <p:attrName>style.visibility</p:attrName>
                                        </p:attrNameLst>
                                      </p:cBhvr>
                                      <p:to>
                                        <p:strVal val="visible"/>
                                      </p:to>
                                    </p:set>
                                    <p:anim calcmode="lin" valueType="num" by="(-#ppt_w*2)">
                                      <p:cBhvr additive="repl">
                                        <p:cTn id="608" dur="500" autoRev="1" fill="hold">
                                          <p:stCondLst>
                                            <p:cond delay="0"/>
                                          </p:stCondLst>
                                        </p:cTn>
                                        <p:tgtEl>
                                          <p:spTgt spid="145">
                                            <p:txEl>
                                              <p:pRg st="0" end="0"/>
                                            </p:txEl>
                                          </p:spTgt>
                                        </p:tgtEl>
                                        <p:attrNameLst>
                                          <p:attrName>ppt_w</p:attrName>
                                        </p:attrNameLst>
                                      </p:cBhvr>
                                    </p:anim>
                                    <p:anim calcmode="lin" valueType="num" by="(#ppt_w*0.50)">
                                      <p:cBhvr additive="repl">
                                        <p:cTn id="609" dur="500" autoRev="1" fill="hold">
                                          <p:stCondLst>
                                            <p:cond delay="0"/>
                                          </p:stCondLst>
                                        </p:cTn>
                                        <p:tgtEl>
                                          <p:spTgt spid="145">
                                            <p:txEl>
                                              <p:pRg st="0" end="0"/>
                                            </p:txEl>
                                          </p:spTgt>
                                        </p:tgtEl>
                                        <p:attrNameLst>
                                          <p:attrName>ppt_x</p:attrName>
                                        </p:attrNameLst>
                                      </p:cBhvr>
                                    </p:anim>
                                    <p:anim calcmode="lin" valueType="num" from="(-#ppt_h/2)" to="(#ppt_y)">
                                      <p:cBhvr additive="repl">
                                        <p:cTn id="610" dur="1000" fill="hold">
                                          <p:stCondLst>
                                            <p:cond delay="0"/>
                                          </p:stCondLst>
                                        </p:cTn>
                                        <p:tgtEl>
                                          <p:spTgt spid="145">
                                            <p:txEl>
                                              <p:pRg st="0" end="0"/>
                                            </p:txEl>
                                          </p:spTgt>
                                        </p:tgtEl>
                                        <p:attrNameLst>
                                          <p:attrName>ppt_y</p:attrName>
                                        </p:attrNameLst>
                                      </p:cBhvr>
                                    </p:anim>
                                    <p:animRot by="21600000">
                                      <p:cBhvr>
                                        <p:cTn id="611" dur="1000" fill="hold">
                                          <p:stCondLst>
                                            <p:cond delay="0"/>
                                          </p:stCondLst>
                                        </p:cTn>
                                        <p:tgtEl>
                                          <p:spTgt spid="145">
                                            <p:txEl>
                                              <p:pRg st="0" end="0"/>
                                            </p:txEl>
                                          </p:spTgt>
                                        </p:tgtEl>
                                        <p:attrNameLst>
                                          <p:attrName>r</p:attrName>
                                        </p:attrNameLst>
                                      </p:cBhvr>
                                    </p:animRot>
                                  </p:childTnLst>
                                </p:cTn>
                              </p:par>
                            </p:childTnLst>
                          </p:cTn>
                        </p:par>
                      </p:childTnLst>
                    </p:cTn>
                  </p:par>
                  <p:par>
                    <p:cTn id="612" fill="hold">
                      <p:stCondLst>
                        <p:cond delay="indefinite"/>
                      </p:stCondLst>
                      <p:childTnLst>
                        <p:par>
                          <p:cTn id="613" fill="hold">
                            <p:stCondLst>
                              <p:cond delay="0"/>
                            </p:stCondLst>
                            <p:childTnLst>
                              <p:par>
                                <p:cTn id="614" nodeType="clickEffect" fill="hold" presetClass="emph" presetID="26" repeatCount="indefinite">
                                  <p:stCondLst>
                                    <p:cond delay="0"/>
                                  </p:stCondLst>
                                  <p:iterate type="lt">
                                    <p:tmAbs val="0"/>
                                  </p:iterate>
                                  <p:childTnLst>
                                    <p:animEffect filter="fade" transition="out">
                                      <p:cBhvr additive="repl">
                                        <p:cTn id="615" dur="500"/>
                                        <p:tgtEl>
                                          <p:spTgt spid="145">
                                            <p:txEl>
                                              <p:pRg st="0" end="0"/>
                                            </p:txEl>
                                          </p:spTgt>
                                        </p:tgtEl>
                                      </p:cBhvr>
                                    </p:animEffect>
                                    <p:animScale>
                                      <p:cBhvr>
                                        <p:cTn id="616" dur="250" autoRev="1" fill="hold"/>
                                        <p:tgtEl>
                                          <p:spTgt spid="145">
                                            <p:txEl>
                                              <p:pRg st="0" end="0"/>
                                            </p:txEl>
                                          </p:spTgt>
                                        </p:tgtEl>
                                      </p:cBhvr>
                                      <p:to x="105000" y="105000"/>
                                    </p:animScale>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6">
                                  <p:stCondLst>
                                    <p:cond delay="0"/>
                                  </p:stCondLst>
                                  <p:childTnLst>
                                    <p:set>
                                      <p:cBhvr>
                                        <p:cTn id="620" dur="1" fill="hold">
                                          <p:stCondLst>
                                            <p:cond delay="0"/>
                                          </p:stCondLst>
                                        </p:cTn>
                                        <p:tgtEl>
                                          <p:spTgt spid="144"/>
                                        </p:tgtEl>
                                        <p:attrNameLst>
                                          <p:attrName>style.visibility</p:attrName>
                                        </p:attrNameLst>
                                      </p:cBhvr>
                                      <p:to>
                                        <p:strVal val="visible"/>
                                      </p:to>
                                    </p:set>
                                    <p:animEffect filter="wipe(down)" transition="in">
                                      <p:cBhvr additive="repl">
                                        <p:cTn id="621" dur="580">
                                          <p:stCondLst>
                                            <p:cond delay="0"/>
                                          </p:stCondLst>
                                        </p:cTn>
                                        <p:tgtEl>
                                          <p:spTgt spid="144"/>
                                        </p:tgtEl>
                                      </p:cBhvr>
                                    </p:animEffect>
                                    <p:anim calcmode="lin" valueType="num">
                                      <p:cBhvr additive="repl">
                                        <p:cTn id="622" dur="1822">
                                          <p:stCondLst>
                                            <p:cond delay="0"/>
                                          </p:stCondLst>
                                        </p:cTn>
                                        <p:tgtEl>
                                          <p:spTgt spid="144"/>
                                        </p:tgtEl>
                                        <p:attrNameLst>
                                          <p:attrName>ppt_x</p:attrName>
                                        </p:attrNameLst>
                                      </p:cBhvr>
                                      <p:tavLst>
                                        <p:tav tm="0">
                                          <p:val>
                                            <p:strVal val="#ppt_x-0.25"/>
                                          </p:val>
                                        </p:tav>
                                        <p:tav tm="100000">
                                          <p:val>
                                            <p:strVal val="#ppt_x"/>
                                          </p:val>
                                        </p:tav>
                                      </p:tavLst>
                                    </p:anim>
                                    <p:anim calcmode="lin" valueType="num">
                                      <p:cBhvr additive="repl">
                                        <p:cTn id="623" dur="664">
                                          <p:stCondLst>
                                            <p:cond delay="0"/>
                                          </p:stCondLst>
                                        </p:cTn>
                                        <p:tgtEl>
                                          <p:spTgt spid="144"/>
                                        </p:tgtEl>
                                        <p:attrNameLst>
                                          <p:attrName>ppt_y</p:attrName>
                                        </p:attrNameLst>
                                      </p:cBhvr>
                                      <p:tavLst>
                                        <p:tav fmla="y-sin(pi*$)/3" tm="0">
                                          <p:val>
                                            <p:fltVal val="0.5"/>
                                          </p:val>
                                        </p:tav>
                                        <p:tav fmla="y-sin(pi*$)/3" tm="100000">
                                          <p:val>
                                            <p:fltVal val="1"/>
                                          </p:val>
                                        </p:tav>
                                      </p:tavLst>
                                    </p:anim>
                                    <p:anim calcmode="lin" valueType="num">
                                      <p:cBhvr additive="repl">
                                        <p:cTn id="624" dur="664">
                                          <p:stCondLst>
                                            <p:cond delay="664"/>
                                          </p:stCondLst>
                                        </p:cTn>
                                        <p:tgtEl>
                                          <p:spTgt spid="144"/>
                                        </p:tgtEl>
                                        <p:attrNameLst>
                                          <p:attrName>ppt_y</p:attrName>
                                        </p:attrNameLst>
                                      </p:cBhvr>
                                      <p:tavLst>
                                        <p:tav fmla="y-sin(pi*$)/9" tm="0">
                                          <p:val>
                                            <p:fltVal val="0"/>
                                          </p:val>
                                        </p:tav>
                                        <p:tav fmla="y-sin(pi*$)/9" tm="100000">
                                          <p:val>
                                            <p:fltVal val="1"/>
                                          </p:val>
                                        </p:tav>
                                      </p:tavLst>
                                    </p:anim>
                                    <p:anim calcmode="lin" valueType="num">
                                      <p:cBhvr additive="repl">
                                        <p:cTn id="625" dur="332">
                                          <p:stCondLst>
                                            <p:cond delay="1324"/>
                                          </p:stCondLst>
                                        </p:cTn>
                                        <p:tgtEl>
                                          <p:spTgt spid="144"/>
                                        </p:tgtEl>
                                        <p:attrNameLst>
                                          <p:attrName>ppt_y</p:attrName>
                                        </p:attrNameLst>
                                      </p:cBhvr>
                                      <p:tavLst>
                                        <p:tav fmla="y-sin(pi*$)/27" tm="0">
                                          <p:val>
                                            <p:fltVal val="0"/>
                                          </p:val>
                                        </p:tav>
                                        <p:tav fmla="y-sin(pi*$)/27" tm="100000">
                                          <p:val>
                                            <p:fltVal val="1"/>
                                          </p:val>
                                        </p:tav>
                                      </p:tavLst>
                                    </p:anim>
                                    <p:anim calcmode="lin" valueType="num">
                                      <p:cBhvr additive="repl">
                                        <p:cTn id="626" dur="164">
                                          <p:stCondLst>
                                            <p:cond delay="1656"/>
                                          </p:stCondLst>
                                        </p:cTn>
                                        <p:tgtEl>
                                          <p:spTgt spid="144"/>
                                        </p:tgtEl>
                                        <p:attrNameLst>
                                          <p:attrName>ppt_y</p:attrName>
                                        </p:attrNameLst>
                                      </p:cBhvr>
                                      <p:tavLst>
                                        <p:tav fmla="y-sin(pi*$)/81" tm="0">
                                          <p:val>
                                            <p:fltVal val="0"/>
                                          </p:val>
                                        </p:tav>
                                        <p:tav fmla="y-sin(pi*$)/81" tm="100000">
                                          <p:val>
                                            <p:fltVal val="1"/>
                                          </p:val>
                                        </p:tav>
                                      </p:tavLst>
                                    </p:anim>
                                    <p:animScale>
                                      <p:cBhvr>
                                        <p:cTn id="627" dur="26" fill="hold">
                                          <p:stCondLst>
                                            <p:cond delay="650"/>
                                          </p:stCondLst>
                                        </p:cTn>
                                        <p:tgtEl>
                                          <p:spTgt spid="144"/>
                                        </p:tgtEl>
                                      </p:cBhvr>
                                      <p:to x="100000" y="60000"/>
                                    </p:animScale>
                                    <p:animScale>
                                      <p:cBhvr>
                                        <p:cTn id="628" dur="166" fill="hold">
                                          <p:stCondLst>
                                            <p:cond delay="676"/>
                                          </p:stCondLst>
                                        </p:cTn>
                                        <p:tgtEl>
                                          <p:spTgt spid="144"/>
                                        </p:tgtEl>
                                      </p:cBhvr>
                                      <p:to x="100000" y="100000"/>
                                    </p:animScale>
                                    <p:animScale>
                                      <p:cBhvr>
                                        <p:cTn id="629" dur="26" fill="hold">
                                          <p:stCondLst>
                                            <p:cond delay="1312"/>
                                          </p:stCondLst>
                                        </p:cTn>
                                        <p:tgtEl>
                                          <p:spTgt spid="144"/>
                                        </p:tgtEl>
                                      </p:cBhvr>
                                      <p:to x="100000" y="80000"/>
                                    </p:animScale>
                                    <p:animScale>
                                      <p:cBhvr>
                                        <p:cTn id="630" dur="166" fill="hold">
                                          <p:stCondLst>
                                            <p:cond delay="1338"/>
                                          </p:stCondLst>
                                        </p:cTn>
                                        <p:tgtEl>
                                          <p:spTgt spid="144"/>
                                        </p:tgtEl>
                                      </p:cBhvr>
                                      <p:to x="100000" y="100000"/>
                                    </p:animScale>
                                    <p:animScale>
                                      <p:cBhvr>
                                        <p:cTn id="631" dur="26" fill="hold">
                                          <p:stCondLst>
                                            <p:cond delay="1642"/>
                                          </p:stCondLst>
                                        </p:cTn>
                                        <p:tgtEl>
                                          <p:spTgt spid="144"/>
                                        </p:tgtEl>
                                      </p:cBhvr>
                                      <p:to x="100000" y="90000"/>
                                    </p:animScale>
                                    <p:animScale>
                                      <p:cBhvr>
                                        <p:cTn id="632" dur="166" fill="hold">
                                          <p:stCondLst>
                                            <p:cond delay="1668"/>
                                          </p:stCondLst>
                                        </p:cTn>
                                        <p:tgtEl>
                                          <p:spTgt spid="144"/>
                                        </p:tgtEl>
                                      </p:cBhvr>
                                      <p:to x="100000" y="100000"/>
                                    </p:animScale>
                                    <p:animScale>
                                      <p:cBhvr>
                                        <p:cTn id="633" dur="26" fill="hold">
                                          <p:stCondLst>
                                            <p:cond delay="1808"/>
                                          </p:stCondLst>
                                        </p:cTn>
                                        <p:tgtEl>
                                          <p:spTgt spid="144"/>
                                        </p:tgtEl>
                                      </p:cBhvr>
                                      <p:to x="100000" y="95000"/>
                                    </p:animScale>
                                    <p:animScale>
                                      <p:cBhvr>
                                        <p:cTn id="634" dur="166" fill="hold">
                                          <p:stCondLst>
                                            <p:cond delay="1834"/>
                                          </p:stCondLst>
                                        </p:cTn>
                                        <p:tgtEl>
                                          <p:spTgt spid="144"/>
                                        </p:tgtEl>
                                      </p:cBhvr>
                                      <p:to x="100000" y="100000"/>
                                    </p:animScale>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6">
                                  <p:stCondLst>
                                    <p:cond delay="0"/>
                                  </p:stCondLst>
                                  <p:iterate type="lt">
                                    <p:tmAbs val="100"/>
                                  </p:iterate>
                                  <p:childTnLst>
                                    <p:set>
                                      <p:cBhvr>
                                        <p:cTn id="638" dur="1" fill="hold">
                                          <p:stCondLst>
                                            <p:cond delay="0"/>
                                          </p:stCondLst>
                                        </p:cTn>
                                        <p:tgtEl>
                                          <p:spTgt spid="144">
                                            <p:txEl>
                                              <p:pRg st="0" end="0"/>
                                            </p:txEl>
                                          </p:spTgt>
                                        </p:tgtEl>
                                        <p:attrNameLst>
                                          <p:attrName>style.visibility</p:attrName>
                                        </p:attrNameLst>
                                      </p:cBhvr>
                                      <p:to>
                                        <p:strVal val="visible"/>
                                      </p:to>
                                    </p:set>
                                    <p:anim calcmode="lin" valueType="num" by="(-#ppt_w*2)">
                                      <p:cBhvr additive="repl">
                                        <p:cTn id="639" dur="500" autoRev="1" fill="hold">
                                          <p:stCondLst>
                                            <p:cond delay="0"/>
                                          </p:stCondLst>
                                        </p:cTn>
                                        <p:tgtEl>
                                          <p:spTgt spid="144">
                                            <p:txEl>
                                              <p:pRg st="0" end="0"/>
                                            </p:txEl>
                                          </p:spTgt>
                                        </p:tgtEl>
                                        <p:attrNameLst>
                                          <p:attrName>ppt_w</p:attrName>
                                        </p:attrNameLst>
                                      </p:cBhvr>
                                    </p:anim>
                                    <p:anim calcmode="lin" valueType="num" by="(#ppt_w*0.50)">
                                      <p:cBhvr additive="repl">
                                        <p:cTn id="640" dur="500" autoRev="1" fill="hold">
                                          <p:stCondLst>
                                            <p:cond delay="0"/>
                                          </p:stCondLst>
                                        </p:cTn>
                                        <p:tgtEl>
                                          <p:spTgt spid="144">
                                            <p:txEl>
                                              <p:pRg st="0" end="0"/>
                                            </p:txEl>
                                          </p:spTgt>
                                        </p:tgtEl>
                                        <p:attrNameLst>
                                          <p:attrName>ppt_x</p:attrName>
                                        </p:attrNameLst>
                                      </p:cBhvr>
                                    </p:anim>
                                    <p:anim calcmode="lin" valueType="num" from="(-#ppt_h/2)" to="(#ppt_y)">
                                      <p:cBhvr additive="repl">
                                        <p:cTn id="641" dur="1000" fill="hold">
                                          <p:stCondLst>
                                            <p:cond delay="0"/>
                                          </p:stCondLst>
                                        </p:cTn>
                                        <p:tgtEl>
                                          <p:spTgt spid="144">
                                            <p:txEl>
                                              <p:pRg st="0" end="0"/>
                                            </p:txEl>
                                          </p:spTgt>
                                        </p:tgtEl>
                                        <p:attrNameLst>
                                          <p:attrName>ppt_y</p:attrName>
                                        </p:attrNameLst>
                                      </p:cBhvr>
                                    </p:anim>
                                    <p:animRot by="21600000">
                                      <p:cBhvr>
                                        <p:cTn id="642" dur="1000" fill="hold">
                                          <p:stCondLst>
                                            <p:cond delay="0"/>
                                          </p:stCondLst>
                                        </p:cTn>
                                        <p:tgtEl>
                                          <p:spTgt spid="14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50920" y="2135160"/>
            <a:ext cx="8785080" cy="4606920"/>
          </a:xfrm>
          <a:prstGeom prst="verticalScroll">
            <a:avLst>
              <a:gd name="adj" fmla="val 11986"/>
            </a:avLst>
          </a:prstGeom>
          <a:gradFill rotWithShape="0">
            <a:gsLst>
              <a:gs pos="0">
                <a:srgbClr val="493a00"/>
              </a:gs>
              <a:gs pos="50000">
                <a:srgbClr val="ffcc00">
                  <a:alpha val="71372"/>
                </a:srgbClr>
              </a:gs>
              <a:gs pos="100000">
                <a:srgbClr val="493a00"/>
              </a:gs>
            </a:gsLst>
            <a:lin ang="13500000"/>
          </a:gradFill>
          <a:ln w="50760">
            <a:solidFill>
              <a:srgbClr val="ffcc00"/>
            </a:solidFill>
            <a:miter/>
          </a:ln>
        </p:spPr>
        <p:style>
          <a:lnRef idx="0"/>
          <a:fillRef idx="0"/>
          <a:effectRef idx="0"/>
          <a:fontRef idx="minor"/>
        </p:style>
        <p:txBody>
          <a:bodyPr lIns="180000" rIns="180000" tIns="180000" bIns="180000" anchor="t">
            <a:noAutofit/>
          </a:bodyPr>
          <a:p>
            <a:pPr algn="just"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Arial"/>
                <a:cs typeface="AL-Mohanad"/>
              </a:rPr>
              <a:t>يعتبر هذا العائق من أكثر عوائق التفكير الإبداعي صعوبة ، ذلك أنه يتضمن أن يقوم الشخص من تلقاء نفسه  بوعي أو بدون وعي بفرض قيود لم تفرض عليه لدى نعامله مع المشكلات </a:t>
            </a:r>
            <a:r>
              <a:rPr b="1" lang="en-US" sz="4800" spc="-1" strike="noStrike">
                <a:solidFill>
                  <a:srgbClr val="ffffff"/>
                </a:solidFill>
                <a:latin typeface="Arial"/>
                <a:ea typeface="AL-Mohanad"/>
              </a:rPr>
              <a:t>0</a:t>
            </a:r>
            <a:r>
              <a:rPr b="1" lang="en-US" sz="4800" spc="-1" strike="noStrike">
                <a:solidFill>
                  <a:srgbClr val="ffffff"/>
                </a:solidFill>
                <a:latin typeface="Arial"/>
                <a:ea typeface="AL-Mohanad"/>
              </a:rPr>
              <a:t> </a:t>
            </a:r>
            <a:endParaRPr b="0" lang="en-US" sz="4800" spc="-1" strike="noStrike">
              <a:solidFill>
                <a:srgbClr val="000000"/>
              </a:solidFill>
              <a:latin typeface="Arial"/>
            </a:endParaRPr>
          </a:p>
        </p:txBody>
      </p:sp>
      <p:sp>
        <p:nvSpPr>
          <p:cNvPr id="147" name=""/>
          <p:cNvSpPr/>
          <p:nvPr/>
        </p:nvSpPr>
        <p:spPr>
          <a:xfrm>
            <a:off x="971640" y="836640"/>
            <a:ext cx="7632720" cy="1225440"/>
          </a:xfrm>
          <a:custGeom>
            <a:avLst/>
            <a:gdLst>
              <a:gd name="textAreaLeft" fmla="*/ 954000 w 7632720"/>
              <a:gd name="textAreaRight" fmla="*/ 6678720 w 7632720"/>
              <a:gd name="textAreaTop" fmla="*/ 0 h 1225440"/>
              <a:gd name="textAreaBottom" fmla="*/ 817200 h 1225440"/>
            </a:gdLst>
            <a:ahLst/>
            <a:rect l="textAreaLeft" t="textAreaTop" r="textAreaRight" b="textAreaBottom"/>
            <a:pathLst>
              <a:path w="21600" h="21600">
                <a:moveTo>
                  <a:pt x="5400" y="14400"/>
                </a:moveTo>
                <a:lnTo>
                  <a:pt x="5400" y="19800"/>
                </a:lnTo>
                <a:cubicBezTo>
                  <a:pt x="5400" y="20700"/>
                  <a:pt x="4980" y="21600"/>
                  <a:pt x="4560" y="21600"/>
                </a:cubicBezTo>
                <a:lnTo>
                  <a:pt x="0" y="21600"/>
                </a:lnTo>
                <a:lnTo>
                  <a:pt x="2750" y="14400"/>
                </a:lnTo>
                <a:lnTo>
                  <a:pt x="0" y="7200"/>
                </a:lnTo>
                <a:lnTo>
                  <a:pt x="2700" y="7200"/>
                </a:lnTo>
                <a:lnTo>
                  <a:pt x="2700" y="1800"/>
                </a:lnTo>
                <a:cubicBezTo>
                  <a:pt x="2700" y="900"/>
                  <a:pt x="3120" y="0"/>
                  <a:pt x="3540" y="0"/>
                </a:cubicBezTo>
                <a:lnTo>
                  <a:pt x="18060" y="0"/>
                </a:lnTo>
                <a:cubicBezTo>
                  <a:pt x="18480" y="0"/>
                  <a:pt x="18900" y="900"/>
                  <a:pt x="18900" y="1800"/>
                </a:cubicBezTo>
                <a:lnTo>
                  <a:pt x="18900" y="7200"/>
                </a:lnTo>
                <a:lnTo>
                  <a:pt x="21600" y="7200"/>
                </a:lnTo>
                <a:lnTo>
                  <a:pt x="18850" y="14400"/>
                </a:lnTo>
                <a:lnTo>
                  <a:pt x="21600" y="21600"/>
                </a:lnTo>
                <a:lnTo>
                  <a:pt x="17040" y="21600"/>
                </a:lnTo>
                <a:cubicBezTo>
                  <a:pt x="16620" y="21600"/>
                  <a:pt x="16200" y="20700"/>
                  <a:pt x="16200" y="19800"/>
                </a:cubicBezTo>
                <a:lnTo>
                  <a:pt x="16200" y="14400"/>
                </a:lnTo>
                <a:close/>
              </a:path>
              <a:path fill="darkenLess" w="21600" h="21600">
                <a:moveTo>
                  <a:pt x="5400" y="14400"/>
                </a:moveTo>
                <a:lnTo>
                  <a:pt x="5400" y="19800"/>
                </a:lnTo>
                <a:cubicBezTo>
                  <a:pt x="5400" y="18900"/>
                  <a:pt x="4980" y="18000"/>
                  <a:pt x="4560" y="18000"/>
                </a:cubicBezTo>
                <a:lnTo>
                  <a:pt x="3540" y="18000"/>
                </a:lnTo>
                <a:cubicBezTo>
                  <a:pt x="3120" y="18000"/>
                  <a:pt x="2700" y="17100"/>
                  <a:pt x="2700" y="16200"/>
                </a:cubicBezTo>
                <a:cubicBezTo>
                  <a:pt x="2700" y="15300"/>
                  <a:pt x="3120" y="14400"/>
                  <a:pt x="3540" y="14400"/>
                </a:cubicBezTo>
                <a:close/>
              </a:path>
              <a:path fill="darkenLess" w="21600" h="21600">
                <a:moveTo>
                  <a:pt x="16200" y="14400"/>
                </a:moveTo>
                <a:lnTo>
                  <a:pt x="16200" y="19800"/>
                </a:lnTo>
                <a:cubicBezTo>
                  <a:pt x="16200" y="18900"/>
                  <a:pt x="16620" y="18000"/>
                  <a:pt x="17040" y="18000"/>
                </a:cubicBezTo>
                <a:lnTo>
                  <a:pt x="18060" y="18000"/>
                </a:lnTo>
                <a:cubicBezTo>
                  <a:pt x="18480" y="18000"/>
                  <a:pt x="18900" y="17100"/>
                  <a:pt x="18900" y="16200"/>
                </a:cubicBezTo>
                <a:cubicBezTo>
                  <a:pt x="18900" y="15300"/>
                  <a:pt x="18480" y="14400"/>
                  <a:pt x="18060" y="14400"/>
                </a:cubicBezTo>
                <a:close/>
              </a:path>
              <a:path fill="darkenLess" w="21600" h="21600">
                <a:moveTo>
                  <a:pt x="2700" y="16200"/>
                </a:moveTo>
                <a:lnTo>
                  <a:pt x="2700" y="7200"/>
                </a:lnTo>
              </a:path>
              <a:path fill="darkenLess" w="21600" h="21600">
                <a:moveTo>
                  <a:pt x="18900" y="16200"/>
                </a:moveTo>
                <a:lnTo>
                  <a:pt x="18900" y="7200"/>
                </a:lnTo>
              </a:path>
            </a:pathLst>
          </a:custGeom>
          <a:gradFill rotWithShape="0">
            <a:gsLst>
              <a:gs pos="0">
                <a:srgbClr val="ffcc00">
                  <a:alpha val="59215"/>
                </a:srgbClr>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l-Homam"/>
              </a:rPr>
              <a:t>4</a:t>
            </a:r>
            <a:r>
              <a:rPr b="0" lang="en-US" sz="4400" spc="-1" strike="noStrike">
                <a:solidFill>
                  <a:srgbClr val="ffffff"/>
                </a:solidFill>
                <a:latin typeface="Arial"/>
                <a:ea typeface="Al-Homam"/>
              </a:rPr>
              <a:t>-القيود المفروضة ذاتياً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51">
                                  <p:stCondLst>
                                    <p:cond delay="0"/>
                                  </p:stCondLst>
                                  <p:childTnLst>
                                    <p:set>
                                      <p:cBhvr>
                                        <p:cTn id="648" dur="1" fill="hold">
                                          <p:stCondLst>
                                            <p:cond delay="0"/>
                                          </p:stCondLst>
                                        </p:cTn>
                                        <p:tgtEl>
                                          <p:spTgt spid="147"/>
                                        </p:tgtEl>
                                        <p:attrNameLst>
                                          <p:attrName>style.visibility</p:attrName>
                                        </p:attrNameLst>
                                      </p:cBhvr>
                                      <p:to>
                                        <p:strVal val="visible"/>
                                      </p:to>
                                    </p:set>
                                    <p:animEffect filter="fade" transition="in">
                                      <p:cBhvr additive="repl">
                                        <p:cTn id="649" dur="770"/>
                                        <p:tgtEl>
                                          <p:spTgt spid="147"/>
                                        </p:tgtEl>
                                      </p:cBhvr>
                                    </p:animEffect>
                                    <p:animScale>
                                      <p:cBhvr>
                                        <p:cTn id="650" dur="770" fill="hold"/>
                                        <p:tgtEl>
                                          <p:spTgt spid="147"/>
                                        </p:tgtEl>
                                      </p:cBhvr>
                                      <p:from x="10000" y="10000"/>
                                      <p:to x="200000" y="450000"/>
                                    </p:animScale>
                                    <p:animScale>
                                      <p:cBhvr>
                                        <p:cTn id="651" dur="1230" fill="hold">
                                          <p:stCondLst>
                                            <p:cond delay="770"/>
                                          </p:stCondLst>
                                        </p:cTn>
                                        <p:tgtEl>
                                          <p:spTgt spid="147"/>
                                        </p:tgtEl>
                                      </p:cBhvr>
                                      <p:from x="200000" y="450000"/>
                                      <p:to x="100000" y="100000"/>
                                    </p:animScale>
                                    <p:set>
                                      <p:cBhvr>
                                        <p:cTn id="652" dur="770" fill="hold"/>
                                        <p:tgtEl>
                                          <p:spTgt spid="147"/>
                                        </p:tgtEl>
                                        <p:attrNameLst>
                                          <p:attrName>ppt_x</p:attrName>
                                        </p:attrNameLst>
                                      </p:cBhvr>
                                      <p:to>
                                        <p:strVal val="(0.5)"/>
                                      </p:to>
                                    </p:set>
                                    <p:anim calcmode="lin" valueType="num" from="(0.5)" to="(#ppt_x)">
                                      <p:cBhvr additive="repl">
                                        <p:cTn id="653" dur="1230" fill="hold">
                                          <p:stCondLst>
                                            <p:cond delay="770"/>
                                          </p:stCondLst>
                                        </p:cTn>
                                        <p:tgtEl>
                                          <p:spTgt spid="147"/>
                                        </p:tgtEl>
                                        <p:attrNameLst>
                                          <p:attrName>ppt_x</p:attrName>
                                        </p:attrNameLst>
                                      </p:cBhvr>
                                    </p:anim>
                                    <p:set>
                                      <p:cBhvr>
                                        <p:cTn id="654" dur="770" fill="hold"/>
                                        <p:tgtEl>
                                          <p:spTgt spid="147"/>
                                        </p:tgtEl>
                                        <p:attrNameLst>
                                          <p:attrName>ppt_y</p:attrName>
                                        </p:attrNameLst>
                                      </p:cBhvr>
                                      <p:to>
                                        <p:strVal val="(#ppt_y+0.4)"/>
                                      </p:to>
                                    </p:set>
                                    <p:anim calcmode="lin" valueType="num" from="(#ppt_y+0.4)" to="(#ppt_y)">
                                      <p:cBhvr additive="repl">
                                        <p:cTn id="655" dur="1230" fill="hold">
                                          <p:stCondLst>
                                            <p:cond delay="770"/>
                                          </p:stCondLst>
                                        </p:cTn>
                                        <p:tgtEl>
                                          <p:spTgt spid="147"/>
                                        </p:tgtEl>
                                        <p:attrNameLst>
                                          <p:attrName>ppt_y</p:attrName>
                                        </p:attrNameLst>
                                      </p:cBhvr>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6">
                                  <p:stCondLst>
                                    <p:cond delay="0"/>
                                  </p:stCondLst>
                                  <p:iterate type="lt">
                                    <p:tmAbs val="100"/>
                                  </p:iterate>
                                  <p:childTnLst>
                                    <p:set>
                                      <p:cBhvr>
                                        <p:cTn id="659" dur="1" fill="hold">
                                          <p:stCondLst>
                                            <p:cond delay="0"/>
                                          </p:stCondLst>
                                        </p:cTn>
                                        <p:tgtEl>
                                          <p:spTgt spid="147">
                                            <p:txEl>
                                              <p:pRg st="0" end="0"/>
                                            </p:txEl>
                                          </p:spTgt>
                                        </p:tgtEl>
                                        <p:attrNameLst>
                                          <p:attrName>style.visibility</p:attrName>
                                        </p:attrNameLst>
                                      </p:cBhvr>
                                      <p:to>
                                        <p:strVal val="visible"/>
                                      </p:to>
                                    </p:set>
                                    <p:anim calcmode="lin" valueType="num" by="(-#ppt_w*2)">
                                      <p:cBhvr additive="repl">
                                        <p:cTn id="660" dur="500" autoRev="1" fill="hold">
                                          <p:stCondLst>
                                            <p:cond delay="0"/>
                                          </p:stCondLst>
                                        </p:cTn>
                                        <p:tgtEl>
                                          <p:spTgt spid="147">
                                            <p:txEl>
                                              <p:pRg st="0" end="0"/>
                                            </p:txEl>
                                          </p:spTgt>
                                        </p:tgtEl>
                                        <p:attrNameLst>
                                          <p:attrName>ppt_w</p:attrName>
                                        </p:attrNameLst>
                                      </p:cBhvr>
                                    </p:anim>
                                    <p:anim calcmode="lin" valueType="num" by="(#ppt_w*0.50)">
                                      <p:cBhvr additive="repl">
                                        <p:cTn id="661" dur="500" autoRev="1" fill="hold">
                                          <p:stCondLst>
                                            <p:cond delay="0"/>
                                          </p:stCondLst>
                                        </p:cTn>
                                        <p:tgtEl>
                                          <p:spTgt spid="147">
                                            <p:txEl>
                                              <p:pRg st="0" end="0"/>
                                            </p:txEl>
                                          </p:spTgt>
                                        </p:tgtEl>
                                        <p:attrNameLst>
                                          <p:attrName>ppt_x</p:attrName>
                                        </p:attrNameLst>
                                      </p:cBhvr>
                                    </p:anim>
                                    <p:anim calcmode="lin" valueType="num" from="(-#ppt_h/2)" to="(#ppt_y)">
                                      <p:cBhvr additive="repl">
                                        <p:cTn id="662" dur="1000" fill="hold">
                                          <p:stCondLst>
                                            <p:cond delay="0"/>
                                          </p:stCondLst>
                                        </p:cTn>
                                        <p:tgtEl>
                                          <p:spTgt spid="147">
                                            <p:txEl>
                                              <p:pRg st="0" end="0"/>
                                            </p:txEl>
                                          </p:spTgt>
                                        </p:tgtEl>
                                        <p:attrNameLst>
                                          <p:attrName>ppt_y</p:attrName>
                                        </p:attrNameLst>
                                      </p:cBhvr>
                                    </p:anim>
                                    <p:animRot by="21600000">
                                      <p:cBhvr>
                                        <p:cTn id="663" dur="1000" fill="hold">
                                          <p:stCondLst>
                                            <p:cond delay="0"/>
                                          </p:stCondLst>
                                        </p:cTn>
                                        <p:tgtEl>
                                          <p:spTgt spid="147">
                                            <p:txEl>
                                              <p:pRg st="0" end="0"/>
                                            </p:txEl>
                                          </p:spTgt>
                                        </p:tgtEl>
                                        <p:attrNameLst>
                                          <p:attrName>r</p:attrName>
                                        </p:attrNameLst>
                                      </p:cBhvr>
                                    </p:animRot>
                                  </p:childTnLst>
                                </p:cTn>
                              </p:par>
                            </p:childTnLst>
                          </p:cTn>
                        </p:par>
                        <p:par>
                          <p:cTn id="664" fill="hold">
                            <p:stCondLst>
                              <p:cond delay="3100"/>
                            </p:stCondLst>
                            <p:childTnLst>
                              <p:par>
                                <p:cTn id="665" nodeType="afterEffect" fill="hold" presetClass="emph" presetID="34" repeatCount="indefinite">
                                  <p:stCondLst>
                                    <p:cond delay="0"/>
                                  </p:stCondLst>
                                  <p:iterate type="lt">
                                    <p:tmAbs val="50"/>
                                  </p:iterate>
                                  <p:childTnLst>
                                    <p:animMotion origin="layout" path="M 0 0 L 0 -0.07213 E">
                                      <p:cBhvr>
                                        <p:cTn id="666" dur="250" autoRev="1" fill="hold">
                                          <p:stCondLst>
                                            <p:cond delay="0"/>
                                          </p:stCondLst>
                                        </p:cTn>
                                        <p:tgtEl>
                                          <p:spTgt spid="147">
                                            <p:txEl>
                                              <p:pRg st="0" end="0"/>
                                            </p:txEl>
                                          </p:spTgt>
                                        </p:tgtEl>
                                      </p:cBhvr>
                                    </p:animMotion>
                                    <p:animRot by="1500000">
                                      <p:cBhvr>
                                        <p:cTn id="667" dur="125" fill="hold">
                                          <p:stCondLst>
                                            <p:cond delay="0"/>
                                          </p:stCondLst>
                                        </p:cTn>
                                        <p:tgtEl>
                                          <p:spTgt spid="147">
                                            <p:txEl>
                                              <p:pRg st="0" end="0"/>
                                            </p:txEl>
                                          </p:spTgt>
                                        </p:tgtEl>
                                        <p:attrNameLst>
                                          <p:attrName>r</p:attrName>
                                        </p:attrNameLst>
                                      </p:cBhvr>
                                    </p:animRot>
                                    <p:animRot by="-1500000">
                                      <p:cBhvr>
                                        <p:cTn id="668" dur="125" fill="hold">
                                          <p:stCondLst>
                                            <p:cond delay="125"/>
                                          </p:stCondLst>
                                        </p:cTn>
                                        <p:tgtEl>
                                          <p:spTgt spid="147">
                                            <p:txEl>
                                              <p:pRg st="0" end="0"/>
                                            </p:txEl>
                                          </p:spTgt>
                                        </p:tgtEl>
                                        <p:attrNameLst>
                                          <p:attrName>r</p:attrName>
                                        </p:attrNameLst>
                                      </p:cBhvr>
                                    </p:animRot>
                                    <p:animRot by="-1500000">
                                      <p:cBhvr>
                                        <p:cTn id="669" dur="125" fill="hold">
                                          <p:stCondLst>
                                            <p:cond delay="250"/>
                                          </p:stCondLst>
                                        </p:cTn>
                                        <p:tgtEl>
                                          <p:spTgt spid="147">
                                            <p:txEl>
                                              <p:pRg st="0" end="0"/>
                                            </p:txEl>
                                          </p:spTgt>
                                        </p:tgtEl>
                                        <p:attrNameLst>
                                          <p:attrName>r</p:attrName>
                                        </p:attrNameLst>
                                      </p:cBhvr>
                                    </p:animRot>
                                    <p:animRot by="1500000">
                                      <p:cBhvr>
                                        <p:cTn id="670" dur="125" fill="hold">
                                          <p:stCondLst>
                                            <p:cond delay="375"/>
                                          </p:stCondLst>
                                        </p:cTn>
                                        <p:tgtEl>
                                          <p:spTgt spid="147">
                                            <p:txEl>
                                              <p:pRg st="0" end="0"/>
                                            </p:txEl>
                                          </p:spTgt>
                                        </p:tgtEl>
                                        <p:attrNameLst>
                                          <p:attrName>r</p:attrName>
                                        </p:attrNameLst>
                                      </p:cBhvr>
                                    </p:animRo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53">
                                  <p:stCondLst>
                                    <p:cond delay="0"/>
                                  </p:stCondLst>
                                  <p:childTnLst>
                                    <p:set>
                                      <p:cBhvr>
                                        <p:cTn id="674" dur="1" fill="hold">
                                          <p:stCondLst>
                                            <p:cond delay="0"/>
                                          </p:stCondLst>
                                        </p:cTn>
                                        <p:tgtEl>
                                          <p:spTgt spid="146"/>
                                        </p:tgtEl>
                                        <p:attrNameLst>
                                          <p:attrName>style.visibility</p:attrName>
                                        </p:attrNameLst>
                                      </p:cBhvr>
                                      <p:to>
                                        <p:strVal val="visible"/>
                                      </p:to>
                                    </p:set>
                                    <p:anim calcmode="lin" valueType="num">
                                      <p:cBhvr additive="repl">
                                        <p:cTn id="675" dur="500" fill="hold"/>
                                        <p:tgtEl>
                                          <p:spTgt spid="146"/>
                                        </p:tgtEl>
                                        <p:attrNameLst>
                                          <p:attrName>ppt_w</p:attrName>
                                        </p:attrNameLst>
                                      </p:cBhvr>
                                      <p:tavLst>
                                        <p:tav tm="0">
                                          <p:val>
                                            <p:fltVal val="0"/>
                                          </p:val>
                                        </p:tav>
                                        <p:tav tm="100000">
                                          <p:val>
                                            <p:strVal val="#ppt_w"/>
                                          </p:val>
                                        </p:tav>
                                      </p:tavLst>
                                    </p:anim>
                                    <p:anim calcmode="lin" valueType="num">
                                      <p:cBhvr additive="repl">
                                        <p:cTn id="676" dur="500" fill="hold"/>
                                        <p:tgtEl>
                                          <p:spTgt spid="146"/>
                                        </p:tgtEl>
                                        <p:attrNameLst>
                                          <p:attrName>ppt_h</p:attrName>
                                        </p:attrNameLst>
                                      </p:cBhvr>
                                      <p:tavLst>
                                        <p:tav tm="0">
                                          <p:val>
                                            <p:fltVal val="0"/>
                                          </p:val>
                                        </p:tav>
                                        <p:tav tm="100000">
                                          <p:val>
                                            <p:strVal val="#ppt_h"/>
                                          </p:val>
                                        </p:tav>
                                      </p:tavLst>
                                    </p:anim>
                                    <p:animEffect filter="fade" transition="in">
                                      <p:cBhvr additive="repl">
                                        <p:cTn id="677" dur="500"/>
                                        <p:tgtEl>
                                          <p:spTgt spid="146"/>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8" presetSubtype="12">
                                  <p:stCondLst>
                                    <p:cond delay="0"/>
                                  </p:stCondLst>
                                  <p:iterate type="lt">
                                    <p:tmAbs val="0"/>
                                  </p:iterate>
                                  <p:childTnLst>
                                    <p:set>
                                      <p:cBhvr>
                                        <p:cTn id="681" dur="1" fill="hold">
                                          <p:stCondLst>
                                            <p:cond delay="0"/>
                                          </p:stCondLst>
                                        </p:cTn>
                                        <p:tgtEl>
                                          <p:spTgt spid="146">
                                            <p:txEl>
                                              <p:pRg st="0" end="0"/>
                                            </p:txEl>
                                          </p:spTgt>
                                        </p:tgtEl>
                                        <p:attrNameLst>
                                          <p:attrName>style.visibility</p:attrName>
                                        </p:attrNameLst>
                                      </p:cBhvr>
                                      <p:to>
                                        <p:strVal val="visible"/>
                                      </p:to>
                                    </p:set>
                                    <p:animEffect filter="strips(downLeft)" transition="in">
                                      <p:cBhvr additive="repl">
                                        <p:cTn id="682"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8" name=""/>
          <p:cNvGrpSpPr/>
          <p:nvPr/>
        </p:nvGrpSpPr>
        <p:grpSpPr>
          <a:xfrm>
            <a:off x="928800" y="1027080"/>
            <a:ext cx="7083360" cy="5884920"/>
            <a:chOff x="928800" y="1027080"/>
            <a:chExt cx="7083360" cy="5884920"/>
          </a:xfrm>
        </p:grpSpPr>
        <p:sp>
          <p:nvSpPr>
            <p:cNvPr id="149" name=""/>
            <p:cNvSpPr/>
            <p:nvPr/>
          </p:nvSpPr>
          <p:spPr>
            <a:xfrm>
              <a:off x="928800" y="1258920"/>
              <a:ext cx="7083360" cy="5653080"/>
            </a:xfrm>
            <a:custGeom>
              <a:avLst/>
              <a:gdLst/>
              <a:ahLst/>
              <a:rect l="l" t="t" r="r" b="b"/>
              <a:pathLst>
                <a:path w="4182" h="2864">
                  <a:moveTo>
                    <a:pt x="3607" y="2747"/>
                  </a:moveTo>
                  <a:lnTo>
                    <a:pt x="3647" y="2723"/>
                  </a:lnTo>
                  <a:lnTo>
                    <a:pt x="3661" y="2700"/>
                  </a:lnTo>
                  <a:lnTo>
                    <a:pt x="3674" y="2677"/>
                  </a:lnTo>
                  <a:lnTo>
                    <a:pt x="3674" y="2501"/>
                  </a:lnTo>
                  <a:lnTo>
                    <a:pt x="3701" y="2490"/>
                  </a:lnTo>
                  <a:lnTo>
                    <a:pt x="3835" y="2490"/>
                  </a:lnTo>
                  <a:lnTo>
                    <a:pt x="3835" y="2770"/>
                  </a:lnTo>
                  <a:lnTo>
                    <a:pt x="3848" y="2782"/>
                  </a:lnTo>
                  <a:lnTo>
                    <a:pt x="3888" y="2805"/>
                  </a:lnTo>
                  <a:lnTo>
                    <a:pt x="3941" y="2829"/>
                  </a:lnTo>
                  <a:lnTo>
                    <a:pt x="3995" y="2829"/>
                  </a:lnTo>
                  <a:lnTo>
                    <a:pt x="4048" y="2829"/>
                  </a:lnTo>
                  <a:lnTo>
                    <a:pt x="4102" y="2805"/>
                  </a:lnTo>
                  <a:lnTo>
                    <a:pt x="4155" y="2793"/>
                  </a:lnTo>
                  <a:lnTo>
                    <a:pt x="4182" y="2758"/>
                  </a:lnTo>
                  <a:lnTo>
                    <a:pt x="3901" y="0"/>
                  </a:lnTo>
                  <a:lnTo>
                    <a:pt x="3875" y="0"/>
                  </a:lnTo>
                  <a:lnTo>
                    <a:pt x="3861" y="128"/>
                  </a:lnTo>
                  <a:lnTo>
                    <a:pt x="3701" y="210"/>
                  </a:lnTo>
                  <a:lnTo>
                    <a:pt x="3527" y="280"/>
                  </a:lnTo>
                  <a:lnTo>
                    <a:pt x="3354" y="351"/>
                  </a:lnTo>
                  <a:lnTo>
                    <a:pt x="3166" y="397"/>
                  </a:lnTo>
                  <a:lnTo>
                    <a:pt x="2993" y="444"/>
                  </a:lnTo>
                  <a:lnTo>
                    <a:pt x="2806" y="479"/>
                  </a:lnTo>
                  <a:lnTo>
                    <a:pt x="2619" y="503"/>
                  </a:lnTo>
                  <a:lnTo>
                    <a:pt x="2418" y="526"/>
                  </a:lnTo>
                  <a:lnTo>
                    <a:pt x="2231" y="538"/>
                  </a:lnTo>
                  <a:lnTo>
                    <a:pt x="2044" y="538"/>
                  </a:lnTo>
                  <a:lnTo>
                    <a:pt x="1857" y="526"/>
                  </a:lnTo>
                  <a:lnTo>
                    <a:pt x="1670" y="503"/>
                  </a:lnTo>
                  <a:lnTo>
                    <a:pt x="1483" y="479"/>
                  </a:lnTo>
                  <a:lnTo>
                    <a:pt x="1296" y="444"/>
                  </a:lnTo>
                  <a:lnTo>
                    <a:pt x="1109" y="397"/>
                  </a:lnTo>
                  <a:lnTo>
                    <a:pt x="922" y="339"/>
                  </a:lnTo>
                  <a:lnTo>
                    <a:pt x="748" y="280"/>
                  </a:lnTo>
                  <a:lnTo>
                    <a:pt x="574" y="210"/>
                  </a:lnTo>
                  <a:lnTo>
                    <a:pt x="414" y="128"/>
                  </a:lnTo>
                  <a:lnTo>
                    <a:pt x="387" y="0"/>
                  </a:lnTo>
                  <a:lnTo>
                    <a:pt x="387" y="0"/>
                  </a:lnTo>
                  <a:lnTo>
                    <a:pt x="374" y="0"/>
                  </a:lnTo>
                  <a:lnTo>
                    <a:pt x="0" y="2688"/>
                  </a:lnTo>
                  <a:lnTo>
                    <a:pt x="40" y="2723"/>
                  </a:lnTo>
                  <a:lnTo>
                    <a:pt x="93" y="2758"/>
                  </a:lnTo>
                  <a:lnTo>
                    <a:pt x="147" y="2770"/>
                  </a:lnTo>
                  <a:lnTo>
                    <a:pt x="200" y="2782"/>
                  </a:lnTo>
                  <a:lnTo>
                    <a:pt x="254" y="2782"/>
                  </a:lnTo>
                  <a:lnTo>
                    <a:pt x="320" y="2770"/>
                  </a:lnTo>
                  <a:lnTo>
                    <a:pt x="374" y="2758"/>
                  </a:lnTo>
                  <a:lnTo>
                    <a:pt x="414" y="2735"/>
                  </a:lnTo>
                  <a:lnTo>
                    <a:pt x="441" y="2723"/>
                  </a:lnTo>
                  <a:lnTo>
                    <a:pt x="441" y="2490"/>
                  </a:lnTo>
                  <a:lnTo>
                    <a:pt x="467" y="2490"/>
                  </a:lnTo>
                  <a:lnTo>
                    <a:pt x="467" y="2653"/>
                  </a:lnTo>
                  <a:lnTo>
                    <a:pt x="467" y="2665"/>
                  </a:lnTo>
                  <a:lnTo>
                    <a:pt x="481" y="2677"/>
                  </a:lnTo>
                  <a:lnTo>
                    <a:pt x="494" y="2688"/>
                  </a:lnTo>
                  <a:lnTo>
                    <a:pt x="521" y="2700"/>
                  </a:lnTo>
                  <a:lnTo>
                    <a:pt x="548" y="2712"/>
                  </a:lnTo>
                  <a:lnTo>
                    <a:pt x="828" y="2758"/>
                  </a:lnTo>
                  <a:lnTo>
                    <a:pt x="1109" y="2793"/>
                  </a:lnTo>
                  <a:lnTo>
                    <a:pt x="1389" y="2829"/>
                  </a:lnTo>
                  <a:lnTo>
                    <a:pt x="1670" y="2852"/>
                  </a:lnTo>
                  <a:lnTo>
                    <a:pt x="1951" y="2864"/>
                  </a:lnTo>
                  <a:lnTo>
                    <a:pt x="2245" y="2864"/>
                  </a:lnTo>
                  <a:lnTo>
                    <a:pt x="2525" y="2852"/>
                  </a:lnTo>
                  <a:lnTo>
                    <a:pt x="2819" y="2840"/>
                  </a:lnTo>
                  <a:lnTo>
                    <a:pt x="3086" y="2817"/>
                  </a:lnTo>
                  <a:lnTo>
                    <a:pt x="3380" y="2782"/>
                  </a:lnTo>
                  <a:lnTo>
                    <a:pt x="3581" y="2758"/>
                  </a:lnTo>
                  <a:lnTo>
                    <a:pt x="3607" y="2747"/>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1719360" y="6174000"/>
              <a:ext cx="180720" cy="345960"/>
            </a:xfrm>
            <a:custGeom>
              <a:avLst/>
              <a:gdLst/>
              <a:ahLst/>
              <a:rect l="l" t="t" r="r" b="b"/>
              <a:pathLst>
                <a:path w="107" h="175">
                  <a:moveTo>
                    <a:pt x="0" y="152"/>
                  </a:moveTo>
                  <a:lnTo>
                    <a:pt x="0" y="0"/>
                  </a:lnTo>
                  <a:lnTo>
                    <a:pt x="14" y="0"/>
                  </a:lnTo>
                  <a:lnTo>
                    <a:pt x="27" y="11"/>
                  </a:lnTo>
                  <a:lnTo>
                    <a:pt x="41" y="11"/>
                  </a:lnTo>
                  <a:lnTo>
                    <a:pt x="54" y="23"/>
                  </a:lnTo>
                  <a:lnTo>
                    <a:pt x="81" y="23"/>
                  </a:lnTo>
                  <a:lnTo>
                    <a:pt x="81" y="35"/>
                  </a:lnTo>
                  <a:lnTo>
                    <a:pt x="94" y="46"/>
                  </a:lnTo>
                  <a:lnTo>
                    <a:pt x="107" y="58"/>
                  </a:lnTo>
                  <a:lnTo>
                    <a:pt x="107" y="58"/>
                  </a:lnTo>
                  <a:lnTo>
                    <a:pt x="107" y="70"/>
                  </a:lnTo>
                  <a:lnTo>
                    <a:pt x="107" y="70"/>
                  </a:lnTo>
                  <a:lnTo>
                    <a:pt x="107" y="81"/>
                  </a:lnTo>
                  <a:lnTo>
                    <a:pt x="107" y="93"/>
                  </a:lnTo>
                  <a:lnTo>
                    <a:pt x="94" y="93"/>
                  </a:lnTo>
                  <a:lnTo>
                    <a:pt x="94" y="105"/>
                  </a:lnTo>
                  <a:lnTo>
                    <a:pt x="81" y="105"/>
                  </a:lnTo>
                  <a:lnTo>
                    <a:pt x="81" y="116"/>
                  </a:lnTo>
                  <a:lnTo>
                    <a:pt x="81" y="116"/>
                  </a:lnTo>
                  <a:lnTo>
                    <a:pt x="67" y="116"/>
                  </a:lnTo>
                  <a:lnTo>
                    <a:pt x="54" y="128"/>
                  </a:lnTo>
                  <a:lnTo>
                    <a:pt x="41" y="140"/>
                  </a:lnTo>
                  <a:lnTo>
                    <a:pt x="41" y="140"/>
                  </a:lnTo>
                  <a:lnTo>
                    <a:pt x="27" y="140"/>
                  </a:lnTo>
                  <a:lnTo>
                    <a:pt x="27" y="152"/>
                  </a:lnTo>
                  <a:lnTo>
                    <a:pt x="14" y="163"/>
                  </a:lnTo>
                  <a:lnTo>
                    <a:pt x="0" y="175"/>
                  </a:lnTo>
                  <a:lnTo>
                    <a:pt x="0" y="163"/>
                  </a:lnTo>
                  <a:lnTo>
                    <a:pt x="0" y="163"/>
                  </a:lnTo>
                  <a:lnTo>
                    <a:pt x="0" y="152"/>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928800" y="6149880"/>
              <a:ext cx="745920" cy="600120"/>
            </a:xfrm>
            <a:custGeom>
              <a:avLst/>
              <a:gdLst/>
              <a:ahLst/>
              <a:rect l="l" t="t" r="r" b="b"/>
              <a:pathLst>
                <a:path w="441" h="304">
                  <a:moveTo>
                    <a:pt x="374" y="128"/>
                  </a:moveTo>
                  <a:lnTo>
                    <a:pt x="374" y="0"/>
                  </a:lnTo>
                  <a:lnTo>
                    <a:pt x="414" y="0"/>
                  </a:lnTo>
                  <a:lnTo>
                    <a:pt x="441" y="12"/>
                  </a:lnTo>
                  <a:lnTo>
                    <a:pt x="441" y="245"/>
                  </a:lnTo>
                  <a:lnTo>
                    <a:pt x="414" y="257"/>
                  </a:lnTo>
                  <a:lnTo>
                    <a:pt x="374" y="269"/>
                  </a:lnTo>
                  <a:lnTo>
                    <a:pt x="361" y="280"/>
                  </a:lnTo>
                  <a:lnTo>
                    <a:pt x="320" y="292"/>
                  </a:lnTo>
                  <a:lnTo>
                    <a:pt x="267" y="304"/>
                  </a:lnTo>
                  <a:lnTo>
                    <a:pt x="200" y="304"/>
                  </a:lnTo>
                  <a:lnTo>
                    <a:pt x="147" y="292"/>
                  </a:lnTo>
                  <a:lnTo>
                    <a:pt x="147" y="292"/>
                  </a:lnTo>
                  <a:lnTo>
                    <a:pt x="120" y="280"/>
                  </a:lnTo>
                  <a:lnTo>
                    <a:pt x="107" y="280"/>
                  </a:lnTo>
                  <a:lnTo>
                    <a:pt x="93" y="280"/>
                  </a:lnTo>
                  <a:lnTo>
                    <a:pt x="67" y="257"/>
                  </a:lnTo>
                  <a:lnTo>
                    <a:pt x="40" y="245"/>
                  </a:lnTo>
                  <a:lnTo>
                    <a:pt x="0" y="210"/>
                  </a:lnTo>
                  <a:lnTo>
                    <a:pt x="13" y="199"/>
                  </a:lnTo>
                  <a:lnTo>
                    <a:pt x="13" y="187"/>
                  </a:lnTo>
                  <a:lnTo>
                    <a:pt x="27" y="187"/>
                  </a:lnTo>
                  <a:lnTo>
                    <a:pt x="40" y="175"/>
                  </a:lnTo>
                  <a:lnTo>
                    <a:pt x="53" y="175"/>
                  </a:lnTo>
                  <a:lnTo>
                    <a:pt x="67" y="164"/>
                  </a:lnTo>
                  <a:lnTo>
                    <a:pt x="67" y="164"/>
                  </a:lnTo>
                  <a:lnTo>
                    <a:pt x="80" y="152"/>
                  </a:lnTo>
                  <a:lnTo>
                    <a:pt x="93" y="152"/>
                  </a:lnTo>
                  <a:lnTo>
                    <a:pt x="107" y="152"/>
                  </a:lnTo>
                  <a:lnTo>
                    <a:pt x="120" y="140"/>
                  </a:lnTo>
                  <a:lnTo>
                    <a:pt x="133" y="140"/>
                  </a:lnTo>
                  <a:lnTo>
                    <a:pt x="147" y="140"/>
                  </a:lnTo>
                  <a:lnTo>
                    <a:pt x="160" y="128"/>
                  </a:lnTo>
                  <a:lnTo>
                    <a:pt x="174" y="128"/>
                  </a:lnTo>
                  <a:lnTo>
                    <a:pt x="320" y="175"/>
                  </a:lnTo>
                  <a:lnTo>
                    <a:pt x="334" y="175"/>
                  </a:lnTo>
                  <a:lnTo>
                    <a:pt x="347" y="164"/>
                  </a:lnTo>
                  <a:lnTo>
                    <a:pt x="361" y="164"/>
                  </a:lnTo>
                  <a:lnTo>
                    <a:pt x="361" y="152"/>
                  </a:lnTo>
                  <a:lnTo>
                    <a:pt x="374" y="128"/>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1222200" y="6334200"/>
              <a:ext cx="339840" cy="162000"/>
            </a:xfrm>
            <a:custGeom>
              <a:avLst/>
              <a:gdLst/>
              <a:ahLst/>
              <a:rect l="l" t="t" r="r" b="b"/>
              <a:pathLst>
                <a:path w="200" h="82">
                  <a:moveTo>
                    <a:pt x="133" y="71"/>
                  </a:moveTo>
                  <a:lnTo>
                    <a:pt x="146" y="71"/>
                  </a:lnTo>
                  <a:lnTo>
                    <a:pt x="146" y="82"/>
                  </a:lnTo>
                  <a:lnTo>
                    <a:pt x="160" y="82"/>
                  </a:lnTo>
                  <a:lnTo>
                    <a:pt x="173" y="71"/>
                  </a:lnTo>
                  <a:lnTo>
                    <a:pt x="187" y="71"/>
                  </a:lnTo>
                  <a:lnTo>
                    <a:pt x="187" y="71"/>
                  </a:lnTo>
                  <a:lnTo>
                    <a:pt x="187" y="59"/>
                  </a:lnTo>
                  <a:lnTo>
                    <a:pt x="200" y="59"/>
                  </a:lnTo>
                  <a:lnTo>
                    <a:pt x="200" y="47"/>
                  </a:lnTo>
                  <a:lnTo>
                    <a:pt x="200" y="47"/>
                  </a:lnTo>
                  <a:lnTo>
                    <a:pt x="200" y="35"/>
                  </a:lnTo>
                  <a:lnTo>
                    <a:pt x="200" y="24"/>
                  </a:lnTo>
                  <a:lnTo>
                    <a:pt x="187" y="24"/>
                  </a:lnTo>
                  <a:lnTo>
                    <a:pt x="187" y="12"/>
                  </a:lnTo>
                  <a:lnTo>
                    <a:pt x="187" y="12"/>
                  </a:lnTo>
                  <a:lnTo>
                    <a:pt x="173" y="12"/>
                  </a:lnTo>
                  <a:lnTo>
                    <a:pt x="173" y="0"/>
                  </a:lnTo>
                  <a:lnTo>
                    <a:pt x="160" y="0"/>
                  </a:lnTo>
                  <a:lnTo>
                    <a:pt x="0" y="35"/>
                  </a:lnTo>
                  <a:lnTo>
                    <a:pt x="133" y="71"/>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1085760" y="6126120"/>
              <a:ext cx="476280" cy="277920"/>
            </a:xfrm>
            <a:custGeom>
              <a:avLst/>
              <a:gdLst/>
              <a:ahLst/>
              <a:rect l="l" t="t" r="r" b="b"/>
              <a:pathLst>
                <a:path w="281" h="140">
                  <a:moveTo>
                    <a:pt x="81" y="140"/>
                  </a:moveTo>
                  <a:lnTo>
                    <a:pt x="241" y="105"/>
                  </a:lnTo>
                  <a:lnTo>
                    <a:pt x="254" y="105"/>
                  </a:lnTo>
                  <a:lnTo>
                    <a:pt x="268" y="117"/>
                  </a:lnTo>
                  <a:lnTo>
                    <a:pt x="268" y="117"/>
                  </a:lnTo>
                  <a:lnTo>
                    <a:pt x="281" y="129"/>
                  </a:lnTo>
                  <a:lnTo>
                    <a:pt x="281" y="140"/>
                  </a:lnTo>
                  <a:lnTo>
                    <a:pt x="281" y="12"/>
                  </a:lnTo>
                  <a:lnTo>
                    <a:pt x="268" y="12"/>
                  </a:lnTo>
                  <a:lnTo>
                    <a:pt x="254" y="0"/>
                  </a:lnTo>
                  <a:lnTo>
                    <a:pt x="161" y="0"/>
                  </a:lnTo>
                  <a:lnTo>
                    <a:pt x="147" y="12"/>
                  </a:lnTo>
                  <a:lnTo>
                    <a:pt x="134" y="12"/>
                  </a:lnTo>
                  <a:lnTo>
                    <a:pt x="121" y="12"/>
                  </a:lnTo>
                  <a:lnTo>
                    <a:pt x="107" y="24"/>
                  </a:lnTo>
                  <a:lnTo>
                    <a:pt x="81" y="24"/>
                  </a:lnTo>
                  <a:lnTo>
                    <a:pt x="81" y="24"/>
                  </a:lnTo>
                  <a:lnTo>
                    <a:pt x="54" y="35"/>
                  </a:lnTo>
                  <a:lnTo>
                    <a:pt x="54" y="35"/>
                  </a:lnTo>
                  <a:lnTo>
                    <a:pt x="27" y="47"/>
                  </a:lnTo>
                  <a:lnTo>
                    <a:pt x="14" y="59"/>
                  </a:lnTo>
                  <a:lnTo>
                    <a:pt x="0" y="59"/>
                  </a:lnTo>
                  <a:lnTo>
                    <a:pt x="0" y="70"/>
                  </a:lnTo>
                  <a:lnTo>
                    <a:pt x="0" y="70"/>
                  </a:lnTo>
                  <a:lnTo>
                    <a:pt x="0" y="70"/>
                  </a:lnTo>
                  <a:lnTo>
                    <a:pt x="0" y="82"/>
                  </a:lnTo>
                  <a:lnTo>
                    <a:pt x="0" y="94"/>
                  </a:lnTo>
                  <a:lnTo>
                    <a:pt x="14" y="105"/>
                  </a:lnTo>
                  <a:lnTo>
                    <a:pt x="27" y="129"/>
                  </a:lnTo>
                  <a:lnTo>
                    <a:pt x="40" y="129"/>
                  </a:lnTo>
                  <a:lnTo>
                    <a:pt x="54" y="129"/>
                  </a:lnTo>
                  <a:lnTo>
                    <a:pt x="54" y="140"/>
                  </a:lnTo>
                  <a:lnTo>
                    <a:pt x="67" y="140"/>
                  </a:lnTo>
                  <a:lnTo>
                    <a:pt x="81" y="140"/>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7424640" y="6174000"/>
              <a:ext cx="316080" cy="552240"/>
            </a:xfrm>
            <a:custGeom>
              <a:avLst/>
              <a:gdLst/>
              <a:ahLst/>
              <a:rect l="l" t="t" r="r" b="b"/>
              <a:pathLst>
                <a:path w="187" h="280">
                  <a:moveTo>
                    <a:pt x="93" y="245"/>
                  </a:moveTo>
                  <a:lnTo>
                    <a:pt x="106" y="245"/>
                  </a:lnTo>
                  <a:lnTo>
                    <a:pt x="120" y="245"/>
                  </a:lnTo>
                  <a:lnTo>
                    <a:pt x="133" y="233"/>
                  </a:lnTo>
                  <a:lnTo>
                    <a:pt x="147" y="233"/>
                  </a:lnTo>
                  <a:lnTo>
                    <a:pt x="160" y="222"/>
                  </a:lnTo>
                  <a:lnTo>
                    <a:pt x="160" y="210"/>
                  </a:lnTo>
                  <a:lnTo>
                    <a:pt x="160" y="198"/>
                  </a:lnTo>
                  <a:lnTo>
                    <a:pt x="173" y="187"/>
                  </a:lnTo>
                  <a:lnTo>
                    <a:pt x="187" y="187"/>
                  </a:lnTo>
                  <a:lnTo>
                    <a:pt x="187" y="187"/>
                  </a:lnTo>
                  <a:lnTo>
                    <a:pt x="173" y="187"/>
                  </a:lnTo>
                  <a:lnTo>
                    <a:pt x="160" y="187"/>
                  </a:lnTo>
                  <a:lnTo>
                    <a:pt x="147" y="175"/>
                  </a:lnTo>
                  <a:lnTo>
                    <a:pt x="133" y="175"/>
                  </a:lnTo>
                  <a:lnTo>
                    <a:pt x="133" y="175"/>
                  </a:lnTo>
                  <a:lnTo>
                    <a:pt x="120" y="163"/>
                  </a:lnTo>
                  <a:lnTo>
                    <a:pt x="120" y="23"/>
                  </a:lnTo>
                  <a:lnTo>
                    <a:pt x="106" y="23"/>
                  </a:lnTo>
                  <a:lnTo>
                    <a:pt x="80" y="11"/>
                  </a:lnTo>
                  <a:lnTo>
                    <a:pt x="66" y="11"/>
                  </a:lnTo>
                  <a:lnTo>
                    <a:pt x="53" y="11"/>
                  </a:lnTo>
                  <a:lnTo>
                    <a:pt x="26" y="0"/>
                  </a:lnTo>
                  <a:lnTo>
                    <a:pt x="0" y="0"/>
                  </a:lnTo>
                  <a:lnTo>
                    <a:pt x="0" y="280"/>
                  </a:lnTo>
                  <a:lnTo>
                    <a:pt x="0" y="268"/>
                  </a:lnTo>
                  <a:lnTo>
                    <a:pt x="26" y="268"/>
                  </a:lnTo>
                  <a:lnTo>
                    <a:pt x="53" y="257"/>
                  </a:lnTo>
                  <a:lnTo>
                    <a:pt x="66" y="257"/>
                  </a:lnTo>
                  <a:lnTo>
                    <a:pt x="93" y="245"/>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994440" y="6195960"/>
              <a:ext cx="157320" cy="277920"/>
            </a:xfrm>
            <a:custGeom>
              <a:avLst/>
              <a:gdLst/>
              <a:ahLst/>
              <a:rect l="l" t="t" r="r" b="b"/>
              <a:pathLst>
                <a:path w="93" h="141">
                  <a:moveTo>
                    <a:pt x="93" y="141"/>
                  </a:moveTo>
                  <a:lnTo>
                    <a:pt x="93" y="129"/>
                  </a:lnTo>
                  <a:lnTo>
                    <a:pt x="80" y="129"/>
                  </a:lnTo>
                  <a:lnTo>
                    <a:pt x="80" y="117"/>
                  </a:lnTo>
                  <a:lnTo>
                    <a:pt x="53" y="117"/>
                  </a:lnTo>
                  <a:lnTo>
                    <a:pt x="53" y="117"/>
                  </a:lnTo>
                  <a:lnTo>
                    <a:pt x="40" y="117"/>
                  </a:lnTo>
                  <a:lnTo>
                    <a:pt x="40" y="105"/>
                  </a:lnTo>
                  <a:lnTo>
                    <a:pt x="13" y="105"/>
                  </a:lnTo>
                  <a:lnTo>
                    <a:pt x="13" y="94"/>
                  </a:lnTo>
                  <a:lnTo>
                    <a:pt x="0" y="94"/>
                  </a:lnTo>
                  <a:lnTo>
                    <a:pt x="0" y="82"/>
                  </a:lnTo>
                  <a:lnTo>
                    <a:pt x="0" y="82"/>
                  </a:lnTo>
                  <a:lnTo>
                    <a:pt x="0" y="59"/>
                  </a:lnTo>
                  <a:lnTo>
                    <a:pt x="0" y="47"/>
                  </a:lnTo>
                  <a:lnTo>
                    <a:pt x="0" y="35"/>
                  </a:lnTo>
                  <a:lnTo>
                    <a:pt x="13" y="35"/>
                  </a:lnTo>
                  <a:lnTo>
                    <a:pt x="13" y="24"/>
                  </a:lnTo>
                  <a:lnTo>
                    <a:pt x="26" y="12"/>
                  </a:lnTo>
                  <a:lnTo>
                    <a:pt x="40" y="12"/>
                  </a:lnTo>
                  <a:lnTo>
                    <a:pt x="53" y="12"/>
                  </a:lnTo>
                  <a:lnTo>
                    <a:pt x="66" y="0"/>
                  </a:lnTo>
                  <a:lnTo>
                    <a:pt x="80" y="0"/>
                  </a:lnTo>
                  <a:lnTo>
                    <a:pt x="80" y="0"/>
                  </a:lnTo>
                  <a:lnTo>
                    <a:pt x="93" y="0"/>
                  </a:lnTo>
                  <a:lnTo>
                    <a:pt x="93" y="141"/>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7628040" y="6219720"/>
              <a:ext cx="156960" cy="230400"/>
            </a:xfrm>
            <a:custGeom>
              <a:avLst/>
              <a:gdLst/>
              <a:ahLst/>
              <a:rect l="l" t="t" r="r" b="b"/>
              <a:pathLst>
                <a:path w="93" h="117">
                  <a:moveTo>
                    <a:pt x="0" y="117"/>
                  </a:moveTo>
                  <a:lnTo>
                    <a:pt x="13" y="93"/>
                  </a:lnTo>
                  <a:lnTo>
                    <a:pt x="67" y="93"/>
                  </a:lnTo>
                  <a:lnTo>
                    <a:pt x="80" y="93"/>
                  </a:lnTo>
                  <a:lnTo>
                    <a:pt x="80" y="82"/>
                  </a:lnTo>
                  <a:lnTo>
                    <a:pt x="93" y="70"/>
                  </a:lnTo>
                  <a:lnTo>
                    <a:pt x="93" y="47"/>
                  </a:lnTo>
                  <a:lnTo>
                    <a:pt x="93" y="35"/>
                  </a:lnTo>
                  <a:lnTo>
                    <a:pt x="80" y="35"/>
                  </a:lnTo>
                  <a:lnTo>
                    <a:pt x="67" y="23"/>
                  </a:lnTo>
                  <a:lnTo>
                    <a:pt x="53" y="12"/>
                  </a:lnTo>
                  <a:lnTo>
                    <a:pt x="27" y="0"/>
                  </a:lnTo>
                  <a:lnTo>
                    <a:pt x="0" y="0"/>
                  </a:lnTo>
                  <a:lnTo>
                    <a:pt x="0" y="117"/>
                  </a:lnTo>
                  <a:close/>
                </a:path>
              </a:pathLst>
            </a:custGeom>
            <a:solidFill>
              <a:srgbClr val="c0c0c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7628040" y="6404040"/>
              <a:ext cx="90360" cy="139680"/>
            </a:xfrm>
            <a:custGeom>
              <a:avLst/>
              <a:gdLst/>
              <a:ahLst/>
              <a:rect l="l" t="t" r="r" b="b"/>
              <a:pathLst>
                <a:path w="53" h="71">
                  <a:moveTo>
                    <a:pt x="53" y="71"/>
                  </a:moveTo>
                  <a:lnTo>
                    <a:pt x="53" y="71"/>
                  </a:lnTo>
                  <a:lnTo>
                    <a:pt x="40" y="71"/>
                  </a:lnTo>
                  <a:lnTo>
                    <a:pt x="27" y="59"/>
                  </a:lnTo>
                  <a:lnTo>
                    <a:pt x="13" y="59"/>
                  </a:lnTo>
                  <a:lnTo>
                    <a:pt x="13" y="47"/>
                  </a:lnTo>
                  <a:lnTo>
                    <a:pt x="0" y="47"/>
                  </a:lnTo>
                  <a:lnTo>
                    <a:pt x="0" y="24"/>
                  </a:lnTo>
                  <a:lnTo>
                    <a:pt x="13" y="0"/>
                  </a:lnTo>
                  <a:lnTo>
                    <a:pt x="53" y="0"/>
                  </a:lnTo>
                  <a:lnTo>
                    <a:pt x="53" y="71"/>
                  </a:lnTo>
                  <a:close/>
                </a:path>
              </a:pathLst>
            </a:custGeom>
            <a:solidFill>
              <a:srgbClr val="808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H="1">
              <a:off x="1085760" y="2779920"/>
              <a:ext cx="362160" cy="346392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630440" y="1765440"/>
              <a:ext cx="269640" cy="452268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6994080" y="1650960"/>
              <a:ext cx="474840" cy="466092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7559640" y="2227320"/>
              <a:ext cx="225360" cy="4060800"/>
            </a:xfrm>
            <a:prstGeom prst="line">
              <a:avLst/>
            </a:prstGeom>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447920" y="1027080"/>
              <a:ext cx="226800" cy="231840"/>
            </a:xfrm>
            <a:custGeom>
              <a:avLst/>
              <a:gdLst/>
              <a:ahLst/>
              <a:rect l="l" t="t" r="r" b="b"/>
              <a:pathLst>
                <a:path w="134" h="117">
                  <a:moveTo>
                    <a:pt x="134" y="58"/>
                  </a:moveTo>
                  <a:lnTo>
                    <a:pt x="134" y="35"/>
                  </a:lnTo>
                  <a:lnTo>
                    <a:pt x="107" y="12"/>
                  </a:lnTo>
                  <a:lnTo>
                    <a:pt x="94" y="0"/>
                  </a:lnTo>
                  <a:lnTo>
                    <a:pt x="67" y="0"/>
                  </a:lnTo>
                  <a:lnTo>
                    <a:pt x="40" y="0"/>
                  </a:lnTo>
                  <a:lnTo>
                    <a:pt x="13" y="12"/>
                  </a:lnTo>
                  <a:lnTo>
                    <a:pt x="0" y="35"/>
                  </a:lnTo>
                  <a:lnTo>
                    <a:pt x="0" y="58"/>
                  </a:lnTo>
                  <a:lnTo>
                    <a:pt x="0" y="82"/>
                  </a:lnTo>
                  <a:lnTo>
                    <a:pt x="27" y="94"/>
                  </a:lnTo>
                  <a:lnTo>
                    <a:pt x="40" y="117"/>
                  </a:lnTo>
                  <a:lnTo>
                    <a:pt x="67" y="117"/>
                  </a:lnTo>
                  <a:lnTo>
                    <a:pt x="94" y="117"/>
                  </a:lnTo>
                  <a:lnTo>
                    <a:pt x="120" y="94"/>
                  </a:lnTo>
                  <a:lnTo>
                    <a:pt x="134" y="70"/>
                  </a:lnTo>
                  <a:lnTo>
                    <a:pt x="134" y="5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400880" y="1027080"/>
              <a:ext cx="249120" cy="231840"/>
            </a:xfrm>
            <a:custGeom>
              <a:avLst/>
              <a:gdLst/>
              <a:ahLst/>
              <a:rect l="l" t="t" r="r" b="b"/>
              <a:pathLst>
                <a:path w="147" h="117">
                  <a:moveTo>
                    <a:pt x="147" y="58"/>
                  </a:moveTo>
                  <a:lnTo>
                    <a:pt x="134" y="35"/>
                  </a:lnTo>
                  <a:lnTo>
                    <a:pt x="120" y="12"/>
                  </a:lnTo>
                  <a:lnTo>
                    <a:pt x="94" y="0"/>
                  </a:lnTo>
                  <a:lnTo>
                    <a:pt x="67" y="0"/>
                  </a:lnTo>
                  <a:lnTo>
                    <a:pt x="40" y="0"/>
                  </a:lnTo>
                  <a:lnTo>
                    <a:pt x="14" y="12"/>
                  </a:lnTo>
                  <a:lnTo>
                    <a:pt x="14" y="35"/>
                  </a:lnTo>
                  <a:lnTo>
                    <a:pt x="0" y="58"/>
                  </a:lnTo>
                  <a:lnTo>
                    <a:pt x="14" y="82"/>
                  </a:lnTo>
                  <a:lnTo>
                    <a:pt x="27" y="94"/>
                  </a:lnTo>
                  <a:lnTo>
                    <a:pt x="54" y="117"/>
                  </a:lnTo>
                  <a:lnTo>
                    <a:pt x="80" y="117"/>
                  </a:lnTo>
                  <a:lnTo>
                    <a:pt x="107" y="105"/>
                  </a:lnTo>
                  <a:lnTo>
                    <a:pt x="120" y="94"/>
                  </a:lnTo>
                  <a:lnTo>
                    <a:pt x="134" y="70"/>
                  </a:lnTo>
                  <a:lnTo>
                    <a:pt x="147" y="58"/>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
          <p:cNvSpPr/>
          <p:nvPr/>
        </p:nvSpPr>
        <p:spPr>
          <a:xfrm>
            <a:off x="2050920" y="2205000"/>
            <a:ext cx="5329440" cy="36684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050920" y="2205000"/>
            <a:ext cx="4970520" cy="6797160"/>
          </a:xfrm>
          <a:prstGeom prst="rect">
            <a:avLst/>
          </a:prstGeom>
          <a:noFill/>
          <a:ln w="0">
            <a:noFill/>
          </a:ln>
        </p:spPr>
        <p:style>
          <a:lnRef idx="0"/>
          <a:fillRef idx="0"/>
          <a:effectRef idx="0"/>
          <a:fontRef idx="minor"/>
        </p:style>
        <p:txBody>
          <a:bodyPr lIns="90000" rIns="90000" tIns="46800" bIns="46800" anchor="t">
            <a:spAutoFit/>
          </a:bodyPr>
          <a:p>
            <a:pPr algn="just"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Hor"/>
              </a:rPr>
              <a:t>كثيراً ما يذهب البعض إلى اختيار نمط معين للنظر إلى لأشياء ثم يرتبط بهذا النمط مطولاً لا يتخلى عنه كذلك قد يسعى البعض إلى افتراض أن هناك حلاً للمشكلات يجب البحث عنه </a:t>
            </a:r>
            <a:r>
              <a:rPr b="0" lang="en-US" sz="4400" spc="-1" strike="noStrike">
                <a:solidFill>
                  <a:srgbClr val="000000"/>
                </a:solidFill>
                <a:latin typeface="Arial"/>
                <a:ea typeface="AL-Hor"/>
              </a:rPr>
              <a:t>0</a:t>
            </a:r>
            <a:endParaRPr b="0" lang="en-US" sz="4400" spc="-1" strike="noStrike">
              <a:solidFill>
                <a:srgbClr val="000000"/>
              </a:solidFill>
              <a:latin typeface="Arial"/>
            </a:endParaRPr>
          </a:p>
        </p:txBody>
      </p:sp>
      <p:grpSp>
        <p:nvGrpSpPr>
          <p:cNvPr id="166" name=""/>
          <p:cNvGrpSpPr/>
          <p:nvPr/>
        </p:nvGrpSpPr>
        <p:grpSpPr>
          <a:xfrm>
            <a:off x="1116000" y="692280"/>
            <a:ext cx="6913440" cy="1601640"/>
            <a:chOff x="1116000" y="692280"/>
            <a:chExt cx="6913440" cy="1601640"/>
          </a:xfrm>
        </p:grpSpPr>
        <p:grpSp>
          <p:nvGrpSpPr>
            <p:cNvPr id="167" name=""/>
            <p:cNvGrpSpPr/>
            <p:nvPr/>
          </p:nvGrpSpPr>
          <p:grpSpPr>
            <a:xfrm>
              <a:off x="1116000" y="692280"/>
              <a:ext cx="6913440" cy="1152360"/>
              <a:chOff x="1116000" y="692280"/>
              <a:chExt cx="6913440" cy="1152360"/>
            </a:xfrm>
          </p:grpSpPr>
          <p:sp>
            <p:nvSpPr>
              <p:cNvPr id="168" name=""/>
              <p:cNvSpPr/>
              <p:nvPr/>
            </p:nvSpPr>
            <p:spPr>
              <a:xfrm>
                <a:off x="1116000" y="922320"/>
                <a:ext cx="6913440" cy="922320"/>
              </a:xfrm>
              <a:custGeom>
                <a:avLst/>
                <a:gdLst/>
                <a:ahLst/>
                <a:rect l="l" t="t" r="r" b="b"/>
                <a:pathLst>
                  <a:path w="4355" h="581">
                    <a:moveTo>
                      <a:pt x="3456" y="554"/>
                    </a:moveTo>
                    <a:lnTo>
                      <a:pt x="3396" y="536"/>
                    </a:lnTo>
                    <a:lnTo>
                      <a:pt x="3316" y="527"/>
                    </a:lnTo>
                    <a:lnTo>
                      <a:pt x="3236" y="517"/>
                    </a:lnTo>
                    <a:lnTo>
                      <a:pt x="3156" y="508"/>
                    </a:lnTo>
                    <a:lnTo>
                      <a:pt x="3076" y="499"/>
                    </a:lnTo>
                    <a:lnTo>
                      <a:pt x="2997" y="499"/>
                    </a:lnTo>
                    <a:lnTo>
                      <a:pt x="2917" y="490"/>
                    </a:lnTo>
                    <a:lnTo>
                      <a:pt x="2837" y="481"/>
                    </a:lnTo>
                    <a:lnTo>
                      <a:pt x="2757" y="472"/>
                    </a:lnTo>
                    <a:lnTo>
                      <a:pt x="2677" y="472"/>
                    </a:lnTo>
                    <a:lnTo>
                      <a:pt x="2597" y="463"/>
                    </a:lnTo>
                    <a:lnTo>
                      <a:pt x="2517" y="463"/>
                    </a:lnTo>
                    <a:lnTo>
                      <a:pt x="2437" y="463"/>
                    </a:lnTo>
                    <a:lnTo>
                      <a:pt x="2357" y="463"/>
                    </a:lnTo>
                    <a:lnTo>
                      <a:pt x="2277" y="454"/>
                    </a:lnTo>
                    <a:lnTo>
                      <a:pt x="2197" y="454"/>
                    </a:lnTo>
                    <a:lnTo>
                      <a:pt x="2118" y="454"/>
                    </a:lnTo>
                    <a:lnTo>
                      <a:pt x="2038" y="454"/>
                    </a:lnTo>
                    <a:lnTo>
                      <a:pt x="1958" y="454"/>
                    </a:lnTo>
                    <a:lnTo>
                      <a:pt x="1878" y="463"/>
                    </a:lnTo>
                    <a:lnTo>
                      <a:pt x="1798" y="463"/>
                    </a:lnTo>
                    <a:lnTo>
                      <a:pt x="1718" y="463"/>
                    </a:lnTo>
                    <a:lnTo>
                      <a:pt x="1638" y="472"/>
                    </a:lnTo>
                    <a:lnTo>
                      <a:pt x="1558" y="472"/>
                    </a:lnTo>
                    <a:lnTo>
                      <a:pt x="1458" y="481"/>
                    </a:lnTo>
                    <a:lnTo>
                      <a:pt x="1378" y="490"/>
                    </a:lnTo>
                    <a:lnTo>
                      <a:pt x="1299" y="499"/>
                    </a:lnTo>
                    <a:lnTo>
                      <a:pt x="1219" y="508"/>
                    </a:lnTo>
                    <a:lnTo>
                      <a:pt x="1139" y="517"/>
                    </a:lnTo>
                    <a:lnTo>
                      <a:pt x="1059" y="527"/>
                    </a:lnTo>
                    <a:lnTo>
                      <a:pt x="959" y="536"/>
                    </a:lnTo>
                    <a:lnTo>
                      <a:pt x="899" y="545"/>
                    </a:lnTo>
                    <a:lnTo>
                      <a:pt x="899" y="545"/>
                    </a:lnTo>
                    <a:lnTo>
                      <a:pt x="859" y="554"/>
                    </a:lnTo>
                    <a:lnTo>
                      <a:pt x="819" y="563"/>
                    </a:lnTo>
                    <a:lnTo>
                      <a:pt x="779" y="572"/>
                    </a:lnTo>
                    <a:lnTo>
                      <a:pt x="739" y="572"/>
                    </a:lnTo>
                    <a:lnTo>
                      <a:pt x="699" y="572"/>
                    </a:lnTo>
                    <a:lnTo>
                      <a:pt x="659" y="581"/>
                    </a:lnTo>
                    <a:lnTo>
                      <a:pt x="599" y="581"/>
                    </a:lnTo>
                    <a:lnTo>
                      <a:pt x="559" y="581"/>
                    </a:lnTo>
                    <a:lnTo>
                      <a:pt x="499" y="581"/>
                    </a:lnTo>
                    <a:lnTo>
                      <a:pt x="459" y="581"/>
                    </a:lnTo>
                    <a:lnTo>
                      <a:pt x="400" y="572"/>
                    </a:lnTo>
                    <a:lnTo>
                      <a:pt x="340" y="572"/>
                    </a:lnTo>
                    <a:lnTo>
                      <a:pt x="300" y="563"/>
                    </a:lnTo>
                    <a:lnTo>
                      <a:pt x="240" y="554"/>
                    </a:lnTo>
                    <a:lnTo>
                      <a:pt x="200" y="545"/>
                    </a:lnTo>
                    <a:lnTo>
                      <a:pt x="160" y="527"/>
                    </a:lnTo>
                    <a:lnTo>
                      <a:pt x="120" y="517"/>
                    </a:lnTo>
                    <a:lnTo>
                      <a:pt x="100" y="508"/>
                    </a:lnTo>
                    <a:lnTo>
                      <a:pt x="60" y="490"/>
                    </a:lnTo>
                    <a:lnTo>
                      <a:pt x="40" y="472"/>
                    </a:lnTo>
                    <a:lnTo>
                      <a:pt x="20" y="463"/>
                    </a:lnTo>
                    <a:lnTo>
                      <a:pt x="20" y="445"/>
                    </a:lnTo>
                    <a:lnTo>
                      <a:pt x="0" y="427"/>
                    </a:lnTo>
                    <a:lnTo>
                      <a:pt x="0" y="409"/>
                    </a:lnTo>
                    <a:lnTo>
                      <a:pt x="0" y="390"/>
                    </a:lnTo>
                    <a:lnTo>
                      <a:pt x="100" y="0"/>
                    </a:lnTo>
                    <a:lnTo>
                      <a:pt x="100" y="18"/>
                    </a:lnTo>
                    <a:lnTo>
                      <a:pt x="100" y="37"/>
                    </a:lnTo>
                    <a:lnTo>
                      <a:pt x="120" y="46"/>
                    </a:lnTo>
                    <a:lnTo>
                      <a:pt x="120" y="64"/>
                    </a:lnTo>
                    <a:lnTo>
                      <a:pt x="140" y="82"/>
                    </a:lnTo>
                    <a:lnTo>
                      <a:pt x="180" y="100"/>
                    </a:lnTo>
                    <a:lnTo>
                      <a:pt x="200" y="109"/>
                    </a:lnTo>
                    <a:lnTo>
                      <a:pt x="220" y="118"/>
                    </a:lnTo>
                    <a:lnTo>
                      <a:pt x="260" y="136"/>
                    </a:lnTo>
                    <a:lnTo>
                      <a:pt x="300" y="145"/>
                    </a:lnTo>
                    <a:lnTo>
                      <a:pt x="340" y="154"/>
                    </a:lnTo>
                    <a:lnTo>
                      <a:pt x="380" y="164"/>
                    </a:lnTo>
                    <a:lnTo>
                      <a:pt x="439" y="173"/>
                    </a:lnTo>
                    <a:lnTo>
                      <a:pt x="479" y="173"/>
                    </a:lnTo>
                    <a:lnTo>
                      <a:pt x="539" y="182"/>
                    </a:lnTo>
                    <a:lnTo>
                      <a:pt x="579" y="182"/>
                    </a:lnTo>
                    <a:lnTo>
                      <a:pt x="639" y="182"/>
                    </a:lnTo>
                    <a:lnTo>
                      <a:pt x="679" y="182"/>
                    </a:lnTo>
                    <a:lnTo>
                      <a:pt x="719" y="182"/>
                    </a:lnTo>
                    <a:lnTo>
                      <a:pt x="759" y="173"/>
                    </a:lnTo>
                    <a:lnTo>
                      <a:pt x="799" y="173"/>
                    </a:lnTo>
                    <a:lnTo>
                      <a:pt x="839" y="173"/>
                    </a:lnTo>
                    <a:lnTo>
                      <a:pt x="879" y="164"/>
                    </a:lnTo>
                    <a:lnTo>
                      <a:pt x="919" y="154"/>
                    </a:lnTo>
                    <a:lnTo>
                      <a:pt x="939" y="154"/>
                    </a:lnTo>
                    <a:lnTo>
                      <a:pt x="939" y="145"/>
                    </a:lnTo>
                    <a:lnTo>
                      <a:pt x="1019" y="136"/>
                    </a:lnTo>
                    <a:lnTo>
                      <a:pt x="1099" y="127"/>
                    </a:lnTo>
                    <a:lnTo>
                      <a:pt x="1179" y="118"/>
                    </a:lnTo>
                    <a:lnTo>
                      <a:pt x="1259" y="109"/>
                    </a:lnTo>
                    <a:lnTo>
                      <a:pt x="1338" y="100"/>
                    </a:lnTo>
                    <a:lnTo>
                      <a:pt x="1418" y="91"/>
                    </a:lnTo>
                    <a:lnTo>
                      <a:pt x="1498" y="91"/>
                    </a:lnTo>
                    <a:lnTo>
                      <a:pt x="1578" y="82"/>
                    </a:lnTo>
                    <a:lnTo>
                      <a:pt x="1658" y="73"/>
                    </a:lnTo>
                    <a:lnTo>
                      <a:pt x="1738" y="73"/>
                    </a:lnTo>
                    <a:lnTo>
                      <a:pt x="1818" y="64"/>
                    </a:lnTo>
                    <a:lnTo>
                      <a:pt x="1878" y="64"/>
                    </a:lnTo>
                    <a:lnTo>
                      <a:pt x="1958" y="64"/>
                    </a:lnTo>
                    <a:lnTo>
                      <a:pt x="2038" y="64"/>
                    </a:lnTo>
                    <a:lnTo>
                      <a:pt x="2118" y="64"/>
                    </a:lnTo>
                    <a:lnTo>
                      <a:pt x="2197" y="64"/>
                    </a:lnTo>
                    <a:lnTo>
                      <a:pt x="2277" y="64"/>
                    </a:lnTo>
                    <a:lnTo>
                      <a:pt x="2357" y="64"/>
                    </a:lnTo>
                    <a:lnTo>
                      <a:pt x="2417" y="64"/>
                    </a:lnTo>
                    <a:lnTo>
                      <a:pt x="2497" y="73"/>
                    </a:lnTo>
                    <a:lnTo>
                      <a:pt x="2577" y="73"/>
                    </a:lnTo>
                    <a:lnTo>
                      <a:pt x="2657" y="73"/>
                    </a:lnTo>
                    <a:lnTo>
                      <a:pt x="2737" y="82"/>
                    </a:lnTo>
                    <a:lnTo>
                      <a:pt x="2797" y="91"/>
                    </a:lnTo>
                    <a:lnTo>
                      <a:pt x="2877" y="91"/>
                    </a:lnTo>
                    <a:lnTo>
                      <a:pt x="2957" y="100"/>
                    </a:lnTo>
                    <a:lnTo>
                      <a:pt x="3037" y="109"/>
                    </a:lnTo>
                    <a:lnTo>
                      <a:pt x="3096" y="118"/>
                    </a:lnTo>
                    <a:lnTo>
                      <a:pt x="3176" y="127"/>
                    </a:lnTo>
                    <a:lnTo>
                      <a:pt x="3256" y="127"/>
                    </a:lnTo>
                    <a:lnTo>
                      <a:pt x="3336" y="145"/>
                    </a:lnTo>
                    <a:lnTo>
                      <a:pt x="3396" y="154"/>
                    </a:lnTo>
                    <a:lnTo>
                      <a:pt x="3416" y="154"/>
                    </a:lnTo>
                    <a:lnTo>
                      <a:pt x="3456" y="164"/>
                    </a:lnTo>
                    <a:lnTo>
                      <a:pt x="3496" y="173"/>
                    </a:lnTo>
                    <a:lnTo>
                      <a:pt x="3536" y="173"/>
                    </a:lnTo>
                    <a:lnTo>
                      <a:pt x="3576" y="173"/>
                    </a:lnTo>
                    <a:lnTo>
                      <a:pt x="3616" y="182"/>
                    </a:lnTo>
                    <a:lnTo>
                      <a:pt x="3656" y="182"/>
                    </a:lnTo>
                    <a:lnTo>
                      <a:pt x="3696" y="182"/>
                    </a:lnTo>
                    <a:lnTo>
                      <a:pt x="3756" y="182"/>
                    </a:lnTo>
                    <a:lnTo>
                      <a:pt x="3816" y="182"/>
                    </a:lnTo>
                    <a:lnTo>
                      <a:pt x="3856" y="173"/>
                    </a:lnTo>
                    <a:lnTo>
                      <a:pt x="3916" y="173"/>
                    </a:lnTo>
                    <a:lnTo>
                      <a:pt x="3955" y="164"/>
                    </a:lnTo>
                    <a:lnTo>
                      <a:pt x="3995" y="154"/>
                    </a:lnTo>
                    <a:lnTo>
                      <a:pt x="4035" y="145"/>
                    </a:lnTo>
                    <a:lnTo>
                      <a:pt x="4075" y="136"/>
                    </a:lnTo>
                    <a:lnTo>
                      <a:pt x="4115" y="118"/>
                    </a:lnTo>
                    <a:lnTo>
                      <a:pt x="4155" y="109"/>
                    </a:lnTo>
                    <a:lnTo>
                      <a:pt x="4175" y="100"/>
                    </a:lnTo>
                    <a:lnTo>
                      <a:pt x="4195" y="82"/>
                    </a:lnTo>
                    <a:lnTo>
                      <a:pt x="4215" y="64"/>
                    </a:lnTo>
                    <a:lnTo>
                      <a:pt x="4235" y="46"/>
                    </a:lnTo>
                    <a:lnTo>
                      <a:pt x="4235" y="37"/>
                    </a:lnTo>
                    <a:lnTo>
                      <a:pt x="4235" y="18"/>
                    </a:lnTo>
                    <a:lnTo>
                      <a:pt x="4235" y="0"/>
                    </a:lnTo>
                    <a:lnTo>
                      <a:pt x="4355" y="390"/>
                    </a:lnTo>
                    <a:lnTo>
                      <a:pt x="4355" y="409"/>
                    </a:lnTo>
                    <a:lnTo>
                      <a:pt x="4355" y="427"/>
                    </a:lnTo>
                    <a:lnTo>
                      <a:pt x="4335" y="445"/>
                    </a:lnTo>
                    <a:lnTo>
                      <a:pt x="4335" y="463"/>
                    </a:lnTo>
                    <a:lnTo>
                      <a:pt x="4315" y="472"/>
                    </a:lnTo>
                    <a:lnTo>
                      <a:pt x="4295" y="490"/>
                    </a:lnTo>
                    <a:lnTo>
                      <a:pt x="4255" y="508"/>
                    </a:lnTo>
                    <a:lnTo>
                      <a:pt x="4235" y="517"/>
                    </a:lnTo>
                    <a:lnTo>
                      <a:pt x="4195" y="527"/>
                    </a:lnTo>
                    <a:lnTo>
                      <a:pt x="4155" y="545"/>
                    </a:lnTo>
                    <a:lnTo>
                      <a:pt x="4115" y="554"/>
                    </a:lnTo>
                    <a:lnTo>
                      <a:pt x="4055" y="563"/>
                    </a:lnTo>
                    <a:lnTo>
                      <a:pt x="4015" y="572"/>
                    </a:lnTo>
                    <a:lnTo>
                      <a:pt x="3955" y="572"/>
                    </a:lnTo>
                    <a:lnTo>
                      <a:pt x="3896" y="581"/>
                    </a:lnTo>
                    <a:lnTo>
                      <a:pt x="3856" y="581"/>
                    </a:lnTo>
                    <a:lnTo>
                      <a:pt x="3796" y="581"/>
                    </a:lnTo>
                    <a:lnTo>
                      <a:pt x="3756" y="581"/>
                    </a:lnTo>
                    <a:lnTo>
                      <a:pt x="3696" y="581"/>
                    </a:lnTo>
                    <a:lnTo>
                      <a:pt x="3656" y="581"/>
                    </a:lnTo>
                    <a:lnTo>
                      <a:pt x="3616" y="572"/>
                    </a:lnTo>
                    <a:lnTo>
                      <a:pt x="3576" y="572"/>
                    </a:lnTo>
                    <a:lnTo>
                      <a:pt x="3536" y="563"/>
                    </a:lnTo>
                    <a:lnTo>
                      <a:pt x="3496" y="554"/>
                    </a:lnTo>
                    <a:lnTo>
                      <a:pt x="3456" y="554"/>
                    </a:lnTo>
                    <a:close/>
                  </a:path>
                </a:pathLst>
              </a:custGeom>
              <a:solidFill>
                <a:srgbClr val="fff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7305480" y="836640"/>
                <a:ext cx="436680" cy="763560"/>
              </a:xfrm>
              <a:custGeom>
                <a:avLst/>
                <a:gdLst/>
                <a:ahLst/>
                <a:rect l="l" t="t" r="r" b="b"/>
                <a:pathLst>
                  <a:path w="320" h="481">
                    <a:moveTo>
                      <a:pt x="80" y="381"/>
                    </a:moveTo>
                    <a:lnTo>
                      <a:pt x="0" y="0"/>
                    </a:lnTo>
                    <a:lnTo>
                      <a:pt x="0" y="9"/>
                    </a:lnTo>
                    <a:lnTo>
                      <a:pt x="20" y="27"/>
                    </a:lnTo>
                    <a:lnTo>
                      <a:pt x="60" y="45"/>
                    </a:lnTo>
                    <a:lnTo>
                      <a:pt x="100" y="54"/>
                    </a:lnTo>
                    <a:lnTo>
                      <a:pt x="160" y="72"/>
                    </a:lnTo>
                    <a:lnTo>
                      <a:pt x="240" y="91"/>
                    </a:lnTo>
                    <a:lnTo>
                      <a:pt x="320" y="481"/>
                    </a:lnTo>
                    <a:lnTo>
                      <a:pt x="240" y="463"/>
                    </a:lnTo>
                    <a:lnTo>
                      <a:pt x="180" y="454"/>
                    </a:lnTo>
                    <a:lnTo>
                      <a:pt x="120" y="435"/>
                    </a:lnTo>
                    <a:lnTo>
                      <a:pt x="100" y="417"/>
                    </a:lnTo>
                    <a:lnTo>
                      <a:pt x="80" y="399"/>
                    </a:lnTo>
                    <a:lnTo>
                      <a:pt x="80" y="381"/>
                    </a:lnTo>
                    <a:close/>
                  </a:path>
                </a:pathLst>
              </a:custGeom>
              <a:solidFill>
                <a:srgbClr val="a5a2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7310160" y="692280"/>
                <a:ext cx="719280" cy="849240"/>
              </a:xfrm>
              <a:custGeom>
                <a:avLst/>
                <a:gdLst/>
                <a:ahLst/>
                <a:rect l="l" t="t" r="r" b="b"/>
                <a:pathLst>
                  <a:path w="919" h="535">
                    <a:moveTo>
                      <a:pt x="919" y="535"/>
                    </a:moveTo>
                    <a:lnTo>
                      <a:pt x="799" y="145"/>
                    </a:lnTo>
                    <a:lnTo>
                      <a:pt x="799" y="127"/>
                    </a:lnTo>
                    <a:lnTo>
                      <a:pt x="779" y="118"/>
                    </a:lnTo>
                    <a:lnTo>
                      <a:pt x="759" y="100"/>
                    </a:lnTo>
                    <a:lnTo>
                      <a:pt x="739" y="82"/>
                    </a:lnTo>
                    <a:lnTo>
                      <a:pt x="719" y="73"/>
                    </a:lnTo>
                    <a:lnTo>
                      <a:pt x="679" y="64"/>
                    </a:lnTo>
                    <a:lnTo>
                      <a:pt x="639" y="45"/>
                    </a:lnTo>
                    <a:lnTo>
                      <a:pt x="599" y="36"/>
                    </a:lnTo>
                    <a:lnTo>
                      <a:pt x="559" y="27"/>
                    </a:lnTo>
                    <a:lnTo>
                      <a:pt x="519" y="18"/>
                    </a:lnTo>
                    <a:lnTo>
                      <a:pt x="480" y="9"/>
                    </a:lnTo>
                    <a:lnTo>
                      <a:pt x="420" y="9"/>
                    </a:lnTo>
                    <a:lnTo>
                      <a:pt x="380" y="0"/>
                    </a:lnTo>
                    <a:lnTo>
                      <a:pt x="320" y="0"/>
                    </a:lnTo>
                    <a:lnTo>
                      <a:pt x="260" y="0"/>
                    </a:lnTo>
                    <a:lnTo>
                      <a:pt x="240" y="0"/>
                    </a:lnTo>
                    <a:lnTo>
                      <a:pt x="200" y="0"/>
                    </a:lnTo>
                    <a:lnTo>
                      <a:pt x="160" y="9"/>
                    </a:lnTo>
                    <a:lnTo>
                      <a:pt x="140" y="18"/>
                    </a:lnTo>
                    <a:lnTo>
                      <a:pt x="100" y="27"/>
                    </a:lnTo>
                    <a:lnTo>
                      <a:pt x="60" y="36"/>
                    </a:lnTo>
                    <a:lnTo>
                      <a:pt x="40" y="54"/>
                    </a:lnTo>
                    <a:lnTo>
                      <a:pt x="20" y="64"/>
                    </a:lnTo>
                    <a:lnTo>
                      <a:pt x="0" y="82"/>
                    </a:lnTo>
                    <a:lnTo>
                      <a:pt x="0" y="100"/>
                    </a:lnTo>
                    <a:lnTo>
                      <a:pt x="80" y="481"/>
                    </a:lnTo>
                    <a:lnTo>
                      <a:pt x="80" y="472"/>
                    </a:lnTo>
                    <a:lnTo>
                      <a:pt x="100" y="454"/>
                    </a:lnTo>
                    <a:lnTo>
                      <a:pt x="120" y="436"/>
                    </a:lnTo>
                    <a:lnTo>
                      <a:pt x="140" y="427"/>
                    </a:lnTo>
                    <a:lnTo>
                      <a:pt x="180" y="417"/>
                    </a:lnTo>
                    <a:lnTo>
                      <a:pt x="220" y="399"/>
                    </a:lnTo>
                    <a:lnTo>
                      <a:pt x="240" y="390"/>
                    </a:lnTo>
                    <a:lnTo>
                      <a:pt x="280" y="390"/>
                    </a:lnTo>
                    <a:lnTo>
                      <a:pt x="320" y="381"/>
                    </a:lnTo>
                    <a:lnTo>
                      <a:pt x="360" y="381"/>
                    </a:lnTo>
                    <a:lnTo>
                      <a:pt x="420" y="381"/>
                    </a:lnTo>
                    <a:lnTo>
                      <a:pt x="460" y="390"/>
                    </a:lnTo>
                    <a:lnTo>
                      <a:pt x="519" y="390"/>
                    </a:lnTo>
                    <a:lnTo>
                      <a:pt x="579" y="399"/>
                    </a:lnTo>
                    <a:lnTo>
                      <a:pt x="619" y="399"/>
                    </a:lnTo>
                    <a:lnTo>
                      <a:pt x="679" y="408"/>
                    </a:lnTo>
                    <a:lnTo>
                      <a:pt x="719" y="427"/>
                    </a:lnTo>
                    <a:lnTo>
                      <a:pt x="759" y="436"/>
                    </a:lnTo>
                    <a:lnTo>
                      <a:pt x="799" y="445"/>
                    </a:lnTo>
                    <a:lnTo>
                      <a:pt x="819" y="454"/>
                    </a:lnTo>
                    <a:lnTo>
                      <a:pt x="859" y="472"/>
                    </a:lnTo>
                    <a:lnTo>
                      <a:pt x="879" y="490"/>
                    </a:lnTo>
                    <a:lnTo>
                      <a:pt x="899" y="499"/>
                    </a:lnTo>
                    <a:lnTo>
                      <a:pt x="899" y="517"/>
                    </a:lnTo>
                    <a:lnTo>
                      <a:pt x="919" y="535"/>
                    </a:lnTo>
                    <a:close/>
                  </a:path>
                </a:pathLst>
              </a:custGeom>
              <a:solidFill>
                <a:srgbClr val="ccf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477800" y="851040"/>
                <a:ext cx="476280" cy="763560"/>
              </a:xfrm>
              <a:custGeom>
                <a:avLst/>
                <a:gdLst/>
                <a:ahLst/>
                <a:rect l="l" t="t" r="r" b="b"/>
                <a:pathLst>
                  <a:path w="300" h="481">
                    <a:moveTo>
                      <a:pt x="0" y="481"/>
                    </a:moveTo>
                    <a:lnTo>
                      <a:pt x="60" y="91"/>
                    </a:lnTo>
                    <a:lnTo>
                      <a:pt x="140" y="72"/>
                    </a:lnTo>
                    <a:lnTo>
                      <a:pt x="200" y="54"/>
                    </a:lnTo>
                    <a:lnTo>
                      <a:pt x="260" y="45"/>
                    </a:lnTo>
                    <a:lnTo>
                      <a:pt x="280" y="27"/>
                    </a:lnTo>
                    <a:lnTo>
                      <a:pt x="300" y="9"/>
                    </a:lnTo>
                    <a:lnTo>
                      <a:pt x="300" y="0"/>
                    </a:lnTo>
                    <a:lnTo>
                      <a:pt x="240" y="381"/>
                    </a:lnTo>
                    <a:lnTo>
                      <a:pt x="240" y="399"/>
                    </a:lnTo>
                    <a:lnTo>
                      <a:pt x="220" y="417"/>
                    </a:lnTo>
                    <a:lnTo>
                      <a:pt x="180" y="435"/>
                    </a:lnTo>
                    <a:lnTo>
                      <a:pt x="140" y="454"/>
                    </a:lnTo>
                    <a:lnTo>
                      <a:pt x="80" y="463"/>
                    </a:lnTo>
                    <a:lnTo>
                      <a:pt x="0" y="481"/>
                    </a:lnTo>
                    <a:close/>
                  </a:path>
                </a:pathLst>
              </a:custGeom>
              <a:solidFill>
                <a:srgbClr val="a5a2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116000" y="692280"/>
                <a:ext cx="793440" cy="849240"/>
              </a:xfrm>
              <a:custGeom>
                <a:avLst/>
                <a:gdLst/>
                <a:ahLst/>
                <a:rect l="l" t="t" r="r" b="b"/>
                <a:pathLst>
                  <a:path w="899" h="535">
                    <a:moveTo>
                      <a:pt x="839" y="481"/>
                    </a:moveTo>
                    <a:lnTo>
                      <a:pt x="899" y="100"/>
                    </a:lnTo>
                    <a:lnTo>
                      <a:pt x="899" y="82"/>
                    </a:lnTo>
                    <a:lnTo>
                      <a:pt x="879" y="64"/>
                    </a:lnTo>
                    <a:lnTo>
                      <a:pt x="859" y="54"/>
                    </a:lnTo>
                    <a:lnTo>
                      <a:pt x="839" y="36"/>
                    </a:lnTo>
                    <a:lnTo>
                      <a:pt x="799" y="27"/>
                    </a:lnTo>
                    <a:lnTo>
                      <a:pt x="779" y="18"/>
                    </a:lnTo>
                    <a:lnTo>
                      <a:pt x="739" y="9"/>
                    </a:lnTo>
                    <a:lnTo>
                      <a:pt x="699" y="0"/>
                    </a:lnTo>
                    <a:lnTo>
                      <a:pt x="659" y="0"/>
                    </a:lnTo>
                    <a:lnTo>
                      <a:pt x="639" y="0"/>
                    </a:lnTo>
                    <a:lnTo>
                      <a:pt x="579" y="0"/>
                    </a:lnTo>
                    <a:lnTo>
                      <a:pt x="539" y="0"/>
                    </a:lnTo>
                    <a:lnTo>
                      <a:pt x="479" y="9"/>
                    </a:lnTo>
                    <a:lnTo>
                      <a:pt x="439" y="9"/>
                    </a:lnTo>
                    <a:lnTo>
                      <a:pt x="380" y="18"/>
                    </a:lnTo>
                    <a:lnTo>
                      <a:pt x="340" y="27"/>
                    </a:lnTo>
                    <a:lnTo>
                      <a:pt x="300" y="36"/>
                    </a:lnTo>
                    <a:lnTo>
                      <a:pt x="260" y="45"/>
                    </a:lnTo>
                    <a:lnTo>
                      <a:pt x="220" y="64"/>
                    </a:lnTo>
                    <a:lnTo>
                      <a:pt x="200" y="73"/>
                    </a:lnTo>
                    <a:lnTo>
                      <a:pt x="180" y="82"/>
                    </a:lnTo>
                    <a:lnTo>
                      <a:pt x="140" y="100"/>
                    </a:lnTo>
                    <a:lnTo>
                      <a:pt x="120" y="118"/>
                    </a:lnTo>
                    <a:lnTo>
                      <a:pt x="120" y="127"/>
                    </a:lnTo>
                    <a:lnTo>
                      <a:pt x="100" y="145"/>
                    </a:lnTo>
                    <a:lnTo>
                      <a:pt x="0" y="535"/>
                    </a:lnTo>
                    <a:lnTo>
                      <a:pt x="20" y="517"/>
                    </a:lnTo>
                    <a:lnTo>
                      <a:pt x="20" y="499"/>
                    </a:lnTo>
                    <a:lnTo>
                      <a:pt x="40" y="490"/>
                    </a:lnTo>
                    <a:lnTo>
                      <a:pt x="60" y="472"/>
                    </a:lnTo>
                    <a:lnTo>
                      <a:pt x="100" y="454"/>
                    </a:lnTo>
                    <a:lnTo>
                      <a:pt x="120" y="445"/>
                    </a:lnTo>
                    <a:lnTo>
                      <a:pt x="160" y="436"/>
                    </a:lnTo>
                    <a:lnTo>
                      <a:pt x="200" y="427"/>
                    </a:lnTo>
                    <a:lnTo>
                      <a:pt x="240" y="408"/>
                    </a:lnTo>
                    <a:lnTo>
                      <a:pt x="300" y="399"/>
                    </a:lnTo>
                    <a:lnTo>
                      <a:pt x="340" y="399"/>
                    </a:lnTo>
                    <a:lnTo>
                      <a:pt x="400" y="390"/>
                    </a:lnTo>
                    <a:lnTo>
                      <a:pt x="459" y="390"/>
                    </a:lnTo>
                    <a:lnTo>
                      <a:pt x="499" y="381"/>
                    </a:lnTo>
                    <a:lnTo>
                      <a:pt x="559" y="381"/>
                    </a:lnTo>
                    <a:lnTo>
                      <a:pt x="599" y="381"/>
                    </a:lnTo>
                    <a:lnTo>
                      <a:pt x="639" y="390"/>
                    </a:lnTo>
                    <a:lnTo>
                      <a:pt x="659" y="390"/>
                    </a:lnTo>
                    <a:lnTo>
                      <a:pt x="699" y="399"/>
                    </a:lnTo>
                    <a:lnTo>
                      <a:pt x="739" y="417"/>
                    </a:lnTo>
                    <a:lnTo>
                      <a:pt x="779" y="427"/>
                    </a:lnTo>
                    <a:lnTo>
                      <a:pt x="799" y="436"/>
                    </a:lnTo>
                    <a:lnTo>
                      <a:pt x="819" y="454"/>
                    </a:lnTo>
                    <a:lnTo>
                      <a:pt x="839" y="472"/>
                    </a:lnTo>
                    <a:lnTo>
                      <a:pt x="839" y="481"/>
                    </a:lnTo>
                    <a:close/>
                  </a:path>
                </a:pathLst>
              </a:custGeom>
              <a:solidFill>
                <a:srgbClr val="ccff3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 name=""/>
            <p:cNvSpPr/>
            <p:nvPr/>
          </p:nvSpPr>
          <p:spPr>
            <a:xfrm>
              <a:off x="2124000" y="981000"/>
              <a:ext cx="496908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Hor"/>
                </a:rPr>
                <a:t>5</a:t>
              </a:r>
              <a:r>
                <a:rPr b="0" lang="en-US" sz="4000" spc="-1" strike="noStrike">
                  <a:solidFill>
                    <a:srgbClr val="000000"/>
                  </a:solidFill>
                  <a:latin typeface="Arial"/>
                  <a:ea typeface="AL-Hor"/>
                </a:rPr>
                <a:t>-التقيد بأنماط محددة للتفكير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26">
                                  <p:stCondLst>
                                    <p:cond delay="0"/>
                                  </p:stCondLst>
                                  <p:childTnLst>
                                    <p:set>
                                      <p:cBhvr>
                                        <p:cTn id="688" dur="1" fill="hold">
                                          <p:stCondLst>
                                            <p:cond delay="0"/>
                                          </p:stCondLst>
                                        </p:cTn>
                                        <p:tgtEl>
                                          <p:spTgt spid="166"/>
                                        </p:tgtEl>
                                        <p:attrNameLst>
                                          <p:attrName>style.visibility</p:attrName>
                                        </p:attrNameLst>
                                      </p:cBhvr>
                                      <p:to>
                                        <p:strVal val="visible"/>
                                      </p:to>
                                    </p:set>
                                    <p:animEffect filter="wipe(down)" transition="in">
                                      <p:cBhvr additive="repl">
                                        <p:cTn id="689" dur="580">
                                          <p:stCondLst>
                                            <p:cond delay="0"/>
                                          </p:stCondLst>
                                        </p:cTn>
                                        <p:tgtEl>
                                          <p:spTgt spid="166"/>
                                        </p:tgtEl>
                                      </p:cBhvr>
                                    </p:animEffect>
                                    <p:anim calcmode="lin" valueType="num">
                                      <p:cBhvr additive="repl">
                                        <p:cTn id="690" dur="1822">
                                          <p:stCondLst>
                                            <p:cond delay="0"/>
                                          </p:stCondLst>
                                        </p:cTn>
                                        <p:tgtEl>
                                          <p:spTgt spid="166"/>
                                        </p:tgtEl>
                                        <p:attrNameLst>
                                          <p:attrName>ppt_x</p:attrName>
                                        </p:attrNameLst>
                                      </p:cBhvr>
                                      <p:tavLst>
                                        <p:tav tm="0">
                                          <p:val>
                                            <p:strVal val="#ppt_x-0.25"/>
                                          </p:val>
                                        </p:tav>
                                        <p:tav tm="100000">
                                          <p:val>
                                            <p:strVal val="#ppt_x"/>
                                          </p:val>
                                        </p:tav>
                                      </p:tavLst>
                                    </p:anim>
                                    <p:anim calcmode="lin" valueType="num">
                                      <p:cBhvr additive="repl">
                                        <p:cTn id="691" dur="664">
                                          <p:stCondLst>
                                            <p:cond delay="0"/>
                                          </p:stCondLst>
                                        </p:cTn>
                                        <p:tgtEl>
                                          <p:spTgt spid="166"/>
                                        </p:tgtEl>
                                        <p:attrNameLst>
                                          <p:attrName>ppt_y</p:attrName>
                                        </p:attrNameLst>
                                      </p:cBhvr>
                                      <p:tavLst>
                                        <p:tav fmla="y-sin(pi*$)/3" tm="0">
                                          <p:val>
                                            <p:fltVal val="0.5"/>
                                          </p:val>
                                        </p:tav>
                                        <p:tav fmla="y-sin(pi*$)/3" tm="100000">
                                          <p:val>
                                            <p:fltVal val="1"/>
                                          </p:val>
                                        </p:tav>
                                      </p:tavLst>
                                    </p:anim>
                                    <p:anim calcmode="lin" valueType="num">
                                      <p:cBhvr additive="repl">
                                        <p:cTn id="692" dur="664">
                                          <p:stCondLst>
                                            <p:cond delay="664"/>
                                          </p:stCondLst>
                                        </p:cTn>
                                        <p:tgtEl>
                                          <p:spTgt spid="166"/>
                                        </p:tgtEl>
                                        <p:attrNameLst>
                                          <p:attrName>ppt_y</p:attrName>
                                        </p:attrNameLst>
                                      </p:cBhvr>
                                      <p:tavLst>
                                        <p:tav fmla="y-sin(pi*$)/9" tm="0">
                                          <p:val>
                                            <p:fltVal val="0"/>
                                          </p:val>
                                        </p:tav>
                                        <p:tav fmla="y-sin(pi*$)/9" tm="100000">
                                          <p:val>
                                            <p:fltVal val="1"/>
                                          </p:val>
                                        </p:tav>
                                      </p:tavLst>
                                    </p:anim>
                                    <p:anim calcmode="lin" valueType="num">
                                      <p:cBhvr additive="repl">
                                        <p:cTn id="693" dur="332">
                                          <p:stCondLst>
                                            <p:cond delay="1324"/>
                                          </p:stCondLst>
                                        </p:cTn>
                                        <p:tgtEl>
                                          <p:spTgt spid="166"/>
                                        </p:tgtEl>
                                        <p:attrNameLst>
                                          <p:attrName>ppt_y</p:attrName>
                                        </p:attrNameLst>
                                      </p:cBhvr>
                                      <p:tavLst>
                                        <p:tav fmla="y-sin(pi*$)/27" tm="0">
                                          <p:val>
                                            <p:fltVal val="0"/>
                                          </p:val>
                                        </p:tav>
                                        <p:tav fmla="y-sin(pi*$)/27" tm="100000">
                                          <p:val>
                                            <p:fltVal val="1"/>
                                          </p:val>
                                        </p:tav>
                                      </p:tavLst>
                                    </p:anim>
                                    <p:anim calcmode="lin" valueType="num">
                                      <p:cBhvr additive="repl">
                                        <p:cTn id="694" dur="164">
                                          <p:stCondLst>
                                            <p:cond delay="1656"/>
                                          </p:stCondLst>
                                        </p:cTn>
                                        <p:tgtEl>
                                          <p:spTgt spid="166"/>
                                        </p:tgtEl>
                                        <p:attrNameLst>
                                          <p:attrName>ppt_y</p:attrName>
                                        </p:attrNameLst>
                                      </p:cBhvr>
                                      <p:tavLst>
                                        <p:tav fmla="y-sin(pi*$)/81" tm="0">
                                          <p:val>
                                            <p:fltVal val="0"/>
                                          </p:val>
                                        </p:tav>
                                        <p:tav fmla="y-sin(pi*$)/81" tm="100000">
                                          <p:val>
                                            <p:fltVal val="1"/>
                                          </p:val>
                                        </p:tav>
                                      </p:tavLst>
                                    </p:anim>
                                    <p:animScale>
                                      <p:cBhvr>
                                        <p:cTn id="695" dur="26" fill="hold">
                                          <p:stCondLst>
                                            <p:cond delay="650"/>
                                          </p:stCondLst>
                                        </p:cTn>
                                        <p:tgtEl>
                                          <p:spTgt spid="166"/>
                                        </p:tgtEl>
                                      </p:cBhvr>
                                      <p:to x="100000" y="60000"/>
                                    </p:animScale>
                                    <p:animScale>
                                      <p:cBhvr>
                                        <p:cTn id="696" dur="166" fill="hold">
                                          <p:stCondLst>
                                            <p:cond delay="676"/>
                                          </p:stCondLst>
                                        </p:cTn>
                                        <p:tgtEl>
                                          <p:spTgt spid="166"/>
                                        </p:tgtEl>
                                      </p:cBhvr>
                                      <p:to x="100000" y="100000"/>
                                    </p:animScale>
                                    <p:animScale>
                                      <p:cBhvr>
                                        <p:cTn id="697" dur="26" fill="hold">
                                          <p:stCondLst>
                                            <p:cond delay="1312"/>
                                          </p:stCondLst>
                                        </p:cTn>
                                        <p:tgtEl>
                                          <p:spTgt spid="166"/>
                                        </p:tgtEl>
                                      </p:cBhvr>
                                      <p:to x="100000" y="80000"/>
                                    </p:animScale>
                                    <p:animScale>
                                      <p:cBhvr>
                                        <p:cTn id="698" dur="166" fill="hold">
                                          <p:stCondLst>
                                            <p:cond delay="1338"/>
                                          </p:stCondLst>
                                        </p:cTn>
                                        <p:tgtEl>
                                          <p:spTgt spid="166"/>
                                        </p:tgtEl>
                                      </p:cBhvr>
                                      <p:to x="100000" y="100000"/>
                                    </p:animScale>
                                    <p:animScale>
                                      <p:cBhvr>
                                        <p:cTn id="699" dur="26" fill="hold">
                                          <p:stCondLst>
                                            <p:cond delay="1642"/>
                                          </p:stCondLst>
                                        </p:cTn>
                                        <p:tgtEl>
                                          <p:spTgt spid="166"/>
                                        </p:tgtEl>
                                      </p:cBhvr>
                                      <p:to x="100000" y="90000"/>
                                    </p:animScale>
                                    <p:animScale>
                                      <p:cBhvr>
                                        <p:cTn id="700" dur="166" fill="hold">
                                          <p:stCondLst>
                                            <p:cond delay="1668"/>
                                          </p:stCondLst>
                                        </p:cTn>
                                        <p:tgtEl>
                                          <p:spTgt spid="166"/>
                                        </p:tgtEl>
                                      </p:cBhvr>
                                      <p:to x="100000" y="100000"/>
                                    </p:animScale>
                                    <p:animScale>
                                      <p:cBhvr>
                                        <p:cTn id="701" dur="26" fill="hold">
                                          <p:stCondLst>
                                            <p:cond delay="1808"/>
                                          </p:stCondLst>
                                        </p:cTn>
                                        <p:tgtEl>
                                          <p:spTgt spid="166"/>
                                        </p:tgtEl>
                                      </p:cBhvr>
                                      <p:to x="100000" y="95000"/>
                                    </p:animScale>
                                    <p:animScale>
                                      <p:cBhvr>
                                        <p:cTn id="702" dur="166" fill="hold">
                                          <p:stCondLst>
                                            <p:cond delay="1834"/>
                                          </p:stCondLst>
                                        </p:cTn>
                                        <p:tgtEl>
                                          <p:spTgt spid="166"/>
                                        </p:tgtEl>
                                      </p:cBhvr>
                                      <p:to x="100000" y="100000"/>
                                    </p:animScale>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3">
                                  <p:stCondLst>
                                    <p:cond delay="0"/>
                                  </p:stCondLst>
                                  <p:childTnLst>
                                    <p:set>
                                      <p:cBhvr>
                                        <p:cTn id="706" dur="1" fill="hold">
                                          <p:stCondLst>
                                            <p:cond delay="0"/>
                                          </p:stCondLst>
                                        </p:cTn>
                                        <p:tgtEl>
                                          <p:spTgt spid="148"/>
                                        </p:tgtEl>
                                        <p:attrNameLst>
                                          <p:attrName>style.visibility</p:attrName>
                                        </p:attrNameLst>
                                      </p:cBhvr>
                                      <p:to>
                                        <p:strVal val="visible"/>
                                      </p:to>
                                    </p:set>
                                    <p:anim calcmode="lin" valueType="num">
                                      <p:cBhvr additive="repl">
                                        <p:cTn id="707" dur="500" fill="hold"/>
                                        <p:tgtEl>
                                          <p:spTgt spid="148"/>
                                        </p:tgtEl>
                                        <p:attrNameLst>
                                          <p:attrName>ppt_w</p:attrName>
                                        </p:attrNameLst>
                                      </p:cBhvr>
                                      <p:tavLst>
                                        <p:tav tm="0">
                                          <p:val>
                                            <p:fltVal val="0"/>
                                          </p:val>
                                        </p:tav>
                                        <p:tav tm="100000">
                                          <p:val>
                                            <p:strVal val="#ppt_w"/>
                                          </p:val>
                                        </p:tav>
                                      </p:tavLst>
                                    </p:anim>
                                    <p:anim calcmode="lin" valueType="num">
                                      <p:cBhvr additive="repl">
                                        <p:cTn id="708" dur="500" fill="hold"/>
                                        <p:tgtEl>
                                          <p:spTgt spid="148"/>
                                        </p:tgtEl>
                                        <p:attrNameLst>
                                          <p:attrName>ppt_h</p:attrName>
                                        </p:attrNameLst>
                                      </p:cBhvr>
                                      <p:tavLst>
                                        <p:tav tm="0">
                                          <p:val>
                                            <p:fltVal val="0"/>
                                          </p:val>
                                        </p:tav>
                                        <p:tav tm="100000">
                                          <p:val>
                                            <p:strVal val="#ppt_h"/>
                                          </p:val>
                                        </p:tav>
                                      </p:tavLst>
                                    </p:anim>
                                    <p:animEffect filter="fade" transition="in">
                                      <p:cBhvr additive="repl">
                                        <p:cTn id="709" dur="500"/>
                                        <p:tgtEl>
                                          <p:spTgt spid="148"/>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41">
                                  <p:stCondLst>
                                    <p:cond delay="0"/>
                                  </p:stCondLst>
                                  <p:iterate type="lt">
                                    <p:tmAbs val="50"/>
                                  </p:iterate>
                                  <p:childTnLst>
                                    <p:set>
                                      <p:cBhvr>
                                        <p:cTn id="713" dur="1" fill="hold">
                                          <p:stCondLst>
                                            <p:cond delay="0"/>
                                          </p:stCondLst>
                                        </p:cTn>
                                        <p:tgtEl>
                                          <p:spTgt spid="165"/>
                                        </p:tgtEl>
                                        <p:attrNameLst>
                                          <p:attrName>style.visibility</p:attrName>
                                        </p:attrNameLst>
                                      </p:cBhvr>
                                      <p:to>
                                        <p:strVal val="visible"/>
                                      </p:to>
                                    </p:set>
                                    <p:anim calcmode="lin" valueType="num">
                                      <p:cBhvr additive="repl">
                                        <p:cTn id="714" dur="500" fill="hold"/>
                                        <p:tgtEl>
                                          <p:spTgt spid="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5" dur="500" fill="hold"/>
                                        <p:tgtEl>
                                          <p:spTgt spid="165"/>
                                        </p:tgtEl>
                                        <p:attrNameLst>
                                          <p:attrName>ppt_y</p:attrName>
                                        </p:attrNameLst>
                                      </p:cBhvr>
                                      <p:tavLst>
                                        <p:tav tm="0">
                                          <p:val>
                                            <p:strVal val="#ppt_y"/>
                                          </p:val>
                                        </p:tav>
                                        <p:tav tm="100000">
                                          <p:val>
                                            <p:strVal val="#ppt_y"/>
                                          </p:val>
                                        </p:tav>
                                      </p:tavLst>
                                    </p:anim>
                                    <p:anim calcmode="lin" valueType="num">
                                      <p:cBhvr additive="repl">
                                        <p:cTn id="716" dur="500" fill="hold"/>
                                        <p:tgtEl>
                                          <p:spTgt spid="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7" dur="500" fill="hold"/>
                                        <p:tgtEl>
                                          <p:spTgt spid="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1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2773440" y="2413080"/>
            <a:ext cx="169920" cy="158760"/>
          </a:xfrm>
          <a:custGeom>
            <a:avLst/>
            <a:gdLst/>
            <a:ahLst/>
            <a:rect l="l" t="t" r="r" b="b"/>
            <a:pathLst>
              <a:path w="107" h="100">
                <a:moveTo>
                  <a:pt x="45" y="6"/>
                </a:moveTo>
                <a:lnTo>
                  <a:pt x="34" y="13"/>
                </a:lnTo>
                <a:lnTo>
                  <a:pt x="23" y="25"/>
                </a:lnTo>
                <a:lnTo>
                  <a:pt x="17" y="38"/>
                </a:lnTo>
                <a:lnTo>
                  <a:pt x="11" y="50"/>
                </a:lnTo>
                <a:lnTo>
                  <a:pt x="6" y="69"/>
                </a:lnTo>
                <a:lnTo>
                  <a:pt x="0" y="82"/>
                </a:lnTo>
                <a:lnTo>
                  <a:pt x="0" y="94"/>
                </a:lnTo>
                <a:lnTo>
                  <a:pt x="0" y="100"/>
                </a:lnTo>
                <a:lnTo>
                  <a:pt x="6" y="100"/>
                </a:lnTo>
                <a:lnTo>
                  <a:pt x="6" y="100"/>
                </a:lnTo>
                <a:lnTo>
                  <a:pt x="17" y="100"/>
                </a:lnTo>
                <a:lnTo>
                  <a:pt x="23" y="94"/>
                </a:lnTo>
                <a:lnTo>
                  <a:pt x="34" y="88"/>
                </a:lnTo>
                <a:lnTo>
                  <a:pt x="45" y="75"/>
                </a:lnTo>
                <a:lnTo>
                  <a:pt x="51" y="69"/>
                </a:lnTo>
                <a:lnTo>
                  <a:pt x="62" y="63"/>
                </a:lnTo>
                <a:lnTo>
                  <a:pt x="73" y="57"/>
                </a:lnTo>
                <a:lnTo>
                  <a:pt x="85" y="57"/>
                </a:lnTo>
                <a:lnTo>
                  <a:pt x="90" y="50"/>
                </a:lnTo>
                <a:lnTo>
                  <a:pt x="96" y="44"/>
                </a:lnTo>
                <a:lnTo>
                  <a:pt x="102" y="38"/>
                </a:lnTo>
                <a:lnTo>
                  <a:pt x="107" y="25"/>
                </a:lnTo>
                <a:lnTo>
                  <a:pt x="107" y="25"/>
                </a:lnTo>
                <a:lnTo>
                  <a:pt x="107" y="19"/>
                </a:lnTo>
                <a:lnTo>
                  <a:pt x="102" y="13"/>
                </a:lnTo>
                <a:lnTo>
                  <a:pt x="102" y="6"/>
                </a:lnTo>
                <a:lnTo>
                  <a:pt x="90" y="6"/>
                </a:lnTo>
                <a:lnTo>
                  <a:pt x="85" y="0"/>
                </a:lnTo>
                <a:lnTo>
                  <a:pt x="73" y="0"/>
                </a:lnTo>
                <a:lnTo>
                  <a:pt x="62" y="0"/>
                </a:lnTo>
                <a:lnTo>
                  <a:pt x="57" y="6"/>
                </a:lnTo>
                <a:lnTo>
                  <a:pt x="45" y="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6200640" y="2452680"/>
            <a:ext cx="169920" cy="169920"/>
          </a:xfrm>
          <a:custGeom>
            <a:avLst/>
            <a:gdLst/>
            <a:ahLst/>
            <a:rect l="l" t="t" r="r" b="b"/>
            <a:pathLst>
              <a:path w="107" h="107">
                <a:moveTo>
                  <a:pt x="62" y="7"/>
                </a:moveTo>
                <a:lnTo>
                  <a:pt x="73" y="13"/>
                </a:lnTo>
                <a:lnTo>
                  <a:pt x="84" y="25"/>
                </a:lnTo>
                <a:lnTo>
                  <a:pt x="90" y="38"/>
                </a:lnTo>
                <a:lnTo>
                  <a:pt x="96" y="50"/>
                </a:lnTo>
                <a:lnTo>
                  <a:pt x="101" y="69"/>
                </a:lnTo>
                <a:lnTo>
                  <a:pt x="107" y="82"/>
                </a:lnTo>
                <a:lnTo>
                  <a:pt x="107" y="94"/>
                </a:lnTo>
                <a:lnTo>
                  <a:pt x="107" y="101"/>
                </a:lnTo>
                <a:lnTo>
                  <a:pt x="101" y="107"/>
                </a:lnTo>
                <a:lnTo>
                  <a:pt x="101" y="101"/>
                </a:lnTo>
                <a:lnTo>
                  <a:pt x="90" y="101"/>
                </a:lnTo>
                <a:lnTo>
                  <a:pt x="84" y="94"/>
                </a:lnTo>
                <a:lnTo>
                  <a:pt x="73" y="88"/>
                </a:lnTo>
                <a:lnTo>
                  <a:pt x="62" y="82"/>
                </a:lnTo>
                <a:lnTo>
                  <a:pt x="56" y="69"/>
                </a:lnTo>
                <a:lnTo>
                  <a:pt x="45" y="63"/>
                </a:lnTo>
                <a:lnTo>
                  <a:pt x="34" y="63"/>
                </a:lnTo>
                <a:lnTo>
                  <a:pt x="22" y="57"/>
                </a:lnTo>
                <a:lnTo>
                  <a:pt x="17" y="50"/>
                </a:lnTo>
                <a:lnTo>
                  <a:pt x="11" y="44"/>
                </a:lnTo>
                <a:lnTo>
                  <a:pt x="5" y="38"/>
                </a:lnTo>
                <a:lnTo>
                  <a:pt x="0" y="32"/>
                </a:lnTo>
                <a:lnTo>
                  <a:pt x="0" y="25"/>
                </a:lnTo>
                <a:lnTo>
                  <a:pt x="0" y="19"/>
                </a:lnTo>
                <a:lnTo>
                  <a:pt x="5" y="13"/>
                </a:lnTo>
                <a:lnTo>
                  <a:pt x="5" y="7"/>
                </a:lnTo>
                <a:lnTo>
                  <a:pt x="17" y="7"/>
                </a:lnTo>
                <a:lnTo>
                  <a:pt x="22" y="0"/>
                </a:lnTo>
                <a:lnTo>
                  <a:pt x="34" y="0"/>
                </a:lnTo>
                <a:lnTo>
                  <a:pt x="45" y="0"/>
                </a:lnTo>
                <a:lnTo>
                  <a:pt x="50" y="7"/>
                </a:lnTo>
                <a:lnTo>
                  <a:pt x="62" y="7"/>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2093760" y="2921040"/>
            <a:ext cx="204840" cy="139680"/>
          </a:xfrm>
          <a:custGeom>
            <a:avLst/>
            <a:gdLst/>
            <a:ahLst/>
            <a:rect l="l" t="t" r="r" b="b"/>
            <a:pathLst>
              <a:path w="129" h="88">
                <a:moveTo>
                  <a:pt x="129" y="19"/>
                </a:moveTo>
                <a:lnTo>
                  <a:pt x="129" y="13"/>
                </a:lnTo>
                <a:lnTo>
                  <a:pt x="124" y="6"/>
                </a:lnTo>
                <a:lnTo>
                  <a:pt x="118" y="6"/>
                </a:lnTo>
                <a:lnTo>
                  <a:pt x="113" y="6"/>
                </a:lnTo>
                <a:lnTo>
                  <a:pt x="101" y="6"/>
                </a:lnTo>
                <a:lnTo>
                  <a:pt x="96" y="6"/>
                </a:lnTo>
                <a:lnTo>
                  <a:pt x="90" y="6"/>
                </a:lnTo>
                <a:lnTo>
                  <a:pt x="79" y="6"/>
                </a:lnTo>
                <a:lnTo>
                  <a:pt x="73" y="6"/>
                </a:lnTo>
                <a:lnTo>
                  <a:pt x="67" y="6"/>
                </a:lnTo>
                <a:lnTo>
                  <a:pt x="62" y="0"/>
                </a:lnTo>
                <a:lnTo>
                  <a:pt x="56" y="0"/>
                </a:lnTo>
                <a:lnTo>
                  <a:pt x="51" y="0"/>
                </a:lnTo>
                <a:lnTo>
                  <a:pt x="45" y="0"/>
                </a:lnTo>
                <a:lnTo>
                  <a:pt x="39" y="6"/>
                </a:lnTo>
                <a:lnTo>
                  <a:pt x="34" y="6"/>
                </a:lnTo>
                <a:lnTo>
                  <a:pt x="28" y="13"/>
                </a:lnTo>
                <a:lnTo>
                  <a:pt x="22" y="13"/>
                </a:lnTo>
                <a:lnTo>
                  <a:pt x="22" y="19"/>
                </a:lnTo>
                <a:lnTo>
                  <a:pt x="17" y="25"/>
                </a:lnTo>
                <a:lnTo>
                  <a:pt x="11" y="25"/>
                </a:lnTo>
                <a:lnTo>
                  <a:pt x="11" y="31"/>
                </a:lnTo>
                <a:lnTo>
                  <a:pt x="11" y="38"/>
                </a:lnTo>
                <a:lnTo>
                  <a:pt x="5" y="44"/>
                </a:lnTo>
                <a:lnTo>
                  <a:pt x="5" y="56"/>
                </a:lnTo>
                <a:lnTo>
                  <a:pt x="0" y="69"/>
                </a:lnTo>
                <a:lnTo>
                  <a:pt x="5" y="75"/>
                </a:lnTo>
                <a:lnTo>
                  <a:pt x="11" y="81"/>
                </a:lnTo>
                <a:lnTo>
                  <a:pt x="17" y="88"/>
                </a:lnTo>
                <a:lnTo>
                  <a:pt x="22" y="88"/>
                </a:lnTo>
                <a:lnTo>
                  <a:pt x="28" y="88"/>
                </a:lnTo>
                <a:lnTo>
                  <a:pt x="34" y="88"/>
                </a:lnTo>
                <a:lnTo>
                  <a:pt x="39" y="88"/>
                </a:lnTo>
                <a:lnTo>
                  <a:pt x="51" y="88"/>
                </a:lnTo>
                <a:lnTo>
                  <a:pt x="56" y="81"/>
                </a:lnTo>
                <a:lnTo>
                  <a:pt x="62" y="81"/>
                </a:lnTo>
                <a:lnTo>
                  <a:pt x="73" y="75"/>
                </a:lnTo>
                <a:lnTo>
                  <a:pt x="79" y="69"/>
                </a:lnTo>
                <a:lnTo>
                  <a:pt x="90" y="63"/>
                </a:lnTo>
                <a:lnTo>
                  <a:pt x="101" y="56"/>
                </a:lnTo>
                <a:lnTo>
                  <a:pt x="113" y="44"/>
                </a:lnTo>
                <a:lnTo>
                  <a:pt x="118" y="38"/>
                </a:lnTo>
                <a:lnTo>
                  <a:pt x="124" y="31"/>
                </a:lnTo>
                <a:lnTo>
                  <a:pt x="129" y="1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
          <p:cNvGrpSpPr/>
          <p:nvPr/>
        </p:nvGrpSpPr>
        <p:grpSpPr>
          <a:xfrm>
            <a:off x="1258920" y="909720"/>
            <a:ext cx="6553080" cy="1455840"/>
            <a:chOff x="1258920" y="909720"/>
            <a:chExt cx="6553080" cy="1455840"/>
          </a:xfrm>
        </p:grpSpPr>
        <p:pic>
          <p:nvPicPr>
            <p:cNvPr id="178" name="" descr=""/>
            <p:cNvPicPr/>
            <p:nvPr/>
          </p:nvPicPr>
          <p:blipFill>
            <a:blip r:embed="rId2"/>
            <a:stretch/>
          </p:blipFill>
          <p:spPr>
            <a:xfrm>
              <a:off x="1258920" y="909720"/>
              <a:ext cx="6553080" cy="1079280"/>
            </a:xfrm>
            <a:prstGeom prst="rect">
              <a:avLst/>
            </a:prstGeom>
            <a:ln w="0">
              <a:noFill/>
            </a:ln>
          </p:spPr>
        </p:pic>
        <p:sp>
          <p:nvSpPr>
            <p:cNvPr id="179" name=""/>
            <p:cNvSpPr/>
            <p:nvPr/>
          </p:nvSpPr>
          <p:spPr>
            <a:xfrm>
              <a:off x="2122560" y="1052640"/>
              <a:ext cx="496872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Kufi20 Normal"/>
                </a:rPr>
                <a:t>6</a:t>
              </a:r>
              <a:r>
                <a:rPr b="0" lang="en-US" sz="4000" spc="-1" strike="noStrike">
                  <a:solidFill>
                    <a:srgbClr val="000000"/>
                  </a:solidFill>
                  <a:latin typeface="Arial"/>
                  <a:ea typeface="Kufi20 Normal"/>
                </a:rPr>
                <a:t>-التسليم الأعمى للافتراضات </a:t>
              </a:r>
              <a:endParaRPr b="0" lang="en-US" sz="4000" spc="-1" strike="noStrike">
                <a:solidFill>
                  <a:srgbClr val="000000"/>
                </a:solidFill>
                <a:latin typeface="Arial"/>
              </a:endParaRPr>
            </a:p>
          </p:txBody>
        </p:sp>
      </p:grpSp>
      <p:grpSp>
        <p:nvGrpSpPr>
          <p:cNvPr id="180" name=""/>
          <p:cNvGrpSpPr/>
          <p:nvPr/>
        </p:nvGrpSpPr>
        <p:grpSpPr>
          <a:xfrm>
            <a:off x="-191160" y="804960"/>
            <a:ext cx="9549360" cy="9763560"/>
            <a:chOff x="-191160" y="804960"/>
            <a:chExt cx="9549360" cy="9763560"/>
          </a:xfrm>
        </p:grpSpPr>
        <p:grpSp>
          <p:nvGrpSpPr>
            <p:cNvPr id="181" name=""/>
            <p:cNvGrpSpPr/>
            <p:nvPr/>
          </p:nvGrpSpPr>
          <p:grpSpPr>
            <a:xfrm>
              <a:off x="-191160" y="804960"/>
              <a:ext cx="9549360" cy="6054480"/>
              <a:chOff x="-191160" y="804960"/>
              <a:chExt cx="9549360" cy="6054480"/>
            </a:xfrm>
          </p:grpSpPr>
          <p:sp>
            <p:nvSpPr>
              <p:cNvPr id="182" name=""/>
              <p:cNvSpPr/>
              <p:nvPr/>
            </p:nvSpPr>
            <p:spPr>
              <a:xfrm>
                <a:off x="2438280" y="2104920"/>
                <a:ext cx="4337280" cy="4754520"/>
              </a:xfrm>
              <a:prstGeom prst="rect">
                <a:avLst/>
              </a:prstGeom>
              <a:solidFill>
                <a:srgbClr val="ffcc00">
                  <a:alpha val="68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191160" y="939240"/>
                <a:ext cx="3179160" cy="2504160"/>
                <a:chOff x="-191160" y="939240"/>
                <a:chExt cx="3179160" cy="2504160"/>
              </a:xfrm>
            </p:grpSpPr>
            <p:sp>
              <p:nvSpPr>
                <p:cNvPr id="184" name=""/>
                <p:cNvSpPr/>
                <p:nvPr/>
              </p:nvSpPr>
              <p:spPr>
                <a:xfrm rot="1341000">
                  <a:off x="0" y="1412280"/>
                  <a:ext cx="2797200" cy="1557360"/>
                </a:xfrm>
                <a:custGeom>
                  <a:avLst/>
                  <a:gdLst/>
                  <a:ahLst/>
                  <a:rect l="l" t="t" r="r" b="b"/>
                  <a:pathLst>
                    <a:path w="2023" h="1467">
                      <a:moveTo>
                        <a:pt x="1911" y="226"/>
                      </a:moveTo>
                      <a:lnTo>
                        <a:pt x="1911" y="219"/>
                      </a:lnTo>
                      <a:lnTo>
                        <a:pt x="1916" y="213"/>
                      </a:lnTo>
                      <a:lnTo>
                        <a:pt x="1916" y="207"/>
                      </a:lnTo>
                      <a:lnTo>
                        <a:pt x="1916" y="194"/>
                      </a:lnTo>
                      <a:lnTo>
                        <a:pt x="1911" y="182"/>
                      </a:lnTo>
                      <a:lnTo>
                        <a:pt x="1916" y="176"/>
                      </a:lnTo>
                      <a:lnTo>
                        <a:pt x="1916" y="163"/>
                      </a:lnTo>
                      <a:lnTo>
                        <a:pt x="1922" y="163"/>
                      </a:lnTo>
                      <a:lnTo>
                        <a:pt x="1911" y="151"/>
                      </a:lnTo>
                      <a:lnTo>
                        <a:pt x="1905" y="138"/>
                      </a:lnTo>
                      <a:lnTo>
                        <a:pt x="1899" y="125"/>
                      </a:lnTo>
                      <a:lnTo>
                        <a:pt x="1894" y="119"/>
                      </a:lnTo>
                      <a:lnTo>
                        <a:pt x="1894" y="113"/>
                      </a:lnTo>
                      <a:lnTo>
                        <a:pt x="1888" y="100"/>
                      </a:lnTo>
                      <a:lnTo>
                        <a:pt x="1877" y="94"/>
                      </a:lnTo>
                      <a:lnTo>
                        <a:pt x="1866" y="88"/>
                      </a:lnTo>
                      <a:lnTo>
                        <a:pt x="1854" y="82"/>
                      </a:lnTo>
                      <a:lnTo>
                        <a:pt x="1849" y="75"/>
                      </a:lnTo>
                      <a:lnTo>
                        <a:pt x="1837" y="75"/>
                      </a:lnTo>
                      <a:lnTo>
                        <a:pt x="1826" y="69"/>
                      </a:lnTo>
                      <a:lnTo>
                        <a:pt x="1820" y="69"/>
                      </a:lnTo>
                      <a:lnTo>
                        <a:pt x="1809" y="69"/>
                      </a:lnTo>
                      <a:lnTo>
                        <a:pt x="1798" y="69"/>
                      </a:lnTo>
                      <a:lnTo>
                        <a:pt x="1787" y="69"/>
                      </a:lnTo>
                      <a:lnTo>
                        <a:pt x="1775" y="69"/>
                      </a:lnTo>
                      <a:lnTo>
                        <a:pt x="1770" y="63"/>
                      </a:lnTo>
                      <a:lnTo>
                        <a:pt x="1758" y="63"/>
                      </a:lnTo>
                      <a:lnTo>
                        <a:pt x="1747" y="63"/>
                      </a:lnTo>
                      <a:lnTo>
                        <a:pt x="1736" y="63"/>
                      </a:lnTo>
                      <a:lnTo>
                        <a:pt x="1725" y="63"/>
                      </a:lnTo>
                      <a:lnTo>
                        <a:pt x="1719" y="63"/>
                      </a:lnTo>
                      <a:lnTo>
                        <a:pt x="1708" y="56"/>
                      </a:lnTo>
                      <a:lnTo>
                        <a:pt x="1696" y="56"/>
                      </a:lnTo>
                      <a:lnTo>
                        <a:pt x="1691" y="50"/>
                      </a:lnTo>
                      <a:lnTo>
                        <a:pt x="1685" y="50"/>
                      </a:lnTo>
                      <a:lnTo>
                        <a:pt x="1674" y="44"/>
                      </a:lnTo>
                      <a:lnTo>
                        <a:pt x="1668" y="44"/>
                      </a:lnTo>
                      <a:lnTo>
                        <a:pt x="1657" y="38"/>
                      </a:lnTo>
                      <a:lnTo>
                        <a:pt x="1651" y="31"/>
                      </a:lnTo>
                      <a:lnTo>
                        <a:pt x="1646" y="31"/>
                      </a:lnTo>
                      <a:lnTo>
                        <a:pt x="1634" y="25"/>
                      </a:lnTo>
                      <a:lnTo>
                        <a:pt x="1629" y="19"/>
                      </a:lnTo>
                      <a:lnTo>
                        <a:pt x="1623" y="19"/>
                      </a:lnTo>
                      <a:lnTo>
                        <a:pt x="1612" y="13"/>
                      </a:lnTo>
                      <a:lnTo>
                        <a:pt x="1606" y="13"/>
                      </a:lnTo>
                      <a:lnTo>
                        <a:pt x="1595" y="13"/>
                      </a:lnTo>
                      <a:lnTo>
                        <a:pt x="1589" y="6"/>
                      </a:lnTo>
                      <a:lnTo>
                        <a:pt x="1584" y="6"/>
                      </a:lnTo>
                      <a:lnTo>
                        <a:pt x="1572" y="6"/>
                      </a:lnTo>
                      <a:lnTo>
                        <a:pt x="1561" y="6"/>
                      </a:lnTo>
                      <a:lnTo>
                        <a:pt x="1556" y="6"/>
                      </a:lnTo>
                      <a:lnTo>
                        <a:pt x="1544" y="6"/>
                      </a:lnTo>
                      <a:lnTo>
                        <a:pt x="1533" y="6"/>
                      </a:lnTo>
                      <a:lnTo>
                        <a:pt x="1527" y="6"/>
                      </a:lnTo>
                      <a:lnTo>
                        <a:pt x="1516" y="6"/>
                      </a:lnTo>
                      <a:lnTo>
                        <a:pt x="1505" y="6"/>
                      </a:lnTo>
                      <a:lnTo>
                        <a:pt x="1499" y="13"/>
                      </a:lnTo>
                      <a:lnTo>
                        <a:pt x="1488" y="13"/>
                      </a:lnTo>
                      <a:lnTo>
                        <a:pt x="1477" y="13"/>
                      </a:lnTo>
                      <a:lnTo>
                        <a:pt x="1471" y="13"/>
                      </a:lnTo>
                      <a:lnTo>
                        <a:pt x="1460" y="19"/>
                      </a:lnTo>
                      <a:lnTo>
                        <a:pt x="1448" y="19"/>
                      </a:lnTo>
                      <a:lnTo>
                        <a:pt x="1443" y="19"/>
                      </a:lnTo>
                      <a:lnTo>
                        <a:pt x="1432" y="19"/>
                      </a:lnTo>
                      <a:lnTo>
                        <a:pt x="1426" y="19"/>
                      </a:lnTo>
                      <a:lnTo>
                        <a:pt x="1420" y="19"/>
                      </a:lnTo>
                      <a:lnTo>
                        <a:pt x="1409" y="19"/>
                      </a:lnTo>
                      <a:lnTo>
                        <a:pt x="1403" y="19"/>
                      </a:lnTo>
                      <a:lnTo>
                        <a:pt x="1398" y="19"/>
                      </a:lnTo>
                      <a:lnTo>
                        <a:pt x="1392" y="19"/>
                      </a:lnTo>
                      <a:lnTo>
                        <a:pt x="1386" y="19"/>
                      </a:lnTo>
                      <a:lnTo>
                        <a:pt x="1375" y="19"/>
                      </a:lnTo>
                      <a:lnTo>
                        <a:pt x="1370" y="19"/>
                      </a:lnTo>
                      <a:lnTo>
                        <a:pt x="1364" y="19"/>
                      </a:lnTo>
                      <a:lnTo>
                        <a:pt x="1358" y="19"/>
                      </a:lnTo>
                      <a:lnTo>
                        <a:pt x="1353" y="19"/>
                      </a:lnTo>
                      <a:lnTo>
                        <a:pt x="1341" y="13"/>
                      </a:lnTo>
                      <a:lnTo>
                        <a:pt x="1336" y="13"/>
                      </a:lnTo>
                      <a:lnTo>
                        <a:pt x="1330" y="13"/>
                      </a:lnTo>
                      <a:lnTo>
                        <a:pt x="1324" y="13"/>
                      </a:lnTo>
                      <a:lnTo>
                        <a:pt x="1319" y="13"/>
                      </a:lnTo>
                      <a:lnTo>
                        <a:pt x="1308" y="13"/>
                      </a:lnTo>
                      <a:lnTo>
                        <a:pt x="1302" y="13"/>
                      </a:lnTo>
                      <a:lnTo>
                        <a:pt x="1296" y="13"/>
                      </a:lnTo>
                      <a:lnTo>
                        <a:pt x="1291" y="6"/>
                      </a:lnTo>
                      <a:lnTo>
                        <a:pt x="1285" y="6"/>
                      </a:lnTo>
                      <a:lnTo>
                        <a:pt x="1279" y="6"/>
                      </a:lnTo>
                      <a:lnTo>
                        <a:pt x="1268" y="6"/>
                      </a:lnTo>
                      <a:lnTo>
                        <a:pt x="1262" y="6"/>
                      </a:lnTo>
                      <a:lnTo>
                        <a:pt x="1257" y="0"/>
                      </a:lnTo>
                      <a:lnTo>
                        <a:pt x="1251" y="0"/>
                      </a:lnTo>
                      <a:lnTo>
                        <a:pt x="1246" y="0"/>
                      </a:lnTo>
                      <a:lnTo>
                        <a:pt x="1240" y="0"/>
                      </a:lnTo>
                      <a:lnTo>
                        <a:pt x="1229" y="0"/>
                      </a:lnTo>
                      <a:lnTo>
                        <a:pt x="1223" y="0"/>
                      </a:lnTo>
                      <a:lnTo>
                        <a:pt x="1217" y="0"/>
                      </a:lnTo>
                      <a:lnTo>
                        <a:pt x="1206" y="0"/>
                      </a:lnTo>
                      <a:lnTo>
                        <a:pt x="1195" y="6"/>
                      </a:lnTo>
                      <a:lnTo>
                        <a:pt x="1189" y="6"/>
                      </a:lnTo>
                      <a:lnTo>
                        <a:pt x="1178" y="13"/>
                      </a:lnTo>
                      <a:lnTo>
                        <a:pt x="1167" y="13"/>
                      </a:lnTo>
                      <a:lnTo>
                        <a:pt x="1155" y="19"/>
                      </a:lnTo>
                      <a:lnTo>
                        <a:pt x="1150" y="25"/>
                      </a:lnTo>
                      <a:lnTo>
                        <a:pt x="1138" y="31"/>
                      </a:lnTo>
                      <a:lnTo>
                        <a:pt x="1122" y="38"/>
                      </a:lnTo>
                      <a:lnTo>
                        <a:pt x="1110" y="44"/>
                      </a:lnTo>
                      <a:lnTo>
                        <a:pt x="1093" y="50"/>
                      </a:lnTo>
                      <a:lnTo>
                        <a:pt x="1076" y="63"/>
                      </a:lnTo>
                      <a:lnTo>
                        <a:pt x="1060" y="69"/>
                      </a:lnTo>
                      <a:lnTo>
                        <a:pt x="1048" y="75"/>
                      </a:lnTo>
                      <a:lnTo>
                        <a:pt x="1031" y="82"/>
                      </a:lnTo>
                      <a:lnTo>
                        <a:pt x="1014" y="94"/>
                      </a:lnTo>
                      <a:lnTo>
                        <a:pt x="1003" y="100"/>
                      </a:lnTo>
                      <a:lnTo>
                        <a:pt x="986" y="107"/>
                      </a:lnTo>
                      <a:lnTo>
                        <a:pt x="969" y="119"/>
                      </a:lnTo>
                      <a:lnTo>
                        <a:pt x="958" y="125"/>
                      </a:lnTo>
                      <a:lnTo>
                        <a:pt x="941" y="132"/>
                      </a:lnTo>
                      <a:lnTo>
                        <a:pt x="924" y="144"/>
                      </a:lnTo>
                      <a:lnTo>
                        <a:pt x="913" y="151"/>
                      </a:lnTo>
                      <a:lnTo>
                        <a:pt x="896" y="157"/>
                      </a:lnTo>
                      <a:lnTo>
                        <a:pt x="879" y="169"/>
                      </a:lnTo>
                      <a:lnTo>
                        <a:pt x="868" y="176"/>
                      </a:lnTo>
                      <a:lnTo>
                        <a:pt x="851" y="182"/>
                      </a:lnTo>
                      <a:lnTo>
                        <a:pt x="834" y="188"/>
                      </a:lnTo>
                      <a:lnTo>
                        <a:pt x="823" y="201"/>
                      </a:lnTo>
                      <a:lnTo>
                        <a:pt x="806" y="207"/>
                      </a:lnTo>
                      <a:lnTo>
                        <a:pt x="789" y="213"/>
                      </a:lnTo>
                      <a:lnTo>
                        <a:pt x="778" y="226"/>
                      </a:lnTo>
                      <a:lnTo>
                        <a:pt x="761" y="232"/>
                      </a:lnTo>
                      <a:lnTo>
                        <a:pt x="744" y="238"/>
                      </a:lnTo>
                      <a:lnTo>
                        <a:pt x="733" y="251"/>
                      </a:lnTo>
                      <a:lnTo>
                        <a:pt x="716" y="257"/>
                      </a:lnTo>
                      <a:lnTo>
                        <a:pt x="699" y="263"/>
                      </a:lnTo>
                      <a:lnTo>
                        <a:pt x="688" y="270"/>
                      </a:lnTo>
                      <a:lnTo>
                        <a:pt x="671" y="282"/>
                      </a:lnTo>
                      <a:lnTo>
                        <a:pt x="654" y="288"/>
                      </a:lnTo>
                      <a:lnTo>
                        <a:pt x="643" y="295"/>
                      </a:lnTo>
                      <a:lnTo>
                        <a:pt x="631" y="301"/>
                      </a:lnTo>
                      <a:lnTo>
                        <a:pt x="620" y="307"/>
                      </a:lnTo>
                      <a:lnTo>
                        <a:pt x="609" y="314"/>
                      </a:lnTo>
                      <a:lnTo>
                        <a:pt x="592" y="320"/>
                      </a:lnTo>
                      <a:lnTo>
                        <a:pt x="581" y="326"/>
                      </a:lnTo>
                      <a:lnTo>
                        <a:pt x="569" y="332"/>
                      </a:lnTo>
                      <a:lnTo>
                        <a:pt x="558" y="339"/>
                      </a:lnTo>
                      <a:lnTo>
                        <a:pt x="547" y="345"/>
                      </a:lnTo>
                      <a:lnTo>
                        <a:pt x="530" y="351"/>
                      </a:lnTo>
                      <a:lnTo>
                        <a:pt x="519" y="351"/>
                      </a:lnTo>
                      <a:lnTo>
                        <a:pt x="507" y="357"/>
                      </a:lnTo>
                      <a:lnTo>
                        <a:pt x="496" y="364"/>
                      </a:lnTo>
                      <a:lnTo>
                        <a:pt x="485" y="370"/>
                      </a:lnTo>
                      <a:lnTo>
                        <a:pt x="468" y="376"/>
                      </a:lnTo>
                      <a:lnTo>
                        <a:pt x="457" y="383"/>
                      </a:lnTo>
                      <a:lnTo>
                        <a:pt x="451" y="383"/>
                      </a:lnTo>
                      <a:lnTo>
                        <a:pt x="445" y="383"/>
                      </a:lnTo>
                      <a:lnTo>
                        <a:pt x="434" y="389"/>
                      </a:lnTo>
                      <a:lnTo>
                        <a:pt x="428" y="389"/>
                      </a:lnTo>
                      <a:lnTo>
                        <a:pt x="423" y="389"/>
                      </a:lnTo>
                      <a:lnTo>
                        <a:pt x="417" y="389"/>
                      </a:lnTo>
                      <a:lnTo>
                        <a:pt x="406" y="389"/>
                      </a:lnTo>
                      <a:lnTo>
                        <a:pt x="400" y="395"/>
                      </a:lnTo>
                      <a:lnTo>
                        <a:pt x="389" y="401"/>
                      </a:lnTo>
                      <a:lnTo>
                        <a:pt x="378" y="401"/>
                      </a:lnTo>
                      <a:lnTo>
                        <a:pt x="361" y="408"/>
                      </a:lnTo>
                      <a:lnTo>
                        <a:pt x="349" y="414"/>
                      </a:lnTo>
                      <a:lnTo>
                        <a:pt x="338" y="420"/>
                      </a:lnTo>
                      <a:lnTo>
                        <a:pt x="327" y="426"/>
                      </a:lnTo>
                      <a:lnTo>
                        <a:pt x="310" y="433"/>
                      </a:lnTo>
                      <a:lnTo>
                        <a:pt x="299" y="439"/>
                      </a:lnTo>
                      <a:lnTo>
                        <a:pt x="287" y="445"/>
                      </a:lnTo>
                      <a:lnTo>
                        <a:pt x="276" y="452"/>
                      </a:lnTo>
                      <a:lnTo>
                        <a:pt x="265" y="458"/>
                      </a:lnTo>
                      <a:lnTo>
                        <a:pt x="248" y="464"/>
                      </a:lnTo>
                      <a:lnTo>
                        <a:pt x="237" y="470"/>
                      </a:lnTo>
                      <a:lnTo>
                        <a:pt x="225" y="477"/>
                      </a:lnTo>
                      <a:lnTo>
                        <a:pt x="214" y="477"/>
                      </a:lnTo>
                      <a:lnTo>
                        <a:pt x="203" y="483"/>
                      </a:lnTo>
                      <a:lnTo>
                        <a:pt x="186" y="489"/>
                      </a:lnTo>
                      <a:lnTo>
                        <a:pt x="175" y="495"/>
                      </a:lnTo>
                      <a:lnTo>
                        <a:pt x="163" y="502"/>
                      </a:lnTo>
                      <a:lnTo>
                        <a:pt x="152" y="508"/>
                      </a:lnTo>
                      <a:lnTo>
                        <a:pt x="135" y="514"/>
                      </a:lnTo>
                      <a:lnTo>
                        <a:pt x="124" y="520"/>
                      </a:lnTo>
                      <a:lnTo>
                        <a:pt x="113" y="527"/>
                      </a:lnTo>
                      <a:lnTo>
                        <a:pt x="101" y="533"/>
                      </a:lnTo>
                      <a:lnTo>
                        <a:pt x="90" y="539"/>
                      </a:lnTo>
                      <a:lnTo>
                        <a:pt x="73" y="546"/>
                      </a:lnTo>
                      <a:lnTo>
                        <a:pt x="62" y="552"/>
                      </a:lnTo>
                      <a:lnTo>
                        <a:pt x="51" y="558"/>
                      </a:lnTo>
                      <a:lnTo>
                        <a:pt x="39" y="564"/>
                      </a:lnTo>
                      <a:lnTo>
                        <a:pt x="23" y="571"/>
                      </a:lnTo>
                      <a:lnTo>
                        <a:pt x="11" y="577"/>
                      </a:lnTo>
                      <a:lnTo>
                        <a:pt x="0" y="583"/>
                      </a:lnTo>
                      <a:lnTo>
                        <a:pt x="17" y="640"/>
                      </a:lnTo>
                      <a:lnTo>
                        <a:pt x="39" y="690"/>
                      </a:lnTo>
                      <a:lnTo>
                        <a:pt x="56" y="746"/>
                      </a:lnTo>
                      <a:lnTo>
                        <a:pt x="79" y="803"/>
                      </a:lnTo>
                      <a:lnTo>
                        <a:pt x="96" y="859"/>
                      </a:lnTo>
                      <a:lnTo>
                        <a:pt x="118" y="916"/>
                      </a:lnTo>
                      <a:lnTo>
                        <a:pt x="135" y="966"/>
                      </a:lnTo>
                      <a:lnTo>
                        <a:pt x="158" y="1022"/>
                      </a:lnTo>
                      <a:lnTo>
                        <a:pt x="175" y="1079"/>
                      </a:lnTo>
                      <a:lnTo>
                        <a:pt x="197" y="1135"/>
                      </a:lnTo>
                      <a:lnTo>
                        <a:pt x="214" y="1185"/>
                      </a:lnTo>
                      <a:lnTo>
                        <a:pt x="237" y="1242"/>
                      </a:lnTo>
                      <a:lnTo>
                        <a:pt x="254" y="1298"/>
                      </a:lnTo>
                      <a:lnTo>
                        <a:pt x="276" y="1355"/>
                      </a:lnTo>
                      <a:lnTo>
                        <a:pt x="293" y="1411"/>
                      </a:lnTo>
                      <a:lnTo>
                        <a:pt x="316" y="1467"/>
                      </a:lnTo>
                      <a:lnTo>
                        <a:pt x="321" y="1455"/>
                      </a:lnTo>
                      <a:lnTo>
                        <a:pt x="327" y="1442"/>
                      </a:lnTo>
                      <a:lnTo>
                        <a:pt x="333" y="1430"/>
                      </a:lnTo>
                      <a:lnTo>
                        <a:pt x="344" y="1417"/>
                      </a:lnTo>
                      <a:lnTo>
                        <a:pt x="349" y="1405"/>
                      </a:lnTo>
                      <a:lnTo>
                        <a:pt x="355" y="1392"/>
                      </a:lnTo>
                      <a:lnTo>
                        <a:pt x="361" y="1380"/>
                      </a:lnTo>
                      <a:lnTo>
                        <a:pt x="366" y="1367"/>
                      </a:lnTo>
                      <a:lnTo>
                        <a:pt x="378" y="1367"/>
                      </a:lnTo>
                      <a:lnTo>
                        <a:pt x="383" y="1367"/>
                      </a:lnTo>
                      <a:lnTo>
                        <a:pt x="395" y="1367"/>
                      </a:lnTo>
                      <a:lnTo>
                        <a:pt x="406" y="1367"/>
                      </a:lnTo>
                      <a:lnTo>
                        <a:pt x="411" y="1367"/>
                      </a:lnTo>
                      <a:lnTo>
                        <a:pt x="423" y="1367"/>
                      </a:lnTo>
                      <a:lnTo>
                        <a:pt x="428" y="1367"/>
                      </a:lnTo>
                      <a:lnTo>
                        <a:pt x="440" y="1367"/>
                      </a:lnTo>
                      <a:lnTo>
                        <a:pt x="445" y="1367"/>
                      </a:lnTo>
                      <a:lnTo>
                        <a:pt x="457" y="1367"/>
                      </a:lnTo>
                      <a:lnTo>
                        <a:pt x="462" y="1367"/>
                      </a:lnTo>
                      <a:lnTo>
                        <a:pt x="473" y="1367"/>
                      </a:lnTo>
                      <a:lnTo>
                        <a:pt x="479" y="1367"/>
                      </a:lnTo>
                      <a:lnTo>
                        <a:pt x="490" y="1367"/>
                      </a:lnTo>
                      <a:lnTo>
                        <a:pt x="496" y="1367"/>
                      </a:lnTo>
                      <a:lnTo>
                        <a:pt x="507" y="1367"/>
                      </a:lnTo>
                      <a:lnTo>
                        <a:pt x="519" y="1367"/>
                      </a:lnTo>
                      <a:lnTo>
                        <a:pt x="530" y="1361"/>
                      </a:lnTo>
                      <a:lnTo>
                        <a:pt x="547" y="1361"/>
                      </a:lnTo>
                      <a:lnTo>
                        <a:pt x="558" y="1361"/>
                      </a:lnTo>
                      <a:lnTo>
                        <a:pt x="569" y="1361"/>
                      </a:lnTo>
                      <a:lnTo>
                        <a:pt x="586" y="1355"/>
                      </a:lnTo>
                      <a:lnTo>
                        <a:pt x="597" y="1355"/>
                      </a:lnTo>
                      <a:lnTo>
                        <a:pt x="614" y="1355"/>
                      </a:lnTo>
                      <a:lnTo>
                        <a:pt x="626" y="1348"/>
                      </a:lnTo>
                      <a:lnTo>
                        <a:pt x="637" y="1348"/>
                      </a:lnTo>
                      <a:lnTo>
                        <a:pt x="654" y="1342"/>
                      </a:lnTo>
                      <a:lnTo>
                        <a:pt x="665" y="1342"/>
                      </a:lnTo>
                      <a:lnTo>
                        <a:pt x="676" y="1336"/>
                      </a:lnTo>
                      <a:lnTo>
                        <a:pt x="693" y="1336"/>
                      </a:lnTo>
                      <a:lnTo>
                        <a:pt x="705" y="1329"/>
                      </a:lnTo>
                      <a:lnTo>
                        <a:pt x="716" y="1329"/>
                      </a:lnTo>
                      <a:lnTo>
                        <a:pt x="727" y="1323"/>
                      </a:lnTo>
                      <a:lnTo>
                        <a:pt x="744" y="1317"/>
                      </a:lnTo>
                      <a:lnTo>
                        <a:pt x="755" y="1311"/>
                      </a:lnTo>
                      <a:lnTo>
                        <a:pt x="766" y="1311"/>
                      </a:lnTo>
                      <a:lnTo>
                        <a:pt x="783" y="1304"/>
                      </a:lnTo>
                      <a:lnTo>
                        <a:pt x="795" y="1298"/>
                      </a:lnTo>
                      <a:lnTo>
                        <a:pt x="806" y="1292"/>
                      </a:lnTo>
                      <a:lnTo>
                        <a:pt x="817" y="1286"/>
                      </a:lnTo>
                      <a:lnTo>
                        <a:pt x="828" y="1279"/>
                      </a:lnTo>
                      <a:lnTo>
                        <a:pt x="845" y="1273"/>
                      </a:lnTo>
                      <a:lnTo>
                        <a:pt x="857" y="1267"/>
                      </a:lnTo>
                      <a:lnTo>
                        <a:pt x="868" y="1260"/>
                      </a:lnTo>
                      <a:lnTo>
                        <a:pt x="879" y="1254"/>
                      </a:lnTo>
                      <a:lnTo>
                        <a:pt x="890" y="1248"/>
                      </a:lnTo>
                      <a:lnTo>
                        <a:pt x="902" y="1242"/>
                      </a:lnTo>
                      <a:lnTo>
                        <a:pt x="913" y="1235"/>
                      </a:lnTo>
                      <a:lnTo>
                        <a:pt x="924" y="1229"/>
                      </a:lnTo>
                      <a:lnTo>
                        <a:pt x="930" y="1223"/>
                      </a:lnTo>
                      <a:lnTo>
                        <a:pt x="936" y="1217"/>
                      </a:lnTo>
                      <a:lnTo>
                        <a:pt x="947" y="1210"/>
                      </a:lnTo>
                      <a:lnTo>
                        <a:pt x="952" y="1204"/>
                      </a:lnTo>
                      <a:lnTo>
                        <a:pt x="958" y="1198"/>
                      </a:lnTo>
                      <a:lnTo>
                        <a:pt x="964" y="1185"/>
                      </a:lnTo>
                      <a:lnTo>
                        <a:pt x="975" y="1179"/>
                      </a:lnTo>
                      <a:lnTo>
                        <a:pt x="986" y="1179"/>
                      </a:lnTo>
                      <a:lnTo>
                        <a:pt x="998" y="1173"/>
                      </a:lnTo>
                      <a:lnTo>
                        <a:pt x="1014" y="1173"/>
                      </a:lnTo>
                      <a:lnTo>
                        <a:pt x="1026" y="1166"/>
                      </a:lnTo>
                      <a:lnTo>
                        <a:pt x="1043" y="1166"/>
                      </a:lnTo>
                      <a:lnTo>
                        <a:pt x="1054" y="1160"/>
                      </a:lnTo>
                      <a:lnTo>
                        <a:pt x="1071" y="1154"/>
                      </a:lnTo>
                      <a:lnTo>
                        <a:pt x="1082" y="1154"/>
                      </a:lnTo>
                      <a:lnTo>
                        <a:pt x="1093" y="1148"/>
                      </a:lnTo>
                      <a:lnTo>
                        <a:pt x="1110" y="1148"/>
                      </a:lnTo>
                      <a:lnTo>
                        <a:pt x="1122" y="1141"/>
                      </a:lnTo>
                      <a:lnTo>
                        <a:pt x="1138" y="1141"/>
                      </a:lnTo>
                      <a:lnTo>
                        <a:pt x="1150" y="1135"/>
                      </a:lnTo>
                      <a:lnTo>
                        <a:pt x="1167" y="1135"/>
                      </a:lnTo>
                      <a:lnTo>
                        <a:pt x="1178" y="1129"/>
                      </a:lnTo>
                      <a:lnTo>
                        <a:pt x="1189" y="1122"/>
                      </a:lnTo>
                      <a:lnTo>
                        <a:pt x="1200" y="1129"/>
                      </a:lnTo>
                      <a:lnTo>
                        <a:pt x="1212" y="1135"/>
                      </a:lnTo>
                      <a:lnTo>
                        <a:pt x="1223" y="1148"/>
                      </a:lnTo>
                      <a:lnTo>
                        <a:pt x="1234" y="1154"/>
                      </a:lnTo>
                      <a:lnTo>
                        <a:pt x="1240" y="1160"/>
                      </a:lnTo>
                      <a:lnTo>
                        <a:pt x="1251" y="1166"/>
                      </a:lnTo>
                      <a:lnTo>
                        <a:pt x="1262" y="1173"/>
                      </a:lnTo>
                      <a:lnTo>
                        <a:pt x="1274" y="1173"/>
                      </a:lnTo>
                      <a:lnTo>
                        <a:pt x="1279" y="1179"/>
                      </a:lnTo>
                      <a:lnTo>
                        <a:pt x="1291" y="1179"/>
                      </a:lnTo>
                      <a:lnTo>
                        <a:pt x="1296" y="1179"/>
                      </a:lnTo>
                      <a:lnTo>
                        <a:pt x="1308" y="1185"/>
                      </a:lnTo>
                      <a:lnTo>
                        <a:pt x="1313" y="1185"/>
                      </a:lnTo>
                      <a:lnTo>
                        <a:pt x="1324" y="1185"/>
                      </a:lnTo>
                      <a:lnTo>
                        <a:pt x="1330" y="1191"/>
                      </a:lnTo>
                      <a:lnTo>
                        <a:pt x="1341" y="1191"/>
                      </a:lnTo>
                      <a:lnTo>
                        <a:pt x="1347" y="1191"/>
                      </a:lnTo>
                      <a:lnTo>
                        <a:pt x="1358" y="1191"/>
                      </a:lnTo>
                      <a:lnTo>
                        <a:pt x="1364" y="1198"/>
                      </a:lnTo>
                      <a:lnTo>
                        <a:pt x="1375" y="1198"/>
                      </a:lnTo>
                      <a:lnTo>
                        <a:pt x="1381" y="1198"/>
                      </a:lnTo>
                      <a:lnTo>
                        <a:pt x="1386" y="1198"/>
                      </a:lnTo>
                      <a:lnTo>
                        <a:pt x="1398" y="1198"/>
                      </a:lnTo>
                      <a:lnTo>
                        <a:pt x="1403" y="1198"/>
                      </a:lnTo>
                      <a:lnTo>
                        <a:pt x="1415" y="1198"/>
                      </a:lnTo>
                      <a:lnTo>
                        <a:pt x="1426" y="1191"/>
                      </a:lnTo>
                      <a:lnTo>
                        <a:pt x="1437" y="1191"/>
                      </a:lnTo>
                      <a:lnTo>
                        <a:pt x="1448" y="1185"/>
                      </a:lnTo>
                      <a:lnTo>
                        <a:pt x="1454" y="1179"/>
                      </a:lnTo>
                      <a:lnTo>
                        <a:pt x="1465" y="1173"/>
                      </a:lnTo>
                      <a:lnTo>
                        <a:pt x="1477" y="1166"/>
                      </a:lnTo>
                      <a:lnTo>
                        <a:pt x="1482" y="1160"/>
                      </a:lnTo>
                      <a:lnTo>
                        <a:pt x="1494" y="1154"/>
                      </a:lnTo>
                      <a:lnTo>
                        <a:pt x="1499" y="1148"/>
                      </a:lnTo>
                      <a:lnTo>
                        <a:pt x="1505" y="1141"/>
                      </a:lnTo>
                      <a:lnTo>
                        <a:pt x="1516" y="1129"/>
                      </a:lnTo>
                      <a:lnTo>
                        <a:pt x="1522" y="1122"/>
                      </a:lnTo>
                      <a:lnTo>
                        <a:pt x="1527" y="1110"/>
                      </a:lnTo>
                      <a:lnTo>
                        <a:pt x="1533" y="1104"/>
                      </a:lnTo>
                      <a:lnTo>
                        <a:pt x="1533" y="1091"/>
                      </a:lnTo>
                      <a:lnTo>
                        <a:pt x="1539" y="1079"/>
                      </a:lnTo>
                      <a:lnTo>
                        <a:pt x="1539" y="1060"/>
                      </a:lnTo>
                      <a:lnTo>
                        <a:pt x="1539" y="1041"/>
                      </a:lnTo>
                      <a:lnTo>
                        <a:pt x="1533" y="1028"/>
                      </a:lnTo>
                      <a:lnTo>
                        <a:pt x="1539" y="1022"/>
                      </a:lnTo>
                      <a:lnTo>
                        <a:pt x="1550" y="1016"/>
                      </a:lnTo>
                      <a:lnTo>
                        <a:pt x="1556" y="1016"/>
                      </a:lnTo>
                      <a:lnTo>
                        <a:pt x="1561" y="1010"/>
                      </a:lnTo>
                      <a:lnTo>
                        <a:pt x="1567" y="1010"/>
                      </a:lnTo>
                      <a:lnTo>
                        <a:pt x="1572" y="1003"/>
                      </a:lnTo>
                      <a:lnTo>
                        <a:pt x="1578" y="1003"/>
                      </a:lnTo>
                      <a:lnTo>
                        <a:pt x="1584" y="997"/>
                      </a:lnTo>
                      <a:lnTo>
                        <a:pt x="1589" y="991"/>
                      </a:lnTo>
                      <a:lnTo>
                        <a:pt x="1595" y="991"/>
                      </a:lnTo>
                      <a:lnTo>
                        <a:pt x="1601" y="985"/>
                      </a:lnTo>
                      <a:lnTo>
                        <a:pt x="1606" y="985"/>
                      </a:lnTo>
                      <a:lnTo>
                        <a:pt x="1618" y="978"/>
                      </a:lnTo>
                      <a:lnTo>
                        <a:pt x="1623" y="972"/>
                      </a:lnTo>
                      <a:lnTo>
                        <a:pt x="1629" y="966"/>
                      </a:lnTo>
                      <a:lnTo>
                        <a:pt x="1634" y="966"/>
                      </a:lnTo>
                      <a:lnTo>
                        <a:pt x="1634" y="959"/>
                      </a:lnTo>
                      <a:lnTo>
                        <a:pt x="1640" y="953"/>
                      </a:lnTo>
                      <a:lnTo>
                        <a:pt x="1646" y="947"/>
                      </a:lnTo>
                      <a:lnTo>
                        <a:pt x="1646" y="941"/>
                      </a:lnTo>
                      <a:lnTo>
                        <a:pt x="1651" y="934"/>
                      </a:lnTo>
                      <a:lnTo>
                        <a:pt x="1651" y="928"/>
                      </a:lnTo>
                      <a:lnTo>
                        <a:pt x="1657" y="928"/>
                      </a:lnTo>
                      <a:lnTo>
                        <a:pt x="1657" y="922"/>
                      </a:lnTo>
                      <a:lnTo>
                        <a:pt x="1663" y="922"/>
                      </a:lnTo>
                      <a:lnTo>
                        <a:pt x="1668" y="922"/>
                      </a:lnTo>
                      <a:lnTo>
                        <a:pt x="1674" y="922"/>
                      </a:lnTo>
                      <a:lnTo>
                        <a:pt x="1680" y="928"/>
                      </a:lnTo>
                      <a:lnTo>
                        <a:pt x="1685" y="928"/>
                      </a:lnTo>
                      <a:lnTo>
                        <a:pt x="1696" y="928"/>
                      </a:lnTo>
                      <a:lnTo>
                        <a:pt x="1702" y="928"/>
                      </a:lnTo>
                      <a:lnTo>
                        <a:pt x="1708" y="934"/>
                      </a:lnTo>
                      <a:lnTo>
                        <a:pt x="1713" y="934"/>
                      </a:lnTo>
                      <a:lnTo>
                        <a:pt x="1719" y="934"/>
                      </a:lnTo>
                      <a:lnTo>
                        <a:pt x="1725" y="934"/>
                      </a:lnTo>
                      <a:lnTo>
                        <a:pt x="1730" y="941"/>
                      </a:lnTo>
                      <a:lnTo>
                        <a:pt x="1736" y="941"/>
                      </a:lnTo>
                      <a:lnTo>
                        <a:pt x="1742" y="941"/>
                      </a:lnTo>
                      <a:lnTo>
                        <a:pt x="1747" y="941"/>
                      </a:lnTo>
                      <a:lnTo>
                        <a:pt x="1753" y="934"/>
                      </a:lnTo>
                      <a:lnTo>
                        <a:pt x="1764" y="934"/>
                      </a:lnTo>
                      <a:lnTo>
                        <a:pt x="1775" y="928"/>
                      </a:lnTo>
                      <a:lnTo>
                        <a:pt x="1787" y="928"/>
                      </a:lnTo>
                      <a:lnTo>
                        <a:pt x="1798" y="922"/>
                      </a:lnTo>
                      <a:lnTo>
                        <a:pt x="1809" y="916"/>
                      </a:lnTo>
                      <a:lnTo>
                        <a:pt x="1815" y="909"/>
                      </a:lnTo>
                      <a:lnTo>
                        <a:pt x="1826" y="897"/>
                      </a:lnTo>
                      <a:lnTo>
                        <a:pt x="1832" y="890"/>
                      </a:lnTo>
                      <a:lnTo>
                        <a:pt x="1837" y="878"/>
                      </a:lnTo>
                      <a:lnTo>
                        <a:pt x="1843" y="865"/>
                      </a:lnTo>
                      <a:lnTo>
                        <a:pt x="1849" y="847"/>
                      </a:lnTo>
                      <a:lnTo>
                        <a:pt x="1854" y="834"/>
                      </a:lnTo>
                      <a:lnTo>
                        <a:pt x="1854" y="821"/>
                      </a:lnTo>
                      <a:lnTo>
                        <a:pt x="1860" y="809"/>
                      </a:lnTo>
                      <a:lnTo>
                        <a:pt x="1860" y="790"/>
                      </a:lnTo>
                      <a:lnTo>
                        <a:pt x="1860" y="778"/>
                      </a:lnTo>
                      <a:lnTo>
                        <a:pt x="1866" y="746"/>
                      </a:lnTo>
                      <a:lnTo>
                        <a:pt x="1866" y="715"/>
                      </a:lnTo>
                      <a:lnTo>
                        <a:pt x="1860" y="690"/>
                      </a:lnTo>
                      <a:lnTo>
                        <a:pt x="1860" y="658"/>
                      </a:lnTo>
                      <a:lnTo>
                        <a:pt x="1860" y="652"/>
                      </a:lnTo>
                      <a:lnTo>
                        <a:pt x="1860" y="640"/>
                      </a:lnTo>
                      <a:lnTo>
                        <a:pt x="1854" y="640"/>
                      </a:lnTo>
                      <a:lnTo>
                        <a:pt x="1854" y="633"/>
                      </a:lnTo>
                      <a:lnTo>
                        <a:pt x="1849" y="627"/>
                      </a:lnTo>
                      <a:lnTo>
                        <a:pt x="1849" y="627"/>
                      </a:lnTo>
                      <a:lnTo>
                        <a:pt x="1843" y="627"/>
                      </a:lnTo>
                      <a:lnTo>
                        <a:pt x="1837" y="627"/>
                      </a:lnTo>
                      <a:lnTo>
                        <a:pt x="1832" y="627"/>
                      </a:lnTo>
                      <a:lnTo>
                        <a:pt x="1826" y="627"/>
                      </a:lnTo>
                      <a:lnTo>
                        <a:pt x="1815" y="627"/>
                      </a:lnTo>
                      <a:lnTo>
                        <a:pt x="1809" y="633"/>
                      </a:lnTo>
                      <a:lnTo>
                        <a:pt x="1798" y="640"/>
                      </a:lnTo>
                      <a:lnTo>
                        <a:pt x="1792" y="640"/>
                      </a:lnTo>
                      <a:lnTo>
                        <a:pt x="1781" y="646"/>
                      </a:lnTo>
                      <a:lnTo>
                        <a:pt x="1770" y="652"/>
                      </a:lnTo>
                      <a:lnTo>
                        <a:pt x="1775" y="646"/>
                      </a:lnTo>
                      <a:lnTo>
                        <a:pt x="1787" y="646"/>
                      </a:lnTo>
                      <a:lnTo>
                        <a:pt x="1792" y="640"/>
                      </a:lnTo>
                      <a:lnTo>
                        <a:pt x="1804" y="633"/>
                      </a:lnTo>
                      <a:lnTo>
                        <a:pt x="1809" y="633"/>
                      </a:lnTo>
                      <a:lnTo>
                        <a:pt x="1820" y="627"/>
                      </a:lnTo>
                      <a:lnTo>
                        <a:pt x="1826" y="627"/>
                      </a:lnTo>
                      <a:lnTo>
                        <a:pt x="1832" y="621"/>
                      </a:lnTo>
                      <a:lnTo>
                        <a:pt x="1843" y="615"/>
                      </a:lnTo>
                      <a:lnTo>
                        <a:pt x="1849" y="615"/>
                      </a:lnTo>
                      <a:lnTo>
                        <a:pt x="1860" y="608"/>
                      </a:lnTo>
                      <a:lnTo>
                        <a:pt x="1866" y="602"/>
                      </a:lnTo>
                      <a:lnTo>
                        <a:pt x="1871" y="602"/>
                      </a:lnTo>
                      <a:lnTo>
                        <a:pt x="1882" y="596"/>
                      </a:lnTo>
                      <a:lnTo>
                        <a:pt x="1888" y="589"/>
                      </a:lnTo>
                      <a:lnTo>
                        <a:pt x="1894" y="583"/>
                      </a:lnTo>
                      <a:lnTo>
                        <a:pt x="1899" y="577"/>
                      </a:lnTo>
                      <a:lnTo>
                        <a:pt x="1911" y="571"/>
                      </a:lnTo>
                      <a:lnTo>
                        <a:pt x="1916" y="564"/>
                      </a:lnTo>
                      <a:lnTo>
                        <a:pt x="1922" y="558"/>
                      </a:lnTo>
                      <a:lnTo>
                        <a:pt x="1928" y="552"/>
                      </a:lnTo>
                      <a:lnTo>
                        <a:pt x="1933" y="546"/>
                      </a:lnTo>
                      <a:lnTo>
                        <a:pt x="1939" y="539"/>
                      </a:lnTo>
                      <a:lnTo>
                        <a:pt x="1944" y="527"/>
                      </a:lnTo>
                      <a:lnTo>
                        <a:pt x="1950" y="520"/>
                      </a:lnTo>
                      <a:lnTo>
                        <a:pt x="1956" y="514"/>
                      </a:lnTo>
                      <a:lnTo>
                        <a:pt x="1961" y="508"/>
                      </a:lnTo>
                      <a:lnTo>
                        <a:pt x="1967" y="495"/>
                      </a:lnTo>
                      <a:lnTo>
                        <a:pt x="1973" y="489"/>
                      </a:lnTo>
                      <a:lnTo>
                        <a:pt x="1978" y="483"/>
                      </a:lnTo>
                      <a:lnTo>
                        <a:pt x="1984" y="470"/>
                      </a:lnTo>
                      <a:lnTo>
                        <a:pt x="1990" y="464"/>
                      </a:lnTo>
                      <a:lnTo>
                        <a:pt x="1995" y="452"/>
                      </a:lnTo>
                      <a:lnTo>
                        <a:pt x="2001" y="433"/>
                      </a:lnTo>
                      <a:lnTo>
                        <a:pt x="2006" y="420"/>
                      </a:lnTo>
                      <a:lnTo>
                        <a:pt x="2012" y="401"/>
                      </a:lnTo>
                      <a:lnTo>
                        <a:pt x="2018" y="383"/>
                      </a:lnTo>
                      <a:lnTo>
                        <a:pt x="2018" y="370"/>
                      </a:lnTo>
                      <a:lnTo>
                        <a:pt x="2023" y="351"/>
                      </a:lnTo>
                      <a:lnTo>
                        <a:pt x="2018" y="339"/>
                      </a:lnTo>
                      <a:lnTo>
                        <a:pt x="2018" y="326"/>
                      </a:lnTo>
                      <a:lnTo>
                        <a:pt x="2012" y="314"/>
                      </a:lnTo>
                      <a:lnTo>
                        <a:pt x="2006" y="301"/>
                      </a:lnTo>
                      <a:lnTo>
                        <a:pt x="1995" y="295"/>
                      </a:lnTo>
                      <a:lnTo>
                        <a:pt x="1990" y="282"/>
                      </a:lnTo>
                      <a:lnTo>
                        <a:pt x="1978" y="276"/>
                      </a:lnTo>
                      <a:lnTo>
                        <a:pt x="1967" y="263"/>
                      </a:lnTo>
                      <a:lnTo>
                        <a:pt x="1961" y="257"/>
                      </a:lnTo>
                      <a:lnTo>
                        <a:pt x="1956" y="251"/>
                      </a:lnTo>
                      <a:lnTo>
                        <a:pt x="1950" y="245"/>
                      </a:lnTo>
                      <a:lnTo>
                        <a:pt x="1944" y="245"/>
                      </a:lnTo>
                      <a:lnTo>
                        <a:pt x="1939" y="238"/>
                      </a:lnTo>
                      <a:lnTo>
                        <a:pt x="1928" y="238"/>
                      </a:lnTo>
                      <a:lnTo>
                        <a:pt x="1922" y="232"/>
                      </a:lnTo>
                      <a:lnTo>
                        <a:pt x="1916" y="232"/>
                      </a:lnTo>
                      <a:lnTo>
                        <a:pt x="1911" y="226"/>
                      </a:lnTo>
                      <a:close/>
                    </a:path>
                  </a:pathLst>
                </a:custGeom>
                <a:solidFill>
                  <a:srgbClr val="ffcc99">
                    <a:alpha val="56000"/>
                  </a:srgbClr>
                </a:solidFill>
                <a:ln w="1584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341000">
                  <a:off x="463680" y="1774800"/>
                  <a:ext cx="2276280" cy="1177920"/>
                </a:xfrm>
                <a:custGeom>
                  <a:avLst/>
                  <a:gdLst/>
                  <a:ahLst/>
                  <a:rect l="l" t="t" r="r" b="b"/>
                  <a:pathLst>
                    <a:path w="1646" h="1110">
                      <a:moveTo>
                        <a:pt x="0" y="1110"/>
                      </a:moveTo>
                      <a:lnTo>
                        <a:pt x="0" y="1104"/>
                      </a:lnTo>
                      <a:lnTo>
                        <a:pt x="6" y="1091"/>
                      </a:lnTo>
                      <a:lnTo>
                        <a:pt x="6" y="1079"/>
                      </a:lnTo>
                      <a:lnTo>
                        <a:pt x="11" y="1066"/>
                      </a:lnTo>
                      <a:lnTo>
                        <a:pt x="11" y="1054"/>
                      </a:lnTo>
                      <a:lnTo>
                        <a:pt x="17" y="1041"/>
                      </a:lnTo>
                      <a:lnTo>
                        <a:pt x="23" y="1029"/>
                      </a:lnTo>
                      <a:lnTo>
                        <a:pt x="23" y="1016"/>
                      </a:lnTo>
                      <a:lnTo>
                        <a:pt x="28" y="997"/>
                      </a:lnTo>
                      <a:lnTo>
                        <a:pt x="34" y="972"/>
                      </a:lnTo>
                      <a:lnTo>
                        <a:pt x="39" y="953"/>
                      </a:lnTo>
                      <a:lnTo>
                        <a:pt x="45" y="928"/>
                      </a:lnTo>
                      <a:lnTo>
                        <a:pt x="51" y="909"/>
                      </a:lnTo>
                      <a:lnTo>
                        <a:pt x="56" y="884"/>
                      </a:lnTo>
                      <a:lnTo>
                        <a:pt x="62" y="865"/>
                      </a:lnTo>
                      <a:lnTo>
                        <a:pt x="68" y="840"/>
                      </a:lnTo>
                      <a:lnTo>
                        <a:pt x="68" y="828"/>
                      </a:lnTo>
                      <a:lnTo>
                        <a:pt x="73" y="815"/>
                      </a:lnTo>
                      <a:lnTo>
                        <a:pt x="79" y="803"/>
                      </a:lnTo>
                      <a:lnTo>
                        <a:pt x="79" y="790"/>
                      </a:lnTo>
                      <a:lnTo>
                        <a:pt x="85" y="778"/>
                      </a:lnTo>
                      <a:lnTo>
                        <a:pt x="85" y="765"/>
                      </a:lnTo>
                      <a:lnTo>
                        <a:pt x="90" y="753"/>
                      </a:lnTo>
                      <a:lnTo>
                        <a:pt x="90" y="746"/>
                      </a:lnTo>
                      <a:lnTo>
                        <a:pt x="96" y="734"/>
                      </a:lnTo>
                      <a:lnTo>
                        <a:pt x="96" y="728"/>
                      </a:lnTo>
                      <a:lnTo>
                        <a:pt x="96" y="715"/>
                      </a:lnTo>
                      <a:lnTo>
                        <a:pt x="101" y="702"/>
                      </a:lnTo>
                      <a:lnTo>
                        <a:pt x="101" y="696"/>
                      </a:lnTo>
                      <a:lnTo>
                        <a:pt x="101" y="684"/>
                      </a:lnTo>
                      <a:lnTo>
                        <a:pt x="107" y="677"/>
                      </a:lnTo>
                      <a:lnTo>
                        <a:pt x="113" y="671"/>
                      </a:lnTo>
                      <a:lnTo>
                        <a:pt x="113" y="665"/>
                      </a:lnTo>
                      <a:lnTo>
                        <a:pt x="118" y="665"/>
                      </a:lnTo>
                      <a:lnTo>
                        <a:pt x="118" y="665"/>
                      </a:lnTo>
                      <a:lnTo>
                        <a:pt x="124" y="671"/>
                      </a:lnTo>
                      <a:lnTo>
                        <a:pt x="130" y="671"/>
                      </a:lnTo>
                      <a:lnTo>
                        <a:pt x="130" y="671"/>
                      </a:lnTo>
                      <a:lnTo>
                        <a:pt x="135" y="677"/>
                      </a:lnTo>
                      <a:lnTo>
                        <a:pt x="141" y="677"/>
                      </a:lnTo>
                      <a:lnTo>
                        <a:pt x="141" y="671"/>
                      </a:lnTo>
                      <a:lnTo>
                        <a:pt x="147" y="659"/>
                      </a:lnTo>
                      <a:lnTo>
                        <a:pt x="147" y="652"/>
                      </a:lnTo>
                      <a:lnTo>
                        <a:pt x="152" y="652"/>
                      </a:lnTo>
                      <a:lnTo>
                        <a:pt x="163" y="652"/>
                      </a:lnTo>
                      <a:lnTo>
                        <a:pt x="169" y="659"/>
                      </a:lnTo>
                      <a:lnTo>
                        <a:pt x="175" y="665"/>
                      </a:lnTo>
                      <a:lnTo>
                        <a:pt x="180" y="671"/>
                      </a:lnTo>
                      <a:lnTo>
                        <a:pt x="186" y="677"/>
                      </a:lnTo>
                      <a:lnTo>
                        <a:pt x="192" y="684"/>
                      </a:lnTo>
                      <a:lnTo>
                        <a:pt x="203" y="696"/>
                      </a:lnTo>
                      <a:lnTo>
                        <a:pt x="209" y="702"/>
                      </a:lnTo>
                      <a:lnTo>
                        <a:pt x="214" y="702"/>
                      </a:lnTo>
                      <a:lnTo>
                        <a:pt x="220" y="702"/>
                      </a:lnTo>
                      <a:lnTo>
                        <a:pt x="225" y="702"/>
                      </a:lnTo>
                      <a:lnTo>
                        <a:pt x="231" y="702"/>
                      </a:lnTo>
                      <a:lnTo>
                        <a:pt x="237" y="702"/>
                      </a:lnTo>
                      <a:lnTo>
                        <a:pt x="242" y="702"/>
                      </a:lnTo>
                      <a:lnTo>
                        <a:pt x="248" y="702"/>
                      </a:lnTo>
                      <a:lnTo>
                        <a:pt x="254" y="696"/>
                      </a:lnTo>
                      <a:lnTo>
                        <a:pt x="259" y="696"/>
                      </a:lnTo>
                      <a:lnTo>
                        <a:pt x="259" y="690"/>
                      </a:lnTo>
                      <a:lnTo>
                        <a:pt x="259" y="684"/>
                      </a:lnTo>
                      <a:lnTo>
                        <a:pt x="265" y="671"/>
                      </a:lnTo>
                      <a:lnTo>
                        <a:pt x="265" y="665"/>
                      </a:lnTo>
                      <a:lnTo>
                        <a:pt x="265" y="659"/>
                      </a:lnTo>
                      <a:lnTo>
                        <a:pt x="271" y="659"/>
                      </a:lnTo>
                      <a:lnTo>
                        <a:pt x="276" y="659"/>
                      </a:lnTo>
                      <a:lnTo>
                        <a:pt x="282" y="659"/>
                      </a:lnTo>
                      <a:lnTo>
                        <a:pt x="287" y="659"/>
                      </a:lnTo>
                      <a:lnTo>
                        <a:pt x="293" y="659"/>
                      </a:lnTo>
                      <a:lnTo>
                        <a:pt x="299" y="665"/>
                      </a:lnTo>
                      <a:lnTo>
                        <a:pt x="304" y="665"/>
                      </a:lnTo>
                      <a:lnTo>
                        <a:pt x="310" y="671"/>
                      </a:lnTo>
                      <a:lnTo>
                        <a:pt x="316" y="671"/>
                      </a:lnTo>
                      <a:lnTo>
                        <a:pt x="321" y="677"/>
                      </a:lnTo>
                      <a:lnTo>
                        <a:pt x="327" y="684"/>
                      </a:lnTo>
                      <a:lnTo>
                        <a:pt x="333" y="684"/>
                      </a:lnTo>
                      <a:lnTo>
                        <a:pt x="338" y="690"/>
                      </a:lnTo>
                      <a:lnTo>
                        <a:pt x="344" y="690"/>
                      </a:lnTo>
                      <a:lnTo>
                        <a:pt x="349" y="696"/>
                      </a:lnTo>
                      <a:lnTo>
                        <a:pt x="355" y="696"/>
                      </a:lnTo>
                      <a:lnTo>
                        <a:pt x="361" y="702"/>
                      </a:lnTo>
                      <a:lnTo>
                        <a:pt x="366" y="702"/>
                      </a:lnTo>
                      <a:lnTo>
                        <a:pt x="372" y="702"/>
                      </a:lnTo>
                      <a:lnTo>
                        <a:pt x="383" y="702"/>
                      </a:lnTo>
                      <a:lnTo>
                        <a:pt x="389" y="702"/>
                      </a:lnTo>
                      <a:lnTo>
                        <a:pt x="394" y="702"/>
                      </a:lnTo>
                      <a:lnTo>
                        <a:pt x="400" y="702"/>
                      </a:lnTo>
                      <a:lnTo>
                        <a:pt x="406" y="702"/>
                      </a:lnTo>
                      <a:lnTo>
                        <a:pt x="411" y="696"/>
                      </a:lnTo>
                      <a:lnTo>
                        <a:pt x="417" y="696"/>
                      </a:lnTo>
                      <a:lnTo>
                        <a:pt x="423" y="696"/>
                      </a:lnTo>
                      <a:lnTo>
                        <a:pt x="428" y="696"/>
                      </a:lnTo>
                      <a:lnTo>
                        <a:pt x="434" y="690"/>
                      </a:lnTo>
                      <a:lnTo>
                        <a:pt x="445" y="690"/>
                      </a:lnTo>
                      <a:lnTo>
                        <a:pt x="451" y="690"/>
                      </a:lnTo>
                      <a:lnTo>
                        <a:pt x="456" y="690"/>
                      </a:lnTo>
                      <a:lnTo>
                        <a:pt x="462" y="684"/>
                      </a:lnTo>
                      <a:lnTo>
                        <a:pt x="468" y="684"/>
                      </a:lnTo>
                      <a:lnTo>
                        <a:pt x="462" y="677"/>
                      </a:lnTo>
                      <a:lnTo>
                        <a:pt x="456" y="677"/>
                      </a:lnTo>
                      <a:lnTo>
                        <a:pt x="456" y="671"/>
                      </a:lnTo>
                      <a:lnTo>
                        <a:pt x="451" y="665"/>
                      </a:lnTo>
                      <a:lnTo>
                        <a:pt x="445" y="665"/>
                      </a:lnTo>
                      <a:lnTo>
                        <a:pt x="440" y="659"/>
                      </a:lnTo>
                      <a:lnTo>
                        <a:pt x="434" y="652"/>
                      </a:lnTo>
                      <a:lnTo>
                        <a:pt x="434" y="646"/>
                      </a:lnTo>
                      <a:lnTo>
                        <a:pt x="428" y="640"/>
                      </a:lnTo>
                      <a:lnTo>
                        <a:pt x="423" y="633"/>
                      </a:lnTo>
                      <a:lnTo>
                        <a:pt x="423" y="621"/>
                      </a:lnTo>
                      <a:lnTo>
                        <a:pt x="417" y="615"/>
                      </a:lnTo>
                      <a:lnTo>
                        <a:pt x="417" y="602"/>
                      </a:lnTo>
                      <a:lnTo>
                        <a:pt x="411" y="596"/>
                      </a:lnTo>
                      <a:lnTo>
                        <a:pt x="411" y="590"/>
                      </a:lnTo>
                      <a:lnTo>
                        <a:pt x="406" y="577"/>
                      </a:lnTo>
                      <a:lnTo>
                        <a:pt x="411" y="583"/>
                      </a:lnTo>
                      <a:lnTo>
                        <a:pt x="417" y="590"/>
                      </a:lnTo>
                      <a:lnTo>
                        <a:pt x="423" y="596"/>
                      </a:lnTo>
                      <a:lnTo>
                        <a:pt x="428" y="602"/>
                      </a:lnTo>
                      <a:lnTo>
                        <a:pt x="434" y="608"/>
                      </a:lnTo>
                      <a:lnTo>
                        <a:pt x="440" y="615"/>
                      </a:lnTo>
                      <a:lnTo>
                        <a:pt x="445" y="621"/>
                      </a:lnTo>
                      <a:lnTo>
                        <a:pt x="451" y="627"/>
                      </a:lnTo>
                      <a:lnTo>
                        <a:pt x="456" y="627"/>
                      </a:lnTo>
                      <a:lnTo>
                        <a:pt x="462" y="633"/>
                      </a:lnTo>
                      <a:lnTo>
                        <a:pt x="473" y="640"/>
                      </a:lnTo>
                      <a:lnTo>
                        <a:pt x="479" y="640"/>
                      </a:lnTo>
                      <a:lnTo>
                        <a:pt x="485" y="646"/>
                      </a:lnTo>
                      <a:lnTo>
                        <a:pt x="490" y="652"/>
                      </a:lnTo>
                      <a:lnTo>
                        <a:pt x="496" y="659"/>
                      </a:lnTo>
                      <a:lnTo>
                        <a:pt x="502" y="659"/>
                      </a:lnTo>
                      <a:lnTo>
                        <a:pt x="507" y="665"/>
                      </a:lnTo>
                      <a:lnTo>
                        <a:pt x="518" y="665"/>
                      </a:lnTo>
                      <a:lnTo>
                        <a:pt x="524" y="671"/>
                      </a:lnTo>
                      <a:lnTo>
                        <a:pt x="530" y="677"/>
                      </a:lnTo>
                      <a:lnTo>
                        <a:pt x="535" y="677"/>
                      </a:lnTo>
                      <a:lnTo>
                        <a:pt x="541" y="677"/>
                      </a:lnTo>
                      <a:lnTo>
                        <a:pt x="552" y="684"/>
                      </a:lnTo>
                      <a:lnTo>
                        <a:pt x="558" y="684"/>
                      </a:lnTo>
                      <a:lnTo>
                        <a:pt x="564" y="684"/>
                      </a:lnTo>
                      <a:lnTo>
                        <a:pt x="575" y="690"/>
                      </a:lnTo>
                      <a:lnTo>
                        <a:pt x="580" y="690"/>
                      </a:lnTo>
                      <a:lnTo>
                        <a:pt x="586" y="690"/>
                      </a:lnTo>
                      <a:lnTo>
                        <a:pt x="597" y="690"/>
                      </a:lnTo>
                      <a:lnTo>
                        <a:pt x="603" y="690"/>
                      </a:lnTo>
                      <a:lnTo>
                        <a:pt x="609" y="690"/>
                      </a:lnTo>
                      <a:lnTo>
                        <a:pt x="620" y="690"/>
                      </a:lnTo>
                      <a:lnTo>
                        <a:pt x="626" y="690"/>
                      </a:lnTo>
                      <a:lnTo>
                        <a:pt x="637" y="690"/>
                      </a:lnTo>
                      <a:lnTo>
                        <a:pt x="642" y="690"/>
                      </a:lnTo>
                      <a:lnTo>
                        <a:pt x="648" y="690"/>
                      </a:lnTo>
                      <a:lnTo>
                        <a:pt x="659" y="690"/>
                      </a:lnTo>
                      <a:lnTo>
                        <a:pt x="665" y="684"/>
                      </a:lnTo>
                      <a:lnTo>
                        <a:pt x="676" y="684"/>
                      </a:lnTo>
                      <a:lnTo>
                        <a:pt x="682" y="684"/>
                      </a:lnTo>
                      <a:lnTo>
                        <a:pt x="688" y="684"/>
                      </a:lnTo>
                      <a:lnTo>
                        <a:pt x="693" y="677"/>
                      </a:lnTo>
                      <a:lnTo>
                        <a:pt x="699" y="677"/>
                      </a:lnTo>
                      <a:lnTo>
                        <a:pt x="710" y="677"/>
                      </a:lnTo>
                      <a:lnTo>
                        <a:pt x="716" y="671"/>
                      </a:lnTo>
                      <a:lnTo>
                        <a:pt x="721" y="671"/>
                      </a:lnTo>
                      <a:lnTo>
                        <a:pt x="727" y="671"/>
                      </a:lnTo>
                      <a:lnTo>
                        <a:pt x="733" y="665"/>
                      </a:lnTo>
                      <a:lnTo>
                        <a:pt x="738" y="665"/>
                      </a:lnTo>
                      <a:lnTo>
                        <a:pt x="750" y="659"/>
                      </a:lnTo>
                      <a:lnTo>
                        <a:pt x="755" y="659"/>
                      </a:lnTo>
                      <a:lnTo>
                        <a:pt x="761" y="652"/>
                      </a:lnTo>
                      <a:lnTo>
                        <a:pt x="766" y="652"/>
                      </a:lnTo>
                      <a:lnTo>
                        <a:pt x="772" y="646"/>
                      </a:lnTo>
                      <a:lnTo>
                        <a:pt x="778" y="640"/>
                      </a:lnTo>
                      <a:lnTo>
                        <a:pt x="783" y="640"/>
                      </a:lnTo>
                      <a:lnTo>
                        <a:pt x="789" y="633"/>
                      </a:lnTo>
                      <a:lnTo>
                        <a:pt x="795" y="621"/>
                      </a:lnTo>
                      <a:lnTo>
                        <a:pt x="795" y="608"/>
                      </a:lnTo>
                      <a:lnTo>
                        <a:pt x="795" y="602"/>
                      </a:lnTo>
                      <a:lnTo>
                        <a:pt x="789" y="590"/>
                      </a:lnTo>
                      <a:lnTo>
                        <a:pt x="783" y="577"/>
                      </a:lnTo>
                      <a:lnTo>
                        <a:pt x="772" y="571"/>
                      </a:lnTo>
                      <a:lnTo>
                        <a:pt x="766" y="558"/>
                      </a:lnTo>
                      <a:lnTo>
                        <a:pt x="755" y="552"/>
                      </a:lnTo>
                      <a:lnTo>
                        <a:pt x="750" y="539"/>
                      </a:lnTo>
                      <a:lnTo>
                        <a:pt x="744" y="533"/>
                      </a:lnTo>
                      <a:lnTo>
                        <a:pt x="738" y="521"/>
                      </a:lnTo>
                      <a:lnTo>
                        <a:pt x="733" y="508"/>
                      </a:lnTo>
                      <a:lnTo>
                        <a:pt x="727" y="502"/>
                      </a:lnTo>
                      <a:lnTo>
                        <a:pt x="721" y="489"/>
                      </a:lnTo>
                      <a:lnTo>
                        <a:pt x="716" y="483"/>
                      </a:lnTo>
                      <a:lnTo>
                        <a:pt x="710" y="470"/>
                      </a:lnTo>
                      <a:lnTo>
                        <a:pt x="704" y="458"/>
                      </a:lnTo>
                      <a:lnTo>
                        <a:pt x="704" y="445"/>
                      </a:lnTo>
                      <a:lnTo>
                        <a:pt x="699" y="439"/>
                      </a:lnTo>
                      <a:lnTo>
                        <a:pt x="699" y="433"/>
                      </a:lnTo>
                      <a:lnTo>
                        <a:pt x="704" y="427"/>
                      </a:lnTo>
                      <a:lnTo>
                        <a:pt x="704" y="427"/>
                      </a:lnTo>
                      <a:lnTo>
                        <a:pt x="710" y="427"/>
                      </a:lnTo>
                      <a:lnTo>
                        <a:pt x="716" y="420"/>
                      </a:lnTo>
                      <a:lnTo>
                        <a:pt x="721" y="420"/>
                      </a:lnTo>
                      <a:lnTo>
                        <a:pt x="727" y="420"/>
                      </a:lnTo>
                      <a:lnTo>
                        <a:pt x="733" y="420"/>
                      </a:lnTo>
                      <a:lnTo>
                        <a:pt x="738" y="427"/>
                      </a:lnTo>
                      <a:lnTo>
                        <a:pt x="744" y="427"/>
                      </a:lnTo>
                      <a:lnTo>
                        <a:pt x="750" y="427"/>
                      </a:lnTo>
                      <a:lnTo>
                        <a:pt x="755" y="433"/>
                      </a:lnTo>
                      <a:lnTo>
                        <a:pt x="761" y="433"/>
                      </a:lnTo>
                      <a:lnTo>
                        <a:pt x="766" y="433"/>
                      </a:lnTo>
                      <a:lnTo>
                        <a:pt x="772" y="439"/>
                      </a:lnTo>
                      <a:lnTo>
                        <a:pt x="778" y="439"/>
                      </a:lnTo>
                      <a:lnTo>
                        <a:pt x="783" y="445"/>
                      </a:lnTo>
                      <a:lnTo>
                        <a:pt x="789" y="445"/>
                      </a:lnTo>
                      <a:lnTo>
                        <a:pt x="795" y="452"/>
                      </a:lnTo>
                      <a:lnTo>
                        <a:pt x="806" y="452"/>
                      </a:lnTo>
                      <a:lnTo>
                        <a:pt x="812" y="452"/>
                      </a:lnTo>
                      <a:lnTo>
                        <a:pt x="817" y="458"/>
                      </a:lnTo>
                      <a:lnTo>
                        <a:pt x="823" y="458"/>
                      </a:lnTo>
                      <a:lnTo>
                        <a:pt x="828" y="458"/>
                      </a:lnTo>
                      <a:lnTo>
                        <a:pt x="834" y="464"/>
                      </a:lnTo>
                      <a:lnTo>
                        <a:pt x="845" y="464"/>
                      </a:lnTo>
                      <a:lnTo>
                        <a:pt x="851" y="464"/>
                      </a:lnTo>
                      <a:lnTo>
                        <a:pt x="862" y="464"/>
                      </a:lnTo>
                      <a:lnTo>
                        <a:pt x="868" y="458"/>
                      </a:lnTo>
                      <a:lnTo>
                        <a:pt x="874" y="458"/>
                      </a:lnTo>
                      <a:lnTo>
                        <a:pt x="885" y="458"/>
                      </a:lnTo>
                      <a:lnTo>
                        <a:pt x="890" y="452"/>
                      </a:lnTo>
                      <a:lnTo>
                        <a:pt x="896" y="445"/>
                      </a:lnTo>
                      <a:lnTo>
                        <a:pt x="907" y="439"/>
                      </a:lnTo>
                      <a:lnTo>
                        <a:pt x="913" y="433"/>
                      </a:lnTo>
                      <a:lnTo>
                        <a:pt x="913" y="420"/>
                      </a:lnTo>
                      <a:lnTo>
                        <a:pt x="919" y="414"/>
                      </a:lnTo>
                      <a:lnTo>
                        <a:pt x="924" y="401"/>
                      </a:lnTo>
                      <a:lnTo>
                        <a:pt x="930" y="395"/>
                      </a:lnTo>
                      <a:lnTo>
                        <a:pt x="936" y="383"/>
                      </a:lnTo>
                      <a:lnTo>
                        <a:pt x="941" y="376"/>
                      </a:lnTo>
                      <a:lnTo>
                        <a:pt x="947" y="370"/>
                      </a:lnTo>
                      <a:lnTo>
                        <a:pt x="952" y="364"/>
                      </a:lnTo>
                      <a:lnTo>
                        <a:pt x="958" y="358"/>
                      </a:lnTo>
                      <a:lnTo>
                        <a:pt x="958" y="351"/>
                      </a:lnTo>
                      <a:lnTo>
                        <a:pt x="964" y="345"/>
                      </a:lnTo>
                      <a:lnTo>
                        <a:pt x="969" y="339"/>
                      </a:lnTo>
                      <a:lnTo>
                        <a:pt x="981" y="332"/>
                      </a:lnTo>
                      <a:lnTo>
                        <a:pt x="986" y="332"/>
                      </a:lnTo>
                      <a:lnTo>
                        <a:pt x="992" y="326"/>
                      </a:lnTo>
                      <a:lnTo>
                        <a:pt x="1003" y="326"/>
                      </a:lnTo>
                      <a:lnTo>
                        <a:pt x="1009" y="320"/>
                      </a:lnTo>
                      <a:lnTo>
                        <a:pt x="1014" y="320"/>
                      </a:lnTo>
                      <a:lnTo>
                        <a:pt x="1026" y="320"/>
                      </a:lnTo>
                      <a:lnTo>
                        <a:pt x="1031" y="326"/>
                      </a:lnTo>
                      <a:lnTo>
                        <a:pt x="1043" y="326"/>
                      </a:lnTo>
                      <a:lnTo>
                        <a:pt x="1048" y="332"/>
                      </a:lnTo>
                      <a:lnTo>
                        <a:pt x="1054" y="339"/>
                      </a:lnTo>
                      <a:lnTo>
                        <a:pt x="1060" y="345"/>
                      </a:lnTo>
                      <a:lnTo>
                        <a:pt x="1060" y="351"/>
                      </a:lnTo>
                      <a:lnTo>
                        <a:pt x="1065" y="358"/>
                      </a:lnTo>
                      <a:lnTo>
                        <a:pt x="1071" y="364"/>
                      </a:lnTo>
                      <a:lnTo>
                        <a:pt x="1076" y="370"/>
                      </a:lnTo>
                      <a:lnTo>
                        <a:pt x="1082" y="376"/>
                      </a:lnTo>
                      <a:lnTo>
                        <a:pt x="1093" y="376"/>
                      </a:lnTo>
                      <a:lnTo>
                        <a:pt x="1105" y="383"/>
                      </a:lnTo>
                      <a:lnTo>
                        <a:pt x="1110" y="383"/>
                      </a:lnTo>
                      <a:lnTo>
                        <a:pt x="1122" y="383"/>
                      </a:lnTo>
                      <a:lnTo>
                        <a:pt x="1133" y="383"/>
                      </a:lnTo>
                      <a:lnTo>
                        <a:pt x="1144" y="383"/>
                      </a:lnTo>
                      <a:lnTo>
                        <a:pt x="1155" y="376"/>
                      </a:lnTo>
                      <a:lnTo>
                        <a:pt x="1167" y="376"/>
                      </a:lnTo>
                      <a:lnTo>
                        <a:pt x="1172" y="376"/>
                      </a:lnTo>
                      <a:lnTo>
                        <a:pt x="1184" y="376"/>
                      </a:lnTo>
                      <a:lnTo>
                        <a:pt x="1189" y="370"/>
                      </a:lnTo>
                      <a:lnTo>
                        <a:pt x="1195" y="370"/>
                      </a:lnTo>
                      <a:lnTo>
                        <a:pt x="1206" y="370"/>
                      </a:lnTo>
                      <a:lnTo>
                        <a:pt x="1212" y="370"/>
                      </a:lnTo>
                      <a:lnTo>
                        <a:pt x="1217" y="364"/>
                      </a:lnTo>
                      <a:lnTo>
                        <a:pt x="1229" y="364"/>
                      </a:lnTo>
                      <a:lnTo>
                        <a:pt x="1234" y="364"/>
                      </a:lnTo>
                      <a:lnTo>
                        <a:pt x="1246" y="358"/>
                      </a:lnTo>
                      <a:lnTo>
                        <a:pt x="1251" y="358"/>
                      </a:lnTo>
                      <a:lnTo>
                        <a:pt x="1257" y="351"/>
                      </a:lnTo>
                      <a:lnTo>
                        <a:pt x="1262" y="351"/>
                      </a:lnTo>
                      <a:lnTo>
                        <a:pt x="1268" y="345"/>
                      </a:lnTo>
                      <a:lnTo>
                        <a:pt x="1274" y="339"/>
                      </a:lnTo>
                      <a:lnTo>
                        <a:pt x="1279" y="332"/>
                      </a:lnTo>
                      <a:lnTo>
                        <a:pt x="1285" y="326"/>
                      </a:lnTo>
                      <a:lnTo>
                        <a:pt x="1285" y="314"/>
                      </a:lnTo>
                      <a:lnTo>
                        <a:pt x="1279" y="301"/>
                      </a:lnTo>
                      <a:lnTo>
                        <a:pt x="1279" y="289"/>
                      </a:lnTo>
                      <a:lnTo>
                        <a:pt x="1274" y="282"/>
                      </a:lnTo>
                      <a:lnTo>
                        <a:pt x="1274" y="270"/>
                      </a:lnTo>
                      <a:lnTo>
                        <a:pt x="1274" y="257"/>
                      </a:lnTo>
                      <a:lnTo>
                        <a:pt x="1274" y="251"/>
                      </a:lnTo>
                      <a:lnTo>
                        <a:pt x="1279" y="245"/>
                      </a:lnTo>
                      <a:lnTo>
                        <a:pt x="1285" y="251"/>
                      </a:lnTo>
                      <a:lnTo>
                        <a:pt x="1291" y="257"/>
                      </a:lnTo>
                      <a:lnTo>
                        <a:pt x="1291" y="270"/>
                      </a:lnTo>
                      <a:lnTo>
                        <a:pt x="1296" y="276"/>
                      </a:lnTo>
                      <a:lnTo>
                        <a:pt x="1302" y="282"/>
                      </a:lnTo>
                      <a:lnTo>
                        <a:pt x="1308" y="289"/>
                      </a:lnTo>
                      <a:lnTo>
                        <a:pt x="1313" y="289"/>
                      </a:lnTo>
                      <a:lnTo>
                        <a:pt x="1319" y="276"/>
                      </a:lnTo>
                      <a:lnTo>
                        <a:pt x="1319" y="270"/>
                      </a:lnTo>
                      <a:lnTo>
                        <a:pt x="1319" y="263"/>
                      </a:lnTo>
                      <a:lnTo>
                        <a:pt x="1319" y="251"/>
                      </a:lnTo>
                      <a:lnTo>
                        <a:pt x="1319" y="238"/>
                      </a:lnTo>
                      <a:lnTo>
                        <a:pt x="1313" y="226"/>
                      </a:lnTo>
                      <a:lnTo>
                        <a:pt x="1313" y="220"/>
                      </a:lnTo>
                      <a:lnTo>
                        <a:pt x="1313" y="207"/>
                      </a:lnTo>
                      <a:lnTo>
                        <a:pt x="1319" y="213"/>
                      </a:lnTo>
                      <a:lnTo>
                        <a:pt x="1324" y="220"/>
                      </a:lnTo>
                      <a:lnTo>
                        <a:pt x="1324" y="226"/>
                      </a:lnTo>
                      <a:lnTo>
                        <a:pt x="1330" y="232"/>
                      </a:lnTo>
                      <a:lnTo>
                        <a:pt x="1336" y="232"/>
                      </a:lnTo>
                      <a:lnTo>
                        <a:pt x="1341" y="238"/>
                      </a:lnTo>
                      <a:lnTo>
                        <a:pt x="1347" y="245"/>
                      </a:lnTo>
                      <a:lnTo>
                        <a:pt x="1353" y="245"/>
                      </a:lnTo>
                      <a:lnTo>
                        <a:pt x="1358" y="245"/>
                      </a:lnTo>
                      <a:lnTo>
                        <a:pt x="1364" y="238"/>
                      </a:lnTo>
                      <a:lnTo>
                        <a:pt x="1370" y="232"/>
                      </a:lnTo>
                      <a:lnTo>
                        <a:pt x="1375" y="232"/>
                      </a:lnTo>
                      <a:lnTo>
                        <a:pt x="1381" y="226"/>
                      </a:lnTo>
                      <a:lnTo>
                        <a:pt x="1386" y="220"/>
                      </a:lnTo>
                      <a:lnTo>
                        <a:pt x="1392" y="213"/>
                      </a:lnTo>
                      <a:lnTo>
                        <a:pt x="1398" y="207"/>
                      </a:lnTo>
                      <a:lnTo>
                        <a:pt x="1398" y="188"/>
                      </a:lnTo>
                      <a:lnTo>
                        <a:pt x="1398" y="169"/>
                      </a:lnTo>
                      <a:lnTo>
                        <a:pt x="1398" y="151"/>
                      </a:lnTo>
                      <a:lnTo>
                        <a:pt x="1398" y="132"/>
                      </a:lnTo>
                      <a:lnTo>
                        <a:pt x="1398" y="126"/>
                      </a:lnTo>
                      <a:lnTo>
                        <a:pt x="1392" y="119"/>
                      </a:lnTo>
                      <a:lnTo>
                        <a:pt x="1392" y="113"/>
                      </a:lnTo>
                      <a:lnTo>
                        <a:pt x="1386" y="113"/>
                      </a:lnTo>
                      <a:lnTo>
                        <a:pt x="1386" y="107"/>
                      </a:lnTo>
                      <a:lnTo>
                        <a:pt x="1381" y="100"/>
                      </a:lnTo>
                      <a:lnTo>
                        <a:pt x="1381" y="94"/>
                      </a:lnTo>
                      <a:lnTo>
                        <a:pt x="1381" y="88"/>
                      </a:lnTo>
                      <a:lnTo>
                        <a:pt x="1381" y="82"/>
                      </a:lnTo>
                      <a:lnTo>
                        <a:pt x="1381" y="75"/>
                      </a:lnTo>
                      <a:lnTo>
                        <a:pt x="1381" y="69"/>
                      </a:lnTo>
                      <a:lnTo>
                        <a:pt x="1381" y="63"/>
                      </a:lnTo>
                      <a:lnTo>
                        <a:pt x="1386" y="57"/>
                      </a:lnTo>
                      <a:lnTo>
                        <a:pt x="1386" y="50"/>
                      </a:lnTo>
                      <a:lnTo>
                        <a:pt x="1392" y="44"/>
                      </a:lnTo>
                      <a:lnTo>
                        <a:pt x="1398" y="38"/>
                      </a:lnTo>
                      <a:lnTo>
                        <a:pt x="1403" y="31"/>
                      </a:lnTo>
                      <a:lnTo>
                        <a:pt x="1409" y="25"/>
                      </a:lnTo>
                      <a:lnTo>
                        <a:pt x="1415" y="25"/>
                      </a:lnTo>
                      <a:lnTo>
                        <a:pt x="1420" y="19"/>
                      </a:lnTo>
                      <a:lnTo>
                        <a:pt x="1426" y="13"/>
                      </a:lnTo>
                      <a:lnTo>
                        <a:pt x="1432" y="13"/>
                      </a:lnTo>
                      <a:lnTo>
                        <a:pt x="1443" y="6"/>
                      </a:lnTo>
                      <a:lnTo>
                        <a:pt x="1448" y="0"/>
                      </a:lnTo>
                      <a:lnTo>
                        <a:pt x="1443" y="6"/>
                      </a:lnTo>
                      <a:lnTo>
                        <a:pt x="1437" y="13"/>
                      </a:lnTo>
                      <a:lnTo>
                        <a:pt x="1432" y="25"/>
                      </a:lnTo>
                      <a:lnTo>
                        <a:pt x="1426" y="31"/>
                      </a:lnTo>
                      <a:lnTo>
                        <a:pt x="1420" y="38"/>
                      </a:lnTo>
                      <a:lnTo>
                        <a:pt x="1415" y="44"/>
                      </a:lnTo>
                      <a:lnTo>
                        <a:pt x="1409" y="50"/>
                      </a:lnTo>
                      <a:lnTo>
                        <a:pt x="1409" y="57"/>
                      </a:lnTo>
                      <a:lnTo>
                        <a:pt x="1409" y="63"/>
                      </a:lnTo>
                      <a:lnTo>
                        <a:pt x="1409" y="69"/>
                      </a:lnTo>
                      <a:lnTo>
                        <a:pt x="1409" y="82"/>
                      </a:lnTo>
                      <a:lnTo>
                        <a:pt x="1409" y="88"/>
                      </a:lnTo>
                      <a:lnTo>
                        <a:pt x="1415" y="94"/>
                      </a:lnTo>
                      <a:lnTo>
                        <a:pt x="1415" y="100"/>
                      </a:lnTo>
                      <a:lnTo>
                        <a:pt x="1420" y="107"/>
                      </a:lnTo>
                      <a:lnTo>
                        <a:pt x="1420" y="113"/>
                      </a:lnTo>
                      <a:lnTo>
                        <a:pt x="1426" y="126"/>
                      </a:lnTo>
                      <a:lnTo>
                        <a:pt x="1432" y="138"/>
                      </a:lnTo>
                      <a:lnTo>
                        <a:pt x="1437" y="151"/>
                      </a:lnTo>
                      <a:lnTo>
                        <a:pt x="1443" y="163"/>
                      </a:lnTo>
                      <a:lnTo>
                        <a:pt x="1448" y="176"/>
                      </a:lnTo>
                      <a:lnTo>
                        <a:pt x="1454" y="188"/>
                      </a:lnTo>
                      <a:lnTo>
                        <a:pt x="1460" y="201"/>
                      </a:lnTo>
                      <a:lnTo>
                        <a:pt x="1471" y="213"/>
                      </a:lnTo>
                      <a:lnTo>
                        <a:pt x="1477" y="213"/>
                      </a:lnTo>
                      <a:lnTo>
                        <a:pt x="1482" y="220"/>
                      </a:lnTo>
                      <a:lnTo>
                        <a:pt x="1488" y="220"/>
                      </a:lnTo>
                      <a:lnTo>
                        <a:pt x="1494" y="220"/>
                      </a:lnTo>
                      <a:lnTo>
                        <a:pt x="1499" y="226"/>
                      </a:lnTo>
                      <a:lnTo>
                        <a:pt x="1505" y="226"/>
                      </a:lnTo>
                      <a:lnTo>
                        <a:pt x="1516" y="220"/>
                      </a:lnTo>
                      <a:lnTo>
                        <a:pt x="1522" y="220"/>
                      </a:lnTo>
                      <a:lnTo>
                        <a:pt x="1527" y="220"/>
                      </a:lnTo>
                      <a:lnTo>
                        <a:pt x="1539" y="213"/>
                      </a:lnTo>
                      <a:lnTo>
                        <a:pt x="1544" y="213"/>
                      </a:lnTo>
                      <a:lnTo>
                        <a:pt x="1556" y="207"/>
                      </a:lnTo>
                      <a:lnTo>
                        <a:pt x="1561" y="201"/>
                      </a:lnTo>
                      <a:lnTo>
                        <a:pt x="1567" y="195"/>
                      </a:lnTo>
                      <a:lnTo>
                        <a:pt x="1578" y="195"/>
                      </a:lnTo>
                      <a:lnTo>
                        <a:pt x="1584" y="188"/>
                      </a:lnTo>
                      <a:lnTo>
                        <a:pt x="1589" y="182"/>
                      </a:lnTo>
                      <a:lnTo>
                        <a:pt x="1595" y="176"/>
                      </a:lnTo>
                      <a:lnTo>
                        <a:pt x="1601" y="169"/>
                      </a:lnTo>
                      <a:lnTo>
                        <a:pt x="1606" y="163"/>
                      </a:lnTo>
                      <a:lnTo>
                        <a:pt x="1612" y="157"/>
                      </a:lnTo>
                      <a:lnTo>
                        <a:pt x="1612" y="151"/>
                      </a:lnTo>
                      <a:lnTo>
                        <a:pt x="1618" y="144"/>
                      </a:lnTo>
                      <a:lnTo>
                        <a:pt x="1623" y="138"/>
                      </a:lnTo>
                      <a:lnTo>
                        <a:pt x="1623" y="126"/>
                      </a:lnTo>
                      <a:lnTo>
                        <a:pt x="1623" y="113"/>
                      </a:lnTo>
                      <a:lnTo>
                        <a:pt x="1629" y="107"/>
                      </a:lnTo>
                      <a:lnTo>
                        <a:pt x="1629" y="94"/>
                      </a:lnTo>
                      <a:lnTo>
                        <a:pt x="1629" y="88"/>
                      </a:lnTo>
                      <a:lnTo>
                        <a:pt x="1634" y="75"/>
                      </a:lnTo>
                      <a:lnTo>
                        <a:pt x="1634" y="69"/>
                      </a:lnTo>
                      <a:lnTo>
                        <a:pt x="1640" y="63"/>
                      </a:lnTo>
                      <a:lnTo>
                        <a:pt x="1640" y="82"/>
                      </a:lnTo>
                      <a:lnTo>
                        <a:pt x="1646" y="107"/>
                      </a:lnTo>
                      <a:lnTo>
                        <a:pt x="1646" y="126"/>
                      </a:lnTo>
                      <a:lnTo>
                        <a:pt x="1640" y="144"/>
                      </a:lnTo>
                      <a:lnTo>
                        <a:pt x="1634" y="163"/>
                      </a:lnTo>
                      <a:lnTo>
                        <a:pt x="1629" y="176"/>
                      </a:lnTo>
                      <a:lnTo>
                        <a:pt x="1623" y="195"/>
                      </a:lnTo>
                      <a:lnTo>
                        <a:pt x="1618" y="207"/>
                      </a:lnTo>
                      <a:lnTo>
                        <a:pt x="1612" y="213"/>
                      </a:lnTo>
                      <a:lnTo>
                        <a:pt x="1606" y="226"/>
                      </a:lnTo>
                      <a:lnTo>
                        <a:pt x="1601" y="232"/>
                      </a:lnTo>
                      <a:lnTo>
                        <a:pt x="1601" y="238"/>
                      </a:lnTo>
                      <a:lnTo>
                        <a:pt x="1595" y="251"/>
                      </a:lnTo>
                      <a:lnTo>
                        <a:pt x="1589" y="257"/>
                      </a:lnTo>
                      <a:lnTo>
                        <a:pt x="1584" y="263"/>
                      </a:lnTo>
                      <a:lnTo>
                        <a:pt x="1578" y="276"/>
                      </a:lnTo>
                      <a:lnTo>
                        <a:pt x="1572" y="282"/>
                      </a:lnTo>
                      <a:lnTo>
                        <a:pt x="1561" y="289"/>
                      </a:lnTo>
                      <a:lnTo>
                        <a:pt x="1556" y="295"/>
                      </a:lnTo>
                      <a:lnTo>
                        <a:pt x="1550" y="301"/>
                      </a:lnTo>
                      <a:lnTo>
                        <a:pt x="1544" y="307"/>
                      </a:lnTo>
                      <a:lnTo>
                        <a:pt x="1539" y="314"/>
                      </a:lnTo>
                      <a:lnTo>
                        <a:pt x="1533" y="320"/>
                      </a:lnTo>
                      <a:lnTo>
                        <a:pt x="1522" y="326"/>
                      </a:lnTo>
                      <a:lnTo>
                        <a:pt x="1510" y="339"/>
                      </a:lnTo>
                      <a:lnTo>
                        <a:pt x="1505" y="345"/>
                      </a:lnTo>
                      <a:lnTo>
                        <a:pt x="1494" y="351"/>
                      </a:lnTo>
                      <a:lnTo>
                        <a:pt x="1488" y="358"/>
                      </a:lnTo>
                      <a:lnTo>
                        <a:pt x="1482" y="358"/>
                      </a:lnTo>
                      <a:lnTo>
                        <a:pt x="1477" y="364"/>
                      </a:lnTo>
                      <a:lnTo>
                        <a:pt x="1465" y="364"/>
                      </a:lnTo>
                      <a:lnTo>
                        <a:pt x="1454" y="370"/>
                      </a:lnTo>
                      <a:lnTo>
                        <a:pt x="1465" y="370"/>
                      </a:lnTo>
                      <a:lnTo>
                        <a:pt x="1471" y="370"/>
                      </a:lnTo>
                      <a:lnTo>
                        <a:pt x="1477" y="370"/>
                      </a:lnTo>
                      <a:lnTo>
                        <a:pt x="1482" y="376"/>
                      </a:lnTo>
                      <a:lnTo>
                        <a:pt x="1482" y="383"/>
                      </a:lnTo>
                      <a:lnTo>
                        <a:pt x="1488" y="389"/>
                      </a:lnTo>
                      <a:lnTo>
                        <a:pt x="1488" y="395"/>
                      </a:lnTo>
                      <a:lnTo>
                        <a:pt x="1488" y="401"/>
                      </a:lnTo>
                      <a:lnTo>
                        <a:pt x="1494" y="433"/>
                      </a:lnTo>
                      <a:lnTo>
                        <a:pt x="1494" y="464"/>
                      </a:lnTo>
                      <a:lnTo>
                        <a:pt x="1494" y="489"/>
                      </a:lnTo>
                      <a:lnTo>
                        <a:pt x="1494" y="521"/>
                      </a:lnTo>
                      <a:lnTo>
                        <a:pt x="1488" y="533"/>
                      </a:lnTo>
                      <a:lnTo>
                        <a:pt x="1488" y="552"/>
                      </a:lnTo>
                      <a:lnTo>
                        <a:pt x="1482" y="564"/>
                      </a:lnTo>
                      <a:lnTo>
                        <a:pt x="1482" y="577"/>
                      </a:lnTo>
                      <a:lnTo>
                        <a:pt x="1477" y="596"/>
                      </a:lnTo>
                      <a:lnTo>
                        <a:pt x="1471" y="608"/>
                      </a:lnTo>
                      <a:lnTo>
                        <a:pt x="1465" y="621"/>
                      </a:lnTo>
                      <a:lnTo>
                        <a:pt x="1460" y="633"/>
                      </a:lnTo>
                      <a:lnTo>
                        <a:pt x="1454" y="640"/>
                      </a:lnTo>
                      <a:lnTo>
                        <a:pt x="1443" y="652"/>
                      </a:lnTo>
                      <a:lnTo>
                        <a:pt x="1437" y="659"/>
                      </a:lnTo>
                      <a:lnTo>
                        <a:pt x="1426" y="665"/>
                      </a:lnTo>
                      <a:lnTo>
                        <a:pt x="1415" y="671"/>
                      </a:lnTo>
                      <a:lnTo>
                        <a:pt x="1403" y="677"/>
                      </a:lnTo>
                      <a:lnTo>
                        <a:pt x="1392" y="677"/>
                      </a:lnTo>
                      <a:lnTo>
                        <a:pt x="1381" y="684"/>
                      </a:lnTo>
                      <a:lnTo>
                        <a:pt x="1375" y="684"/>
                      </a:lnTo>
                      <a:lnTo>
                        <a:pt x="1370" y="684"/>
                      </a:lnTo>
                      <a:lnTo>
                        <a:pt x="1364" y="684"/>
                      </a:lnTo>
                      <a:lnTo>
                        <a:pt x="1358" y="684"/>
                      </a:lnTo>
                      <a:lnTo>
                        <a:pt x="1353" y="677"/>
                      </a:lnTo>
                      <a:lnTo>
                        <a:pt x="1347" y="677"/>
                      </a:lnTo>
                      <a:lnTo>
                        <a:pt x="1341" y="677"/>
                      </a:lnTo>
                      <a:lnTo>
                        <a:pt x="1336" y="677"/>
                      </a:lnTo>
                      <a:lnTo>
                        <a:pt x="1330" y="671"/>
                      </a:lnTo>
                      <a:lnTo>
                        <a:pt x="1319" y="671"/>
                      </a:lnTo>
                      <a:lnTo>
                        <a:pt x="1313" y="671"/>
                      </a:lnTo>
                      <a:lnTo>
                        <a:pt x="1308" y="671"/>
                      </a:lnTo>
                      <a:lnTo>
                        <a:pt x="1302" y="665"/>
                      </a:lnTo>
                      <a:lnTo>
                        <a:pt x="1296" y="665"/>
                      </a:lnTo>
                      <a:lnTo>
                        <a:pt x="1291" y="665"/>
                      </a:lnTo>
                      <a:lnTo>
                        <a:pt x="1285" y="665"/>
                      </a:lnTo>
                      <a:lnTo>
                        <a:pt x="1279" y="671"/>
                      </a:lnTo>
                      <a:lnTo>
                        <a:pt x="1279" y="671"/>
                      </a:lnTo>
                      <a:lnTo>
                        <a:pt x="1279" y="677"/>
                      </a:lnTo>
                      <a:lnTo>
                        <a:pt x="1274" y="684"/>
                      </a:lnTo>
                      <a:lnTo>
                        <a:pt x="1274" y="690"/>
                      </a:lnTo>
                      <a:lnTo>
                        <a:pt x="1268" y="696"/>
                      </a:lnTo>
                      <a:lnTo>
                        <a:pt x="1262" y="702"/>
                      </a:lnTo>
                      <a:lnTo>
                        <a:pt x="1257" y="709"/>
                      </a:lnTo>
                      <a:lnTo>
                        <a:pt x="1257" y="709"/>
                      </a:lnTo>
                      <a:lnTo>
                        <a:pt x="1246" y="715"/>
                      </a:lnTo>
                      <a:lnTo>
                        <a:pt x="1240" y="721"/>
                      </a:lnTo>
                      <a:lnTo>
                        <a:pt x="1234" y="721"/>
                      </a:lnTo>
                      <a:lnTo>
                        <a:pt x="1229" y="728"/>
                      </a:lnTo>
                      <a:lnTo>
                        <a:pt x="1223" y="734"/>
                      </a:lnTo>
                      <a:lnTo>
                        <a:pt x="1217" y="734"/>
                      </a:lnTo>
                      <a:lnTo>
                        <a:pt x="1212" y="740"/>
                      </a:lnTo>
                      <a:lnTo>
                        <a:pt x="1206" y="740"/>
                      </a:lnTo>
                      <a:lnTo>
                        <a:pt x="1200" y="746"/>
                      </a:lnTo>
                      <a:lnTo>
                        <a:pt x="1195" y="753"/>
                      </a:lnTo>
                      <a:lnTo>
                        <a:pt x="1189" y="753"/>
                      </a:lnTo>
                      <a:lnTo>
                        <a:pt x="1184" y="759"/>
                      </a:lnTo>
                      <a:lnTo>
                        <a:pt x="1178" y="759"/>
                      </a:lnTo>
                      <a:lnTo>
                        <a:pt x="1167" y="765"/>
                      </a:lnTo>
                      <a:lnTo>
                        <a:pt x="1161" y="771"/>
                      </a:lnTo>
                      <a:lnTo>
                        <a:pt x="1161" y="784"/>
                      </a:lnTo>
                      <a:lnTo>
                        <a:pt x="1167" y="803"/>
                      </a:lnTo>
                      <a:lnTo>
                        <a:pt x="1167" y="822"/>
                      </a:lnTo>
                      <a:lnTo>
                        <a:pt x="1161" y="834"/>
                      </a:lnTo>
                      <a:lnTo>
                        <a:pt x="1155" y="847"/>
                      </a:lnTo>
                      <a:lnTo>
                        <a:pt x="1155" y="859"/>
                      </a:lnTo>
                      <a:lnTo>
                        <a:pt x="1144" y="865"/>
                      </a:lnTo>
                      <a:lnTo>
                        <a:pt x="1138" y="878"/>
                      </a:lnTo>
                      <a:lnTo>
                        <a:pt x="1133" y="884"/>
                      </a:lnTo>
                      <a:lnTo>
                        <a:pt x="1127" y="891"/>
                      </a:lnTo>
                      <a:lnTo>
                        <a:pt x="1116" y="897"/>
                      </a:lnTo>
                      <a:lnTo>
                        <a:pt x="1110" y="909"/>
                      </a:lnTo>
                      <a:lnTo>
                        <a:pt x="1099" y="909"/>
                      </a:lnTo>
                      <a:lnTo>
                        <a:pt x="1093" y="916"/>
                      </a:lnTo>
                      <a:lnTo>
                        <a:pt x="1082" y="922"/>
                      </a:lnTo>
                      <a:lnTo>
                        <a:pt x="1071" y="928"/>
                      </a:lnTo>
                      <a:lnTo>
                        <a:pt x="1065" y="934"/>
                      </a:lnTo>
                      <a:lnTo>
                        <a:pt x="1054" y="934"/>
                      </a:lnTo>
                      <a:lnTo>
                        <a:pt x="1043" y="941"/>
                      </a:lnTo>
                      <a:lnTo>
                        <a:pt x="1031" y="941"/>
                      </a:lnTo>
                      <a:lnTo>
                        <a:pt x="1026" y="941"/>
                      </a:lnTo>
                      <a:lnTo>
                        <a:pt x="1014" y="941"/>
                      </a:lnTo>
                      <a:lnTo>
                        <a:pt x="1009" y="941"/>
                      </a:lnTo>
                      <a:lnTo>
                        <a:pt x="998" y="941"/>
                      </a:lnTo>
                      <a:lnTo>
                        <a:pt x="992" y="941"/>
                      </a:lnTo>
                      <a:lnTo>
                        <a:pt x="986" y="941"/>
                      </a:lnTo>
                      <a:lnTo>
                        <a:pt x="975" y="934"/>
                      </a:lnTo>
                      <a:lnTo>
                        <a:pt x="969" y="934"/>
                      </a:lnTo>
                      <a:lnTo>
                        <a:pt x="958" y="934"/>
                      </a:lnTo>
                      <a:lnTo>
                        <a:pt x="952" y="934"/>
                      </a:lnTo>
                      <a:lnTo>
                        <a:pt x="941" y="928"/>
                      </a:lnTo>
                      <a:lnTo>
                        <a:pt x="936" y="928"/>
                      </a:lnTo>
                      <a:lnTo>
                        <a:pt x="924" y="928"/>
                      </a:lnTo>
                      <a:lnTo>
                        <a:pt x="919" y="922"/>
                      </a:lnTo>
                      <a:lnTo>
                        <a:pt x="913" y="922"/>
                      </a:lnTo>
                      <a:lnTo>
                        <a:pt x="902" y="916"/>
                      </a:lnTo>
                      <a:lnTo>
                        <a:pt x="890" y="916"/>
                      </a:lnTo>
                      <a:lnTo>
                        <a:pt x="879" y="909"/>
                      </a:lnTo>
                      <a:lnTo>
                        <a:pt x="868" y="903"/>
                      </a:lnTo>
                      <a:lnTo>
                        <a:pt x="862" y="897"/>
                      </a:lnTo>
                      <a:lnTo>
                        <a:pt x="851" y="891"/>
                      </a:lnTo>
                      <a:lnTo>
                        <a:pt x="840" y="878"/>
                      </a:lnTo>
                      <a:lnTo>
                        <a:pt x="828" y="872"/>
                      </a:lnTo>
                      <a:lnTo>
                        <a:pt x="817" y="865"/>
                      </a:lnTo>
                      <a:lnTo>
                        <a:pt x="806" y="872"/>
                      </a:lnTo>
                      <a:lnTo>
                        <a:pt x="789" y="872"/>
                      </a:lnTo>
                      <a:lnTo>
                        <a:pt x="778" y="878"/>
                      </a:lnTo>
                      <a:lnTo>
                        <a:pt x="766" y="878"/>
                      </a:lnTo>
                      <a:lnTo>
                        <a:pt x="750" y="884"/>
                      </a:lnTo>
                      <a:lnTo>
                        <a:pt x="738" y="891"/>
                      </a:lnTo>
                      <a:lnTo>
                        <a:pt x="721" y="891"/>
                      </a:lnTo>
                      <a:lnTo>
                        <a:pt x="710" y="897"/>
                      </a:lnTo>
                      <a:lnTo>
                        <a:pt x="693" y="897"/>
                      </a:lnTo>
                      <a:lnTo>
                        <a:pt x="682" y="903"/>
                      </a:lnTo>
                      <a:lnTo>
                        <a:pt x="671" y="903"/>
                      </a:lnTo>
                      <a:lnTo>
                        <a:pt x="654" y="909"/>
                      </a:lnTo>
                      <a:lnTo>
                        <a:pt x="642" y="916"/>
                      </a:lnTo>
                      <a:lnTo>
                        <a:pt x="626" y="916"/>
                      </a:lnTo>
                      <a:lnTo>
                        <a:pt x="614" y="922"/>
                      </a:lnTo>
                      <a:lnTo>
                        <a:pt x="603" y="922"/>
                      </a:lnTo>
                      <a:lnTo>
                        <a:pt x="592" y="928"/>
                      </a:lnTo>
                      <a:lnTo>
                        <a:pt x="586" y="934"/>
                      </a:lnTo>
                      <a:lnTo>
                        <a:pt x="580" y="947"/>
                      </a:lnTo>
                      <a:lnTo>
                        <a:pt x="575" y="953"/>
                      </a:lnTo>
                      <a:lnTo>
                        <a:pt x="564" y="960"/>
                      </a:lnTo>
                      <a:lnTo>
                        <a:pt x="558" y="966"/>
                      </a:lnTo>
                      <a:lnTo>
                        <a:pt x="552" y="972"/>
                      </a:lnTo>
                      <a:lnTo>
                        <a:pt x="541" y="978"/>
                      </a:lnTo>
                      <a:lnTo>
                        <a:pt x="530" y="985"/>
                      </a:lnTo>
                      <a:lnTo>
                        <a:pt x="518" y="991"/>
                      </a:lnTo>
                      <a:lnTo>
                        <a:pt x="507" y="997"/>
                      </a:lnTo>
                      <a:lnTo>
                        <a:pt x="496" y="1003"/>
                      </a:lnTo>
                      <a:lnTo>
                        <a:pt x="485" y="1010"/>
                      </a:lnTo>
                      <a:lnTo>
                        <a:pt x="468" y="1016"/>
                      </a:lnTo>
                      <a:lnTo>
                        <a:pt x="456" y="1022"/>
                      </a:lnTo>
                      <a:lnTo>
                        <a:pt x="445" y="1029"/>
                      </a:lnTo>
                      <a:lnTo>
                        <a:pt x="434" y="1035"/>
                      </a:lnTo>
                      <a:lnTo>
                        <a:pt x="423" y="1041"/>
                      </a:lnTo>
                      <a:lnTo>
                        <a:pt x="406" y="1047"/>
                      </a:lnTo>
                      <a:lnTo>
                        <a:pt x="394" y="1054"/>
                      </a:lnTo>
                      <a:lnTo>
                        <a:pt x="383" y="1054"/>
                      </a:lnTo>
                      <a:lnTo>
                        <a:pt x="372" y="1060"/>
                      </a:lnTo>
                      <a:lnTo>
                        <a:pt x="355" y="1066"/>
                      </a:lnTo>
                      <a:lnTo>
                        <a:pt x="344" y="1072"/>
                      </a:lnTo>
                      <a:lnTo>
                        <a:pt x="333" y="1072"/>
                      </a:lnTo>
                      <a:lnTo>
                        <a:pt x="316" y="1079"/>
                      </a:lnTo>
                      <a:lnTo>
                        <a:pt x="304" y="1079"/>
                      </a:lnTo>
                      <a:lnTo>
                        <a:pt x="293" y="1085"/>
                      </a:lnTo>
                      <a:lnTo>
                        <a:pt x="282" y="1085"/>
                      </a:lnTo>
                      <a:lnTo>
                        <a:pt x="265" y="1091"/>
                      </a:lnTo>
                      <a:lnTo>
                        <a:pt x="254" y="1091"/>
                      </a:lnTo>
                      <a:lnTo>
                        <a:pt x="242" y="1098"/>
                      </a:lnTo>
                      <a:lnTo>
                        <a:pt x="225" y="1098"/>
                      </a:lnTo>
                      <a:lnTo>
                        <a:pt x="214" y="1098"/>
                      </a:lnTo>
                      <a:lnTo>
                        <a:pt x="197" y="1098"/>
                      </a:lnTo>
                      <a:lnTo>
                        <a:pt x="186" y="1104"/>
                      </a:lnTo>
                      <a:lnTo>
                        <a:pt x="175" y="1104"/>
                      </a:lnTo>
                      <a:lnTo>
                        <a:pt x="158" y="1104"/>
                      </a:lnTo>
                      <a:lnTo>
                        <a:pt x="147" y="1110"/>
                      </a:lnTo>
                      <a:lnTo>
                        <a:pt x="135" y="1110"/>
                      </a:lnTo>
                      <a:lnTo>
                        <a:pt x="124" y="1110"/>
                      </a:lnTo>
                      <a:lnTo>
                        <a:pt x="118" y="1110"/>
                      </a:lnTo>
                      <a:lnTo>
                        <a:pt x="107" y="1110"/>
                      </a:lnTo>
                      <a:lnTo>
                        <a:pt x="101" y="1110"/>
                      </a:lnTo>
                      <a:lnTo>
                        <a:pt x="90" y="1110"/>
                      </a:lnTo>
                      <a:lnTo>
                        <a:pt x="85" y="1110"/>
                      </a:lnTo>
                      <a:lnTo>
                        <a:pt x="73" y="1110"/>
                      </a:lnTo>
                      <a:lnTo>
                        <a:pt x="68" y="1110"/>
                      </a:lnTo>
                      <a:lnTo>
                        <a:pt x="56" y="1110"/>
                      </a:lnTo>
                      <a:lnTo>
                        <a:pt x="51" y="1110"/>
                      </a:lnTo>
                      <a:lnTo>
                        <a:pt x="39" y="1110"/>
                      </a:lnTo>
                      <a:lnTo>
                        <a:pt x="34" y="1110"/>
                      </a:lnTo>
                      <a:lnTo>
                        <a:pt x="23" y="1110"/>
                      </a:lnTo>
                      <a:lnTo>
                        <a:pt x="17" y="1110"/>
                      </a:lnTo>
                      <a:lnTo>
                        <a:pt x="6" y="1110"/>
                      </a:lnTo>
                      <a:lnTo>
                        <a:pt x="0" y="1110"/>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rot="1341000">
                  <a:off x="701640" y="2166840"/>
                  <a:ext cx="1770120" cy="685800"/>
                </a:xfrm>
                <a:custGeom>
                  <a:avLst/>
                  <a:gdLst/>
                  <a:ahLst/>
                  <a:rect l="l" t="t" r="r" b="b"/>
                  <a:pathLst>
                    <a:path w="1280" h="646">
                      <a:moveTo>
                        <a:pt x="1246" y="0"/>
                      </a:moveTo>
                      <a:lnTo>
                        <a:pt x="1257" y="6"/>
                      </a:lnTo>
                      <a:lnTo>
                        <a:pt x="1268" y="12"/>
                      </a:lnTo>
                      <a:lnTo>
                        <a:pt x="1274" y="25"/>
                      </a:lnTo>
                      <a:lnTo>
                        <a:pt x="1274" y="37"/>
                      </a:lnTo>
                      <a:lnTo>
                        <a:pt x="1274" y="50"/>
                      </a:lnTo>
                      <a:lnTo>
                        <a:pt x="1274" y="63"/>
                      </a:lnTo>
                      <a:lnTo>
                        <a:pt x="1274" y="75"/>
                      </a:lnTo>
                      <a:lnTo>
                        <a:pt x="1280" y="88"/>
                      </a:lnTo>
                      <a:lnTo>
                        <a:pt x="1268" y="88"/>
                      </a:lnTo>
                      <a:lnTo>
                        <a:pt x="1263" y="88"/>
                      </a:lnTo>
                      <a:lnTo>
                        <a:pt x="1251" y="88"/>
                      </a:lnTo>
                      <a:lnTo>
                        <a:pt x="1240" y="81"/>
                      </a:lnTo>
                      <a:lnTo>
                        <a:pt x="1234" y="81"/>
                      </a:lnTo>
                      <a:lnTo>
                        <a:pt x="1223" y="81"/>
                      </a:lnTo>
                      <a:lnTo>
                        <a:pt x="1218" y="81"/>
                      </a:lnTo>
                      <a:lnTo>
                        <a:pt x="1212" y="88"/>
                      </a:lnTo>
                      <a:lnTo>
                        <a:pt x="1206" y="88"/>
                      </a:lnTo>
                      <a:lnTo>
                        <a:pt x="1201" y="94"/>
                      </a:lnTo>
                      <a:lnTo>
                        <a:pt x="1195" y="94"/>
                      </a:lnTo>
                      <a:lnTo>
                        <a:pt x="1189" y="100"/>
                      </a:lnTo>
                      <a:lnTo>
                        <a:pt x="1189" y="106"/>
                      </a:lnTo>
                      <a:lnTo>
                        <a:pt x="1184" y="113"/>
                      </a:lnTo>
                      <a:lnTo>
                        <a:pt x="1178" y="119"/>
                      </a:lnTo>
                      <a:lnTo>
                        <a:pt x="1172" y="119"/>
                      </a:lnTo>
                      <a:lnTo>
                        <a:pt x="1167" y="125"/>
                      </a:lnTo>
                      <a:lnTo>
                        <a:pt x="1161" y="138"/>
                      </a:lnTo>
                      <a:lnTo>
                        <a:pt x="1156" y="144"/>
                      </a:lnTo>
                      <a:lnTo>
                        <a:pt x="1150" y="150"/>
                      </a:lnTo>
                      <a:lnTo>
                        <a:pt x="1150" y="157"/>
                      </a:lnTo>
                      <a:lnTo>
                        <a:pt x="1139" y="163"/>
                      </a:lnTo>
                      <a:lnTo>
                        <a:pt x="1133" y="169"/>
                      </a:lnTo>
                      <a:lnTo>
                        <a:pt x="1127" y="175"/>
                      </a:lnTo>
                      <a:lnTo>
                        <a:pt x="1122" y="175"/>
                      </a:lnTo>
                      <a:lnTo>
                        <a:pt x="1116" y="175"/>
                      </a:lnTo>
                      <a:lnTo>
                        <a:pt x="1110" y="175"/>
                      </a:lnTo>
                      <a:lnTo>
                        <a:pt x="1105" y="169"/>
                      </a:lnTo>
                      <a:lnTo>
                        <a:pt x="1099" y="169"/>
                      </a:lnTo>
                      <a:lnTo>
                        <a:pt x="1094" y="163"/>
                      </a:lnTo>
                      <a:lnTo>
                        <a:pt x="1088" y="163"/>
                      </a:lnTo>
                      <a:lnTo>
                        <a:pt x="1082" y="163"/>
                      </a:lnTo>
                      <a:lnTo>
                        <a:pt x="1071" y="157"/>
                      </a:lnTo>
                      <a:lnTo>
                        <a:pt x="1065" y="157"/>
                      </a:lnTo>
                      <a:lnTo>
                        <a:pt x="1054" y="150"/>
                      </a:lnTo>
                      <a:lnTo>
                        <a:pt x="1043" y="150"/>
                      </a:lnTo>
                      <a:lnTo>
                        <a:pt x="1032" y="144"/>
                      </a:lnTo>
                      <a:lnTo>
                        <a:pt x="1026" y="144"/>
                      </a:lnTo>
                      <a:lnTo>
                        <a:pt x="1015" y="144"/>
                      </a:lnTo>
                      <a:lnTo>
                        <a:pt x="1003" y="150"/>
                      </a:lnTo>
                      <a:lnTo>
                        <a:pt x="1003" y="150"/>
                      </a:lnTo>
                      <a:lnTo>
                        <a:pt x="998" y="157"/>
                      </a:lnTo>
                      <a:lnTo>
                        <a:pt x="992" y="163"/>
                      </a:lnTo>
                      <a:lnTo>
                        <a:pt x="992" y="169"/>
                      </a:lnTo>
                      <a:lnTo>
                        <a:pt x="986" y="175"/>
                      </a:lnTo>
                      <a:lnTo>
                        <a:pt x="986" y="182"/>
                      </a:lnTo>
                      <a:lnTo>
                        <a:pt x="986" y="194"/>
                      </a:lnTo>
                      <a:lnTo>
                        <a:pt x="981" y="200"/>
                      </a:lnTo>
                      <a:lnTo>
                        <a:pt x="981" y="207"/>
                      </a:lnTo>
                      <a:lnTo>
                        <a:pt x="975" y="219"/>
                      </a:lnTo>
                      <a:lnTo>
                        <a:pt x="975" y="232"/>
                      </a:lnTo>
                      <a:lnTo>
                        <a:pt x="981" y="238"/>
                      </a:lnTo>
                      <a:lnTo>
                        <a:pt x="986" y="244"/>
                      </a:lnTo>
                      <a:lnTo>
                        <a:pt x="986" y="251"/>
                      </a:lnTo>
                      <a:lnTo>
                        <a:pt x="992" y="257"/>
                      </a:lnTo>
                      <a:lnTo>
                        <a:pt x="998" y="257"/>
                      </a:lnTo>
                      <a:lnTo>
                        <a:pt x="1003" y="263"/>
                      </a:lnTo>
                      <a:lnTo>
                        <a:pt x="1009" y="263"/>
                      </a:lnTo>
                      <a:lnTo>
                        <a:pt x="1015" y="269"/>
                      </a:lnTo>
                      <a:lnTo>
                        <a:pt x="1020" y="269"/>
                      </a:lnTo>
                      <a:lnTo>
                        <a:pt x="1032" y="276"/>
                      </a:lnTo>
                      <a:lnTo>
                        <a:pt x="1037" y="276"/>
                      </a:lnTo>
                      <a:lnTo>
                        <a:pt x="1043" y="282"/>
                      </a:lnTo>
                      <a:lnTo>
                        <a:pt x="1048" y="288"/>
                      </a:lnTo>
                      <a:lnTo>
                        <a:pt x="1054" y="288"/>
                      </a:lnTo>
                      <a:lnTo>
                        <a:pt x="1060" y="295"/>
                      </a:lnTo>
                      <a:lnTo>
                        <a:pt x="1065" y="295"/>
                      </a:lnTo>
                      <a:lnTo>
                        <a:pt x="1071" y="301"/>
                      </a:lnTo>
                      <a:lnTo>
                        <a:pt x="1065" y="295"/>
                      </a:lnTo>
                      <a:lnTo>
                        <a:pt x="1060" y="295"/>
                      </a:lnTo>
                      <a:lnTo>
                        <a:pt x="1054" y="295"/>
                      </a:lnTo>
                      <a:lnTo>
                        <a:pt x="1048" y="295"/>
                      </a:lnTo>
                      <a:lnTo>
                        <a:pt x="1043" y="295"/>
                      </a:lnTo>
                      <a:lnTo>
                        <a:pt x="1037" y="295"/>
                      </a:lnTo>
                      <a:lnTo>
                        <a:pt x="1032" y="295"/>
                      </a:lnTo>
                      <a:lnTo>
                        <a:pt x="1020" y="288"/>
                      </a:lnTo>
                      <a:lnTo>
                        <a:pt x="1015" y="288"/>
                      </a:lnTo>
                      <a:lnTo>
                        <a:pt x="1009" y="288"/>
                      </a:lnTo>
                      <a:lnTo>
                        <a:pt x="1003" y="288"/>
                      </a:lnTo>
                      <a:lnTo>
                        <a:pt x="998" y="288"/>
                      </a:lnTo>
                      <a:lnTo>
                        <a:pt x="992" y="288"/>
                      </a:lnTo>
                      <a:lnTo>
                        <a:pt x="986" y="282"/>
                      </a:lnTo>
                      <a:lnTo>
                        <a:pt x="981" y="282"/>
                      </a:lnTo>
                      <a:lnTo>
                        <a:pt x="975" y="282"/>
                      </a:lnTo>
                      <a:lnTo>
                        <a:pt x="970" y="276"/>
                      </a:lnTo>
                      <a:lnTo>
                        <a:pt x="964" y="276"/>
                      </a:lnTo>
                      <a:lnTo>
                        <a:pt x="958" y="269"/>
                      </a:lnTo>
                      <a:lnTo>
                        <a:pt x="953" y="263"/>
                      </a:lnTo>
                      <a:lnTo>
                        <a:pt x="947" y="257"/>
                      </a:lnTo>
                      <a:lnTo>
                        <a:pt x="941" y="257"/>
                      </a:lnTo>
                      <a:lnTo>
                        <a:pt x="936" y="251"/>
                      </a:lnTo>
                      <a:lnTo>
                        <a:pt x="930" y="251"/>
                      </a:lnTo>
                      <a:lnTo>
                        <a:pt x="919" y="244"/>
                      </a:lnTo>
                      <a:lnTo>
                        <a:pt x="908" y="244"/>
                      </a:lnTo>
                      <a:lnTo>
                        <a:pt x="896" y="238"/>
                      </a:lnTo>
                      <a:lnTo>
                        <a:pt x="885" y="238"/>
                      </a:lnTo>
                      <a:lnTo>
                        <a:pt x="879" y="232"/>
                      </a:lnTo>
                      <a:lnTo>
                        <a:pt x="868" y="232"/>
                      </a:lnTo>
                      <a:lnTo>
                        <a:pt x="857" y="232"/>
                      </a:lnTo>
                      <a:lnTo>
                        <a:pt x="846" y="232"/>
                      </a:lnTo>
                      <a:lnTo>
                        <a:pt x="834" y="232"/>
                      </a:lnTo>
                      <a:lnTo>
                        <a:pt x="829" y="238"/>
                      </a:lnTo>
                      <a:lnTo>
                        <a:pt x="817" y="244"/>
                      </a:lnTo>
                      <a:lnTo>
                        <a:pt x="806" y="244"/>
                      </a:lnTo>
                      <a:lnTo>
                        <a:pt x="800" y="251"/>
                      </a:lnTo>
                      <a:lnTo>
                        <a:pt x="789" y="257"/>
                      </a:lnTo>
                      <a:lnTo>
                        <a:pt x="784" y="269"/>
                      </a:lnTo>
                      <a:lnTo>
                        <a:pt x="778" y="276"/>
                      </a:lnTo>
                      <a:lnTo>
                        <a:pt x="772" y="288"/>
                      </a:lnTo>
                      <a:lnTo>
                        <a:pt x="767" y="301"/>
                      </a:lnTo>
                      <a:lnTo>
                        <a:pt x="767" y="320"/>
                      </a:lnTo>
                      <a:lnTo>
                        <a:pt x="772" y="332"/>
                      </a:lnTo>
                      <a:lnTo>
                        <a:pt x="784" y="338"/>
                      </a:lnTo>
                      <a:lnTo>
                        <a:pt x="789" y="345"/>
                      </a:lnTo>
                      <a:lnTo>
                        <a:pt x="795" y="351"/>
                      </a:lnTo>
                      <a:lnTo>
                        <a:pt x="806" y="357"/>
                      </a:lnTo>
                      <a:lnTo>
                        <a:pt x="817" y="364"/>
                      </a:lnTo>
                      <a:lnTo>
                        <a:pt x="829" y="370"/>
                      </a:lnTo>
                      <a:lnTo>
                        <a:pt x="834" y="370"/>
                      </a:lnTo>
                      <a:lnTo>
                        <a:pt x="846" y="376"/>
                      </a:lnTo>
                      <a:lnTo>
                        <a:pt x="851" y="382"/>
                      </a:lnTo>
                      <a:lnTo>
                        <a:pt x="857" y="389"/>
                      </a:lnTo>
                      <a:lnTo>
                        <a:pt x="868" y="395"/>
                      </a:lnTo>
                      <a:lnTo>
                        <a:pt x="874" y="401"/>
                      </a:lnTo>
                      <a:lnTo>
                        <a:pt x="879" y="407"/>
                      </a:lnTo>
                      <a:lnTo>
                        <a:pt x="891" y="414"/>
                      </a:lnTo>
                      <a:lnTo>
                        <a:pt x="896" y="420"/>
                      </a:lnTo>
                      <a:lnTo>
                        <a:pt x="902" y="426"/>
                      </a:lnTo>
                      <a:lnTo>
                        <a:pt x="896" y="426"/>
                      </a:lnTo>
                      <a:lnTo>
                        <a:pt x="885" y="420"/>
                      </a:lnTo>
                      <a:lnTo>
                        <a:pt x="879" y="420"/>
                      </a:lnTo>
                      <a:lnTo>
                        <a:pt x="874" y="414"/>
                      </a:lnTo>
                      <a:lnTo>
                        <a:pt x="868" y="414"/>
                      </a:lnTo>
                      <a:lnTo>
                        <a:pt x="857" y="407"/>
                      </a:lnTo>
                      <a:lnTo>
                        <a:pt x="851" y="407"/>
                      </a:lnTo>
                      <a:lnTo>
                        <a:pt x="846" y="407"/>
                      </a:lnTo>
                      <a:lnTo>
                        <a:pt x="834" y="401"/>
                      </a:lnTo>
                      <a:lnTo>
                        <a:pt x="829" y="401"/>
                      </a:lnTo>
                      <a:lnTo>
                        <a:pt x="817" y="395"/>
                      </a:lnTo>
                      <a:lnTo>
                        <a:pt x="812" y="395"/>
                      </a:lnTo>
                      <a:lnTo>
                        <a:pt x="806" y="395"/>
                      </a:lnTo>
                      <a:lnTo>
                        <a:pt x="795" y="389"/>
                      </a:lnTo>
                      <a:lnTo>
                        <a:pt x="789" y="389"/>
                      </a:lnTo>
                      <a:lnTo>
                        <a:pt x="784" y="389"/>
                      </a:lnTo>
                      <a:lnTo>
                        <a:pt x="778" y="382"/>
                      </a:lnTo>
                      <a:lnTo>
                        <a:pt x="772" y="382"/>
                      </a:lnTo>
                      <a:lnTo>
                        <a:pt x="767" y="382"/>
                      </a:lnTo>
                      <a:lnTo>
                        <a:pt x="761" y="382"/>
                      </a:lnTo>
                      <a:lnTo>
                        <a:pt x="755" y="382"/>
                      </a:lnTo>
                      <a:lnTo>
                        <a:pt x="750" y="382"/>
                      </a:lnTo>
                      <a:lnTo>
                        <a:pt x="744" y="382"/>
                      </a:lnTo>
                      <a:lnTo>
                        <a:pt x="738" y="382"/>
                      </a:lnTo>
                      <a:lnTo>
                        <a:pt x="733" y="395"/>
                      </a:lnTo>
                      <a:lnTo>
                        <a:pt x="727" y="414"/>
                      </a:lnTo>
                      <a:lnTo>
                        <a:pt x="727" y="426"/>
                      </a:lnTo>
                      <a:lnTo>
                        <a:pt x="727" y="445"/>
                      </a:lnTo>
                      <a:lnTo>
                        <a:pt x="722" y="451"/>
                      </a:lnTo>
                      <a:lnTo>
                        <a:pt x="722" y="458"/>
                      </a:lnTo>
                      <a:lnTo>
                        <a:pt x="716" y="464"/>
                      </a:lnTo>
                      <a:lnTo>
                        <a:pt x="716" y="476"/>
                      </a:lnTo>
                      <a:lnTo>
                        <a:pt x="710" y="483"/>
                      </a:lnTo>
                      <a:lnTo>
                        <a:pt x="710" y="489"/>
                      </a:lnTo>
                      <a:lnTo>
                        <a:pt x="710" y="495"/>
                      </a:lnTo>
                      <a:lnTo>
                        <a:pt x="710" y="501"/>
                      </a:lnTo>
                      <a:lnTo>
                        <a:pt x="716" y="508"/>
                      </a:lnTo>
                      <a:lnTo>
                        <a:pt x="716" y="514"/>
                      </a:lnTo>
                      <a:lnTo>
                        <a:pt x="722" y="520"/>
                      </a:lnTo>
                      <a:lnTo>
                        <a:pt x="727" y="527"/>
                      </a:lnTo>
                      <a:lnTo>
                        <a:pt x="738" y="533"/>
                      </a:lnTo>
                      <a:lnTo>
                        <a:pt x="744" y="533"/>
                      </a:lnTo>
                      <a:lnTo>
                        <a:pt x="750" y="539"/>
                      </a:lnTo>
                      <a:lnTo>
                        <a:pt x="755" y="545"/>
                      </a:lnTo>
                      <a:lnTo>
                        <a:pt x="744" y="545"/>
                      </a:lnTo>
                      <a:lnTo>
                        <a:pt x="738" y="545"/>
                      </a:lnTo>
                      <a:lnTo>
                        <a:pt x="727" y="545"/>
                      </a:lnTo>
                      <a:lnTo>
                        <a:pt x="722" y="552"/>
                      </a:lnTo>
                      <a:lnTo>
                        <a:pt x="710" y="552"/>
                      </a:lnTo>
                      <a:lnTo>
                        <a:pt x="705" y="552"/>
                      </a:lnTo>
                      <a:lnTo>
                        <a:pt x="693" y="552"/>
                      </a:lnTo>
                      <a:lnTo>
                        <a:pt x="688" y="552"/>
                      </a:lnTo>
                      <a:lnTo>
                        <a:pt x="676" y="552"/>
                      </a:lnTo>
                      <a:lnTo>
                        <a:pt x="665" y="545"/>
                      </a:lnTo>
                      <a:lnTo>
                        <a:pt x="654" y="533"/>
                      </a:lnTo>
                      <a:lnTo>
                        <a:pt x="648" y="527"/>
                      </a:lnTo>
                      <a:lnTo>
                        <a:pt x="637" y="520"/>
                      </a:lnTo>
                      <a:lnTo>
                        <a:pt x="626" y="514"/>
                      </a:lnTo>
                      <a:lnTo>
                        <a:pt x="614" y="508"/>
                      </a:lnTo>
                      <a:lnTo>
                        <a:pt x="603" y="501"/>
                      </a:lnTo>
                      <a:lnTo>
                        <a:pt x="592" y="508"/>
                      </a:lnTo>
                      <a:lnTo>
                        <a:pt x="575" y="508"/>
                      </a:lnTo>
                      <a:lnTo>
                        <a:pt x="564" y="508"/>
                      </a:lnTo>
                      <a:lnTo>
                        <a:pt x="547" y="508"/>
                      </a:lnTo>
                      <a:lnTo>
                        <a:pt x="536" y="514"/>
                      </a:lnTo>
                      <a:lnTo>
                        <a:pt x="519" y="514"/>
                      </a:lnTo>
                      <a:lnTo>
                        <a:pt x="507" y="520"/>
                      </a:lnTo>
                      <a:lnTo>
                        <a:pt x="496" y="520"/>
                      </a:lnTo>
                      <a:lnTo>
                        <a:pt x="479" y="527"/>
                      </a:lnTo>
                      <a:lnTo>
                        <a:pt x="468" y="533"/>
                      </a:lnTo>
                      <a:lnTo>
                        <a:pt x="451" y="533"/>
                      </a:lnTo>
                      <a:lnTo>
                        <a:pt x="440" y="539"/>
                      </a:lnTo>
                      <a:lnTo>
                        <a:pt x="428" y="545"/>
                      </a:lnTo>
                      <a:lnTo>
                        <a:pt x="412" y="552"/>
                      </a:lnTo>
                      <a:lnTo>
                        <a:pt x="400" y="558"/>
                      </a:lnTo>
                      <a:lnTo>
                        <a:pt x="389" y="558"/>
                      </a:lnTo>
                      <a:lnTo>
                        <a:pt x="383" y="564"/>
                      </a:lnTo>
                      <a:lnTo>
                        <a:pt x="378" y="564"/>
                      </a:lnTo>
                      <a:lnTo>
                        <a:pt x="372" y="564"/>
                      </a:lnTo>
                      <a:lnTo>
                        <a:pt x="372" y="570"/>
                      </a:lnTo>
                      <a:lnTo>
                        <a:pt x="366" y="577"/>
                      </a:lnTo>
                      <a:lnTo>
                        <a:pt x="361" y="577"/>
                      </a:lnTo>
                      <a:lnTo>
                        <a:pt x="361" y="583"/>
                      </a:lnTo>
                      <a:lnTo>
                        <a:pt x="355" y="589"/>
                      </a:lnTo>
                      <a:lnTo>
                        <a:pt x="350" y="589"/>
                      </a:lnTo>
                      <a:lnTo>
                        <a:pt x="344" y="596"/>
                      </a:lnTo>
                      <a:lnTo>
                        <a:pt x="338" y="602"/>
                      </a:lnTo>
                      <a:lnTo>
                        <a:pt x="333" y="608"/>
                      </a:lnTo>
                      <a:lnTo>
                        <a:pt x="327" y="614"/>
                      </a:lnTo>
                      <a:lnTo>
                        <a:pt x="316" y="614"/>
                      </a:lnTo>
                      <a:lnTo>
                        <a:pt x="310" y="621"/>
                      </a:lnTo>
                      <a:lnTo>
                        <a:pt x="299" y="627"/>
                      </a:lnTo>
                      <a:lnTo>
                        <a:pt x="288" y="633"/>
                      </a:lnTo>
                      <a:lnTo>
                        <a:pt x="276" y="633"/>
                      </a:lnTo>
                      <a:lnTo>
                        <a:pt x="265" y="633"/>
                      </a:lnTo>
                      <a:lnTo>
                        <a:pt x="254" y="639"/>
                      </a:lnTo>
                      <a:lnTo>
                        <a:pt x="242" y="639"/>
                      </a:lnTo>
                      <a:lnTo>
                        <a:pt x="231" y="639"/>
                      </a:lnTo>
                      <a:lnTo>
                        <a:pt x="220" y="646"/>
                      </a:lnTo>
                      <a:lnTo>
                        <a:pt x="214" y="646"/>
                      </a:lnTo>
                      <a:lnTo>
                        <a:pt x="203" y="646"/>
                      </a:lnTo>
                      <a:lnTo>
                        <a:pt x="192" y="646"/>
                      </a:lnTo>
                      <a:lnTo>
                        <a:pt x="186" y="646"/>
                      </a:lnTo>
                      <a:lnTo>
                        <a:pt x="175" y="646"/>
                      </a:lnTo>
                      <a:lnTo>
                        <a:pt x="169" y="646"/>
                      </a:lnTo>
                      <a:lnTo>
                        <a:pt x="158" y="646"/>
                      </a:lnTo>
                      <a:lnTo>
                        <a:pt x="152" y="646"/>
                      </a:lnTo>
                      <a:lnTo>
                        <a:pt x="147" y="646"/>
                      </a:lnTo>
                      <a:lnTo>
                        <a:pt x="135" y="646"/>
                      </a:lnTo>
                      <a:lnTo>
                        <a:pt x="130" y="646"/>
                      </a:lnTo>
                      <a:lnTo>
                        <a:pt x="119" y="646"/>
                      </a:lnTo>
                      <a:lnTo>
                        <a:pt x="113" y="646"/>
                      </a:lnTo>
                      <a:lnTo>
                        <a:pt x="102" y="639"/>
                      </a:lnTo>
                      <a:lnTo>
                        <a:pt x="90" y="639"/>
                      </a:lnTo>
                      <a:lnTo>
                        <a:pt x="85" y="639"/>
                      </a:lnTo>
                      <a:lnTo>
                        <a:pt x="73" y="639"/>
                      </a:lnTo>
                      <a:lnTo>
                        <a:pt x="73" y="633"/>
                      </a:lnTo>
                      <a:lnTo>
                        <a:pt x="68" y="633"/>
                      </a:lnTo>
                      <a:lnTo>
                        <a:pt x="62" y="633"/>
                      </a:lnTo>
                      <a:lnTo>
                        <a:pt x="57" y="633"/>
                      </a:lnTo>
                      <a:lnTo>
                        <a:pt x="57" y="627"/>
                      </a:lnTo>
                      <a:lnTo>
                        <a:pt x="51" y="627"/>
                      </a:lnTo>
                      <a:lnTo>
                        <a:pt x="45" y="621"/>
                      </a:lnTo>
                      <a:lnTo>
                        <a:pt x="45" y="614"/>
                      </a:lnTo>
                      <a:lnTo>
                        <a:pt x="45" y="614"/>
                      </a:lnTo>
                      <a:lnTo>
                        <a:pt x="45" y="608"/>
                      </a:lnTo>
                      <a:lnTo>
                        <a:pt x="51" y="608"/>
                      </a:lnTo>
                      <a:lnTo>
                        <a:pt x="51" y="602"/>
                      </a:lnTo>
                      <a:lnTo>
                        <a:pt x="57" y="602"/>
                      </a:lnTo>
                      <a:lnTo>
                        <a:pt x="57" y="596"/>
                      </a:lnTo>
                      <a:lnTo>
                        <a:pt x="62" y="596"/>
                      </a:lnTo>
                      <a:lnTo>
                        <a:pt x="62" y="589"/>
                      </a:lnTo>
                      <a:lnTo>
                        <a:pt x="57" y="589"/>
                      </a:lnTo>
                      <a:lnTo>
                        <a:pt x="51" y="583"/>
                      </a:lnTo>
                      <a:lnTo>
                        <a:pt x="45" y="583"/>
                      </a:lnTo>
                      <a:lnTo>
                        <a:pt x="40" y="583"/>
                      </a:lnTo>
                      <a:lnTo>
                        <a:pt x="34" y="583"/>
                      </a:lnTo>
                      <a:lnTo>
                        <a:pt x="28" y="577"/>
                      </a:lnTo>
                      <a:lnTo>
                        <a:pt x="23" y="577"/>
                      </a:lnTo>
                      <a:lnTo>
                        <a:pt x="17" y="577"/>
                      </a:lnTo>
                      <a:lnTo>
                        <a:pt x="17" y="577"/>
                      </a:lnTo>
                      <a:lnTo>
                        <a:pt x="11" y="570"/>
                      </a:lnTo>
                      <a:lnTo>
                        <a:pt x="11" y="570"/>
                      </a:lnTo>
                      <a:lnTo>
                        <a:pt x="6" y="564"/>
                      </a:lnTo>
                      <a:lnTo>
                        <a:pt x="6" y="564"/>
                      </a:lnTo>
                      <a:lnTo>
                        <a:pt x="0" y="558"/>
                      </a:lnTo>
                      <a:lnTo>
                        <a:pt x="0" y="558"/>
                      </a:lnTo>
                      <a:lnTo>
                        <a:pt x="0" y="552"/>
                      </a:lnTo>
                      <a:lnTo>
                        <a:pt x="0" y="539"/>
                      </a:lnTo>
                      <a:lnTo>
                        <a:pt x="6" y="527"/>
                      </a:lnTo>
                      <a:lnTo>
                        <a:pt x="11" y="520"/>
                      </a:lnTo>
                      <a:lnTo>
                        <a:pt x="11" y="508"/>
                      </a:lnTo>
                      <a:lnTo>
                        <a:pt x="11" y="495"/>
                      </a:lnTo>
                      <a:lnTo>
                        <a:pt x="11" y="489"/>
                      </a:lnTo>
                      <a:lnTo>
                        <a:pt x="6" y="476"/>
                      </a:lnTo>
                      <a:lnTo>
                        <a:pt x="11" y="470"/>
                      </a:lnTo>
                      <a:lnTo>
                        <a:pt x="11" y="464"/>
                      </a:lnTo>
                      <a:lnTo>
                        <a:pt x="17" y="464"/>
                      </a:lnTo>
                      <a:lnTo>
                        <a:pt x="17" y="464"/>
                      </a:lnTo>
                      <a:lnTo>
                        <a:pt x="23" y="458"/>
                      </a:lnTo>
                      <a:lnTo>
                        <a:pt x="28" y="458"/>
                      </a:lnTo>
                      <a:lnTo>
                        <a:pt x="28" y="458"/>
                      </a:lnTo>
                      <a:lnTo>
                        <a:pt x="34" y="464"/>
                      </a:lnTo>
                      <a:lnTo>
                        <a:pt x="40" y="464"/>
                      </a:lnTo>
                      <a:lnTo>
                        <a:pt x="45" y="470"/>
                      </a:lnTo>
                      <a:lnTo>
                        <a:pt x="57" y="476"/>
                      </a:lnTo>
                      <a:lnTo>
                        <a:pt x="62" y="489"/>
                      </a:lnTo>
                      <a:lnTo>
                        <a:pt x="73" y="495"/>
                      </a:lnTo>
                      <a:lnTo>
                        <a:pt x="79" y="508"/>
                      </a:lnTo>
                      <a:lnTo>
                        <a:pt x="90" y="514"/>
                      </a:lnTo>
                      <a:lnTo>
                        <a:pt x="96" y="520"/>
                      </a:lnTo>
                      <a:lnTo>
                        <a:pt x="107" y="527"/>
                      </a:lnTo>
                      <a:lnTo>
                        <a:pt x="119" y="527"/>
                      </a:lnTo>
                      <a:lnTo>
                        <a:pt x="130" y="527"/>
                      </a:lnTo>
                      <a:lnTo>
                        <a:pt x="141" y="527"/>
                      </a:lnTo>
                      <a:lnTo>
                        <a:pt x="152" y="527"/>
                      </a:lnTo>
                      <a:lnTo>
                        <a:pt x="164" y="527"/>
                      </a:lnTo>
                      <a:lnTo>
                        <a:pt x="175" y="527"/>
                      </a:lnTo>
                      <a:lnTo>
                        <a:pt x="180" y="527"/>
                      </a:lnTo>
                      <a:lnTo>
                        <a:pt x="192" y="527"/>
                      </a:lnTo>
                      <a:lnTo>
                        <a:pt x="203" y="527"/>
                      </a:lnTo>
                      <a:lnTo>
                        <a:pt x="214" y="527"/>
                      </a:lnTo>
                      <a:lnTo>
                        <a:pt x="226" y="527"/>
                      </a:lnTo>
                      <a:lnTo>
                        <a:pt x="237" y="520"/>
                      </a:lnTo>
                      <a:lnTo>
                        <a:pt x="248" y="520"/>
                      </a:lnTo>
                      <a:lnTo>
                        <a:pt x="259" y="520"/>
                      </a:lnTo>
                      <a:lnTo>
                        <a:pt x="271" y="514"/>
                      </a:lnTo>
                      <a:lnTo>
                        <a:pt x="282" y="514"/>
                      </a:lnTo>
                      <a:lnTo>
                        <a:pt x="293" y="514"/>
                      </a:lnTo>
                      <a:lnTo>
                        <a:pt x="299" y="508"/>
                      </a:lnTo>
                      <a:lnTo>
                        <a:pt x="310" y="508"/>
                      </a:lnTo>
                      <a:lnTo>
                        <a:pt x="321" y="501"/>
                      </a:lnTo>
                      <a:lnTo>
                        <a:pt x="327" y="501"/>
                      </a:lnTo>
                      <a:lnTo>
                        <a:pt x="338" y="495"/>
                      </a:lnTo>
                      <a:lnTo>
                        <a:pt x="350" y="489"/>
                      </a:lnTo>
                      <a:lnTo>
                        <a:pt x="355" y="489"/>
                      </a:lnTo>
                      <a:lnTo>
                        <a:pt x="366" y="483"/>
                      </a:lnTo>
                      <a:lnTo>
                        <a:pt x="378" y="476"/>
                      </a:lnTo>
                      <a:lnTo>
                        <a:pt x="383" y="476"/>
                      </a:lnTo>
                      <a:lnTo>
                        <a:pt x="395" y="470"/>
                      </a:lnTo>
                      <a:lnTo>
                        <a:pt x="406" y="470"/>
                      </a:lnTo>
                      <a:lnTo>
                        <a:pt x="417" y="464"/>
                      </a:lnTo>
                      <a:lnTo>
                        <a:pt x="423" y="464"/>
                      </a:lnTo>
                      <a:lnTo>
                        <a:pt x="434" y="458"/>
                      </a:lnTo>
                      <a:lnTo>
                        <a:pt x="445" y="458"/>
                      </a:lnTo>
                      <a:lnTo>
                        <a:pt x="451" y="458"/>
                      </a:lnTo>
                      <a:lnTo>
                        <a:pt x="462" y="458"/>
                      </a:lnTo>
                      <a:lnTo>
                        <a:pt x="474" y="458"/>
                      </a:lnTo>
                      <a:lnTo>
                        <a:pt x="485" y="458"/>
                      </a:lnTo>
                      <a:lnTo>
                        <a:pt x="490" y="458"/>
                      </a:lnTo>
                      <a:lnTo>
                        <a:pt x="502" y="458"/>
                      </a:lnTo>
                      <a:lnTo>
                        <a:pt x="513" y="458"/>
                      </a:lnTo>
                      <a:lnTo>
                        <a:pt x="519" y="458"/>
                      </a:lnTo>
                      <a:lnTo>
                        <a:pt x="524" y="458"/>
                      </a:lnTo>
                      <a:lnTo>
                        <a:pt x="530" y="458"/>
                      </a:lnTo>
                      <a:lnTo>
                        <a:pt x="536" y="451"/>
                      </a:lnTo>
                      <a:lnTo>
                        <a:pt x="541" y="451"/>
                      </a:lnTo>
                      <a:lnTo>
                        <a:pt x="547" y="451"/>
                      </a:lnTo>
                      <a:lnTo>
                        <a:pt x="552" y="445"/>
                      </a:lnTo>
                      <a:lnTo>
                        <a:pt x="558" y="445"/>
                      </a:lnTo>
                      <a:lnTo>
                        <a:pt x="564" y="445"/>
                      </a:lnTo>
                      <a:lnTo>
                        <a:pt x="569" y="439"/>
                      </a:lnTo>
                      <a:lnTo>
                        <a:pt x="575" y="439"/>
                      </a:lnTo>
                      <a:lnTo>
                        <a:pt x="581" y="433"/>
                      </a:lnTo>
                      <a:lnTo>
                        <a:pt x="586" y="433"/>
                      </a:lnTo>
                      <a:lnTo>
                        <a:pt x="592" y="426"/>
                      </a:lnTo>
                      <a:lnTo>
                        <a:pt x="592" y="426"/>
                      </a:lnTo>
                      <a:lnTo>
                        <a:pt x="598" y="420"/>
                      </a:lnTo>
                      <a:lnTo>
                        <a:pt x="609" y="414"/>
                      </a:lnTo>
                      <a:lnTo>
                        <a:pt x="614" y="407"/>
                      </a:lnTo>
                      <a:lnTo>
                        <a:pt x="620" y="401"/>
                      </a:lnTo>
                      <a:lnTo>
                        <a:pt x="631" y="395"/>
                      </a:lnTo>
                      <a:lnTo>
                        <a:pt x="637" y="389"/>
                      </a:lnTo>
                      <a:lnTo>
                        <a:pt x="643" y="376"/>
                      </a:lnTo>
                      <a:lnTo>
                        <a:pt x="654" y="370"/>
                      </a:lnTo>
                      <a:lnTo>
                        <a:pt x="660" y="364"/>
                      </a:lnTo>
                      <a:lnTo>
                        <a:pt x="665" y="357"/>
                      </a:lnTo>
                      <a:lnTo>
                        <a:pt x="676" y="345"/>
                      </a:lnTo>
                      <a:lnTo>
                        <a:pt x="682" y="338"/>
                      </a:lnTo>
                      <a:lnTo>
                        <a:pt x="688" y="332"/>
                      </a:lnTo>
                      <a:lnTo>
                        <a:pt x="693" y="320"/>
                      </a:lnTo>
                      <a:lnTo>
                        <a:pt x="699" y="313"/>
                      </a:lnTo>
                      <a:lnTo>
                        <a:pt x="710" y="307"/>
                      </a:lnTo>
                      <a:lnTo>
                        <a:pt x="716" y="295"/>
                      </a:lnTo>
                      <a:lnTo>
                        <a:pt x="722" y="282"/>
                      </a:lnTo>
                      <a:lnTo>
                        <a:pt x="733" y="269"/>
                      </a:lnTo>
                      <a:lnTo>
                        <a:pt x="738" y="257"/>
                      </a:lnTo>
                      <a:lnTo>
                        <a:pt x="744" y="244"/>
                      </a:lnTo>
                      <a:lnTo>
                        <a:pt x="755" y="232"/>
                      </a:lnTo>
                      <a:lnTo>
                        <a:pt x="761" y="213"/>
                      </a:lnTo>
                      <a:lnTo>
                        <a:pt x="767" y="200"/>
                      </a:lnTo>
                      <a:lnTo>
                        <a:pt x="778" y="188"/>
                      </a:lnTo>
                      <a:lnTo>
                        <a:pt x="784" y="182"/>
                      </a:lnTo>
                      <a:lnTo>
                        <a:pt x="784" y="175"/>
                      </a:lnTo>
                      <a:lnTo>
                        <a:pt x="789" y="169"/>
                      </a:lnTo>
                      <a:lnTo>
                        <a:pt x="795" y="163"/>
                      </a:lnTo>
                      <a:lnTo>
                        <a:pt x="800" y="157"/>
                      </a:lnTo>
                      <a:lnTo>
                        <a:pt x="806" y="150"/>
                      </a:lnTo>
                      <a:lnTo>
                        <a:pt x="812" y="150"/>
                      </a:lnTo>
                      <a:lnTo>
                        <a:pt x="823" y="144"/>
                      </a:lnTo>
                      <a:lnTo>
                        <a:pt x="829" y="144"/>
                      </a:lnTo>
                      <a:lnTo>
                        <a:pt x="840" y="138"/>
                      </a:lnTo>
                      <a:lnTo>
                        <a:pt x="846" y="138"/>
                      </a:lnTo>
                      <a:lnTo>
                        <a:pt x="857" y="138"/>
                      </a:lnTo>
                      <a:lnTo>
                        <a:pt x="862" y="138"/>
                      </a:lnTo>
                      <a:lnTo>
                        <a:pt x="874" y="138"/>
                      </a:lnTo>
                      <a:lnTo>
                        <a:pt x="879" y="138"/>
                      </a:lnTo>
                      <a:lnTo>
                        <a:pt x="885" y="132"/>
                      </a:lnTo>
                      <a:lnTo>
                        <a:pt x="902" y="132"/>
                      </a:lnTo>
                      <a:lnTo>
                        <a:pt x="913" y="125"/>
                      </a:lnTo>
                      <a:lnTo>
                        <a:pt x="924" y="125"/>
                      </a:lnTo>
                      <a:lnTo>
                        <a:pt x="936" y="119"/>
                      </a:lnTo>
                      <a:lnTo>
                        <a:pt x="947" y="113"/>
                      </a:lnTo>
                      <a:lnTo>
                        <a:pt x="958" y="113"/>
                      </a:lnTo>
                      <a:lnTo>
                        <a:pt x="970" y="106"/>
                      </a:lnTo>
                      <a:lnTo>
                        <a:pt x="981" y="100"/>
                      </a:lnTo>
                      <a:lnTo>
                        <a:pt x="992" y="100"/>
                      </a:lnTo>
                      <a:lnTo>
                        <a:pt x="1003" y="94"/>
                      </a:lnTo>
                      <a:lnTo>
                        <a:pt x="1015" y="88"/>
                      </a:lnTo>
                      <a:lnTo>
                        <a:pt x="1026" y="88"/>
                      </a:lnTo>
                      <a:lnTo>
                        <a:pt x="1037" y="81"/>
                      </a:lnTo>
                      <a:lnTo>
                        <a:pt x="1048" y="75"/>
                      </a:lnTo>
                      <a:lnTo>
                        <a:pt x="1060" y="69"/>
                      </a:lnTo>
                      <a:lnTo>
                        <a:pt x="1071" y="69"/>
                      </a:lnTo>
                      <a:lnTo>
                        <a:pt x="1077" y="63"/>
                      </a:lnTo>
                      <a:lnTo>
                        <a:pt x="1082" y="63"/>
                      </a:lnTo>
                      <a:lnTo>
                        <a:pt x="1088" y="63"/>
                      </a:lnTo>
                      <a:lnTo>
                        <a:pt x="1094" y="56"/>
                      </a:lnTo>
                      <a:lnTo>
                        <a:pt x="1099" y="56"/>
                      </a:lnTo>
                      <a:lnTo>
                        <a:pt x="1105" y="50"/>
                      </a:lnTo>
                      <a:lnTo>
                        <a:pt x="1110" y="50"/>
                      </a:lnTo>
                      <a:lnTo>
                        <a:pt x="1116" y="50"/>
                      </a:lnTo>
                      <a:lnTo>
                        <a:pt x="1122" y="44"/>
                      </a:lnTo>
                      <a:lnTo>
                        <a:pt x="1127" y="44"/>
                      </a:lnTo>
                      <a:lnTo>
                        <a:pt x="1139" y="44"/>
                      </a:lnTo>
                      <a:lnTo>
                        <a:pt x="1144" y="37"/>
                      </a:lnTo>
                      <a:lnTo>
                        <a:pt x="1150" y="37"/>
                      </a:lnTo>
                      <a:lnTo>
                        <a:pt x="1156" y="31"/>
                      </a:lnTo>
                      <a:lnTo>
                        <a:pt x="1161" y="31"/>
                      </a:lnTo>
                      <a:lnTo>
                        <a:pt x="1167" y="31"/>
                      </a:lnTo>
                      <a:lnTo>
                        <a:pt x="1178" y="31"/>
                      </a:lnTo>
                      <a:lnTo>
                        <a:pt x="1189" y="25"/>
                      </a:lnTo>
                      <a:lnTo>
                        <a:pt x="1195" y="25"/>
                      </a:lnTo>
                      <a:lnTo>
                        <a:pt x="1206" y="19"/>
                      </a:lnTo>
                      <a:lnTo>
                        <a:pt x="1218" y="19"/>
                      </a:lnTo>
                      <a:lnTo>
                        <a:pt x="1229" y="12"/>
                      </a:lnTo>
                      <a:lnTo>
                        <a:pt x="1234" y="6"/>
                      </a:lnTo>
                      <a:lnTo>
                        <a:pt x="1246"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rot="1341000">
                  <a:off x="1560600" y="1806480"/>
                  <a:ext cx="1206360" cy="325440"/>
                </a:xfrm>
                <a:custGeom>
                  <a:avLst/>
                  <a:gdLst/>
                  <a:ahLst/>
                  <a:rect l="l" t="t" r="r" b="b"/>
                  <a:pathLst>
                    <a:path w="873" h="307">
                      <a:moveTo>
                        <a:pt x="873" y="119"/>
                      </a:moveTo>
                      <a:lnTo>
                        <a:pt x="868" y="119"/>
                      </a:lnTo>
                      <a:lnTo>
                        <a:pt x="862" y="119"/>
                      </a:lnTo>
                      <a:lnTo>
                        <a:pt x="856" y="113"/>
                      </a:lnTo>
                      <a:lnTo>
                        <a:pt x="851" y="113"/>
                      </a:lnTo>
                      <a:lnTo>
                        <a:pt x="840" y="113"/>
                      </a:lnTo>
                      <a:lnTo>
                        <a:pt x="834" y="113"/>
                      </a:lnTo>
                      <a:lnTo>
                        <a:pt x="828" y="113"/>
                      </a:lnTo>
                      <a:lnTo>
                        <a:pt x="823" y="113"/>
                      </a:lnTo>
                      <a:lnTo>
                        <a:pt x="817" y="113"/>
                      </a:lnTo>
                      <a:lnTo>
                        <a:pt x="811" y="119"/>
                      </a:lnTo>
                      <a:lnTo>
                        <a:pt x="806" y="119"/>
                      </a:lnTo>
                      <a:lnTo>
                        <a:pt x="800" y="119"/>
                      </a:lnTo>
                      <a:lnTo>
                        <a:pt x="794" y="125"/>
                      </a:lnTo>
                      <a:lnTo>
                        <a:pt x="789" y="125"/>
                      </a:lnTo>
                      <a:lnTo>
                        <a:pt x="783" y="125"/>
                      </a:lnTo>
                      <a:lnTo>
                        <a:pt x="778" y="132"/>
                      </a:lnTo>
                      <a:lnTo>
                        <a:pt x="772" y="132"/>
                      </a:lnTo>
                      <a:lnTo>
                        <a:pt x="766" y="138"/>
                      </a:lnTo>
                      <a:lnTo>
                        <a:pt x="761" y="138"/>
                      </a:lnTo>
                      <a:lnTo>
                        <a:pt x="755" y="144"/>
                      </a:lnTo>
                      <a:lnTo>
                        <a:pt x="749" y="144"/>
                      </a:lnTo>
                      <a:lnTo>
                        <a:pt x="744" y="144"/>
                      </a:lnTo>
                      <a:lnTo>
                        <a:pt x="738" y="150"/>
                      </a:lnTo>
                      <a:lnTo>
                        <a:pt x="732" y="150"/>
                      </a:lnTo>
                      <a:lnTo>
                        <a:pt x="727" y="157"/>
                      </a:lnTo>
                      <a:lnTo>
                        <a:pt x="716" y="163"/>
                      </a:lnTo>
                      <a:lnTo>
                        <a:pt x="710" y="163"/>
                      </a:lnTo>
                      <a:lnTo>
                        <a:pt x="704" y="169"/>
                      </a:lnTo>
                      <a:lnTo>
                        <a:pt x="693" y="175"/>
                      </a:lnTo>
                      <a:lnTo>
                        <a:pt x="687" y="182"/>
                      </a:lnTo>
                      <a:lnTo>
                        <a:pt x="682" y="182"/>
                      </a:lnTo>
                      <a:lnTo>
                        <a:pt x="676" y="188"/>
                      </a:lnTo>
                      <a:lnTo>
                        <a:pt x="665" y="194"/>
                      </a:lnTo>
                      <a:lnTo>
                        <a:pt x="659" y="201"/>
                      </a:lnTo>
                      <a:lnTo>
                        <a:pt x="654" y="201"/>
                      </a:lnTo>
                      <a:lnTo>
                        <a:pt x="642" y="207"/>
                      </a:lnTo>
                      <a:lnTo>
                        <a:pt x="637" y="213"/>
                      </a:lnTo>
                      <a:lnTo>
                        <a:pt x="631" y="219"/>
                      </a:lnTo>
                      <a:lnTo>
                        <a:pt x="620" y="219"/>
                      </a:lnTo>
                      <a:lnTo>
                        <a:pt x="614" y="226"/>
                      </a:lnTo>
                      <a:lnTo>
                        <a:pt x="608" y="232"/>
                      </a:lnTo>
                      <a:lnTo>
                        <a:pt x="597" y="232"/>
                      </a:lnTo>
                      <a:lnTo>
                        <a:pt x="592" y="238"/>
                      </a:lnTo>
                      <a:lnTo>
                        <a:pt x="580" y="244"/>
                      </a:lnTo>
                      <a:lnTo>
                        <a:pt x="575" y="251"/>
                      </a:lnTo>
                      <a:lnTo>
                        <a:pt x="563" y="251"/>
                      </a:lnTo>
                      <a:lnTo>
                        <a:pt x="558" y="257"/>
                      </a:lnTo>
                      <a:lnTo>
                        <a:pt x="546" y="263"/>
                      </a:lnTo>
                      <a:lnTo>
                        <a:pt x="541" y="263"/>
                      </a:lnTo>
                      <a:lnTo>
                        <a:pt x="530" y="270"/>
                      </a:lnTo>
                      <a:lnTo>
                        <a:pt x="524" y="276"/>
                      </a:lnTo>
                      <a:lnTo>
                        <a:pt x="513" y="276"/>
                      </a:lnTo>
                      <a:lnTo>
                        <a:pt x="507" y="282"/>
                      </a:lnTo>
                      <a:lnTo>
                        <a:pt x="496" y="288"/>
                      </a:lnTo>
                      <a:lnTo>
                        <a:pt x="490" y="288"/>
                      </a:lnTo>
                      <a:lnTo>
                        <a:pt x="479" y="288"/>
                      </a:lnTo>
                      <a:lnTo>
                        <a:pt x="468" y="295"/>
                      </a:lnTo>
                      <a:lnTo>
                        <a:pt x="462" y="295"/>
                      </a:lnTo>
                      <a:lnTo>
                        <a:pt x="451" y="301"/>
                      </a:lnTo>
                      <a:lnTo>
                        <a:pt x="445" y="301"/>
                      </a:lnTo>
                      <a:lnTo>
                        <a:pt x="434" y="301"/>
                      </a:lnTo>
                      <a:lnTo>
                        <a:pt x="422" y="301"/>
                      </a:lnTo>
                      <a:lnTo>
                        <a:pt x="417" y="307"/>
                      </a:lnTo>
                      <a:lnTo>
                        <a:pt x="406" y="307"/>
                      </a:lnTo>
                      <a:lnTo>
                        <a:pt x="394" y="307"/>
                      </a:lnTo>
                      <a:lnTo>
                        <a:pt x="389" y="307"/>
                      </a:lnTo>
                      <a:lnTo>
                        <a:pt x="377" y="307"/>
                      </a:lnTo>
                      <a:lnTo>
                        <a:pt x="366" y="307"/>
                      </a:lnTo>
                      <a:lnTo>
                        <a:pt x="360" y="307"/>
                      </a:lnTo>
                      <a:lnTo>
                        <a:pt x="349" y="307"/>
                      </a:lnTo>
                      <a:lnTo>
                        <a:pt x="338" y="307"/>
                      </a:lnTo>
                      <a:lnTo>
                        <a:pt x="332" y="307"/>
                      </a:lnTo>
                      <a:lnTo>
                        <a:pt x="321" y="307"/>
                      </a:lnTo>
                      <a:lnTo>
                        <a:pt x="310" y="307"/>
                      </a:lnTo>
                      <a:lnTo>
                        <a:pt x="298" y="307"/>
                      </a:lnTo>
                      <a:lnTo>
                        <a:pt x="287" y="307"/>
                      </a:lnTo>
                      <a:lnTo>
                        <a:pt x="282" y="307"/>
                      </a:lnTo>
                      <a:lnTo>
                        <a:pt x="270" y="307"/>
                      </a:lnTo>
                      <a:lnTo>
                        <a:pt x="259" y="301"/>
                      </a:lnTo>
                      <a:lnTo>
                        <a:pt x="248" y="301"/>
                      </a:lnTo>
                      <a:lnTo>
                        <a:pt x="236" y="301"/>
                      </a:lnTo>
                      <a:lnTo>
                        <a:pt x="225" y="295"/>
                      </a:lnTo>
                      <a:lnTo>
                        <a:pt x="220" y="295"/>
                      </a:lnTo>
                      <a:lnTo>
                        <a:pt x="208" y="295"/>
                      </a:lnTo>
                      <a:lnTo>
                        <a:pt x="197" y="288"/>
                      </a:lnTo>
                      <a:lnTo>
                        <a:pt x="186" y="288"/>
                      </a:lnTo>
                      <a:lnTo>
                        <a:pt x="174" y="288"/>
                      </a:lnTo>
                      <a:lnTo>
                        <a:pt x="169" y="282"/>
                      </a:lnTo>
                      <a:lnTo>
                        <a:pt x="158" y="282"/>
                      </a:lnTo>
                      <a:lnTo>
                        <a:pt x="146" y="276"/>
                      </a:lnTo>
                      <a:lnTo>
                        <a:pt x="141" y="270"/>
                      </a:lnTo>
                      <a:lnTo>
                        <a:pt x="129" y="263"/>
                      </a:lnTo>
                      <a:lnTo>
                        <a:pt x="124" y="257"/>
                      </a:lnTo>
                      <a:lnTo>
                        <a:pt x="112" y="251"/>
                      </a:lnTo>
                      <a:lnTo>
                        <a:pt x="107" y="244"/>
                      </a:lnTo>
                      <a:lnTo>
                        <a:pt x="96" y="238"/>
                      </a:lnTo>
                      <a:lnTo>
                        <a:pt x="90" y="238"/>
                      </a:lnTo>
                      <a:lnTo>
                        <a:pt x="84" y="232"/>
                      </a:lnTo>
                      <a:lnTo>
                        <a:pt x="79" y="232"/>
                      </a:lnTo>
                      <a:lnTo>
                        <a:pt x="67" y="226"/>
                      </a:lnTo>
                      <a:lnTo>
                        <a:pt x="62" y="226"/>
                      </a:lnTo>
                      <a:lnTo>
                        <a:pt x="56" y="219"/>
                      </a:lnTo>
                      <a:lnTo>
                        <a:pt x="45" y="219"/>
                      </a:lnTo>
                      <a:lnTo>
                        <a:pt x="39" y="213"/>
                      </a:lnTo>
                      <a:lnTo>
                        <a:pt x="34" y="207"/>
                      </a:lnTo>
                      <a:lnTo>
                        <a:pt x="28" y="201"/>
                      </a:lnTo>
                      <a:lnTo>
                        <a:pt x="22" y="194"/>
                      </a:lnTo>
                      <a:lnTo>
                        <a:pt x="17" y="188"/>
                      </a:lnTo>
                      <a:lnTo>
                        <a:pt x="11" y="182"/>
                      </a:lnTo>
                      <a:lnTo>
                        <a:pt x="11" y="169"/>
                      </a:lnTo>
                      <a:lnTo>
                        <a:pt x="5" y="163"/>
                      </a:lnTo>
                      <a:lnTo>
                        <a:pt x="0" y="157"/>
                      </a:lnTo>
                      <a:lnTo>
                        <a:pt x="5" y="163"/>
                      </a:lnTo>
                      <a:lnTo>
                        <a:pt x="17" y="169"/>
                      </a:lnTo>
                      <a:lnTo>
                        <a:pt x="28" y="169"/>
                      </a:lnTo>
                      <a:lnTo>
                        <a:pt x="34" y="175"/>
                      </a:lnTo>
                      <a:lnTo>
                        <a:pt x="45" y="182"/>
                      </a:lnTo>
                      <a:lnTo>
                        <a:pt x="50" y="182"/>
                      </a:lnTo>
                      <a:lnTo>
                        <a:pt x="62" y="188"/>
                      </a:lnTo>
                      <a:lnTo>
                        <a:pt x="73" y="188"/>
                      </a:lnTo>
                      <a:lnTo>
                        <a:pt x="79" y="182"/>
                      </a:lnTo>
                      <a:lnTo>
                        <a:pt x="79" y="175"/>
                      </a:lnTo>
                      <a:lnTo>
                        <a:pt x="84" y="175"/>
                      </a:lnTo>
                      <a:lnTo>
                        <a:pt x="84" y="169"/>
                      </a:lnTo>
                      <a:lnTo>
                        <a:pt x="90" y="157"/>
                      </a:lnTo>
                      <a:lnTo>
                        <a:pt x="90" y="150"/>
                      </a:lnTo>
                      <a:lnTo>
                        <a:pt x="96" y="150"/>
                      </a:lnTo>
                      <a:lnTo>
                        <a:pt x="101" y="144"/>
                      </a:lnTo>
                      <a:lnTo>
                        <a:pt x="112" y="144"/>
                      </a:lnTo>
                      <a:lnTo>
                        <a:pt x="118" y="150"/>
                      </a:lnTo>
                      <a:lnTo>
                        <a:pt x="129" y="150"/>
                      </a:lnTo>
                      <a:lnTo>
                        <a:pt x="141" y="157"/>
                      </a:lnTo>
                      <a:lnTo>
                        <a:pt x="152" y="157"/>
                      </a:lnTo>
                      <a:lnTo>
                        <a:pt x="158" y="163"/>
                      </a:lnTo>
                      <a:lnTo>
                        <a:pt x="169" y="169"/>
                      </a:lnTo>
                      <a:lnTo>
                        <a:pt x="180" y="169"/>
                      </a:lnTo>
                      <a:lnTo>
                        <a:pt x="186" y="169"/>
                      </a:lnTo>
                      <a:lnTo>
                        <a:pt x="191" y="175"/>
                      </a:lnTo>
                      <a:lnTo>
                        <a:pt x="197" y="175"/>
                      </a:lnTo>
                      <a:lnTo>
                        <a:pt x="203" y="175"/>
                      </a:lnTo>
                      <a:lnTo>
                        <a:pt x="208" y="175"/>
                      </a:lnTo>
                      <a:lnTo>
                        <a:pt x="214" y="175"/>
                      </a:lnTo>
                      <a:lnTo>
                        <a:pt x="220" y="182"/>
                      </a:lnTo>
                      <a:lnTo>
                        <a:pt x="225" y="182"/>
                      </a:lnTo>
                      <a:lnTo>
                        <a:pt x="231" y="182"/>
                      </a:lnTo>
                      <a:lnTo>
                        <a:pt x="236" y="182"/>
                      </a:lnTo>
                      <a:lnTo>
                        <a:pt x="242" y="182"/>
                      </a:lnTo>
                      <a:lnTo>
                        <a:pt x="253" y="182"/>
                      </a:lnTo>
                      <a:lnTo>
                        <a:pt x="259" y="188"/>
                      </a:lnTo>
                      <a:lnTo>
                        <a:pt x="265" y="188"/>
                      </a:lnTo>
                      <a:lnTo>
                        <a:pt x="270" y="188"/>
                      </a:lnTo>
                      <a:lnTo>
                        <a:pt x="276" y="188"/>
                      </a:lnTo>
                      <a:lnTo>
                        <a:pt x="276" y="175"/>
                      </a:lnTo>
                      <a:lnTo>
                        <a:pt x="276" y="163"/>
                      </a:lnTo>
                      <a:lnTo>
                        <a:pt x="276" y="144"/>
                      </a:lnTo>
                      <a:lnTo>
                        <a:pt x="282" y="132"/>
                      </a:lnTo>
                      <a:lnTo>
                        <a:pt x="282" y="100"/>
                      </a:lnTo>
                      <a:lnTo>
                        <a:pt x="287" y="69"/>
                      </a:lnTo>
                      <a:lnTo>
                        <a:pt x="287" y="38"/>
                      </a:lnTo>
                      <a:lnTo>
                        <a:pt x="293" y="0"/>
                      </a:lnTo>
                      <a:lnTo>
                        <a:pt x="293" y="19"/>
                      </a:lnTo>
                      <a:lnTo>
                        <a:pt x="293" y="31"/>
                      </a:lnTo>
                      <a:lnTo>
                        <a:pt x="298" y="44"/>
                      </a:lnTo>
                      <a:lnTo>
                        <a:pt x="298" y="56"/>
                      </a:lnTo>
                      <a:lnTo>
                        <a:pt x="298" y="69"/>
                      </a:lnTo>
                      <a:lnTo>
                        <a:pt x="304" y="81"/>
                      </a:lnTo>
                      <a:lnTo>
                        <a:pt x="310" y="94"/>
                      </a:lnTo>
                      <a:lnTo>
                        <a:pt x="310" y="106"/>
                      </a:lnTo>
                      <a:lnTo>
                        <a:pt x="315" y="113"/>
                      </a:lnTo>
                      <a:lnTo>
                        <a:pt x="321" y="119"/>
                      </a:lnTo>
                      <a:lnTo>
                        <a:pt x="327" y="132"/>
                      </a:lnTo>
                      <a:lnTo>
                        <a:pt x="332" y="138"/>
                      </a:lnTo>
                      <a:lnTo>
                        <a:pt x="338" y="144"/>
                      </a:lnTo>
                      <a:lnTo>
                        <a:pt x="344" y="144"/>
                      </a:lnTo>
                      <a:lnTo>
                        <a:pt x="349" y="150"/>
                      </a:lnTo>
                      <a:lnTo>
                        <a:pt x="355" y="150"/>
                      </a:lnTo>
                      <a:lnTo>
                        <a:pt x="366" y="150"/>
                      </a:lnTo>
                      <a:lnTo>
                        <a:pt x="372" y="150"/>
                      </a:lnTo>
                      <a:lnTo>
                        <a:pt x="377" y="150"/>
                      </a:lnTo>
                      <a:lnTo>
                        <a:pt x="383" y="144"/>
                      </a:lnTo>
                      <a:lnTo>
                        <a:pt x="389" y="138"/>
                      </a:lnTo>
                      <a:lnTo>
                        <a:pt x="394" y="138"/>
                      </a:lnTo>
                      <a:lnTo>
                        <a:pt x="400" y="132"/>
                      </a:lnTo>
                      <a:lnTo>
                        <a:pt x="411" y="132"/>
                      </a:lnTo>
                      <a:lnTo>
                        <a:pt x="417" y="125"/>
                      </a:lnTo>
                      <a:lnTo>
                        <a:pt x="428" y="125"/>
                      </a:lnTo>
                      <a:lnTo>
                        <a:pt x="434" y="125"/>
                      </a:lnTo>
                      <a:lnTo>
                        <a:pt x="445" y="125"/>
                      </a:lnTo>
                      <a:lnTo>
                        <a:pt x="451" y="125"/>
                      </a:lnTo>
                      <a:lnTo>
                        <a:pt x="462" y="125"/>
                      </a:lnTo>
                      <a:lnTo>
                        <a:pt x="468" y="119"/>
                      </a:lnTo>
                      <a:lnTo>
                        <a:pt x="473" y="113"/>
                      </a:lnTo>
                      <a:lnTo>
                        <a:pt x="479" y="106"/>
                      </a:lnTo>
                      <a:lnTo>
                        <a:pt x="479" y="100"/>
                      </a:lnTo>
                      <a:lnTo>
                        <a:pt x="473" y="94"/>
                      </a:lnTo>
                      <a:lnTo>
                        <a:pt x="473" y="88"/>
                      </a:lnTo>
                      <a:lnTo>
                        <a:pt x="468" y="81"/>
                      </a:lnTo>
                      <a:lnTo>
                        <a:pt x="462" y="75"/>
                      </a:lnTo>
                      <a:lnTo>
                        <a:pt x="456" y="69"/>
                      </a:lnTo>
                      <a:lnTo>
                        <a:pt x="456" y="63"/>
                      </a:lnTo>
                      <a:lnTo>
                        <a:pt x="451" y="50"/>
                      </a:lnTo>
                      <a:lnTo>
                        <a:pt x="451" y="31"/>
                      </a:lnTo>
                      <a:lnTo>
                        <a:pt x="451" y="12"/>
                      </a:lnTo>
                      <a:lnTo>
                        <a:pt x="451" y="0"/>
                      </a:lnTo>
                      <a:lnTo>
                        <a:pt x="456" y="0"/>
                      </a:lnTo>
                      <a:lnTo>
                        <a:pt x="462" y="0"/>
                      </a:lnTo>
                      <a:lnTo>
                        <a:pt x="468" y="0"/>
                      </a:lnTo>
                      <a:lnTo>
                        <a:pt x="473" y="6"/>
                      </a:lnTo>
                      <a:lnTo>
                        <a:pt x="479" y="6"/>
                      </a:lnTo>
                      <a:lnTo>
                        <a:pt x="484" y="6"/>
                      </a:lnTo>
                      <a:lnTo>
                        <a:pt x="490" y="12"/>
                      </a:lnTo>
                      <a:lnTo>
                        <a:pt x="490" y="12"/>
                      </a:lnTo>
                      <a:lnTo>
                        <a:pt x="496" y="19"/>
                      </a:lnTo>
                      <a:lnTo>
                        <a:pt x="501" y="25"/>
                      </a:lnTo>
                      <a:lnTo>
                        <a:pt x="501" y="31"/>
                      </a:lnTo>
                      <a:lnTo>
                        <a:pt x="501" y="38"/>
                      </a:lnTo>
                      <a:lnTo>
                        <a:pt x="507" y="44"/>
                      </a:lnTo>
                      <a:lnTo>
                        <a:pt x="507" y="56"/>
                      </a:lnTo>
                      <a:lnTo>
                        <a:pt x="513" y="56"/>
                      </a:lnTo>
                      <a:lnTo>
                        <a:pt x="518" y="63"/>
                      </a:lnTo>
                      <a:lnTo>
                        <a:pt x="518" y="69"/>
                      </a:lnTo>
                      <a:lnTo>
                        <a:pt x="524" y="69"/>
                      </a:lnTo>
                      <a:lnTo>
                        <a:pt x="530" y="75"/>
                      </a:lnTo>
                      <a:lnTo>
                        <a:pt x="535" y="75"/>
                      </a:lnTo>
                      <a:lnTo>
                        <a:pt x="541" y="75"/>
                      </a:lnTo>
                      <a:lnTo>
                        <a:pt x="546" y="81"/>
                      </a:lnTo>
                      <a:lnTo>
                        <a:pt x="558" y="81"/>
                      </a:lnTo>
                      <a:lnTo>
                        <a:pt x="563" y="88"/>
                      </a:lnTo>
                      <a:lnTo>
                        <a:pt x="569" y="88"/>
                      </a:lnTo>
                      <a:lnTo>
                        <a:pt x="575" y="88"/>
                      </a:lnTo>
                      <a:lnTo>
                        <a:pt x="580" y="88"/>
                      </a:lnTo>
                      <a:lnTo>
                        <a:pt x="586" y="94"/>
                      </a:lnTo>
                      <a:lnTo>
                        <a:pt x="592" y="94"/>
                      </a:lnTo>
                      <a:lnTo>
                        <a:pt x="597" y="94"/>
                      </a:lnTo>
                      <a:lnTo>
                        <a:pt x="603" y="94"/>
                      </a:lnTo>
                      <a:lnTo>
                        <a:pt x="608" y="94"/>
                      </a:lnTo>
                      <a:lnTo>
                        <a:pt x="620" y="94"/>
                      </a:lnTo>
                      <a:lnTo>
                        <a:pt x="625" y="94"/>
                      </a:lnTo>
                      <a:lnTo>
                        <a:pt x="637" y="94"/>
                      </a:lnTo>
                      <a:lnTo>
                        <a:pt x="642" y="94"/>
                      </a:lnTo>
                      <a:lnTo>
                        <a:pt x="654" y="94"/>
                      </a:lnTo>
                      <a:lnTo>
                        <a:pt x="659" y="94"/>
                      </a:lnTo>
                      <a:lnTo>
                        <a:pt x="670" y="94"/>
                      </a:lnTo>
                      <a:lnTo>
                        <a:pt x="676" y="94"/>
                      </a:lnTo>
                      <a:lnTo>
                        <a:pt x="687" y="94"/>
                      </a:lnTo>
                      <a:lnTo>
                        <a:pt x="693" y="94"/>
                      </a:lnTo>
                      <a:lnTo>
                        <a:pt x="704" y="94"/>
                      </a:lnTo>
                      <a:lnTo>
                        <a:pt x="710" y="94"/>
                      </a:lnTo>
                      <a:lnTo>
                        <a:pt x="721" y="94"/>
                      </a:lnTo>
                      <a:lnTo>
                        <a:pt x="727" y="94"/>
                      </a:lnTo>
                      <a:lnTo>
                        <a:pt x="738" y="88"/>
                      </a:lnTo>
                      <a:lnTo>
                        <a:pt x="744" y="88"/>
                      </a:lnTo>
                      <a:lnTo>
                        <a:pt x="755" y="88"/>
                      </a:lnTo>
                      <a:lnTo>
                        <a:pt x="761" y="81"/>
                      </a:lnTo>
                      <a:lnTo>
                        <a:pt x="772" y="81"/>
                      </a:lnTo>
                      <a:lnTo>
                        <a:pt x="778" y="75"/>
                      </a:lnTo>
                      <a:lnTo>
                        <a:pt x="789" y="69"/>
                      </a:lnTo>
                      <a:lnTo>
                        <a:pt x="800" y="63"/>
                      </a:lnTo>
                      <a:lnTo>
                        <a:pt x="806" y="63"/>
                      </a:lnTo>
                      <a:lnTo>
                        <a:pt x="817" y="56"/>
                      </a:lnTo>
                      <a:lnTo>
                        <a:pt x="817" y="63"/>
                      </a:lnTo>
                      <a:lnTo>
                        <a:pt x="823" y="63"/>
                      </a:lnTo>
                      <a:lnTo>
                        <a:pt x="823" y="69"/>
                      </a:lnTo>
                      <a:lnTo>
                        <a:pt x="828" y="69"/>
                      </a:lnTo>
                      <a:lnTo>
                        <a:pt x="828" y="75"/>
                      </a:lnTo>
                      <a:lnTo>
                        <a:pt x="834" y="81"/>
                      </a:lnTo>
                      <a:lnTo>
                        <a:pt x="834" y="81"/>
                      </a:lnTo>
                      <a:lnTo>
                        <a:pt x="840" y="88"/>
                      </a:lnTo>
                      <a:lnTo>
                        <a:pt x="845" y="88"/>
                      </a:lnTo>
                      <a:lnTo>
                        <a:pt x="845" y="94"/>
                      </a:lnTo>
                      <a:lnTo>
                        <a:pt x="851" y="100"/>
                      </a:lnTo>
                      <a:lnTo>
                        <a:pt x="856" y="100"/>
                      </a:lnTo>
                      <a:lnTo>
                        <a:pt x="862" y="106"/>
                      </a:lnTo>
                      <a:lnTo>
                        <a:pt x="862" y="113"/>
                      </a:lnTo>
                      <a:lnTo>
                        <a:pt x="868" y="113"/>
                      </a:lnTo>
                      <a:lnTo>
                        <a:pt x="873" y="119"/>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rot="1341000">
                  <a:off x="2085840" y="2569680"/>
                  <a:ext cx="139680" cy="87120"/>
                </a:xfrm>
                <a:custGeom>
                  <a:avLst/>
                  <a:gdLst/>
                  <a:ahLst/>
                  <a:rect l="l" t="t" r="r" b="b"/>
                  <a:pathLst>
                    <a:path w="101" h="82">
                      <a:moveTo>
                        <a:pt x="17" y="0"/>
                      </a:moveTo>
                      <a:lnTo>
                        <a:pt x="11" y="6"/>
                      </a:lnTo>
                      <a:lnTo>
                        <a:pt x="5" y="13"/>
                      </a:lnTo>
                      <a:lnTo>
                        <a:pt x="0" y="19"/>
                      </a:lnTo>
                      <a:lnTo>
                        <a:pt x="0" y="31"/>
                      </a:lnTo>
                      <a:lnTo>
                        <a:pt x="0" y="38"/>
                      </a:lnTo>
                      <a:lnTo>
                        <a:pt x="0" y="50"/>
                      </a:lnTo>
                      <a:lnTo>
                        <a:pt x="0" y="57"/>
                      </a:lnTo>
                      <a:lnTo>
                        <a:pt x="5" y="63"/>
                      </a:lnTo>
                      <a:lnTo>
                        <a:pt x="5" y="69"/>
                      </a:lnTo>
                      <a:lnTo>
                        <a:pt x="17" y="75"/>
                      </a:lnTo>
                      <a:lnTo>
                        <a:pt x="28" y="82"/>
                      </a:lnTo>
                      <a:lnTo>
                        <a:pt x="39" y="82"/>
                      </a:lnTo>
                      <a:lnTo>
                        <a:pt x="50" y="82"/>
                      </a:lnTo>
                      <a:lnTo>
                        <a:pt x="67" y="82"/>
                      </a:lnTo>
                      <a:lnTo>
                        <a:pt x="79" y="82"/>
                      </a:lnTo>
                      <a:lnTo>
                        <a:pt x="84" y="75"/>
                      </a:lnTo>
                      <a:lnTo>
                        <a:pt x="90" y="75"/>
                      </a:lnTo>
                      <a:lnTo>
                        <a:pt x="96" y="69"/>
                      </a:lnTo>
                      <a:lnTo>
                        <a:pt x="101" y="63"/>
                      </a:lnTo>
                      <a:lnTo>
                        <a:pt x="101" y="57"/>
                      </a:lnTo>
                      <a:lnTo>
                        <a:pt x="101" y="44"/>
                      </a:lnTo>
                      <a:lnTo>
                        <a:pt x="101" y="38"/>
                      </a:lnTo>
                      <a:lnTo>
                        <a:pt x="96" y="31"/>
                      </a:lnTo>
                      <a:lnTo>
                        <a:pt x="96" y="19"/>
                      </a:lnTo>
                      <a:lnTo>
                        <a:pt x="90" y="13"/>
                      </a:lnTo>
                      <a:lnTo>
                        <a:pt x="84" y="6"/>
                      </a:lnTo>
                      <a:lnTo>
                        <a:pt x="73" y="6"/>
                      </a:lnTo>
                      <a:lnTo>
                        <a:pt x="62" y="0"/>
                      </a:lnTo>
                      <a:lnTo>
                        <a:pt x="50" y="0"/>
                      </a:lnTo>
                      <a:lnTo>
                        <a:pt x="34" y="0"/>
                      </a:lnTo>
                      <a:lnTo>
                        <a:pt x="22" y="0"/>
                      </a:lnTo>
                      <a:lnTo>
                        <a:pt x="17" y="0"/>
                      </a:lnTo>
                      <a:close/>
                    </a:path>
                  </a:pathLst>
                </a:custGeom>
                <a:solidFill>
                  <a:srgbClr val="ffffff"/>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341000">
                  <a:off x="1785960" y="2580840"/>
                  <a:ext cx="264960" cy="108000"/>
                </a:xfrm>
                <a:custGeom>
                  <a:avLst/>
                  <a:gdLst/>
                  <a:ahLst/>
                  <a:rect l="l" t="t" r="r" b="b"/>
                  <a:pathLst>
                    <a:path w="192" h="101">
                      <a:moveTo>
                        <a:pt x="141" y="38"/>
                      </a:moveTo>
                      <a:lnTo>
                        <a:pt x="136" y="38"/>
                      </a:lnTo>
                      <a:lnTo>
                        <a:pt x="130" y="38"/>
                      </a:lnTo>
                      <a:lnTo>
                        <a:pt x="124" y="32"/>
                      </a:lnTo>
                      <a:lnTo>
                        <a:pt x="119" y="32"/>
                      </a:lnTo>
                      <a:lnTo>
                        <a:pt x="113" y="25"/>
                      </a:lnTo>
                      <a:lnTo>
                        <a:pt x="108" y="25"/>
                      </a:lnTo>
                      <a:lnTo>
                        <a:pt x="102" y="25"/>
                      </a:lnTo>
                      <a:lnTo>
                        <a:pt x="96" y="19"/>
                      </a:lnTo>
                      <a:lnTo>
                        <a:pt x="85" y="19"/>
                      </a:lnTo>
                      <a:lnTo>
                        <a:pt x="79" y="13"/>
                      </a:lnTo>
                      <a:lnTo>
                        <a:pt x="74" y="13"/>
                      </a:lnTo>
                      <a:lnTo>
                        <a:pt x="68" y="6"/>
                      </a:lnTo>
                      <a:lnTo>
                        <a:pt x="62" y="6"/>
                      </a:lnTo>
                      <a:lnTo>
                        <a:pt x="57" y="6"/>
                      </a:lnTo>
                      <a:lnTo>
                        <a:pt x="46" y="0"/>
                      </a:lnTo>
                      <a:lnTo>
                        <a:pt x="40" y="6"/>
                      </a:lnTo>
                      <a:lnTo>
                        <a:pt x="34" y="6"/>
                      </a:lnTo>
                      <a:lnTo>
                        <a:pt x="29" y="13"/>
                      </a:lnTo>
                      <a:lnTo>
                        <a:pt x="17" y="13"/>
                      </a:lnTo>
                      <a:lnTo>
                        <a:pt x="12" y="19"/>
                      </a:lnTo>
                      <a:lnTo>
                        <a:pt x="6" y="25"/>
                      </a:lnTo>
                      <a:lnTo>
                        <a:pt x="6" y="32"/>
                      </a:lnTo>
                      <a:lnTo>
                        <a:pt x="0" y="38"/>
                      </a:lnTo>
                      <a:lnTo>
                        <a:pt x="0" y="50"/>
                      </a:lnTo>
                      <a:lnTo>
                        <a:pt x="6" y="57"/>
                      </a:lnTo>
                      <a:lnTo>
                        <a:pt x="12" y="69"/>
                      </a:lnTo>
                      <a:lnTo>
                        <a:pt x="17" y="75"/>
                      </a:lnTo>
                      <a:lnTo>
                        <a:pt x="29" y="82"/>
                      </a:lnTo>
                      <a:lnTo>
                        <a:pt x="34" y="88"/>
                      </a:lnTo>
                      <a:lnTo>
                        <a:pt x="46" y="94"/>
                      </a:lnTo>
                      <a:lnTo>
                        <a:pt x="51" y="101"/>
                      </a:lnTo>
                      <a:lnTo>
                        <a:pt x="62" y="101"/>
                      </a:lnTo>
                      <a:lnTo>
                        <a:pt x="74" y="101"/>
                      </a:lnTo>
                      <a:lnTo>
                        <a:pt x="79" y="101"/>
                      </a:lnTo>
                      <a:lnTo>
                        <a:pt x="91" y="94"/>
                      </a:lnTo>
                      <a:lnTo>
                        <a:pt x="96" y="94"/>
                      </a:lnTo>
                      <a:lnTo>
                        <a:pt x="102" y="88"/>
                      </a:lnTo>
                      <a:lnTo>
                        <a:pt x="113" y="88"/>
                      </a:lnTo>
                      <a:lnTo>
                        <a:pt x="119" y="82"/>
                      </a:lnTo>
                      <a:lnTo>
                        <a:pt x="130" y="75"/>
                      </a:lnTo>
                      <a:lnTo>
                        <a:pt x="136" y="75"/>
                      </a:lnTo>
                      <a:lnTo>
                        <a:pt x="141" y="69"/>
                      </a:lnTo>
                      <a:lnTo>
                        <a:pt x="153" y="63"/>
                      </a:lnTo>
                      <a:lnTo>
                        <a:pt x="158" y="63"/>
                      </a:lnTo>
                      <a:lnTo>
                        <a:pt x="170" y="57"/>
                      </a:lnTo>
                      <a:lnTo>
                        <a:pt x="175" y="50"/>
                      </a:lnTo>
                      <a:lnTo>
                        <a:pt x="181" y="50"/>
                      </a:lnTo>
                      <a:lnTo>
                        <a:pt x="192" y="44"/>
                      </a:lnTo>
                      <a:lnTo>
                        <a:pt x="186" y="44"/>
                      </a:lnTo>
                      <a:lnTo>
                        <a:pt x="181" y="44"/>
                      </a:lnTo>
                      <a:lnTo>
                        <a:pt x="175" y="44"/>
                      </a:lnTo>
                      <a:lnTo>
                        <a:pt x="164" y="44"/>
                      </a:lnTo>
                      <a:lnTo>
                        <a:pt x="158" y="44"/>
                      </a:lnTo>
                      <a:lnTo>
                        <a:pt x="153" y="44"/>
                      </a:lnTo>
                      <a:lnTo>
                        <a:pt x="147" y="38"/>
                      </a:lnTo>
                      <a:lnTo>
                        <a:pt x="141" y="3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
              <p:cNvGrpSpPr/>
              <p:nvPr/>
            </p:nvGrpSpPr>
            <p:grpSpPr>
              <a:xfrm>
                <a:off x="6228360" y="804960"/>
                <a:ext cx="3129840" cy="2660040"/>
                <a:chOff x="6228360" y="804960"/>
                <a:chExt cx="3129840" cy="2660040"/>
              </a:xfrm>
            </p:grpSpPr>
            <p:sp>
              <p:nvSpPr>
                <p:cNvPr id="191" name=""/>
                <p:cNvSpPr/>
                <p:nvPr/>
              </p:nvSpPr>
              <p:spPr>
                <a:xfrm rot="19940400">
                  <a:off x="6442200" y="1341360"/>
                  <a:ext cx="2701800" cy="1587240"/>
                </a:xfrm>
                <a:custGeom>
                  <a:avLst/>
                  <a:gdLst/>
                  <a:ahLst/>
                  <a:rect l="l" t="t" r="r" b="b"/>
                  <a:pathLst>
                    <a:path w="2023" h="1467">
                      <a:moveTo>
                        <a:pt x="112" y="226"/>
                      </a:moveTo>
                      <a:lnTo>
                        <a:pt x="112" y="226"/>
                      </a:lnTo>
                      <a:lnTo>
                        <a:pt x="107" y="213"/>
                      </a:lnTo>
                      <a:lnTo>
                        <a:pt x="107" y="207"/>
                      </a:lnTo>
                      <a:lnTo>
                        <a:pt x="107" y="194"/>
                      </a:lnTo>
                      <a:lnTo>
                        <a:pt x="112" y="182"/>
                      </a:lnTo>
                      <a:lnTo>
                        <a:pt x="107" y="176"/>
                      </a:lnTo>
                      <a:lnTo>
                        <a:pt x="107" y="163"/>
                      </a:lnTo>
                      <a:lnTo>
                        <a:pt x="101" y="163"/>
                      </a:lnTo>
                      <a:lnTo>
                        <a:pt x="112" y="151"/>
                      </a:lnTo>
                      <a:lnTo>
                        <a:pt x="118" y="138"/>
                      </a:lnTo>
                      <a:lnTo>
                        <a:pt x="124" y="126"/>
                      </a:lnTo>
                      <a:lnTo>
                        <a:pt x="129" y="119"/>
                      </a:lnTo>
                      <a:lnTo>
                        <a:pt x="129" y="113"/>
                      </a:lnTo>
                      <a:lnTo>
                        <a:pt x="135" y="107"/>
                      </a:lnTo>
                      <a:lnTo>
                        <a:pt x="146" y="94"/>
                      </a:lnTo>
                      <a:lnTo>
                        <a:pt x="157" y="88"/>
                      </a:lnTo>
                      <a:lnTo>
                        <a:pt x="169" y="82"/>
                      </a:lnTo>
                      <a:lnTo>
                        <a:pt x="174" y="75"/>
                      </a:lnTo>
                      <a:lnTo>
                        <a:pt x="186" y="75"/>
                      </a:lnTo>
                      <a:lnTo>
                        <a:pt x="197" y="75"/>
                      </a:lnTo>
                      <a:lnTo>
                        <a:pt x="203" y="69"/>
                      </a:lnTo>
                      <a:lnTo>
                        <a:pt x="214" y="69"/>
                      </a:lnTo>
                      <a:lnTo>
                        <a:pt x="225" y="69"/>
                      </a:lnTo>
                      <a:lnTo>
                        <a:pt x="236" y="69"/>
                      </a:lnTo>
                      <a:lnTo>
                        <a:pt x="248" y="69"/>
                      </a:lnTo>
                      <a:lnTo>
                        <a:pt x="253" y="69"/>
                      </a:lnTo>
                      <a:lnTo>
                        <a:pt x="265" y="63"/>
                      </a:lnTo>
                      <a:lnTo>
                        <a:pt x="276" y="63"/>
                      </a:lnTo>
                      <a:lnTo>
                        <a:pt x="287" y="63"/>
                      </a:lnTo>
                      <a:lnTo>
                        <a:pt x="298" y="63"/>
                      </a:lnTo>
                      <a:lnTo>
                        <a:pt x="304" y="63"/>
                      </a:lnTo>
                      <a:lnTo>
                        <a:pt x="315" y="57"/>
                      </a:lnTo>
                      <a:lnTo>
                        <a:pt x="327" y="57"/>
                      </a:lnTo>
                      <a:lnTo>
                        <a:pt x="332" y="50"/>
                      </a:lnTo>
                      <a:lnTo>
                        <a:pt x="338" y="50"/>
                      </a:lnTo>
                      <a:lnTo>
                        <a:pt x="349" y="44"/>
                      </a:lnTo>
                      <a:lnTo>
                        <a:pt x="355" y="44"/>
                      </a:lnTo>
                      <a:lnTo>
                        <a:pt x="366" y="38"/>
                      </a:lnTo>
                      <a:lnTo>
                        <a:pt x="372" y="38"/>
                      </a:lnTo>
                      <a:lnTo>
                        <a:pt x="377" y="31"/>
                      </a:lnTo>
                      <a:lnTo>
                        <a:pt x="389" y="25"/>
                      </a:lnTo>
                      <a:lnTo>
                        <a:pt x="394" y="25"/>
                      </a:lnTo>
                      <a:lnTo>
                        <a:pt x="400" y="19"/>
                      </a:lnTo>
                      <a:lnTo>
                        <a:pt x="411" y="19"/>
                      </a:lnTo>
                      <a:lnTo>
                        <a:pt x="417" y="13"/>
                      </a:lnTo>
                      <a:lnTo>
                        <a:pt x="428" y="13"/>
                      </a:lnTo>
                      <a:lnTo>
                        <a:pt x="434" y="6"/>
                      </a:lnTo>
                      <a:lnTo>
                        <a:pt x="439" y="6"/>
                      </a:lnTo>
                      <a:lnTo>
                        <a:pt x="451" y="6"/>
                      </a:lnTo>
                      <a:lnTo>
                        <a:pt x="462" y="6"/>
                      </a:lnTo>
                      <a:lnTo>
                        <a:pt x="467" y="6"/>
                      </a:lnTo>
                      <a:lnTo>
                        <a:pt x="479" y="6"/>
                      </a:lnTo>
                      <a:lnTo>
                        <a:pt x="490" y="6"/>
                      </a:lnTo>
                      <a:lnTo>
                        <a:pt x="496" y="6"/>
                      </a:lnTo>
                      <a:lnTo>
                        <a:pt x="507" y="6"/>
                      </a:lnTo>
                      <a:lnTo>
                        <a:pt x="518" y="13"/>
                      </a:lnTo>
                      <a:lnTo>
                        <a:pt x="524" y="13"/>
                      </a:lnTo>
                      <a:lnTo>
                        <a:pt x="535" y="13"/>
                      </a:lnTo>
                      <a:lnTo>
                        <a:pt x="546" y="13"/>
                      </a:lnTo>
                      <a:lnTo>
                        <a:pt x="552" y="13"/>
                      </a:lnTo>
                      <a:lnTo>
                        <a:pt x="563" y="19"/>
                      </a:lnTo>
                      <a:lnTo>
                        <a:pt x="575" y="19"/>
                      </a:lnTo>
                      <a:lnTo>
                        <a:pt x="580" y="19"/>
                      </a:lnTo>
                      <a:lnTo>
                        <a:pt x="591" y="19"/>
                      </a:lnTo>
                      <a:lnTo>
                        <a:pt x="597" y="19"/>
                      </a:lnTo>
                      <a:lnTo>
                        <a:pt x="603" y="19"/>
                      </a:lnTo>
                      <a:lnTo>
                        <a:pt x="614" y="19"/>
                      </a:lnTo>
                      <a:lnTo>
                        <a:pt x="620" y="19"/>
                      </a:lnTo>
                      <a:lnTo>
                        <a:pt x="625" y="19"/>
                      </a:lnTo>
                      <a:lnTo>
                        <a:pt x="631" y="19"/>
                      </a:lnTo>
                      <a:lnTo>
                        <a:pt x="637" y="19"/>
                      </a:lnTo>
                      <a:lnTo>
                        <a:pt x="648" y="19"/>
                      </a:lnTo>
                      <a:lnTo>
                        <a:pt x="653" y="19"/>
                      </a:lnTo>
                      <a:lnTo>
                        <a:pt x="659" y="19"/>
                      </a:lnTo>
                      <a:lnTo>
                        <a:pt x="665" y="19"/>
                      </a:lnTo>
                      <a:lnTo>
                        <a:pt x="670" y="19"/>
                      </a:lnTo>
                      <a:lnTo>
                        <a:pt x="682" y="19"/>
                      </a:lnTo>
                      <a:lnTo>
                        <a:pt x="687" y="13"/>
                      </a:lnTo>
                      <a:lnTo>
                        <a:pt x="693" y="13"/>
                      </a:lnTo>
                      <a:lnTo>
                        <a:pt x="699" y="13"/>
                      </a:lnTo>
                      <a:lnTo>
                        <a:pt x="704" y="13"/>
                      </a:lnTo>
                      <a:lnTo>
                        <a:pt x="715" y="13"/>
                      </a:lnTo>
                      <a:lnTo>
                        <a:pt x="721" y="13"/>
                      </a:lnTo>
                      <a:lnTo>
                        <a:pt x="727" y="13"/>
                      </a:lnTo>
                      <a:lnTo>
                        <a:pt x="732" y="13"/>
                      </a:lnTo>
                      <a:lnTo>
                        <a:pt x="738" y="6"/>
                      </a:lnTo>
                      <a:lnTo>
                        <a:pt x="744" y="6"/>
                      </a:lnTo>
                      <a:lnTo>
                        <a:pt x="755" y="6"/>
                      </a:lnTo>
                      <a:lnTo>
                        <a:pt x="761" y="6"/>
                      </a:lnTo>
                      <a:lnTo>
                        <a:pt x="766" y="6"/>
                      </a:lnTo>
                      <a:lnTo>
                        <a:pt x="772" y="0"/>
                      </a:lnTo>
                      <a:lnTo>
                        <a:pt x="777" y="0"/>
                      </a:lnTo>
                      <a:lnTo>
                        <a:pt x="783" y="0"/>
                      </a:lnTo>
                      <a:lnTo>
                        <a:pt x="794" y="0"/>
                      </a:lnTo>
                      <a:lnTo>
                        <a:pt x="800" y="0"/>
                      </a:lnTo>
                      <a:lnTo>
                        <a:pt x="806" y="0"/>
                      </a:lnTo>
                      <a:lnTo>
                        <a:pt x="817" y="0"/>
                      </a:lnTo>
                      <a:lnTo>
                        <a:pt x="828" y="6"/>
                      </a:lnTo>
                      <a:lnTo>
                        <a:pt x="834" y="6"/>
                      </a:lnTo>
                      <a:lnTo>
                        <a:pt x="845" y="13"/>
                      </a:lnTo>
                      <a:lnTo>
                        <a:pt x="856" y="13"/>
                      </a:lnTo>
                      <a:lnTo>
                        <a:pt x="868" y="19"/>
                      </a:lnTo>
                      <a:lnTo>
                        <a:pt x="873" y="25"/>
                      </a:lnTo>
                      <a:lnTo>
                        <a:pt x="885" y="31"/>
                      </a:lnTo>
                      <a:lnTo>
                        <a:pt x="901" y="38"/>
                      </a:lnTo>
                      <a:lnTo>
                        <a:pt x="913" y="44"/>
                      </a:lnTo>
                      <a:lnTo>
                        <a:pt x="930" y="57"/>
                      </a:lnTo>
                      <a:lnTo>
                        <a:pt x="947" y="63"/>
                      </a:lnTo>
                      <a:lnTo>
                        <a:pt x="963" y="69"/>
                      </a:lnTo>
                      <a:lnTo>
                        <a:pt x="975" y="75"/>
                      </a:lnTo>
                      <a:lnTo>
                        <a:pt x="992" y="88"/>
                      </a:lnTo>
                      <a:lnTo>
                        <a:pt x="1009" y="94"/>
                      </a:lnTo>
                      <a:lnTo>
                        <a:pt x="1020" y="100"/>
                      </a:lnTo>
                      <a:lnTo>
                        <a:pt x="1037" y="107"/>
                      </a:lnTo>
                      <a:lnTo>
                        <a:pt x="1054" y="119"/>
                      </a:lnTo>
                      <a:lnTo>
                        <a:pt x="1065" y="126"/>
                      </a:lnTo>
                      <a:lnTo>
                        <a:pt x="1082" y="132"/>
                      </a:lnTo>
                      <a:lnTo>
                        <a:pt x="1099" y="144"/>
                      </a:lnTo>
                      <a:lnTo>
                        <a:pt x="1110" y="151"/>
                      </a:lnTo>
                      <a:lnTo>
                        <a:pt x="1127" y="157"/>
                      </a:lnTo>
                      <a:lnTo>
                        <a:pt x="1144" y="169"/>
                      </a:lnTo>
                      <a:lnTo>
                        <a:pt x="1155" y="176"/>
                      </a:lnTo>
                      <a:lnTo>
                        <a:pt x="1172" y="182"/>
                      </a:lnTo>
                      <a:lnTo>
                        <a:pt x="1189" y="194"/>
                      </a:lnTo>
                      <a:lnTo>
                        <a:pt x="1200" y="201"/>
                      </a:lnTo>
                      <a:lnTo>
                        <a:pt x="1217" y="207"/>
                      </a:lnTo>
                      <a:lnTo>
                        <a:pt x="1234" y="213"/>
                      </a:lnTo>
                      <a:lnTo>
                        <a:pt x="1245" y="226"/>
                      </a:lnTo>
                      <a:lnTo>
                        <a:pt x="1262" y="232"/>
                      </a:lnTo>
                      <a:lnTo>
                        <a:pt x="1279" y="238"/>
                      </a:lnTo>
                      <a:lnTo>
                        <a:pt x="1290" y="251"/>
                      </a:lnTo>
                      <a:lnTo>
                        <a:pt x="1307" y="257"/>
                      </a:lnTo>
                      <a:lnTo>
                        <a:pt x="1324" y="263"/>
                      </a:lnTo>
                      <a:lnTo>
                        <a:pt x="1335" y="270"/>
                      </a:lnTo>
                      <a:lnTo>
                        <a:pt x="1352" y="282"/>
                      </a:lnTo>
                      <a:lnTo>
                        <a:pt x="1369" y="289"/>
                      </a:lnTo>
                      <a:lnTo>
                        <a:pt x="1380" y="295"/>
                      </a:lnTo>
                      <a:lnTo>
                        <a:pt x="1392" y="301"/>
                      </a:lnTo>
                      <a:lnTo>
                        <a:pt x="1403" y="307"/>
                      </a:lnTo>
                      <a:lnTo>
                        <a:pt x="1414" y="314"/>
                      </a:lnTo>
                      <a:lnTo>
                        <a:pt x="1431" y="320"/>
                      </a:lnTo>
                      <a:lnTo>
                        <a:pt x="1442" y="326"/>
                      </a:lnTo>
                      <a:lnTo>
                        <a:pt x="1454" y="332"/>
                      </a:lnTo>
                      <a:lnTo>
                        <a:pt x="1465" y="339"/>
                      </a:lnTo>
                      <a:lnTo>
                        <a:pt x="1476" y="345"/>
                      </a:lnTo>
                      <a:lnTo>
                        <a:pt x="1493" y="351"/>
                      </a:lnTo>
                      <a:lnTo>
                        <a:pt x="1504" y="358"/>
                      </a:lnTo>
                      <a:lnTo>
                        <a:pt x="1516" y="358"/>
                      </a:lnTo>
                      <a:lnTo>
                        <a:pt x="1527" y="364"/>
                      </a:lnTo>
                      <a:lnTo>
                        <a:pt x="1538" y="370"/>
                      </a:lnTo>
                      <a:lnTo>
                        <a:pt x="1555" y="376"/>
                      </a:lnTo>
                      <a:lnTo>
                        <a:pt x="1566" y="383"/>
                      </a:lnTo>
                      <a:lnTo>
                        <a:pt x="1572" y="383"/>
                      </a:lnTo>
                      <a:lnTo>
                        <a:pt x="1578" y="389"/>
                      </a:lnTo>
                      <a:lnTo>
                        <a:pt x="1589" y="389"/>
                      </a:lnTo>
                      <a:lnTo>
                        <a:pt x="1595" y="389"/>
                      </a:lnTo>
                      <a:lnTo>
                        <a:pt x="1600" y="389"/>
                      </a:lnTo>
                      <a:lnTo>
                        <a:pt x="1606" y="389"/>
                      </a:lnTo>
                      <a:lnTo>
                        <a:pt x="1617" y="389"/>
                      </a:lnTo>
                      <a:lnTo>
                        <a:pt x="1623" y="395"/>
                      </a:lnTo>
                      <a:lnTo>
                        <a:pt x="1634" y="401"/>
                      </a:lnTo>
                      <a:lnTo>
                        <a:pt x="1645" y="401"/>
                      </a:lnTo>
                      <a:lnTo>
                        <a:pt x="1662" y="408"/>
                      </a:lnTo>
                      <a:lnTo>
                        <a:pt x="1674" y="414"/>
                      </a:lnTo>
                      <a:lnTo>
                        <a:pt x="1685" y="420"/>
                      </a:lnTo>
                      <a:lnTo>
                        <a:pt x="1696" y="427"/>
                      </a:lnTo>
                      <a:lnTo>
                        <a:pt x="1713" y="433"/>
                      </a:lnTo>
                      <a:lnTo>
                        <a:pt x="1724" y="439"/>
                      </a:lnTo>
                      <a:lnTo>
                        <a:pt x="1736" y="445"/>
                      </a:lnTo>
                      <a:lnTo>
                        <a:pt x="1747" y="452"/>
                      </a:lnTo>
                      <a:lnTo>
                        <a:pt x="1758" y="458"/>
                      </a:lnTo>
                      <a:lnTo>
                        <a:pt x="1775" y="464"/>
                      </a:lnTo>
                      <a:lnTo>
                        <a:pt x="1786" y="470"/>
                      </a:lnTo>
                      <a:lnTo>
                        <a:pt x="1798" y="477"/>
                      </a:lnTo>
                      <a:lnTo>
                        <a:pt x="1809" y="483"/>
                      </a:lnTo>
                      <a:lnTo>
                        <a:pt x="1820" y="489"/>
                      </a:lnTo>
                      <a:lnTo>
                        <a:pt x="1837" y="495"/>
                      </a:lnTo>
                      <a:lnTo>
                        <a:pt x="1848" y="502"/>
                      </a:lnTo>
                      <a:lnTo>
                        <a:pt x="1860" y="502"/>
                      </a:lnTo>
                      <a:lnTo>
                        <a:pt x="1871" y="508"/>
                      </a:lnTo>
                      <a:lnTo>
                        <a:pt x="1888" y="514"/>
                      </a:lnTo>
                      <a:lnTo>
                        <a:pt x="1899" y="521"/>
                      </a:lnTo>
                      <a:lnTo>
                        <a:pt x="1910" y="527"/>
                      </a:lnTo>
                      <a:lnTo>
                        <a:pt x="1922" y="533"/>
                      </a:lnTo>
                      <a:lnTo>
                        <a:pt x="1933" y="539"/>
                      </a:lnTo>
                      <a:lnTo>
                        <a:pt x="1950" y="546"/>
                      </a:lnTo>
                      <a:lnTo>
                        <a:pt x="1961" y="552"/>
                      </a:lnTo>
                      <a:lnTo>
                        <a:pt x="1972" y="558"/>
                      </a:lnTo>
                      <a:lnTo>
                        <a:pt x="1984" y="564"/>
                      </a:lnTo>
                      <a:lnTo>
                        <a:pt x="2000" y="571"/>
                      </a:lnTo>
                      <a:lnTo>
                        <a:pt x="2012" y="577"/>
                      </a:lnTo>
                      <a:lnTo>
                        <a:pt x="2023" y="583"/>
                      </a:lnTo>
                      <a:lnTo>
                        <a:pt x="2006" y="640"/>
                      </a:lnTo>
                      <a:lnTo>
                        <a:pt x="1984" y="696"/>
                      </a:lnTo>
                      <a:lnTo>
                        <a:pt x="1967" y="746"/>
                      </a:lnTo>
                      <a:lnTo>
                        <a:pt x="1944" y="803"/>
                      </a:lnTo>
                      <a:lnTo>
                        <a:pt x="1927" y="859"/>
                      </a:lnTo>
                      <a:lnTo>
                        <a:pt x="1905" y="916"/>
                      </a:lnTo>
                      <a:lnTo>
                        <a:pt x="1888" y="972"/>
                      </a:lnTo>
                      <a:lnTo>
                        <a:pt x="1865" y="1022"/>
                      </a:lnTo>
                      <a:lnTo>
                        <a:pt x="1848" y="1079"/>
                      </a:lnTo>
                      <a:lnTo>
                        <a:pt x="1826" y="1135"/>
                      </a:lnTo>
                      <a:lnTo>
                        <a:pt x="1809" y="1192"/>
                      </a:lnTo>
                      <a:lnTo>
                        <a:pt x="1786" y="1242"/>
                      </a:lnTo>
                      <a:lnTo>
                        <a:pt x="1769" y="1298"/>
                      </a:lnTo>
                      <a:lnTo>
                        <a:pt x="1747" y="1355"/>
                      </a:lnTo>
                      <a:lnTo>
                        <a:pt x="1730" y="1411"/>
                      </a:lnTo>
                      <a:lnTo>
                        <a:pt x="1707" y="1467"/>
                      </a:lnTo>
                      <a:lnTo>
                        <a:pt x="1702" y="1455"/>
                      </a:lnTo>
                      <a:lnTo>
                        <a:pt x="1696" y="1442"/>
                      </a:lnTo>
                      <a:lnTo>
                        <a:pt x="1690" y="1430"/>
                      </a:lnTo>
                      <a:lnTo>
                        <a:pt x="1679" y="1417"/>
                      </a:lnTo>
                      <a:lnTo>
                        <a:pt x="1674" y="1405"/>
                      </a:lnTo>
                      <a:lnTo>
                        <a:pt x="1668" y="1392"/>
                      </a:lnTo>
                      <a:lnTo>
                        <a:pt x="1662" y="1380"/>
                      </a:lnTo>
                      <a:lnTo>
                        <a:pt x="1657" y="1367"/>
                      </a:lnTo>
                      <a:lnTo>
                        <a:pt x="1645" y="1367"/>
                      </a:lnTo>
                      <a:lnTo>
                        <a:pt x="1640" y="1367"/>
                      </a:lnTo>
                      <a:lnTo>
                        <a:pt x="1628" y="1367"/>
                      </a:lnTo>
                      <a:lnTo>
                        <a:pt x="1617" y="1367"/>
                      </a:lnTo>
                      <a:lnTo>
                        <a:pt x="1612" y="1367"/>
                      </a:lnTo>
                      <a:lnTo>
                        <a:pt x="1600" y="1367"/>
                      </a:lnTo>
                      <a:lnTo>
                        <a:pt x="1595" y="1367"/>
                      </a:lnTo>
                      <a:lnTo>
                        <a:pt x="1583" y="1367"/>
                      </a:lnTo>
                      <a:lnTo>
                        <a:pt x="1578" y="1367"/>
                      </a:lnTo>
                      <a:lnTo>
                        <a:pt x="1566" y="1373"/>
                      </a:lnTo>
                      <a:lnTo>
                        <a:pt x="1561" y="1373"/>
                      </a:lnTo>
                      <a:lnTo>
                        <a:pt x="1550" y="1367"/>
                      </a:lnTo>
                      <a:lnTo>
                        <a:pt x="1544" y="1367"/>
                      </a:lnTo>
                      <a:lnTo>
                        <a:pt x="1533" y="1367"/>
                      </a:lnTo>
                      <a:lnTo>
                        <a:pt x="1527" y="1367"/>
                      </a:lnTo>
                      <a:lnTo>
                        <a:pt x="1516" y="1367"/>
                      </a:lnTo>
                      <a:lnTo>
                        <a:pt x="1504" y="1367"/>
                      </a:lnTo>
                      <a:lnTo>
                        <a:pt x="1493" y="1367"/>
                      </a:lnTo>
                      <a:lnTo>
                        <a:pt x="1476" y="1361"/>
                      </a:lnTo>
                      <a:lnTo>
                        <a:pt x="1465" y="1361"/>
                      </a:lnTo>
                      <a:lnTo>
                        <a:pt x="1454" y="1361"/>
                      </a:lnTo>
                      <a:lnTo>
                        <a:pt x="1437" y="1355"/>
                      </a:lnTo>
                      <a:lnTo>
                        <a:pt x="1426" y="1355"/>
                      </a:lnTo>
                      <a:lnTo>
                        <a:pt x="1409" y="1355"/>
                      </a:lnTo>
                      <a:lnTo>
                        <a:pt x="1397" y="1348"/>
                      </a:lnTo>
                      <a:lnTo>
                        <a:pt x="1386" y="1348"/>
                      </a:lnTo>
                      <a:lnTo>
                        <a:pt x="1369" y="1342"/>
                      </a:lnTo>
                      <a:lnTo>
                        <a:pt x="1358" y="1342"/>
                      </a:lnTo>
                      <a:lnTo>
                        <a:pt x="1347" y="1342"/>
                      </a:lnTo>
                      <a:lnTo>
                        <a:pt x="1330" y="1336"/>
                      </a:lnTo>
                      <a:lnTo>
                        <a:pt x="1318" y="1330"/>
                      </a:lnTo>
                      <a:lnTo>
                        <a:pt x="1307" y="1330"/>
                      </a:lnTo>
                      <a:lnTo>
                        <a:pt x="1296" y="1323"/>
                      </a:lnTo>
                      <a:lnTo>
                        <a:pt x="1279" y="1317"/>
                      </a:lnTo>
                      <a:lnTo>
                        <a:pt x="1268" y="1311"/>
                      </a:lnTo>
                      <a:lnTo>
                        <a:pt x="1257" y="1311"/>
                      </a:lnTo>
                      <a:lnTo>
                        <a:pt x="1240" y="1304"/>
                      </a:lnTo>
                      <a:lnTo>
                        <a:pt x="1228" y="1298"/>
                      </a:lnTo>
                      <a:lnTo>
                        <a:pt x="1217" y="1292"/>
                      </a:lnTo>
                      <a:lnTo>
                        <a:pt x="1206" y="1286"/>
                      </a:lnTo>
                      <a:lnTo>
                        <a:pt x="1195" y="1279"/>
                      </a:lnTo>
                      <a:lnTo>
                        <a:pt x="1178" y="1273"/>
                      </a:lnTo>
                      <a:lnTo>
                        <a:pt x="1166" y="1267"/>
                      </a:lnTo>
                      <a:lnTo>
                        <a:pt x="1155" y="1261"/>
                      </a:lnTo>
                      <a:lnTo>
                        <a:pt x="1144" y="1254"/>
                      </a:lnTo>
                      <a:lnTo>
                        <a:pt x="1133" y="1248"/>
                      </a:lnTo>
                      <a:lnTo>
                        <a:pt x="1121" y="1242"/>
                      </a:lnTo>
                      <a:lnTo>
                        <a:pt x="1110" y="1235"/>
                      </a:lnTo>
                      <a:lnTo>
                        <a:pt x="1099" y="1229"/>
                      </a:lnTo>
                      <a:lnTo>
                        <a:pt x="1093" y="1223"/>
                      </a:lnTo>
                      <a:lnTo>
                        <a:pt x="1087" y="1217"/>
                      </a:lnTo>
                      <a:lnTo>
                        <a:pt x="1076" y="1210"/>
                      </a:lnTo>
                      <a:lnTo>
                        <a:pt x="1071" y="1204"/>
                      </a:lnTo>
                      <a:lnTo>
                        <a:pt x="1065" y="1198"/>
                      </a:lnTo>
                      <a:lnTo>
                        <a:pt x="1059" y="1192"/>
                      </a:lnTo>
                      <a:lnTo>
                        <a:pt x="1048" y="1179"/>
                      </a:lnTo>
                      <a:lnTo>
                        <a:pt x="1037" y="1179"/>
                      </a:lnTo>
                      <a:lnTo>
                        <a:pt x="1025" y="1173"/>
                      </a:lnTo>
                      <a:lnTo>
                        <a:pt x="1009" y="1173"/>
                      </a:lnTo>
                      <a:lnTo>
                        <a:pt x="997" y="1166"/>
                      </a:lnTo>
                      <a:lnTo>
                        <a:pt x="980" y="1166"/>
                      </a:lnTo>
                      <a:lnTo>
                        <a:pt x="969" y="1160"/>
                      </a:lnTo>
                      <a:lnTo>
                        <a:pt x="952" y="1160"/>
                      </a:lnTo>
                      <a:lnTo>
                        <a:pt x="941" y="1154"/>
                      </a:lnTo>
                      <a:lnTo>
                        <a:pt x="930" y="1148"/>
                      </a:lnTo>
                      <a:lnTo>
                        <a:pt x="913" y="1148"/>
                      </a:lnTo>
                      <a:lnTo>
                        <a:pt x="901" y="1141"/>
                      </a:lnTo>
                      <a:lnTo>
                        <a:pt x="885" y="1141"/>
                      </a:lnTo>
                      <a:lnTo>
                        <a:pt x="873" y="1135"/>
                      </a:lnTo>
                      <a:lnTo>
                        <a:pt x="856" y="1135"/>
                      </a:lnTo>
                      <a:lnTo>
                        <a:pt x="845" y="1129"/>
                      </a:lnTo>
                      <a:lnTo>
                        <a:pt x="834" y="1129"/>
                      </a:lnTo>
                      <a:lnTo>
                        <a:pt x="823" y="1135"/>
                      </a:lnTo>
                      <a:lnTo>
                        <a:pt x="811" y="1141"/>
                      </a:lnTo>
                      <a:lnTo>
                        <a:pt x="800" y="1148"/>
                      </a:lnTo>
                      <a:lnTo>
                        <a:pt x="794" y="1154"/>
                      </a:lnTo>
                      <a:lnTo>
                        <a:pt x="783" y="1160"/>
                      </a:lnTo>
                      <a:lnTo>
                        <a:pt x="772" y="1166"/>
                      </a:lnTo>
                      <a:lnTo>
                        <a:pt x="761" y="1173"/>
                      </a:lnTo>
                      <a:lnTo>
                        <a:pt x="749" y="1173"/>
                      </a:lnTo>
                      <a:lnTo>
                        <a:pt x="744" y="1179"/>
                      </a:lnTo>
                      <a:lnTo>
                        <a:pt x="732" y="1179"/>
                      </a:lnTo>
                      <a:lnTo>
                        <a:pt x="727" y="1185"/>
                      </a:lnTo>
                      <a:lnTo>
                        <a:pt x="715" y="1185"/>
                      </a:lnTo>
                      <a:lnTo>
                        <a:pt x="710" y="1185"/>
                      </a:lnTo>
                      <a:lnTo>
                        <a:pt x="699" y="1192"/>
                      </a:lnTo>
                      <a:lnTo>
                        <a:pt x="693" y="1192"/>
                      </a:lnTo>
                      <a:lnTo>
                        <a:pt x="682" y="1192"/>
                      </a:lnTo>
                      <a:lnTo>
                        <a:pt x="676" y="1192"/>
                      </a:lnTo>
                      <a:lnTo>
                        <a:pt x="665" y="1198"/>
                      </a:lnTo>
                      <a:lnTo>
                        <a:pt x="659" y="1198"/>
                      </a:lnTo>
                      <a:lnTo>
                        <a:pt x="648" y="1198"/>
                      </a:lnTo>
                      <a:lnTo>
                        <a:pt x="642" y="1198"/>
                      </a:lnTo>
                      <a:lnTo>
                        <a:pt x="637" y="1198"/>
                      </a:lnTo>
                      <a:lnTo>
                        <a:pt x="625" y="1198"/>
                      </a:lnTo>
                      <a:lnTo>
                        <a:pt x="620" y="1198"/>
                      </a:lnTo>
                      <a:lnTo>
                        <a:pt x="608" y="1198"/>
                      </a:lnTo>
                      <a:lnTo>
                        <a:pt x="597" y="1192"/>
                      </a:lnTo>
                      <a:lnTo>
                        <a:pt x="586" y="1192"/>
                      </a:lnTo>
                      <a:lnTo>
                        <a:pt x="575" y="1185"/>
                      </a:lnTo>
                      <a:lnTo>
                        <a:pt x="569" y="1179"/>
                      </a:lnTo>
                      <a:lnTo>
                        <a:pt x="558" y="1173"/>
                      </a:lnTo>
                      <a:lnTo>
                        <a:pt x="546" y="1173"/>
                      </a:lnTo>
                      <a:lnTo>
                        <a:pt x="541" y="1160"/>
                      </a:lnTo>
                      <a:lnTo>
                        <a:pt x="529" y="1154"/>
                      </a:lnTo>
                      <a:lnTo>
                        <a:pt x="524" y="1148"/>
                      </a:lnTo>
                      <a:lnTo>
                        <a:pt x="518" y="1141"/>
                      </a:lnTo>
                      <a:lnTo>
                        <a:pt x="507" y="1129"/>
                      </a:lnTo>
                      <a:lnTo>
                        <a:pt x="501" y="1123"/>
                      </a:lnTo>
                      <a:lnTo>
                        <a:pt x="496" y="1110"/>
                      </a:lnTo>
                      <a:lnTo>
                        <a:pt x="490" y="1104"/>
                      </a:lnTo>
                      <a:lnTo>
                        <a:pt x="490" y="1091"/>
                      </a:lnTo>
                      <a:lnTo>
                        <a:pt x="484" y="1079"/>
                      </a:lnTo>
                      <a:lnTo>
                        <a:pt x="484" y="1060"/>
                      </a:lnTo>
                      <a:lnTo>
                        <a:pt x="484" y="1041"/>
                      </a:lnTo>
                      <a:lnTo>
                        <a:pt x="490" y="1029"/>
                      </a:lnTo>
                      <a:lnTo>
                        <a:pt x="484" y="1022"/>
                      </a:lnTo>
                      <a:lnTo>
                        <a:pt x="473" y="1022"/>
                      </a:lnTo>
                      <a:lnTo>
                        <a:pt x="467" y="1016"/>
                      </a:lnTo>
                      <a:lnTo>
                        <a:pt x="462" y="1010"/>
                      </a:lnTo>
                      <a:lnTo>
                        <a:pt x="456" y="1010"/>
                      </a:lnTo>
                      <a:lnTo>
                        <a:pt x="451" y="1003"/>
                      </a:lnTo>
                      <a:lnTo>
                        <a:pt x="445" y="1003"/>
                      </a:lnTo>
                      <a:lnTo>
                        <a:pt x="439" y="997"/>
                      </a:lnTo>
                      <a:lnTo>
                        <a:pt x="434" y="991"/>
                      </a:lnTo>
                      <a:lnTo>
                        <a:pt x="428" y="991"/>
                      </a:lnTo>
                      <a:lnTo>
                        <a:pt x="422" y="985"/>
                      </a:lnTo>
                      <a:lnTo>
                        <a:pt x="417" y="985"/>
                      </a:lnTo>
                      <a:lnTo>
                        <a:pt x="405" y="978"/>
                      </a:lnTo>
                      <a:lnTo>
                        <a:pt x="400" y="972"/>
                      </a:lnTo>
                      <a:lnTo>
                        <a:pt x="394" y="972"/>
                      </a:lnTo>
                      <a:lnTo>
                        <a:pt x="389" y="966"/>
                      </a:lnTo>
                      <a:lnTo>
                        <a:pt x="389" y="960"/>
                      </a:lnTo>
                      <a:lnTo>
                        <a:pt x="383" y="953"/>
                      </a:lnTo>
                      <a:lnTo>
                        <a:pt x="377" y="953"/>
                      </a:lnTo>
                      <a:lnTo>
                        <a:pt x="377" y="947"/>
                      </a:lnTo>
                      <a:lnTo>
                        <a:pt x="372" y="941"/>
                      </a:lnTo>
                      <a:lnTo>
                        <a:pt x="372" y="934"/>
                      </a:lnTo>
                      <a:lnTo>
                        <a:pt x="366" y="928"/>
                      </a:lnTo>
                      <a:lnTo>
                        <a:pt x="366" y="922"/>
                      </a:lnTo>
                      <a:lnTo>
                        <a:pt x="360" y="922"/>
                      </a:lnTo>
                      <a:lnTo>
                        <a:pt x="355" y="922"/>
                      </a:lnTo>
                      <a:lnTo>
                        <a:pt x="349" y="922"/>
                      </a:lnTo>
                      <a:lnTo>
                        <a:pt x="343" y="928"/>
                      </a:lnTo>
                      <a:lnTo>
                        <a:pt x="338" y="928"/>
                      </a:lnTo>
                      <a:lnTo>
                        <a:pt x="332" y="928"/>
                      </a:lnTo>
                      <a:lnTo>
                        <a:pt x="321" y="934"/>
                      </a:lnTo>
                      <a:lnTo>
                        <a:pt x="315" y="934"/>
                      </a:lnTo>
                      <a:lnTo>
                        <a:pt x="310" y="934"/>
                      </a:lnTo>
                      <a:lnTo>
                        <a:pt x="304" y="934"/>
                      </a:lnTo>
                      <a:lnTo>
                        <a:pt x="298" y="941"/>
                      </a:lnTo>
                      <a:lnTo>
                        <a:pt x="293" y="941"/>
                      </a:lnTo>
                      <a:lnTo>
                        <a:pt x="287" y="941"/>
                      </a:lnTo>
                      <a:lnTo>
                        <a:pt x="281" y="941"/>
                      </a:lnTo>
                      <a:lnTo>
                        <a:pt x="276" y="941"/>
                      </a:lnTo>
                      <a:lnTo>
                        <a:pt x="270" y="941"/>
                      </a:lnTo>
                      <a:lnTo>
                        <a:pt x="259" y="934"/>
                      </a:lnTo>
                      <a:lnTo>
                        <a:pt x="248" y="934"/>
                      </a:lnTo>
                      <a:lnTo>
                        <a:pt x="236" y="928"/>
                      </a:lnTo>
                      <a:lnTo>
                        <a:pt x="225" y="922"/>
                      </a:lnTo>
                      <a:lnTo>
                        <a:pt x="214" y="916"/>
                      </a:lnTo>
                      <a:lnTo>
                        <a:pt x="208" y="909"/>
                      </a:lnTo>
                      <a:lnTo>
                        <a:pt x="197" y="897"/>
                      </a:lnTo>
                      <a:lnTo>
                        <a:pt x="191" y="891"/>
                      </a:lnTo>
                      <a:lnTo>
                        <a:pt x="186" y="878"/>
                      </a:lnTo>
                      <a:lnTo>
                        <a:pt x="180" y="865"/>
                      </a:lnTo>
                      <a:lnTo>
                        <a:pt x="174" y="853"/>
                      </a:lnTo>
                      <a:lnTo>
                        <a:pt x="169" y="834"/>
                      </a:lnTo>
                      <a:lnTo>
                        <a:pt x="169" y="822"/>
                      </a:lnTo>
                      <a:lnTo>
                        <a:pt x="163" y="809"/>
                      </a:lnTo>
                      <a:lnTo>
                        <a:pt x="163" y="790"/>
                      </a:lnTo>
                      <a:lnTo>
                        <a:pt x="163" y="778"/>
                      </a:lnTo>
                      <a:lnTo>
                        <a:pt x="157" y="746"/>
                      </a:lnTo>
                      <a:lnTo>
                        <a:pt x="157" y="715"/>
                      </a:lnTo>
                      <a:lnTo>
                        <a:pt x="163" y="690"/>
                      </a:lnTo>
                      <a:lnTo>
                        <a:pt x="163" y="659"/>
                      </a:lnTo>
                      <a:lnTo>
                        <a:pt x="163" y="652"/>
                      </a:lnTo>
                      <a:lnTo>
                        <a:pt x="163" y="646"/>
                      </a:lnTo>
                      <a:lnTo>
                        <a:pt x="169" y="640"/>
                      </a:lnTo>
                      <a:lnTo>
                        <a:pt x="169" y="633"/>
                      </a:lnTo>
                      <a:lnTo>
                        <a:pt x="174" y="627"/>
                      </a:lnTo>
                      <a:lnTo>
                        <a:pt x="174" y="627"/>
                      </a:lnTo>
                      <a:lnTo>
                        <a:pt x="180" y="627"/>
                      </a:lnTo>
                      <a:lnTo>
                        <a:pt x="186" y="627"/>
                      </a:lnTo>
                      <a:lnTo>
                        <a:pt x="191" y="627"/>
                      </a:lnTo>
                      <a:lnTo>
                        <a:pt x="197" y="627"/>
                      </a:lnTo>
                      <a:lnTo>
                        <a:pt x="208" y="633"/>
                      </a:lnTo>
                      <a:lnTo>
                        <a:pt x="214" y="633"/>
                      </a:lnTo>
                      <a:lnTo>
                        <a:pt x="225" y="640"/>
                      </a:lnTo>
                      <a:lnTo>
                        <a:pt x="231" y="640"/>
                      </a:lnTo>
                      <a:lnTo>
                        <a:pt x="242" y="646"/>
                      </a:lnTo>
                      <a:lnTo>
                        <a:pt x="253" y="652"/>
                      </a:lnTo>
                      <a:lnTo>
                        <a:pt x="248" y="646"/>
                      </a:lnTo>
                      <a:lnTo>
                        <a:pt x="236" y="646"/>
                      </a:lnTo>
                      <a:lnTo>
                        <a:pt x="231" y="640"/>
                      </a:lnTo>
                      <a:lnTo>
                        <a:pt x="219" y="640"/>
                      </a:lnTo>
                      <a:lnTo>
                        <a:pt x="214" y="633"/>
                      </a:lnTo>
                      <a:lnTo>
                        <a:pt x="203" y="627"/>
                      </a:lnTo>
                      <a:lnTo>
                        <a:pt x="197" y="627"/>
                      </a:lnTo>
                      <a:lnTo>
                        <a:pt x="191" y="621"/>
                      </a:lnTo>
                      <a:lnTo>
                        <a:pt x="180" y="621"/>
                      </a:lnTo>
                      <a:lnTo>
                        <a:pt x="174" y="615"/>
                      </a:lnTo>
                      <a:lnTo>
                        <a:pt x="163" y="608"/>
                      </a:lnTo>
                      <a:lnTo>
                        <a:pt x="157" y="602"/>
                      </a:lnTo>
                      <a:lnTo>
                        <a:pt x="152" y="602"/>
                      </a:lnTo>
                      <a:lnTo>
                        <a:pt x="141" y="596"/>
                      </a:lnTo>
                      <a:lnTo>
                        <a:pt x="135" y="590"/>
                      </a:lnTo>
                      <a:lnTo>
                        <a:pt x="129" y="583"/>
                      </a:lnTo>
                      <a:lnTo>
                        <a:pt x="124" y="577"/>
                      </a:lnTo>
                      <a:lnTo>
                        <a:pt x="112" y="571"/>
                      </a:lnTo>
                      <a:lnTo>
                        <a:pt x="107" y="564"/>
                      </a:lnTo>
                      <a:lnTo>
                        <a:pt x="101" y="558"/>
                      </a:lnTo>
                      <a:lnTo>
                        <a:pt x="95" y="552"/>
                      </a:lnTo>
                      <a:lnTo>
                        <a:pt x="90" y="546"/>
                      </a:lnTo>
                      <a:lnTo>
                        <a:pt x="84" y="539"/>
                      </a:lnTo>
                      <a:lnTo>
                        <a:pt x="79" y="527"/>
                      </a:lnTo>
                      <a:lnTo>
                        <a:pt x="73" y="521"/>
                      </a:lnTo>
                      <a:lnTo>
                        <a:pt x="67" y="514"/>
                      </a:lnTo>
                      <a:lnTo>
                        <a:pt x="62" y="508"/>
                      </a:lnTo>
                      <a:lnTo>
                        <a:pt x="56" y="495"/>
                      </a:lnTo>
                      <a:lnTo>
                        <a:pt x="50" y="489"/>
                      </a:lnTo>
                      <a:lnTo>
                        <a:pt x="45" y="483"/>
                      </a:lnTo>
                      <a:lnTo>
                        <a:pt x="39" y="470"/>
                      </a:lnTo>
                      <a:lnTo>
                        <a:pt x="33" y="464"/>
                      </a:lnTo>
                      <a:lnTo>
                        <a:pt x="28" y="452"/>
                      </a:lnTo>
                      <a:lnTo>
                        <a:pt x="22" y="433"/>
                      </a:lnTo>
                      <a:lnTo>
                        <a:pt x="17" y="420"/>
                      </a:lnTo>
                      <a:lnTo>
                        <a:pt x="11" y="401"/>
                      </a:lnTo>
                      <a:lnTo>
                        <a:pt x="5" y="389"/>
                      </a:lnTo>
                      <a:lnTo>
                        <a:pt x="5" y="370"/>
                      </a:lnTo>
                      <a:lnTo>
                        <a:pt x="0" y="351"/>
                      </a:lnTo>
                      <a:lnTo>
                        <a:pt x="5" y="339"/>
                      </a:lnTo>
                      <a:lnTo>
                        <a:pt x="5" y="326"/>
                      </a:lnTo>
                      <a:lnTo>
                        <a:pt x="11" y="314"/>
                      </a:lnTo>
                      <a:lnTo>
                        <a:pt x="17" y="301"/>
                      </a:lnTo>
                      <a:lnTo>
                        <a:pt x="28" y="295"/>
                      </a:lnTo>
                      <a:lnTo>
                        <a:pt x="33" y="282"/>
                      </a:lnTo>
                      <a:lnTo>
                        <a:pt x="45" y="276"/>
                      </a:lnTo>
                      <a:lnTo>
                        <a:pt x="56" y="263"/>
                      </a:lnTo>
                      <a:lnTo>
                        <a:pt x="62" y="257"/>
                      </a:lnTo>
                      <a:lnTo>
                        <a:pt x="67" y="251"/>
                      </a:lnTo>
                      <a:lnTo>
                        <a:pt x="73" y="245"/>
                      </a:lnTo>
                      <a:lnTo>
                        <a:pt x="79" y="245"/>
                      </a:lnTo>
                      <a:lnTo>
                        <a:pt x="84" y="238"/>
                      </a:lnTo>
                      <a:lnTo>
                        <a:pt x="95" y="238"/>
                      </a:lnTo>
                      <a:lnTo>
                        <a:pt x="101" y="232"/>
                      </a:lnTo>
                      <a:lnTo>
                        <a:pt x="107" y="232"/>
                      </a:lnTo>
                      <a:lnTo>
                        <a:pt x="112" y="226"/>
                      </a:lnTo>
                      <a:close/>
                    </a:path>
                  </a:pathLst>
                </a:custGeom>
                <a:solidFill>
                  <a:srgbClr val="ffcc99">
                    <a:alpha val="69000"/>
                  </a:srgbClr>
                </a:solidFill>
                <a:ln w="2232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rot="19940400">
                  <a:off x="6516720" y="1721880"/>
                  <a:ext cx="2198520" cy="1208160"/>
                </a:xfrm>
                <a:custGeom>
                  <a:avLst/>
                  <a:gdLst/>
                  <a:ahLst/>
                  <a:rect l="l" t="t" r="r" b="b"/>
                  <a:pathLst>
                    <a:path w="1646" h="1116">
                      <a:moveTo>
                        <a:pt x="1646" y="1116"/>
                      </a:moveTo>
                      <a:lnTo>
                        <a:pt x="1646" y="1104"/>
                      </a:lnTo>
                      <a:lnTo>
                        <a:pt x="1640" y="1091"/>
                      </a:lnTo>
                      <a:lnTo>
                        <a:pt x="1640" y="1079"/>
                      </a:lnTo>
                      <a:lnTo>
                        <a:pt x="1635" y="1066"/>
                      </a:lnTo>
                      <a:lnTo>
                        <a:pt x="1635" y="1054"/>
                      </a:lnTo>
                      <a:lnTo>
                        <a:pt x="1629" y="1041"/>
                      </a:lnTo>
                      <a:lnTo>
                        <a:pt x="1623" y="1029"/>
                      </a:lnTo>
                      <a:lnTo>
                        <a:pt x="1623" y="1022"/>
                      </a:lnTo>
                      <a:lnTo>
                        <a:pt x="1618" y="997"/>
                      </a:lnTo>
                      <a:lnTo>
                        <a:pt x="1612" y="972"/>
                      </a:lnTo>
                      <a:lnTo>
                        <a:pt x="1607" y="953"/>
                      </a:lnTo>
                      <a:lnTo>
                        <a:pt x="1601" y="928"/>
                      </a:lnTo>
                      <a:lnTo>
                        <a:pt x="1595" y="909"/>
                      </a:lnTo>
                      <a:lnTo>
                        <a:pt x="1590" y="884"/>
                      </a:lnTo>
                      <a:lnTo>
                        <a:pt x="1584" y="866"/>
                      </a:lnTo>
                      <a:lnTo>
                        <a:pt x="1578" y="840"/>
                      </a:lnTo>
                      <a:lnTo>
                        <a:pt x="1578" y="828"/>
                      </a:lnTo>
                      <a:lnTo>
                        <a:pt x="1573" y="815"/>
                      </a:lnTo>
                      <a:lnTo>
                        <a:pt x="1567" y="803"/>
                      </a:lnTo>
                      <a:lnTo>
                        <a:pt x="1567" y="790"/>
                      </a:lnTo>
                      <a:lnTo>
                        <a:pt x="1561" y="784"/>
                      </a:lnTo>
                      <a:lnTo>
                        <a:pt x="1561" y="772"/>
                      </a:lnTo>
                      <a:lnTo>
                        <a:pt x="1556" y="759"/>
                      </a:lnTo>
                      <a:lnTo>
                        <a:pt x="1556" y="746"/>
                      </a:lnTo>
                      <a:lnTo>
                        <a:pt x="1550" y="734"/>
                      </a:lnTo>
                      <a:lnTo>
                        <a:pt x="1550" y="728"/>
                      </a:lnTo>
                      <a:lnTo>
                        <a:pt x="1550" y="715"/>
                      </a:lnTo>
                      <a:lnTo>
                        <a:pt x="1545" y="703"/>
                      </a:lnTo>
                      <a:lnTo>
                        <a:pt x="1545" y="696"/>
                      </a:lnTo>
                      <a:lnTo>
                        <a:pt x="1545" y="684"/>
                      </a:lnTo>
                      <a:lnTo>
                        <a:pt x="1539" y="677"/>
                      </a:lnTo>
                      <a:lnTo>
                        <a:pt x="1533" y="671"/>
                      </a:lnTo>
                      <a:lnTo>
                        <a:pt x="1533" y="665"/>
                      </a:lnTo>
                      <a:lnTo>
                        <a:pt x="1528" y="665"/>
                      </a:lnTo>
                      <a:lnTo>
                        <a:pt x="1528" y="665"/>
                      </a:lnTo>
                      <a:lnTo>
                        <a:pt x="1522" y="671"/>
                      </a:lnTo>
                      <a:lnTo>
                        <a:pt x="1516" y="671"/>
                      </a:lnTo>
                      <a:lnTo>
                        <a:pt x="1516" y="671"/>
                      </a:lnTo>
                      <a:lnTo>
                        <a:pt x="1511" y="677"/>
                      </a:lnTo>
                      <a:lnTo>
                        <a:pt x="1505" y="677"/>
                      </a:lnTo>
                      <a:lnTo>
                        <a:pt x="1505" y="671"/>
                      </a:lnTo>
                      <a:lnTo>
                        <a:pt x="1499" y="659"/>
                      </a:lnTo>
                      <a:lnTo>
                        <a:pt x="1499" y="652"/>
                      </a:lnTo>
                      <a:lnTo>
                        <a:pt x="1494" y="652"/>
                      </a:lnTo>
                      <a:lnTo>
                        <a:pt x="1483" y="652"/>
                      </a:lnTo>
                      <a:lnTo>
                        <a:pt x="1477" y="659"/>
                      </a:lnTo>
                      <a:lnTo>
                        <a:pt x="1471" y="665"/>
                      </a:lnTo>
                      <a:lnTo>
                        <a:pt x="1466" y="671"/>
                      </a:lnTo>
                      <a:lnTo>
                        <a:pt x="1460" y="677"/>
                      </a:lnTo>
                      <a:lnTo>
                        <a:pt x="1454" y="690"/>
                      </a:lnTo>
                      <a:lnTo>
                        <a:pt x="1443" y="696"/>
                      </a:lnTo>
                      <a:lnTo>
                        <a:pt x="1437" y="703"/>
                      </a:lnTo>
                      <a:lnTo>
                        <a:pt x="1432" y="703"/>
                      </a:lnTo>
                      <a:lnTo>
                        <a:pt x="1426" y="703"/>
                      </a:lnTo>
                      <a:lnTo>
                        <a:pt x="1421" y="703"/>
                      </a:lnTo>
                      <a:lnTo>
                        <a:pt x="1415" y="703"/>
                      </a:lnTo>
                      <a:lnTo>
                        <a:pt x="1409" y="703"/>
                      </a:lnTo>
                      <a:lnTo>
                        <a:pt x="1404" y="703"/>
                      </a:lnTo>
                      <a:lnTo>
                        <a:pt x="1398" y="703"/>
                      </a:lnTo>
                      <a:lnTo>
                        <a:pt x="1392" y="696"/>
                      </a:lnTo>
                      <a:lnTo>
                        <a:pt x="1387" y="696"/>
                      </a:lnTo>
                      <a:lnTo>
                        <a:pt x="1387" y="690"/>
                      </a:lnTo>
                      <a:lnTo>
                        <a:pt x="1387" y="684"/>
                      </a:lnTo>
                      <a:lnTo>
                        <a:pt x="1381" y="677"/>
                      </a:lnTo>
                      <a:lnTo>
                        <a:pt x="1381" y="671"/>
                      </a:lnTo>
                      <a:lnTo>
                        <a:pt x="1381" y="665"/>
                      </a:lnTo>
                      <a:lnTo>
                        <a:pt x="1375" y="659"/>
                      </a:lnTo>
                      <a:lnTo>
                        <a:pt x="1370" y="659"/>
                      </a:lnTo>
                      <a:lnTo>
                        <a:pt x="1364" y="659"/>
                      </a:lnTo>
                      <a:lnTo>
                        <a:pt x="1359" y="659"/>
                      </a:lnTo>
                      <a:lnTo>
                        <a:pt x="1353" y="659"/>
                      </a:lnTo>
                      <a:lnTo>
                        <a:pt x="1347" y="665"/>
                      </a:lnTo>
                      <a:lnTo>
                        <a:pt x="1342" y="665"/>
                      </a:lnTo>
                      <a:lnTo>
                        <a:pt x="1336" y="671"/>
                      </a:lnTo>
                      <a:lnTo>
                        <a:pt x="1330" y="677"/>
                      </a:lnTo>
                      <a:lnTo>
                        <a:pt x="1325" y="677"/>
                      </a:lnTo>
                      <a:lnTo>
                        <a:pt x="1319" y="684"/>
                      </a:lnTo>
                      <a:lnTo>
                        <a:pt x="1313" y="684"/>
                      </a:lnTo>
                      <a:lnTo>
                        <a:pt x="1308" y="690"/>
                      </a:lnTo>
                      <a:lnTo>
                        <a:pt x="1302" y="696"/>
                      </a:lnTo>
                      <a:lnTo>
                        <a:pt x="1297" y="696"/>
                      </a:lnTo>
                      <a:lnTo>
                        <a:pt x="1291" y="696"/>
                      </a:lnTo>
                      <a:lnTo>
                        <a:pt x="1285" y="703"/>
                      </a:lnTo>
                      <a:lnTo>
                        <a:pt x="1280" y="703"/>
                      </a:lnTo>
                      <a:lnTo>
                        <a:pt x="1274" y="703"/>
                      </a:lnTo>
                      <a:lnTo>
                        <a:pt x="1263" y="703"/>
                      </a:lnTo>
                      <a:lnTo>
                        <a:pt x="1257" y="703"/>
                      </a:lnTo>
                      <a:lnTo>
                        <a:pt x="1252" y="703"/>
                      </a:lnTo>
                      <a:lnTo>
                        <a:pt x="1246" y="703"/>
                      </a:lnTo>
                      <a:lnTo>
                        <a:pt x="1240" y="703"/>
                      </a:lnTo>
                      <a:lnTo>
                        <a:pt x="1235" y="703"/>
                      </a:lnTo>
                      <a:lnTo>
                        <a:pt x="1229" y="696"/>
                      </a:lnTo>
                      <a:lnTo>
                        <a:pt x="1223" y="696"/>
                      </a:lnTo>
                      <a:lnTo>
                        <a:pt x="1218" y="696"/>
                      </a:lnTo>
                      <a:lnTo>
                        <a:pt x="1212" y="696"/>
                      </a:lnTo>
                      <a:lnTo>
                        <a:pt x="1201" y="690"/>
                      </a:lnTo>
                      <a:lnTo>
                        <a:pt x="1195" y="690"/>
                      </a:lnTo>
                      <a:lnTo>
                        <a:pt x="1190" y="690"/>
                      </a:lnTo>
                      <a:lnTo>
                        <a:pt x="1184" y="684"/>
                      </a:lnTo>
                      <a:lnTo>
                        <a:pt x="1178" y="684"/>
                      </a:lnTo>
                      <a:lnTo>
                        <a:pt x="1184" y="684"/>
                      </a:lnTo>
                      <a:lnTo>
                        <a:pt x="1190" y="677"/>
                      </a:lnTo>
                      <a:lnTo>
                        <a:pt x="1190" y="671"/>
                      </a:lnTo>
                      <a:lnTo>
                        <a:pt x="1195" y="665"/>
                      </a:lnTo>
                      <a:lnTo>
                        <a:pt x="1201" y="665"/>
                      </a:lnTo>
                      <a:lnTo>
                        <a:pt x="1206" y="659"/>
                      </a:lnTo>
                      <a:lnTo>
                        <a:pt x="1212" y="652"/>
                      </a:lnTo>
                      <a:lnTo>
                        <a:pt x="1212" y="646"/>
                      </a:lnTo>
                      <a:lnTo>
                        <a:pt x="1218" y="640"/>
                      </a:lnTo>
                      <a:lnTo>
                        <a:pt x="1223" y="634"/>
                      </a:lnTo>
                      <a:lnTo>
                        <a:pt x="1223" y="621"/>
                      </a:lnTo>
                      <a:lnTo>
                        <a:pt x="1229" y="615"/>
                      </a:lnTo>
                      <a:lnTo>
                        <a:pt x="1229" y="608"/>
                      </a:lnTo>
                      <a:lnTo>
                        <a:pt x="1235" y="596"/>
                      </a:lnTo>
                      <a:lnTo>
                        <a:pt x="1235" y="590"/>
                      </a:lnTo>
                      <a:lnTo>
                        <a:pt x="1240" y="577"/>
                      </a:lnTo>
                      <a:lnTo>
                        <a:pt x="1235" y="583"/>
                      </a:lnTo>
                      <a:lnTo>
                        <a:pt x="1229" y="590"/>
                      </a:lnTo>
                      <a:lnTo>
                        <a:pt x="1223" y="596"/>
                      </a:lnTo>
                      <a:lnTo>
                        <a:pt x="1218" y="602"/>
                      </a:lnTo>
                      <a:lnTo>
                        <a:pt x="1212" y="608"/>
                      </a:lnTo>
                      <a:lnTo>
                        <a:pt x="1206" y="615"/>
                      </a:lnTo>
                      <a:lnTo>
                        <a:pt x="1201" y="621"/>
                      </a:lnTo>
                      <a:lnTo>
                        <a:pt x="1195" y="627"/>
                      </a:lnTo>
                      <a:lnTo>
                        <a:pt x="1190" y="627"/>
                      </a:lnTo>
                      <a:lnTo>
                        <a:pt x="1184" y="634"/>
                      </a:lnTo>
                      <a:lnTo>
                        <a:pt x="1173" y="640"/>
                      </a:lnTo>
                      <a:lnTo>
                        <a:pt x="1167" y="646"/>
                      </a:lnTo>
                      <a:lnTo>
                        <a:pt x="1161" y="646"/>
                      </a:lnTo>
                      <a:lnTo>
                        <a:pt x="1156" y="652"/>
                      </a:lnTo>
                      <a:lnTo>
                        <a:pt x="1150" y="659"/>
                      </a:lnTo>
                      <a:lnTo>
                        <a:pt x="1144" y="659"/>
                      </a:lnTo>
                      <a:lnTo>
                        <a:pt x="1139" y="665"/>
                      </a:lnTo>
                      <a:lnTo>
                        <a:pt x="1128" y="671"/>
                      </a:lnTo>
                      <a:lnTo>
                        <a:pt x="1122" y="671"/>
                      </a:lnTo>
                      <a:lnTo>
                        <a:pt x="1116" y="677"/>
                      </a:lnTo>
                      <a:lnTo>
                        <a:pt x="1111" y="677"/>
                      </a:lnTo>
                      <a:lnTo>
                        <a:pt x="1105" y="684"/>
                      </a:lnTo>
                      <a:lnTo>
                        <a:pt x="1094" y="684"/>
                      </a:lnTo>
                      <a:lnTo>
                        <a:pt x="1088" y="684"/>
                      </a:lnTo>
                      <a:lnTo>
                        <a:pt x="1082" y="690"/>
                      </a:lnTo>
                      <a:lnTo>
                        <a:pt x="1071" y="690"/>
                      </a:lnTo>
                      <a:lnTo>
                        <a:pt x="1066" y="690"/>
                      </a:lnTo>
                      <a:lnTo>
                        <a:pt x="1060" y="690"/>
                      </a:lnTo>
                      <a:lnTo>
                        <a:pt x="1049" y="690"/>
                      </a:lnTo>
                      <a:lnTo>
                        <a:pt x="1043" y="690"/>
                      </a:lnTo>
                      <a:lnTo>
                        <a:pt x="1037" y="690"/>
                      </a:lnTo>
                      <a:lnTo>
                        <a:pt x="1026" y="690"/>
                      </a:lnTo>
                      <a:lnTo>
                        <a:pt x="1020" y="690"/>
                      </a:lnTo>
                      <a:lnTo>
                        <a:pt x="1009" y="690"/>
                      </a:lnTo>
                      <a:lnTo>
                        <a:pt x="1004" y="690"/>
                      </a:lnTo>
                      <a:lnTo>
                        <a:pt x="998" y="690"/>
                      </a:lnTo>
                      <a:lnTo>
                        <a:pt x="987" y="690"/>
                      </a:lnTo>
                      <a:lnTo>
                        <a:pt x="981" y="684"/>
                      </a:lnTo>
                      <a:lnTo>
                        <a:pt x="970" y="684"/>
                      </a:lnTo>
                      <a:lnTo>
                        <a:pt x="964" y="684"/>
                      </a:lnTo>
                      <a:lnTo>
                        <a:pt x="958" y="684"/>
                      </a:lnTo>
                      <a:lnTo>
                        <a:pt x="953" y="684"/>
                      </a:lnTo>
                      <a:lnTo>
                        <a:pt x="947" y="677"/>
                      </a:lnTo>
                      <a:lnTo>
                        <a:pt x="936" y="677"/>
                      </a:lnTo>
                      <a:lnTo>
                        <a:pt x="930" y="677"/>
                      </a:lnTo>
                      <a:lnTo>
                        <a:pt x="925" y="671"/>
                      </a:lnTo>
                      <a:lnTo>
                        <a:pt x="919" y="671"/>
                      </a:lnTo>
                      <a:lnTo>
                        <a:pt x="913" y="665"/>
                      </a:lnTo>
                      <a:lnTo>
                        <a:pt x="908" y="665"/>
                      </a:lnTo>
                      <a:lnTo>
                        <a:pt x="896" y="659"/>
                      </a:lnTo>
                      <a:lnTo>
                        <a:pt x="891" y="659"/>
                      </a:lnTo>
                      <a:lnTo>
                        <a:pt x="885" y="652"/>
                      </a:lnTo>
                      <a:lnTo>
                        <a:pt x="880" y="652"/>
                      </a:lnTo>
                      <a:lnTo>
                        <a:pt x="874" y="646"/>
                      </a:lnTo>
                      <a:lnTo>
                        <a:pt x="868" y="646"/>
                      </a:lnTo>
                      <a:lnTo>
                        <a:pt x="863" y="640"/>
                      </a:lnTo>
                      <a:lnTo>
                        <a:pt x="857" y="634"/>
                      </a:lnTo>
                      <a:lnTo>
                        <a:pt x="851" y="621"/>
                      </a:lnTo>
                      <a:lnTo>
                        <a:pt x="851" y="608"/>
                      </a:lnTo>
                      <a:lnTo>
                        <a:pt x="851" y="602"/>
                      </a:lnTo>
                      <a:lnTo>
                        <a:pt x="857" y="590"/>
                      </a:lnTo>
                      <a:lnTo>
                        <a:pt x="863" y="577"/>
                      </a:lnTo>
                      <a:lnTo>
                        <a:pt x="874" y="571"/>
                      </a:lnTo>
                      <a:lnTo>
                        <a:pt x="880" y="558"/>
                      </a:lnTo>
                      <a:lnTo>
                        <a:pt x="891" y="552"/>
                      </a:lnTo>
                      <a:lnTo>
                        <a:pt x="896" y="539"/>
                      </a:lnTo>
                      <a:lnTo>
                        <a:pt x="902" y="533"/>
                      </a:lnTo>
                      <a:lnTo>
                        <a:pt x="908" y="521"/>
                      </a:lnTo>
                      <a:lnTo>
                        <a:pt x="913" y="508"/>
                      </a:lnTo>
                      <a:lnTo>
                        <a:pt x="919" y="502"/>
                      </a:lnTo>
                      <a:lnTo>
                        <a:pt x="925" y="489"/>
                      </a:lnTo>
                      <a:lnTo>
                        <a:pt x="930" y="483"/>
                      </a:lnTo>
                      <a:lnTo>
                        <a:pt x="936" y="471"/>
                      </a:lnTo>
                      <a:lnTo>
                        <a:pt x="942" y="458"/>
                      </a:lnTo>
                      <a:lnTo>
                        <a:pt x="942" y="445"/>
                      </a:lnTo>
                      <a:lnTo>
                        <a:pt x="947" y="439"/>
                      </a:lnTo>
                      <a:lnTo>
                        <a:pt x="947" y="433"/>
                      </a:lnTo>
                      <a:lnTo>
                        <a:pt x="942" y="433"/>
                      </a:lnTo>
                      <a:lnTo>
                        <a:pt x="942" y="427"/>
                      </a:lnTo>
                      <a:lnTo>
                        <a:pt x="936" y="427"/>
                      </a:lnTo>
                      <a:lnTo>
                        <a:pt x="930" y="427"/>
                      </a:lnTo>
                      <a:lnTo>
                        <a:pt x="925" y="427"/>
                      </a:lnTo>
                      <a:lnTo>
                        <a:pt x="919" y="427"/>
                      </a:lnTo>
                      <a:lnTo>
                        <a:pt x="913" y="427"/>
                      </a:lnTo>
                      <a:lnTo>
                        <a:pt x="908" y="427"/>
                      </a:lnTo>
                      <a:lnTo>
                        <a:pt x="902" y="427"/>
                      </a:lnTo>
                      <a:lnTo>
                        <a:pt x="896" y="427"/>
                      </a:lnTo>
                      <a:lnTo>
                        <a:pt x="891" y="433"/>
                      </a:lnTo>
                      <a:lnTo>
                        <a:pt x="885" y="433"/>
                      </a:lnTo>
                      <a:lnTo>
                        <a:pt x="880" y="439"/>
                      </a:lnTo>
                      <a:lnTo>
                        <a:pt x="874" y="439"/>
                      </a:lnTo>
                      <a:lnTo>
                        <a:pt x="868" y="445"/>
                      </a:lnTo>
                      <a:lnTo>
                        <a:pt x="863" y="445"/>
                      </a:lnTo>
                      <a:lnTo>
                        <a:pt x="857" y="445"/>
                      </a:lnTo>
                      <a:lnTo>
                        <a:pt x="851" y="452"/>
                      </a:lnTo>
                      <a:lnTo>
                        <a:pt x="840" y="452"/>
                      </a:lnTo>
                      <a:lnTo>
                        <a:pt x="834" y="458"/>
                      </a:lnTo>
                      <a:lnTo>
                        <a:pt x="829" y="458"/>
                      </a:lnTo>
                      <a:lnTo>
                        <a:pt x="823" y="458"/>
                      </a:lnTo>
                      <a:lnTo>
                        <a:pt x="818" y="458"/>
                      </a:lnTo>
                      <a:lnTo>
                        <a:pt x="812" y="464"/>
                      </a:lnTo>
                      <a:lnTo>
                        <a:pt x="801" y="464"/>
                      </a:lnTo>
                      <a:lnTo>
                        <a:pt x="795" y="464"/>
                      </a:lnTo>
                      <a:lnTo>
                        <a:pt x="789" y="464"/>
                      </a:lnTo>
                      <a:lnTo>
                        <a:pt x="778" y="458"/>
                      </a:lnTo>
                      <a:lnTo>
                        <a:pt x="772" y="458"/>
                      </a:lnTo>
                      <a:lnTo>
                        <a:pt x="761" y="458"/>
                      </a:lnTo>
                      <a:lnTo>
                        <a:pt x="756" y="452"/>
                      </a:lnTo>
                      <a:lnTo>
                        <a:pt x="750" y="445"/>
                      </a:lnTo>
                      <a:lnTo>
                        <a:pt x="739" y="439"/>
                      </a:lnTo>
                      <a:lnTo>
                        <a:pt x="733" y="433"/>
                      </a:lnTo>
                      <a:lnTo>
                        <a:pt x="733" y="420"/>
                      </a:lnTo>
                      <a:lnTo>
                        <a:pt x="727" y="414"/>
                      </a:lnTo>
                      <a:lnTo>
                        <a:pt x="722" y="402"/>
                      </a:lnTo>
                      <a:lnTo>
                        <a:pt x="716" y="395"/>
                      </a:lnTo>
                      <a:lnTo>
                        <a:pt x="710" y="389"/>
                      </a:lnTo>
                      <a:lnTo>
                        <a:pt x="705" y="376"/>
                      </a:lnTo>
                      <a:lnTo>
                        <a:pt x="699" y="370"/>
                      </a:lnTo>
                      <a:lnTo>
                        <a:pt x="694" y="364"/>
                      </a:lnTo>
                      <a:lnTo>
                        <a:pt x="688" y="358"/>
                      </a:lnTo>
                      <a:lnTo>
                        <a:pt x="688" y="351"/>
                      </a:lnTo>
                      <a:lnTo>
                        <a:pt x="682" y="345"/>
                      </a:lnTo>
                      <a:lnTo>
                        <a:pt x="677" y="339"/>
                      </a:lnTo>
                      <a:lnTo>
                        <a:pt x="665" y="333"/>
                      </a:lnTo>
                      <a:lnTo>
                        <a:pt x="660" y="333"/>
                      </a:lnTo>
                      <a:lnTo>
                        <a:pt x="654" y="326"/>
                      </a:lnTo>
                      <a:lnTo>
                        <a:pt x="643" y="326"/>
                      </a:lnTo>
                      <a:lnTo>
                        <a:pt x="637" y="326"/>
                      </a:lnTo>
                      <a:lnTo>
                        <a:pt x="632" y="326"/>
                      </a:lnTo>
                      <a:lnTo>
                        <a:pt x="620" y="326"/>
                      </a:lnTo>
                      <a:lnTo>
                        <a:pt x="615" y="326"/>
                      </a:lnTo>
                      <a:lnTo>
                        <a:pt x="603" y="326"/>
                      </a:lnTo>
                      <a:lnTo>
                        <a:pt x="598" y="333"/>
                      </a:lnTo>
                      <a:lnTo>
                        <a:pt x="592" y="339"/>
                      </a:lnTo>
                      <a:lnTo>
                        <a:pt x="586" y="345"/>
                      </a:lnTo>
                      <a:lnTo>
                        <a:pt x="586" y="351"/>
                      </a:lnTo>
                      <a:lnTo>
                        <a:pt x="581" y="358"/>
                      </a:lnTo>
                      <a:lnTo>
                        <a:pt x="575" y="364"/>
                      </a:lnTo>
                      <a:lnTo>
                        <a:pt x="570" y="370"/>
                      </a:lnTo>
                      <a:lnTo>
                        <a:pt x="564" y="376"/>
                      </a:lnTo>
                      <a:lnTo>
                        <a:pt x="553" y="376"/>
                      </a:lnTo>
                      <a:lnTo>
                        <a:pt x="541" y="383"/>
                      </a:lnTo>
                      <a:lnTo>
                        <a:pt x="536" y="383"/>
                      </a:lnTo>
                      <a:lnTo>
                        <a:pt x="524" y="383"/>
                      </a:lnTo>
                      <a:lnTo>
                        <a:pt x="513" y="383"/>
                      </a:lnTo>
                      <a:lnTo>
                        <a:pt x="502" y="383"/>
                      </a:lnTo>
                      <a:lnTo>
                        <a:pt x="491" y="383"/>
                      </a:lnTo>
                      <a:lnTo>
                        <a:pt x="479" y="376"/>
                      </a:lnTo>
                      <a:lnTo>
                        <a:pt x="474" y="376"/>
                      </a:lnTo>
                      <a:lnTo>
                        <a:pt x="462" y="376"/>
                      </a:lnTo>
                      <a:lnTo>
                        <a:pt x="457" y="376"/>
                      </a:lnTo>
                      <a:lnTo>
                        <a:pt x="451" y="370"/>
                      </a:lnTo>
                      <a:lnTo>
                        <a:pt x="440" y="370"/>
                      </a:lnTo>
                      <a:lnTo>
                        <a:pt x="434" y="370"/>
                      </a:lnTo>
                      <a:lnTo>
                        <a:pt x="429" y="364"/>
                      </a:lnTo>
                      <a:lnTo>
                        <a:pt x="417" y="364"/>
                      </a:lnTo>
                      <a:lnTo>
                        <a:pt x="412" y="364"/>
                      </a:lnTo>
                      <a:lnTo>
                        <a:pt x="400" y="358"/>
                      </a:lnTo>
                      <a:lnTo>
                        <a:pt x="395" y="358"/>
                      </a:lnTo>
                      <a:lnTo>
                        <a:pt x="389" y="351"/>
                      </a:lnTo>
                      <a:lnTo>
                        <a:pt x="384" y="351"/>
                      </a:lnTo>
                      <a:lnTo>
                        <a:pt x="378" y="345"/>
                      </a:lnTo>
                      <a:lnTo>
                        <a:pt x="372" y="339"/>
                      </a:lnTo>
                      <a:lnTo>
                        <a:pt x="367" y="333"/>
                      </a:lnTo>
                      <a:lnTo>
                        <a:pt x="361" y="326"/>
                      </a:lnTo>
                      <a:lnTo>
                        <a:pt x="361" y="314"/>
                      </a:lnTo>
                      <a:lnTo>
                        <a:pt x="367" y="307"/>
                      </a:lnTo>
                      <a:lnTo>
                        <a:pt x="367" y="295"/>
                      </a:lnTo>
                      <a:lnTo>
                        <a:pt x="372" y="282"/>
                      </a:lnTo>
                      <a:lnTo>
                        <a:pt x="372" y="270"/>
                      </a:lnTo>
                      <a:lnTo>
                        <a:pt x="372" y="257"/>
                      </a:lnTo>
                      <a:lnTo>
                        <a:pt x="372" y="251"/>
                      </a:lnTo>
                      <a:lnTo>
                        <a:pt x="367" y="251"/>
                      </a:lnTo>
                      <a:lnTo>
                        <a:pt x="361" y="251"/>
                      </a:lnTo>
                      <a:lnTo>
                        <a:pt x="355" y="257"/>
                      </a:lnTo>
                      <a:lnTo>
                        <a:pt x="355" y="270"/>
                      </a:lnTo>
                      <a:lnTo>
                        <a:pt x="350" y="276"/>
                      </a:lnTo>
                      <a:lnTo>
                        <a:pt x="344" y="282"/>
                      </a:lnTo>
                      <a:lnTo>
                        <a:pt x="338" y="289"/>
                      </a:lnTo>
                      <a:lnTo>
                        <a:pt x="333" y="289"/>
                      </a:lnTo>
                      <a:lnTo>
                        <a:pt x="327" y="282"/>
                      </a:lnTo>
                      <a:lnTo>
                        <a:pt x="327" y="270"/>
                      </a:lnTo>
                      <a:lnTo>
                        <a:pt x="327" y="264"/>
                      </a:lnTo>
                      <a:lnTo>
                        <a:pt x="327" y="251"/>
                      </a:lnTo>
                      <a:lnTo>
                        <a:pt x="327" y="238"/>
                      </a:lnTo>
                      <a:lnTo>
                        <a:pt x="333" y="226"/>
                      </a:lnTo>
                      <a:lnTo>
                        <a:pt x="333" y="220"/>
                      </a:lnTo>
                      <a:lnTo>
                        <a:pt x="333" y="207"/>
                      </a:lnTo>
                      <a:lnTo>
                        <a:pt x="327" y="213"/>
                      </a:lnTo>
                      <a:lnTo>
                        <a:pt x="322" y="220"/>
                      </a:lnTo>
                      <a:lnTo>
                        <a:pt x="322" y="226"/>
                      </a:lnTo>
                      <a:lnTo>
                        <a:pt x="316" y="232"/>
                      </a:lnTo>
                      <a:lnTo>
                        <a:pt x="310" y="238"/>
                      </a:lnTo>
                      <a:lnTo>
                        <a:pt x="305" y="238"/>
                      </a:lnTo>
                      <a:lnTo>
                        <a:pt x="299" y="245"/>
                      </a:lnTo>
                      <a:lnTo>
                        <a:pt x="293" y="245"/>
                      </a:lnTo>
                      <a:lnTo>
                        <a:pt x="288" y="245"/>
                      </a:lnTo>
                      <a:lnTo>
                        <a:pt x="282" y="238"/>
                      </a:lnTo>
                      <a:lnTo>
                        <a:pt x="276" y="238"/>
                      </a:lnTo>
                      <a:lnTo>
                        <a:pt x="271" y="232"/>
                      </a:lnTo>
                      <a:lnTo>
                        <a:pt x="265" y="226"/>
                      </a:lnTo>
                      <a:lnTo>
                        <a:pt x="260" y="220"/>
                      </a:lnTo>
                      <a:lnTo>
                        <a:pt x="254" y="213"/>
                      </a:lnTo>
                      <a:lnTo>
                        <a:pt x="248" y="207"/>
                      </a:lnTo>
                      <a:lnTo>
                        <a:pt x="248" y="188"/>
                      </a:lnTo>
                      <a:lnTo>
                        <a:pt x="248" y="170"/>
                      </a:lnTo>
                      <a:lnTo>
                        <a:pt x="248" y="151"/>
                      </a:lnTo>
                      <a:lnTo>
                        <a:pt x="248" y="132"/>
                      </a:lnTo>
                      <a:lnTo>
                        <a:pt x="248" y="126"/>
                      </a:lnTo>
                      <a:lnTo>
                        <a:pt x="254" y="119"/>
                      </a:lnTo>
                      <a:lnTo>
                        <a:pt x="254" y="119"/>
                      </a:lnTo>
                      <a:lnTo>
                        <a:pt x="260" y="113"/>
                      </a:lnTo>
                      <a:lnTo>
                        <a:pt x="260" y="107"/>
                      </a:lnTo>
                      <a:lnTo>
                        <a:pt x="265" y="101"/>
                      </a:lnTo>
                      <a:lnTo>
                        <a:pt x="265" y="94"/>
                      </a:lnTo>
                      <a:lnTo>
                        <a:pt x="265" y="94"/>
                      </a:lnTo>
                      <a:lnTo>
                        <a:pt x="265" y="88"/>
                      </a:lnTo>
                      <a:lnTo>
                        <a:pt x="265" y="75"/>
                      </a:lnTo>
                      <a:lnTo>
                        <a:pt x="265" y="69"/>
                      </a:lnTo>
                      <a:lnTo>
                        <a:pt x="265" y="63"/>
                      </a:lnTo>
                      <a:lnTo>
                        <a:pt x="260" y="57"/>
                      </a:lnTo>
                      <a:lnTo>
                        <a:pt x="260" y="50"/>
                      </a:lnTo>
                      <a:lnTo>
                        <a:pt x="254" y="44"/>
                      </a:lnTo>
                      <a:lnTo>
                        <a:pt x="248" y="38"/>
                      </a:lnTo>
                      <a:lnTo>
                        <a:pt x="243" y="32"/>
                      </a:lnTo>
                      <a:lnTo>
                        <a:pt x="237" y="25"/>
                      </a:lnTo>
                      <a:lnTo>
                        <a:pt x="231" y="25"/>
                      </a:lnTo>
                      <a:lnTo>
                        <a:pt x="226" y="19"/>
                      </a:lnTo>
                      <a:lnTo>
                        <a:pt x="220" y="13"/>
                      </a:lnTo>
                      <a:lnTo>
                        <a:pt x="214" y="13"/>
                      </a:lnTo>
                      <a:lnTo>
                        <a:pt x="203" y="6"/>
                      </a:lnTo>
                      <a:lnTo>
                        <a:pt x="198" y="0"/>
                      </a:lnTo>
                      <a:lnTo>
                        <a:pt x="203" y="13"/>
                      </a:lnTo>
                      <a:lnTo>
                        <a:pt x="209" y="19"/>
                      </a:lnTo>
                      <a:lnTo>
                        <a:pt x="214" y="25"/>
                      </a:lnTo>
                      <a:lnTo>
                        <a:pt x="220" y="32"/>
                      </a:lnTo>
                      <a:lnTo>
                        <a:pt x="226" y="38"/>
                      </a:lnTo>
                      <a:lnTo>
                        <a:pt x="231" y="44"/>
                      </a:lnTo>
                      <a:lnTo>
                        <a:pt x="237" y="50"/>
                      </a:lnTo>
                      <a:lnTo>
                        <a:pt x="237" y="57"/>
                      </a:lnTo>
                      <a:lnTo>
                        <a:pt x="237" y="69"/>
                      </a:lnTo>
                      <a:lnTo>
                        <a:pt x="237" y="75"/>
                      </a:lnTo>
                      <a:lnTo>
                        <a:pt x="237" y="82"/>
                      </a:lnTo>
                      <a:lnTo>
                        <a:pt x="237" y="88"/>
                      </a:lnTo>
                      <a:lnTo>
                        <a:pt x="231" y="94"/>
                      </a:lnTo>
                      <a:lnTo>
                        <a:pt x="231" y="101"/>
                      </a:lnTo>
                      <a:lnTo>
                        <a:pt x="226" y="107"/>
                      </a:lnTo>
                      <a:lnTo>
                        <a:pt x="226" y="113"/>
                      </a:lnTo>
                      <a:lnTo>
                        <a:pt x="220" y="126"/>
                      </a:lnTo>
                      <a:lnTo>
                        <a:pt x="214" y="138"/>
                      </a:lnTo>
                      <a:lnTo>
                        <a:pt x="209" y="151"/>
                      </a:lnTo>
                      <a:lnTo>
                        <a:pt x="203" y="163"/>
                      </a:lnTo>
                      <a:lnTo>
                        <a:pt x="198" y="176"/>
                      </a:lnTo>
                      <a:lnTo>
                        <a:pt x="192" y="188"/>
                      </a:lnTo>
                      <a:lnTo>
                        <a:pt x="186" y="201"/>
                      </a:lnTo>
                      <a:lnTo>
                        <a:pt x="175" y="213"/>
                      </a:lnTo>
                      <a:lnTo>
                        <a:pt x="169" y="220"/>
                      </a:lnTo>
                      <a:lnTo>
                        <a:pt x="164" y="220"/>
                      </a:lnTo>
                      <a:lnTo>
                        <a:pt x="158" y="220"/>
                      </a:lnTo>
                      <a:lnTo>
                        <a:pt x="152" y="226"/>
                      </a:lnTo>
                      <a:lnTo>
                        <a:pt x="147" y="226"/>
                      </a:lnTo>
                      <a:lnTo>
                        <a:pt x="141" y="226"/>
                      </a:lnTo>
                      <a:lnTo>
                        <a:pt x="130" y="226"/>
                      </a:lnTo>
                      <a:lnTo>
                        <a:pt x="124" y="220"/>
                      </a:lnTo>
                      <a:lnTo>
                        <a:pt x="119" y="220"/>
                      </a:lnTo>
                      <a:lnTo>
                        <a:pt x="107" y="220"/>
                      </a:lnTo>
                      <a:lnTo>
                        <a:pt x="102" y="213"/>
                      </a:lnTo>
                      <a:lnTo>
                        <a:pt x="90" y="207"/>
                      </a:lnTo>
                      <a:lnTo>
                        <a:pt x="85" y="201"/>
                      </a:lnTo>
                      <a:lnTo>
                        <a:pt x="79" y="201"/>
                      </a:lnTo>
                      <a:lnTo>
                        <a:pt x="68" y="195"/>
                      </a:lnTo>
                      <a:lnTo>
                        <a:pt x="62" y="188"/>
                      </a:lnTo>
                      <a:lnTo>
                        <a:pt x="57" y="182"/>
                      </a:lnTo>
                      <a:lnTo>
                        <a:pt x="51" y="176"/>
                      </a:lnTo>
                      <a:lnTo>
                        <a:pt x="45" y="170"/>
                      </a:lnTo>
                      <a:lnTo>
                        <a:pt x="40" y="163"/>
                      </a:lnTo>
                      <a:lnTo>
                        <a:pt x="34" y="157"/>
                      </a:lnTo>
                      <a:lnTo>
                        <a:pt x="34" y="151"/>
                      </a:lnTo>
                      <a:lnTo>
                        <a:pt x="28" y="144"/>
                      </a:lnTo>
                      <a:lnTo>
                        <a:pt x="23" y="138"/>
                      </a:lnTo>
                      <a:lnTo>
                        <a:pt x="23" y="126"/>
                      </a:lnTo>
                      <a:lnTo>
                        <a:pt x="23" y="119"/>
                      </a:lnTo>
                      <a:lnTo>
                        <a:pt x="17" y="107"/>
                      </a:lnTo>
                      <a:lnTo>
                        <a:pt x="17" y="94"/>
                      </a:lnTo>
                      <a:lnTo>
                        <a:pt x="17" y="88"/>
                      </a:lnTo>
                      <a:lnTo>
                        <a:pt x="12" y="75"/>
                      </a:lnTo>
                      <a:lnTo>
                        <a:pt x="12" y="69"/>
                      </a:lnTo>
                      <a:lnTo>
                        <a:pt x="6" y="63"/>
                      </a:lnTo>
                      <a:lnTo>
                        <a:pt x="6" y="88"/>
                      </a:lnTo>
                      <a:lnTo>
                        <a:pt x="0" y="107"/>
                      </a:lnTo>
                      <a:lnTo>
                        <a:pt x="0" y="126"/>
                      </a:lnTo>
                      <a:lnTo>
                        <a:pt x="6" y="144"/>
                      </a:lnTo>
                      <a:lnTo>
                        <a:pt x="12" y="163"/>
                      </a:lnTo>
                      <a:lnTo>
                        <a:pt x="17" y="176"/>
                      </a:lnTo>
                      <a:lnTo>
                        <a:pt x="23" y="195"/>
                      </a:lnTo>
                      <a:lnTo>
                        <a:pt x="28" y="207"/>
                      </a:lnTo>
                      <a:lnTo>
                        <a:pt x="34" y="220"/>
                      </a:lnTo>
                      <a:lnTo>
                        <a:pt x="40" y="226"/>
                      </a:lnTo>
                      <a:lnTo>
                        <a:pt x="45" y="232"/>
                      </a:lnTo>
                      <a:lnTo>
                        <a:pt x="45" y="245"/>
                      </a:lnTo>
                      <a:lnTo>
                        <a:pt x="51" y="251"/>
                      </a:lnTo>
                      <a:lnTo>
                        <a:pt x="57" y="257"/>
                      </a:lnTo>
                      <a:lnTo>
                        <a:pt x="62" y="264"/>
                      </a:lnTo>
                      <a:lnTo>
                        <a:pt x="68" y="276"/>
                      </a:lnTo>
                      <a:lnTo>
                        <a:pt x="74" y="282"/>
                      </a:lnTo>
                      <a:lnTo>
                        <a:pt x="85" y="289"/>
                      </a:lnTo>
                      <a:lnTo>
                        <a:pt x="90" y="295"/>
                      </a:lnTo>
                      <a:lnTo>
                        <a:pt x="96" y="301"/>
                      </a:lnTo>
                      <a:lnTo>
                        <a:pt x="102" y="314"/>
                      </a:lnTo>
                      <a:lnTo>
                        <a:pt x="107" y="320"/>
                      </a:lnTo>
                      <a:lnTo>
                        <a:pt x="113" y="326"/>
                      </a:lnTo>
                      <a:lnTo>
                        <a:pt x="124" y="326"/>
                      </a:lnTo>
                      <a:lnTo>
                        <a:pt x="136" y="339"/>
                      </a:lnTo>
                      <a:lnTo>
                        <a:pt x="141" y="345"/>
                      </a:lnTo>
                      <a:lnTo>
                        <a:pt x="152" y="351"/>
                      </a:lnTo>
                      <a:lnTo>
                        <a:pt x="158" y="358"/>
                      </a:lnTo>
                      <a:lnTo>
                        <a:pt x="164" y="358"/>
                      </a:lnTo>
                      <a:lnTo>
                        <a:pt x="169" y="364"/>
                      </a:lnTo>
                      <a:lnTo>
                        <a:pt x="181" y="364"/>
                      </a:lnTo>
                      <a:lnTo>
                        <a:pt x="192" y="370"/>
                      </a:lnTo>
                      <a:lnTo>
                        <a:pt x="181" y="370"/>
                      </a:lnTo>
                      <a:lnTo>
                        <a:pt x="175" y="370"/>
                      </a:lnTo>
                      <a:lnTo>
                        <a:pt x="169" y="376"/>
                      </a:lnTo>
                      <a:lnTo>
                        <a:pt x="164" y="376"/>
                      </a:lnTo>
                      <a:lnTo>
                        <a:pt x="164" y="383"/>
                      </a:lnTo>
                      <a:lnTo>
                        <a:pt x="158" y="389"/>
                      </a:lnTo>
                      <a:lnTo>
                        <a:pt x="158" y="395"/>
                      </a:lnTo>
                      <a:lnTo>
                        <a:pt x="158" y="402"/>
                      </a:lnTo>
                      <a:lnTo>
                        <a:pt x="152" y="433"/>
                      </a:lnTo>
                      <a:lnTo>
                        <a:pt x="152" y="464"/>
                      </a:lnTo>
                      <a:lnTo>
                        <a:pt x="152" y="489"/>
                      </a:lnTo>
                      <a:lnTo>
                        <a:pt x="152" y="521"/>
                      </a:lnTo>
                      <a:lnTo>
                        <a:pt x="158" y="533"/>
                      </a:lnTo>
                      <a:lnTo>
                        <a:pt x="158" y="552"/>
                      </a:lnTo>
                      <a:lnTo>
                        <a:pt x="164" y="565"/>
                      </a:lnTo>
                      <a:lnTo>
                        <a:pt x="164" y="577"/>
                      </a:lnTo>
                      <a:lnTo>
                        <a:pt x="169" y="596"/>
                      </a:lnTo>
                      <a:lnTo>
                        <a:pt x="175" y="608"/>
                      </a:lnTo>
                      <a:lnTo>
                        <a:pt x="181" y="621"/>
                      </a:lnTo>
                      <a:lnTo>
                        <a:pt x="186" y="634"/>
                      </a:lnTo>
                      <a:lnTo>
                        <a:pt x="192" y="640"/>
                      </a:lnTo>
                      <a:lnTo>
                        <a:pt x="203" y="652"/>
                      </a:lnTo>
                      <a:lnTo>
                        <a:pt x="209" y="659"/>
                      </a:lnTo>
                      <a:lnTo>
                        <a:pt x="220" y="665"/>
                      </a:lnTo>
                      <a:lnTo>
                        <a:pt x="231" y="671"/>
                      </a:lnTo>
                      <a:lnTo>
                        <a:pt x="243" y="677"/>
                      </a:lnTo>
                      <a:lnTo>
                        <a:pt x="254" y="677"/>
                      </a:lnTo>
                      <a:lnTo>
                        <a:pt x="265" y="684"/>
                      </a:lnTo>
                      <a:lnTo>
                        <a:pt x="271" y="684"/>
                      </a:lnTo>
                      <a:lnTo>
                        <a:pt x="276" y="684"/>
                      </a:lnTo>
                      <a:lnTo>
                        <a:pt x="282" y="684"/>
                      </a:lnTo>
                      <a:lnTo>
                        <a:pt x="288" y="684"/>
                      </a:lnTo>
                      <a:lnTo>
                        <a:pt x="293" y="684"/>
                      </a:lnTo>
                      <a:lnTo>
                        <a:pt x="299" y="677"/>
                      </a:lnTo>
                      <a:lnTo>
                        <a:pt x="305" y="677"/>
                      </a:lnTo>
                      <a:lnTo>
                        <a:pt x="310" y="677"/>
                      </a:lnTo>
                      <a:lnTo>
                        <a:pt x="316" y="677"/>
                      </a:lnTo>
                      <a:lnTo>
                        <a:pt x="327" y="671"/>
                      </a:lnTo>
                      <a:lnTo>
                        <a:pt x="333" y="671"/>
                      </a:lnTo>
                      <a:lnTo>
                        <a:pt x="338" y="671"/>
                      </a:lnTo>
                      <a:lnTo>
                        <a:pt x="344" y="665"/>
                      </a:lnTo>
                      <a:lnTo>
                        <a:pt x="350" y="665"/>
                      </a:lnTo>
                      <a:lnTo>
                        <a:pt x="355" y="665"/>
                      </a:lnTo>
                      <a:lnTo>
                        <a:pt x="361" y="665"/>
                      </a:lnTo>
                      <a:lnTo>
                        <a:pt x="367" y="671"/>
                      </a:lnTo>
                      <a:lnTo>
                        <a:pt x="367" y="677"/>
                      </a:lnTo>
                      <a:lnTo>
                        <a:pt x="367" y="684"/>
                      </a:lnTo>
                      <a:lnTo>
                        <a:pt x="372" y="684"/>
                      </a:lnTo>
                      <a:lnTo>
                        <a:pt x="372" y="690"/>
                      </a:lnTo>
                      <a:lnTo>
                        <a:pt x="378" y="696"/>
                      </a:lnTo>
                      <a:lnTo>
                        <a:pt x="384" y="703"/>
                      </a:lnTo>
                      <a:lnTo>
                        <a:pt x="389" y="709"/>
                      </a:lnTo>
                      <a:lnTo>
                        <a:pt x="389" y="715"/>
                      </a:lnTo>
                      <a:lnTo>
                        <a:pt x="400" y="715"/>
                      </a:lnTo>
                      <a:lnTo>
                        <a:pt x="406" y="721"/>
                      </a:lnTo>
                      <a:lnTo>
                        <a:pt x="412" y="728"/>
                      </a:lnTo>
                      <a:lnTo>
                        <a:pt x="417" y="728"/>
                      </a:lnTo>
                      <a:lnTo>
                        <a:pt x="423" y="734"/>
                      </a:lnTo>
                      <a:lnTo>
                        <a:pt x="429" y="734"/>
                      </a:lnTo>
                      <a:lnTo>
                        <a:pt x="434" y="740"/>
                      </a:lnTo>
                      <a:lnTo>
                        <a:pt x="440" y="746"/>
                      </a:lnTo>
                      <a:lnTo>
                        <a:pt x="446" y="746"/>
                      </a:lnTo>
                      <a:lnTo>
                        <a:pt x="451" y="753"/>
                      </a:lnTo>
                      <a:lnTo>
                        <a:pt x="457" y="753"/>
                      </a:lnTo>
                      <a:lnTo>
                        <a:pt x="462" y="759"/>
                      </a:lnTo>
                      <a:lnTo>
                        <a:pt x="468" y="759"/>
                      </a:lnTo>
                      <a:lnTo>
                        <a:pt x="479" y="765"/>
                      </a:lnTo>
                      <a:lnTo>
                        <a:pt x="485" y="772"/>
                      </a:lnTo>
                      <a:lnTo>
                        <a:pt x="485" y="784"/>
                      </a:lnTo>
                      <a:lnTo>
                        <a:pt x="479" y="803"/>
                      </a:lnTo>
                      <a:lnTo>
                        <a:pt x="479" y="822"/>
                      </a:lnTo>
                      <a:lnTo>
                        <a:pt x="485" y="840"/>
                      </a:lnTo>
                      <a:lnTo>
                        <a:pt x="491" y="847"/>
                      </a:lnTo>
                      <a:lnTo>
                        <a:pt x="491" y="859"/>
                      </a:lnTo>
                      <a:lnTo>
                        <a:pt x="502" y="866"/>
                      </a:lnTo>
                      <a:lnTo>
                        <a:pt x="508" y="878"/>
                      </a:lnTo>
                      <a:lnTo>
                        <a:pt x="513" y="884"/>
                      </a:lnTo>
                      <a:lnTo>
                        <a:pt x="519" y="891"/>
                      </a:lnTo>
                      <a:lnTo>
                        <a:pt x="530" y="903"/>
                      </a:lnTo>
                      <a:lnTo>
                        <a:pt x="536" y="909"/>
                      </a:lnTo>
                      <a:lnTo>
                        <a:pt x="547" y="916"/>
                      </a:lnTo>
                      <a:lnTo>
                        <a:pt x="553" y="922"/>
                      </a:lnTo>
                      <a:lnTo>
                        <a:pt x="564" y="922"/>
                      </a:lnTo>
                      <a:lnTo>
                        <a:pt x="575" y="928"/>
                      </a:lnTo>
                      <a:lnTo>
                        <a:pt x="581" y="935"/>
                      </a:lnTo>
                      <a:lnTo>
                        <a:pt x="592" y="935"/>
                      </a:lnTo>
                      <a:lnTo>
                        <a:pt x="603" y="941"/>
                      </a:lnTo>
                      <a:lnTo>
                        <a:pt x="615" y="941"/>
                      </a:lnTo>
                      <a:lnTo>
                        <a:pt x="620" y="941"/>
                      </a:lnTo>
                      <a:lnTo>
                        <a:pt x="632" y="941"/>
                      </a:lnTo>
                      <a:lnTo>
                        <a:pt x="637" y="941"/>
                      </a:lnTo>
                      <a:lnTo>
                        <a:pt x="648" y="941"/>
                      </a:lnTo>
                      <a:lnTo>
                        <a:pt x="654" y="941"/>
                      </a:lnTo>
                      <a:lnTo>
                        <a:pt x="660" y="941"/>
                      </a:lnTo>
                      <a:lnTo>
                        <a:pt x="671" y="941"/>
                      </a:lnTo>
                      <a:lnTo>
                        <a:pt x="677" y="935"/>
                      </a:lnTo>
                      <a:lnTo>
                        <a:pt x="688" y="935"/>
                      </a:lnTo>
                      <a:lnTo>
                        <a:pt x="694" y="935"/>
                      </a:lnTo>
                      <a:lnTo>
                        <a:pt x="705" y="928"/>
                      </a:lnTo>
                      <a:lnTo>
                        <a:pt x="710" y="928"/>
                      </a:lnTo>
                      <a:lnTo>
                        <a:pt x="722" y="928"/>
                      </a:lnTo>
                      <a:lnTo>
                        <a:pt x="727" y="922"/>
                      </a:lnTo>
                      <a:lnTo>
                        <a:pt x="733" y="922"/>
                      </a:lnTo>
                      <a:lnTo>
                        <a:pt x="744" y="916"/>
                      </a:lnTo>
                      <a:lnTo>
                        <a:pt x="756" y="916"/>
                      </a:lnTo>
                      <a:lnTo>
                        <a:pt x="767" y="909"/>
                      </a:lnTo>
                      <a:lnTo>
                        <a:pt x="778" y="903"/>
                      </a:lnTo>
                      <a:lnTo>
                        <a:pt x="784" y="897"/>
                      </a:lnTo>
                      <a:lnTo>
                        <a:pt x="795" y="891"/>
                      </a:lnTo>
                      <a:lnTo>
                        <a:pt x="806" y="884"/>
                      </a:lnTo>
                      <a:lnTo>
                        <a:pt x="818" y="872"/>
                      </a:lnTo>
                      <a:lnTo>
                        <a:pt x="829" y="866"/>
                      </a:lnTo>
                      <a:lnTo>
                        <a:pt x="840" y="872"/>
                      </a:lnTo>
                      <a:lnTo>
                        <a:pt x="857" y="878"/>
                      </a:lnTo>
                      <a:lnTo>
                        <a:pt x="868" y="878"/>
                      </a:lnTo>
                      <a:lnTo>
                        <a:pt x="880" y="884"/>
                      </a:lnTo>
                      <a:lnTo>
                        <a:pt x="896" y="884"/>
                      </a:lnTo>
                      <a:lnTo>
                        <a:pt x="908" y="891"/>
                      </a:lnTo>
                      <a:lnTo>
                        <a:pt x="925" y="891"/>
                      </a:lnTo>
                      <a:lnTo>
                        <a:pt x="936" y="897"/>
                      </a:lnTo>
                      <a:lnTo>
                        <a:pt x="953" y="897"/>
                      </a:lnTo>
                      <a:lnTo>
                        <a:pt x="964" y="903"/>
                      </a:lnTo>
                      <a:lnTo>
                        <a:pt x="975" y="909"/>
                      </a:lnTo>
                      <a:lnTo>
                        <a:pt x="992" y="909"/>
                      </a:lnTo>
                      <a:lnTo>
                        <a:pt x="1004" y="916"/>
                      </a:lnTo>
                      <a:lnTo>
                        <a:pt x="1020" y="916"/>
                      </a:lnTo>
                      <a:lnTo>
                        <a:pt x="1032" y="922"/>
                      </a:lnTo>
                      <a:lnTo>
                        <a:pt x="1043" y="922"/>
                      </a:lnTo>
                      <a:lnTo>
                        <a:pt x="1054" y="928"/>
                      </a:lnTo>
                      <a:lnTo>
                        <a:pt x="1060" y="941"/>
                      </a:lnTo>
                      <a:lnTo>
                        <a:pt x="1066" y="947"/>
                      </a:lnTo>
                      <a:lnTo>
                        <a:pt x="1071" y="953"/>
                      </a:lnTo>
                      <a:lnTo>
                        <a:pt x="1082" y="960"/>
                      </a:lnTo>
                      <a:lnTo>
                        <a:pt x="1088" y="966"/>
                      </a:lnTo>
                      <a:lnTo>
                        <a:pt x="1094" y="972"/>
                      </a:lnTo>
                      <a:lnTo>
                        <a:pt x="1105" y="978"/>
                      </a:lnTo>
                      <a:lnTo>
                        <a:pt x="1116" y="985"/>
                      </a:lnTo>
                      <a:lnTo>
                        <a:pt x="1128" y="991"/>
                      </a:lnTo>
                      <a:lnTo>
                        <a:pt x="1139" y="997"/>
                      </a:lnTo>
                      <a:lnTo>
                        <a:pt x="1150" y="1004"/>
                      </a:lnTo>
                      <a:lnTo>
                        <a:pt x="1161" y="1010"/>
                      </a:lnTo>
                      <a:lnTo>
                        <a:pt x="1178" y="1016"/>
                      </a:lnTo>
                      <a:lnTo>
                        <a:pt x="1190" y="1022"/>
                      </a:lnTo>
                      <a:lnTo>
                        <a:pt x="1201" y="1029"/>
                      </a:lnTo>
                      <a:lnTo>
                        <a:pt x="1212" y="1035"/>
                      </a:lnTo>
                      <a:lnTo>
                        <a:pt x="1223" y="1041"/>
                      </a:lnTo>
                      <a:lnTo>
                        <a:pt x="1240" y="1047"/>
                      </a:lnTo>
                      <a:lnTo>
                        <a:pt x="1252" y="1054"/>
                      </a:lnTo>
                      <a:lnTo>
                        <a:pt x="1263" y="1054"/>
                      </a:lnTo>
                      <a:lnTo>
                        <a:pt x="1274" y="1060"/>
                      </a:lnTo>
                      <a:lnTo>
                        <a:pt x="1291" y="1066"/>
                      </a:lnTo>
                      <a:lnTo>
                        <a:pt x="1302" y="1073"/>
                      </a:lnTo>
                      <a:lnTo>
                        <a:pt x="1313" y="1073"/>
                      </a:lnTo>
                      <a:lnTo>
                        <a:pt x="1330" y="1079"/>
                      </a:lnTo>
                      <a:lnTo>
                        <a:pt x="1342" y="1085"/>
                      </a:lnTo>
                      <a:lnTo>
                        <a:pt x="1353" y="1085"/>
                      </a:lnTo>
                      <a:lnTo>
                        <a:pt x="1364" y="1085"/>
                      </a:lnTo>
                      <a:lnTo>
                        <a:pt x="1381" y="1091"/>
                      </a:lnTo>
                      <a:lnTo>
                        <a:pt x="1392" y="1091"/>
                      </a:lnTo>
                      <a:lnTo>
                        <a:pt x="1409" y="1098"/>
                      </a:lnTo>
                      <a:lnTo>
                        <a:pt x="1421" y="1098"/>
                      </a:lnTo>
                      <a:lnTo>
                        <a:pt x="1432" y="1098"/>
                      </a:lnTo>
                      <a:lnTo>
                        <a:pt x="1449" y="1104"/>
                      </a:lnTo>
                      <a:lnTo>
                        <a:pt x="1460" y="1104"/>
                      </a:lnTo>
                      <a:lnTo>
                        <a:pt x="1471" y="1104"/>
                      </a:lnTo>
                      <a:lnTo>
                        <a:pt x="1488" y="1104"/>
                      </a:lnTo>
                      <a:lnTo>
                        <a:pt x="1499" y="1110"/>
                      </a:lnTo>
                      <a:lnTo>
                        <a:pt x="1511" y="1110"/>
                      </a:lnTo>
                      <a:lnTo>
                        <a:pt x="1522" y="1110"/>
                      </a:lnTo>
                      <a:lnTo>
                        <a:pt x="1528" y="1110"/>
                      </a:lnTo>
                      <a:lnTo>
                        <a:pt x="1539" y="1110"/>
                      </a:lnTo>
                      <a:lnTo>
                        <a:pt x="1545" y="1110"/>
                      </a:lnTo>
                      <a:lnTo>
                        <a:pt x="1556" y="1110"/>
                      </a:lnTo>
                      <a:lnTo>
                        <a:pt x="1561" y="1110"/>
                      </a:lnTo>
                      <a:lnTo>
                        <a:pt x="1573" y="1110"/>
                      </a:lnTo>
                      <a:lnTo>
                        <a:pt x="1578" y="1110"/>
                      </a:lnTo>
                      <a:lnTo>
                        <a:pt x="1590" y="1110"/>
                      </a:lnTo>
                      <a:lnTo>
                        <a:pt x="1595" y="1110"/>
                      </a:lnTo>
                      <a:lnTo>
                        <a:pt x="1607" y="1110"/>
                      </a:lnTo>
                      <a:lnTo>
                        <a:pt x="1612" y="1110"/>
                      </a:lnTo>
                      <a:lnTo>
                        <a:pt x="1623" y="1110"/>
                      </a:lnTo>
                      <a:lnTo>
                        <a:pt x="1629" y="1110"/>
                      </a:lnTo>
                      <a:lnTo>
                        <a:pt x="1640" y="1110"/>
                      </a:lnTo>
                      <a:lnTo>
                        <a:pt x="1646" y="1116"/>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9940400">
                  <a:off x="6789600" y="2118960"/>
                  <a:ext cx="1710000" cy="700200"/>
                </a:xfrm>
                <a:custGeom>
                  <a:avLst/>
                  <a:gdLst/>
                  <a:ahLst/>
                  <a:rect l="l" t="t" r="r" b="b"/>
                  <a:pathLst>
                    <a:path w="1280" h="646">
                      <a:moveTo>
                        <a:pt x="34" y="0"/>
                      </a:moveTo>
                      <a:lnTo>
                        <a:pt x="23" y="6"/>
                      </a:lnTo>
                      <a:lnTo>
                        <a:pt x="12" y="12"/>
                      </a:lnTo>
                      <a:lnTo>
                        <a:pt x="6" y="25"/>
                      </a:lnTo>
                      <a:lnTo>
                        <a:pt x="6" y="38"/>
                      </a:lnTo>
                      <a:lnTo>
                        <a:pt x="6" y="50"/>
                      </a:lnTo>
                      <a:lnTo>
                        <a:pt x="6" y="63"/>
                      </a:lnTo>
                      <a:lnTo>
                        <a:pt x="6" y="81"/>
                      </a:lnTo>
                      <a:lnTo>
                        <a:pt x="0" y="88"/>
                      </a:lnTo>
                      <a:lnTo>
                        <a:pt x="12" y="88"/>
                      </a:lnTo>
                      <a:lnTo>
                        <a:pt x="17" y="88"/>
                      </a:lnTo>
                      <a:lnTo>
                        <a:pt x="29" y="88"/>
                      </a:lnTo>
                      <a:lnTo>
                        <a:pt x="40" y="88"/>
                      </a:lnTo>
                      <a:lnTo>
                        <a:pt x="46" y="81"/>
                      </a:lnTo>
                      <a:lnTo>
                        <a:pt x="57" y="81"/>
                      </a:lnTo>
                      <a:lnTo>
                        <a:pt x="62" y="88"/>
                      </a:lnTo>
                      <a:lnTo>
                        <a:pt x="68" y="88"/>
                      </a:lnTo>
                      <a:lnTo>
                        <a:pt x="74" y="88"/>
                      </a:lnTo>
                      <a:lnTo>
                        <a:pt x="79" y="94"/>
                      </a:lnTo>
                      <a:lnTo>
                        <a:pt x="85" y="100"/>
                      </a:lnTo>
                      <a:lnTo>
                        <a:pt x="91" y="100"/>
                      </a:lnTo>
                      <a:lnTo>
                        <a:pt x="91" y="107"/>
                      </a:lnTo>
                      <a:lnTo>
                        <a:pt x="96" y="113"/>
                      </a:lnTo>
                      <a:lnTo>
                        <a:pt x="102" y="119"/>
                      </a:lnTo>
                      <a:lnTo>
                        <a:pt x="108" y="119"/>
                      </a:lnTo>
                      <a:lnTo>
                        <a:pt x="113" y="125"/>
                      </a:lnTo>
                      <a:lnTo>
                        <a:pt x="119" y="138"/>
                      </a:lnTo>
                      <a:lnTo>
                        <a:pt x="124" y="144"/>
                      </a:lnTo>
                      <a:lnTo>
                        <a:pt x="130" y="150"/>
                      </a:lnTo>
                      <a:lnTo>
                        <a:pt x="130" y="157"/>
                      </a:lnTo>
                      <a:lnTo>
                        <a:pt x="141" y="163"/>
                      </a:lnTo>
                      <a:lnTo>
                        <a:pt x="147" y="169"/>
                      </a:lnTo>
                      <a:lnTo>
                        <a:pt x="153" y="175"/>
                      </a:lnTo>
                      <a:lnTo>
                        <a:pt x="158" y="175"/>
                      </a:lnTo>
                      <a:lnTo>
                        <a:pt x="164" y="175"/>
                      </a:lnTo>
                      <a:lnTo>
                        <a:pt x="170" y="175"/>
                      </a:lnTo>
                      <a:lnTo>
                        <a:pt x="175" y="169"/>
                      </a:lnTo>
                      <a:lnTo>
                        <a:pt x="181" y="169"/>
                      </a:lnTo>
                      <a:lnTo>
                        <a:pt x="186" y="169"/>
                      </a:lnTo>
                      <a:lnTo>
                        <a:pt x="192" y="163"/>
                      </a:lnTo>
                      <a:lnTo>
                        <a:pt x="198" y="163"/>
                      </a:lnTo>
                      <a:lnTo>
                        <a:pt x="209" y="163"/>
                      </a:lnTo>
                      <a:lnTo>
                        <a:pt x="215" y="157"/>
                      </a:lnTo>
                      <a:lnTo>
                        <a:pt x="226" y="150"/>
                      </a:lnTo>
                      <a:lnTo>
                        <a:pt x="237" y="150"/>
                      </a:lnTo>
                      <a:lnTo>
                        <a:pt x="248" y="150"/>
                      </a:lnTo>
                      <a:lnTo>
                        <a:pt x="254" y="144"/>
                      </a:lnTo>
                      <a:lnTo>
                        <a:pt x="265" y="144"/>
                      </a:lnTo>
                      <a:lnTo>
                        <a:pt x="277" y="150"/>
                      </a:lnTo>
                      <a:lnTo>
                        <a:pt x="277" y="150"/>
                      </a:lnTo>
                      <a:lnTo>
                        <a:pt x="282" y="157"/>
                      </a:lnTo>
                      <a:lnTo>
                        <a:pt x="288" y="163"/>
                      </a:lnTo>
                      <a:lnTo>
                        <a:pt x="288" y="169"/>
                      </a:lnTo>
                      <a:lnTo>
                        <a:pt x="294" y="175"/>
                      </a:lnTo>
                      <a:lnTo>
                        <a:pt x="294" y="182"/>
                      </a:lnTo>
                      <a:lnTo>
                        <a:pt x="294" y="194"/>
                      </a:lnTo>
                      <a:lnTo>
                        <a:pt x="299" y="201"/>
                      </a:lnTo>
                      <a:lnTo>
                        <a:pt x="299" y="207"/>
                      </a:lnTo>
                      <a:lnTo>
                        <a:pt x="305" y="219"/>
                      </a:lnTo>
                      <a:lnTo>
                        <a:pt x="305" y="232"/>
                      </a:lnTo>
                      <a:lnTo>
                        <a:pt x="299" y="238"/>
                      </a:lnTo>
                      <a:lnTo>
                        <a:pt x="294" y="244"/>
                      </a:lnTo>
                      <a:lnTo>
                        <a:pt x="294" y="251"/>
                      </a:lnTo>
                      <a:lnTo>
                        <a:pt x="288" y="257"/>
                      </a:lnTo>
                      <a:lnTo>
                        <a:pt x="282" y="257"/>
                      </a:lnTo>
                      <a:lnTo>
                        <a:pt x="277" y="263"/>
                      </a:lnTo>
                      <a:lnTo>
                        <a:pt x="271" y="263"/>
                      </a:lnTo>
                      <a:lnTo>
                        <a:pt x="265" y="270"/>
                      </a:lnTo>
                      <a:lnTo>
                        <a:pt x="260" y="276"/>
                      </a:lnTo>
                      <a:lnTo>
                        <a:pt x="248" y="276"/>
                      </a:lnTo>
                      <a:lnTo>
                        <a:pt x="243" y="282"/>
                      </a:lnTo>
                      <a:lnTo>
                        <a:pt x="237" y="282"/>
                      </a:lnTo>
                      <a:lnTo>
                        <a:pt x="232" y="288"/>
                      </a:lnTo>
                      <a:lnTo>
                        <a:pt x="226" y="288"/>
                      </a:lnTo>
                      <a:lnTo>
                        <a:pt x="220" y="295"/>
                      </a:lnTo>
                      <a:lnTo>
                        <a:pt x="215" y="295"/>
                      </a:lnTo>
                      <a:lnTo>
                        <a:pt x="209" y="301"/>
                      </a:lnTo>
                      <a:lnTo>
                        <a:pt x="215" y="301"/>
                      </a:lnTo>
                      <a:lnTo>
                        <a:pt x="220" y="295"/>
                      </a:lnTo>
                      <a:lnTo>
                        <a:pt x="226" y="295"/>
                      </a:lnTo>
                      <a:lnTo>
                        <a:pt x="232" y="295"/>
                      </a:lnTo>
                      <a:lnTo>
                        <a:pt x="237" y="295"/>
                      </a:lnTo>
                      <a:lnTo>
                        <a:pt x="243" y="295"/>
                      </a:lnTo>
                      <a:lnTo>
                        <a:pt x="248" y="295"/>
                      </a:lnTo>
                      <a:lnTo>
                        <a:pt x="260" y="295"/>
                      </a:lnTo>
                      <a:lnTo>
                        <a:pt x="265" y="288"/>
                      </a:lnTo>
                      <a:lnTo>
                        <a:pt x="271" y="288"/>
                      </a:lnTo>
                      <a:lnTo>
                        <a:pt x="277" y="288"/>
                      </a:lnTo>
                      <a:lnTo>
                        <a:pt x="282" y="288"/>
                      </a:lnTo>
                      <a:lnTo>
                        <a:pt x="288" y="288"/>
                      </a:lnTo>
                      <a:lnTo>
                        <a:pt x="294" y="282"/>
                      </a:lnTo>
                      <a:lnTo>
                        <a:pt x="299" y="282"/>
                      </a:lnTo>
                      <a:lnTo>
                        <a:pt x="305" y="282"/>
                      </a:lnTo>
                      <a:lnTo>
                        <a:pt x="310" y="276"/>
                      </a:lnTo>
                      <a:lnTo>
                        <a:pt x="316" y="276"/>
                      </a:lnTo>
                      <a:lnTo>
                        <a:pt x="322" y="270"/>
                      </a:lnTo>
                      <a:lnTo>
                        <a:pt x="327" y="263"/>
                      </a:lnTo>
                      <a:lnTo>
                        <a:pt x="333" y="263"/>
                      </a:lnTo>
                      <a:lnTo>
                        <a:pt x="339" y="257"/>
                      </a:lnTo>
                      <a:lnTo>
                        <a:pt x="344" y="251"/>
                      </a:lnTo>
                      <a:lnTo>
                        <a:pt x="350" y="251"/>
                      </a:lnTo>
                      <a:lnTo>
                        <a:pt x="361" y="244"/>
                      </a:lnTo>
                      <a:lnTo>
                        <a:pt x="372" y="244"/>
                      </a:lnTo>
                      <a:lnTo>
                        <a:pt x="384" y="238"/>
                      </a:lnTo>
                      <a:lnTo>
                        <a:pt x="395" y="238"/>
                      </a:lnTo>
                      <a:lnTo>
                        <a:pt x="401" y="232"/>
                      </a:lnTo>
                      <a:lnTo>
                        <a:pt x="412" y="232"/>
                      </a:lnTo>
                      <a:lnTo>
                        <a:pt x="423" y="232"/>
                      </a:lnTo>
                      <a:lnTo>
                        <a:pt x="434" y="232"/>
                      </a:lnTo>
                      <a:lnTo>
                        <a:pt x="446" y="238"/>
                      </a:lnTo>
                      <a:lnTo>
                        <a:pt x="451" y="238"/>
                      </a:lnTo>
                      <a:lnTo>
                        <a:pt x="463" y="244"/>
                      </a:lnTo>
                      <a:lnTo>
                        <a:pt x="474" y="251"/>
                      </a:lnTo>
                      <a:lnTo>
                        <a:pt x="480" y="251"/>
                      </a:lnTo>
                      <a:lnTo>
                        <a:pt x="491" y="263"/>
                      </a:lnTo>
                      <a:lnTo>
                        <a:pt x="496" y="270"/>
                      </a:lnTo>
                      <a:lnTo>
                        <a:pt x="502" y="276"/>
                      </a:lnTo>
                      <a:lnTo>
                        <a:pt x="508" y="288"/>
                      </a:lnTo>
                      <a:lnTo>
                        <a:pt x="513" y="301"/>
                      </a:lnTo>
                      <a:lnTo>
                        <a:pt x="513" y="320"/>
                      </a:lnTo>
                      <a:lnTo>
                        <a:pt x="508" y="332"/>
                      </a:lnTo>
                      <a:lnTo>
                        <a:pt x="496" y="339"/>
                      </a:lnTo>
                      <a:lnTo>
                        <a:pt x="491" y="345"/>
                      </a:lnTo>
                      <a:lnTo>
                        <a:pt x="485" y="351"/>
                      </a:lnTo>
                      <a:lnTo>
                        <a:pt x="474" y="357"/>
                      </a:lnTo>
                      <a:lnTo>
                        <a:pt x="463" y="364"/>
                      </a:lnTo>
                      <a:lnTo>
                        <a:pt x="451" y="370"/>
                      </a:lnTo>
                      <a:lnTo>
                        <a:pt x="446" y="376"/>
                      </a:lnTo>
                      <a:lnTo>
                        <a:pt x="434" y="382"/>
                      </a:lnTo>
                      <a:lnTo>
                        <a:pt x="429" y="382"/>
                      </a:lnTo>
                      <a:lnTo>
                        <a:pt x="423" y="389"/>
                      </a:lnTo>
                      <a:lnTo>
                        <a:pt x="412" y="395"/>
                      </a:lnTo>
                      <a:lnTo>
                        <a:pt x="406" y="401"/>
                      </a:lnTo>
                      <a:lnTo>
                        <a:pt x="401" y="408"/>
                      </a:lnTo>
                      <a:lnTo>
                        <a:pt x="389" y="414"/>
                      </a:lnTo>
                      <a:lnTo>
                        <a:pt x="384" y="420"/>
                      </a:lnTo>
                      <a:lnTo>
                        <a:pt x="378" y="426"/>
                      </a:lnTo>
                      <a:lnTo>
                        <a:pt x="384" y="426"/>
                      </a:lnTo>
                      <a:lnTo>
                        <a:pt x="395" y="420"/>
                      </a:lnTo>
                      <a:lnTo>
                        <a:pt x="401" y="420"/>
                      </a:lnTo>
                      <a:lnTo>
                        <a:pt x="406" y="414"/>
                      </a:lnTo>
                      <a:lnTo>
                        <a:pt x="412" y="414"/>
                      </a:lnTo>
                      <a:lnTo>
                        <a:pt x="423" y="414"/>
                      </a:lnTo>
                      <a:lnTo>
                        <a:pt x="429" y="408"/>
                      </a:lnTo>
                      <a:lnTo>
                        <a:pt x="434" y="408"/>
                      </a:lnTo>
                      <a:lnTo>
                        <a:pt x="446" y="401"/>
                      </a:lnTo>
                      <a:lnTo>
                        <a:pt x="451" y="401"/>
                      </a:lnTo>
                      <a:lnTo>
                        <a:pt x="463" y="395"/>
                      </a:lnTo>
                      <a:lnTo>
                        <a:pt x="468" y="395"/>
                      </a:lnTo>
                      <a:lnTo>
                        <a:pt x="474" y="395"/>
                      </a:lnTo>
                      <a:lnTo>
                        <a:pt x="485" y="389"/>
                      </a:lnTo>
                      <a:lnTo>
                        <a:pt x="491" y="389"/>
                      </a:lnTo>
                      <a:lnTo>
                        <a:pt x="496" y="389"/>
                      </a:lnTo>
                      <a:lnTo>
                        <a:pt x="502" y="382"/>
                      </a:lnTo>
                      <a:lnTo>
                        <a:pt x="508" y="382"/>
                      </a:lnTo>
                      <a:lnTo>
                        <a:pt x="513" y="382"/>
                      </a:lnTo>
                      <a:lnTo>
                        <a:pt x="519" y="382"/>
                      </a:lnTo>
                      <a:lnTo>
                        <a:pt x="525" y="382"/>
                      </a:lnTo>
                      <a:lnTo>
                        <a:pt x="530" y="382"/>
                      </a:lnTo>
                      <a:lnTo>
                        <a:pt x="536" y="382"/>
                      </a:lnTo>
                      <a:lnTo>
                        <a:pt x="542" y="382"/>
                      </a:lnTo>
                      <a:lnTo>
                        <a:pt x="547" y="395"/>
                      </a:lnTo>
                      <a:lnTo>
                        <a:pt x="553" y="414"/>
                      </a:lnTo>
                      <a:lnTo>
                        <a:pt x="553" y="426"/>
                      </a:lnTo>
                      <a:lnTo>
                        <a:pt x="553" y="445"/>
                      </a:lnTo>
                      <a:lnTo>
                        <a:pt x="558" y="451"/>
                      </a:lnTo>
                      <a:lnTo>
                        <a:pt x="558" y="458"/>
                      </a:lnTo>
                      <a:lnTo>
                        <a:pt x="564" y="464"/>
                      </a:lnTo>
                      <a:lnTo>
                        <a:pt x="564" y="476"/>
                      </a:lnTo>
                      <a:lnTo>
                        <a:pt x="570" y="483"/>
                      </a:lnTo>
                      <a:lnTo>
                        <a:pt x="570" y="489"/>
                      </a:lnTo>
                      <a:lnTo>
                        <a:pt x="570" y="495"/>
                      </a:lnTo>
                      <a:lnTo>
                        <a:pt x="570" y="502"/>
                      </a:lnTo>
                      <a:lnTo>
                        <a:pt x="564" y="508"/>
                      </a:lnTo>
                      <a:lnTo>
                        <a:pt x="564" y="514"/>
                      </a:lnTo>
                      <a:lnTo>
                        <a:pt x="558" y="520"/>
                      </a:lnTo>
                      <a:lnTo>
                        <a:pt x="553" y="527"/>
                      </a:lnTo>
                      <a:lnTo>
                        <a:pt x="542" y="533"/>
                      </a:lnTo>
                      <a:lnTo>
                        <a:pt x="536" y="533"/>
                      </a:lnTo>
                      <a:lnTo>
                        <a:pt x="530" y="539"/>
                      </a:lnTo>
                      <a:lnTo>
                        <a:pt x="525" y="545"/>
                      </a:lnTo>
                      <a:lnTo>
                        <a:pt x="536" y="545"/>
                      </a:lnTo>
                      <a:lnTo>
                        <a:pt x="542" y="545"/>
                      </a:lnTo>
                      <a:lnTo>
                        <a:pt x="553" y="552"/>
                      </a:lnTo>
                      <a:lnTo>
                        <a:pt x="558" y="552"/>
                      </a:lnTo>
                      <a:lnTo>
                        <a:pt x="570" y="552"/>
                      </a:lnTo>
                      <a:lnTo>
                        <a:pt x="575" y="552"/>
                      </a:lnTo>
                      <a:lnTo>
                        <a:pt x="587" y="552"/>
                      </a:lnTo>
                      <a:lnTo>
                        <a:pt x="592" y="552"/>
                      </a:lnTo>
                      <a:lnTo>
                        <a:pt x="604" y="552"/>
                      </a:lnTo>
                      <a:lnTo>
                        <a:pt x="615" y="545"/>
                      </a:lnTo>
                      <a:lnTo>
                        <a:pt x="626" y="539"/>
                      </a:lnTo>
                      <a:lnTo>
                        <a:pt x="632" y="527"/>
                      </a:lnTo>
                      <a:lnTo>
                        <a:pt x="643" y="520"/>
                      </a:lnTo>
                      <a:lnTo>
                        <a:pt x="654" y="514"/>
                      </a:lnTo>
                      <a:lnTo>
                        <a:pt x="666" y="508"/>
                      </a:lnTo>
                      <a:lnTo>
                        <a:pt x="677" y="508"/>
                      </a:lnTo>
                      <a:lnTo>
                        <a:pt x="688" y="508"/>
                      </a:lnTo>
                      <a:lnTo>
                        <a:pt x="705" y="508"/>
                      </a:lnTo>
                      <a:lnTo>
                        <a:pt x="716" y="508"/>
                      </a:lnTo>
                      <a:lnTo>
                        <a:pt x="733" y="508"/>
                      </a:lnTo>
                      <a:lnTo>
                        <a:pt x="744" y="514"/>
                      </a:lnTo>
                      <a:lnTo>
                        <a:pt x="761" y="514"/>
                      </a:lnTo>
                      <a:lnTo>
                        <a:pt x="773" y="520"/>
                      </a:lnTo>
                      <a:lnTo>
                        <a:pt x="784" y="520"/>
                      </a:lnTo>
                      <a:lnTo>
                        <a:pt x="801" y="527"/>
                      </a:lnTo>
                      <a:lnTo>
                        <a:pt x="812" y="533"/>
                      </a:lnTo>
                      <a:lnTo>
                        <a:pt x="829" y="539"/>
                      </a:lnTo>
                      <a:lnTo>
                        <a:pt x="840" y="539"/>
                      </a:lnTo>
                      <a:lnTo>
                        <a:pt x="852" y="545"/>
                      </a:lnTo>
                      <a:lnTo>
                        <a:pt x="868" y="552"/>
                      </a:lnTo>
                      <a:lnTo>
                        <a:pt x="880" y="558"/>
                      </a:lnTo>
                      <a:lnTo>
                        <a:pt x="891" y="558"/>
                      </a:lnTo>
                      <a:lnTo>
                        <a:pt x="897" y="564"/>
                      </a:lnTo>
                      <a:lnTo>
                        <a:pt x="902" y="564"/>
                      </a:lnTo>
                      <a:lnTo>
                        <a:pt x="908" y="571"/>
                      </a:lnTo>
                      <a:lnTo>
                        <a:pt x="908" y="571"/>
                      </a:lnTo>
                      <a:lnTo>
                        <a:pt x="914" y="577"/>
                      </a:lnTo>
                      <a:lnTo>
                        <a:pt x="919" y="577"/>
                      </a:lnTo>
                      <a:lnTo>
                        <a:pt x="919" y="583"/>
                      </a:lnTo>
                      <a:lnTo>
                        <a:pt x="925" y="589"/>
                      </a:lnTo>
                      <a:lnTo>
                        <a:pt x="930" y="589"/>
                      </a:lnTo>
                      <a:lnTo>
                        <a:pt x="936" y="596"/>
                      </a:lnTo>
                      <a:lnTo>
                        <a:pt x="942" y="602"/>
                      </a:lnTo>
                      <a:lnTo>
                        <a:pt x="947" y="608"/>
                      </a:lnTo>
                      <a:lnTo>
                        <a:pt x="953" y="614"/>
                      </a:lnTo>
                      <a:lnTo>
                        <a:pt x="964" y="621"/>
                      </a:lnTo>
                      <a:lnTo>
                        <a:pt x="970" y="621"/>
                      </a:lnTo>
                      <a:lnTo>
                        <a:pt x="981" y="627"/>
                      </a:lnTo>
                      <a:lnTo>
                        <a:pt x="992" y="633"/>
                      </a:lnTo>
                      <a:lnTo>
                        <a:pt x="1004" y="633"/>
                      </a:lnTo>
                      <a:lnTo>
                        <a:pt x="1015" y="640"/>
                      </a:lnTo>
                      <a:lnTo>
                        <a:pt x="1026" y="640"/>
                      </a:lnTo>
                      <a:lnTo>
                        <a:pt x="1038" y="640"/>
                      </a:lnTo>
                      <a:lnTo>
                        <a:pt x="1049" y="640"/>
                      </a:lnTo>
                      <a:lnTo>
                        <a:pt x="1060" y="646"/>
                      </a:lnTo>
                      <a:lnTo>
                        <a:pt x="1066" y="646"/>
                      </a:lnTo>
                      <a:lnTo>
                        <a:pt x="1077" y="646"/>
                      </a:lnTo>
                      <a:lnTo>
                        <a:pt x="1088" y="646"/>
                      </a:lnTo>
                      <a:lnTo>
                        <a:pt x="1094" y="646"/>
                      </a:lnTo>
                      <a:lnTo>
                        <a:pt x="1105" y="646"/>
                      </a:lnTo>
                      <a:lnTo>
                        <a:pt x="1111" y="646"/>
                      </a:lnTo>
                      <a:lnTo>
                        <a:pt x="1122" y="646"/>
                      </a:lnTo>
                      <a:lnTo>
                        <a:pt x="1128" y="646"/>
                      </a:lnTo>
                      <a:lnTo>
                        <a:pt x="1133" y="646"/>
                      </a:lnTo>
                      <a:lnTo>
                        <a:pt x="1145" y="646"/>
                      </a:lnTo>
                      <a:lnTo>
                        <a:pt x="1150" y="646"/>
                      </a:lnTo>
                      <a:lnTo>
                        <a:pt x="1161" y="646"/>
                      </a:lnTo>
                      <a:lnTo>
                        <a:pt x="1167" y="646"/>
                      </a:lnTo>
                      <a:lnTo>
                        <a:pt x="1178" y="646"/>
                      </a:lnTo>
                      <a:lnTo>
                        <a:pt x="1190" y="640"/>
                      </a:lnTo>
                      <a:lnTo>
                        <a:pt x="1195" y="640"/>
                      </a:lnTo>
                      <a:lnTo>
                        <a:pt x="1207" y="640"/>
                      </a:lnTo>
                      <a:lnTo>
                        <a:pt x="1207" y="640"/>
                      </a:lnTo>
                      <a:lnTo>
                        <a:pt x="1212" y="633"/>
                      </a:lnTo>
                      <a:lnTo>
                        <a:pt x="1218" y="633"/>
                      </a:lnTo>
                      <a:lnTo>
                        <a:pt x="1223" y="633"/>
                      </a:lnTo>
                      <a:lnTo>
                        <a:pt x="1223" y="627"/>
                      </a:lnTo>
                      <a:lnTo>
                        <a:pt x="1229" y="627"/>
                      </a:lnTo>
                      <a:lnTo>
                        <a:pt x="1235" y="621"/>
                      </a:lnTo>
                      <a:lnTo>
                        <a:pt x="1235" y="621"/>
                      </a:lnTo>
                      <a:lnTo>
                        <a:pt x="1235" y="614"/>
                      </a:lnTo>
                      <a:lnTo>
                        <a:pt x="1235" y="608"/>
                      </a:lnTo>
                      <a:lnTo>
                        <a:pt x="1229" y="608"/>
                      </a:lnTo>
                      <a:lnTo>
                        <a:pt x="1229" y="602"/>
                      </a:lnTo>
                      <a:lnTo>
                        <a:pt x="1223" y="602"/>
                      </a:lnTo>
                      <a:lnTo>
                        <a:pt x="1223" y="596"/>
                      </a:lnTo>
                      <a:lnTo>
                        <a:pt x="1218" y="596"/>
                      </a:lnTo>
                      <a:lnTo>
                        <a:pt x="1218" y="589"/>
                      </a:lnTo>
                      <a:lnTo>
                        <a:pt x="1223" y="589"/>
                      </a:lnTo>
                      <a:lnTo>
                        <a:pt x="1229" y="583"/>
                      </a:lnTo>
                      <a:lnTo>
                        <a:pt x="1235" y="583"/>
                      </a:lnTo>
                      <a:lnTo>
                        <a:pt x="1240" y="583"/>
                      </a:lnTo>
                      <a:lnTo>
                        <a:pt x="1246" y="583"/>
                      </a:lnTo>
                      <a:lnTo>
                        <a:pt x="1252" y="583"/>
                      </a:lnTo>
                      <a:lnTo>
                        <a:pt x="1257" y="577"/>
                      </a:lnTo>
                      <a:lnTo>
                        <a:pt x="1263" y="577"/>
                      </a:lnTo>
                      <a:lnTo>
                        <a:pt x="1263" y="577"/>
                      </a:lnTo>
                      <a:lnTo>
                        <a:pt x="1269" y="571"/>
                      </a:lnTo>
                      <a:lnTo>
                        <a:pt x="1269" y="571"/>
                      </a:lnTo>
                      <a:lnTo>
                        <a:pt x="1274" y="564"/>
                      </a:lnTo>
                      <a:lnTo>
                        <a:pt x="1274" y="564"/>
                      </a:lnTo>
                      <a:lnTo>
                        <a:pt x="1280" y="558"/>
                      </a:lnTo>
                      <a:lnTo>
                        <a:pt x="1280" y="558"/>
                      </a:lnTo>
                      <a:lnTo>
                        <a:pt x="1280" y="552"/>
                      </a:lnTo>
                      <a:lnTo>
                        <a:pt x="1280" y="539"/>
                      </a:lnTo>
                      <a:lnTo>
                        <a:pt x="1274" y="533"/>
                      </a:lnTo>
                      <a:lnTo>
                        <a:pt x="1269" y="520"/>
                      </a:lnTo>
                      <a:lnTo>
                        <a:pt x="1269" y="508"/>
                      </a:lnTo>
                      <a:lnTo>
                        <a:pt x="1269" y="495"/>
                      </a:lnTo>
                      <a:lnTo>
                        <a:pt x="1269" y="489"/>
                      </a:lnTo>
                      <a:lnTo>
                        <a:pt x="1274" y="476"/>
                      </a:lnTo>
                      <a:lnTo>
                        <a:pt x="1269" y="470"/>
                      </a:lnTo>
                      <a:lnTo>
                        <a:pt x="1269" y="464"/>
                      </a:lnTo>
                      <a:lnTo>
                        <a:pt x="1263" y="464"/>
                      </a:lnTo>
                      <a:lnTo>
                        <a:pt x="1263" y="464"/>
                      </a:lnTo>
                      <a:lnTo>
                        <a:pt x="1257" y="464"/>
                      </a:lnTo>
                      <a:lnTo>
                        <a:pt x="1252" y="464"/>
                      </a:lnTo>
                      <a:lnTo>
                        <a:pt x="1252" y="464"/>
                      </a:lnTo>
                      <a:lnTo>
                        <a:pt x="1246" y="464"/>
                      </a:lnTo>
                      <a:lnTo>
                        <a:pt x="1240" y="464"/>
                      </a:lnTo>
                      <a:lnTo>
                        <a:pt x="1235" y="470"/>
                      </a:lnTo>
                      <a:lnTo>
                        <a:pt x="1223" y="476"/>
                      </a:lnTo>
                      <a:lnTo>
                        <a:pt x="1218" y="489"/>
                      </a:lnTo>
                      <a:lnTo>
                        <a:pt x="1207" y="495"/>
                      </a:lnTo>
                      <a:lnTo>
                        <a:pt x="1201" y="508"/>
                      </a:lnTo>
                      <a:lnTo>
                        <a:pt x="1190" y="514"/>
                      </a:lnTo>
                      <a:lnTo>
                        <a:pt x="1184" y="520"/>
                      </a:lnTo>
                      <a:lnTo>
                        <a:pt x="1173" y="527"/>
                      </a:lnTo>
                      <a:lnTo>
                        <a:pt x="1161" y="527"/>
                      </a:lnTo>
                      <a:lnTo>
                        <a:pt x="1150" y="527"/>
                      </a:lnTo>
                      <a:lnTo>
                        <a:pt x="1139" y="527"/>
                      </a:lnTo>
                      <a:lnTo>
                        <a:pt x="1128" y="527"/>
                      </a:lnTo>
                      <a:lnTo>
                        <a:pt x="1116" y="533"/>
                      </a:lnTo>
                      <a:lnTo>
                        <a:pt x="1105" y="527"/>
                      </a:lnTo>
                      <a:lnTo>
                        <a:pt x="1100" y="527"/>
                      </a:lnTo>
                      <a:lnTo>
                        <a:pt x="1088" y="527"/>
                      </a:lnTo>
                      <a:lnTo>
                        <a:pt x="1077" y="527"/>
                      </a:lnTo>
                      <a:lnTo>
                        <a:pt x="1066" y="527"/>
                      </a:lnTo>
                      <a:lnTo>
                        <a:pt x="1054" y="527"/>
                      </a:lnTo>
                      <a:lnTo>
                        <a:pt x="1043" y="520"/>
                      </a:lnTo>
                      <a:lnTo>
                        <a:pt x="1032" y="520"/>
                      </a:lnTo>
                      <a:lnTo>
                        <a:pt x="1021" y="520"/>
                      </a:lnTo>
                      <a:lnTo>
                        <a:pt x="1009" y="514"/>
                      </a:lnTo>
                      <a:lnTo>
                        <a:pt x="998" y="514"/>
                      </a:lnTo>
                      <a:lnTo>
                        <a:pt x="987" y="514"/>
                      </a:lnTo>
                      <a:lnTo>
                        <a:pt x="981" y="508"/>
                      </a:lnTo>
                      <a:lnTo>
                        <a:pt x="970" y="508"/>
                      </a:lnTo>
                      <a:lnTo>
                        <a:pt x="959" y="502"/>
                      </a:lnTo>
                      <a:lnTo>
                        <a:pt x="953" y="502"/>
                      </a:lnTo>
                      <a:lnTo>
                        <a:pt x="942" y="495"/>
                      </a:lnTo>
                      <a:lnTo>
                        <a:pt x="930" y="489"/>
                      </a:lnTo>
                      <a:lnTo>
                        <a:pt x="925" y="489"/>
                      </a:lnTo>
                      <a:lnTo>
                        <a:pt x="914" y="483"/>
                      </a:lnTo>
                      <a:lnTo>
                        <a:pt x="902" y="483"/>
                      </a:lnTo>
                      <a:lnTo>
                        <a:pt x="897" y="476"/>
                      </a:lnTo>
                      <a:lnTo>
                        <a:pt x="885" y="470"/>
                      </a:lnTo>
                      <a:lnTo>
                        <a:pt x="874" y="470"/>
                      </a:lnTo>
                      <a:lnTo>
                        <a:pt x="863" y="464"/>
                      </a:lnTo>
                      <a:lnTo>
                        <a:pt x="857" y="464"/>
                      </a:lnTo>
                      <a:lnTo>
                        <a:pt x="846" y="464"/>
                      </a:lnTo>
                      <a:lnTo>
                        <a:pt x="835" y="458"/>
                      </a:lnTo>
                      <a:lnTo>
                        <a:pt x="829" y="458"/>
                      </a:lnTo>
                      <a:lnTo>
                        <a:pt x="818" y="458"/>
                      </a:lnTo>
                      <a:lnTo>
                        <a:pt x="806" y="458"/>
                      </a:lnTo>
                      <a:lnTo>
                        <a:pt x="795" y="464"/>
                      </a:lnTo>
                      <a:lnTo>
                        <a:pt x="790" y="464"/>
                      </a:lnTo>
                      <a:lnTo>
                        <a:pt x="778" y="464"/>
                      </a:lnTo>
                      <a:lnTo>
                        <a:pt x="767" y="458"/>
                      </a:lnTo>
                      <a:lnTo>
                        <a:pt x="761" y="458"/>
                      </a:lnTo>
                      <a:lnTo>
                        <a:pt x="756" y="458"/>
                      </a:lnTo>
                      <a:lnTo>
                        <a:pt x="750" y="458"/>
                      </a:lnTo>
                      <a:lnTo>
                        <a:pt x="744" y="451"/>
                      </a:lnTo>
                      <a:lnTo>
                        <a:pt x="739" y="451"/>
                      </a:lnTo>
                      <a:lnTo>
                        <a:pt x="733" y="451"/>
                      </a:lnTo>
                      <a:lnTo>
                        <a:pt x="728" y="445"/>
                      </a:lnTo>
                      <a:lnTo>
                        <a:pt x="722" y="445"/>
                      </a:lnTo>
                      <a:lnTo>
                        <a:pt x="716" y="445"/>
                      </a:lnTo>
                      <a:lnTo>
                        <a:pt x="711" y="439"/>
                      </a:lnTo>
                      <a:lnTo>
                        <a:pt x="705" y="439"/>
                      </a:lnTo>
                      <a:lnTo>
                        <a:pt x="699" y="433"/>
                      </a:lnTo>
                      <a:lnTo>
                        <a:pt x="694" y="433"/>
                      </a:lnTo>
                      <a:lnTo>
                        <a:pt x="688" y="426"/>
                      </a:lnTo>
                      <a:lnTo>
                        <a:pt x="688" y="426"/>
                      </a:lnTo>
                      <a:lnTo>
                        <a:pt x="682" y="420"/>
                      </a:lnTo>
                      <a:lnTo>
                        <a:pt x="671" y="414"/>
                      </a:lnTo>
                      <a:lnTo>
                        <a:pt x="666" y="408"/>
                      </a:lnTo>
                      <a:lnTo>
                        <a:pt x="660" y="401"/>
                      </a:lnTo>
                      <a:lnTo>
                        <a:pt x="649" y="395"/>
                      </a:lnTo>
                      <a:lnTo>
                        <a:pt x="643" y="389"/>
                      </a:lnTo>
                      <a:lnTo>
                        <a:pt x="637" y="382"/>
                      </a:lnTo>
                      <a:lnTo>
                        <a:pt x="626" y="370"/>
                      </a:lnTo>
                      <a:lnTo>
                        <a:pt x="620" y="364"/>
                      </a:lnTo>
                      <a:lnTo>
                        <a:pt x="615" y="357"/>
                      </a:lnTo>
                      <a:lnTo>
                        <a:pt x="604" y="345"/>
                      </a:lnTo>
                      <a:lnTo>
                        <a:pt x="598" y="339"/>
                      </a:lnTo>
                      <a:lnTo>
                        <a:pt x="592" y="332"/>
                      </a:lnTo>
                      <a:lnTo>
                        <a:pt x="587" y="320"/>
                      </a:lnTo>
                      <a:lnTo>
                        <a:pt x="581" y="313"/>
                      </a:lnTo>
                      <a:lnTo>
                        <a:pt x="570" y="307"/>
                      </a:lnTo>
                      <a:lnTo>
                        <a:pt x="564" y="295"/>
                      </a:lnTo>
                      <a:lnTo>
                        <a:pt x="558" y="282"/>
                      </a:lnTo>
                      <a:lnTo>
                        <a:pt x="547" y="270"/>
                      </a:lnTo>
                      <a:lnTo>
                        <a:pt x="542" y="257"/>
                      </a:lnTo>
                      <a:lnTo>
                        <a:pt x="536" y="244"/>
                      </a:lnTo>
                      <a:lnTo>
                        <a:pt x="525" y="232"/>
                      </a:lnTo>
                      <a:lnTo>
                        <a:pt x="519" y="219"/>
                      </a:lnTo>
                      <a:lnTo>
                        <a:pt x="513" y="201"/>
                      </a:lnTo>
                      <a:lnTo>
                        <a:pt x="502" y="188"/>
                      </a:lnTo>
                      <a:lnTo>
                        <a:pt x="496" y="182"/>
                      </a:lnTo>
                      <a:lnTo>
                        <a:pt x="496" y="175"/>
                      </a:lnTo>
                      <a:lnTo>
                        <a:pt x="491" y="169"/>
                      </a:lnTo>
                      <a:lnTo>
                        <a:pt x="485" y="163"/>
                      </a:lnTo>
                      <a:lnTo>
                        <a:pt x="480" y="157"/>
                      </a:lnTo>
                      <a:lnTo>
                        <a:pt x="474" y="150"/>
                      </a:lnTo>
                      <a:lnTo>
                        <a:pt x="468" y="150"/>
                      </a:lnTo>
                      <a:lnTo>
                        <a:pt x="457" y="144"/>
                      </a:lnTo>
                      <a:lnTo>
                        <a:pt x="451" y="144"/>
                      </a:lnTo>
                      <a:lnTo>
                        <a:pt x="440" y="138"/>
                      </a:lnTo>
                      <a:lnTo>
                        <a:pt x="434" y="138"/>
                      </a:lnTo>
                      <a:lnTo>
                        <a:pt x="423" y="138"/>
                      </a:lnTo>
                      <a:lnTo>
                        <a:pt x="418" y="138"/>
                      </a:lnTo>
                      <a:lnTo>
                        <a:pt x="406" y="138"/>
                      </a:lnTo>
                      <a:lnTo>
                        <a:pt x="401" y="138"/>
                      </a:lnTo>
                      <a:lnTo>
                        <a:pt x="395" y="138"/>
                      </a:lnTo>
                      <a:lnTo>
                        <a:pt x="378" y="132"/>
                      </a:lnTo>
                      <a:lnTo>
                        <a:pt x="367" y="125"/>
                      </a:lnTo>
                      <a:lnTo>
                        <a:pt x="356" y="125"/>
                      </a:lnTo>
                      <a:lnTo>
                        <a:pt x="344" y="119"/>
                      </a:lnTo>
                      <a:lnTo>
                        <a:pt x="333" y="113"/>
                      </a:lnTo>
                      <a:lnTo>
                        <a:pt x="322" y="113"/>
                      </a:lnTo>
                      <a:lnTo>
                        <a:pt x="310" y="107"/>
                      </a:lnTo>
                      <a:lnTo>
                        <a:pt x="299" y="100"/>
                      </a:lnTo>
                      <a:lnTo>
                        <a:pt x="288" y="100"/>
                      </a:lnTo>
                      <a:lnTo>
                        <a:pt x="277" y="94"/>
                      </a:lnTo>
                      <a:lnTo>
                        <a:pt x="265" y="88"/>
                      </a:lnTo>
                      <a:lnTo>
                        <a:pt x="254" y="88"/>
                      </a:lnTo>
                      <a:lnTo>
                        <a:pt x="243" y="81"/>
                      </a:lnTo>
                      <a:lnTo>
                        <a:pt x="232" y="75"/>
                      </a:lnTo>
                      <a:lnTo>
                        <a:pt x="220" y="75"/>
                      </a:lnTo>
                      <a:lnTo>
                        <a:pt x="209" y="69"/>
                      </a:lnTo>
                      <a:lnTo>
                        <a:pt x="203" y="63"/>
                      </a:lnTo>
                      <a:lnTo>
                        <a:pt x="198" y="63"/>
                      </a:lnTo>
                      <a:lnTo>
                        <a:pt x="192" y="63"/>
                      </a:lnTo>
                      <a:lnTo>
                        <a:pt x="186" y="56"/>
                      </a:lnTo>
                      <a:lnTo>
                        <a:pt x="181" y="56"/>
                      </a:lnTo>
                      <a:lnTo>
                        <a:pt x="175" y="56"/>
                      </a:lnTo>
                      <a:lnTo>
                        <a:pt x="170" y="50"/>
                      </a:lnTo>
                      <a:lnTo>
                        <a:pt x="164" y="50"/>
                      </a:lnTo>
                      <a:lnTo>
                        <a:pt x="158" y="44"/>
                      </a:lnTo>
                      <a:lnTo>
                        <a:pt x="153" y="44"/>
                      </a:lnTo>
                      <a:lnTo>
                        <a:pt x="141" y="44"/>
                      </a:lnTo>
                      <a:lnTo>
                        <a:pt x="136" y="38"/>
                      </a:lnTo>
                      <a:lnTo>
                        <a:pt x="130" y="38"/>
                      </a:lnTo>
                      <a:lnTo>
                        <a:pt x="124" y="38"/>
                      </a:lnTo>
                      <a:lnTo>
                        <a:pt x="119" y="31"/>
                      </a:lnTo>
                      <a:lnTo>
                        <a:pt x="113" y="31"/>
                      </a:lnTo>
                      <a:lnTo>
                        <a:pt x="102" y="31"/>
                      </a:lnTo>
                      <a:lnTo>
                        <a:pt x="91" y="25"/>
                      </a:lnTo>
                      <a:lnTo>
                        <a:pt x="85" y="25"/>
                      </a:lnTo>
                      <a:lnTo>
                        <a:pt x="74" y="19"/>
                      </a:lnTo>
                      <a:lnTo>
                        <a:pt x="62" y="19"/>
                      </a:lnTo>
                      <a:lnTo>
                        <a:pt x="51" y="12"/>
                      </a:lnTo>
                      <a:lnTo>
                        <a:pt x="46" y="6"/>
                      </a:lnTo>
                      <a:lnTo>
                        <a:pt x="34"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rot="19940400">
                  <a:off x="7035480" y="2570040"/>
                  <a:ext cx="135000" cy="87120"/>
                </a:xfrm>
                <a:custGeom>
                  <a:avLst/>
                  <a:gdLst/>
                  <a:ahLst/>
                  <a:rect l="l" t="t" r="r" b="b"/>
                  <a:pathLst>
                    <a:path w="101" h="82">
                      <a:moveTo>
                        <a:pt x="84" y="6"/>
                      </a:moveTo>
                      <a:lnTo>
                        <a:pt x="90" y="6"/>
                      </a:lnTo>
                      <a:lnTo>
                        <a:pt x="96" y="13"/>
                      </a:lnTo>
                      <a:lnTo>
                        <a:pt x="101" y="25"/>
                      </a:lnTo>
                      <a:lnTo>
                        <a:pt x="101" y="32"/>
                      </a:lnTo>
                      <a:lnTo>
                        <a:pt x="101" y="38"/>
                      </a:lnTo>
                      <a:lnTo>
                        <a:pt x="101" y="50"/>
                      </a:lnTo>
                      <a:lnTo>
                        <a:pt x="101" y="57"/>
                      </a:lnTo>
                      <a:lnTo>
                        <a:pt x="96" y="63"/>
                      </a:lnTo>
                      <a:lnTo>
                        <a:pt x="96" y="75"/>
                      </a:lnTo>
                      <a:lnTo>
                        <a:pt x="84" y="75"/>
                      </a:lnTo>
                      <a:lnTo>
                        <a:pt x="73" y="82"/>
                      </a:lnTo>
                      <a:lnTo>
                        <a:pt x="62" y="82"/>
                      </a:lnTo>
                      <a:lnTo>
                        <a:pt x="51" y="82"/>
                      </a:lnTo>
                      <a:lnTo>
                        <a:pt x="34" y="82"/>
                      </a:lnTo>
                      <a:lnTo>
                        <a:pt x="22" y="82"/>
                      </a:lnTo>
                      <a:lnTo>
                        <a:pt x="17" y="82"/>
                      </a:lnTo>
                      <a:lnTo>
                        <a:pt x="11" y="75"/>
                      </a:lnTo>
                      <a:lnTo>
                        <a:pt x="5" y="69"/>
                      </a:lnTo>
                      <a:lnTo>
                        <a:pt x="0" y="63"/>
                      </a:lnTo>
                      <a:lnTo>
                        <a:pt x="0" y="57"/>
                      </a:lnTo>
                      <a:lnTo>
                        <a:pt x="0" y="50"/>
                      </a:lnTo>
                      <a:lnTo>
                        <a:pt x="0" y="38"/>
                      </a:lnTo>
                      <a:lnTo>
                        <a:pt x="5" y="32"/>
                      </a:lnTo>
                      <a:lnTo>
                        <a:pt x="5" y="25"/>
                      </a:lnTo>
                      <a:lnTo>
                        <a:pt x="11" y="13"/>
                      </a:lnTo>
                      <a:lnTo>
                        <a:pt x="17" y="6"/>
                      </a:lnTo>
                      <a:lnTo>
                        <a:pt x="28" y="6"/>
                      </a:lnTo>
                      <a:lnTo>
                        <a:pt x="39" y="0"/>
                      </a:lnTo>
                      <a:lnTo>
                        <a:pt x="51" y="0"/>
                      </a:lnTo>
                      <a:lnTo>
                        <a:pt x="67" y="0"/>
                      </a:lnTo>
                      <a:lnTo>
                        <a:pt x="79" y="0"/>
                      </a:lnTo>
                      <a:lnTo>
                        <a:pt x="84" y="6"/>
                      </a:lnTo>
                      <a:close/>
                    </a:path>
                  </a:pathLst>
                </a:custGeom>
                <a:solidFill>
                  <a:srgbClr val="ffffff"/>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rot="19940400">
                  <a:off x="7208640" y="2570040"/>
                  <a:ext cx="257040" cy="101520"/>
                </a:xfrm>
                <a:custGeom>
                  <a:avLst/>
                  <a:gdLst/>
                  <a:ahLst/>
                  <a:rect l="l" t="t" r="r" b="b"/>
                  <a:pathLst>
                    <a:path w="192" h="94">
                      <a:moveTo>
                        <a:pt x="51" y="31"/>
                      </a:moveTo>
                      <a:lnTo>
                        <a:pt x="56" y="31"/>
                      </a:lnTo>
                      <a:lnTo>
                        <a:pt x="62" y="31"/>
                      </a:lnTo>
                      <a:lnTo>
                        <a:pt x="68" y="25"/>
                      </a:lnTo>
                      <a:lnTo>
                        <a:pt x="73" y="25"/>
                      </a:lnTo>
                      <a:lnTo>
                        <a:pt x="79" y="25"/>
                      </a:lnTo>
                      <a:lnTo>
                        <a:pt x="84" y="18"/>
                      </a:lnTo>
                      <a:lnTo>
                        <a:pt x="90" y="18"/>
                      </a:lnTo>
                      <a:lnTo>
                        <a:pt x="96" y="12"/>
                      </a:lnTo>
                      <a:lnTo>
                        <a:pt x="107" y="12"/>
                      </a:lnTo>
                      <a:lnTo>
                        <a:pt x="113" y="6"/>
                      </a:lnTo>
                      <a:lnTo>
                        <a:pt x="118" y="6"/>
                      </a:lnTo>
                      <a:lnTo>
                        <a:pt x="124" y="0"/>
                      </a:lnTo>
                      <a:lnTo>
                        <a:pt x="130" y="0"/>
                      </a:lnTo>
                      <a:lnTo>
                        <a:pt x="135" y="0"/>
                      </a:lnTo>
                      <a:lnTo>
                        <a:pt x="146" y="0"/>
                      </a:lnTo>
                      <a:lnTo>
                        <a:pt x="152" y="0"/>
                      </a:lnTo>
                      <a:lnTo>
                        <a:pt x="158" y="0"/>
                      </a:lnTo>
                      <a:lnTo>
                        <a:pt x="163" y="6"/>
                      </a:lnTo>
                      <a:lnTo>
                        <a:pt x="175" y="6"/>
                      </a:lnTo>
                      <a:lnTo>
                        <a:pt x="180" y="12"/>
                      </a:lnTo>
                      <a:lnTo>
                        <a:pt x="186" y="18"/>
                      </a:lnTo>
                      <a:lnTo>
                        <a:pt x="186" y="25"/>
                      </a:lnTo>
                      <a:lnTo>
                        <a:pt x="192" y="31"/>
                      </a:lnTo>
                      <a:lnTo>
                        <a:pt x="192" y="43"/>
                      </a:lnTo>
                      <a:lnTo>
                        <a:pt x="186" y="50"/>
                      </a:lnTo>
                      <a:lnTo>
                        <a:pt x="180" y="62"/>
                      </a:lnTo>
                      <a:lnTo>
                        <a:pt x="175" y="69"/>
                      </a:lnTo>
                      <a:lnTo>
                        <a:pt x="163" y="81"/>
                      </a:lnTo>
                      <a:lnTo>
                        <a:pt x="158" y="87"/>
                      </a:lnTo>
                      <a:lnTo>
                        <a:pt x="146" y="87"/>
                      </a:lnTo>
                      <a:lnTo>
                        <a:pt x="141" y="94"/>
                      </a:lnTo>
                      <a:lnTo>
                        <a:pt x="130" y="94"/>
                      </a:lnTo>
                      <a:lnTo>
                        <a:pt x="118" y="94"/>
                      </a:lnTo>
                      <a:lnTo>
                        <a:pt x="113" y="94"/>
                      </a:lnTo>
                      <a:lnTo>
                        <a:pt x="101" y="87"/>
                      </a:lnTo>
                      <a:lnTo>
                        <a:pt x="96" y="87"/>
                      </a:lnTo>
                      <a:lnTo>
                        <a:pt x="90" y="81"/>
                      </a:lnTo>
                      <a:lnTo>
                        <a:pt x="79" y="81"/>
                      </a:lnTo>
                      <a:lnTo>
                        <a:pt x="73" y="75"/>
                      </a:lnTo>
                      <a:lnTo>
                        <a:pt x="62" y="75"/>
                      </a:lnTo>
                      <a:lnTo>
                        <a:pt x="56" y="69"/>
                      </a:lnTo>
                      <a:lnTo>
                        <a:pt x="51" y="62"/>
                      </a:lnTo>
                      <a:lnTo>
                        <a:pt x="39" y="56"/>
                      </a:lnTo>
                      <a:lnTo>
                        <a:pt x="34" y="56"/>
                      </a:lnTo>
                      <a:lnTo>
                        <a:pt x="22" y="50"/>
                      </a:lnTo>
                      <a:lnTo>
                        <a:pt x="17" y="43"/>
                      </a:lnTo>
                      <a:lnTo>
                        <a:pt x="11" y="43"/>
                      </a:lnTo>
                      <a:lnTo>
                        <a:pt x="0" y="37"/>
                      </a:lnTo>
                      <a:lnTo>
                        <a:pt x="6" y="37"/>
                      </a:lnTo>
                      <a:lnTo>
                        <a:pt x="11" y="37"/>
                      </a:lnTo>
                      <a:lnTo>
                        <a:pt x="17" y="37"/>
                      </a:lnTo>
                      <a:lnTo>
                        <a:pt x="28" y="37"/>
                      </a:lnTo>
                      <a:lnTo>
                        <a:pt x="34" y="37"/>
                      </a:lnTo>
                      <a:lnTo>
                        <a:pt x="39" y="37"/>
                      </a:lnTo>
                      <a:lnTo>
                        <a:pt x="45" y="37"/>
                      </a:lnTo>
                      <a:lnTo>
                        <a:pt x="51" y="31"/>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rot="19940400">
                  <a:off x="7443720" y="2654280"/>
                  <a:ext cx="171360" cy="95040"/>
                </a:xfrm>
                <a:custGeom>
                  <a:avLst/>
                  <a:gdLst/>
                  <a:ahLst/>
                  <a:rect l="l" t="t" r="r" b="b"/>
                  <a:pathLst>
                    <a:path w="129" h="88">
                      <a:moveTo>
                        <a:pt x="0" y="19"/>
                      </a:moveTo>
                      <a:lnTo>
                        <a:pt x="0" y="13"/>
                      </a:lnTo>
                      <a:lnTo>
                        <a:pt x="5" y="13"/>
                      </a:lnTo>
                      <a:lnTo>
                        <a:pt x="11" y="6"/>
                      </a:lnTo>
                      <a:lnTo>
                        <a:pt x="16" y="6"/>
                      </a:lnTo>
                      <a:lnTo>
                        <a:pt x="28" y="6"/>
                      </a:lnTo>
                      <a:lnTo>
                        <a:pt x="33" y="6"/>
                      </a:lnTo>
                      <a:lnTo>
                        <a:pt x="39" y="6"/>
                      </a:lnTo>
                      <a:lnTo>
                        <a:pt x="50" y="6"/>
                      </a:lnTo>
                      <a:lnTo>
                        <a:pt x="56" y="6"/>
                      </a:lnTo>
                      <a:lnTo>
                        <a:pt x="62" y="6"/>
                      </a:lnTo>
                      <a:lnTo>
                        <a:pt x="67" y="0"/>
                      </a:lnTo>
                      <a:lnTo>
                        <a:pt x="73" y="0"/>
                      </a:lnTo>
                      <a:lnTo>
                        <a:pt x="78" y="0"/>
                      </a:lnTo>
                      <a:lnTo>
                        <a:pt x="84" y="6"/>
                      </a:lnTo>
                      <a:lnTo>
                        <a:pt x="90" y="6"/>
                      </a:lnTo>
                      <a:lnTo>
                        <a:pt x="95" y="6"/>
                      </a:lnTo>
                      <a:lnTo>
                        <a:pt x="101" y="13"/>
                      </a:lnTo>
                      <a:lnTo>
                        <a:pt x="107" y="13"/>
                      </a:lnTo>
                      <a:lnTo>
                        <a:pt x="107" y="19"/>
                      </a:lnTo>
                      <a:lnTo>
                        <a:pt x="112" y="25"/>
                      </a:lnTo>
                      <a:lnTo>
                        <a:pt x="118" y="31"/>
                      </a:lnTo>
                      <a:lnTo>
                        <a:pt x="118" y="31"/>
                      </a:lnTo>
                      <a:lnTo>
                        <a:pt x="118" y="38"/>
                      </a:lnTo>
                      <a:lnTo>
                        <a:pt x="124" y="44"/>
                      </a:lnTo>
                      <a:lnTo>
                        <a:pt x="124" y="56"/>
                      </a:lnTo>
                      <a:lnTo>
                        <a:pt x="129" y="69"/>
                      </a:lnTo>
                      <a:lnTo>
                        <a:pt x="124" y="75"/>
                      </a:lnTo>
                      <a:lnTo>
                        <a:pt x="118" y="82"/>
                      </a:lnTo>
                      <a:lnTo>
                        <a:pt x="112" y="88"/>
                      </a:lnTo>
                      <a:lnTo>
                        <a:pt x="107" y="88"/>
                      </a:lnTo>
                      <a:lnTo>
                        <a:pt x="101" y="88"/>
                      </a:lnTo>
                      <a:lnTo>
                        <a:pt x="95" y="88"/>
                      </a:lnTo>
                      <a:lnTo>
                        <a:pt x="90" y="88"/>
                      </a:lnTo>
                      <a:lnTo>
                        <a:pt x="78" y="88"/>
                      </a:lnTo>
                      <a:lnTo>
                        <a:pt x="73" y="82"/>
                      </a:lnTo>
                      <a:lnTo>
                        <a:pt x="67" y="82"/>
                      </a:lnTo>
                      <a:lnTo>
                        <a:pt x="56" y="75"/>
                      </a:lnTo>
                      <a:lnTo>
                        <a:pt x="50" y="69"/>
                      </a:lnTo>
                      <a:lnTo>
                        <a:pt x="39" y="63"/>
                      </a:lnTo>
                      <a:lnTo>
                        <a:pt x="28" y="56"/>
                      </a:lnTo>
                      <a:lnTo>
                        <a:pt x="16" y="50"/>
                      </a:lnTo>
                      <a:lnTo>
                        <a:pt x="11" y="38"/>
                      </a:lnTo>
                      <a:lnTo>
                        <a:pt x="5" y="31"/>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rot="19940400">
                  <a:off x="6811560" y="1951920"/>
                  <a:ext cx="474840" cy="184320"/>
                </a:xfrm>
                <a:custGeom>
                  <a:avLst/>
                  <a:gdLst/>
                  <a:ahLst/>
                  <a:rect l="l" t="t" r="r" b="b"/>
                  <a:pathLst>
                    <a:path w="355" h="170">
                      <a:moveTo>
                        <a:pt x="0" y="75"/>
                      </a:moveTo>
                      <a:lnTo>
                        <a:pt x="11" y="75"/>
                      </a:lnTo>
                      <a:lnTo>
                        <a:pt x="22" y="75"/>
                      </a:lnTo>
                      <a:lnTo>
                        <a:pt x="28" y="82"/>
                      </a:lnTo>
                      <a:lnTo>
                        <a:pt x="39" y="82"/>
                      </a:lnTo>
                      <a:lnTo>
                        <a:pt x="50" y="82"/>
                      </a:lnTo>
                      <a:lnTo>
                        <a:pt x="62" y="82"/>
                      </a:lnTo>
                      <a:lnTo>
                        <a:pt x="67" y="82"/>
                      </a:lnTo>
                      <a:lnTo>
                        <a:pt x="79" y="75"/>
                      </a:lnTo>
                      <a:lnTo>
                        <a:pt x="84" y="69"/>
                      </a:lnTo>
                      <a:lnTo>
                        <a:pt x="90" y="63"/>
                      </a:lnTo>
                      <a:lnTo>
                        <a:pt x="95" y="57"/>
                      </a:lnTo>
                      <a:lnTo>
                        <a:pt x="101" y="44"/>
                      </a:lnTo>
                      <a:lnTo>
                        <a:pt x="101" y="32"/>
                      </a:lnTo>
                      <a:lnTo>
                        <a:pt x="107" y="19"/>
                      </a:lnTo>
                      <a:lnTo>
                        <a:pt x="112" y="13"/>
                      </a:lnTo>
                      <a:lnTo>
                        <a:pt x="118" y="0"/>
                      </a:lnTo>
                      <a:lnTo>
                        <a:pt x="118" y="6"/>
                      </a:lnTo>
                      <a:lnTo>
                        <a:pt x="118" y="13"/>
                      </a:lnTo>
                      <a:lnTo>
                        <a:pt x="124" y="19"/>
                      </a:lnTo>
                      <a:lnTo>
                        <a:pt x="124" y="25"/>
                      </a:lnTo>
                      <a:lnTo>
                        <a:pt x="129" y="32"/>
                      </a:lnTo>
                      <a:lnTo>
                        <a:pt x="129" y="38"/>
                      </a:lnTo>
                      <a:lnTo>
                        <a:pt x="135" y="44"/>
                      </a:lnTo>
                      <a:lnTo>
                        <a:pt x="135" y="50"/>
                      </a:lnTo>
                      <a:lnTo>
                        <a:pt x="135" y="57"/>
                      </a:lnTo>
                      <a:lnTo>
                        <a:pt x="141" y="63"/>
                      </a:lnTo>
                      <a:lnTo>
                        <a:pt x="141" y="75"/>
                      </a:lnTo>
                      <a:lnTo>
                        <a:pt x="141" y="82"/>
                      </a:lnTo>
                      <a:lnTo>
                        <a:pt x="146" y="88"/>
                      </a:lnTo>
                      <a:lnTo>
                        <a:pt x="146" y="94"/>
                      </a:lnTo>
                      <a:lnTo>
                        <a:pt x="152" y="101"/>
                      </a:lnTo>
                      <a:lnTo>
                        <a:pt x="157" y="107"/>
                      </a:lnTo>
                      <a:lnTo>
                        <a:pt x="163" y="113"/>
                      </a:lnTo>
                      <a:lnTo>
                        <a:pt x="174" y="119"/>
                      </a:lnTo>
                      <a:lnTo>
                        <a:pt x="186" y="126"/>
                      </a:lnTo>
                      <a:lnTo>
                        <a:pt x="197" y="132"/>
                      </a:lnTo>
                      <a:lnTo>
                        <a:pt x="208" y="132"/>
                      </a:lnTo>
                      <a:lnTo>
                        <a:pt x="219" y="138"/>
                      </a:lnTo>
                      <a:lnTo>
                        <a:pt x="225" y="138"/>
                      </a:lnTo>
                      <a:lnTo>
                        <a:pt x="236" y="144"/>
                      </a:lnTo>
                      <a:lnTo>
                        <a:pt x="248" y="138"/>
                      </a:lnTo>
                      <a:lnTo>
                        <a:pt x="253" y="138"/>
                      </a:lnTo>
                      <a:lnTo>
                        <a:pt x="259" y="132"/>
                      </a:lnTo>
                      <a:lnTo>
                        <a:pt x="265" y="126"/>
                      </a:lnTo>
                      <a:lnTo>
                        <a:pt x="276" y="119"/>
                      </a:lnTo>
                      <a:lnTo>
                        <a:pt x="281" y="113"/>
                      </a:lnTo>
                      <a:lnTo>
                        <a:pt x="287" y="107"/>
                      </a:lnTo>
                      <a:lnTo>
                        <a:pt x="293" y="101"/>
                      </a:lnTo>
                      <a:lnTo>
                        <a:pt x="298" y="107"/>
                      </a:lnTo>
                      <a:lnTo>
                        <a:pt x="304" y="113"/>
                      </a:lnTo>
                      <a:lnTo>
                        <a:pt x="304" y="119"/>
                      </a:lnTo>
                      <a:lnTo>
                        <a:pt x="310" y="126"/>
                      </a:lnTo>
                      <a:lnTo>
                        <a:pt x="315" y="132"/>
                      </a:lnTo>
                      <a:lnTo>
                        <a:pt x="315" y="138"/>
                      </a:lnTo>
                      <a:lnTo>
                        <a:pt x="321" y="144"/>
                      </a:lnTo>
                      <a:lnTo>
                        <a:pt x="327" y="144"/>
                      </a:lnTo>
                      <a:lnTo>
                        <a:pt x="327" y="151"/>
                      </a:lnTo>
                      <a:lnTo>
                        <a:pt x="332" y="151"/>
                      </a:lnTo>
                      <a:lnTo>
                        <a:pt x="338" y="157"/>
                      </a:lnTo>
                      <a:lnTo>
                        <a:pt x="338" y="157"/>
                      </a:lnTo>
                      <a:lnTo>
                        <a:pt x="343" y="157"/>
                      </a:lnTo>
                      <a:lnTo>
                        <a:pt x="349" y="163"/>
                      </a:lnTo>
                      <a:lnTo>
                        <a:pt x="349" y="163"/>
                      </a:lnTo>
                      <a:lnTo>
                        <a:pt x="355" y="170"/>
                      </a:lnTo>
                      <a:lnTo>
                        <a:pt x="349" y="170"/>
                      </a:lnTo>
                      <a:lnTo>
                        <a:pt x="338" y="170"/>
                      </a:lnTo>
                      <a:lnTo>
                        <a:pt x="332" y="170"/>
                      </a:lnTo>
                      <a:lnTo>
                        <a:pt x="321" y="170"/>
                      </a:lnTo>
                      <a:lnTo>
                        <a:pt x="315" y="170"/>
                      </a:lnTo>
                      <a:lnTo>
                        <a:pt x="304" y="170"/>
                      </a:lnTo>
                      <a:lnTo>
                        <a:pt x="298" y="170"/>
                      </a:lnTo>
                      <a:lnTo>
                        <a:pt x="287" y="170"/>
                      </a:lnTo>
                      <a:lnTo>
                        <a:pt x="281" y="170"/>
                      </a:lnTo>
                      <a:lnTo>
                        <a:pt x="270" y="170"/>
                      </a:lnTo>
                      <a:lnTo>
                        <a:pt x="265" y="170"/>
                      </a:lnTo>
                      <a:lnTo>
                        <a:pt x="253" y="170"/>
                      </a:lnTo>
                      <a:lnTo>
                        <a:pt x="248" y="170"/>
                      </a:lnTo>
                      <a:lnTo>
                        <a:pt x="236" y="170"/>
                      </a:lnTo>
                      <a:lnTo>
                        <a:pt x="231" y="170"/>
                      </a:lnTo>
                      <a:lnTo>
                        <a:pt x="225" y="170"/>
                      </a:lnTo>
                      <a:lnTo>
                        <a:pt x="214" y="170"/>
                      </a:lnTo>
                      <a:lnTo>
                        <a:pt x="208" y="163"/>
                      </a:lnTo>
                      <a:lnTo>
                        <a:pt x="197" y="163"/>
                      </a:lnTo>
                      <a:lnTo>
                        <a:pt x="191" y="163"/>
                      </a:lnTo>
                      <a:lnTo>
                        <a:pt x="186" y="163"/>
                      </a:lnTo>
                      <a:lnTo>
                        <a:pt x="174" y="163"/>
                      </a:lnTo>
                      <a:lnTo>
                        <a:pt x="169" y="157"/>
                      </a:lnTo>
                      <a:lnTo>
                        <a:pt x="157" y="157"/>
                      </a:lnTo>
                      <a:lnTo>
                        <a:pt x="152" y="157"/>
                      </a:lnTo>
                      <a:lnTo>
                        <a:pt x="146" y="157"/>
                      </a:lnTo>
                      <a:lnTo>
                        <a:pt x="135" y="151"/>
                      </a:lnTo>
                      <a:lnTo>
                        <a:pt x="129" y="151"/>
                      </a:lnTo>
                      <a:lnTo>
                        <a:pt x="118" y="144"/>
                      </a:lnTo>
                      <a:lnTo>
                        <a:pt x="112" y="144"/>
                      </a:lnTo>
                      <a:lnTo>
                        <a:pt x="107" y="144"/>
                      </a:lnTo>
                      <a:lnTo>
                        <a:pt x="95" y="138"/>
                      </a:lnTo>
                      <a:lnTo>
                        <a:pt x="90" y="138"/>
                      </a:lnTo>
                      <a:lnTo>
                        <a:pt x="84" y="132"/>
                      </a:lnTo>
                      <a:lnTo>
                        <a:pt x="79" y="132"/>
                      </a:lnTo>
                      <a:lnTo>
                        <a:pt x="73" y="126"/>
                      </a:lnTo>
                      <a:lnTo>
                        <a:pt x="67" y="126"/>
                      </a:lnTo>
                      <a:lnTo>
                        <a:pt x="62" y="119"/>
                      </a:lnTo>
                      <a:lnTo>
                        <a:pt x="56" y="113"/>
                      </a:lnTo>
                      <a:lnTo>
                        <a:pt x="50" y="113"/>
                      </a:lnTo>
                      <a:lnTo>
                        <a:pt x="45" y="107"/>
                      </a:lnTo>
                      <a:lnTo>
                        <a:pt x="39" y="101"/>
                      </a:lnTo>
                      <a:lnTo>
                        <a:pt x="33" y="101"/>
                      </a:lnTo>
                      <a:lnTo>
                        <a:pt x="28" y="94"/>
                      </a:lnTo>
                      <a:lnTo>
                        <a:pt x="22" y="88"/>
                      </a:lnTo>
                      <a:lnTo>
                        <a:pt x="11" y="88"/>
                      </a:lnTo>
                      <a:lnTo>
                        <a:pt x="5" y="82"/>
                      </a:lnTo>
                      <a:lnTo>
                        <a:pt x="0" y="75"/>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98" name=""/>
            <p:cNvSpPr/>
            <p:nvPr/>
          </p:nvSpPr>
          <p:spPr>
            <a:xfrm>
              <a:off x="2735280" y="2328840"/>
              <a:ext cx="3816360" cy="823968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AL-Hor"/>
                </a:rPr>
                <a:t>وهي عملية يقوم بها العديد منا بغرض تسهيل حل المشكلات وتقليل الاحتمالات المختلفة الواجب دراستها </a:t>
              </a:r>
              <a:r>
                <a:rPr b="0" lang="en-US" sz="5400" spc="-1" strike="noStrike">
                  <a:solidFill>
                    <a:srgbClr val="000000"/>
                  </a:solidFill>
                  <a:latin typeface="Arial"/>
                  <a:ea typeface="AL-Hor"/>
                </a:rPr>
                <a:t>0</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0">
                                  <p:stCondLst>
                                    <p:cond delay="0"/>
                                  </p:stCondLst>
                                  <p:childTnLst>
                                    <p:set>
                                      <p:cBhvr>
                                        <p:cTn id="724" dur="1" fill="hold">
                                          <p:stCondLst>
                                            <p:cond delay="0"/>
                                          </p:stCondLst>
                                        </p:cTn>
                                        <p:tgtEl>
                                          <p:spTgt spid="177"/>
                                        </p:tgtEl>
                                        <p:attrNameLst>
                                          <p:attrName>style.visibility</p:attrName>
                                        </p:attrNameLst>
                                      </p:cBhvr>
                                      <p:to>
                                        <p:strVal val="visible"/>
                                      </p:to>
                                    </p:set>
                                    <p:animEffect filter="wedge" transition="in">
                                      <p:cBhvr additive="repl">
                                        <p:cTn id="725" dur="2000"/>
                                        <p:tgtEl>
                                          <p:spTgt spid="177"/>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3">
                                  <p:stCondLst>
                                    <p:cond delay="0"/>
                                  </p:stCondLst>
                                  <p:childTnLst>
                                    <p:set>
                                      <p:cBhvr>
                                        <p:cTn id="729" dur="1" fill="hold">
                                          <p:stCondLst>
                                            <p:cond delay="0"/>
                                          </p:stCondLst>
                                        </p:cTn>
                                        <p:tgtEl>
                                          <p:spTgt spid="180"/>
                                        </p:tgtEl>
                                        <p:attrNameLst>
                                          <p:attrName>style.visibility</p:attrName>
                                        </p:attrNameLst>
                                      </p:cBhvr>
                                      <p:to>
                                        <p:strVal val="visible"/>
                                      </p:to>
                                    </p:set>
                                    <p:anim calcmode="lin" valueType="num">
                                      <p:cBhvr additive="repl">
                                        <p:cTn id="730" dur="5000" fill="hold"/>
                                        <p:tgtEl>
                                          <p:spTgt spid="180"/>
                                        </p:tgtEl>
                                        <p:attrNameLst>
                                          <p:attrName>ppt_w</p:attrName>
                                        </p:attrNameLst>
                                      </p:cBhvr>
                                      <p:tavLst>
                                        <p:tav tm="0">
                                          <p:val>
                                            <p:fltVal val="0"/>
                                          </p:val>
                                        </p:tav>
                                        <p:tav tm="100000">
                                          <p:val>
                                            <p:strVal val="#ppt_w"/>
                                          </p:val>
                                        </p:tav>
                                      </p:tavLst>
                                    </p:anim>
                                    <p:anim calcmode="lin" valueType="num">
                                      <p:cBhvr additive="repl">
                                        <p:cTn id="731" dur="5000" fill="hold"/>
                                        <p:tgtEl>
                                          <p:spTgt spid="180"/>
                                        </p:tgtEl>
                                        <p:attrNameLst>
                                          <p:attrName>ppt_h</p:attrName>
                                        </p:attrNameLst>
                                      </p:cBhvr>
                                      <p:tavLst>
                                        <p:tav tm="0">
                                          <p:val>
                                            <p:fltVal val="0"/>
                                          </p:val>
                                        </p:tav>
                                        <p:tav tm="100000">
                                          <p:val>
                                            <p:strVal val="#ppt_h"/>
                                          </p:val>
                                        </p:tav>
                                      </p:tavLst>
                                    </p:anim>
                                    <p:animEffect filter="fade" transition="in">
                                      <p:cBhvr additive="repl">
                                        <p:cTn id="732" dur="5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2533680" y="2990880"/>
            <a:ext cx="119160" cy="155520"/>
          </a:xfrm>
          <a:custGeom>
            <a:avLst/>
            <a:gdLst/>
            <a:ahLst/>
            <a:rect l="l" t="t" r="r" b="b"/>
            <a:pathLst>
              <a:path w="75" h="98">
                <a:moveTo>
                  <a:pt x="12" y="19"/>
                </a:moveTo>
                <a:lnTo>
                  <a:pt x="6" y="24"/>
                </a:lnTo>
                <a:lnTo>
                  <a:pt x="6" y="39"/>
                </a:lnTo>
                <a:lnTo>
                  <a:pt x="0" y="49"/>
                </a:lnTo>
                <a:lnTo>
                  <a:pt x="0" y="58"/>
                </a:lnTo>
                <a:lnTo>
                  <a:pt x="0" y="73"/>
                </a:lnTo>
                <a:lnTo>
                  <a:pt x="0" y="83"/>
                </a:lnTo>
                <a:lnTo>
                  <a:pt x="6" y="88"/>
                </a:lnTo>
                <a:lnTo>
                  <a:pt x="6" y="93"/>
                </a:lnTo>
                <a:lnTo>
                  <a:pt x="12" y="98"/>
                </a:lnTo>
                <a:lnTo>
                  <a:pt x="12" y="93"/>
                </a:lnTo>
                <a:lnTo>
                  <a:pt x="18" y="88"/>
                </a:lnTo>
                <a:lnTo>
                  <a:pt x="23" y="83"/>
                </a:lnTo>
                <a:lnTo>
                  <a:pt x="29" y="73"/>
                </a:lnTo>
                <a:lnTo>
                  <a:pt x="35" y="68"/>
                </a:lnTo>
                <a:lnTo>
                  <a:pt x="41" y="58"/>
                </a:lnTo>
                <a:lnTo>
                  <a:pt x="52" y="49"/>
                </a:lnTo>
                <a:lnTo>
                  <a:pt x="58" y="44"/>
                </a:lnTo>
                <a:lnTo>
                  <a:pt x="64" y="39"/>
                </a:lnTo>
                <a:lnTo>
                  <a:pt x="69" y="29"/>
                </a:lnTo>
                <a:lnTo>
                  <a:pt x="75" y="24"/>
                </a:lnTo>
                <a:lnTo>
                  <a:pt x="75" y="19"/>
                </a:lnTo>
                <a:lnTo>
                  <a:pt x="75" y="14"/>
                </a:lnTo>
                <a:lnTo>
                  <a:pt x="75" y="10"/>
                </a:lnTo>
                <a:lnTo>
                  <a:pt x="75" y="5"/>
                </a:lnTo>
                <a:lnTo>
                  <a:pt x="69" y="5"/>
                </a:lnTo>
                <a:lnTo>
                  <a:pt x="64" y="0"/>
                </a:lnTo>
                <a:lnTo>
                  <a:pt x="58" y="0"/>
                </a:lnTo>
                <a:lnTo>
                  <a:pt x="46" y="5"/>
                </a:lnTo>
                <a:lnTo>
                  <a:pt x="41" y="5"/>
                </a:lnTo>
                <a:lnTo>
                  <a:pt x="29" y="10"/>
                </a:lnTo>
                <a:lnTo>
                  <a:pt x="23" y="14"/>
                </a:lnTo>
                <a:lnTo>
                  <a:pt x="12" y="1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508800" y="4946760"/>
            <a:ext cx="119160" cy="147600"/>
          </a:xfrm>
          <a:custGeom>
            <a:avLst/>
            <a:gdLst/>
            <a:ahLst/>
            <a:rect l="l" t="t" r="r" b="b"/>
            <a:pathLst>
              <a:path w="75" h="93">
                <a:moveTo>
                  <a:pt x="64" y="15"/>
                </a:moveTo>
                <a:lnTo>
                  <a:pt x="69" y="25"/>
                </a:lnTo>
                <a:lnTo>
                  <a:pt x="75" y="34"/>
                </a:lnTo>
                <a:lnTo>
                  <a:pt x="75" y="44"/>
                </a:lnTo>
                <a:lnTo>
                  <a:pt x="75" y="59"/>
                </a:lnTo>
                <a:lnTo>
                  <a:pt x="75" y="69"/>
                </a:lnTo>
                <a:lnTo>
                  <a:pt x="75" y="78"/>
                </a:lnTo>
                <a:lnTo>
                  <a:pt x="69" y="88"/>
                </a:lnTo>
                <a:lnTo>
                  <a:pt x="69" y="93"/>
                </a:lnTo>
                <a:lnTo>
                  <a:pt x="64" y="93"/>
                </a:lnTo>
                <a:lnTo>
                  <a:pt x="58" y="93"/>
                </a:lnTo>
                <a:lnTo>
                  <a:pt x="58" y="88"/>
                </a:lnTo>
                <a:lnTo>
                  <a:pt x="52" y="78"/>
                </a:lnTo>
                <a:lnTo>
                  <a:pt x="46" y="73"/>
                </a:lnTo>
                <a:lnTo>
                  <a:pt x="41" y="64"/>
                </a:lnTo>
                <a:lnTo>
                  <a:pt x="29" y="54"/>
                </a:lnTo>
                <a:lnTo>
                  <a:pt x="23" y="49"/>
                </a:lnTo>
                <a:lnTo>
                  <a:pt x="18" y="44"/>
                </a:lnTo>
                <a:lnTo>
                  <a:pt x="12" y="34"/>
                </a:lnTo>
                <a:lnTo>
                  <a:pt x="6" y="29"/>
                </a:lnTo>
                <a:lnTo>
                  <a:pt x="0" y="20"/>
                </a:lnTo>
                <a:lnTo>
                  <a:pt x="0" y="15"/>
                </a:lnTo>
                <a:lnTo>
                  <a:pt x="0" y="10"/>
                </a:lnTo>
                <a:lnTo>
                  <a:pt x="0" y="5"/>
                </a:lnTo>
                <a:lnTo>
                  <a:pt x="6" y="0"/>
                </a:lnTo>
                <a:lnTo>
                  <a:pt x="6" y="0"/>
                </a:lnTo>
                <a:lnTo>
                  <a:pt x="12" y="0"/>
                </a:lnTo>
                <a:lnTo>
                  <a:pt x="23" y="0"/>
                </a:lnTo>
                <a:lnTo>
                  <a:pt x="29" y="0"/>
                </a:lnTo>
                <a:lnTo>
                  <a:pt x="35" y="0"/>
                </a:lnTo>
                <a:lnTo>
                  <a:pt x="46" y="5"/>
                </a:lnTo>
                <a:lnTo>
                  <a:pt x="52" y="10"/>
                </a:lnTo>
                <a:lnTo>
                  <a:pt x="64" y="15"/>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
          <p:cNvGrpSpPr/>
          <p:nvPr/>
        </p:nvGrpSpPr>
        <p:grpSpPr>
          <a:xfrm>
            <a:off x="-36360" y="765000"/>
            <a:ext cx="9178200" cy="8989560"/>
            <a:chOff x="-36360" y="765000"/>
            <a:chExt cx="9178200" cy="8989560"/>
          </a:xfrm>
        </p:grpSpPr>
        <p:grpSp>
          <p:nvGrpSpPr>
            <p:cNvPr id="202" name=""/>
            <p:cNvGrpSpPr/>
            <p:nvPr/>
          </p:nvGrpSpPr>
          <p:grpSpPr>
            <a:xfrm>
              <a:off x="-36360" y="765000"/>
              <a:ext cx="9178200" cy="6092640"/>
              <a:chOff x="-36360" y="765000"/>
              <a:chExt cx="9178200" cy="6092640"/>
            </a:xfrm>
          </p:grpSpPr>
          <p:sp>
            <p:nvSpPr>
              <p:cNvPr id="203" name=""/>
              <p:cNvSpPr/>
              <p:nvPr/>
            </p:nvSpPr>
            <p:spPr>
              <a:xfrm>
                <a:off x="1324080" y="765000"/>
                <a:ext cx="5994720" cy="6092640"/>
              </a:xfrm>
              <a:custGeom>
                <a:avLst/>
                <a:gdLst/>
                <a:ahLst/>
                <a:rect l="l" t="t" r="r" b="b"/>
                <a:pathLst>
                  <a:path w="2785" h="2675">
                    <a:moveTo>
                      <a:pt x="2785" y="2034"/>
                    </a:moveTo>
                    <a:lnTo>
                      <a:pt x="1005" y="2675"/>
                    </a:lnTo>
                    <a:lnTo>
                      <a:pt x="0" y="636"/>
                    </a:lnTo>
                    <a:lnTo>
                      <a:pt x="1780" y="0"/>
                    </a:lnTo>
                    <a:lnTo>
                      <a:pt x="2785" y="2034"/>
                    </a:lnTo>
                    <a:close/>
                  </a:path>
                </a:pathLst>
              </a:custGeom>
              <a:solidFill>
                <a:srgbClr val="ffcc00">
                  <a:alpha val="54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36360" y="1933200"/>
                <a:ext cx="1756800" cy="1931760"/>
                <a:chOff x="-36360" y="1933200"/>
                <a:chExt cx="1756800" cy="1931760"/>
              </a:xfrm>
            </p:grpSpPr>
            <p:sp>
              <p:nvSpPr>
                <p:cNvPr id="205" name=""/>
                <p:cNvSpPr/>
                <p:nvPr/>
              </p:nvSpPr>
              <p:spPr>
                <a:xfrm>
                  <a:off x="-36360" y="1933200"/>
                  <a:ext cx="1756800" cy="1931760"/>
                </a:xfrm>
                <a:custGeom>
                  <a:avLst/>
                  <a:gdLst/>
                  <a:ahLst/>
                  <a:rect l="l" t="t" r="r" b="b"/>
                  <a:pathLst>
                    <a:path w="1700" h="1409">
                      <a:moveTo>
                        <a:pt x="1545" y="84"/>
                      </a:moveTo>
                      <a:lnTo>
                        <a:pt x="1551" y="79"/>
                      </a:lnTo>
                      <a:lnTo>
                        <a:pt x="1551" y="74"/>
                      </a:lnTo>
                      <a:lnTo>
                        <a:pt x="1545" y="64"/>
                      </a:lnTo>
                      <a:lnTo>
                        <a:pt x="1539" y="59"/>
                      </a:lnTo>
                      <a:lnTo>
                        <a:pt x="1539" y="49"/>
                      </a:lnTo>
                      <a:lnTo>
                        <a:pt x="1533" y="45"/>
                      </a:lnTo>
                      <a:lnTo>
                        <a:pt x="1533" y="40"/>
                      </a:lnTo>
                      <a:lnTo>
                        <a:pt x="1533" y="35"/>
                      </a:lnTo>
                      <a:lnTo>
                        <a:pt x="1522" y="30"/>
                      </a:lnTo>
                      <a:lnTo>
                        <a:pt x="1516" y="25"/>
                      </a:lnTo>
                      <a:lnTo>
                        <a:pt x="1505" y="20"/>
                      </a:lnTo>
                      <a:lnTo>
                        <a:pt x="1499" y="15"/>
                      </a:lnTo>
                      <a:lnTo>
                        <a:pt x="1493" y="10"/>
                      </a:lnTo>
                      <a:lnTo>
                        <a:pt x="1487" y="5"/>
                      </a:lnTo>
                      <a:lnTo>
                        <a:pt x="1476" y="5"/>
                      </a:lnTo>
                      <a:lnTo>
                        <a:pt x="1464" y="0"/>
                      </a:lnTo>
                      <a:lnTo>
                        <a:pt x="1453" y="0"/>
                      </a:lnTo>
                      <a:lnTo>
                        <a:pt x="1447" y="0"/>
                      </a:lnTo>
                      <a:lnTo>
                        <a:pt x="1436" y="0"/>
                      </a:lnTo>
                      <a:lnTo>
                        <a:pt x="1424" y="5"/>
                      </a:lnTo>
                      <a:lnTo>
                        <a:pt x="1418" y="5"/>
                      </a:lnTo>
                      <a:lnTo>
                        <a:pt x="1407" y="5"/>
                      </a:lnTo>
                      <a:lnTo>
                        <a:pt x="1401" y="10"/>
                      </a:lnTo>
                      <a:lnTo>
                        <a:pt x="1390" y="15"/>
                      </a:lnTo>
                      <a:lnTo>
                        <a:pt x="1378" y="15"/>
                      </a:lnTo>
                      <a:lnTo>
                        <a:pt x="1373" y="20"/>
                      </a:lnTo>
                      <a:lnTo>
                        <a:pt x="1361" y="20"/>
                      </a:lnTo>
                      <a:lnTo>
                        <a:pt x="1350" y="25"/>
                      </a:lnTo>
                      <a:lnTo>
                        <a:pt x="1344" y="25"/>
                      </a:lnTo>
                      <a:lnTo>
                        <a:pt x="1332" y="30"/>
                      </a:lnTo>
                      <a:lnTo>
                        <a:pt x="1327" y="30"/>
                      </a:lnTo>
                      <a:lnTo>
                        <a:pt x="1315" y="35"/>
                      </a:lnTo>
                      <a:lnTo>
                        <a:pt x="1309" y="35"/>
                      </a:lnTo>
                      <a:lnTo>
                        <a:pt x="1298" y="35"/>
                      </a:lnTo>
                      <a:lnTo>
                        <a:pt x="1292" y="35"/>
                      </a:lnTo>
                      <a:lnTo>
                        <a:pt x="1281" y="35"/>
                      </a:lnTo>
                      <a:lnTo>
                        <a:pt x="1275" y="35"/>
                      </a:lnTo>
                      <a:lnTo>
                        <a:pt x="1269" y="35"/>
                      </a:lnTo>
                      <a:lnTo>
                        <a:pt x="1258" y="35"/>
                      </a:lnTo>
                      <a:lnTo>
                        <a:pt x="1252" y="35"/>
                      </a:lnTo>
                      <a:lnTo>
                        <a:pt x="1240" y="35"/>
                      </a:lnTo>
                      <a:lnTo>
                        <a:pt x="1235" y="35"/>
                      </a:lnTo>
                      <a:lnTo>
                        <a:pt x="1229" y="35"/>
                      </a:lnTo>
                      <a:lnTo>
                        <a:pt x="1217" y="35"/>
                      </a:lnTo>
                      <a:lnTo>
                        <a:pt x="1212" y="35"/>
                      </a:lnTo>
                      <a:lnTo>
                        <a:pt x="1206" y="35"/>
                      </a:lnTo>
                      <a:lnTo>
                        <a:pt x="1194" y="35"/>
                      </a:lnTo>
                      <a:lnTo>
                        <a:pt x="1189" y="40"/>
                      </a:lnTo>
                      <a:lnTo>
                        <a:pt x="1183" y="40"/>
                      </a:lnTo>
                      <a:lnTo>
                        <a:pt x="1172" y="45"/>
                      </a:lnTo>
                      <a:lnTo>
                        <a:pt x="1166" y="45"/>
                      </a:lnTo>
                      <a:lnTo>
                        <a:pt x="1154" y="49"/>
                      </a:lnTo>
                      <a:lnTo>
                        <a:pt x="1149" y="49"/>
                      </a:lnTo>
                      <a:lnTo>
                        <a:pt x="1143" y="54"/>
                      </a:lnTo>
                      <a:lnTo>
                        <a:pt x="1131" y="59"/>
                      </a:lnTo>
                      <a:lnTo>
                        <a:pt x="1126" y="64"/>
                      </a:lnTo>
                      <a:lnTo>
                        <a:pt x="1120" y="64"/>
                      </a:lnTo>
                      <a:lnTo>
                        <a:pt x="1108" y="69"/>
                      </a:lnTo>
                      <a:lnTo>
                        <a:pt x="1103" y="74"/>
                      </a:lnTo>
                      <a:lnTo>
                        <a:pt x="1097" y="79"/>
                      </a:lnTo>
                      <a:lnTo>
                        <a:pt x="1085" y="84"/>
                      </a:lnTo>
                      <a:lnTo>
                        <a:pt x="1080" y="84"/>
                      </a:lnTo>
                      <a:lnTo>
                        <a:pt x="1068" y="89"/>
                      </a:lnTo>
                      <a:lnTo>
                        <a:pt x="1062" y="93"/>
                      </a:lnTo>
                      <a:lnTo>
                        <a:pt x="1051" y="98"/>
                      </a:lnTo>
                      <a:lnTo>
                        <a:pt x="1039" y="103"/>
                      </a:lnTo>
                      <a:lnTo>
                        <a:pt x="1028" y="103"/>
                      </a:lnTo>
                      <a:lnTo>
                        <a:pt x="1016" y="108"/>
                      </a:lnTo>
                      <a:lnTo>
                        <a:pt x="1005" y="113"/>
                      </a:lnTo>
                      <a:lnTo>
                        <a:pt x="988" y="118"/>
                      </a:lnTo>
                      <a:lnTo>
                        <a:pt x="976" y="118"/>
                      </a:lnTo>
                      <a:lnTo>
                        <a:pt x="965" y="123"/>
                      </a:lnTo>
                      <a:lnTo>
                        <a:pt x="953" y="128"/>
                      </a:lnTo>
                      <a:lnTo>
                        <a:pt x="942" y="128"/>
                      </a:lnTo>
                      <a:lnTo>
                        <a:pt x="930" y="133"/>
                      </a:lnTo>
                      <a:lnTo>
                        <a:pt x="919" y="133"/>
                      </a:lnTo>
                      <a:lnTo>
                        <a:pt x="907" y="137"/>
                      </a:lnTo>
                      <a:lnTo>
                        <a:pt x="896" y="137"/>
                      </a:lnTo>
                      <a:lnTo>
                        <a:pt x="879" y="142"/>
                      </a:lnTo>
                      <a:lnTo>
                        <a:pt x="867" y="147"/>
                      </a:lnTo>
                      <a:lnTo>
                        <a:pt x="861" y="152"/>
                      </a:lnTo>
                      <a:lnTo>
                        <a:pt x="856" y="157"/>
                      </a:lnTo>
                      <a:lnTo>
                        <a:pt x="844" y="162"/>
                      </a:lnTo>
                      <a:lnTo>
                        <a:pt x="838" y="167"/>
                      </a:lnTo>
                      <a:lnTo>
                        <a:pt x="833" y="172"/>
                      </a:lnTo>
                      <a:lnTo>
                        <a:pt x="821" y="177"/>
                      </a:lnTo>
                      <a:lnTo>
                        <a:pt x="815" y="186"/>
                      </a:lnTo>
                      <a:lnTo>
                        <a:pt x="810" y="191"/>
                      </a:lnTo>
                      <a:lnTo>
                        <a:pt x="787" y="211"/>
                      </a:lnTo>
                      <a:lnTo>
                        <a:pt x="770" y="230"/>
                      </a:lnTo>
                      <a:lnTo>
                        <a:pt x="747" y="250"/>
                      </a:lnTo>
                      <a:lnTo>
                        <a:pt x="724" y="269"/>
                      </a:lnTo>
                      <a:lnTo>
                        <a:pt x="706" y="294"/>
                      </a:lnTo>
                      <a:lnTo>
                        <a:pt x="683" y="313"/>
                      </a:lnTo>
                      <a:lnTo>
                        <a:pt x="660" y="333"/>
                      </a:lnTo>
                      <a:lnTo>
                        <a:pt x="643" y="353"/>
                      </a:lnTo>
                      <a:lnTo>
                        <a:pt x="620" y="372"/>
                      </a:lnTo>
                      <a:lnTo>
                        <a:pt x="597" y="392"/>
                      </a:lnTo>
                      <a:lnTo>
                        <a:pt x="580" y="416"/>
                      </a:lnTo>
                      <a:lnTo>
                        <a:pt x="557" y="436"/>
                      </a:lnTo>
                      <a:lnTo>
                        <a:pt x="534" y="455"/>
                      </a:lnTo>
                      <a:lnTo>
                        <a:pt x="517" y="475"/>
                      </a:lnTo>
                      <a:lnTo>
                        <a:pt x="494" y="494"/>
                      </a:lnTo>
                      <a:lnTo>
                        <a:pt x="471" y="514"/>
                      </a:lnTo>
                      <a:lnTo>
                        <a:pt x="465" y="524"/>
                      </a:lnTo>
                      <a:lnTo>
                        <a:pt x="454" y="529"/>
                      </a:lnTo>
                      <a:lnTo>
                        <a:pt x="448" y="538"/>
                      </a:lnTo>
                      <a:lnTo>
                        <a:pt x="442" y="548"/>
                      </a:lnTo>
                      <a:lnTo>
                        <a:pt x="431" y="553"/>
                      </a:lnTo>
                      <a:lnTo>
                        <a:pt x="425" y="563"/>
                      </a:lnTo>
                      <a:lnTo>
                        <a:pt x="413" y="568"/>
                      </a:lnTo>
                      <a:lnTo>
                        <a:pt x="402" y="578"/>
                      </a:lnTo>
                      <a:lnTo>
                        <a:pt x="396" y="587"/>
                      </a:lnTo>
                      <a:lnTo>
                        <a:pt x="385" y="592"/>
                      </a:lnTo>
                      <a:lnTo>
                        <a:pt x="379" y="602"/>
                      </a:lnTo>
                      <a:lnTo>
                        <a:pt x="368" y="607"/>
                      </a:lnTo>
                      <a:lnTo>
                        <a:pt x="362" y="617"/>
                      </a:lnTo>
                      <a:lnTo>
                        <a:pt x="350" y="622"/>
                      </a:lnTo>
                      <a:lnTo>
                        <a:pt x="339" y="631"/>
                      </a:lnTo>
                      <a:lnTo>
                        <a:pt x="333" y="641"/>
                      </a:lnTo>
                      <a:lnTo>
                        <a:pt x="327" y="641"/>
                      </a:lnTo>
                      <a:lnTo>
                        <a:pt x="322" y="646"/>
                      </a:lnTo>
                      <a:lnTo>
                        <a:pt x="316" y="651"/>
                      </a:lnTo>
                      <a:lnTo>
                        <a:pt x="310" y="651"/>
                      </a:lnTo>
                      <a:lnTo>
                        <a:pt x="304" y="656"/>
                      </a:lnTo>
                      <a:lnTo>
                        <a:pt x="299" y="656"/>
                      </a:lnTo>
                      <a:lnTo>
                        <a:pt x="293" y="661"/>
                      </a:lnTo>
                      <a:lnTo>
                        <a:pt x="287" y="666"/>
                      </a:lnTo>
                      <a:lnTo>
                        <a:pt x="270" y="680"/>
                      </a:lnTo>
                      <a:lnTo>
                        <a:pt x="253" y="695"/>
                      </a:lnTo>
                      <a:lnTo>
                        <a:pt x="235" y="710"/>
                      </a:lnTo>
                      <a:lnTo>
                        <a:pt x="212" y="724"/>
                      </a:lnTo>
                      <a:lnTo>
                        <a:pt x="195" y="744"/>
                      </a:lnTo>
                      <a:lnTo>
                        <a:pt x="178" y="759"/>
                      </a:lnTo>
                      <a:lnTo>
                        <a:pt x="161" y="773"/>
                      </a:lnTo>
                      <a:lnTo>
                        <a:pt x="144" y="788"/>
                      </a:lnTo>
                      <a:lnTo>
                        <a:pt x="126" y="803"/>
                      </a:lnTo>
                      <a:lnTo>
                        <a:pt x="109" y="822"/>
                      </a:lnTo>
                      <a:lnTo>
                        <a:pt x="92" y="837"/>
                      </a:lnTo>
                      <a:lnTo>
                        <a:pt x="69" y="851"/>
                      </a:lnTo>
                      <a:lnTo>
                        <a:pt x="52" y="866"/>
                      </a:lnTo>
                      <a:lnTo>
                        <a:pt x="34" y="886"/>
                      </a:lnTo>
                      <a:lnTo>
                        <a:pt x="17" y="900"/>
                      </a:lnTo>
                      <a:lnTo>
                        <a:pt x="0" y="915"/>
                      </a:lnTo>
                      <a:lnTo>
                        <a:pt x="17" y="930"/>
                      </a:lnTo>
                      <a:lnTo>
                        <a:pt x="34" y="944"/>
                      </a:lnTo>
                      <a:lnTo>
                        <a:pt x="52" y="964"/>
                      </a:lnTo>
                      <a:lnTo>
                        <a:pt x="69" y="979"/>
                      </a:lnTo>
                      <a:lnTo>
                        <a:pt x="86" y="993"/>
                      </a:lnTo>
                      <a:lnTo>
                        <a:pt x="103" y="1008"/>
                      </a:lnTo>
                      <a:lnTo>
                        <a:pt x="126" y="1023"/>
                      </a:lnTo>
                      <a:lnTo>
                        <a:pt x="144" y="1037"/>
                      </a:lnTo>
                      <a:lnTo>
                        <a:pt x="161" y="1052"/>
                      </a:lnTo>
                      <a:lnTo>
                        <a:pt x="178" y="1072"/>
                      </a:lnTo>
                      <a:lnTo>
                        <a:pt x="195" y="1086"/>
                      </a:lnTo>
                      <a:lnTo>
                        <a:pt x="212" y="1101"/>
                      </a:lnTo>
                      <a:lnTo>
                        <a:pt x="230" y="1116"/>
                      </a:lnTo>
                      <a:lnTo>
                        <a:pt x="247" y="1130"/>
                      </a:lnTo>
                      <a:lnTo>
                        <a:pt x="264" y="1145"/>
                      </a:lnTo>
                      <a:lnTo>
                        <a:pt x="281" y="1160"/>
                      </a:lnTo>
                      <a:lnTo>
                        <a:pt x="299" y="1179"/>
                      </a:lnTo>
                      <a:lnTo>
                        <a:pt x="316" y="1194"/>
                      </a:lnTo>
                      <a:lnTo>
                        <a:pt x="333" y="1208"/>
                      </a:lnTo>
                      <a:lnTo>
                        <a:pt x="356" y="1223"/>
                      </a:lnTo>
                      <a:lnTo>
                        <a:pt x="373" y="1238"/>
                      </a:lnTo>
                      <a:lnTo>
                        <a:pt x="391" y="1252"/>
                      </a:lnTo>
                      <a:lnTo>
                        <a:pt x="408" y="1272"/>
                      </a:lnTo>
                      <a:lnTo>
                        <a:pt x="425" y="1287"/>
                      </a:lnTo>
                      <a:lnTo>
                        <a:pt x="442" y="1301"/>
                      </a:lnTo>
                      <a:lnTo>
                        <a:pt x="459" y="1316"/>
                      </a:lnTo>
                      <a:lnTo>
                        <a:pt x="477" y="1331"/>
                      </a:lnTo>
                      <a:lnTo>
                        <a:pt x="494" y="1345"/>
                      </a:lnTo>
                      <a:lnTo>
                        <a:pt x="511" y="1360"/>
                      </a:lnTo>
                      <a:lnTo>
                        <a:pt x="528" y="1375"/>
                      </a:lnTo>
                      <a:lnTo>
                        <a:pt x="546" y="1389"/>
                      </a:lnTo>
                      <a:lnTo>
                        <a:pt x="563" y="1409"/>
                      </a:lnTo>
                      <a:lnTo>
                        <a:pt x="569" y="1384"/>
                      </a:lnTo>
                      <a:lnTo>
                        <a:pt x="574" y="1365"/>
                      </a:lnTo>
                      <a:lnTo>
                        <a:pt x="574" y="1345"/>
                      </a:lnTo>
                      <a:lnTo>
                        <a:pt x="580" y="1326"/>
                      </a:lnTo>
                      <a:lnTo>
                        <a:pt x="586" y="1321"/>
                      </a:lnTo>
                      <a:lnTo>
                        <a:pt x="597" y="1321"/>
                      </a:lnTo>
                      <a:lnTo>
                        <a:pt x="603" y="1316"/>
                      </a:lnTo>
                      <a:lnTo>
                        <a:pt x="609" y="1316"/>
                      </a:lnTo>
                      <a:lnTo>
                        <a:pt x="620" y="1311"/>
                      </a:lnTo>
                      <a:lnTo>
                        <a:pt x="626" y="1311"/>
                      </a:lnTo>
                      <a:lnTo>
                        <a:pt x="632" y="1306"/>
                      </a:lnTo>
                      <a:lnTo>
                        <a:pt x="643" y="1306"/>
                      </a:lnTo>
                      <a:lnTo>
                        <a:pt x="649" y="1301"/>
                      </a:lnTo>
                      <a:lnTo>
                        <a:pt x="655" y="1301"/>
                      </a:lnTo>
                      <a:lnTo>
                        <a:pt x="666" y="1296"/>
                      </a:lnTo>
                      <a:lnTo>
                        <a:pt x="672" y="1296"/>
                      </a:lnTo>
                      <a:lnTo>
                        <a:pt x="678" y="1292"/>
                      </a:lnTo>
                      <a:lnTo>
                        <a:pt x="683" y="1287"/>
                      </a:lnTo>
                      <a:lnTo>
                        <a:pt x="695" y="1287"/>
                      </a:lnTo>
                      <a:lnTo>
                        <a:pt x="701" y="1282"/>
                      </a:lnTo>
                      <a:lnTo>
                        <a:pt x="712" y="1277"/>
                      </a:lnTo>
                      <a:lnTo>
                        <a:pt x="724" y="1272"/>
                      </a:lnTo>
                      <a:lnTo>
                        <a:pt x="735" y="1267"/>
                      </a:lnTo>
                      <a:lnTo>
                        <a:pt x="741" y="1262"/>
                      </a:lnTo>
                      <a:lnTo>
                        <a:pt x="752" y="1257"/>
                      </a:lnTo>
                      <a:lnTo>
                        <a:pt x="764" y="1252"/>
                      </a:lnTo>
                      <a:lnTo>
                        <a:pt x="775" y="1248"/>
                      </a:lnTo>
                      <a:lnTo>
                        <a:pt x="787" y="1238"/>
                      </a:lnTo>
                      <a:lnTo>
                        <a:pt x="798" y="1233"/>
                      </a:lnTo>
                      <a:lnTo>
                        <a:pt x="810" y="1228"/>
                      </a:lnTo>
                      <a:lnTo>
                        <a:pt x="821" y="1223"/>
                      </a:lnTo>
                      <a:lnTo>
                        <a:pt x="833" y="1218"/>
                      </a:lnTo>
                      <a:lnTo>
                        <a:pt x="838" y="1208"/>
                      </a:lnTo>
                      <a:lnTo>
                        <a:pt x="850" y="1204"/>
                      </a:lnTo>
                      <a:lnTo>
                        <a:pt x="861" y="1199"/>
                      </a:lnTo>
                      <a:lnTo>
                        <a:pt x="873" y="1189"/>
                      </a:lnTo>
                      <a:lnTo>
                        <a:pt x="879" y="1184"/>
                      </a:lnTo>
                      <a:lnTo>
                        <a:pt x="890" y="1174"/>
                      </a:lnTo>
                      <a:lnTo>
                        <a:pt x="902" y="1169"/>
                      </a:lnTo>
                      <a:lnTo>
                        <a:pt x="907" y="1160"/>
                      </a:lnTo>
                      <a:lnTo>
                        <a:pt x="919" y="1155"/>
                      </a:lnTo>
                      <a:lnTo>
                        <a:pt x="930" y="1145"/>
                      </a:lnTo>
                      <a:lnTo>
                        <a:pt x="936" y="1140"/>
                      </a:lnTo>
                      <a:lnTo>
                        <a:pt x="948" y="1130"/>
                      </a:lnTo>
                      <a:lnTo>
                        <a:pt x="953" y="1125"/>
                      </a:lnTo>
                      <a:lnTo>
                        <a:pt x="965" y="1116"/>
                      </a:lnTo>
                      <a:lnTo>
                        <a:pt x="971" y="1106"/>
                      </a:lnTo>
                      <a:lnTo>
                        <a:pt x="982" y="1096"/>
                      </a:lnTo>
                      <a:lnTo>
                        <a:pt x="988" y="1091"/>
                      </a:lnTo>
                      <a:lnTo>
                        <a:pt x="999" y="1081"/>
                      </a:lnTo>
                      <a:lnTo>
                        <a:pt x="1005" y="1072"/>
                      </a:lnTo>
                      <a:lnTo>
                        <a:pt x="1011" y="1067"/>
                      </a:lnTo>
                      <a:lnTo>
                        <a:pt x="1016" y="1062"/>
                      </a:lnTo>
                      <a:lnTo>
                        <a:pt x="1022" y="1052"/>
                      </a:lnTo>
                      <a:lnTo>
                        <a:pt x="1028" y="1047"/>
                      </a:lnTo>
                      <a:lnTo>
                        <a:pt x="1034" y="1037"/>
                      </a:lnTo>
                      <a:lnTo>
                        <a:pt x="1034" y="1032"/>
                      </a:lnTo>
                      <a:lnTo>
                        <a:pt x="1039" y="1027"/>
                      </a:lnTo>
                      <a:lnTo>
                        <a:pt x="1039" y="1018"/>
                      </a:lnTo>
                      <a:lnTo>
                        <a:pt x="1045" y="1013"/>
                      </a:lnTo>
                      <a:lnTo>
                        <a:pt x="1057" y="1008"/>
                      </a:lnTo>
                      <a:lnTo>
                        <a:pt x="1068" y="998"/>
                      </a:lnTo>
                      <a:lnTo>
                        <a:pt x="1080" y="993"/>
                      </a:lnTo>
                      <a:lnTo>
                        <a:pt x="1091" y="988"/>
                      </a:lnTo>
                      <a:lnTo>
                        <a:pt x="1103" y="979"/>
                      </a:lnTo>
                      <a:lnTo>
                        <a:pt x="1108" y="974"/>
                      </a:lnTo>
                      <a:lnTo>
                        <a:pt x="1120" y="964"/>
                      </a:lnTo>
                      <a:lnTo>
                        <a:pt x="1131" y="959"/>
                      </a:lnTo>
                      <a:lnTo>
                        <a:pt x="1143" y="954"/>
                      </a:lnTo>
                      <a:lnTo>
                        <a:pt x="1154" y="944"/>
                      </a:lnTo>
                      <a:lnTo>
                        <a:pt x="1166" y="939"/>
                      </a:lnTo>
                      <a:lnTo>
                        <a:pt x="1177" y="935"/>
                      </a:lnTo>
                      <a:lnTo>
                        <a:pt x="1183" y="925"/>
                      </a:lnTo>
                      <a:lnTo>
                        <a:pt x="1194" y="920"/>
                      </a:lnTo>
                      <a:lnTo>
                        <a:pt x="1206" y="915"/>
                      </a:lnTo>
                      <a:lnTo>
                        <a:pt x="1217" y="905"/>
                      </a:lnTo>
                      <a:lnTo>
                        <a:pt x="1229" y="910"/>
                      </a:lnTo>
                      <a:lnTo>
                        <a:pt x="1240" y="910"/>
                      </a:lnTo>
                      <a:lnTo>
                        <a:pt x="1252" y="910"/>
                      </a:lnTo>
                      <a:lnTo>
                        <a:pt x="1263" y="915"/>
                      </a:lnTo>
                      <a:lnTo>
                        <a:pt x="1275" y="915"/>
                      </a:lnTo>
                      <a:lnTo>
                        <a:pt x="1286" y="915"/>
                      </a:lnTo>
                      <a:lnTo>
                        <a:pt x="1298" y="915"/>
                      </a:lnTo>
                      <a:lnTo>
                        <a:pt x="1309" y="915"/>
                      </a:lnTo>
                      <a:lnTo>
                        <a:pt x="1315" y="915"/>
                      </a:lnTo>
                      <a:lnTo>
                        <a:pt x="1321" y="915"/>
                      </a:lnTo>
                      <a:lnTo>
                        <a:pt x="1332" y="910"/>
                      </a:lnTo>
                      <a:lnTo>
                        <a:pt x="1338" y="910"/>
                      </a:lnTo>
                      <a:lnTo>
                        <a:pt x="1344" y="910"/>
                      </a:lnTo>
                      <a:lnTo>
                        <a:pt x="1355" y="910"/>
                      </a:lnTo>
                      <a:lnTo>
                        <a:pt x="1361" y="905"/>
                      </a:lnTo>
                      <a:lnTo>
                        <a:pt x="1367" y="905"/>
                      </a:lnTo>
                      <a:lnTo>
                        <a:pt x="1378" y="905"/>
                      </a:lnTo>
                      <a:lnTo>
                        <a:pt x="1384" y="900"/>
                      </a:lnTo>
                      <a:lnTo>
                        <a:pt x="1390" y="900"/>
                      </a:lnTo>
                      <a:lnTo>
                        <a:pt x="1401" y="900"/>
                      </a:lnTo>
                      <a:lnTo>
                        <a:pt x="1407" y="895"/>
                      </a:lnTo>
                      <a:lnTo>
                        <a:pt x="1413" y="891"/>
                      </a:lnTo>
                      <a:lnTo>
                        <a:pt x="1424" y="891"/>
                      </a:lnTo>
                      <a:lnTo>
                        <a:pt x="1430" y="886"/>
                      </a:lnTo>
                      <a:lnTo>
                        <a:pt x="1436" y="886"/>
                      </a:lnTo>
                      <a:lnTo>
                        <a:pt x="1447" y="881"/>
                      </a:lnTo>
                      <a:lnTo>
                        <a:pt x="1453" y="871"/>
                      </a:lnTo>
                      <a:lnTo>
                        <a:pt x="1459" y="866"/>
                      </a:lnTo>
                      <a:lnTo>
                        <a:pt x="1464" y="861"/>
                      </a:lnTo>
                      <a:lnTo>
                        <a:pt x="1476" y="856"/>
                      </a:lnTo>
                      <a:lnTo>
                        <a:pt x="1482" y="847"/>
                      </a:lnTo>
                      <a:lnTo>
                        <a:pt x="1482" y="842"/>
                      </a:lnTo>
                      <a:lnTo>
                        <a:pt x="1487" y="832"/>
                      </a:lnTo>
                      <a:lnTo>
                        <a:pt x="1493" y="827"/>
                      </a:lnTo>
                      <a:lnTo>
                        <a:pt x="1499" y="817"/>
                      </a:lnTo>
                      <a:lnTo>
                        <a:pt x="1499" y="812"/>
                      </a:lnTo>
                      <a:lnTo>
                        <a:pt x="1505" y="803"/>
                      </a:lnTo>
                      <a:lnTo>
                        <a:pt x="1505" y="793"/>
                      </a:lnTo>
                      <a:lnTo>
                        <a:pt x="1505" y="788"/>
                      </a:lnTo>
                      <a:lnTo>
                        <a:pt x="1510" y="778"/>
                      </a:lnTo>
                      <a:lnTo>
                        <a:pt x="1505" y="773"/>
                      </a:lnTo>
                      <a:lnTo>
                        <a:pt x="1505" y="768"/>
                      </a:lnTo>
                      <a:lnTo>
                        <a:pt x="1505" y="759"/>
                      </a:lnTo>
                      <a:lnTo>
                        <a:pt x="1499" y="754"/>
                      </a:lnTo>
                      <a:lnTo>
                        <a:pt x="1493" y="749"/>
                      </a:lnTo>
                      <a:lnTo>
                        <a:pt x="1493" y="744"/>
                      </a:lnTo>
                      <a:lnTo>
                        <a:pt x="1487" y="739"/>
                      </a:lnTo>
                      <a:lnTo>
                        <a:pt x="1487" y="734"/>
                      </a:lnTo>
                      <a:lnTo>
                        <a:pt x="1493" y="724"/>
                      </a:lnTo>
                      <a:lnTo>
                        <a:pt x="1499" y="714"/>
                      </a:lnTo>
                      <a:lnTo>
                        <a:pt x="1510" y="710"/>
                      </a:lnTo>
                      <a:lnTo>
                        <a:pt x="1516" y="700"/>
                      </a:lnTo>
                      <a:lnTo>
                        <a:pt x="1528" y="690"/>
                      </a:lnTo>
                      <a:lnTo>
                        <a:pt x="1533" y="680"/>
                      </a:lnTo>
                      <a:lnTo>
                        <a:pt x="1545" y="670"/>
                      </a:lnTo>
                      <a:lnTo>
                        <a:pt x="1551" y="661"/>
                      </a:lnTo>
                      <a:lnTo>
                        <a:pt x="1551" y="651"/>
                      </a:lnTo>
                      <a:lnTo>
                        <a:pt x="1556" y="641"/>
                      </a:lnTo>
                      <a:lnTo>
                        <a:pt x="1556" y="631"/>
                      </a:lnTo>
                      <a:lnTo>
                        <a:pt x="1556" y="622"/>
                      </a:lnTo>
                      <a:lnTo>
                        <a:pt x="1568" y="622"/>
                      </a:lnTo>
                      <a:lnTo>
                        <a:pt x="1579" y="622"/>
                      </a:lnTo>
                      <a:lnTo>
                        <a:pt x="1591" y="622"/>
                      </a:lnTo>
                      <a:lnTo>
                        <a:pt x="1602" y="617"/>
                      </a:lnTo>
                      <a:lnTo>
                        <a:pt x="1614" y="617"/>
                      </a:lnTo>
                      <a:lnTo>
                        <a:pt x="1625" y="612"/>
                      </a:lnTo>
                      <a:lnTo>
                        <a:pt x="1637" y="612"/>
                      </a:lnTo>
                      <a:lnTo>
                        <a:pt x="1648" y="607"/>
                      </a:lnTo>
                      <a:lnTo>
                        <a:pt x="1654" y="602"/>
                      </a:lnTo>
                      <a:lnTo>
                        <a:pt x="1665" y="597"/>
                      </a:lnTo>
                      <a:lnTo>
                        <a:pt x="1671" y="587"/>
                      </a:lnTo>
                      <a:lnTo>
                        <a:pt x="1677" y="582"/>
                      </a:lnTo>
                      <a:lnTo>
                        <a:pt x="1683" y="573"/>
                      </a:lnTo>
                      <a:lnTo>
                        <a:pt x="1688" y="568"/>
                      </a:lnTo>
                      <a:lnTo>
                        <a:pt x="1694" y="558"/>
                      </a:lnTo>
                      <a:lnTo>
                        <a:pt x="1700" y="548"/>
                      </a:lnTo>
                      <a:lnTo>
                        <a:pt x="1700" y="529"/>
                      </a:lnTo>
                      <a:lnTo>
                        <a:pt x="1700" y="509"/>
                      </a:lnTo>
                      <a:lnTo>
                        <a:pt x="1694" y="485"/>
                      </a:lnTo>
                      <a:lnTo>
                        <a:pt x="1688" y="465"/>
                      </a:lnTo>
                      <a:lnTo>
                        <a:pt x="1683" y="455"/>
                      </a:lnTo>
                      <a:lnTo>
                        <a:pt x="1683" y="446"/>
                      </a:lnTo>
                      <a:lnTo>
                        <a:pt x="1677" y="436"/>
                      </a:lnTo>
                      <a:lnTo>
                        <a:pt x="1671" y="426"/>
                      </a:lnTo>
                      <a:lnTo>
                        <a:pt x="1665" y="416"/>
                      </a:lnTo>
                      <a:lnTo>
                        <a:pt x="1660" y="406"/>
                      </a:lnTo>
                      <a:lnTo>
                        <a:pt x="1654" y="397"/>
                      </a:lnTo>
                      <a:lnTo>
                        <a:pt x="1648" y="387"/>
                      </a:lnTo>
                      <a:lnTo>
                        <a:pt x="1642" y="377"/>
                      </a:lnTo>
                      <a:lnTo>
                        <a:pt x="1631" y="372"/>
                      </a:lnTo>
                      <a:lnTo>
                        <a:pt x="1625" y="367"/>
                      </a:lnTo>
                      <a:lnTo>
                        <a:pt x="1614" y="372"/>
                      </a:lnTo>
                      <a:lnTo>
                        <a:pt x="1608" y="377"/>
                      </a:lnTo>
                      <a:lnTo>
                        <a:pt x="1596" y="387"/>
                      </a:lnTo>
                      <a:lnTo>
                        <a:pt x="1579" y="397"/>
                      </a:lnTo>
                      <a:lnTo>
                        <a:pt x="1568" y="411"/>
                      </a:lnTo>
                      <a:lnTo>
                        <a:pt x="1579" y="402"/>
                      </a:lnTo>
                      <a:lnTo>
                        <a:pt x="1591" y="392"/>
                      </a:lnTo>
                      <a:lnTo>
                        <a:pt x="1602" y="377"/>
                      </a:lnTo>
                      <a:lnTo>
                        <a:pt x="1614" y="367"/>
                      </a:lnTo>
                      <a:lnTo>
                        <a:pt x="1625" y="357"/>
                      </a:lnTo>
                      <a:lnTo>
                        <a:pt x="1637" y="348"/>
                      </a:lnTo>
                      <a:lnTo>
                        <a:pt x="1642" y="338"/>
                      </a:lnTo>
                      <a:lnTo>
                        <a:pt x="1654" y="328"/>
                      </a:lnTo>
                      <a:lnTo>
                        <a:pt x="1660" y="313"/>
                      </a:lnTo>
                      <a:lnTo>
                        <a:pt x="1665" y="299"/>
                      </a:lnTo>
                      <a:lnTo>
                        <a:pt x="1671" y="284"/>
                      </a:lnTo>
                      <a:lnTo>
                        <a:pt x="1677" y="274"/>
                      </a:lnTo>
                      <a:lnTo>
                        <a:pt x="1683" y="260"/>
                      </a:lnTo>
                      <a:lnTo>
                        <a:pt x="1688" y="245"/>
                      </a:lnTo>
                      <a:lnTo>
                        <a:pt x="1694" y="230"/>
                      </a:lnTo>
                      <a:lnTo>
                        <a:pt x="1694" y="216"/>
                      </a:lnTo>
                      <a:lnTo>
                        <a:pt x="1694" y="191"/>
                      </a:lnTo>
                      <a:lnTo>
                        <a:pt x="1694" y="167"/>
                      </a:lnTo>
                      <a:lnTo>
                        <a:pt x="1688" y="142"/>
                      </a:lnTo>
                      <a:lnTo>
                        <a:pt x="1677" y="123"/>
                      </a:lnTo>
                      <a:lnTo>
                        <a:pt x="1671" y="113"/>
                      </a:lnTo>
                      <a:lnTo>
                        <a:pt x="1665" y="108"/>
                      </a:lnTo>
                      <a:lnTo>
                        <a:pt x="1654" y="103"/>
                      </a:lnTo>
                      <a:lnTo>
                        <a:pt x="1642" y="98"/>
                      </a:lnTo>
                      <a:lnTo>
                        <a:pt x="1637" y="93"/>
                      </a:lnTo>
                      <a:lnTo>
                        <a:pt x="1625" y="93"/>
                      </a:lnTo>
                      <a:lnTo>
                        <a:pt x="1614" y="89"/>
                      </a:lnTo>
                      <a:lnTo>
                        <a:pt x="1602" y="84"/>
                      </a:lnTo>
                      <a:lnTo>
                        <a:pt x="1596" y="84"/>
                      </a:lnTo>
                      <a:lnTo>
                        <a:pt x="1591" y="84"/>
                      </a:lnTo>
                      <a:lnTo>
                        <a:pt x="1585" y="84"/>
                      </a:lnTo>
                      <a:lnTo>
                        <a:pt x="1574" y="84"/>
                      </a:lnTo>
                      <a:lnTo>
                        <a:pt x="1568" y="84"/>
                      </a:lnTo>
                      <a:lnTo>
                        <a:pt x="1562" y="84"/>
                      </a:lnTo>
                      <a:lnTo>
                        <a:pt x="1556" y="84"/>
                      </a:lnTo>
                      <a:lnTo>
                        <a:pt x="1545" y="84"/>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15520" y="2088000"/>
                  <a:ext cx="1204920" cy="1662840"/>
                </a:xfrm>
                <a:custGeom>
                  <a:avLst/>
                  <a:gdLst/>
                  <a:ahLst/>
                  <a:rect l="l" t="t" r="r" b="b"/>
                  <a:pathLst>
                    <a:path w="1166" h="1213">
                      <a:moveTo>
                        <a:pt x="46" y="1213"/>
                      </a:moveTo>
                      <a:lnTo>
                        <a:pt x="46" y="1198"/>
                      </a:lnTo>
                      <a:lnTo>
                        <a:pt x="46" y="1179"/>
                      </a:lnTo>
                      <a:lnTo>
                        <a:pt x="40" y="1159"/>
                      </a:lnTo>
                      <a:lnTo>
                        <a:pt x="40" y="1144"/>
                      </a:lnTo>
                      <a:lnTo>
                        <a:pt x="35" y="1125"/>
                      </a:lnTo>
                      <a:lnTo>
                        <a:pt x="35" y="1110"/>
                      </a:lnTo>
                      <a:lnTo>
                        <a:pt x="35" y="1095"/>
                      </a:lnTo>
                      <a:lnTo>
                        <a:pt x="29" y="1076"/>
                      </a:lnTo>
                      <a:lnTo>
                        <a:pt x="29" y="1061"/>
                      </a:lnTo>
                      <a:lnTo>
                        <a:pt x="23" y="1042"/>
                      </a:lnTo>
                      <a:lnTo>
                        <a:pt x="23" y="1027"/>
                      </a:lnTo>
                      <a:lnTo>
                        <a:pt x="17" y="1012"/>
                      </a:lnTo>
                      <a:lnTo>
                        <a:pt x="17" y="993"/>
                      </a:lnTo>
                      <a:lnTo>
                        <a:pt x="12" y="973"/>
                      </a:lnTo>
                      <a:lnTo>
                        <a:pt x="12" y="959"/>
                      </a:lnTo>
                      <a:lnTo>
                        <a:pt x="12" y="939"/>
                      </a:lnTo>
                      <a:lnTo>
                        <a:pt x="6" y="924"/>
                      </a:lnTo>
                      <a:lnTo>
                        <a:pt x="0" y="910"/>
                      </a:lnTo>
                      <a:lnTo>
                        <a:pt x="0" y="895"/>
                      </a:lnTo>
                      <a:lnTo>
                        <a:pt x="0" y="880"/>
                      </a:lnTo>
                      <a:lnTo>
                        <a:pt x="0" y="880"/>
                      </a:lnTo>
                      <a:lnTo>
                        <a:pt x="6" y="880"/>
                      </a:lnTo>
                      <a:lnTo>
                        <a:pt x="6" y="875"/>
                      </a:lnTo>
                      <a:lnTo>
                        <a:pt x="12" y="875"/>
                      </a:lnTo>
                      <a:lnTo>
                        <a:pt x="17" y="880"/>
                      </a:lnTo>
                      <a:lnTo>
                        <a:pt x="17" y="880"/>
                      </a:lnTo>
                      <a:lnTo>
                        <a:pt x="23" y="880"/>
                      </a:lnTo>
                      <a:lnTo>
                        <a:pt x="29" y="880"/>
                      </a:lnTo>
                      <a:lnTo>
                        <a:pt x="29" y="870"/>
                      </a:lnTo>
                      <a:lnTo>
                        <a:pt x="29" y="866"/>
                      </a:lnTo>
                      <a:lnTo>
                        <a:pt x="29" y="861"/>
                      </a:lnTo>
                      <a:lnTo>
                        <a:pt x="35" y="856"/>
                      </a:lnTo>
                      <a:lnTo>
                        <a:pt x="40" y="856"/>
                      </a:lnTo>
                      <a:lnTo>
                        <a:pt x="46" y="856"/>
                      </a:lnTo>
                      <a:lnTo>
                        <a:pt x="58" y="861"/>
                      </a:lnTo>
                      <a:lnTo>
                        <a:pt x="63" y="861"/>
                      </a:lnTo>
                      <a:lnTo>
                        <a:pt x="69" y="866"/>
                      </a:lnTo>
                      <a:lnTo>
                        <a:pt x="80" y="866"/>
                      </a:lnTo>
                      <a:lnTo>
                        <a:pt x="86" y="870"/>
                      </a:lnTo>
                      <a:lnTo>
                        <a:pt x="92" y="875"/>
                      </a:lnTo>
                      <a:lnTo>
                        <a:pt x="98" y="870"/>
                      </a:lnTo>
                      <a:lnTo>
                        <a:pt x="103" y="870"/>
                      </a:lnTo>
                      <a:lnTo>
                        <a:pt x="109" y="870"/>
                      </a:lnTo>
                      <a:lnTo>
                        <a:pt x="115" y="866"/>
                      </a:lnTo>
                      <a:lnTo>
                        <a:pt x="121" y="866"/>
                      </a:lnTo>
                      <a:lnTo>
                        <a:pt x="126" y="861"/>
                      </a:lnTo>
                      <a:lnTo>
                        <a:pt x="132" y="861"/>
                      </a:lnTo>
                      <a:lnTo>
                        <a:pt x="132" y="856"/>
                      </a:lnTo>
                      <a:lnTo>
                        <a:pt x="138" y="851"/>
                      </a:lnTo>
                      <a:lnTo>
                        <a:pt x="138" y="836"/>
                      </a:lnTo>
                      <a:lnTo>
                        <a:pt x="132" y="826"/>
                      </a:lnTo>
                      <a:lnTo>
                        <a:pt x="138" y="822"/>
                      </a:lnTo>
                      <a:lnTo>
                        <a:pt x="149" y="822"/>
                      </a:lnTo>
                      <a:lnTo>
                        <a:pt x="161" y="822"/>
                      </a:lnTo>
                      <a:lnTo>
                        <a:pt x="172" y="822"/>
                      </a:lnTo>
                      <a:lnTo>
                        <a:pt x="190" y="822"/>
                      </a:lnTo>
                      <a:lnTo>
                        <a:pt x="201" y="826"/>
                      </a:lnTo>
                      <a:lnTo>
                        <a:pt x="213" y="826"/>
                      </a:lnTo>
                      <a:lnTo>
                        <a:pt x="224" y="826"/>
                      </a:lnTo>
                      <a:lnTo>
                        <a:pt x="236" y="822"/>
                      </a:lnTo>
                      <a:lnTo>
                        <a:pt x="247" y="822"/>
                      </a:lnTo>
                      <a:lnTo>
                        <a:pt x="259" y="817"/>
                      </a:lnTo>
                      <a:lnTo>
                        <a:pt x="270" y="812"/>
                      </a:lnTo>
                      <a:lnTo>
                        <a:pt x="276" y="807"/>
                      </a:lnTo>
                      <a:lnTo>
                        <a:pt x="287" y="797"/>
                      </a:lnTo>
                      <a:lnTo>
                        <a:pt x="299" y="792"/>
                      </a:lnTo>
                      <a:lnTo>
                        <a:pt x="310" y="787"/>
                      </a:lnTo>
                      <a:lnTo>
                        <a:pt x="316" y="782"/>
                      </a:lnTo>
                      <a:lnTo>
                        <a:pt x="310" y="778"/>
                      </a:lnTo>
                      <a:lnTo>
                        <a:pt x="304" y="778"/>
                      </a:lnTo>
                      <a:lnTo>
                        <a:pt x="299" y="778"/>
                      </a:lnTo>
                      <a:lnTo>
                        <a:pt x="293" y="778"/>
                      </a:lnTo>
                      <a:lnTo>
                        <a:pt x="287" y="773"/>
                      </a:lnTo>
                      <a:lnTo>
                        <a:pt x="281" y="773"/>
                      </a:lnTo>
                      <a:lnTo>
                        <a:pt x="276" y="768"/>
                      </a:lnTo>
                      <a:lnTo>
                        <a:pt x="276" y="768"/>
                      </a:lnTo>
                      <a:lnTo>
                        <a:pt x="264" y="763"/>
                      </a:lnTo>
                      <a:lnTo>
                        <a:pt x="259" y="758"/>
                      </a:lnTo>
                      <a:lnTo>
                        <a:pt x="259" y="753"/>
                      </a:lnTo>
                      <a:lnTo>
                        <a:pt x="253" y="748"/>
                      </a:lnTo>
                      <a:lnTo>
                        <a:pt x="247" y="743"/>
                      </a:lnTo>
                      <a:lnTo>
                        <a:pt x="241" y="738"/>
                      </a:lnTo>
                      <a:lnTo>
                        <a:pt x="236" y="734"/>
                      </a:lnTo>
                      <a:lnTo>
                        <a:pt x="230" y="729"/>
                      </a:lnTo>
                      <a:lnTo>
                        <a:pt x="236" y="734"/>
                      </a:lnTo>
                      <a:lnTo>
                        <a:pt x="241" y="734"/>
                      </a:lnTo>
                      <a:lnTo>
                        <a:pt x="247" y="734"/>
                      </a:lnTo>
                      <a:lnTo>
                        <a:pt x="259" y="738"/>
                      </a:lnTo>
                      <a:lnTo>
                        <a:pt x="264" y="738"/>
                      </a:lnTo>
                      <a:lnTo>
                        <a:pt x="270" y="743"/>
                      </a:lnTo>
                      <a:lnTo>
                        <a:pt x="276" y="743"/>
                      </a:lnTo>
                      <a:lnTo>
                        <a:pt x="281" y="743"/>
                      </a:lnTo>
                      <a:lnTo>
                        <a:pt x="293" y="748"/>
                      </a:lnTo>
                      <a:lnTo>
                        <a:pt x="299" y="748"/>
                      </a:lnTo>
                      <a:lnTo>
                        <a:pt x="304" y="748"/>
                      </a:lnTo>
                      <a:lnTo>
                        <a:pt x="310" y="748"/>
                      </a:lnTo>
                      <a:lnTo>
                        <a:pt x="316" y="753"/>
                      </a:lnTo>
                      <a:lnTo>
                        <a:pt x="327" y="753"/>
                      </a:lnTo>
                      <a:lnTo>
                        <a:pt x="333" y="753"/>
                      </a:lnTo>
                      <a:lnTo>
                        <a:pt x="339" y="753"/>
                      </a:lnTo>
                      <a:lnTo>
                        <a:pt x="345" y="753"/>
                      </a:lnTo>
                      <a:lnTo>
                        <a:pt x="350" y="753"/>
                      </a:lnTo>
                      <a:lnTo>
                        <a:pt x="362" y="753"/>
                      </a:lnTo>
                      <a:lnTo>
                        <a:pt x="368" y="753"/>
                      </a:lnTo>
                      <a:lnTo>
                        <a:pt x="373" y="753"/>
                      </a:lnTo>
                      <a:lnTo>
                        <a:pt x="379" y="753"/>
                      </a:lnTo>
                      <a:lnTo>
                        <a:pt x="391" y="753"/>
                      </a:lnTo>
                      <a:lnTo>
                        <a:pt x="396" y="753"/>
                      </a:lnTo>
                      <a:lnTo>
                        <a:pt x="408" y="753"/>
                      </a:lnTo>
                      <a:lnTo>
                        <a:pt x="425" y="748"/>
                      </a:lnTo>
                      <a:lnTo>
                        <a:pt x="437" y="743"/>
                      </a:lnTo>
                      <a:lnTo>
                        <a:pt x="448" y="738"/>
                      </a:lnTo>
                      <a:lnTo>
                        <a:pt x="465" y="734"/>
                      </a:lnTo>
                      <a:lnTo>
                        <a:pt x="477" y="729"/>
                      </a:lnTo>
                      <a:lnTo>
                        <a:pt x="488" y="719"/>
                      </a:lnTo>
                      <a:lnTo>
                        <a:pt x="500" y="714"/>
                      </a:lnTo>
                      <a:lnTo>
                        <a:pt x="511" y="709"/>
                      </a:lnTo>
                      <a:lnTo>
                        <a:pt x="523" y="699"/>
                      </a:lnTo>
                      <a:lnTo>
                        <a:pt x="534" y="694"/>
                      </a:lnTo>
                      <a:lnTo>
                        <a:pt x="546" y="685"/>
                      </a:lnTo>
                      <a:lnTo>
                        <a:pt x="551" y="675"/>
                      </a:lnTo>
                      <a:lnTo>
                        <a:pt x="563" y="670"/>
                      </a:lnTo>
                      <a:lnTo>
                        <a:pt x="569" y="660"/>
                      </a:lnTo>
                      <a:lnTo>
                        <a:pt x="574" y="650"/>
                      </a:lnTo>
                      <a:lnTo>
                        <a:pt x="580" y="646"/>
                      </a:lnTo>
                      <a:lnTo>
                        <a:pt x="580" y="636"/>
                      </a:lnTo>
                      <a:lnTo>
                        <a:pt x="580" y="631"/>
                      </a:lnTo>
                      <a:lnTo>
                        <a:pt x="574" y="621"/>
                      </a:lnTo>
                      <a:lnTo>
                        <a:pt x="563" y="616"/>
                      </a:lnTo>
                      <a:lnTo>
                        <a:pt x="557" y="611"/>
                      </a:lnTo>
                      <a:lnTo>
                        <a:pt x="546" y="606"/>
                      </a:lnTo>
                      <a:lnTo>
                        <a:pt x="534" y="601"/>
                      </a:lnTo>
                      <a:lnTo>
                        <a:pt x="523" y="601"/>
                      </a:lnTo>
                      <a:lnTo>
                        <a:pt x="517" y="597"/>
                      </a:lnTo>
                      <a:lnTo>
                        <a:pt x="505" y="592"/>
                      </a:lnTo>
                      <a:lnTo>
                        <a:pt x="494" y="587"/>
                      </a:lnTo>
                      <a:lnTo>
                        <a:pt x="488" y="582"/>
                      </a:lnTo>
                      <a:lnTo>
                        <a:pt x="482" y="577"/>
                      </a:lnTo>
                      <a:lnTo>
                        <a:pt x="471" y="572"/>
                      </a:lnTo>
                      <a:lnTo>
                        <a:pt x="465" y="567"/>
                      </a:lnTo>
                      <a:lnTo>
                        <a:pt x="454" y="562"/>
                      </a:lnTo>
                      <a:lnTo>
                        <a:pt x="448" y="557"/>
                      </a:lnTo>
                      <a:lnTo>
                        <a:pt x="442" y="548"/>
                      </a:lnTo>
                      <a:lnTo>
                        <a:pt x="437" y="543"/>
                      </a:lnTo>
                      <a:lnTo>
                        <a:pt x="437" y="538"/>
                      </a:lnTo>
                      <a:lnTo>
                        <a:pt x="437" y="538"/>
                      </a:lnTo>
                      <a:lnTo>
                        <a:pt x="442" y="533"/>
                      </a:lnTo>
                      <a:lnTo>
                        <a:pt x="442" y="533"/>
                      </a:lnTo>
                      <a:lnTo>
                        <a:pt x="448" y="528"/>
                      </a:lnTo>
                      <a:lnTo>
                        <a:pt x="454" y="528"/>
                      </a:lnTo>
                      <a:lnTo>
                        <a:pt x="454" y="523"/>
                      </a:lnTo>
                      <a:lnTo>
                        <a:pt x="459" y="523"/>
                      </a:lnTo>
                      <a:lnTo>
                        <a:pt x="471" y="523"/>
                      </a:lnTo>
                      <a:lnTo>
                        <a:pt x="482" y="523"/>
                      </a:lnTo>
                      <a:lnTo>
                        <a:pt x="494" y="523"/>
                      </a:lnTo>
                      <a:lnTo>
                        <a:pt x="511" y="523"/>
                      </a:lnTo>
                      <a:lnTo>
                        <a:pt x="523" y="523"/>
                      </a:lnTo>
                      <a:lnTo>
                        <a:pt x="534" y="523"/>
                      </a:lnTo>
                      <a:lnTo>
                        <a:pt x="546" y="518"/>
                      </a:lnTo>
                      <a:lnTo>
                        <a:pt x="557" y="518"/>
                      </a:lnTo>
                      <a:lnTo>
                        <a:pt x="563" y="518"/>
                      </a:lnTo>
                      <a:lnTo>
                        <a:pt x="569" y="513"/>
                      </a:lnTo>
                      <a:lnTo>
                        <a:pt x="580" y="513"/>
                      </a:lnTo>
                      <a:lnTo>
                        <a:pt x="586" y="509"/>
                      </a:lnTo>
                      <a:lnTo>
                        <a:pt x="592" y="509"/>
                      </a:lnTo>
                      <a:lnTo>
                        <a:pt x="597" y="504"/>
                      </a:lnTo>
                      <a:lnTo>
                        <a:pt x="603" y="499"/>
                      </a:lnTo>
                      <a:lnTo>
                        <a:pt x="609" y="494"/>
                      </a:lnTo>
                      <a:lnTo>
                        <a:pt x="615" y="479"/>
                      </a:lnTo>
                      <a:lnTo>
                        <a:pt x="620" y="465"/>
                      </a:lnTo>
                      <a:lnTo>
                        <a:pt x="620" y="450"/>
                      </a:lnTo>
                      <a:lnTo>
                        <a:pt x="626" y="435"/>
                      </a:lnTo>
                      <a:lnTo>
                        <a:pt x="632" y="421"/>
                      </a:lnTo>
                      <a:lnTo>
                        <a:pt x="632" y="411"/>
                      </a:lnTo>
                      <a:lnTo>
                        <a:pt x="638" y="396"/>
                      </a:lnTo>
                      <a:lnTo>
                        <a:pt x="649" y="386"/>
                      </a:lnTo>
                      <a:lnTo>
                        <a:pt x="649" y="381"/>
                      </a:lnTo>
                      <a:lnTo>
                        <a:pt x="655" y="377"/>
                      </a:lnTo>
                      <a:lnTo>
                        <a:pt x="660" y="377"/>
                      </a:lnTo>
                      <a:lnTo>
                        <a:pt x="672" y="372"/>
                      </a:lnTo>
                      <a:lnTo>
                        <a:pt x="678" y="367"/>
                      </a:lnTo>
                      <a:lnTo>
                        <a:pt x="683" y="367"/>
                      </a:lnTo>
                      <a:lnTo>
                        <a:pt x="689" y="362"/>
                      </a:lnTo>
                      <a:lnTo>
                        <a:pt x="701" y="362"/>
                      </a:lnTo>
                      <a:lnTo>
                        <a:pt x="706" y="362"/>
                      </a:lnTo>
                      <a:lnTo>
                        <a:pt x="712" y="367"/>
                      </a:lnTo>
                      <a:lnTo>
                        <a:pt x="718" y="367"/>
                      </a:lnTo>
                      <a:lnTo>
                        <a:pt x="724" y="372"/>
                      </a:lnTo>
                      <a:lnTo>
                        <a:pt x="729" y="377"/>
                      </a:lnTo>
                      <a:lnTo>
                        <a:pt x="735" y="377"/>
                      </a:lnTo>
                      <a:lnTo>
                        <a:pt x="741" y="381"/>
                      </a:lnTo>
                      <a:lnTo>
                        <a:pt x="752" y="381"/>
                      </a:lnTo>
                      <a:lnTo>
                        <a:pt x="758" y="381"/>
                      </a:lnTo>
                      <a:lnTo>
                        <a:pt x="770" y="381"/>
                      </a:lnTo>
                      <a:lnTo>
                        <a:pt x="781" y="377"/>
                      </a:lnTo>
                      <a:lnTo>
                        <a:pt x="787" y="377"/>
                      </a:lnTo>
                      <a:lnTo>
                        <a:pt x="798" y="372"/>
                      </a:lnTo>
                      <a:lnTo>
                        <a:pt x="810" y="367"/>
                      </a:lnTo>
                      <a:lnTo>
                        <a:pt x="816" y="362"/>
                      </a:lnTo>
                      <a:lnTo>
                        <a:pt x="827" y="357"/>
                      </a:lnTo>
                      <a:lnTo>
                        <a:pt x="839" y="352"/>
                      </a:lnTo>
                      <a:lnTo>
                        <a:pt x="850" y="342"/>
                      </a:lnTo>
                      <a:lnTo>
                        <a:pt x="861" y="337"/>
                      </a:lnTo>
                      <a:lnTo>
                        <a:pt x="873" y="328"/>
                      </a:lnTo>
                      <a:lnTo>
                        <a:pt x="884" y="323"/>
                      </a:lnTo>
                      <a:lnTo>
                        <a:pt x="896" y="313"/>
                      </a:lnTo>
                      <a:lnTo>
                        <a:pt x="902" y="303"/>
                      </a:lnTo>
                      <a:lnTo>
                        <a:pt x="907" y="293"/>
                      </a:lnTo>
                      <a:lnTo>
                        <a:pt x="913" y="284"/>
                      </a:lnTo>
                      <a:lnTo>
                        <a:pt x="907" y="279"/>
                      </a:lnTo>
                      <a:lnTo>
                        <a:pt x="902" y="274"/>
                      </a:lnTo>
                      <a:lnTo>
                        <a:pt x="896" y="264"/>
                      </a:lnTo>
                      <a:lnTo>
                        <a:pt x="884" y="259"/>
                      </a:lnTo>
                      <a:lnTo>
                        <a:pt x="879" y="254"/>
                      </a:lnTo>
                      <a:lnTo>
                        <a:pt x="879" y="244"/>
                      </a:lnTo>
                      <a:lnTo>
                        <a:pt x="879" y="240"/>
                      </a:lnTo>
                      <a:lnTo>
                        <a:pt x="879" y="235"/>
                      </a:lnTo>
                      <a:lnTo>
                        <a:pt x="884" y="235"/>
                      </a:lnTo>
                      <a:lnTo>
                        <a:pt x="890" y="240"/>
                      </a:lnTo>
                      <a:lnTo>
                        <a:pt x="896" y="244"/>
                      </a:lnTo>
                      <a:lnTo>
                        <a:pt x="907" y="249"/>
                      </a:lnTo>
                      <a:lnTo>
                        <a:pt x="913" y="254"/>
                      </a:lnTo>
                      <a:lnTo>
                        <a:pt x="919" y="254"/>
                      </a:lnTo>
                      <a:lnTo>
                        <a:pt x="919" y="249"/>
                      </a:lnTo>
                      <a:lnTo>
                        <a:pt x="925" y="244"/>
                      </a:lnTo>
                      <a:lnTo>
                        <a:pt x="925" y="240"/>
                      </a:lnTo>
                      <a:lnTo>
                        <a:pt x="919" y="230"/>
                      </a:lnTo>
                      <a:lnTo>
                        <a:pt x="913" y="225"/>
                      </a:lnTo>
                      <a:lnTo>
                        <a:pt x="907" y="220"/>
                      </a:lnTo>
                      <a:lnTo>
                        <a:pt x="907" y="210"/>
                      </a:lnTo>
                      <a:lnTo>
                        <a:pt x="902" y="205"/>
                      </a:lnTo>
                      <a:lnTo>
                        <a:pt x="896" y="196"/>
                      </a:lnTo>
                      <a:lnTo>
                        <a:pt x="902" y="200"/>
                      </a:lnTo>
                      <a:lnTo>
                        <a:pt x="907" y="200"/>
                      </a:lnTo>
                      <a:lnTo>
                        <a:pt x="913" y="205"/>
                      </a:lnTo>
                      <a:lnTo>
                        <a:pt x="919" y="205"/>
                      </a:lnTo>
                      <a:lnTo>
                        <a:pt x="925" y="210"/>
                      </a:lnTo>
                      <a:lnTo>
                        <a:pt x="930" y="210"/>
                      </a:lnTo>
                      <a:lnTo>
                        <a:pt x="936" y="210"/>
                      </a:lnTo>
                      <a:lnTo>
                        <a:pt x="942" y="210"/>
                      </a:lnTo>
                      <a:lnTo>
                        <a:pt x="948" y="205"/>
                      </a:lnTo>
                      <a:lnTo>
                        <a:pt x="948" y="205"/>
                      </a:lnTo>
                      <a:lnTo>
                        <a:pt x="953" y="200"/>
                      </a:lnTo>
                      <a:lnTo>
                        <a:pt x="959" y="196"/>
                      </a:lnTo>
                      <a:lnTo>
                        <a:pt x="959" y="191"/>
                      </a:lnTo>
                      <a:lnTo>
                        <a:pt x="965" y="186"/>
                      </a:lnTo>
                      <a:lnTo>
                        <a:pt x="965" y="176"/>
                      </a:lnTo>
                      <a:lnTo>
                        <a:pt x="971" y="171"/>
                      </a:lnTo>
                      <a:lnTo>
                        <a:pt x="965" y="166"/>
                      </a:lnTo>
                      <a:lnTo>
                        <a:pt x="965" y="161"/>
                      </a:lnTo>
                      <a:lnTo>
                        <a:pt x="965" y="152"/>
                      </a:lnTo>
                      <a:lnTo>
                        <a:pt x="959" y="147"/>
                      </a:lnTo>
                      <a:lnTo>
                        <a:pt x="959" y="137"/>
                      </a:lnTo>
                      <a:lnTo>
                        <a:pt x="953" y="132"/>
                      </a:lnTo>
                      <a:lnTo>
                        <a:pt x="948" y="127"/>
                      </a:lnTo>
                      <a:lnTo>
                        <a:pt x="948" y="117"/>
                      </a:lnTo>
                      <a:lnTo>
                        <a:pt x="942" y="117"/>
                      </a:lnTo>
                      <a:lnTo>
                        <a:pt x="936" y="112"/>
                      </a:lnTo>
                      <a:lnTo>
                        <a:pt x="936" y="112"/>
                      </a:lnTo>
                      <a:lnTo>
                        <a:pt x="930" y="112"/>
                      </a:lnTo>
                      <a:lnTo>
                        <a:pt x="925" y="108"/>
                      </a:lnTo>
                      <a:lnTo>
                        <a:pt x="919" y="108"/>
                      </a:lnTo>
                      <a:lnTo>
                        <a:pt x="919" y="103"/>
                      </a:lnTo>
                      <a:lnTo>
                        <a:pt x="913" y="98"/>
                      </a:lnTo>
                      <a:lnTo>
                        <a:pt x="913" y="88"/>
                      </a:lnTo>
                      <a:lnTo>
                        <a:pt x="907" y="78"/>
                      </a:lnTo>
                      <a:lnTo>
                        <a:pt x="907" y="68"/>
                      </a:lnTo>
                      <a:lnTo>
                        <a:pt x="913" y="59"/>
                      </a:lnTo>
                      <a:lnTo>
                        <a:pt x="913" y="54"/>
                      </a:lnTo>
                      <a:lnTo>
                        <a:pt x="919" y="49"/>
                      </a:lnTo>
                      <a:lnTo>
                        <a:pt x="925" y="44"/>
                      </a:lnTo>
                      <a:lnTo>
                        <a:pt x="925" y="39"/>
                      </a:lnTo>
                      <a:lnTo>
                        <a:pt x="930" y="34"/>
                      </a:lnTo>
                      <a:lnTo>
                        <a:pt x="936" y="29"/>
                      </a:lnTo>
                      <a:lnTo>
                        <a:pt x="942" y="24"/>
                      </a:lnTo>
                      <a:lnTo>
                        <a:pt x="948" y="20"/>
                      </a:lnTo>
                      <a:lnTo>
                        <a:pt x="942" y="29"/>
                      </a:lnTo>
                      <a:lnTo>
                        <a:pt x="936" y="44"/>
                      </a:lnTo>
                      <a:lnTo>
                        <a:pt x="930" y="59"/>
                      </a:lnTo>
                      <a:lnTo>
                        <a:pt x="930" y="68"/>
                      </a:lnTo>
                      <a:lnTo>
                        <a:pt x="930" y="73"/>
                      </a:lnTo>
                      <a:lnTo>
                        <a:pt x="936" y="78"/>
                      </a:lnTo>
                      <a:lnTo>
                        <a:pt x="936" y="83"/>
                      </a:lnTo>
                      <a:lnTo>
                        <a:pt x="942" y="88"/>
                      </a:lnTo>
                      <a:lnTo>
                        <a:pt x="948" y="88"/>
                      </a:lnTo>
                      <a:lnTo>
                        <a:pt x="953" y="93"/>
                      </a:lnTo>
                      <a:lnTo>
                        <a:pt x="953" y="98"/>
                      </a:lnTo>
                      <a:lnTo>
                        <a:pt x="959" y="103"/>
                      </a:lnTo>
                      <a:lnTo>
                        <a:pt x="971" y="108"/>
                      </a:lnTo>
                      <a:lnTo>
                        <a:pt x="976" y="117"/>
                      </a:lnTo>
                      <a:lnTo>
                        <a:pt x="988" y="122"/>
                      </a:lnTo>
                      <a:lnTo>
                        <a:pt x="994" y="127"/>
                      </a:lnTo>
                      <a:lnTo>
                        <a:pt x="1005" y="137"/>
                      </a:lnTo>
                      <a:lnTo>
                        <a:pt x="1011" y="142"/>
                      </a:lnTo>
                      <a:lnTo>
                        <a:pt x="1022" y="147"/>
                      </a:lnTo>
                      <a:lnTo>
                        <a:pt x="1034" y="152"/>
                      </a:lnTo>
                      <a:lnTo>
                        <a:pt x="1040" y="152"/>
                      </a:lnTo>
                      <a:lnTo>
                        <a:pt x="1045" y="152"/>
                      </a:lnTo>
                      <a:lnTo>
                        <a:pt x="1051" y="152"/>
                      </a:lnTo>
                      <a:lnTo>
                        <a:pt x="1057" y="152"/>
                      </a:lnTo>
                      <a:lnTo>
                        <a:pt x="1062" y="152"/>
                      </a:lnTo>
                      <a:lnTo>
                        <a:pt x="1068" y="147"/>
                      </a:lnTo>
                      <a:lnTo>
                        <a:pt x="1074" y="147"/>
                      </a:lnTo>
                      <a:lnTo>
                        <a:pt x="1080" y="142"/>
                      </a:lnTo>
                      <a:lnTo>
                        <a:pt x="1091" y="137"/>
                      </a:lnTo>
                      <a:lnTo>
                        <a:pt x="1097" y="132"/>
                      </a:lnTo>
                      <a:lnTo>
                        <a:pt x="1103" y="127"/>
                      </a:lnTo>
                      <a:lnTo>
                        <a:pt x="1108" y="122"/>
                      </a:lnTo>
                      <a:lnTo>
                        <a:pt x="1114" y="117"/>
                      </a:lnTo>
                      <a:lnTo>
                        <a:pt x="1114" y="112"/>
                      </a:lnTo>
                      <a:lnTo>
                        <a:pt x="1120" y="108"/>
                      </a:lnTo>
                      <a:lnTo>
                        <a:pt x="1126" y="98"/>
                      </a:lnTo>
                      <a:lnTo>
                        <a:pt x="1131" y="88"/>
                      </a:lnTo>
                      <a:lnTo>
                        <a:pt x="1137" y="78"/>
                      </a:lnTo>
                      <a:lnTo>
                        <a:pt x="1143" y="68"/>
                      </a:lnTo>
                      <a:lnTo>
                        <a:pt x="1143" y="54"/>
                      </a:lnTo>
                      <a:lnTo>
                        <a:pt x="1137" y="39"/>
                      </a:lnTo>
                      <a:lnTo>
                        <a:pt x="1137" y="24"/>
                      </a:lnTo>
                      <a:lnTo>
                        <a:pt x="1131" y="10"/>
                      </a:lnTo>
                      <a:lnTo>
                        <a:pt x="1131" y="0"/>
                      </a:lnTo>
                      <a:lnTo>
                        <a:pt x="1143" y="15"/>
                      </a:lnTo>
                      <a:lnTo>
                        <a:pt x="1154" y="24"/>
                      </a:lnTo>
                      <a:lnTo>
                        <a:pt x="1154" y="39"/>
                      </a:lnTo>
                      <a:lnTo>
                        <a:pt x="1160" y="54"/>
                      </a:lnTo>
                      <a:lnTo>
                        <a:pt x="1160" y="68"/>
                      </a:lnTo>
                      <a:lnTo>
                        <a:pt x="1166" y="78"/>
                      </a:lnTo>
                      <a:lnTo>
                        <a:pt x="1166" y="93"/>
                      </a:lnTo>
                      <a:lnTo>
                        <a:pt x="1160" y="103"/>
                      </a:lnTo>
                      <a:lnTo>
                        <a:pt x="1160" y="117"/>
                      </a:lnTo>
                      <a:lnTo>
                        <a:pt x="1154" y="132"/>
                      </a:lnTo>
                      <a:lnTo>
                        <a:pt x="1154" y="147"/>
                      </a:lnTo>
                      <a:lnTo>
                        <a:pt x="1149" y="161"/>
                      </a:lnTo>
                      <a:lnTo>
                        <a:pt x="1143" y="176"/>
                      </a:lnTo>
                      <a:lnTo>
                        <a:pt x="1137" y="186"/>
                      </a:lnTo>
                      <a:lnTo>
                        <a:pt x="1126" y="200"/>
                      </a:lnTo>
                      <a:lnTo>
                        <a:pt x="1120" y="215"/>
                      </a:lnTo>
                      <a:lnTo>
                        <a:pt x="1114" y="225"/>
                      </a:lnTo>
                      <a:lnTo>
                        <a:pt x="1108" y="230"/>
                      </a:lnTo>
                      <a:lnTo>
                        <a:pt x="1103" y="240"/>
                      </a:lnTo>
                      <a:lnTo>
                        <a:pt x="1097" y="244"/>
                      </a:lnTo>
                      <a:lnTo>
                        <a:pt x="1091" y="244"/>
                      </a:lnTo>
                      <a:lnTo>
                        <a:pt x="1085" y="249"/>
                      </a:lnTo>
                      <a:lnTo>
                        <a:pt x="1080" y="254"/>
                      </a:lnTo>
                      <a:lnTo>
                        <a:pt x="1074" y="259"/>
                      </a:lnTo>
                      <a:lnTo>
                        <a:pt x="1085" y="259"/>
                      </a:lnTo>
                      <a:lnTo>
                        <a:pt x="1091" y="259"/>
                      </a:lnTo>
                      <a:lnTo>
                        <a:pt x="1097" y="259"/>
                      </a:lnTo>
                      <a:lnTo>
                        <a:pt x="1103" y="259"/>
                      </a:lnTo>
                      <a:lnTo>
                        <a:pt x="1103" y="264"/>
                      </a:lnTo>
                      <a:lnTo>
                        <a:pt x="1108" y="264"/>
                      </a:lnTo>
                      <a:lnTo>
                        <a:pt x="1108" y="269"/>
                      </a:lnTo>
                      <a:lnTo>
                        <a:pt x="1114" y="274"/>
                      </a:lnTo>
                      <a:lnTo>
                        <a:pt x="1120" y="284"/>
                      </a:lnTo>
                      <a:lnTo>
                        <a:pt x="1126" y="293"/>
                      </a:lnTo>
                      <a:lnTo>
                        <a:pt x="1131" y="303"/>
                      </a:lnTo>
                      <a:lnTo>
                        <a:pt x="1137" y="313"/>
                      </a:lnTo>
                      <a:lnTo>
                        <a:pt x="1143" y="323"/>
                      </a:lnTo>
                      <a:lnTo>
                        <a:pt x="1149" y="333"/>
                      </a:lnTo>
                      <a:lnTo>
                        <a:pt x="1154" y="342"/>
                      </a:lnTo>
                      <a:lnTo>
                        <a:pt x="1154" y="352"/>
                      </a:lnTo>
                      <a:lnTo>
                        <a:pt x="1160" y="372"/>
                      </a:lnTo>
                      <a:lnTo>
                        <a:pt x="1166" y="396"/>
                      </a:lnTo>
                      <a:lnTo>
                        <a:pt x="1166" y="416"/>
                      </a:lnTo>
                      <a:lnTo>
                        <a:pt x="1166" y="435"/>
                      </a:lnTo>
                      <a:lnTo>
                        <a:pt x="1160" y="445"/>
                      </a:lnTo>
                      <a:lnTo>
                        <a:pt x="1154" y="455"/>
                      </a:lnTo>
                      <a:lnTo>
                        <a:pt x="1154" y="460"/>
                      </a:lnTo>
                      <a:lnTo>
                        <a:pt x="1143" y="469"/>
                      </a:lnTo>
                      <a:lnTo>
                        <a:pt x="1137" y="474"/>
                      </a:lnTo>
                      <a:lnTo>
                        <a:pt x="1131" y="484"/>
                      </a:lnTo>
                      <a:lnTo>
                        <a:pt x="1120" y="489"/>
                      </a:lnTo>
                      <a:lnTo>
                        <a:pt x="1114" y="494"/>
                      </a:lnTo>
                      <a:lnTo>
                        <a:pt x="1103" y="499"/>
                      </a:lnTo>
                      <a:lnTo>
                        <a:pt x="1091" y="499"/>
                      </a:lnTo>
                      <a:lnTo>
                        <a:pt x="1080" y="504"/>
                      </a:lnTo>
                      <a:lnTo>
                        <a:pt x="1068" y="504"/>
                      </a:lnTo>
                      <a:lnTo>
                        <a:pt x="1057" y="509"/>
                      </a:lnTo>
                      <a:lnTo>
                        <a:pt x="1045" y="509"/>
                      </a:lnTo>
                      <a:lnTo>
                        <a:pt x="1034" y="509"/>
                      </a:lnTo>
                      <a:lnTo>
                        <a:pt x="1022" y="509"/>
                      </a:lnTo>
                      <a:lnTo>
                        <a:pt x="1022" y="518"/>
                      </a:lnTo>
                      <a:lnTo>
                        <a:pt x="1022" y="528"/>
                      </a:lnTo>
                      <a:lnTo>
                        <a:pt x="1017" y="538"/>
                      </a:lnTo>
                      <a:lnTo>
                        <a:pt x="1017" y="548"/>
                      </a:lnTo>
                      <a:lnTo>
                        <a:pt x="1005" y="557"/>
                      </a:lnTo>
                      <a:lnTo>
                        <a:pt x="999" y="567"/>
                      </a:lnTo>
                      <a:lnTo>
                        <a:pt x="994" y="577"/>
                      </a:lnTo>
                      <a:lnTo>
                        <a:pt x="982" y="587"/>
                      </a:lnTo>
                      <a:lnTo>
                        <a:pt x="976" y="597"/>
                      </a:lnTo>
                      <a:lnTo>
                        <a:pt x="965" y="601"/>
                      </a:lnTo>
                      <a:lnTo>
                        <a:pt x="959" y="611"/>
                      </a:lnTo>
                      <a:lnTo>
                        <a:pt x="953" y="621"/>
                      </a:lnTo>
                      <a:lnTo>
                        <a:pt x="953" y="626"/>
                      </a:lnTo>
                      <a:lnTo>
                        <a:pt x="959" y="631"/>
                      </a:lnTo>
                      <a:lnTo>
                        <a:pt x="959" y="636"/>
                      </a:lnTo>
                      <a:lnTo>
                        <a:pt x="965" y="641"/>
                      </a:lnTo>
                      <a:lnTo>
                        <a:pt x="971" y="650"/>
                      </a:lnTo>
                      <a:lnTo>
                        <a:pt x="971" y="655"/>
                      </a:lnTo>
                      <a:lnTo>
                        <a:pt x="971" y="660"/>
                      </a:lnTo>
                      <a:lnTo>
                        <a:pt x="971" y="665"/>
                      </a:lnTo>
                      <a:lnTo>
                        <a:pt x="971" y="675"/>
                      </a:lnTo>
                      <a:lnTo>
                        <a:pt x="971" y="685"/>
                      </a:lnTo>
                      <a:lnTo>
                        <a:pt x="971" y="690"/>
                      </a:lnTo>
                      <a:lnTo>
                        <a:pt x="965" y="699"/>
                      </a:lnTo>
                      <a:lnTo>
                        <a:pt x="965" y="704"/>
                      </a:lnTo>
                      <a:lnTo>
                        <a:pt x="959" y="714"/>
                      </a:lnTo>
                      <a:lnTo>
                        <a:pt x="953" y="724"/>
                      </a:lnTo>
                      <a:lnTo>
                        <a:pt x="948" y="729"/>
                      </a:lnTo>
                      <a:lnTo>
                        <a:pt x="948" y="734"/>
                      </a:lnTo>
                      <a:lnTo>
                        <a:pt x="936" y="743"/>
                      </a:lnTo>
                      <a:lnTo>
                        <a:pt x="930" y="748"/>
                      </a:lnTo>
                      <a:lnTo>
                        <a:pt x="925" y="753"/>
                      </a:lnTo>
                      <a:lnTo>
                        <a:pt x="919" y="763"/>
                      </a:lnTo>
                      <a:lnTo>
                        <a:pt x="913" y="768"/>
                      </a:lnTo>
                      <a:lnTo>
                        <a:pt x="902" y="773"/>
                      </a:lnTo>
                      <a:lnTo>
                        <a:pt x="896" y="778"/>
                      </a:lnTo>
                      <a:lnTo>
                        <a:pt x="890" y="778"/>
                      </a:lnTo>
                      <a:lnTo>
                        <a:pt x="879" y="782"/>
                      </a:lnTo>
                      <a:lnTo>
                        <a:pt x="873" y="782"/>
                      </a:lnTo>
                      <a:lnTo>
                        <a:pt x="867" y="787"/>
                      </a:lnTo>
                      <a:lnTo>
                        <a:pt x="856" y="787"/>
                      </a:lnTo>
                      <a:lnTo>
                        <a:pt x="850" y="787"/>
                      </a:lnTo>
                      <a:lnTo>
                        <a:pt x="844" y="792"/>
                      </a:lnTo>
                      <a:lnTo>
                        <a:pt x="833" y="792"/>
                      </a:lnTo>
                      <a:lnTo>
                        <a:pt x="827" y="792"/>
                      </a:lnTo>
                      <a:lnTo>
                        <a:pt x="821" y="797"/>
                      </a:lnTo>
                      <a:lnTo>
                        <a:pt x="810" y="797"/>
                      </a:lnTo>
                      <a:lnTo>
                        <a:pt x="804" y="797"/>
                      </a:lnTo>
                      <a:lnTo>
                        <a:pt x="798" y="797"/>
                      </a:lnTo>
                      <a:lnTo>
                        <a:pt x="787" y="802"/>
                      </a:lnTo>
                      <a:lnTo>
                        <a:pt x="781" y="802"/>
                      </a:lnTo>
                      <a:lnTo>
                        <a:pt x="775" y="802"/>
                      </a:lnTo>
                      <a:lnTo>
                        <a:pt x="764" y="802"/>
                      </a:lnTo>
                      <a:lnTo>
                        <a:pt x="752" y="802"/>
                      </a:lnTo>
                      <a:lnTo>
                        <a:pt x="741" y="802"/>
                      </a:lnTo>
                      <a:lnTo>
                        <a:pt x="729" y="797"/>
                      </a:lnTo>
                      <a:lnTo>
                        <a:pt x="718" y="797"/>
                      </a:lnTo>
                      <a:lnTo>
                        <a:pt x="706" y="797"/>
                      </a:lnTo>
                      <a:lnTo>
                        <a:pt x="695" y="797"/>
                      </a:lnTo>
                      <a:lnTo>
                        <a:pt x="683" y="792"/>
                      </a:lnTo>
                      <a:lnTo>
                        <a:pt x="672" y="802"/>
                      </a:lnTo>
                      <a:lnTo>
                        <a:pt x="660" y="807"/>
                      </a:lnTo>
                      <a:lnTo>
                        <a:pt x="649" y="812"/>
                      </a:lnTo>
                      <a:lnTo>
                        <a:pt x="638" y="822"/>
                      </a:lnTo>
                      <a:lnTo>
                        <a:pt x="632" y="826"/>
                      </a:lnTo>
                      <a:lnTo>
                        <a:pt x="620" y="831"/>
                      </a:lnTo>
                      <a:lnTo>
                        <a:pt x="609" y="841"/>
                      </a:lnTo>
                      <a:lnTo>
                        <a:pt x="597" y="846"/>
                      </a:lnTo>
                      <a:lnTo>
                        <a:pt x="586" y="851"/>
                      </a:lnTo>
                      <a:lnTo>
                        <a:pt x="574" y="861"/>
                      </a:lnTo>
                      <a:lnTo>
                        <a:pt x="563" y="866"/>
                      </a:lnTo>
                      <a:lnTo>
                        <a:pt x="551" y="875"/>
                      </a:lnTo>
                      <a:lnTo>
                        <a:pt x="546" y="880"/>
                      </a:lnTo>
                      <a:lnTo>
                        <a:pt x="534" y="885"/>
                      </a:lnTo>
                      <a:lnTo>
                        <a:pt x="523" y="895"/>
                      </a:lnTo>
                      <a:lnTo>
                        <a:pt x="511" y="900"/>
                      </a:lnTo>
                      <a:lnTo>
                        <a:pt x="505" y="905"/>
                      </a:lnTo>
                      <a:lnTo>
                        <a:pt x="505" y="914"/>
                      </a:lnTo>
                      <a:lnTo>
                        <a:pt x="500" y="919"/>
                      </a:lnTo>
                      <a:lnTo>
                        <a:pt x="500" y="924"/>
                      </a:lnTo>
                      <a:lnTo>
                        <a:pt x="494" y="934"/>
                      </a:lnTo>
                      <a:lnTo>
                        <a:pt x="488" y="939"/>
                      </a:lnTo>
                      <a:lnTo>
                        <a:pt x="482" y="949"/>
                      </a:lnTo>
                      <a:lnTo>
                        <a:pt x="477" y="954"/>
                      </a:lnTo>
                      <a:lnTo>
                        <a:pt x="471" y="959"/>
                      </a:lnTo>
                      <a:lnTo>
                        <a:pt x="459" y="968"/>
                      </a:lnTo>
                      <a:lnTo>
                        <a:pt x="454" y="978"/>
                      </a:lnTo>
                      <a:lnTo>
                        <a:pt x="448" y="983"/>
                      </a:lnTo>
                      <a:lnTo>
                        <a:pt x="437" y="993"/>
                      </a:lnTo>
                      <a:lnTo>
                        <a:pt x="431" y="1003"/>
                      </a:lnTo>
                      <a:lnTo>
                        <a:pt x="419" y="1012"/>
                      </a:lnTo>
                      <a:lnTo>
                        <a:pt x="414" y="1017"/>
                      </a:lnTo>
                      <a:lnTo>
                        <a:pt x="402" y="1027"/>
                      </a:lnTo>
                      <a:lnTo>
                        <a:pt x="391" y="1032"/>
                      </a:lnTo>
                      <a:lnTo>
                        <a:pt x="385" y="1042"/>
                      </a:lnTo>
                      <a:lnTo>
                        <a:pt x="373" y="1047"/>
                      </a:lnTo>
                      <a:lnTo>
                        <a:pt x="368" y="1056"/>
                      </a:lnTo>
                      <a:lnTo>
                        <a:pt x="356" y="1061"/>
                      </a:lnTo>
                      <a:lnTo>
                        <a:pt x="345" y="1071"/>
                      </a:lnTo>
                      <a:lnTo>
                        <a:pt x="339" y="1076"/>
                      </a:lnTo>
                      <a:lnTo>
                        <a:pt x="327" y="1086"/>
                      </a:lnTo>
                      <a:lnTo>
                        <a:pt x="316" y="1091"/>
                      </a:lnTo>
                      <a:lnTo>
                        <a:pt x="304" y="1095"/>
                      </a:lnTo>
                      <a:lnTo>
                        <a:pt x="293" y="1105"/>
                      </a:lnTo>
                      <a:lnTo>
                        <a:pt x="287" y="1110"/>
                      </a:lnTo>
                      <a:lnTo>
                        <a:pt x="276" y="1115"/>
                      </a:lnTo>
                      <a:lnTo>
                        <a:pt x="264" y="1120"/>
                      </a:lnTo>
                      <a:lnTo>
                        <a:pt x="253" y="1125"/>
                      </a:lnTo>
                      <a:lnTo>
                        <a:pt x="241" y="1130"/>
                      </a:lnTo>
                      <a:lnTo>
                        <a:pt x="230" y="1139"/>
                      </a:lnTo>
                      <a:lnTo>
                        <a:pt x="218" y="1144"/>
                      </a:lnTo>
                      <a:lnTo>
                        <a:pt x="207" y="1149"/>
                      </a:lnTo>
                      <a:lnTo>
                        <a:pt x="195" y="1154"/>
                      </a:lnTo>
                      <a:lnTo>
                        <a:pt x="190" y="1159"/>
                      </a:lnTo>
                      <a:lnTo>
                        <a:pt x="178" y="1164"/>
                      </a:lnTo>
                      <a:lnTo>
                        <a:pt x="167" y="1169"/>
                      </a:lnTo>
                      <a:lnTo>
                        <a:pt x="155" y="1174"/>
                      </a:lnTo>
                      <a:lnTo>
                        <a:pt x="149" y="1174"/>
                      </a:lnTo>
                      <a:lnTo>
                        <a:pt x="144" y="1179"/>
                      </a:lnTo>
                      <a:lnTo>
                        <a:pt x="138" y="1183"/>
                      </a:lnTo>
                      <a:lnTo>
                        <a:pt x="126" y="1183"/>
                      </a:lnTo>
                      <a:lnTo>
                        <a:pt x="121" y="1188"/>
                      </a:lnTo>
                      <a:lnTo>
                        <a:pt x="115" y="1188"/>
                      </a:lnTo>
                      <a:lnTo>
                        <a:pt x="109" y="1193"/>
                      </a:lnTo>
                      <a:lnTo>
                        <a:pt x="98" y="1193"/>
                      </a:lnTo>
                      <a:lnTo>
                        <a:pt x="92" y="1198"/>
                      </a:lnTo>
                      <a:lnTo>
                        <a:pt x="86" y="1198"/>
                      </a:lnTo>
                      <a:lnTo>
                        <a:pt x="75" y="1203"/>
                      </a:lnTo>
                      <a:lnTo>
                        <a:pt x="69" y="1203"/>
                      </a:lnTo>
                      <a:lnTo>
                        <a:pt x="63" y="1208"/>
                      </a:lnTo>
                      <a:lnTo>
                        <a:pt x="58" y="1213"/>
                      </a:lnTo>
                      <a:lnTo>
                        <a:pt x="46" y="1213"/>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675360" y="2443320"/>
                  <a:ext cx="1008360" cy="1085400"/>
                </a:xfrm>
                <a:custGeom>
                  <a:avLst/>
                  <a:gdLst/>
                  <a:ahLst/>
                  <a:rect l="l" t="t" r="r" b="b"/>
                  <a:pathLst>
                    <a:path w="976" h="792">
                      <a:moveTo>
                        <a:pt x="919" y="0"/>
                      </a:moveTo>
                      <a:lnTo>
                        <a:pt x="936" y="0"/>
                      </a:lnTo>
                      <a:lnTo>
                        <a:pt x="948" y="0"/>
                      </a:lnTo>
                      <a:lnTo>
                        <a:pt x="953" y="5"/>
                      </a:lnTo>
                      <a:lnTo>
                        <a:pt x="959" y="15"/>
                      </a:lnTo>
                      <a:lnTo>
                        <a:pt x="965" y="25"/>
                      </a:lnTo>
                      <a:lnTo>
                        <a:pt x="971" y="30"/>
                      </a:lnTo>
                      <a:lnTo>
                        <a:pt x="971" y="39"/>
                      </a:lnTo>
                      <a:lnTo>
                        <a:pt x="976" y="49"/>
                      </a:lnTo>
                      <a:lnTo>
                        <a:pt x="971" y="49"/>
                      </a:lnTo>
                      <a:lnTo>
                        <a:pt x="965" y="49"/>
                      </a:lnTo>
                      <a:lnTo>
                        <a:pt x="953" y="54"/>
                      </a:lnTo>
                      <a:lnTo>
                        <a:pt x="948" y="54"/>
                      </a:lnTo>
                      <a:lnTo>
                        <a:pt x="936" y="59"/>
                      </a:lnTo>
                      <a:lnTo>
                        <a:pt x="930" y="59"/>
                      </a:lnTo>
                      <a:lnTo>
                        <a:pt x="925" y="64"/>
                      </a:lnTo>
                      <a:lnTo>
                        <a:pt x="919" y="69"/>
                      </a:lnTo>
                      <a:lnTo>
                        <a:pt x="913" y="74"/>
                      </a:lnTo>
                      <a:lnTo>
                        <a:pt x="907" y="83"/>
                      </a:lnTo>
                      <a:lnTo>
                        <a:pt x="902" y="93"/>
                      </a:lnTo>
                      <a:lnTo>
                        <a:pt x="896" y="103"/>
                      </a:lnTo>
                      <a:lnTo>
                        <a:pt x="896" y="108"/>
                      </a:lnTo>
                      <a:lnTo>
                        <a:pt x="896" y="113"/>
                      </a:lnTo>
                      <a:lnTo>
                        <a:pt x="890" y="122"/>
                      </a:lnTo>
                      <a:lnTo>
                        <a:pt x="890" y="127"/>
                      </a:lnTo>
                      <a:lnTo>
                        <a:pt x="885" y="132"/>
                      </a:lnTo>
                      <a:lnTo>
                        <a:pt x="885" y="142"/>
                      </a:lnTo>
                      <a:lnTo>
                        <a:pt x="879" y="147"/>
                      </a:lnTo>
                      <a:lnTo>
                        <a:pt x="879" y="152"/>
                      </a:lnTo>
                      <a:lnTo>
                        <a:pt x="873" y="152"/>
                      </a:lnTo>
                      <a:lnTo>
                        <a:pt x="867" y="157"/>
                      </a:lnTo>
                      <a:lnTo>
                        <a:pt x="862" y="157"/>
                      </a:lnTo>
                      <a:lnTo>
                        <a:pt x="856" y="157"/>
                      </a:lnTo>
                      <a:lnTo>
                        <a:pt x="850" y="157"/>
                      </a:lnTo>
                      <a:lnTo>
                        <a:pt x="844" y="157"/>
                      </a:lnTo>
                      <a:lnTo>
                        <a:pt x="839" y="157"/>
                      </a:lnTo>
                      <a:lnTo>
                        <a:pt x="833" y="157"/>
                      </a:lnTo>
                      <a:lnTo>
                        <a:pt x="821" y="157"/>
                      </a:lnTo>
                      <a:lnTo>
                        <a:pt x="810" y="162"/>
                      </a:lnTo>
                      <a:lnTo>
                        <a:pt x="804" y="162"/>
                      </a:lnTo>
                      <a:lnTo>
                        <a:pt x="793" y="162"/>
                      </a:lnTo>
                      <a:lnTo>
                        <a:pt x="787" y="162"/>
                      </a:lnTo>
                      <a:lnTo>
                        <a:pt x="775" y="166"/>
                      </a:lnTo>
                      <a:lnTo>
                        <a:pt x="770" y="166"/>
                      </a:lnTo>
                      <a:lnTo>
                        <a:pt x="758" y="171"/>
                      </a:lnTo>
                      <a:lnTo>
                        <a:pt x="758" y="181"/>
                      </a:lnTo>
                      <a:lnTo>
                        <a:pt x="752" y="191"/>
                      </a:lnTo>
                      <a:lnTo>
                        <a:pt x="758" y="201"/>
                      </a:lnTo>
                      <a:lnTo>
                        <a:pt x="758" y="215"/>
                      </a:lnTo>
                      <a:lnTo>
                        <a:pt x="758" y="220"/>
                      </a:lnTo>
                      <a:lnTo>
                        <a:pt x="758" y="230"/>
                      </a:lnTo>
                      <a:lnTo>
                        <a:pt x="764" y="235"/>
                      </a:lnTo>
                      <a:lnTo>
                        <a:pt x="770" y="240"/>
                      </a:lnTo>
                      <a:lnTo>
                        <a:pt x="781" y="245"/>
                      </a:lnTo>
                      <a:lnTo>
                        <a:pt x="793" y="250"/>
                      </a:lnTo>
                      <a:lnTo>
                        <a:pt x="804" y="250"/>
                      </a:lnTo>
                      <a:lnTo>
                        <a:pt x="816" y="250"/>
                      </a:lnTo>
                      <a:lnTo>
                        <a:pt x="827" y="250"/>
                      </a:lnTo>
                      <a:lnTo>
                        <a:pt x="844" y="250"/>
                      </a:lnTo>
                      <a:lnTo>
                        <a:pt x="856" y="250"/>
                      </a:lnTo>
                      <a:lnTo>
                        <a:pt x="867" y="254"/>
                      </a:lnTo>
                      <a:lnTo>
                        <a:pt x="856" y="254"/>
                      </a:lnTo>
                      <a:lnTo>
                        <a:pt x="844" y="259"/>
                      </a:lnTo>
                      <a:lnTo>
                        <a:pt x="833" y="259"/>
                      </a:lnTo>
                      <a:lnTo>
                        <a:pt x="821" y="264"/>
                      </a:lnTo>
                      <a:lnTo>
                        <a:pt x="810" y="264"/>
                      </a:lnTo>
                      <a:lnTo>
                        <a:pt x="798" y="264"/>
                      </a:lnTo>
                      <a:lnTo>
                        <a:pt x="787" y="269"/>
                      </a:lnTo>
                      <a:lnTo>
                        <a:pt x="775" y="269"/>
                      </a:lnTo>
                      <a:lnTo>
                        <a:pt x="770" y="269"/>
                      </a:lnTo>
                      <a:lnTo>
                        <a:pt x="764" y="269"/>
                      </a:lnTo>
                      <a:lnTo>
                        <a:pt x="758" y="269"/>
                      </a:lnTo>
                      <a:lnTo>
                        <a:pt x="752" y="264"/>
                      </a:lnTo>
                      <a:lnTo>
                        <a:pt x="747" y="264"/>
                      </a:lnTo>
                      <a:lnTo>
                        <a:pt x="741" y="264"/>
                      </a:lnTo>
                      <a:lnTo>
                        <a:pt x="735" y="264"/>
                      </a:lnTo>
                      <a:lnTo>
                        <a:pt x="724" y="264"/>
                      </a:lnTo>
                      <a:lnTo>
                        <a:pt x="718" y="264"/>
                      </a:lnTo>
                      <a:lnTo>
                        <a:pt x="706" y="264"/>
                      </a:lnTo>
                      <a:lnTo>
                        <a:pt x="695" y="264"/>
                      </a:lnTo>
                      <a:lnTo>
                        <a:pt x="689" y="269"/>
                      </a:lnTo>
                      <a:lnTo>
                        <a:pt x="678" y="269"/>
                      </a:lnTo>
                      <a:lnTo>
                        <a:pt x="666" y="269"/>
                      </a:lnTo>
                      <a:lnTo>
                        <a:pt x="655" y="274"/>
                      </a:lnTo>
                      <a:lnTo>
                        <a:pt x="649" y="279"/>
                      </a:lnTo>
                      <a:lnTo>
                        <a:pt x="643" y="284"/>
                      </a:lnTo>
                      <a:lnTo>
                        <a:pt x="632" y="289"/>
                      </a:lnTo>
                      <a:lnTo>
                        <a:pt x="626" y="294"/>
                      </a:lnTo>
                      <a:lnTo>
                        <a:pt x="620" y="298"/>
                      </a:lnTo>
                      <a:lnTo>
                        <a:pt x="615" y="308"/>
                      </a:lnTo>
                      <a:lnTo>
                        <a:pt x="609" y="313"/>
                      </a:lnTo>
                      <a:lnTo>
                        <a:pt x="609" y="323"/>
                      </a:lnTo>
                      <a:lnTo>
                        <a:pt x="603" y="328"/>
                      </a:lnTo>
                      <a:lnTo>
                        <a:pt x="603" y="338"/>
                      </a:lnTo>
                      <a:lnTo>
                        <a:pt x="603" y="347"/>
                      </a:lnTo>
                      <a:lnTo>
                        <a:pt x="609" y="357"/>
                      </a:lnTo>
                      <a:lnTo>
                        <a:pt x="620" y="367"/>
                      </a:lnTo>
                      <a:lnTo>
                        <a:pt x="626" y="367"/>
                      </a:lnTo>
                      <a:lnTo>
                        <a:pt x="638" y="372"/>
                      </a:lnTo>
                      <a:lnTo>
                        <a:pt x="643" y="372"/>
                      </a:lnTo>
                      <a:lnTo>
                        <a:pt x="655" y="372"/>
                      </a:lnTo>
                      <a:lnTo>
                        <a:pt x="666" y="377"/>
                      </a:lnTo>
                      <a:lnTo>
                        <a:pt x="678" y="377"/>
                      </a:lnTo>
                      <a:lnTo>
                        <a:pt x="689" y="377"/>
                      </a:lnTo>
                      <a:lnTo>
                        <a:pt x="695" y="377"/>
                      </a:lnTo>
                      <a:lnTo>
                        <a:pt x="706" y="377"/>
                      </a:lnTo>
                      <a:lnTo>
                        <a:pt x="712" y="382"/>
                      </a:lnTo>
                      <a:lnTo>
                        <a:pt x="724" y="382"/>
                      </a:lnTo>
                      <a:lnTo>
                        <a:pt x="729" y="382"/>
                      </a:lnTo>
                      <a:lnTo>
                        <a:pt x="735" y="387"/>
                      </a:lnTo>
                      <a:lnTo>
                        <a:pt x="747" y="387"/>
                      </a:lnTo>
                      <a:lnTo>
                        <a:pt x="752" y="387"/>
                      </a:lnTo>
                      <a:lnTo>
                        <a:pt x="764" y="391"/>
                      </a:lnTo>
                      <a:lnTo>
                        <a:pt x="752" y="391"/>
                      </a:lnTo>
                      <a:lnTo>
                        <a:pt x="747" y="391"/>
                      </a:lnTo>
                      <a:lnTo>
                        <a:pt x="741" y="391"/>
                      </a:lnTo>
                      <a:lnTo>
                        <a:pt x="735" y="391"/>
                      </a:lnTo>
                      <a:lnTo>
                        <a:pt x="724" y="391"/>
                      </a:lnTo>
                      <a:lnTo>
                        <a:pt x="718" y="391"/>
                      </a:lnTo>
                      <a:lnTo>
                        <a:pt x="712" y="396"/>
                      </a:lnTo>
                      <a:lnTo>
                        <a:pt x="701" y="396"/>
                      </a:lnTo>
                      <a:lnTo>
                        <a:pt x="695" y="396"/>
                      </a:lnTo>
                      <a:lnTo>
                        <a:pt x="689" y="396"/>
                      </a:lnTo>
                      <a:lnTo>
                        <a:pt x="684" y="396"/>
                      </a:lnTo>
                      <a:lnTo>
                        <a:pt x="672" y="396"/>
                      </a:lnTo>
                      <a:lnTo>
                        <a:pt x="666" y="396"/>
                      </a:lnTo>
                      <a:lnTo>
                        <a:pt x="661" y="401"/>
                      </a:lnTo>
                      <a:lnTo>
                        <a:pt x="655" y="401"/>
                      </a:lnTo>
                      <a:lnTo>
                        <a:pt x="643" y="401"/>
                      </a:lnTo>
                      <a:lnTo>
                        <a:pt x="638" y="401"/>
                      </a:lnTo>
                      <a:lnTo>
                        <a:pt x="632" y="401"/>
                      </a:lnTo>
                      <a:lnTo>
                        <a:pt x="626" y="401"/>
                      </a:lnTo>
                      <a:lnTo>
                        <a:pt x="620" y="406"/>
                      </a:lnTo>
                      <a:lnTo>
                        <a:pt x="620" y="406"/>
                      </a:lnTo>
                      <a:lnTo>
                        <a:pt x="615" y="406"/>
                      </a:lnTo>
                      <a:lnTo>
                        <a:pt x="609" y="411"/>
                      </a:lnTo>
                      <a:lnTo>
                        <a:pt x="609" y="411"/>
                      </a:lnTo>
                      <a:lnTo>
                        <a:pt x="603" y="426"/>
                      </a:lnTo>
                      <a:lnTo>
                        <a:pt x="609" y="435"/>
                      </a:lnTo>
                      <a:lnTo>
                        <a:pt x="609" y="445"/>
                      </a:lnTo>
                      <a:lnTo>
                        <a:pt x="615" y="455"/>
                      </a:lnTo>
                      <a:lnTo>
                        <a:pt x="615" y="470"/>
                      </a:lnTo>
                      <a:lnTo>
                        <a:pt x="615" y="479"/>
                      </a:lnTo>
                      <a:lnTo>
                        <a:pt x="615" y="494"/>
                      </a:lnTo>
                      <a:lnTo>
                        <a:pt x="620" y="499"/>
                      </a:lnTo>
                      <a:lnTo>
                        <a:pt x="626" y="504"/>
                      </a:lnTo>
                      <a:lnTo>
                        <a:pt x="632" y="509"/>
                      </a:lnTo>
                      <a:lnTo>
                        <a:pt x="638" y="509"/>
                      </a:lnTo>
                      <a:lnTo>
                        <a:pt x="643" y="509"/>
                      </a:lnTo>
                      <a:lnTo>
                        <a:pt x="655" y="514"/>
                      </a:lnTo>
                      <a:lnTo>
                        <a:pt x="661" y="514"/>
                      </a:lnTo>
                      <a:lnTo>
                        <a:pt x="666" y="514"/>
                      </a:lnTo>
                      <a:lnTo>
                        <a:pt x="672" y="514"/>
                      </a:lnTo>
                      <a:lnTo>
                        <a:pt x="666" y="519"/>
                      </a:lnTo>
                      <a:lnTo>
                        <a:pt x="661" y="523"/>
                      </a:lnTo>
                      <a:lnTo>
                        <a:pt x="655" y="528"/>
                      </a:lnTo>
                      <a:lnTo>
                        <a:pt x="643" y="528"/>
                      </a:lnTo>
                      <a:lnTo>
                        <a:pt x="638" y="533"/>
                      </a:lnTo>
                      <a:lnTo>
                        <a:pt x="632" y="538"/>
                      </a:lnTo>
                      <a:lnTo>
                        <a:pt x="626" y="538"/>
                      </a:lnTo>
                      <a:lnTo>
                        <a:pt x="615" y="543"/>
                      </a:lnTo>
                      <a:lnTo>
                        <a:pt x="603" y="543"/>
                      </a:lnTo>
                      <a:lnTo>
                        <a:pt x="597" y="543"/>
                      </a:lnTo>
                      <a:lnTo>
                        <a:pt x="586" y="543"/>
                      </a:lnTo>
                      <a:lnTo>
                        <a:pt x="574" y="538"/>
                      </a:lnTo>
                      <a:lnTo>
                        <a:pt x="563" y="533"/>
                      </a:lnTo>
                      <a:lnTo>
                        <a:pt x="551" y="533"/>
                      </a:lnTo>
                      <a:lnTo>
                        <a:pt x="540" y="533"/>
                      </a:lnTo>
                      <a:lnTo>
                        <a:pt x="528" y="533"/>
                      </a:lnTo>
                      <a:lnTo>
                        <a:pt x="517" y="538"/>
                      </a:lnTo>
                      <a:lnTo>
                        <a:pt x="505" y="543"/>
                      </a:lnTo>
                      <a:lnTo>
                        <a:pt x="494" y="553"/>
                      </a:lnTo>
                      <a:lnTo>
                        <a:pt x="483" y="558"/>
                      </a:lnTo>
                      <a:lnTo>
                        <a:pt x="471" y="563"/>
                      </a:lnTo>
                      <a:lnTo>
                        <a:pt x="460" y="567"/>
                      </a:lnTo>
                      <a:lnTo>
                        <a:pt x="448" y="577"/>
                      </a:lnTo>
                      <a:lnTo>
                        <a:pt x="437" y="582"/>
                      </a:lnTo>
                      <a:lnTo>
                        <a:pt x="425" y="587"/>
                      </a:lnTo>
                      <a:lnTo>
                        <a:pt x="419" y="597"/>
                      </a:lnTo>
                      <a:lnTo>
                        <a:pt x="408" y="602"/>
                      </a:lnTo>
                      <a:lnTo>
                        <a:pt x="396" y="611"/>
                      </a:lnTo>
                      <a:lnTo>
                        <a:pt x="385" y="616"/>
                      </a:lnTo>
                      <a:lnTo>
                        <a:pt x="379" y="626"/>
                      </a:lnTo>
                      <a:lnTo>
                        <a:pt x="368" y="631"/>
                      </a:lnTo>
                      <a:lnTo>
                        <a:pt x="356" y="641"/>
                      </a:lnTo>
                      <a:lnTo>
                        <a:pt x="350" y="646"/>
                      </a:lnTo>
                      <a:lnTo>
                        <a:pt x="345" y="651"/>
                      </a:lnTo>
                      <a:lnTo>
                        <a:pt x="345" y="660"/>
                      </a:lnTo>
                      <a:lnTo>
                        <a:pt x="339" y="670"/>
                      </a:lnTo>
                      <a:lnTo>
                        <a:pt x="333" y="680"/>
                      </a:lnTo>
                      <a:lnTo>
                        <a:pt x="327" y="690"/>
                      </a:lnTo>
                      <a:lnTo>
                        <a:pt x="316" y="700"/>
                      </a:lnTo>
                      <a:lnTo>
                        <a:pt x="304" y="714"/>
                      </a:lnTo>
                      <a:lnTo>
                        <a:pt x="293" y="719"/>
                      </a:lnTo>
                      <a:lnTo>
                        <a:pt x="287" y="724"/>
                      </a:lnTo>
                      <a:lnTo>
                        <a:pt x="276" y="729"/>
                      </a:lnTo>
                      <a:lnTo>
                        <a:pt x="264" y="734"/>
                      </a:lnTo>
                      <a:lnTo>
                        <a:pt x="259" y="739"/>
                      </a:lnTo>
                      <a:lnTo>
                        <a:pt x="247" y="744"/>
                      </a:lnTo>
                      <a:lnTo>
                        <a:pt x="241" y="748"/>
                      </a:lnTo>
                      <a:lnTo>
                        <a:pt x="230" y="753"/>
                      </a:lnTo>
                      <a:lnTo>
                        <a:pt x="224" y="753"/>
                      </a:lnTo>
                      <a:lnTo>
                        <a:pt x="218" y="758"/>
                      </a:lnTo>
                      <a:lnTo>
                        <a:pt x="207" y="763"/>
                      </a:lnTo>
                      <a:lnTo>
                        <a:pt x="201" y="763"/>
                      </a:lnTo>
                      <a:lnTo>
                        <a:pt x="195" y="768"/>
                      </a:lnTo>
                      <a:lnTo>
                        <a:pt x="190" y="768"/>
                      </a:lnTo>
                      <a:lnTo>
                        <a:pt x="184" y="773"/>
                      </a:lnTo>
                      <a:lnTo>
                        <a:pt x="172" y="773"/>
                      </a:lnTo>
                      <a:lnTo>
                        <a:pt x="167" y="778"/>
                      </a:lnTo>
                      <a:lnTo>
                        <a:pt x="161" y="778"/>
                      </a:lnTo>
                      <a:lnTo>
                        <a:pt x="149" y="783"/>
                      </a:lnTo>
                      <a:lnTo>
                        <a:pt x="144" y="783"/>
                      </a:lnTo>
                      <a:lnTo>
                        <a:pt x="138" y="783"/>
                      </a:lnTo>
                      <a:lnTo>
                        <a:pt x="126" y="788"/>
                      </a:lnTo>
                      <a:lnTo>
                        <a:pt x="121" y="788"/>
                      </a:lnTo>
                      <a:lnTo>
                        <a:pt x="109" y="788"/>
                      </a:lnTo>
                      <a:lnTo>
                        <a:pt x="109" y="788"/>
                      </a:lnTo>
                      <a:lnTo>
                        <a:pt x="104" y="792"/>
                      </a:lnTo>
                      <a:lnTo>
                        <a:pt x="98" y="792"/>
                      </a:lnTo>
                      <a:lnTo>
                        <a:pt x="92" y="792"/>
                      </a:lnTo>
                      <a:lnTo>
                        <a:pt x="86" y="792"/>
                      </a:lnTo>
                      <a:lnTo>
                        <a:pt x="86" y="788"/>
                      </a:lnTo>
                      <a:lnTo>
                        <a:pt x="81" y="788"/>
                      </a:lnTo>
                      <a:lnTo>
                        <a:pt x="81" y="788"/>
                      </a:lnTo>
                      <a:lnTo>
                        <a:pt x="75" y="783"/>
                      </a:lnTo>
                      <a:lnTo>
                        <a:pt x="81" y="773"/>
                      </a:lnTo>
                      <a:lnTo>
                        <a:pt x="81" y="768"/>
                      </a:lnTo>
                      <a:lnTo>
                        <a:pt x="81" y="763"/>
                      </a:lnTo>
                      <a:lnTo>
                        <a:pt x="75" y="763"/>
                      </a:lnTo>
                      <a:lnTo>
                        <a:pt x="75" y="763"/>
                      </a:lnTo>
                      <a:lnTo>
                        <a:pt x="69" y="763"/>
                      </a:lnTo>
                      <a:lnTo>
                        <a:pt x="63" y="763"/>
                      </a:lnTo>
                      <a:lnTo>
                        <a:pt x="58" y="763"/>
                      </a:lnTo>
                      <a:lnTo>
                        <a:pt x="52" y="768"/>
                      </a:lnTo>
                      <a:lnTo>
                        <a:pt x="46" y="768"/>
                      </a:lnTo>
                      <a:lnTo>
                        <a:pt x="40" y="768"/>
                      </a:lnTo>
                      <a:lnTo>
                        <a:pt x="35" y="768"/>
                      </a:lnTo>
                      <a:lnTo>
                        <a:pt x="35" y="768"/>
                      </a:lnTo>
                      <a:lnTo>
                        <a:pt x="29" y="763"/>
                      </a:lnTo>
                      <a:lnTo>
                        <a:pt x="29" y="763"/>
                      </a:lnTo>
                      <a:lnTo>
                        <a:pt x="23" y="763"/>
                      </a:lnTo>
                      <a:lnTo>
                        <a:pt x="17" y="763"/>
                      </a:lnTo>
                      <a:lnTo>
                        <a:pt x="17" y="758"/>
                      </a:lnTo>
                      <a:lnTo>
                        <a:pt x="17" y="758"/>
                      </a:lnTo>
                      <a:lnTo>
                        <a:pt x="12" y="748"/>
                      </a:lnTo>
                      <a:lnTo>
                        <a:pt x="12" y="739"/>
                      </a:lnTo>
                      <a:lnTo>
                        <a:pt x="12" y="729"/>
                      </a:lnTo>
                      <a:lnTo>
                        <a:pt x="12" y="724"/>
                      </a:lnTo>
                      <a:lnTo>
                        <a:pt x="6" y="714"/>
                      </a:lnTo>
                      <a:lnTo>
                        <a:pt x="0" y="709"/>
                      </a:lnTo>
                      <a:lnTo>
                        <a:pt x="0" y="704"/>
                      </a:lnTo>
                      <a:lnTo>
                        <a:pt x="0" y="695"/>
                      </a:lnTo>
                      <a:lnTo>
                        <a:pt x="0" y="695"/>
                      </a:lnTo>
                      <a:lnTo>
                        <a:pt x="0" y="690"/>
                      </a:lnTo>
                      <a:lnTo>
                        <a:pt x="6" y="690"/>
                      </a:lnTo>
                      <a:lnTo>
                        <a:pt x="6" y="690"/>
                      </a:lnTo>
                      <a:lnTo>
                        <a:pt x="12" y="685"/>
                      </a:lnTo>
                      <a:lnTo>
                        <a:pt x="12" y="685"/>
                      </a:lnTo>
                      <a:lnTo>
                        <a:pt x="17" y="685"/>
                      </a:lnTo>
                      <a:lnTo>
                        <a:pt x="17" y="685"/>
                      </a:lnTo>
                      <a:lnTo>
                        <a:pt x="29" y="685"/>
                      </a:lnTo>
                      <a:lnTo>
                        <a:pt x="40" y="690"/>
                      </a:lnTo>
                      <a:lnTo>
                        <a:pt x="52" y="695"/>
                      </a:lnTo>
                      <a:lnTo>
                        <a:pt x="63" y="695"/>
                      </a:lnTo>
                      <a:lnTo>
                        <a:pt x="69" y="700"/>
                      </a:lnTo>
                      <a:lnTo>
                        <a:pt x="81" y="704"/>
                      </a:lnTo>
                      <a:lnTo>
                        <a:pt x="92" y="704"/>
                      </a:lnTo>
                      <a:lnTo>
                        <a:pt x="104" y="704"/>
                      </a:lnTo>
                      <a:lnTo>
                        <a:pt x="109" y="700"/>
                      </a:lnTo>
                      <a:lnTo>
                        <a:pt x="121" y="700"/>
                      </a:lnTo>
                      <a:lnTo>
                        <a:pt x="132" y="695"/>
                      </a:lnTo>
                      <a:lnTo>
                        <a:pt x="138" y="695"/>
                      </a:lnTo>
                      <a:lnTo>
                        <a:pt x="149" y="690"/>
                      </a:lnTo>
                      <a:lnTo>
                        <a:pt x="161" y="685"/>
                      </a:lnTo>
                      <a:lnTo>
                        <a:pt x="167" y="685"/>
                      </a:lnTo>
                      <a:lnTo>
                        <a:pt x="178" y="680"/>
                      </a:lnTo>
                      <a:lnTo>
                        <a:pt x="190" y="675"/>
                      </a:lnTo>
                      <a:lnTo>
                        <a:pt x="195" y="670"/>
                      </a:lnTo>
                      <a:lnTo>
                        <a:pt x="207" y="665"/>
                      </a:lnTo>
                      <a:lnTo>
                        <a:pt x="213" y="660"/>
                      </a:lnTo>
                      <a:lnTo>
                        <a:pt x="224" y="655"/>
                      </a:lnTo>
                      <a:lnTo>
                        <a:pt x="230" y="651"/>
                      </a:lnTo>
                      <a:lnTo>
                        <a:pt x="241" y="646"/>
                      </a:lnTo>
                      <a:lnTo>
                        <a:pt x="247" y="641"/>
                      </a:lnTo>
                      <a:lnTo>
                        <a:pt x="259" y="636"/>
                      </a:lnTo>
                      <a:lnTo>
                        <a:pt x="264" y="631"/>
                      </a:lnTo>
                      <a:lnTo>
                        <a:pt x="270" y="626"/>
                      </a:lnTo>
                      <a:lnTo>
                        <a:pt x="282" y="621"/>
                      </a:lnTo>
                      <a:lnTo>
                        <a:pt x="287" y="616"/>
                      </a:lnTo>
                      <a:lnTo>
                        <a:pt x="293" y="611"/>
                      </a:lnTo>
                      <a:lnTo>
                        <a:pt x="299" y="607"/>
                      </a:lnTo>
                      <a:lnTo>
                        <a:pt x="310" y="602"/>
                      </a:lnTo>
                      <a:lnTo>
                        <a:pt x="316" y="597"/>
                      </a:lnTo>
                      <a:lnTo>
                        <a:pt x="322" y="592"/>
                      </a:lnTo>
                      <a:lnTo>
                        <a:pt x="327" y="587"/>
                      </a:lnTo>
                      <a:lnTo>
                        <a:pt x="333" y="577"/>
                      </a:lnTo>
                      <a:lnTo>
                        <a:pt x="345" y="572"/>
                      </a:lnTo>
                      <a:lnTo>
                        <a:pt x="350" y="567"/>
                      </a:lnTo>
                      <a:lnTo>
                        <a:pt x="356" y="563"/>
                      </a:lnTo>
                      <a:lnTo>
                        <a:pt x="362" y="558"/>
                      </a:lnTo>
                      <a:lnTo>
                        <a:pt x="373" y="558"/>
                      </a:lnTo>
                      <a:lnTo>
                        <a:pt x="379" y="553"/>
                      </a:lnTo>
                      <a:lnTo>
                        <a:pt x="391" y="548"/>
                      </a:lnTo>
                      <a:lnTo>
                        <a:pt x="396" y="548"/>
                      </a:lnTo>
                      <a:lnTo>
                        <a:pt x="408" y="543"/>
                      </a:lnTo>
                      <a:lnTo>
                        <a:pt x="414" y="543"/>
                      </a:lnTo>
                      <a:lnTo>
                        <a:pt x="425" y="538"/>
                      </a:lnTo>
                      <a:lnTo>
                        <a:pt x="431" y="533"/>
                      </a:lnTo>
                      <a:lnTo>
                        <a:pt x="442" y="528"/>
                      </a:lnTo>
                      <a:lnTo>
                        <a:pt x="448" y="523"/>
                      </a:lnTo>
                      <a:lnTo>
                        <a:pt x="460" y="519"/>
                      </a:lnTo>
                      <a:lnTo>
                        <a:pt x="465" y="509"/>
                      </a:lnTo>
                      <a:lnTo>
                        <a:pt x="477" y="504"/>
                      </a:lnTo>
                      <a:lnTo>
                        <a:pt x="483" y="499"/>
                      </a:lnTo>
                      <a:lnTo>
                        <a:pt x="488" y="489"/>
                      </a:lnTo>
                      <a:lnTo>
                        <a:pt x="494" y="479"/>
                      </a:lnTo>
                      <a:lnTo>
                        <a:pt x="505" y="470"/>
                      </a:lnTo>
                      <a:lnTo>
                        <a:pt x="517" y="455"/>
                      </a:lnTo>
                      <a:lnTo>
                        <a:pt x="523" y="440"/>
                      </a:lnTo>
                      <a:lnTo>
                        <a:pt x="528" y="426"/>
                      </a:lnTo>
                      <a:lnTo>
                        <a:pt x="534" y="406"/>
                      </a:lnTo>
                      <a:lnTo>
                        <a:pt x="546" y="391"/>
                      </a:lnTo>
                      <a:lnTo>
                        <a:pt x="551" y="377"/>
                      </a:lnTo>
                      <a:lnTo>
                        <a:pt x="557" y="362"/>
                      </a:lnTo>
                      <a:lnTo>
                        <a:pt x="563" y="338"/>
                      </a:lnTo>
                      <a:lnTo>
                        <a:pt x="569" y="318"/>
                      </a:lnTo>
                      <a:lnTo>
                        <a:pt x="569" y="294"/>
                      </a:lnTo>
                      <a:lnTo>
                        <a:pt x="574" y="269"/>
                      </a:lnTo>
                      <a:lnTo>
                        <a:pt x="574" y="264"/>
                      </a:lnTo>
                      <a:lnTo>
                        <a:pt x="580" y="259"/>
                      </a:lnTo>
                      <a:lnTo>
                        <a:pt x="580" y="254"/>
                      </a:lnTo>
                      <a:lnTo>
                        <a:pt x="586" y="250"/>
                      </a:lnTo>
                      <a:lnTo>
                        <a:pt x="586" y="240"/>
                      </a:lnTo>
                      <a:lnTo>
                        <a:pt x="592" y="235"/>
                      </a:lnTo>
                      <a:lnTo>
                        <a:pt x="592" y="230"/>
                      </a:lnTo>
                      <a:lnTo>
                        <a:pt x="597" y="225"/>
                      </a:lnTo>
                      <a:lnTo>
                        <a:pt x="603" y="220"/>
                      </a:lnTo>
                      <a:lnTo>
                        <a:pt x="609" y="220"/>
                      </a:lnTo>
                      <a:lnTo>
                        <a:pt x="620" y="215"/>
                      </a:lnTo>
                      <a:lnTo>
                        <a:pt x="626" y="210"/>
                      </a:lnTo>
                      <a:lnTo>
                        <a:pt x="632" y="210"/>
                      </a:lnTo>
                      <a:lnTo>
                        <a:pt x="638" y="206"/>
                      </a:lnTo>
                      <a:lnTo>
                        <a:pt x="649" y="206"/>
                      </a:lnTo>
                      <a:lnTo>
                        <a:pt x="655" y="201"/>
                      </a:lnTo>
                      <a:lnTo>
                        <a:pt x="661" y="196"/>
                      </a:lnTo>
                      <a:lnTo>
                        <a:pt x="672" y="186"/>
                      </a:lnTo>
                      <a:lnTo>
                        <a:pt x="678" y="181"/>
                      </a:lnTo>
                      <a:lnTo>
                        <a:pt x="689" y="176"/>
                      </a:lnTo>
                      <a:lnTo>
                        <a:pt x="695" y="166"/>
                      </a:lnTo>
                      <a:lnTo>
                        <a:pt x="706" y="162"/>
                      </a:lnTo>
                      <a:lnTo>
                        <a:pt x="712" y="157"/>
                      </a:lnTo>
                      <a:lnTo>
                        <a:pt x="724" y="147"/>
                      </a:lnTo>
                      <a:lnTo>
                        <a:pt x="729" y="142"/>
                      </a:lnTo>
                      <a:lnTo>
                        <a:pt x="741" y="137"/>
                      </a:lnTo>
                      <a:lnTo>
                        <a:pt x="747" y="127"/>
                      </a:lnTo>
                      <a:lnTo>
                        <a:pt x="758" y="122"/>
                      </a:lnTo>
                      <a:lnTo>
                        <a:pt x="764" y="118"/>
                      </a:lnTo>
                      <a:lnTo>
                        <a:pt x="775" y="108"/>
                      </a:lnTo>
                      <a:lnTo>
                        <a:pt x="781" y="103"/>
                      </a:lnTo>
                      <a:lnTo>
                        <a:pt x="793" y="98"/>
                      </a:lnTo>
                      <a:lnTo>
                        <a:pt x="798" y="88"/>
                      </a:lnTo>
                      <a:lnTo>
                        <a:pt x="810" y="83"/>
                      </a:lnTo>
                      <a:lnTo>
                        <a:pt x="816" y="78"/>
                      </a:lnTo>
                      <a:lnTo>
                        <a:pt x="827" y="69"/>
                      </a:lnTo>
                      <a:lnTo>
                        <a:pt x="833" y="64"/>
                      </a:lnTo>
                      <a:lnTo>
                        <a:pt x="844" y="59"/>
                      </a:lnTo>
                      <a:lnTo>
                        <a:pt x="850" y="49"/>
                      </a:lnTo>
                      <a:lnTo>
                        <a:pt x="862" y="44"/>
                      </a:lnTo>
                      <a:lnTo>
                        <a:pt x="873" y="39"/>
                      </a:lnTo>
                      <a:lnTo>
                        <a:pt x="879" y="34"/>
                      </a:lnTo>
                      <a:lnTo>
                        <a:pt x="885" y="30"/>
                      </a:lnTo>
                      <a:lnTo>
                        <a:pt x="896" y="25"/>
                      </a:lnTo>
                      <a:lnTo>
                        <a:pt x="902" y="20"/>
                      </a:lnTo>
                      <a:lnTo>
                        <a:pt x="907" y="10"/>
                      </a:lnTo>
                      <a:lnTo>
                        <a:pt x="913" y="5"/>
                      </a:lnTo>
                      <a:lnTo>
                        <a:pt x="919"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83000" y="2021040"/>
                  <a:ext cx="770760" cy="489240"/>
                </a:xfrm>
                <a:custGeom>
                  <a:avLst/>
                  <a:gdLst/>
                  <a:ahLst/>
                  <a:rect l="l" t="t" r="r" b="b"/>
                  <a:pathLst>
                    <a:path w="746" h="357">
                      <a:moveTo>
                        <a:pt x="746" y="25"/>
                      </a:moveTo>
                      <a:lnTo>
                        <a:pt x="740" y="25"/>
                      </a:lnTo>
                      <a:lnTo>
                        <a:pt x="735" y="29"/>
                      </a:lnTo>
                      <a:lnTo>
                        <a:pt x="729" y="29"/>
                      </a:lnTo>
                      <a:lnTo>
                        <a:pt x="723" y="29"/>
                      </a:lnTo>
                      <a:lnTo>
                        <a:pt x="717" y="29"/>
                      </a:lnTo>
                      <a:lnTo>
                        <a:pt x="712" y="29"/>
                      </a:lnTo>
                      <a:lnTo>
                        <a:pt x="706" y="34"/>
                      </a:lnTo>
                      <a:lnTo>
                        <a:pt x="700" y="34"/>
                      </a:lnTo>
                      <a:lnTo>
                        <a:pt x="694" y="44"/>
                      </a:lnTo>
                      <a:lnTo>
                        <a:pt x="683" y="49"/>
                      </a:lnTo>
                      <a:lnTo>
                        <a:pt x="677" y="54"/>
                      </a:lnTo>
                      <a:lnTo>
                        <a:pt x="666" y="64"/>
                      </a:lnTo>
                      <a:lnTo>
                        <a:pt x="660" y="69"/>
                      </a:lnTo>
                      <a:lnTo>
                        <a:pt x="654" y="78"/>
                      </a:lnTo>
                      <a:lnTo>
                        <a:pt x="643" y="83"/>
                      </a:lnTo>
                      <a:lnTo>
                        <a:pt x="637" y="93"/>
                      </a:lnTo>
                      <a:lnTo>
                        <a:pt x="625" y="103"/>
                      </a:lnTo>
                      <a:lnTo>
                        <a:pt x="614" y="113"/>
                      </a:lnTo>
                      <a:lnTo>
                        <a:pt x="608" y="122"/>
                      </a:lnTo>
                      <a:lnTo>
                        <a:pt x="597" y="132"/>
                      </a:lnTo>
                      <a:lnTo>
                        <a:pt x="585" y="147"/>
                      </a:lnTo>
                      <a:lnTo>
                        <a:pt x="580" y="157"/>
                      </a:lnTo>
                      <a:lnTo>
                        <a:pt x="568" y="166"/>
                      </a:lnTo>
                      <a:lnTo>
                        <a:pt x="557" y="176"/>
                      </a:lnTo>
                      <a:lnTo>
                        <a:pt x="545" y="186"/>
                      </a:lnTo>
                      <a:lnTo>
                        <a:pt x="534" y="201"/>
                      </a:lnTo>
                      <a:lnTo>
                        <a:pt x="522" y="210"/>
                      </a:lnTo>
                      <a:lnTo>
                        <a:pt x="511" y="220"/>
                      </a:lnTo>
                      <a:lnTo>
                        <a:pt x="499" y="235"/>
                      </a:lnTo>
                      <a:lnTo>
                        <a:pt x="488" y="245"/>
                      </a:lnTo>
                      <a:lnTo>
                        <a:pt x="476" y="254"/>
                      </a:lnTo>
                      <a:lnTo>
                        <a:pt x="459" y="264"/>
                      </a:lnTo>
                      <a:lnTo>
                        <a:pt x="453" y="269"/>
                      </a:lnTo>
                      <a:lnTo>
                        <a:pt x="447" y="274"/>
                      </a:lnTo>
                      <a:lnTo>
                        <a:pt x="436" y="279"/>
                      </a:lnTo>
                      <a:lnTo>
                        <a:pt x="430" y="279"/>
                      </a:lnTo>
                      <a:lnTo>
                        <a:pt x="424" y="284"/>
                      </a:lnTo>
                      <a:lnTo>
                        <a:pt x="419" y="289"/>
                      </a:lnTo>
                      <a:lnTo>
                        <a:pt x="407" y="293"/>
                      </a:lnTo>
                      <a:lnTo>
                        <a:pt x="401" y="298"/>
                      </a:lnTo>
                      <a:lnTo>
                        <a:pt x="396" y="298"/>
                      </a:lnTo>
                      <a:lnTo>
                        <a:pt x="384" y="303"/>
                      </a:lnTo>
                      <a:lnTo>
                        <a:pt x="379" y="308"/>
                      </a:lnTo>
                      <a:lnTo>
                        <a:pt x="367" y="308"/>
                      </a:lnTo>
                      <a:lnTo>
                        <a:pt x="361" y="313"/>
                      </a:lnTo>
                      <a:lnTo>
                        <a:pt x="356" y="318"/>
                      </a:lnTo>
                      <a:lnTo>
                        <a:pt x="344" y="318"/>
                      </a:lnTo>
                      <a:lnTo>
                        <a:pt x="338" y="323"/>
                      </a:lnTo>
                      <a:lnTo>
                        <a:pt x="327" y="323"/>
                      </a:lnTo>
                      <a:lnTo>
                        <a:pt x="321" y="328"/>
                      </a:lnTo>
                      <a:lnTo>
                        <a:pt x="310" y="333"/>
                      </a:lnTo>
                      <a:lnTo>
                        <a:pt x="298" y="333"/>
                      </a:lnTo>
                      <a:lnTo>
                        <a:pt x="292" y="338"/>
                      </a:lnTo>
                      <a:lnTo>
                        <a:pt x="281" y="338"/>
                      </a:lnTo>
                      <a:lnTo>
                        <a:pt x="275" y="342"/>
                      </a:lnTo>
                      <a:lnTo>
                        <a:pt x="264" y="342"/>
                      </a:lnTo>
                      <a:lnTo>
                        <a:pt x="252" y="342"/>
                      </a:lnTo>
                      <a:lnTo>
                        <a:pt x="241" y="347"/>
                      </a:lnTo>
                      <a:lnTo>
                        <a:pt x="235" y="347"/>
                      </a:lnTo>
                      <a:lnTo>
                        <a:pt x="223" y="352"/>
                      </a:lnTo>
                      <a:lnTo>
                        <a:pt x="212" y="352"/>
                      </a:lnTo>
                      <a:lnTo>
                        <a:pt x="206" y="352"/>
                      </a:lnTo>
                      <a:lnTo>
                        <a:pt x="195" y="352"/>
                      </a:lnTo>
                      <a:lnTo>
                        <a:pt x="183" y="357"/>
                      </a:lnTo>
                      <a:lnTo>
                        <a:pt x="178" y="357"/>
                      </a:lnTo>
                      <a:lnTo>
                        <a:pt x="166" y="357"/>
                      </a:lnTo>
                      <a:lnTo>
                        <a:pt x="160" y="352"/>
                      </a:lnTo>
                      <a:lnTo>
                        <a:pt x="149" y="352"/>
                      </a:lnTo>
                      <a:lnTo>
                        <a:pt x="137" y="352"/>
                      </a:lnTo>
                      <a:lnTo>
                        <a:pt x="132" y="352"/>
                      </a:lnTo>
                      <a:lnTo>
                        <a:pt x="120" y="347"/>
                      </a:lnTo>
                      <a:lnTo>
                        <a:pt x="114" y="347"/>
                      </a:lnTo>
                      <a:lnTo>
                        <a:pt x="103" y="347"/>
                      </a:lnTo>
                      <a:lnTo>
                        <a:pt x="97" y="347"/>
                      </a:lnTo>
                      <a:lnTo>
                        <a:pt x="91" y="347"/>
                      </a:lnTo>
                      <a:lnTo>
                        <a:pt x="80" y="347"/>
                      </a:lnTo>
                      <a:lnTo>
                        <a:pt x="74" y="347"/>
                      </a:lnTo>
                      <a:lnTo>
                        <a:pt x="68" y="347"/>
                      </a:lnTo>
                      <a:lnTo>
                        <a:pt x="57" y="347"/>
                      </a:lnTo>
                      <a:lnTo>
                        <a:pt x="51" y="347"/>
                      </a:lnTo>
                      <a:lnTo>
                        <a:pt x="45" y="347"/>
                      </a:lnTo>
                      <a:lnTo>
                        <a:pt x="40" y="342"/>
                      </a:lnTo>
                      <a:lnTo>
                        <a:pt x="34" y="342"/>
                      </a:lnTo>
                      <a:lnTo>
                        <a:pt x="22" y="338"/>
                      </a:lnTo>
                      <a:lnTo>
                        <a:pt x="17" y="333"/>
                      </a:lnTo>
                      <a:lnTo>
                        <a:pt x="11" y="333"/>
                      </a:lnTo>
                      <a:lnTo>
                        <a:pt x="5" y="328"/>
                      </a:lnTo>
                      <a:lnTo>
                        <a:pt x="0" y="323"/>
                      </a:lnTo>
                      <a:lnTo>
                        <a:pt x="5" y="323"/>
                      </a:lnTo>
                      <a:lnTo>
                        <a:pt x="17" y="323"/>
                      </a:lnTo>
                      <a:lnTo>
                        <a:pt x="28" y="323"/>
                      </a:lnTo>
                      <a:lnTo>
                        <a:pt x="34" y="323"/>
                      </a:lnTo>
                      <a:lnTo>
                        <a:pt x="45" y="323"/>
                      </a:lnTo>
                      <a:lnTo>
                        <a:pt x="51" y="323"/>
                      </a:lnTo>
                      <a:lnTo>
                        <a:pt x="63" y="323"/>
                      </a:lnTo>
                      <a:lnTo>
                        <a:pt x="68" y="318"/>
                      </a:lnTo>
                      <a:lnTo>
                        <a:pt x="74" y="313"/>
                      </a:lnTo>
                      <a:lnTo>
                        <a:pt x="74" y="303"/>
                      </a:lnTo>
                      <a:lnTo>
                        <a:pt x="80" y="293"/>
                      </a:lnTo>
                      <a:lnTo>
                        <a:pt x="80" y="284"/>
                      </a:lnTo>
                      <a:lnTo>
                        <a:pt x="91" y="279"/>
                      </a:lnTo>
                      <a:lnTo>
                        <a:pt x="103" y="279"/>
                      </a:lnTo>
                      <a:lnTo>
                        <a:pt x="109" y="279"/>
                      </a:lnTo>
                      <a:lnTo>
                        <a:pt x="120" y="279"/>
                      </a:lnTo>
                      <a:lnTo>
                        <a:pt x="132" y="279"/>
                      </a:lnTo>
                      <a:lnTo>
                        <a:pt x="143" y="279"/>
                      </a:lnTo>
                      <a:lnTo>
                        <a:pt x="149" y="279"/>
                      </a:lnTo>
                      <a:lnTo>
                        <a:pt x="160" y="279"/>
                      </a:lnTo>
                      <a:lnTo>
                        <a:pt x="172" y="274"/>
                      </a:lnTo>
                      <a:lnTo>
                        <a:pt x="183" y="274"/>
                      </a:lnTo>
                      <a:lnTo>
                        <a:pt x="195" y="269"/>
                      </a:lnTo>
                      <a:lnTo>
                        <a:pt x="206" y="269"/>
                      </a:lnTo>
                      <a:lnTo>
                        <a:pt x="218" y="264"/>
                      </a:lnTo>
                      <a:lnTo>
                        <a:pt x="223" y="264"/>
                      </a:lnTo>
                      <a:lnTo>
                        <a:pt x="235" y="259"/>
                      </a:lnTo>
                      <a:lnTo>
                        <a:pt x="246" y="259"/>
                      </a:lnTo>
                      <a:lnTo>
                        <a:pt x="246" y="249"/>
                      </a:lnTo>
                      <a:lnTo>
                        <a:pt x="241" y="240"/>
                      </a:lnTo>
                      <a:lnTo>
                        <a:pt x="241" y="230"/>
                      </a:lnTo>
                      <a:lnTo>
                        <a:pt x="235" y="220"/>
                      </a:lnTo>
                      <a:lnTo>
                        <a:pt x="229" y="210"/>
                      </a:lnTo>
                      <a:lnTo>
                        <a:pt x="229" y="196"/>
                      </a:lnTo>
                      <a:lnTo>
                        <a:pt x="223" y="186"/>
                      </a:lnTo>
                      <a:lnTo>
                        <a:pt x="218" y="176"/>
                      </a:lnTo>
                      <a:lnTo>
                        <a:pt x="212" y="161"/>
                      </a:lnTo>
                      <a:lnTo>
                        <a:pt x="212" y="152"/>
                      </a:lnTo>
                      <a:lnTo>
                        <a:pt x="206" y="142"/>
                      </a:lnTo>
                      <a:lnTo>
                        <a:pt x="200" y="127"/>
                      </a:lnTo>
                      <a:lnTo>
                        <a:pt x="206" y="137"/>
                      </a:lnTo>
                      <a:lnTo>
                        <a:pt x="212" y="147"/>
                      </a:lnTo>
                      <a:lnTo>
                        <a:pt x="218" y="152"/>
                      </a:lnTo>
                      <a:lnTo>
                        <a:pt x="223" y="161"/>
                      </a:lnTo>
                      <a:lnTo>
                        <a:pt x="235" y="171"/>
                      </a:lnTo>
                      <a:lnTo>
                        <a:pt x="241" y="176"/>
                      </a:lnTo>
                      <a:lnTo>
                        <a:pt x="246" y="186"/>
                      </a:lnTo>
                      <a:lnTo>
                        <a:pt x="252" y="191"/>
                      </a:lnTo>
                      <a:lnTo>
                        <a:pt x="258" y="196"/>
                      </a:lnTo>
                      <a:lnTo>
                        <a:pt x="264" y="201"/>
                      </a:lnTo>
                      <a:lnTo>
                        <a:pt x="275" y="205"/>
                      </a:lnTo>
                      <a:lnTo>
                        <a:pt x="281" y="205"/>
                      </a:lnTo>
                      <a:lnTo>
                        <a:pt x="287" y="205"/>
                      </a:lnTo>
                      <a:lnTo>
                        <a:pt x="292" y="210"/>
                      </a:lnTo>
                      <a:lnTo>
                        <a:pt x="304" y="210"/>
                      </a:lnTo>
                      <a:lnTo>
                        <a:pt x="310" y="210"/>
                      </a:lnTo>
                      <a:lnTo>
                        <a:pt x="315" y="205"/>
                      </a:lnTo>
                      <a:lnTo>
                        <a:pt x="321" y="205"/>
                      </a:lnTo>
                      <a:lnTo>
                        <a:pt x="327" y="201"/>
                      </a:lnTo>
                      <a:lnTo>
                        <a:pt x="327" y="196"/>
                      </a:lnTo>
                      <a:lnTo>
                        <a:pt x="333" y="191"/>
                      </a:lnTo>
                      <a:lnTo>
                        <a:pt x="338" y="186"/>
                      </a:lnTo>
                      <a:lnTo>
                        <a:pt x="344" y="181"/>
                      </a:lnTo>
                      <a:lnTo>
                        <a:pt x="344" y="176"/>
                      </a:lnTo>
                      <a:lnTo>
                        <a:pt x="356" y="171"/>
                      </a:lnTo>
                      <a:lnTo>
                        <a:pt x="361" y="171"/>
                      </a:lnTo>
                      <a:lnTo>
                        <a:pt x="367" y="166"/>
                      </a:lnTo>
                      <a:lnTo>
                        <a:pt x="379" y="161"/>
                      </a:lnTo>
                      <a:lnTo>
                        <a:pt x="384" y="161"/>
                      </a:lnTo>
                      <a:lnTo>
                        <a:pt x="390" y="157"/>
                      </a:lnTo>
                      <a:lnTo>
                        <a:pt x="396" y="152"/>
                      </a:lnTo>
                      <a:lnTo>
                        <a:pt x="396" y="147"/>
                      </a:lnTo>
                      <a:lnTo>
                        <a:pt x="396" y="142"/>
                      </a:lnTo>
                      <a:lnTo>
                        <a:pt x="396" y="137"/>
                      </a:lnTo>
                      <a:lnTo>
                        <a:pt x="390" y="132"/>
                      </a:lnTo>
                      <a:lnTo>
                        <a:pt x="384" y="132"/>
                      </a:lnTo>
                      <a:lnTo>
                        <a:pt x="379" y="127"/>
                      </a:lnTo>
                      <a:lnTo>
                        <a:pt x="373" y="127"/>
                      </a:lnTo>
                      <a:lnTo>
                        <a:pt x="367" y="122"/>
                      </a:lnTo>
                      <a:lnTo>
                        <a:pt x="367" y="117"/>
                      </a:lnTo>
                      <a:lnTo>
                        <a:pt x="361" y="113"/>
                      </a:lnTo>
                      <a:lnTo>
                        <a:pt x="361" y="108"/>
                      </a:lnTo>
                      <a:lnTo>
                        <a:pt x="356" y="103"/>
                      </a:lnTo>
                      <a:lnTo>
                        <a:pt x="350" y="98"/>
                      </a:lnTo>
                      <a:lnTo>
                        <a:pt x="350" y="93"/>
                      </a:lnTo>
                      <a:lnTo>
                        <a:pt x="344" y="88"/>
                      </a:lnTo>
                      <a:lnTo>
                        <a:pt x="344" y="83"/>
                      </a:lnTo>
                      <a:lnTo>
                        <a:pt x="338" y="78"/>
                      </a:lnTo>
                      <a:lnTo>
                        <a:pt x="344" y="73"/>
                      </a:lnTo>
                      <a:lnTo>
                        <a:pt x="350" y="73"/>
                      </a:lnTo>
                      <a:lnTo>
                        <a:pt x="356" y="73"/>
                      </a:lnTo>
                      <a:lnTo>
                        <a:pt x="361" y="73"/>
                      </a:lnTo>
                      <a:lnTo>
                        <a:pt x="367" y="73"/>
                      </a:lnTo>
                      <a:lnTo>
                        <a:pt x="373" y="73"/>
                      </a:lnTo>
                      <a:lnTo>
                        <a:pt x="379" y="73"/>
                      </a:lnTo>
                      <a:lnTo>
                        <a:pt x="379" y="73"/>
                      </a:lnTo>
                      <a:lnTo>
                        <a:pt x="384" y="78"/>
                      </a:lnTo>
                      <a:lnTo>
                        <a:pt x="390" y="78"/>
                      </a:lnTo>
                      <a:lnTo>
                        <a:pt x="396" y="83"/>
                      </a:lnTo>
                      <a:lnTo>
                        <a:pt x="401" y="88"/>
                      </a:lnTo>
                      <a:lnTo>
                        <a:pt x="401" y="93"/>
                      </a:lnTo>
                      <a:lnTo>
                        <a:pt x="407" y="93"/>
                      </a:lnTo>
                      <a:lnTo>
                        <a:pt x="413" y="98"/>
                      </a:lnTo>
                      <a:lnTo>
                        <a:pt x="419" y="98"/>
                      </a:lnTo>
                      <a:lnTo>
                        <a:pt x="430" y="103"/>
                      </a:lnTo>
                      <a:lnTo>
                        <a:pt x="442" y="103"/>
                      </a:lnTo>
                      <a:lnTo>
                        <a:pt x="453" y="103"/>
                      </a:lnTo>
                      <a:lnTo>
                        <a:pt x="465" y="98"/>
                      </a:lnTo>
                      <a:lnTo>
                        <a:pt x="476" y="98"/>
                      </a:lnTo>
                      <a:lnTo>
                        <a:pt x="488" y="98"/>
                      </a:lnTo>
                      <a:lnTo>
                        <a:pt x="499" y="93"/>
                      </a:lnTo>
                      <a:lnTo>
                        <a:pt x="511" y="93"/>
                      </a:lnTo>
                      <a:lnTo>
                        <a:pt x="516" y="88"/>
                      </a:lnTo>
                      <a:lnTo>
                        <a:pt x="522" y="88"/>
                      </a:lnTo>
                      <a:lnTo>
                        <a:pt x="534" y="83"/>
                      </a:lnTo>
                      <a:lnTo>
                        <a:pt x="539" y="83"/>
                      </a:lnTo>
                      <a:lnTo>
                        <a:pt x="545" y="78"/>
                      </a:lnTo>
                      <a:lnTo>
                        <a:pt x="557" y="78"/>
                      </a:lnTo>
                      <a:lnTo>
                        <a:pt x="562" y="73"/>
                      </a:lnTo>
                      <a:lnTo>
                        <a:pt x="568" y="73"/>
                      </a:lnTo>
                      <a:lnTo>
                        <a:pt x="574" y="69"/>
                      </a:lnTo>
                      <a:lnTo>
                        <a:pt x="585" y="64"/>
                      </a:lnTo>
                      <a:lnTo>
                        <a:pt x="591" y="64"/>
                      </a:lnTo>
                      <a:lnTo>
                        <a:pt x="597" y="59"/>
                      </a:lnTo>
                      <a:lnTo>
                        <a:pt x="602" y="54"/>
                      </a:lnTo>
                      <a:lnTo>
                        <a:pt x="614" y="54"/>
                      </a:lnTo>
                      <a:lnTo>
                        <a:pt x="620" y="49"/>
                      </a:lnTo>
                      <a:lnTo>
                        <a:pt x="625" y="44"/>
                      </a:lnTo>
                      <a:lnTo>
                        <a:pt x="631" y="39"/>
                      </a:lnTo>
                      <a:lnTo>
                        <a:pt x="637" y="34"/>
                      </a:lnTo>
                      <a:lnTo>
                        <a:pt x="643" y="29"/>
                      </a:lnTo>
                      <a:lnTo>
                        <a:pt x="654" y="25"/>
                      </a:lnTo>
                      <a:lnTo>
                        <a:pt x="660" y="20"/>
                      </a:lnTo>
                      <a:lnTo>
                        <a:pt x="666" y="15"/>
                      </a:lnTo>
                      <a:lnTo>
                        <a:pt x="671" y="5"/>
                      </a:lnTo>
                      <a:lnTo>
                        <a:pt x="677" y="0"/>
                      </a:lnTo>
                      <a:lnTo>
                        <a:pt x="683" y="5"/>
                      </a:lnTo>
                      <a:lnTo>
                        <a:pt x="683" y="5"/>
                      </a:lnTo>
                      <a:lnTo>
                        <a:pt x="689" y="5"/>
                      </a:lnTo>
                      <a:lnTo>
                        <a:pt x="694" y="10"/>
                      </a:lnTo>
                      <a:lnTo>
                        <a:pt x="694" y="10"/>
                      </a:lnTo>
                      <a:lnTo>
                        <a:pt x="700" y="10"/>
                      </a:lnTo>
                      <a:lnTo>
                        <a:pt x="706" y="15"/>
                      </a:lnTo>
                      <a:lnTo>
                        <a:pt x="706" y="15"/>
                      </a:lnTo>
                      <a:lnTo>
                        <a:pt x="712" y="15"/>
                      </a:lnTo>
                      <a:lnTo>
                        <a:pt x="717" y="15"/>
                      </a:lnTo>
                      <a:lnTo>
                        <a:pt x="723" y="20"/>
                      </a:lnTo>
                      <a:lnTo>
                        <a:pt x="729" y="20"/>
                      </a:lnTo>
                      <a:lnTo>
                        <a:pt x="729" y="20"/>
                      </a:lnTo>
                      <a:lnTo>
                        <a:pt x="735" y="25"/>
                      </a:lnTo>
                      <a:lnTo>
                        <a:pt x="740" y="25"/>
                      </a:lnTo>
                      <a:lnTo>
                        <a:pt x="746" y="25"/>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471320" y="2670840"/>
                  <a:ext cx="100080" cy="94320"/>
                </a:xfrm>
                <a:custGeom>
                  <a:avLst/>
                  <a:gdLst/>
                  <a:ahLst/>
                  <a:rect l="l" t="t" r="r" b="b"/>
                  <a:pathLst>
                    <a:path w="97" h="69">
                      <a:moveTo>
                        <a:pt x="5" y="20"/>
                      </a:moveTo>
                      <a:lnTo>
                        <a:pt x="0" y="25"/>
                      </a:lnTo>
                      <a:lnTo>
                        <a:pt x="0" y="30"/>
                      </a:lnTo>
                      <a:lnTo>
                        <a:pt x="0" y="35"/>
                      </a:lnTo>
                      <a:lnTo>
                        <a:pt x="0" y="44"/>
                      </a:lnTo>
                      <a:lnTo>
                        <a:pt x="5" y="49"/>
                      </a:lnTo>
                      <a:lnTo>
                        <a:pt x="5" y="54"/>
                      </a:lnTo>
                      <a:lnTo>
                        <a:pt x="11" y="59"/>
                      </a:lnTo>
                      <a:lnTo>
                        <a:pt x="17" y="64"/>
                      </a:lnTo>
                      <a:lnTo>
                        <a:pt x="23" y="69"/>
                      </a:lnTo>
                      <a:lnTo>
                        <a:pt x="28" y="69"/>
                      </a:lnTo>
                      <a:lnTo>
                        <a:pt x="40" y="69"/>
                      </a:lnTo>
                      <a:lnTo>
                        <a:pt x="51" y="64"/>
                      </a:lnTo>
                      <a:lnTo>
                        <a:pt x="63" y="64"/>
                      </a:lnTo>
                      <a:lnTo>
                        <a:pt x="74" y="59"/>
                      </a:lnTo>
                      <a:lnTo>
                        <a:pt x="86" y="54"/>
                      </a:lnTo>
                      <a:lnTo>
                        <a:pt x="92" y="49"/>
                      </a:lnTo>
                      <a:lnTo>
                        <a:pt x="97" y="44"/>
                      </a:lnTo>
                      <a:lnTo>
                        <a:pt x="97" y="40"/>
                      </a:lnTo>
                      <a:lnTo>
                        <a:pt x="97" y="35"/>
                      </a:lnTo>
                      <a:lnTo>
                        <a:pt x="97" y="30"/>
                      </a:lnTo>
                      <a:lnTo>
                        <a:pt x="92" y="25"/>
                      </a:lnTo>
                      <a:lnTo>
                        <a:pt x="92" y="15"/>
                      </a:lnTo>
                      <a:lnTo>
                        <a:pt x="86" y="10"/>
                      </a:lnTo>
                      <a:lnTo>
                        <a:pt x="80" y="5"/>
                      </a:lnTo>
                      <a:lnTo>
                        <a:pt x="74" y="5"/>
                      </a:lnTo>
                      <a:lnTo>
                        <a:pt x="63" y="0"/>
                      </a:lnTo>
                      <a:lnTo>
                        <a:pt x="57" y="0"/>
                      </a:lnTo>
                      <a:lnTo>
                        <a:pt x="46" y="5"/>
                      </a:lnTo>
                      <a:lnTo>
                        <a:pt x="34" y="5"/>
                      </a:lnTo>
                      <a:lnTo>
                        <a:pt x="23" y="10"/>
                      </a:lnTo>
                      <a:lnTo>
                        <a:pt x="11" y="15"/>
                      </a:lnTo>
                      <a:lnTo>
                        <a:pt x="5" y="2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328400" y="2832480"/>
                  <a:ext cx="171360" cy="106920"/>
                </a:xfrm>
                <a:custGeom>
                  <a:avLst/>
                  <a:gdLst/>
                  <a:ahLst/>
                  <a:rect l="l" t="t" r="r" b="b"/>
                  <a:pathLst>
                    <a:path w="166" h="78">
                      <a:moveTo>
                        <a:pt x="126" y="10"/>
                      </a:moveTo>
                      <a:lnTo>
                        <a:pt x="120" y="10"/>
                      </a:lnTo>
                      <a:lnTo>
                        <a:pt x="115" y="14"/>
                      </a:lnTo>
                      <a:lnTo>
                        <a:pt x="109" y="14"/>
                      </a:lnTo>
                      <a:lnTo>
                        <a:pt x="103" y="14"/>
                      </a:lnTo>
                      <a:lnTo>
                        <a:pt x="92" y="14"/>
                      </a:lnTo>
                      <a:lnTo>
                        <a:pt x="86" y="14"/>
                      </a:lnTo>
                      <a:lnTo>
                        <a:pt x="80" y="14"/>
                      </a:lnTo>
                      <a:lnTo>
                        <a:pt x="74" y="14"/>
                      </a:lnTo>
                      <a:lnTo>
                        <a:pt x="69" y="14"/>
                      </a:lnTo>
                      <a:lnTo>
                        <a:pt x="63" y="14"/>
                      </a:lnTo>
                      <a:lnTo>
                        <a:pt x="57" y="14"/>
                      </a:lnTo>
                      <a:lnTo>
                        <a:pt x="52" y="14"/>
                      </a:lnTo>
                      <a:lnTo>
                        <a:pt x="40" y="14"/>
                      </a:lnTo>
                      <a:lnTo>
                        <a:pt x="34" y="14"/>
                      </a:lnTo>
                      <a:lnTo>
                        <a:pt x="29" y="14"/>
                      </a:lnTo>
                      <a:lnTo>
                        <a:pt x="23" y="19"/>
                      </a:lnTo>
                      <a:lnTo>
                        <a:pt x="17" y="24"/>
                      </a:lnTo>
                      <a:lnTo>
                        <a:pt x="17" y="29"/>
                      </a:lnTo>
                      <a:lnTo>
                        <a:pt x="11" y="34"/>
                      </a:lnTo>
                      <a:lnTo>
                        <a:pt x="6" y="39"/>
                      </a:lnTo>
                      <a:lnTo>
                        <a:pt x="6" y="44"/>
                      </a:lnTo>
                      <a:lnTo>
                        <a:pt x="0" y="49"/>
                      </a:lnTo>
                      <a:lnTo>
                        <a:pt x="6" y="54"/>
                      </a:lnTo>
                      <a:lnTo>
                        <a:pt x="6" y="58"/>
                      </a:lnTo>
                      <a:lnTo>
                        <a:pt x="11" y="68"/>
                      </a:lnTo>
                      <a:lnTo>
                        <a:pt x="23" y="68"/>
                      </a:lnTo>
                      <a:lnTo>
                        <a:pt x="29" y="73"/>
                      </a:lnTo>
                      <a:lnTo>
                        <a:pt x="40" y="78"/>
                      </a:lnTo>
                      <a:lnTo>
                        <a:pt x="46" y="78"/>
                      </a:lnTo>
                      <a:lnTo>
                        <a:pt x="57" y="78"/>
                      </a:lnTo>
                      <a:lnTo>
                        <a:pt x="69" y="78"/>
                      </a:lnTo>
                      <a:lnTo>
                        <a:pt x="74" y="78"/>
                      </a:lnTo>
                      <a:lnTo>
                        <a:pt x="92" y="68"/>
                      </a:lnTo>
                      <a:lnTo>
                        <a:pt x="103" y="63"/>
                      </a:lnTo>
                      <a:lnTo>
                        <a:pt x="115" y="54"/>
                      </a:lnTo>
                      <a:lnTo>
                        <a:pt x="126" y="39"/>
                      </a:lnTo>
                      <a:lnTo>
                        <a:pt x="138" y="29"/>
                      </a:lnTo>
                      <a:lnTo>
                        <a:pt x="149" y="19"/>
                      </a:lnTo>
                      <a:lnTo>
                        <a:pt x="155" y="10"/>
                      </a:lnTo>
                      <a:lnTo>
                        <a:pt x="166" y="0"/>
                      </a:lnTo>
                      <a:lnTo>
                        <a:pt x="161" y="0"/>
                      </a:lnTo>
                      <a:lnTo>
                        <a:pt x="161" y="5"/>
                      </a:lnTo>
                      <a:lnTo>
                        <a:pt x="155" y="5"/>
                      </a:lnTo>
                      <a:lnTo>
                        <a:pt x="149" y="5"/>
                      </a:lnTo>
                      <a:lnTo>
                        <a:pt x="143" y="10"/>
                      </a:lnTo>
                      <a:lnTo>
                        <a:pt x="138" y="10"/>
                      </a:lnTo>
                      <a:lnTo>
                        <a:pt x="132" y="10"/>
                      </a:lnTo>
                      <a:lnTo>
                        <a:pt x="126" y="1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328400" y="2999520"/>
                  <a:ext cx="100080" cy="120600"/>
                </a:xfrm>
                <a:custGeom>
                  <a:avLst/>
                  <a:gdLst/>
                  <a:ahLst/>
                  <a:rect l="l" t="t" r="r" b="b"/>
                  <a:pathLst>
                    <a:path w="97" h="88">
                      <a:moveTo>
                        <a:pt x="97" y="5"/>
                      </a:moveTo>
                      <a:lnTo>
                        <a:pt x="97" y="0"/>
                      </a:lnTo>
                      <a:lnTo>
                        <a:pt x="92" y="0"/>
                      </a:lnTo>
                      <a:lnTo>
                        <a:pt x="86" y="0"/>
                      </a:lnTo>
                      <a:lnTo>
                        <a:pt x="80" y="0"/>
                      </a:lnTo>
                      <a:lnTo>
                        <a:pt x="74" y="5"/>
                      </a:lnTo>
                      <a:lnTo>
                        <a:pt x="63" y="5"/>
                      </a:lnTo>
                      <a:lnTo>
                        <a:pt x="57" y="10"/>
                      </a:lnTo>
                      <a:lnTo>
                        <a:pt x="52" y="10"/>
                      </a:lnTo>
                      <a:lnTo>
                        <a:pt x="46" y="10"/>
                      </a:lnTo>
                      <a:lnTo>
                        <a:pt x="40" y="15"/>
                      </a:lnTo>
                      <a:lnTo>
                        <a:pt x="34" y="15"/>
                      </a:lnTo>
                      <a:lnTo>
                        <a:pt x="29" y="15"/>
                      </a:lnTo>
                      <a:lnTo>
                        <a:pt x="29" y="20"/>
                      </a:lnTo>
                      <a:lnTo>
                        <a:pt x="23" y="20"/>
                      </a:lnTo>
                      <a:lnTo>
                        <a:pt x="17" y="25"/>
                      </a:lnTo>
                      <a:lnTo>
                        <a:pt x="11" y="25"/>
                      </a:lnTo>
                      <a:lnTo>
                        <a:pt x="6" y="34"/>
                      </a:lnTo>
                      <a:lnTo>
                        <a:pt x="6" y="44"/>
                      </a:lnTo>
                      <a:lnTo>
                        <a:pt x="0" y="54"/>
                      </a:lnTo>
                      <a:lnTo>
                        <a:pt x="0" y="64"/>
                      </a:lnTo>
                      <a:lnTo>
                        <a:pt x="0" y="69"/>
                      </a:lnTo>
                      <a:lnTo>
                        <a:pt x="6" y="78"/>
                      </a:lnTo>
                      <a:lnTo>
                        <a:pt x="11" y="83"/>
                      </a:lnTo>
                      <a:lnTo>
                        <a:pt x="17" y="88"/>
                      </a:lnTo>
                      <a:lnTo>
                        <a:pt x="23" y="88"/>
                      </a:lnTo>
                      <a:lnTo>
                        <a:pt x="29" y="83"/>
                      </a:lnTo>
                      <a:lnTo>
                        <a:pt x="34" y="83"/>
                      </a:lnTo>
                      <a:lnTo>
                        <a:pt x="40" y="83"/>
                      </a:lnTo>
                      <a:lnTo>
                        <a:pt x="46" y="78"/>
                      </a:lnTo>
                      <a:lnTo>
                        <a:pt x="52" y="73"/>
                      </a:lnTo>
                      <a:lnTo>
                        <a:pt x="57" y="73"/>
                      </a:lnTo>
                      <a:lnTo>
                        <a:pt x="57" y="69"/>
                      </a:lnTo>
                      <a:lnTo>
                        <a:pt x="69" y="59"/>
                      </a:lnTo>
                      <a:lnTo>
                        <a:pt x="74" y="54"/>
                      </a:lnTo>
                      <a:lnTo>
                        <a:pt x="80" y="44"/>
                      </a:lnTo>
                      <a:lnTo>
                        <a:pt x="86" y="39"/>
                      </a:lnTo>
                      <a:lnTo>
                        <a:pt x="92" y="29"/>
                      </a:lnTo>
                      <a:lnTo>
                        <a:pt x="97" y="20"/>
                      </a:lnTo>
                      <a:lnTo>
                        <a:pt x="97" y="15"/>
                      </a:lnTo>
                      <a:lnTo>
                        <a:pt x="97" y="5"/>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079640" y="2235960"/>
                  <a:ext cx="283680" cy="253440"/>
                </a:xfrm>
                <a:custGeom>
                  <a:avLst/>
                  <a:gdLst/>
                  <a:ahLst/>
                  <a:rect l="l" t="t" r="r" b="b"/>
                  <a:pathLst>
                    <a:path w="275" h="185">
                      <a:moveTo>
                        <a:pt x="275" y="14"/>
                      </a:moveTo>
                      <a:lnTo>
                        <a:pt x="270" y="14"/>
                      </a:lnTo>
                      <a:lnTo>
                        <a:pt x="264" y="19"/>
                      </a:lnTo>
                      <a:lnTo>
                        <a:pt x="252" y="24"/>
                      </a:lnTo>
                      <a:lnTo>
                        <a:pt x="247" y="29"/>
                      </a:lnTo>
                      <a:lnTo>
                        <a:pt x="235" y="34"/>
                      </a:lnTo>
                      <a:lnTo>
                        <a:pt x="229" y="34"/>
                      </a:lnTo>
                      <a:lnTo>
                        <a:pt x="218" y="39"/>
                      </a:lnTo>
                      <a:lnTo>
                        <a:pt x="212" y="39"/>
                      </a:lnTo>
                      <a:lnTo>
                        <a:pt x="201" y="34"/>
                      </a:lnTo>
                      <a:lnTo>
                        <a:pt x="195" y="34"/>
                      </a:lnTo>
                      <a:lnTo>
                        <a:pt x="189" y="29"/>
                      </a:lnTo>
                      <a:lnTo>
                        <a:pt x="178" y="19"/>
                      </a:lnTo>
                      <a:lnTo>
                        <a:pt x="172" y="14"/>
                      </a:lnTo>
                      <a:lnTo>
                        <a:pt x="166" y="9"/>
                      </a:lnTo>
                      <a:lnTo>
                        <a:pt x="160" y="4"/>
                      </a:lnTo>
                      <a:lnTo>
                        <a:pt x="149" y="0"/>
                      </a:lnTo>
                      <a:lnTo>
                        <a:pt x="149" y="9"/>
                      </a:lnTo>
                      <a:lnTo>
                        <a:pt x="149" y="19"/>
                      </a:lnTo>
                      <a:lnTo>
                        <a:pt x="149" y="29"/>
                      </a:lnTo>
                      <a:lnTo>
                        <a:pt x="149" y="39"/>
                      </a:lnTo>
                      <a:lnTo>
                        <a:pt x="155" y="48"/>
                      </a:lnTo>
                      <a:lnTo>
                        <a:pt x="155" y="58"/>
                      </a:lnTo>
                      <a:lnTo>
                        <a:pt x="155" y="73"/>
                      </a:lnTo>
                      <a:lnTo>
                        <a:pt x="149" y="83"/>
                      </a:lnTo>
                      <a:lnTo>
                        <a:pt x="143" y="88"/>
                      </a:lnTo>
                      <a:lnTo>
                        <a:pt x="137" y="97"/>
                      </a:lnTo>
                      <a:lnTo>
                        <a:pt x="132" y="102"/>
                      </a:lnTo>
                      <a:lnTo>
                        <a:pt x="126" y="107"/>
                      </a:lnTo>
                      <a:lnTo>
                        <a:pt x="114" y="117"/>
                      </a:lnTo>
                      <a:lnTo>
                        <a:pt x="109" y="122"/>
                      </a:lnTo>
                      <a:lnTo>
                        <a:pt x="97" y="127"/>
                      </a:lnTo>
                      <a:lnTo>
                        <a:pt x="92" y="132"/>
                      </a:lnTo>
                      <a:lnTo>
                        <a:pt x="86" y="132"/>
                      </a:lnTo>
                      <a:lnTo>
                        <a:pt x="74" y="132"/>
                      </a:lnTo>
                      <a:lnTo>
                        <a:pt x="69" y="132"/>
                      </a:lnTo>
                      <a:lnTo>
                        <a:pt x="63" y="127"/>
                      </a:lnTo>
                      <a:lnTo>
                        <a:pt x="51" y="127"/>
                      </a:lnTo>
                      <a:lnTo>
                        <a:pt x="46" y="122"/>
                      </a:lnTo>
                      <a:lnTo>
                        <a:pt x="34" y="122"/>
                      </a:lnTo>
                      <a:lnTo>
                        <a:pt x="28" y="122"/>
                      </a:lnTo>
                      <a:lnTo>
                        <a:pt x="23" y="132"/>
                      </a:lnTo>
                      <a:lnTo>
                        <a:pt x="23" y="141"/>
                      </a:lnTo>
                      <a:lnTo>
                        <a:pt x="23" y="151"/>
                      </a:lnTo>
                      <a:lnTo>
                        <a:pt x="17" y="161"/>
                      </a:lnTo>
                      <a:lnTo>
                        <a:pt x="11" y="166"/>
                      </a:lnTo>
                      <a:lnTo>
                        <a:pt x="5" y="171"/>
                      </a:lnTo>
                      <a:lnTo>
                        <a:pt x="5" y="176"/>
                      </a:lnTo>
                      <a:lnTo>
                        <a:pt x="0" y="185"/>
                      </a:lnTo>
                      <a:lnTo>
                        <a:pt x="5" y="181"/>
                      </a:lnTo>
                      <a:lnTo>
                        <a:pt x="11" y="181"/>
                      </a:lnTo>
                      <a:lnTo>
                        <a:pt x="23" y="176"/>
                      </a:lnTo>
                      <a:lnTo>
                        <a:pt x="28" y="176"/>
                      </a:lnTo>
                      <a:lnTo>
                        <a:pt x="34" y="171"/>
                      </a:lnTo>
                      <a:lnTo>
                        <a:pt x="40" y="171"/>
                      </a:lnTo>
                      <a:lnTo>
                        <a:pt x="51" y="166"/>
                      </a:lnTo>
                      <a:lnTo>
                        <a:pt x="57" y="166"/>
                      </a:lnTo>
                      <a:lnTo>
                        <a:pt x="63" y="161"/>
                      </a:lnTo>
                      <a:lnTo>
                        <a:pt x="74" y="161"/>
                      </a:lnTo>
                      <a:lnTo>
                        <a:pt x="80" y="156"/>
                      </a:lnTo>
                      <a:lnTo>
                        <a:pt x="86" y="156"/>
                      </a:lnTo>
                      <a:lnTo>
                        <a:pt x="92" y="151"/>
                      </a:lnTo>
                      <a:lnTo>
                        <a:pt x="97" y="151"/>
                      </a:lnTo>
                      <a:lnTo>
                        <a:pt x="109" y="146"/>
                      </a:lnTo>
                      <a:lnTo>
                        <a:pt x="114" y="141"/>
                      </a:lnTo>
                      <a:lnTo>
                        <a:pt x="126" y="136"/>
                      </a:lnTo>
                      <a:lnTo>
                        <a:pt x="137" y="132"/>
                      </a:lnTo>
                      <a:lnTo>
                        <a:pt x="155" y="122"/>
                      </a:lnTo>
                      <a:lnTo>
                        <a:pt x="166" y="117"/>
                      </a:lnTo>
                      <a:lnTo>
                        <a:pt x="178" y="107"/>
                      </a:lnTo>
                      <a:lnTo>
                        <a:pt x="189" y="102"/>
                      </a:lnTo>
                      <a:lnTo>
                        <a:pt x="201" y="92"/>
                      </a:lnTo>
                      <a:lnTo>
                        <a:pt x="212" y="83"/>
                      </a:lnTo>
                      <a:lnTo>
                        <a:pt x="224" y="78"/>
                      </a:lnTo>
                      <a:lnTo>
                        <a:pt x="229" y="68"/>
                      </a:lnTo>
                      <a:lnTo>
                        <a:pt x="241" y="58"/>
                      </a:lnTo>
                      <a:lnTo>
                        <a:pt x="247" y="48"/>
                      </a:lnTo>
                      <a:lnTo>
                        <a:pt x="252" y="44"/>
                      </a:lnTo>
                      <a:lnTo>
                        <a:pt x="264" y="34"/>
                      </a:lnTo>
                      <a:lnTo>
                        <a:pt x="270" y="24"/>
                      </a:lnTo>
                      <a:lnTo>
                        <a:pt x="275" y="14"/>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
              <p:cNvGrpSpPr/>
              <p:nvPr/>
            </p:nvGrpSpPr>
            <p:grpSpPr>
              <a:xfrm>
                <a:off x="6993720" y="4741560"/>
                <a:ext cx="2148120" cy="1913400"/>
                <a:chOff x="6993720" y="4741560"/>
                <a:chExt cx="2148120" cy="1913400"/>
              </a:xfrm>
            </p:grpSpPr>
            <p:sp>
              <p:nvSpPr>
                <p:cNvPr id="214" name=""/>
                <p:cNvSpPr/>
                <p:nvPr/>
              </p:nvSpPr>
              <p:spPr>
                <a:xfrm>
                  <a:off x="6993720" y="4741560"/>
                  <a:ext cx="2148120" cy="1913400"/>
                </a:xfrm>
                <a:custGeom>
                  <a:avLst/>
                  <a:gdLst/>
                  <a:ahLst/>
                  <a:rect l="l" t="t" r="r" b="b"/>
                  <a:pathLst>
                    <a:path w="1694" h="1423">
                      <a:moveTo>
                        <a:pt x="166" y="78"/>
                      </a:moveTo>
                      <a:lnTo>
                        <a:pt x="166" y="78"/>
                      </a:lnTo>
                      <a:lnTo>
                        <a:pt x="166" y="73"/>
                      </a:lnTo>
                      <a:lnTo>
                        <a:pt x="172" y="63"/>
                      </a:lnTo>
                      <a:lnTo>
                        <a:pt x="172" y="59"/>
                      </a:lnTo>
                      <a:lnTo>
                        <a:pt x="178" y="49"/>
                      </a:lnTo>
                      <a:lnTo>
                        <a:pt x="184" y="44"/>
                      </a:lnTo>
                      <a:lnTo>
                        <a:pt x="184" y="39"/>
                      </a:lnTo>
                      <a:lnTo>
                        <a:pt x="184" y="34"/>
                      </a:lnTo>
                      <a:lnTo>
                        <a:pt x="195" y="29"/>
                      </a:lnTo>
                      <a:lnTo>
                        <a:pt x="201" y="24"/>
                      </a:lnTo>
                      <a:lnTo>
                        <a:pt x="212" y="19"/>
                      </a:lnTo>
                      <a:lnTo>
                        <a:pt x="218" y="15"/>
                      </a:lnTo>
                      <a:lnTo>
                        <a:pt x="224" y="10"/>
                      </a:lnTo>
                      <a:lnTo>
                        <a:pt x="230" y="5"/>
                      </a:lnTo>
                      <a:lnTo>
                        <a:pt x="241" y="5"/>
                      </a:lnTo>
                      <a:lnTo>
                        <a:pt x="253" y="0"/>
                      </a:lnTo>
                      <a:lnTo>
                        <a:pt x="264" y="0"/>
                      </a:lnTo>
                      <a:lnTo>
                        <a:pt x="270" y="0"/>
                      </a:lnTo>
                      <a:lnTo>
                        <a:pt x="281" y="5"/>
                      </a:lnTo>
                      <a:lnTo>
                        <a:pt x="293" y="5"/>
                      </a:lnTo>
                      <a:lnTo>
                        <a:pt x="299" y="5"/>
                      </a:lnTo>
                      <a:lnTo>
                        <a:pt x="310" y="10"/>
                      </a:lnTo>
                      <a:lnTo>
                        <a:pt x="316" y="10"/>
                      </a:lnTo>
                      <a:lnTo>
                        <a:pt x="327" y="15"/>
                      </a:lnTo>
                      <a:lnTo>
                        <a:pt x="339" y="19"/>
                      </a:lnTo>
                      <a:lnTo>
                        <a:pt x="344" y="19"/>
                      </a:lnTo>
                      <a:lnTo>
                        <a:pt x="356" y="24"/>
                      </a:lnTo>
                      <a:lnTo>
                        <a:pt x="362" y="24"/>
                      </a:lnTo>
                      <a:lnTo>
                        <a:pt x="373" y="29"/>
                      </a:lnTo>
                      <a:lnTo>
                        <a:pt x="385" y="29"/>
                      </a:lnTo>
                      <a:lnTo>
                        <a:pt x="390" y="34"/>
                      </a:lnTo>
                      <a:lnTo>
                        <a:pt x="402" y="34"/>
                      </a:lnTo>
                      <a:lnTo>
                        <a:pt x="408" y="34"/>
                      </a:lnTo>
                      <a:lnTo>
                        <a:pt x="419" y="39"/>
                      </a:lnTo>
                      <a:lnTo>
                        <a:pt x="425" y="39"/>
                      </a:lnTo>
                      <a:lnTo>
                        <a:pt x="431" y="39"/>
                      </a:lnTo>
                      <a:lnTo>
                        <a:pt x="442" y="39"/>
                      </a:lnTo>
                      <a:lnTo>
                        <a:pt x="448" y="39"/>
                      </a:lnTo>
                      <a:lnTo>
                        <a:pt x="459" y="39"/>
                      </a:lnTo>
                      <a:lnTo>
                        <a:pt x="465" y="39"/>
                      </a:lnTo>
                      <a:lnTo>
                        <a:pt x="471" y="39"/>
                      </a:lnTo>
                      <a:lnTo>
                        <a:pt x="482" y="39"/>
                      </a:lnTo>
                      <a:lnTo>
                        <a:pt x="488" y="39"/>
                      </a:lnTo>
                      <a:lnTo>
                        <a:pt x="494" y="39"/>
                      </a:lnTo>
                      <a:lnTo>
                        <a:pt x="505" y="39"/>
                      </a:lnTo>
                      <a:lnTo>
                        <a:pt x="511" y="39"/>
                      </a:lnTo>
                      <a:lnTo>
                        <a:pt x="517" y="39"/>
                      </a:lnTo>
                      <a:lnTo>
                        <a:pt x="528" y="44"/>
                      </a:lnTo>
                      <a:lnTo>
                        <a:pt x="534" y="44"/>
                      </a:lnTo>
                      <a:lnTo>
                        <a:pt x="545" y="49"/>
                      </a:lnTo>
                      <a:lnTo>
                        <a:pt x="551" y="49"/>
                      </a:lnTo>
                      <a:lnTo>
                        <a:pt x="557" y="54"/>
                      </a:lnTo>
                      <a:lnTo>
                        <a:pt x="568" y="59"/>
                      </a:lnTo>
                      <a:lnTo>
                        <a:pt x="574" y="63"/>
                      </a:lnTo>
                      <a:lnTo>
                        <a:pt x="580" y="63"/>
                      </a:lnTo>
                      <a:lnTo>
                        <a:pt x="591" y="68"/>
                      </a:lnTo>
                      <a:lnTo>
                        <a:pt x="597" y="73"/>
                      </a:lnTo>
                      <a:lnTo>
                        <a:pt x="609" y="78"/>
                      </a:lnTo>
                      <a:lnTo>
                        <a:pt x="614" y="83"/>
                      </a:lnTo>
                      <a:lnTo>
                        <a:pt x="620" y="83"/>
                      </a:lnTo>
                      <a:lnTo>
                        <a:pt x="626" y="88"/>
                      </a:lnTo>
                      <a:lnTo>
                        <a:pt x="637" y="93"/>
                      </a:lnTo>
                      <a:lnTo>
                        <a:pt x="643" y="98"/>
                      </a:lnTo>
                      <a:lnTo>
                        <a:pt x="655" y="98"/>
                      </a:lnTo>
                      <a:lnTo>
                        <a:pt x="666" y="103"/>
                      </a:lnTo>
                      <a:lnTo>
                        <a:pt x="678" y="107"/>
                      </a:lnTo>
                      <a:lnTo>
                        <a:pt x="689" y="112"/>
                      </a:lnTo>
                      <a:lnTo>
                        <a:pt x="701" y="117"/>
                      </a:lnTo>
                      <a:lnTo>
                        <a:pt x="712" y="122"/>
                      </a:lnTo>
                      <a:lnTo>
                        <a:pt x="723" y="122"/>
                      </a:lnTo>
                      <a:lnTo>
                        <a:pt x="735" y="127"/>
                      </a:lnTo>
                      <a:lnTo>
                        <a:pt x="746" y="132"/>
                      </a:lnTo>
                      <a:lnTo>
                        <a:pt x="758" y="137"/>
                      </a:lnTo>
                      <a:lnTo>
                        <a:pt x="769" y="137"/>
                      </a:lnTo>
                      <a:lnTo>
                        <a:pt x="781" y="142"/>
                      </a:lnTo>
                      <a:lnTo>
                        <a:pt x="798" y="142"/>
                      </a:lnTo>
                      <a:lnTo>
                        <a:pt x="810" y="147"/>
                      </a:lnTo>
                      <a:lnTo>
                        <a:pt x="821" y="147"/>
                      </a:lnTo>
                      <a:lnTo>
                        <a:pt x="833" y="151"/>
                      </a:lnTo>
                      <a:lnTo>
                        <a:pt x="844" y="156"/>
                      </a:lnTo>
                      <a:lnTo>
                        <a:pt x="850" y="161"/>
                      </a:lnTo>
                      <a:lnTo>
                        <a:pt x="861" y="166"/>
                      </a:lnTo>
                      <a:lnTo>
                        <a:pt x="867" y="171"/>
                      </a:lnTo>
                      <a:lnTo>
                        <a:pt x="873" y="176"/>
                      </a:lnTo>
                      <a:lnTo>
                        <a:pt x="884" y="186"/>
                      </a:lnTo>
                      <a:lnTo>
                        <a:pt x="890" y="191"/>
                      </a:lnTo>
                      <a:lnTo>
                        <a:pt x="896" y="196"/>
                      </a:lnTo>
                      <a:lnTo>
                        <a:pt x="901" y="200"/>
                      </a:lnTo>
                      <a:lnTo>
                        <a:pt x="924" y="225"/>
                      </a:lnTo>
                      <a:lnTo>
                        <a:pt x="942" y="244"/>
                      </a:lnTo>
                      <a:lnTo>
                        <a:pt x="965" y="264"/>
                      </a:lnTo>
                      <a:lnTo>
                        <a:pt x="988" y="284"/>
                      </a:lnTo>
                      <a:lnTo>
                        <a:pt x="1005" y="303"/>
                      </a:lnTo>
                      <a:lnTo>
                        <a:pt x="1028" y="328"/>
                      </a:lnTo>
                      <a:lnTo>
                        <a:pt x="1045" y="347"/>
                      </a:lnTo>
                      <a:lnTo>
                        <a:pt x="1068" y="367"/>
                      </a:lnTo>
                      <a:lnTo>
                        <a:pt x="1085" y="386"/>
                      </a:lnTo>
                      <a:lnTo>
                        <a:pt x="1108" y="406"/>
                      </a:lnTo>
                      <a:lnTo>
                        <a:pt x="1125" y="430"/>
                      </a:lnTo>
                      <a:lnTo>
                        <a:pt x="1148" y="450"/>
                      </a:lnTo>
                      <a:lnTo>
                        <a:pt x="1166" y="469"/>
                      </a:lnTo>
                      <a:lnTo>
                        <a:pt x="1189" y="489"/>
                      </a:lnTo>
                      <a:lnTo>
                        <a:pt x="1212" y="513"/>
                      </a:lnTo>
                      <a:lnTo>
                        <a:pt x="1229" y="533"/>
                      </a:lnTo>
                      <a:lnTo>
                        <a:pt x="1240" y="538"/>
                      </a:lnTo>
                      <a:lnTo>
                        <a:pt x="1246" y="548"/>
                      </a:lnTo>
                      <a:lnTo>
                        <a:pt x="1258" y="557"/>
                      </a:lnTo>
                      <a:lnTo>
                        <a:pt x="1263" y="562"/>
                      </a:lnTo>
                      <a:lnTo>
                        <a:pt x="1275" y="572"/>
                      </a:lnTo>
                      <a:lnTo>
                        <a:pt x="1281" y="582"/>
                      </a:lnTo>
                      <a:lnTo>
                        <a:pt x="1292" y="587"/>
                      </a:lnTo>
                      <a:lnTo>
                        <a:pt x="1298" y="597"/>
                      </a:lnTo>
                      <a:lnTo>
                        <a:pt x="1309" y="606"/>
                      </a:lnTo>
                      <a:lnTo>
                        <a:pt x="1315" y="611"/>
                      </a:lnTo>
                      <a:lnTo>
                        <a:pt x="1326" y="621"/>
                      </a:lnTo>
                      <a:lnTo>
                        <a:pt x="1332" y="626"/>
                      </a:lnTo>
                      <a:lnTo>
                        <a:pt x="1344" y="636"/>
                      </a:lnTo>
                      <a:lnTo>
                        <a:pt x="1349" y="645"/>
                      </a:lnTo>
                      <a:lnTo>
                        <a:pt x="1361" y="650"/>
                      </a:lnTo>
                      <a:lnTo>
                        <a:pt x="1367" y="660"/>
                      </a:lnTo>
                      <a:lnTo>
                        <a:pt x="1372" y="660"/>
                      </a:lnTo>
                      <a:lnTo>
                        <a:pt x="1378" y="665"/>
                      </a:lnTo>
                      <a:lnTo>
                        <a:pt x="1384" y="670"/>
                      </a:lnTo>
                      <a:lnTo>
                        <a:pt x="1390" y="670"/>
                      </a:lnTo>
                      <a:lnTo>
                        <a:pt x="1395" y="675"/>
                      </a:lnTo>
                      <a:lnTo>
                        <a:pt x="1401" y="680"/>
                      </a:lnTo>
                      <a:lnTo>
                        <a:pt x="1407" y="680"/>
                      </a:lnTo>
                      <a:lnTo>
                        <a:pt x="1413" y="685"/>
                      </a:lnTo>
                      <a:lnTo>
                        <a:pt x="1430" y="699"/>
                      </a:lnTo>
                      <a:lnTo>
                        <a:pt x="1447" y="714"/>
                      </a:lnTo>
                      <a:lnTo>
                        <a:pt x="1464" y="733"/>
                      </a:lnTo>
                      <a:lnTo>
                        <a:pt x="1482" y="748"/>
                      </a:lnTo>
                      <a:lnTo>
                        <a:pt x="1504" y="763"/>
                      </a:lnTo>
                      <a:lnTo>
                        <a:pt x="1522" y="777"/>
                      </a:lnTo>
                      <a:lnTo>
                        <a:pt x="1539" y="797"/>
                      </a:lnTo>
                      <a:lnTo>
                        <a:pt x="1556" y="812"/>
                      </a:lnTo>
                      <a:lnTo>
                        <a:pt x="1573" y="826"/>
                      </a:lnTo>
                      <a:lnTo>
                        <a:pt x="1591" y="846"/>
                      </a:lnTo>
                      <a:lnTo>
                        <a:pt x="1608" y="861"/>
                      </a:lnTo>
                      <a:lnTo>
                        <a:pt x="1625" y="875"/>
                      </a:lnTo>
                      <a:lnTo>
                        <a:pt x="1642" y="895"/>
                      </a:lnTo>
                      <a:lnTo>
                        <a:pt x="1660" y="910"/>
                      </a:lnTo>
                      <a:lnTo>
                        <a:pt x="1677" y="924"/>
                      </a:lnTo>
                      <a:lnTo>
                        <a:pt x="1694" y="944"/>
                      </a:lnTo>
                      <a:lnTo>
                        <a:pt x="1677" y="958"/>
                      </a:lnTo>
                      <a:lnTo>
                        <a:pt x="1660" y="973"/>
                      </a:lnTo>
                      <a:lnTo>
                        <a:pt x="1642" y="988"/>
                      </a:lnTo>
                      <a:lnTo>
                        <a:pt x="1619" y="1002"/>
                      </a:lnTo>
                      <a:lnTo>
                        <a:pt x="1602" y="1017"/>
                      </a:lnTo>
                      <a:lnTo>
                        <a:pt x="1585" y="1032"/>
                      </a:lnTo>
                      <a:lnTo>
                        <a:pt x="1568" y="1046"/>
                      </a:lnTo>
                      <a:lnTo>
                        <a:pt x="1550" y="1061"/>
                      </a:lnTo>
                      <a:lnTo>
                        <a:pt x="1533" y="1076"/>
                      </a:lnTo>
                      <a:lnTo>
                        <a:pt x="1516" y="1090"/>
                      </a:lnTo>
                      <a:lnTo>
                        <a:pt x="1493" y="1105"/>
                      </a:lnTo>
                      <a:lnTo>
                        <a:pt x="1476" y="1120"/>
                      </a:lnTo>
                      <a:lnTo>
                        <a:pt x="1459" y="1139"/>
                      </a:lnTo>
                      <a:lnTo>
                        <a:pt x="1441" y="1154"/>
                      </a:lnTo>
                      <a:lnTo>
                        <a:pt x="1424" y="1169"/>
                      </a:lnTo>
                      <a:lnTo>
                        <a:pt x="1407" y="1183"/>
                      </a:lnTo>
                      <a:lnTo>
                        <a:pt x="1390" y="1198"/>
                      </a:lnTo>
                      <a:lnTo>
                        <a:pt x="1367" y="1213"/>
                      </a:lnTo>
                      <a:lnTo>
                        <a:pt x="1349" y="1227"/>
                      </a:lnTo>
                      <a:lnTo>
                        <a:pt x="1332" y="1242"/>
                      </a:lnTo>
                      <a:lnTo>
                        <a:pt x="1315" y="1257"/>
                      </a:lnTo>
                      <a:lnTo>
                        <a:pt x="1298" y="1271"/>
                      </a:lnTo>
                      <a:lnTo>
                        <a:pt x="1281" y="1286"/>
                      </a:lnTo>
                      <a:lnTo>
                        <a:pt x="1263" y="1301"/>
                      </a:lnTo>
                      <a:lnTo>
                        <a:pt x="1246" y="1315"/>
                      </a:lnTo>
                      <a:lnTo>
                        <a:pt x="1223" y="1335"/>
                      </a:lnTo>
                      <a:lnTo>
                        <a:pt x="1206" y="1350"/>
                      </a:lnTo>
                      <a:lnTo>
                        <a:pt x="1189" y="1364"/>
                      </a:lnTo>
                      <a:lnTo>
                        <a:pt x="1171" y="1379"/>
                      </a:lnTo>
                      <a:lnTo>
                        <a:pt x="1154" y="1394"/>
                      </a:lnTo>
                      <a:lnTo>
                        <a:pt x="1137" y="1408"/>
                      </a:lnTo>
                      <a:lnTo>
                        <a:pt x="1114" y="1423"/>
                      </a:lnTo>
                      <a:lnTo>
                        <a:pt x="1114" y="1403"/>
                      </a:lnTo>
                      <a:lnTo>
                        <a:pt x="1108" y="1384"/>
                      </a:lnTo>
                      <a:lnTo>
                        <a:pt x="1108" y="1359"/>
                      </a:lnTo>
                      <a:lnTo>
                        <a:pt x="1102" y="1340"/>
                      </a:lnTo>
                      <a:lnTo>
                        <a:pt x="1097" y="1340"/>
                      </a:lnTo>
                      <a:lnTo>
                        <a:pt x="1091" y="1335"/>
                      </a:lnTo>
                      <a:lnTo>
                        <a:pt x="1080" y="1335"/>
                      </a:lnTo>
                      <a:lnTo>
                        <a:pt x="1074" y="1330"/>
                      </a:lnTo>
                      <a:lnTo>
                        <a:pt x="1068" y="1325"/>
                      </a:lnTo>
                      <a:lnTo>
                        <a:pt x="1057" y="1325"/>
                      </a:lnTo>
                      <a:lnTo>
                        <a:pt x="1051" y="1320"/>
                      </a:lnTo>
                      <a:lnTo>
                        <a:pt x="1045" y="1320"/>
                      </a:lnTo>
                      <a:lnTo>
                        <a:pt x="1039" y="1315"/>
                      </a:lnTo>
                      <a:lnTo>
                        <a:pt x="1028" y="1315"/>
                      </a:lnTo>
                      <a:lnTo>
                        <a:pt x="1022" y="1311"/>
                      </a:lnTo>
                      <a:lnTo>
                        <a:pt x="1016" y="1311"/>
                      </a:lnTo>
                      <a:lnTo>
                        <a:pt x="1005" y="1306"/>
                      </a:lnTo>
                      <a:lnTo>
                        <a:pt x="999" y="1301"/>
                      </a:lnTo>
                      <a:lnTo>
                        <a:pt x="993" y="1301"/>
                      </a:lnTo>
                      <a:lnTo>
                        <a:pt x="988" y="1296"/>
                      </a:lnTo>
                      <a:lnTo>
                        <a:pt x="976" y="1291"/>
                      </a:lnTo>
                      <a:lnTo>
                        <a:pt x="965" y="1286"/>
                      </a:lnTo>
                      <a:lnTo>
                        <a:pt x="953" y="1281"/>
                      </a:lnTo>
                      <a:lnTo>
                        <a:pt x="942" y="1276"/>
                      </a:lnTo>
                      <a:lnTo>
                        <a:pt x="930" y="1267"/>
                      </a:lnTo>
                      <a:lnTo>
                        <a:pt x="919" y="1262"/>
                      </a:lnTo>
                      <a:lnTo>
                        <a:pt x="907" y="1257"/>
                      </a:lnTo>
                      <a:lnTo>
                        <a:pt x="901" y="1252"/>
                      </a:lnTo>
                      <a:lnTo>
                        <a:pt x="890" y="1247"/>
                      </a:lnTo>
                      <a:lnTo>
                        <a:pt x="879" y="1237"/>
                      </a:lnTo>
                      <a:lnTo>
                        <a:pt x="867" y="1232"/>
                      </a:lnTo>
                      <a:lnTo>
                        <a:pt x="856" y="1227"/>
                      </a:lnTo>
                      <a:lnTo>
                        <a:pt x="844" y="1222"/>
                      </a:lnTo>
                      <a:lnTo>
                        <a:pt x="838" y="1213"/>
                      </a:lnTo>
                      <a:lnTo>
                        <a:pt x="827" y="1208"/>
                      </a:lnTo>
                      <a:lnTo>
                        <a:pt x="815" y="1203"/>
                      </a:lnTo>
                      <a:lnTo>
                        <a:pt x="810" y="1193"/>
                      </a:lnTo>
                      <a:lnTo>
                        <a:pt x="798" y="1188"/>
                      </a:lnTo>
                      <a:lnTo>
                        <a:pt x="787" y="1178"/>
                      </a:lnTo>
                      <a:lnTo>
                        <a:pt x="781" y="1174"/>
                      </a:lnTo>
                      <a:lnTo>
                        <a:pt x="769" y="1164"/>
                      </a:lnTo>
                      <a:lnTo>
                        <a:pt x="764" y="1154"/>
                      </a:lnTo>
                      <a:lnTo>
                        <a:pt x="752" y="1149"/>
                      </a:lnTo>
                      <a:lnTo>
                        <a:pt x="746" y="1139"/>
                      </a:lnTo>
                      <a:lnTo>
                        <a:pt x="735" y="1130"/>
                      </a:lnTo>
                      <a:lnTo>
                        <a:pt x="729" y="1125"/>
                      </a:lnTo>
                      <a:lnTo>
                        <a:pt x="718" y="1115"/>
                      </a:lnTo>
                      <a:lnTo>
                        <a:pt x="712" y="1105"/>
                      </a:lnTo>
                      <a:lnTo>
                        <a:pt x="701" y="1100"/>
                      </a:lnTo>
                      <a:lnTo>
                        <a:pt x="695" y="1090"/>
                      </a:lnTo>
                      <a:lnTo>
                        <a:pt x="683" y="1081"/>
                      </a:lnTo>
                      <a:lnTo>
                        <a:pt x="678" y="1071"/>
                      </a:lnTo>
                      <a:lnTo>
                        <a:pt x="672" y="1066"/>
                      </a:lnTo>
                      <a:lnTo>
                        <a:pt x="666" y="1061"/>
                      </a:lnTo>
                      <a:lnTo>
                        <a:pt x="666" y="1056"/>
                      </a:lnTo>
                      <a:lnTo>
                        <a:pt x="660" y="1046"/>
                      </a:lnTo>
                      <a:lnTo>
                        <a:pt x="655" y="1042"/>
                      </a:lnTo>
                      <a:lnTo>
                        <a:pt x="655" y="1032"/>
                      </a:lnTo>
                      <a:lnTo>
                        <a:pt x="649" y="1027"/>
                      </a:lnTo>
                      <a:lnTo>
                        <a:pt x="643" y="1022"/>
                      </a:lnTo>
                      <a:lnTo>
                        <a:pt x="637" y="1012"/>
                      </a:lnTo>
                      <a:lnTo>
                        <a:pt x="626" y="1007"/>
                      </a:lnTo>
                      <a:lnTo>
                        <a:pt x="614" y="998"/>
                      </a:lnTo>
                      <a:lnTo>
                        <a:pt x="603" y="993"/>
                      </a:lnTo>
                      <a:lnTo>
                        <a:pt x="591" y="988"/>
                      </a:lnTo>
                      <a:lnTo>
                        <a:pt x="580" y="978"/>
                      </a:lnTo>
                      <a:lnTo>
                        <a:pt x="574" y="973"/>
                      </a:lnTo>
                      <a:lnTo>
                        <a:pt x="563" y="963"/>
                      </a:lnTo>
                      <a:lnTo>
                        <a:pt x="551" y="958"/>
                      </a:lnTo>
                      <a:lnTo>
                        <a:pt x="540" y="954"/>
                      </a:lnTo>
                      <a:lnTo>
                        <a:pt x="528" y="944"/>
                      </a:lnTo>
                      <a:lnTo>
                        <a:pt x="517" y="939"/>
                      </a:lnTo>
                      <a:lnTo>
                        <a:pt x="511" y="929"/>
                      </a:lnTo>
                      <a:lnTo>
                        <a:pt x="500" y="924"/>
                      </a:lnTo>
                      <a:lnTo>
                        <a:pt x="488" y="919"/>
                      </a:lnTo>
                      <a:lnTo>
                        <a:pt x="477" y="910"/>
                      </a:lnTo>
                      <a:lnTo>
                        <a:pt x="465" y="910"/>
                      </a:lnTo>
                      <a:lnTo>
                        <a:pt x="454" y="914"/>
                      </a:lnTo>
                      <a:lnTo>
                        <a:pt x="442" y="914"/>
                      </a:lnTo>
                      <a:lnTo>
                        <a:pt x="431" y="914"/>
                      </a:lnTo>
                      <a:lnTo>
                        <a:pt x="419" y="914"/>
                      </a:lnTo>
                      <a:lnTo>
                        <a:pt x="408" y="919"/>
                      </a:lnTo>
                      <a:lnTo>
                        <a:pt x="402" y="919"/>
                      </a:lnTo>
                      <a:lnTo>
                        <a:pt x="390" y="914"/>
                      </a:lnTo>
                      <a:lnTo>
                        <a:pt x="379" y="914"/>
                      </a:lnTo>
                      <a:lnTo>
                        <a:pt x="373" y="914"/>
                      </a:lnTo>
                      <a:lnTo>
                        <a:pt x="367" y="914"/>
                      </a:lnTo>
                      <a:lnTo>
                        <a:pt x="356" y="914"/>
                      </a:lnTo>
                      <a:lnTo>
                        <a:pt x="350" y="910"/>
                      </a:lnTo>
                      <a:lnTo>
                        <a:pt x="339" y="910"/>
                      </a:lnTo>
                      <a:lnTo>
                        <a:pt x="333" y="910"/>
                      </a:lnTo>
                      <a:lnTo>
                        <a:pt x="327" y="905"/>
                      </a:lnTo>
                      <a:lnTo>
                        <a:pt x="316" y="905"/>
                      </a:lnTo>
                      <a:lnTo>
                        <a:pt x="310" y="905"/>
                      </a:lnTo>
                      <a:lnTo>
                        <a:pt x="304" y="900"/>
                      </a:lnTo>
                      <a:lnTo>
                        <a:pt x="293" y="900"/>
                      </a:lnTo>
                      <a:lnTo>
                        <a:pt x="287" y="895"/>
                      </a:lnTo>
                      <a:lnTo>
                        <a:pt x="281" y="895"/>
                      </a:lnTo>
                      <a:lnTo>
                        <a:pt x="276" y="890"/>
                      </a:lnTo>
                      <a:lnTo>
                        <a:pt x="264" y="890"/>
                      </a:lnTo>
                      <a:lnTo>
                        <a:pt x="258" y="885"/>
                      </a:lnTo>
                      <a:lnTo>
                        <a:pt x="247" y="880"/>
                      </a:lnTo>
                      <a:lnTo>
                        <a:pt x="241" y="875"/>
                      </a:lnTo>
                      <a:lnTo>
                        <a:pt x="235" y="865"/>
                      </a:lnTo>
                      <a:lnTo>
                        <a:pt x="230" y="861"/>
                      </a:lnTo>
                      <a:lnTo>
                        <a:pt x="224" y="856"/>
                      </a:lnTo>
                      <a:lnTo>
                        <a:pt x="218" y="846"/>
                      </a:lnTo>
                      <a:lnTo>
                        <a:pt x="212" y="841"/>
                      </a:lnTo>
                      <a:lnTo>
                        <a:pt x="207" y="831"/>
                      </a:lnTo>
                      <a:lnTo>
                        <a:pt x="201" y="826"/>
                      </a:lnTo>
                      <a:lnTo>
                        <a:pt x="201" y="817"/>
                      </a:lnTo>
                      <a:lnTo>
                        <a:pt x="195" y="807"/>
                      </a:lnTo>
                      <a:lnTo>
                        <a:pt x="195" y="802"/>
                      </a:lnTo>
                      <a:lnTo>
                        <a:pt x="189" y="792"/>
                      </a:lnTo>
                      <a:lnTo>
                        <a:pt x="189" y="782"/>
                      </a:lnTo>
                      <a:lnTo>
                        <a:pt x="189" y="777"/>
                      </a:lnTo>
                      <a:lnTo>
                        <a:pt x="189" y="773"/>
                      </a:lnTo>
                      <a:lnTo>
                        <a:pt x="195" y="763"/>
                      </a:lnTo>
                      <a:lnTo>
                        <a:pt x="195" y="758"/>
                      </a:lnTo>
                      <a:lnTo>
                        <a:pt x="201" y="753"/>
                      </a:lnTo>
                      <a:lnTo>
                        <a:pt x="201" y="748"/>
                      </a:lnTo>
                      <a:lnTo>
                        <a:pt x="207" y="743"/>
                      </a:lnTo>
                      <a:lnTo>
                        <a:pt x="212" y="738"/>
                      </a:lnTo>
                      <a:lnTo>
                        <a:pt x="212" y="733"/>
                      </a:lnTo>
                      <a:lnTo>
                        <a:pt x="207" y="724"/>
                      </a:lnTo>
                      <a:lnTo>
                        <a:pt x="195" y="714"/>
                      </a:lnTo>
                      <a:lnTo>
                        <a:pt x="189" y="704"/>
                      </a:lnTo>
                      <a:lnTo>
                        <a:pt x="184" y="699"/>
                      </a:lnTo>
                      <a:lnTo>
                        <a:pt x="172" y="689"/>
                      </a:lnTo>
                      <a:lnTo>
                        <a:pt x="166" y="680"/>
                      </a:lnTo>
                      <a:lnTo>
                        <a:pt x="161" y="670"/>
                      </a:lnTo>
                      <a:lnTo>
                        <a:pt x="149" y="660"/>
                      </a:lnTo>
                      <a:lnTo>
                        <a:pt x="149" y="650"/>
                      </a:lnTo>
                      <a:lnTo>
                        <a:pt x="143" y="641"/>
                      </a:lnTo>
                      <a:lnTo>
                        <a:pt x="143" y="631"/>
                      </a:lnTo>
                      <a:lnTo>
                        <a:pt x="143" y="621"/>
                      </a:lnTo>
                      <a:lnTo>
                        <a:pt x="132" y="621"/>
                      </a:lnTo>
                      <a:lnTo>
                        <a:pt x="120" y="616"/>
                      </a:lnTo>
                      <a:lnTo>
                        <a:pt x="109" y="616"/>
                      </a:lnTo>
                      <a:lnTo>
                        <a:pt x="98" y="616"/>
                      </a:lnTo>
                      <a:lnTo>
                        <a:pt x="86" y="611"/>
                      </a:lnTo>
                      <a:lnTo>
                        <a:pt x="75" y="611"/>
                      </a:lnTo>
                      <a:lnTo>
                        <a:pt x="63" y="606"/>
                      </a:lnTo>
                      <a:lnTo>
                        <a:pt x="57" y="601"/>
                      </a:lnTo>
                      <a:lnTo>
                        <a:pt x="46" y="597"/>
                      </a:lnTo>
                      <a:lnTo>
                        <a:pt x="40" y="592"/>
                      </a:lnTo>
                      <a:lnTo>
                        <a:pt x="29" y="582"/>
                      </a:lnTo>
                      <a:lnTo>
                        <a:pt x="23" y="577"/>
                      </a:lnTo>
                      <a:lnTo>
                        <a:pt x="17" y="567"/>
                      </a:lnTo>
                      <a:lnTo>
                        <a:pt x="11" y="562"/>
                      </a:lnTo>
                      <a:lnTo>
                        <a:pt x="6" y="553"/>
                      </a:lnTo>
                      <a:lnTo>
                        <a:pt x="6" y="543"/>
                      </a:lnTo>
                      <a:lnTo>
                        <a:pt x="0" y="523"/>
                      </a:lnTo>
                      <a:lnTo>
                        <a:pt x="6" y="504"/>
                      </a:lnTo>
                      <a:lnTo>
                        <a:pt x="11" y="479"/>
                      </a:lnTo>
                      <a:lnTo>
                        <a:pt x="17" y="460"/>
                      </a:lnTo>
                      <a:lnTo>
                        <a:pt x="23" y="450"/>
                      </a:lnTo>
                      <a:lnTo>
                        <a:pt x="29" y="440"/>
                      </a:lnTo>
                      <a:lnTo>
                        <a:pt x="29" y="430"/>
                      </a:lnTo>
                      <a:lnTo>
                        <a:pt x="34" y="420"/>
                      </a:lnTo>
                      <a:lnTo>
                        <a:pt x="40" y="411"/>
                      </a:lnTo>
                      <a:lnTo>
                        <a:pt x="46" y="401"/>
                      </a:lnTo>
                      <a:lnTo>
                        <a:pt x="52" y="391"/>
                      </a:lnTo>
                      <a:lnTo>
                        <a:pt x="57" y="381"/>
                      </a:lnTo>
                      <a:lnTo>
                        <a:pt x="69" y="372"/>
                      </a:lnTo>
                      <a:lnTo>
                        <a:pt x="75" y="367"/>
                      </a:lnTo>
                      <a:lnTo>
                        <a:pt x="80" y="367"/>
                      </a:lnTo>
                      <a:lnTo>
                        <a:pt x="92" y="367"/>
                      </a:lnTo>
                      <a:lnTo>
                        <a:pt x="103" y="376"/>
                      </a:lnTo>
                      <a:lnTo>
                        <a:pt x="115" y="381"/>
                      </a:lnTo>
                      <a:lnTo>
                        <a:pt x="126" y="396"/>
                      </a:lnTo>
                      <a:lnTo>
                        <a:pt x="143" y="406"/>
                      </a:lnTo>
                      <a:lnTo>
                        <a:pt x="132" y="396"/>
                      </a:lnTo>
                      <a:lnTo>
                        <a:pt x="120" y="386"/>
                      </a:lnTo>
                      <a:lnTo>
                        <a:pt x="109" y="376"/>
                      </a:lnTo>
                      <a:lnTo>
                        <a:pt x="98" y="367"/>
                      </a:lnTo>
                      <a:lnTo>
                        <a:pt x="86" y="357"/>
                      </a:lnTo>
                      <a:lnTo>
                        <a:pt x="75" y="347"/>
                      </a:lnTo>
                      <a:lnTo>
                        <a:pt x="63" y="332"/>
                      </a:lnTo>
                      <a:lnTo>
                        <a:pt x="57" y="323"/>
                      </a:lnTo>
                      <a:lnTo>
                        <a:pt x="52" y="308"/>
                      </a:lnTo>
                      <a:lnTo>
                        <a:pt x="40" y="298"/>
                      </a:lnTo>
                      <a:lnTo>
                        <a:pt x="34" y="284"/>
                      </a:lnTo>
                      <a:lnTo>
                        <a:pt x="29" y="269"/>
                      </a:lnTo>
                      <a:lnTo>
                        <a:pt x="29" y="254"/>
                      </a:lnTo>
                      <a:lnTo>
                        <a:pt x="23" y="240"/>
                      </a:lnTo>
                      <a:lnTo>
                        <a:pt x="23" y="225"/>
                      </a:lnTo>
                      <a:lnTo>
                        <a:pt x="17" y="210"/>
                      </a:lnTo>
                      <a:lnTo>
                        <a:pt x="17" y="186"/>
                      </a:lnTo>
                      <a:lnTo>
                        <a:pt x="17" y="161"/>
                      </a:lnTo>
                      <a:lnTo>
                        <a:pt x="23" y="137"/>
                      </a:lnTo>
                      <a:lnTo>
                        <a:pt x="34" y="117"/>
                      </a:lnTo>
                      <a:lnTo>
                        <a:pt x="40" y="112"/>
                      </a:lnTo>
                      <a:lnTo>
                        <a:pt x="52" y="103"/>
                      </a:lnTo>
                      <a:lnTo>
                        <a:pt x="57" y="98"/>
                      </a:lnTo>
                      <a:lnTo>
                        <a:pt x="69" y="98"/>
                      </a:lnTo>
                      <a:lnTo>
                        <a:pt x="80" y="93"/>
                      </a:lnTo>
                      <a:lnTo>
                        <a:pt x="92" y="88"/>
                      </a:lnTo>
                      <a:lnTo>
                        <a:pt x="103" y="88"/>
                      </a:lnTo>
                      <a:lnTo>
                        <a:pt x="115" y="83"/>
                      </a:lnTo>
                      <a:lnTo>
                        <a:pt x="120" y="83"/>
                      </a:lnTo>
                      <a:lnTo>
                        <a:pt x="126" y="83"/>
                      </a:lnTo>
                      <a:lnTo>
                        <a:pt x="132" y="78"/>
                      </a:lnTo>
                      <a:lnTo>
                        <a:pt x="138" y="78"/>
                      </a:lnTo>
                      <a:lnTo>
                        <a:pt x="149" y="78"/>
                      </a:lnTo>
                      <a:lnTo>
                        <a:pt x="155" y="78"/>
                      </a:lnTo>
                      <a:lnTo>
                        <a:pt x="161" y="78"/>
                      </a:lnTo>
                      <a:lnTo>
                        <a:pt x="166" y="7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6993720" y="4885200"/>
                  <a:ext cx="1470600" cy="1657440"/>
                </a:xfrm>
                <a:custGeom>
                  <a:avLst/>
                  <a:gdLst/>
                  <a:ahLst/>
                  <a:rect l="l" t="t" r="r" b="b"/>
                  <a:pathLst>
                    <a:path w="1160" h="1233">
                      <a:moveTo>
                        <a:pt x="1102" y="1233"/>
                      </a:moveTo>
                      <a:lnTo>
                        <a:pt x="1102" y="1218"/>
                      </a:lnTo>
                      <a:lnTo>
                        <a:pt x="1108" y="1199"/>
                      </a:lnTo>
                      <a:lnTo>
                        <a:pt x="1108" y="1184"/>
                      </a:lnTo>
                      <a:lnTo>
                        <a:pt x="1114" y="1164"/>
                      </a:lnTo>
                      <a:lnTo>
                        <a:pt x="1114" y="1150"/>
                      </a:lnTo>
                      <a:lnTo>
                        <a:pt x="1120" y="1130"/>
                      </a:lnTo>
                      <a:lnTo>
                        <a:pt x="1120" y="1115"/>
                      </a:lnTo>
                      <a:lnTo>
                        <a:pt x="1125" y="1101"/>
                      </a:lnTo>
                      <a:lnTo>
                        <a:pt x="1125" y="1081"/>
                      </a:lnTo>
                      <a:lnTo>
                        <a:pt x="1131" y="1067"/>
                      </a:lnTo>
                      <a:lnTo>
                        <a:pt x="1131" y="1047"/>
                      </a:lnTo>
                      <a:lnTo>
                        <a:pt x="1137" y="1032"/>
                      </a:lnTo>
                      <a:lnTo>
                        <a:pt x="1137" y="1013"/>
                      </a:lnTo>
                      <a:lnTo>
                        <a:pt x="1143" y="998"/>
                      </a:lnTo>
                      <a:lnTo>
                        <a:pt x="1143" y="979"/>
                      </a:lnTo>
                      <a:lnTo>
                        <a:pt x="1148" y="959"/>
                      </a:lnTo>
                      <a:lnTo>
                        <a:pt x="1154" y="944"/>
                      </a:lnTo>
                      <a:lnTo>
                        <a:pt x="1154" y="930"/>
                      </a:lnTo>
                      <a:lnTo>
                        <a:pt x="1160" y="920"/>
                      </a:lnTo>
                      <a:lnTo>
                        <a:pt x="1154" y="905"/>
                      </a:lnTo>
                      <a:lnTo>
                        <a:pt x="1154" y="900"/>
                      </a:lnTo>
                      <a:lnTo>
                        <a:pt x="1154" y="900"/>
                      </a:lnTo>
                      <a:lnTo>
                        <a:pt x="1148" y="900"/>
                      </a:lnTo>
                      <a:lnTo>
                        <a:pt x="1148" y="900"/>
                      </a:lnTo>
                      <a:lnTo>
                        <a:pt x="1143" y="900"/>
                      </a:lnTo>
                      <a:lnTo>
                        <a:pt x="1137" y="900"/>
                      </a:lnTo>
                      <a:lnTo>
                        <a:pt x="1137" y="900"/>
                      </a:lnTo>
                      <a:lnTo>
                        <a:pt x="1131" y="900"/>
                      </a:lnTo>
                      <a:lnTo>
                        <a:pt x="1131" y="895"/>
                      </a:lnTo>
                      <a:lnTo>
                        <a:pt x="1131" y="886"/>
                      </a:lnTo>
                      <a:lnTo>
                        <a:pt x="1131" y="881"/>
                      </a:lnTo>
                      <a:lnTo>
                        <a:pt x="1125" y="876"/>
                      </a:lnTo>
                      <a:lnTo>
                        <a:pt x="1120" y="876"/>
                      </a:lnTo>
                      <a:lnTo>
                        <a:pt x="1108" y="881"/>
                      </a:lnTo>
                      <a:lnTo>
                        <a:pt x="1102" y="881"/>
                      </a:lnTo>
                      <a:lnTo>
                        <a:pt x="1097" y="881"/>
                      </a:lnTo>
                      <a:lnTo>
                        <a:pt x="1091" y="886"/>
                      </a:lnTo>
                      <a:lnTo>
                        <a:pt x="1080" y="891"/>
                      </a:lnTo>
                      <a:lnTo>
                        <a:pt x="1074" y="891"/>
                      </a:lnTo>
                      <a:lnTo>
                        <a:pt x="1062" y="895"/>
                      </a:lnTo>
                      <a:lnTo>
                        <a:pt x="1057" y="891"/>
                      </a:lnTo>
                      <a:lnTo>
                        <a:pt x="1057" y="891"/>
                      </a:lnTo>
                      <a:lnTo>
                        <a:pt x="1051" y="891"/>
                      </a:lnTo>
                      <a:lnTo>
                        <a:pt x="1045" y="886"/>
                      </a:lnTo>
                      <a:lnTo>
                        <a:pt x="1039" y="886"/>
                      </a:lnTo>
                      <a:lnTo>
                        <a:pt x="1034" y="881"/>
                      </a:lnTo>
                      <a:lnTo>
                        <a:pt x="1028" y="881"/>
                      </a:lnTo>
                      <a:lnTo>
                        <a:pt x="1022" y="876"/>
                      </a:lnTo>
                      <a:lnTo>
                        <a:pt x="1022" y="871"/>
                      </a:lnTo>
                      <a:lnTo>
                        <a:pt x="1022" y="856"/>
                      </a:lnTo>
                      <a:lnTo>
                        <a:pt x="1028" y="847"/>
                      </a:lnTo>
                      <a:lnTo>
                        <a:pt x="1022" y="842"/>
                      </a:lnTo>
                      <a:lnTo>
                        <a:pt x="1011" y="842"/>
                      </a:lnTo>
                      <a:lnTo>
                        <a:pt x="999" y="837"/>
                      </a:lnTo>
                      <a:lnTo>
                        <a:pt x="988" y="842"/>
                      </a:lnTo>
                      <a:lnTo>
                        <a:pt x="970" y="842"/>
                      </a:lnTo>
                      <a:lnTo>
                        <a:pt x="959" y="842"/>
                      </a:lnTo>
                      <a:lnTo>
                        <a:pt x="947" y="842"/>
                      </a:lnTo>
                      <a:lnTo>
                        <a:pt x="936" y="842"/>
                      </a:lnTo>
                      <a:lnTo>
                        <a:pt x="924" y="842"/>
                      </a:lnTo>
                      <a:lnTo>
                        <a:pt x="913" y="837"/>
                      </a:lnTo>
                      <a:lnTo>
                        <a:pt x="901" y="832"/>
                      </a:lnTo>
                      <a:lnTo>
                        <a:pt x="890" y="827"/>
                      </a:lnTo>
                      <a:lnTo>
                        <a:pt x="884" y="822"/>
                      </a:lnTo>
                      <a:lnTo>
                        <a:pt x="873" y="817"/>
                      </a:lnTo>
                      <a:lnTo>
                        <a:pt x="861" y="807"/>
                      </a:lnTo>
                      <a:lnTo>
                        <a:pt x="856" y="803"/>
                      </a:lnTo>
                      <a:lnTo>
                        <a:pt x="844" y="798"/>
                      </a:lnTo>
                      <a:lnTo>
                        <a:pt x="850" y="798"/>
                      </a:lnTo>
                      <a:lnTo>
                        <a:pt x="856" y="793"/>
                      </a:lnTo>
                      <a:lnTo>
                        <a:pt x="861" y="793"/>
                      </a:lnTo>
                      <a:lnTo>
                        <a:pt x="867" y="793"/>
                      </a:lnTo>
                      <a:lnTo>
                        <a:pt x="873" y="793"/>
                      </a:lnTo>
                      <a:lnTo>
                        <a:pt x="879" y="788"/>
                      </a:lnTo>
                      <a:lnTo>
                        <a:pt x="884" y="788"/>
                      </a:lnTo>
                      <a:lnTo>
                        <a:pt x="890" y="783"/>
                      </a:lnTo>
                      <a:lnTo>
                        <a:pt x="896" y="783"/>
                      </a:lnTo>
                      <a:lnTo>
                        <a:pt x="901" y="778"/>
                      </a:lnTo>
                      <a:lnTo>
                        <a:pt x="907" y="773"/>
                      </a:lnTo>
                      <a:lnTo>
                        <a:pt x="913" y="768"/>
                      </a:lnTo>
                      <a:lnTo>
                        <a:pt x="919" y="763"/>
                      </a:lnTo>
                      <a:lnTo>
                        <a:pt x="924" y="758"/>
                      </a:lnTo>
                      <a:lnTo>
                        <a:pt x="930" y="754"/>
                      </a:lnTo>
                      <a:lnTo>
                        <a:pt x="936" y="749"/>
                      </a:lnTo>
                      <a:lnTo>
                        <a:pt x="924" y="749"/>
                      </a:lnTo>
                      <a:lnTo>
                        <a:pt x="919" y="754"/>
                      </a:lnTo>
                      <a:lnTo>
                        <a:pt x="913" y="754"/>
                      </a:lnTo>
                      <a:lnTo>
                        <a:pt x="907" y="754"/>
                      </a:lnTo>
                      <a:lnTo>
                        <a:pt x="896" y="758"/>
                      </a:lnTo>
                      <a:lnTo>
                        <a:pt x="890" y="758"/>
                      </a:lnTo>
                      <a:lnTo>
                        <a:pt x="884" y="763"/>
                      </a:lnTo>
                      <a:lnTo>
                        <a:pt x="879" y="763"/>
                      </a:lnTo>
                      <a:lnTo>
                        <a:pt x="873" y="763"/>
                      </a:lnTo>
                      <a:lnTo>
                        <a:pt x="861" y="763"/>
                      </a:lnTo>
                      <a:lnTo>
                        <a:pt x="856" y="768"/>
                      </a:lnTo>
                      <a:lnTo>
                        <a:pt x="850" y="768"/>
                      </a:lnTo>
                      <a:lnTo>
                        <a:pt x="844" y="768"/>
                      </a:lnTo>
                      <a:lnTo>
                        <a:pt x="838" y="768"/>
                      </a:lnTo>
                      <a:lnTo>
                        <a:pt x="827" y="768"/>
                      </a:lnTo>
                      <a:lnTo>
                        <a:pt x="821" y="768"/>
                      </a:lnTo>
                      <a:lnTo>
                        <a:pt x="815" y="768"/>
                      </a:lnTo>
                      <a:lnTo>
                        <a:pt x="810" y="768"/>
                      </a:lnTo>
                      <a:lnTo>
                        <a:pt x="798" y="768"/>
                      </a:lnTo>
                      <a:lnTo>
                        <a:pt x="792" y="768"/>
                      </a:lnTo>
                      <a:lnTo>
                        <a:pt x="787" y="768"/>
                      </a:lnTo>
                      <a:lnTo>
                        <a:pt x="781" y="768"/>
                      </a:lnTo>
                      <a:lnTo>
                        <a:pt x="775" y="768"/>
                      </a:lnTo>
                      <a:lnTo>
                        <a:pt x="764" y="768"/>
                      </a:lnTo>
                      <a:lnTo>
                        <a:pt x="752" y="763"/>
                      </a:lnTo>
                      <a:lnTo>
                        <a:pt x="741" y="763"/>
                      </a:lnTo>
                      <a:lnTo>
                        <a:pt x="723" y="758"/>
                      </a:lnTo>
                      <a:lnTo>
                        <a:pt x="712" y="754"/>
                      </a:lnTo>
                      <a:lnTo>
                        <a:pt x="695" y="744"/>
                      </a:lnTo>
                      <a:lnTo>
                        <a:pt x="683" y="739"/>
                      </a:lnTo>
                      <a:lnTo>
                        <a:pt x="672" y="734"/>
                      </a:lnTo>
                      <a:lnTo>
                        <a:pt x="660" y="724"/>
                      </a:lnTo>
                      <a:lnTo>
                        <a:pt x="649" y="719"/>
                      </a:lnTo>
                      <a:lnTo>
                        <a:pt x="637" y="714"/>
                      </a:lnTo>
                      <a:lnTo>
                        <a:pt x="632" y="705"/>
                      </a:lnTo>
                      <a:lnTo>
                        <a:pt x="620" y="695"/>
                      </a:lnTo>
                      <a:lnTo>
                        <a:pt x="609" y="690"/>
                      </a:lnTo>
                      <a:lnTo>
                        <a:pt x="603" y="680"/>
                      </a:lnTo>
                      <a:lnTo>
                        <a:pt x="591" y="670"/>
                      </a:lnTo>
                      <a:lnTo>
                        <a:pt x="586" y="666"/>
                      </a:lnTo>
                      <a:lnTo>
                        <a:pt x="586" y="656"/>
                      </a:lnTo>
                      <a:lnTo>
                        <a:pt x="586" y="651"/>
                      </a:lnTo>
                      <a:lnTo>
                        <a:pt x="586" y="641"/>
                      </a:lnTo>
                      <a:lnTo>
                        <a:pt x="591" y="636"/>
                      </a:lnTo>
                      <a:lnTo>
                        <a:pt x="597" y="626"/>
                      </a:lnTo>
                      <a:lnTo>
                        <a:pt x="609" y="622"/>
                      </a:lnTo>
                      <a:lnTo>
                        <a:pt x="620" y="622"/>
                      </a:lnTo>
                      <a:lnTo>
                        <a:pt x="632" y="617"/>
                      </a:lnTo>
                      <a:lnTo>
                        <a:pt x="637" y="612"/>
                      </a:lnTo>
                      <a:lnTo>
                        <a:pt x="649" y="607"/>
                      </a:lnTo>
                      <a:lnTo>
                        <a:pt x="660" y="607"/>
                      </a:lnTo>
                      <a:lnTo>
                        <a:pt x="672" y="602"/>
                      </a:lnTo>
                      <a:lnTo>
                        <a:pt x="678" y="597"/>
                      </a:lnTo>
                      <a:lnTo>
                        <a:pt x="683" y="592"/>
                      </a:lnTo>
                      <a:lnTo>
                        <a:pt x="695" y="587"/>
                      </a:lnTo>
                      <a:lnTo>
                        <a:pt x="701" y="582"/>
                      </a:lnTo>
                      <a:lnTo>
                        <a:pt x="712" y="578"/>
                      </a:lnTo>
                      <a:lnTo>
                        <a:pt x="718" y="573"/>
                      </a:lnTo>
                      <a:lnTo>
                        <a:pt x="723" y="563"/>
                      </a:lnTo>
                      <a:lnTo>
                        <a:pt x="729" y="558"/>
                      </a:lnTo>
                      <a:lnTo>
                        <a:pt x="729" y="553"/>
                      </a:lnTo>
                      <a:lnTo>
                        <a:pt x="729" y="553"/>
                      </a:lnTo>
                      <a:lnTo>
                        <a:pt x="729" y="548"/>
                      </a:lnTo>
                      <a:lnTo>
                        <a:pt x="723" y="543"/>
                      </a:lnTo>
                      <a:lnTo>
                        <a:pt x="718" y="543"/>
                      </a:lnTo>
                      <a:lnTo>
                        <a:pt x="712" y="538"/>
                      </a:lnTo>
                      <a:lnTo>
                        <a:pt x="712" y="538"/>
                      </a:lnTo>
                      <a:lnTo>
                        <a:pt x="706" y="538"/>
                      </a:lnTo>
                      <a:lnTo>
                        <a:pt x="695" y="534"/>
                      </a:lnTo>
                      <a:lnTo>
                        <a:pt x="683" y="534"/>
                      </a:lnTo>
                      <a:lnTo>
                        <a:pt x="672" y="534"/>
                      </a:lnTo>
                      <a:lnTo>
                        <a:pt x="660" y="534"/>
                      </a:lnTo>
                      <a:lnTo>
                        <a:pt x="649" y="534"/>
                      </a:lnTo>
                      <a:lnTo>
                        <a:pt x="632" y="534"/>
                      </a:lnTo>
                      <a:lnTo>
                        <a:pt x="620" y="534"/>
                      </a:lnTo>
                      <a:lnTo>
                        <a:pt x="609" y="529"/>
                      </a:lnTo>
                      <a:lnTo>
                        <a:pt x="603" y="529"/>
                      </a:lnTo>
                      <a:lnTo>
                        <a:pt x="597" y="529"/>
                      </a:lnTo>
                      <a:lnTo>
                        <a:pt x="591" y="524"/>
                      </a:lnTo>
                      <a:lnTo>
                        <a:pt x="580" y="519"/>
                      </a:lnTo>
                      <a:lnTo>
                        <a:pt x="574" y="519"/>
                      </a:lnTo>
                      <a:lnTo>
                        <a:pt x="568" y="514"/>
                      </a:lnTo>
                      <a:lnTo>
                        <a:pt x="563" y="509"/>
                      </a:lnTo>
                      <a:lnTo>
                        <a:pt x="557" y="504"/>
                      </a:lnTo>
                      <a:lnTo>
                        <a:pt x="551" y="490"/>
                      </a:lnTo>
                      <a:lnTo>
                        <a:pt x="545" y="475"/>
                      </a:lnTo>
                      <a:lnTo>
                        <a:pt x="545" y="460"/>
                      </a:lnTo>
                      <a:lnTo>
                        <a:pt x="540" y="446"/>
                      </a:lnTo>
                      <a:lnTo>
                        <a:pt x="540" y="431"/>
                      </a:lnTo>
                      <a:lnTo>
                        <a:pt x="534" y="421"/>
                      </a:lnTo>
                      <a:lnTo>
                        <a:pt x="534" y="406"/>
                      </a:lnTo>
                      <a:lnTo>
                        <a:pt x="522" y="397"/>
                      </a:lnTo>
                      <a:lnTo>
                        <a:pt x="517" y="392"/>
                      </a:lnTo>
                      <a:lnTo>
                        <a:pt x="511" y="387"/>
                      </a:lnTo>
                      <a:lnTo>
                        <a:pt x="505" y="387"/>
                      </a:lnTo>
                      <a:lnTo>
                        <a:pt x="500" y="382"/>
                      </a:lnTo>
                      <a:lnTo>
                        <a:pt x="494" y="377"/>
                      </a:lnTo>
                      <a:lnTo>
                        <a:pt x="488" y="377"/>
                      </a:lnTo>
                      <a:lnTo>
                        <a:pt x="482" y="372"/>
                      </a:lnTo>
                      <a:lnTo>
                        <a:pt x="471" y="372"/>
                      </a:lnTo>
                      <a:lnTo>
                        <a:pt x="465" y="372"/>
                      </a:lnTo>
                      <a:lnTo>
                        <a:pt x="459" y="372"/>
                      </a:lnTo>
                      <a:lnTo>
                        <a:pt x="454" y="377"/>
                      </a:lnTo>
                      <a:lnTo>
                        <a:pt x="448" y="382"/>
                      </a:lnTo>
                      <a:lnTo>
                        <a:pt x="442" y="387"/>
                      </a:lnTo>
                      <a:lnTo>
                        <a:pt x="436" y="387"/>
                      </a:lnTo>
                      <a:lnTo>
                        <a:pt x="425" y="392"/>
                      </a:lnTo>
                      <a:lnTo>
                        <a:pt x="419" y="392"/>
                      </a:lnTo>
                      <a:lnTo>
                        <a:pt x="413" y="392"/>
                      </a:lnTo>
                      <a:lnTo>
                        <a:pt x="402" y="387"/>
                      </a:lnTo>
                      <a:lnTo>
                        <a:pt x="390" y="387"/>
                      </a:lnTo>
                      <a:lnTo>
                        <a:pt x="385" y="382"/>
                      </a:lnTo>
                      <a:lnTo>
                        <a:pt x="373" y="377"/>
                      </a:lnTo>
                      <a:lnTo>
                        <a:pt x="362" y="372"/>
                      </a:lnTo>
                      <a:lnTo>
                        <a:pt x="356" y="372"/>
                      </a:lnTo>
                      <a:lnTo>
                        <a:pt x="344" y="367"/>
                      </a:lnTo>
                      <a:lnTo>
                        <a:pt x="333" y="357"/>
                      </a:lnTo>
                      <a:lnTo>
                        <a:pt x="321" y="353"/>
                      </a:lnTo>
                      <a:lnTo>
                        <a:pt x="310" y="343"/>
                      </a:lnTo>
                      <a:lnTo>
                        <a:pt x="299" y="338"/>
                      </a:lnTo>
                      <a:lnTo>
                        <a:pt x="287" y="328"/>
                      </a:lnTo>
                      <a:lnTo>
                        <a:pt x="276" y="318"/>
                      </a:lnTo>
                      <a:lnTo>
                        <a:pt x="270" y="309"/>
                      </a:lnTo>
                      <a:lnTo>
                        <a:pt x="264" y="299"/>
                      </a:lnTo>
                      <a:lnTo>
                        <a:pt x="264" y="289"/>
                      </a:lnTo>
                      <a:lnTo>
                        <a:pt x="264" y="284"/>
                      </a:lnTo>
                      <a:lnTo>
                        <a:pt x="270" y="279"/>
                      </a:lnTo>
                      <a:lnTo>
                        <a:pt x="281" y="269"/>
                      </a:lnTo>
                      <a:lnTo>
                        <a:pt x="287" y="265"/>
                      </a:lnTo>
                      <a:lnTo>
                        <a:pt x="293" y="260"/>
                      </a:lnTo>
                      <a:lnTo>
                        <a:pt x="299" y="250"/>
                      </a:lnTo>
                      <a:lnTo>
                        <a:pt x="299" y="245"/>
                      </a:lnTo>
                      <a:lnTo>
                        <a:pt x="293" y="240"/>
                      </a:lnTo>
                      <a:lnTo>
                        <a:pt x="287" y="245"/>
                      </a:lnTo>
                      <a:lnTo>
                        <a:pt x="281" y="245"/>
                      </a:lnTo>
                      <a:lnTo>
                        <a:pt x="276" y="250"/>
                      </a:lnTo>
                      <a:lnTo>
                        <a:pt x="270" y="255"/>
                      </a:lnTo>
                      <a:lnTo>
                        <a:pt x="264" y="260"/>
                      </a:lnTo>
                      <a:lnTo>
                        <a:pt x="258" y="260"/>
                      </a:lnTo>
                      <a:lnTo>
                        <a:pt x="253" y="255"/>
                      </a:lnTo>
                      <a:lnTo>
                        <a:pt x="253" y="250"/>
                      </a:lnTo>
                      <a:lnTo>
                        <a:pt x="253" y="245"/>
                      </a:lnTo>
                      <a:lnTo>
                        <a:pt x="253" y="240"/>
                      </a:lnTo>
                      <a:lnTo>
                        <a:pt x="258" y="230"/>
                      </a:lnTo>
                      <a:lnTo>
                        <a:pt x="264" y="225"/>
                      </a:lnTo>
                      <a:lnTo>
                        <a:pt x="270" y="216"/>
                      </a:lnTo>
                      <a:lnTo>
                        <a:pt x="276" y="211"/>
                      </a:lnTo>
                      <a:lnTo>
                        <a:pt x="281" y="206"/>
                      </a:lnTo>
                      <a:lnTo>
                        <a:pt x="276" y="206"/>
                      </a:lnTo>
                      <a:lnTo>
                        <a:pt x="270" y="211"/>
                      </a:lnTo>
                      <a:lnTo>
                        <a:pt x="264" y="211"/>
                      </a:lnTo>
                      <a:lnTo>
                        <a:pt x="258" y="211"/>
                      </a:lnTo>
                      <a:lnTo>
                        <a:pt x="253" y="216"/>
                      </a:lnTo>
                      <a:lnTo>
                        <a:pt x="247" y="216"/>
                      </a:lnTo>
                      <a:lnTo>
                        <a:pt x="241" y="216"/>
                      </a:lnTo>
                      <a:lnTo>
                        <a:pt x="235" y="216"/>
                      </a:lnTo>
                      <a:lnTo>
                        <a:pt x="230" y="211"/>
                      </a:lnTo>
                      <a:lnTo>
                        <a:pt x="224" y="211"/>
                      </a:lnTo>
                      <a:lnTo>
                        <a:pt x="218" y="206"/>
                      </a:lnTo>
                      <a:lnTo>
                        <a:pt x="218" y="201"/>
                      </a:lnTo>
                      <a:lnTo>
                        <a:pt x="212" y="196"/>
                      </a:lnTo>
                      <a:lnTo>
                        <a:pt x="212" y="186"/>
                      </a:lnTo>
                      <a:lnTo>
                        <a:pt x="207" y="181"/>
                      </a:lnTo>
                      <a:lnTo>
                        <a:pt x="207" y="177"/>
                      </a:lnTo>
                      <a:lnTo>
                        <a:pt x="207" y="172"/>
                      </a:lnTo>
                      <a:lnTo>
                        <a:pt x="212" y="167"/>
                      </a:lnTo>
                      <a:lnTo>
                        <a:pt x="212" y="157"/>
                      </a:lnTo>
                      <a:lnTo>
                        <a:pt x="218" y="152"/>
                      </a:lnTo>
                      <a:lnTo>
                        <a:pt x="218" y="142"/>
                      </a:lnTo>
                      <a:lnTo>
                        <a:pt x="224" y="137"/>
                      </a:lnTo>
                      <a:lnTo>
                        <a:pt x="230" y="133"/>
                      </a:lnTo>
                      <a:lnTo>
                        <a:pt x="230" y="123"/>
                      </a:lnTo>
                      <a:lnTo>
                        <a:pt x="235" y="123"/>
                      </a:lnTo>
                      <a:lnTo>
                        <a:pt x="241" y="118"/>
                      </a:lnTo>
                      <a:lnTo>
                        <a:pt x="241" y="118"/>
                      </a:lnTo>
                      <a:lnTo>
                        <a:pt x="247" y="118"/>
                      </a:lnTo>
                      <a:lnTo>
                        <a:pt x="253" y="113"/>
                      </a:lnTo>
                      <a:lnTo>
                        <a:pt x="258" y="113"/>
                      </a:lnTo>
                      <a:lnTo>
                        <a:pt x="258" y="108"/>
                      </a:lnTo>
                      <a:lnTo>
                        <a:pt x="264" y="108"/>
                      </a:lnTo>
                      <a:lnTo>
                        <a:pt x="264" y="98"/>
                      </a:lnTo>
                      <a:lnTo>
                        <a:pt x="270" y="84"/>
                      </a:lnTo>
                      <a:lnTo>
                        <a:pt x="270" y="74"/>
                      </a:lnTo>
                      <a:lnTo>
                        <a:pt x="264" y="64"/>
                      </a:lnTo>
                      <a:lnTo>
                        <a:pt x="264" y="59"/>
                      </a:lnTo>
                      <a:lnTo>
                        <a:pt x="258" y="54"/>
                      </a:lnTo>
                      <a:lnTo>
                        <a:pt x="258" y="49"/>
                      </a:lnTo>
                      <a:lnTo>
                        <a:pt x="253" y="44"/>
                      </a:lnTo>
                      <a:lnTo>
                        <a:pt x="247" y="40"/>
                      </a:lnTo>
                      <a:lnTo>
                        <a:pt x="241" y="35"/>
                      </a:lnTo>
                      <a:lnTo>
                        <a:pt x="235" y="30"/>
                      </a:lnTo>
                      <a:lnTo>
                        <a:pt x="235" y="25"/>
                      </a:lnTo>
                      <a:lnTo>
                        <a:pt x="235" y="35"/>
                      </a:lnTo>
                      <a:lnTo>
                        <a:pt x="241" y="49"/>
                      </a:lnTo>
                      <a:lnTo>
                        <a:pt x="247" y="64"/>
                      </a:lnTo>
                      <a:lnTo>
                        <a:pt x="247" y="74"/>
                      </a:lnTo>
                      <a:lnTo>
                        <a:pt x="247" y="79"/>
                      </a:lnTo>
                      <a:lnTo>
                        <a:pt x="241" y="84"/>
                      </a:lnTo>
                      <a:lnTo>
                        <a:pt x="241" y="89"/>
                      </a:lnTo>
                      <a:lnTo>
                        <a:pt x="235" y="93"/>
                      </a:lnTo>
                      <a:lnTo>
                        <a:pt x="230" y="93"/>
                      </a:lnTo>
                      <a:lnTo>
                        <a:pt x="230" y="98"/>
                      </a:lnTo>
                      <a:lnTo>
                        <a:pt x="224" y="103"/>
                      </a:lnTo>
                      <a:lnTo>
                        <a:pt x="218" y="108"/>
                      </a:lnTo>
                      <a:lnTo>
                        <a:pt x="207" y="113"/>
                      </a:lnTo>
                      <a:lnTo>
                        <a:pt x="201" y="118"/>
                      </a:lnTo>
                      <a:lnTo>
                        <a:pt x="189" y="128"/>
                      </a:lnTo>
                      <a:lnTo>
                        <a:pt x="184" y="133"/>
                      </a:lnTo>
                      <a:lnTo>
                        <a:pt x="172" y="142"/>
                      </a:lnTo>
                      <a:lnTo>
                        <a:pt x="161" y="147"/>
                      </a:lnTo>
                      <a:lnTo>
                        <a:pt x="155" y="152"/>
                      </a:lnTo>
                      <a:lnTo>
                        <a:pt x="143" y="157"/>
                      </a:lnTo>
                      <a:lnTo>
                        <a:pt x="138" y="157"/>
                      </a:lnTo>
                      <a:lnTo>
                        <a:pt x="132" y="157"/>
                      </a:lnTo>
                      <a:lnTo>
                        <a:pt x="126" y="157"/>
                      </a:lnTo>
                      <a:lnTo>
                        <a:pt x="120" y="157"/>
                      </a:lnTo>
                      <a:lnTo>
                        <a:pt x="109" y="152"/>
                      </a:lnTo>
                      <a:lnTo>
                        <a:pt x="103" y="152"/>
                      </a:lnTo>
                      <a:lnTo>
                        <a:pt x="98" y="147"/>
                      </a:lnTo>
                      <a:lnTo>
                        <a:pt x="92" y="147"/>
                      </a:lnTo>
                      <a:lnTo>
                        <a:pt x="86" y="142"/>
                      </a:lnTo>
                      <a:lnTo>
                        <a:pt x="80" y="137"/>
                      </a:lnTo>
                      <a:lnTo>
                        <a:pt x="75" y="133"/>
                      </a:lnTo>
                      <a:lnTo>
                        <a:pt x="69" y="128"/>
                      </a:lnTo>
                      <a:lnTo>
                        <a:pt x="63" y="118"/>
                      </a:lnTo>
                      <a:lnTo>
                        <a:pt x="57" y="113"/>
                      </a:lnTo>
                      <a:lnTo>
                        <a:pt x="57" y="108"/>
                      </a:lnTo>
                      <a:lnTo>
                        <a:pt x="52" y="103"/>
                      </a:lnTo>
                      <a:lnTo>
                        <a:pt x="46" y="93"/>
                      </a:lnTo>
                      <a:lnTo>
                        <a:pt x="40" y="79"/>
                      </a:lnTo>
                      <a:lnTo>
                        <a:pt x="40" y="69"/>
                      </a:lnTo>
                      <a:lnTo>
                        <a:pt x="34" y="59"/>
                      </a:lnTo>
                      <a:lnTo>
                        <a:pt x="40" y="40"/>
                      </a:lnTo>
                      <a:lnTo>
                        <a:pt x="46" y="25"/>
                      </a:lnTo>
                      <a:lnTo>
                        <a:pt x="46" y="15"/>
                      </a:lnTo>
                      <a:lnTo>
                        <a:pt x="46" y="0"/>
                      </a:lnTo>
                      <a:lnTo>
                        <a:pt x="34" y="15"/>
                      </a:lnTo>
                      <a:lnTo>
                        <a:pt x="29" y="30"/>
                      </a:lnTo>
                      <a:lnTo>
                        <a:pt x="23" y="40"/>
                      </a:lnTo>
                      <a:lnTo>
                        <a:pt x="17" y="54"/>
                      </a:lnTo>
                      <a:lnTo>
                        <a:pt x="17" y="69"/>
                      </a:lnTo>
                      <a:lnTo>
                        <a:pt x="17" y="79"/>
                      </a:lnTo>
                      <a:lnTo>
                        <a:pt x="17" y="93"/>
                      </a:lnTo>
                      <a:lnTo>
                        <a:pt x="17" y="103"/>
                      </a:lnTo>
                      <a:lnTo>
                        <a:pt x="17" y="118"/>
                      </a:lnTo>
                      <a:lnTo>
                        <a:pt x="23" y="133"/>
                      </a:lnTo>
                      <a:lnTo>
                        <a:pt x="23" y="147"/>
                      </a:lnTo>
                      <a:lnTo>
                        <a:pt x="29" y="162"/>
                      </a:lnTo>
                      <a:lnTo>
                        <a:pt x="34" y="177"/>
                      </a:lnTo>
                      <a:lnTo>
                        <a:pt x="40" y="191"/>
                      </a:lnTo>
                      <a:lnTo>
                        <a:pt x="46" y="201"/>
                      </a:lnTo>
                      <a:lnTo>
                        <a:pt x="57" y="216"/>
                      </a:lnTo>
                      <a:lnTo>
                        <a:pt x="63" y="225"/>
                      </a:lnTo>
                      <a:lnTo>
                        <a:pt x="69" y="235"/>
                      </a:lnTo>
                      <a:lnTo>
                        <a:pt x="75" y="240"/>
                      </a:lnTo>
                      <a:lnTo>
                        <a:pt x="75" y="245"/>
                      </a:lnTo>
                      <a:lnTo>
                        <a:pt x="80" y="250"/>
                      </a:lnTo>
                      <a:lnTo>
                        <a:pt x="86" y="255"/>
                      </a:lnTo>
                      <a:lnTo>
                        <a:pt x="92" y="260"/>
                      </a:lnTo>
                      <a:lnTo>
                        <a:pt x="98" y="265"/>
                      </a:lnTo>
                      <a:lnTo>
                        <a:pt x="92" y="260"/>
                      </a:lnTo>
                      <a:lnTo>
                        <a:pt x="86" y="260"/>
                      </a:lnTo>
                      <a:lnTo>
                        <a:pt x="80" y="260"/>
                      </a:lnTo>
                      <a:lnTo>
                        <a:pt x="75" y="260"/>
                      </a:lnTo>
                      <a:lnTo>
                        <a:pt x="69" y="265"/>
                      </a:lnTo>
                      <a:lnTo>
                        <a:pt x="69" y="269"/>
                      </a:lnTo>
                      <a:lnTo>
                        <a:pt x="63" y="269"/>
                      </a:lnTo>
                      <a:lnTo>
                        <a:pt x="57" y="274"/>
                      </a:lnTo>
                      <a:lnTo>
                        <a:pt x="52" y="284"/>
                      </a:lnTo>
                      <a:lnTo>
                        <a:pt x="46" y="294"/>
                      </a:lnTo>
                      <a:lnTo>
                        <a:pt x="40" y="304"/>
                      </a:lnTo>
                      <a:lnTo>
                        <a:pt x="34" y="313"/>
                      </a:lnTo>
                      <a:lnTo>
                        <a:pt x="29" y="323"/>
                      </a:lnTo>
                      <a:lnTo>
                        <a:pt x="23" y="333"/>
                      </a:lnTo>
                      <a:lnTo>
                        <a:pt x="23" y="343"/>
                      </a:lnTo>
                      <a:lnTo>
                        <a:pt x="17" y="353"/>
                      </a:lnTo>
                      <a:lnTo>
                        <a:pt x="11" y="372"/>
                      </a:lnTo>
                      <a:lnTo>
                        <a:pt x="6" y="397"/>
                      </a:lnTo>
                      <a:lnTo>
                        <a:pt x="0" y="416"/>
                      </a:lnTo>
                      <a:lnTo>
                        <a:pt x="6" y="441"/>
                      </a:lnTo>
                      <a:lnTo>
                        <a:pt x="6" y="446"/>
                      </a:lnTo>
                      <a:lnTo>
                        <a:pt x="11" y="455"/>
                      </a:lnTo>
                      <a:lnTo>
                        <a:pt x="17" y="465"/>
                      </a:lnTo>
                      <a:lnTo>
                        <a:pt x="23" y="470"/>
                      </a:lnTo>
                      <a:lnTo>
                        <a:pt x="29" y="480"/>
                      </a:lnTo>
                      <a:lnTo>
                        <a:pt x="40" y="485"/>
                      </a:lnTo>
                      <a:lnTo>
                        <a:pt x="46" y="490"/>
                      </a:lnTo>
                      <a:lnTo>
                        <a:pt x="57" y="494"/>
                      </a:lnTo>
                      <a:lnTo>
                        <a:pt x="63" y="499"/>
                      </a:lnTo>
                      <a:lnTo>
                        <a:pt x="75" y="504"/>
                      </a:lnTo>
                      <a:lnTo>
                        <a:pt x="86" y="504"/>
                      </a:lnTo>
                      <a:lnTo>
                        <a:pt x="98" y="509"/>
                      </a:lnTo>
                      <a:lnTo>
                        <a:pt x="109" y="509"/>
                      </a:lnTo>
                      <a:lnTo>
                        <a:pt x="120" y="509"/>
                      </a:lnTo>
                      <a:lnTo>
                        <a:pt x="132" y="514"/>
                      </a:lnTo>
                      <a:lnTo>
                        <a:pt x="143" y="514"/>
                      </a:lnTo>
                      <a:lnTo>
                        <a:pt x="143" y="524"/>
                      </a:lnTo>
                      <a:lnTo>
                        <a:pt x="143" y="534"/>
                      </a:lnTo>
                      <a:lnTo>
                        <a:pt x="149" y="543"/>
                      </a:lnTo>
                      <a:lnTo>
                        <a:pt x="149" y="553"/>
                      </a:lnTo>
                      <a:lnTo>
                        <a:pt x="161" y="563"/>
                      </a:lnTo>
                      <a:lnTo>
                        <a:pt x="166" y="573"/>
                      </a:lnTo>
                      <a:lnTo>
                        <a:pt x="172" y="582"/>
                      </a:lnTo>
                      <a:lnTo>
                        <a:pt x="184" y="592"/>
                      </a:lnTo>
                      <a:lnTo>
                        <a:pt x="189" y="597"/>
                      </a:lnTo>
                      <a:lnTo>
                        <a:pt x="195" y="607"/>
                      </a:lnTo>
                      <a:lnTo>
                        <a:pt x="207" y="617"/>
                      </a:lnTo>
                      <a:lnTo>
                        <a:pt x="212" y="626"/>
                      </a:lnTo>
                      <a:lnTo>
                        <a:pt x="212" y="631"/>
                      </a:lnTo>
                      <a:lnTo>
                        <a:pt x="207" y="636"/>
                      </a:lnTo>
                      <a:lnTo>
                        <a:pt x="201" y="641"/>
                      </a:lnTo>
                      <a:lnTo>
                        <a:pt x="201" y="646"/>
                      </a:lnTo>
                      <a:lnTo>
                        <a:pt x="195" y="651"/>
                      </a:lnTo>
                      <a:lnTo>
                        <a:pt x="195" y="661"/>
                      </a:lnTo>
                      <a:lnTo>
                        <a:pt x="189" y="666"/>
                      </a:lnTo>
                      <a:lnTo>
                        <a:pt x="189" y="670"/>
                      </a:lnTo>
                      <a:lnTo>
                        <a:pt x="189" y="680"/>
                      </a:lnTo>
                      <a:lnTo>
                        <a:pt x="195" y="685"/>
                      </a:lnTo>
                      <a:lnTo>
                        <a:pt x="195" y="695"/>
                      </a:lnTo>
                      <a:lnTo>
                        <a:pt x="195" y="705"/>
                      </a:lnTo>
                      <a:lnTo>
                        <a:pt x="201" y="710"/>
                      </a:lnTo>
                      <a:lnTo>
                        <a:pt x="201" y="719"/>
                      </a:lnTo>
                      <a:lnTo>
                        <a:pt x="207" y="724"/>
                      </a:lnTo>
                      <a:lnTo>
                        <a:pt x="212" y="734"/>
                      </a:lnTo>
                      <a:lnTo>
                        <a:pt x="218" y="739"/>
                      </a:lnTo>
                      <a:lnTo>
                        <a:pt x="224" y="749"/>
                      </a:lnTo>
                      <a:lnTo>
                        <a:pt x="230" y="754"/>
                      </a:lnTo>
                      <a:lnTo>
                        <a:pt x="235" y="758"/>
                      </a:lnTo>
                      <a:lnTo>
                        <a:pt x="241" y="768"/>
                      </a:lnTo>
                      <a:lnTo>
                        <a:pt x="253" y="773"/>
                      </a:lnTo>
                      <a:lnTo>
                        <a:pt x="258" y="778"/>
                      </a:lnTo>
                      <a:lnTo>
                        <a:pt x="264" y="783"/>
                      </a:lnTo>
                      <a:lnTo>
                        <a:pt x="276" y="783"/>
                      </a:lnTo>
                      <a:lnTo>
                        <a:pt x="281" y="788"/>
                      </a:lnTo>
                      <a:lnTo>
                        <a:pt x="287" y="788"/>
                      </a:lnTo>
                      <a:lnTo>
                        <a:pt x="293" y="793"/>
                      </a:lnTo>
                      <a:lnTo>
                        <a:pt x="304" y="793"/>
                      </a:lnTo>
                      <a:lnTo>
                        <a:pt x="310" y="798"/>
                      </a:lnTo>
                      <a:lnTo>
                        <a:pt x="316" y="798"/>
                      </a:lnTo>
                      <a:lnTo>
                        <a:pt x="327" y="803"/>
                      </a:lnTo>
                      <a:lnTo>
                        <a:pt x="333" y="803"/>
                      </a:lnTo>
                      <a:lnTo>
                        <a:pt x="339" y="803"/>
                      </a:lnTo>
                      <a:lnTo>
                        <a:pt x="350" y="803"/>
                      </a:lnTo>
                      <a:lnTo>
                        <a:pt x="356" y="807"/>
                      </a:lnTo>
                      <a:lnTo>
                        <a:pt x="362" y="807"/>
                      </a:lnTo>
                      <a:lnTo>
                        <a:pt x="373" y="807"/>
                      </a:lnTo>
                      <a:lnTo>
                        <a:pt x="379" y="807"/>
                      </a:lnTo>
                      <a:lnTo>
                        <a:pt x="385" y="807"/>
                      </a:lnTo>
                      <a:lnTo>
                        <a:pt x="396" y="812"/>
                      </a:lnTo>
                      <a:lnTo>
                        <a:pt x="408" y="812"/>
                      </a:lnTo>
                      <a:lnTo>
                        <a:pt x="419" y="807"/>
                      </a:lnTo>
                      <a:lnTo>
                        <a:pt x="431" y="807"/>
                      </a:lnTo>
                      <a:lnTo>
                        <a:pt x="442" y="807"/>
                      </a:lnTo>
                      <a:lnTo>
                        <a:pt x="454" y="807"/>
                      </a:lnTo>
                      <a:lnTo>
                        <a:pt x="465" y="803"/>
                      </a:lnTo>
                      <a:lnTo>
                        <a:pt x="477" y="803"/>
                      </a:lnTo>
                      <a:lnTo>
                        <a:pt x="488" y="812"/>
                      </a:lnTo>
                      <a:lnTo>
                        <a:pt x="500" y="817"/>
                      </a:lnTo>
                      <a:lnTo>
                        <a:pt x="511" y="822"/>
                      </a:lnTo>
                      <a:lnTo>
                        <a:pt x="522" y="832"/>
                      </a:lnTo>
                      <a:lnTo>
                        <a:pt x="528" y="837"/>
                      </a:lnTo>
                      <a:lnTo>
                        <a:pt x="540" y="847"/>
                      </a:lnTo>
                      <a:lnTo>
                        <a:pt x="551" y="851"/>
                      </a:lnTo>
                      <a:lnTo>
                        <a:pt x="563" y="856"/>
                      </a:lnTo>
                      <a:lnTo>
                        <a:pt x="574" y="866"/>
                      </a:lnTo>
                      <a:lnTo>
                        <a:pt x="586" y="871"/>
                      </a:lnTo>
                      <a:lnTo>
                        <a:pt x="591" y="876"/>
                      </a:lnTo>
                      <a:lnTo>
                        <a:pt x="603" y="886"/>
                      </a:lnTo>
                      <a:lnTo>
                        <a:pt x="614" y="891"/>
                      </a:lnTo>
                      <a:lnTo>
                        <a:pt x="626" y="900"/>
                      </a:lnTo>
                      <a:lnTo>
                        <a:pt x="637" y="905"/>
                      </a:lnTo>
                      <a:lnTo>
                        <a:pt x="643" y="910"/>
                      </a:lnTo>
                      <a:lnTo>
                        <a:pt x="649" y="920"/>
                      </a:lnTo>
                      <a:lnTo>
                        <a:pt x="655" y="925"/>
                      </a:lnTo>
                      <a:lnTo>
                        <a:pt x="655" y="935"/>
                      </a:lnTo>
                      <a:lnTo>
                        <a:pt x="660" y="939"/>
                      </a:lnTo>
                      <a:lnTo>
                        <a:pt x="666" y="949"/>
                      </a:lnTo>
                      <a:lnTo>
                        <a:pt x="666" y="954"/>
                      </a:lnTo>
                      <a:lnTo>
                        <a:pt x="672" y="959"/>
                      </a:lnTo>
                      <a:lnTo>
                        <a:pt x="678" y="964"/>
                      </a:lnTo>
                      <a:lnTo>
                        <a:pt x="689" y="974"/>
                      </a:lnTo>
                      <a:lnTo>
                        <a:pt x="695" y="983"/>
                      </a:lnTo>
                      <a:lnTo>
                        <a:pt x="701" y="993"/>
                      </a:lnTo>
                      <a:lnTo>
                        <a:pt x="712" y="998"/>
                      </a:lnTo>
                      <a:lnTo>
                        <a:pt x="718" y="1008"/>
                      </a:lnTo>
                      <a:lnTo>
                        <a:pt x="729" y="1018"/>
                      </a:lnTo>
                      <a:lnTo>
                        <a:pt x="735" y="1023"/>
                      </a:lnTo>
                      <a:lnTo>
                        <a:pt x="746" y="1032"/>
                      </a:lnTo>
                      <a:lnTo>
                        <a:pt x="752" y="1042"/>
                      </a:lnTo>
                      <a:lnTo>
                        <a:pt x="764" y="1047"/>
                      </a:lnTo>
                      <a:lnTo>
                        <a:pt x="769" y="1057"/>
                      </a:lnTo>
                      <a:lnTo>
                        <a:pt x="781" y="1062"/>
                      </a:lnTo>
                      <a:lnTo>
                        <a:pt x="787" y="1071"/>
                      </a:lnTo>
                      <a:lnTo>
                        <a:pt x="798" y="1081"/>
                      </a:lnTo>
                      <a:lnTo>
                        <a:pt x="810" y="1086"/>
                      </a:lnTo>
                      <a:lnTo>
                        <a:pt x="815" y="1091"/>
                      </a:lnTo>
                      <a:lnTo>
                        <a:pt x="827" y="1101"/>
                      </a:lnTo>
                      <a:lnTo>
                        <a:pt x="838" y="1106"/>
                      </a:lnTo>
                      <a:lnTo>
                        <a:pt x="844" y="1115"/>
                      </a:lnTo>
                      <a:lnTo>
                        <a:pt x="856" y="1120"/>
                      </a:lnTo>
                      <a:lnTo>
                        <a:pt x="867" y="1125"/>
                      </a:lnTo>
                      <a:lnTo>
                        <a:pt x="879" y="1130"/>
                      </a:lnTo>
                      <a:lnTo>
                        <a:pt x="890" y="1140"/>
                      </a:lnTo>
                      <a:lnTo>
                        <a:pt x="901" y="1145"/>
                      </a:lnTo>
                      <a:lnTo>
                        <a:pt x="907" y="1150"/>
                      </a:lnTo>
                      <a:lnTo>
                        <a:pt x="919" y="1155"/>
                      </a:lnTo>
                      <a:lnTo>
                        <a:pt x="930" y="1160"/>
                      </a:lnTo>
                      <a:lnTo>
                        <a:pt x="942" y="1169"/>
                      </a:lnTo>
                      <a:lnTo>
                        <a:pt x="953" y="1174"/>
                      </a:lnTo>
                      <a:lnTo>
                        <a:pt x="965" y="1179"/>
                      </a:lnTo>
                      <a:lnTo>
                        <a:pt x="976" y="1184"/>
                      </a:lnTo>
                      <a:lnTo>
                        <a:pt x="988" y="1189"/>
                      </a:lnTo>
                      <a:lnTo>
                        <a:pt x="993" y="1194"/>
                      </a:lnTo>
                      <a:lnTo>
                        <a:pt x="999" y="1194"/>
                      </a:lnTo>
                      <a:lnTo>
                        <a:pt x="1005" y="1199"/>
                      </a:lnTo>
                      <a:lnTo>
                        <a:pt x="1016" y="1199"/>
                      </a:lnTo>
                      <a:lnTo>
                        <a:pt x="1022" y="1204"/>
                      </a:lnTo>
                      <a:lnTo>
                        <a:pt x="1028" y="1208"/>
                      </a:lnTo>
                      <a:lnTo>
                        <a:pt x="1039" y="1208"/>
                      </a:lnTo>
                      <a:lnTo>
                        <a:pt x="1045" y="1213"/>
                      </a:lnTo>
                      <a:lnTo>
                        <a:pt x="1051" y="1213"/>
                      </a:lnTo>
                      <a:lnTo>
                        <a:pt x="1057" y="1218"/>
                      </a:lnTo>
                      <a:lnTo>
                        <a:pt x="1068" y="1223"/>
                      </a:lnTo>
                      <a:lnTo>
                        <a:pt x="1074" y="1223"/>
                      </a:lnTo>
                      <a:lnTo>
                        <a:pt x="1080" y="1228"/>
                      </a:lnTo>
                      <a:lnTo>
                        <a:pt x="1085" y="1228"/>
                      </a:lnTo>
                      <a:lnTo>
                        <a:pt x="1097" y="1233"/>
                      </a:lnTo>
                      <a:lnTo>
                        <a:pt x="1102" y="1233"/>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7044120" y="5235120"/>
                  <a:ext cx="1223640" cy="1084680"/>
                </a:xfrm>
                <a:custGeom>
                  <a:avLst/>
                  <a:gdLst/>
                  <a:ahLst/>
                  <a:rect l="l" t="t" r="r" b="b"/>
                  <a:pathLst>
                    <a:path w="965" h="807">
                      <a:moveTo>
                        <a:pt x="58" y="0"/>
                      </a:moveTo>
                      <a:lnTo>
                        <a:pt x="46" y="0"/>
                      </a:lnTo>
                      <a:lnTo>
                        <a:pt x="35" y="0"/>
                      </a:lnTo>
                      <a:lnTo>
                        <a:pt x="23" y="9"/>
                      </a:lnTo>
                      <a:lnTo>
                        <a:pt x="17" y="14"/>
                      </a:lnTo>
                      <a:lnTo>
                        <a:pt x="12" y="24"/>
                      </a:lnTo>
                      <a:lnTo>
                        <a:pt x="12" y="34"/>
                      </a:lnTo>
                      <a:lnTo>
                        <a:pt x="6" y="44"/>
                      </a:lnTo>
                      <a:lnTo>
                        <a:pt x="0" y="49"/>
                      </a:lnTo>
                      <a:lnTo>
                        <a:pt x="6" y="49"/>
                      </a:lnTo>
                      <a:lnTo>
                        <a:pt x="17" y="53"/>
                      </a:lnTo>
                      <a:lnTo>
                        <a:pt x="23" y="53"/>
                      </a:lnTo>
                      <a:lnTo>
                        <a:pt x="29" y="58"/>
                      </a:lnTo>
                      <a:lnTo>
                        <a:pt x="40" y="58"/>
                      </a:lnTo>
                      <a:lnTo>
                        <a:pt x="46" y="63"/>
                      </a:lnTo>
                      <a:lnTo>
                        <a:pt x="52" y="63"/>
                      </a:lnTo>
                      <a:lnTo>
                        <a:pt x="58" y="68"/>
                      </a:lnTo>
                      <a:lnTo>
                        <a:pt x="63" y="78"/>
                      </a:lnTo>
                      <a:lnTo>
                        <a:pt x="69" y="83"/>
                      </a:lnTo>
                      <a:lnTo>
                        <a:pt x="75" y="93"/>
                      </a:lnTo>
                      <a:lnTo>
                        <a:pt x="80" y="102"/>
                      </a:lnTo>
                      <a:lnTo>
                        <a:pt x="80" y="112"/>
                      </a:lnTo>
                      <a:lnTo>
                        <a:pt x="80" y="117"/>
                      </a:lnTo>
                      <a:lnTo>
                        <a:pt x="86" y="122"/>
                      </a:lnTo>
                      <a:lnTo>
                        <a:pt x="86" y="132"/>
                      </a:lnTo>
                      <a:lnTo>
                        <a:pt x="86" y="137"/>
                      </a:lnTo>
                      <a:lnTo>
                        <a:pt x="92" y="141"/>
                      </a:lnTo>
                      <a:lnTo>
                        <a:pt x="92" y="146"/>
                      </a:lnTo>
                      <a:lnTo>
                        <a:pt x="98" y="156"/>
                      </a:lnTo>
                      <a:lnTo>
                        <a:pt x="103" y="156"/>
                      </a:lnTo>
                      <a:lnTo>
                        <a:pt x="109" y="156"/>
                      </a:lnTo>
                      <a:lnTo>
                        <a:pt x="115" y="161"/>
                      </a:lnTo>
                      <a:lnTo>
                        <a:pt x="121" y="161"/>
                      </a:lnTo>
                      <a:lnTo>
                        <a:pt x="126" y="161"/>
                      </a:lnTo>
                      <a:lnTo>
                        <a:pt x="132" y="161"/>
                      </a:lnTo>
                      <a:lnTo>
                        <a:pt x="138" y="161"/>
                      </a:lnTo>
                      <a:lnTo>
                        <a:pt x="144" y="161"/>
                      </a:lnTo>
                      <a:lnTo>
                        <a:pt x="155" y="161"/>
                      </a:lnTo>
                      <a:lnTo>
                        <a:pt x="161" y="161"/>
                      </a:lnTo>
                      <a:lnTo>
                        <a:pt x="172" y="166"/>
                      </a:lnTo>
                      <a:lnTo>
                        <a:pt x="178" y="166"/>
                      </a:lnTo>
                      <a:lnTo>
                        <a:pt x="190" y="166"/>
                      </a:lnTo>
                      <a:lnTo>
                        <a:pt x="201" y="171"/>
                      </a:lnTo>
                      <a:lnTo>
                        <a:pt x="207" y="171"/>
                      </a:lnTo>
                      <a:lnTo>
                        <a:pt x="213" y="176"/>
                      </a:lnTo>
                      <a:lnTo>
                        <a:pt x="218" y="186"/>
                      </a:lnTo>
                      <a:lnTo>
                        <a:pt x="218" y="195"/>
                      </a:lnTo>
                      <a:lnTo>
                        <a:pt x="218" y="205"/>
                      </a:lnTo>
                      <a:lnTo>
                        <a:pt x="218" y="220"/>
                      </a:lnTo>
                      <a:lnTo>
                        <a:pt x="218" y="225"/>
                      </a:lnTo>
                      <a:lnTo>
                        <a:pt x="213" y="234"/>
                      </a:lnTo>
                      <a:lnTo>
                        <a:pt x="213" y="239"/>
                      </a:lnTo>
                      <a:lnTo>
                        <a:pt x="207" y="244"/>
                      </a:lnTo>
                      <a:lnTo>
                        <a:pt x="195" y="249"/>
                      </a:lnTo>
                      <a:lnTo>
                        <a:pt x="178" y="249"/>
                      </a:lnTo>
                      <a:lnTo>
                        <a:pt x="167" y="254"/>
                      </a:lnTo>
                      <a:lnTo>
                        <a:pt x="155" y="254"/>
                      </a:lnTo>
                      <a:lnTo>
                        <a:pt x="144" y="254"/>
                      </a:lnTo>
                      <a:lnTo>
                        <a:pt x="132" y="254"/>
                      </a:lnTo>
                      <a:lnTo>
                        <a:pt x="115" y="254"/>
                      </a:lnTo>
                      <a:lnTo>
                        <a:pt x="103" y="254"/>
                      </a:lnTo>
                      <a:lnTo>
                        <a:pt x="115" y="259"/>
                      </a:lnTo>
                      <a:lnTo>
                        <a:pt x="126" y="259"/>
                      </a:lnTo>
                      <a:lnTo>
                        <a:pt x="138" y="264"/>
                      </a:lnTo>
                      <a:lnTo>
                        <a:pt x="149" y="264"/>
                      </a:lnTo>
                      <a:lnTo>
                        <a:pt x="161" y="269"/>
                      </a:lnTo>
                      <a:lnTo>
                        <a:pt x="172" y="274"/>
                      </a:lnTo>
                      <a:lnTo>
                        <a:pt x="184" y="274"/>
                      </a:lnTo>
                      <a:lnTo>
                        <a:pt x="195" y="274"/>
                      </a:lnTo>
                      <a:lnTo>
                        <a:pt x="201" y="274"/>
                      </a:lnTo>
                      <a:lnTo>
                        <a:pt x="207" y="274"/>
                      </a:lnTo>
                      <a:lnTo>
                        <a:pt x="213" y="274"/>
                      </a:lnTo>
                      <a:lnTo>
                        <a:pt x="218" y="274"/>
                      </a:lnTo>
                      <a:lnTo>
                        <a:pt x="224" y="269"/>
                      </a:lnTo>
                      <a:lnTo>
                        <a:pt x="230" y="269"/>
                      </a:lnTo>
                      <a:lnTo>
                        <a:pt x="241" y="269"/>
                      </a:lnTo>
                      <a:lnTo>
                        <a:pt x="247" y="269"/>
                      </a:lnTo>
                      <a:lnTo>
                        <a:pt x="253" y="269"/>
                      </a:lnTo>
                      <a:lnTo>
                        <a:pt x="264" y="269"/>
                      </a:lnTo>
                      <a:lnTo>
                        <a:pt x="276" y="274"/>
                      </a:lnTo>
                      <a:lnTo>
                        <a:pt x="287" y="274"/>
                      </a:lnTo>
                      <a:lnTo>
                        <a:pt x="293" y="274"/>
                      </a:lnTo>
                      <a:lnTo>
                        <a:pt x="304" y="278"/>
                      </a:lnTo>
                      <a:lnTo>
                        <a:pt x="316" y="278"/>
                      </a:lnTo>
                      <a:lnTo>
                        <a:pt x="322" y="283"/>
                      </a:lnTo>
                      <a:lnTo>
                        <a:pt x="327" y="288"/>
                      </a:lnTo>
                      <a:lnTo>
                        <a:pt x="339" y="293"/>
                      </a:lnTo>
                      <a:lnTo>
                        <a:pt x="345" y="303"/>
                      </a:lnTo>
                      <a:lnTo>
                        <a:pt x="350" y="308"/>
                      </a:lnTo>
                      <a:lnTo>
                        <a:pt x="356" y="313"/>
                      </a:lnTo>
                      <a:lnTo>
                        <a:pt x="362" y="322"/>
                      </a:lnTo>
                      <a:lnTo>
                        <a:pt x="362" y="327"/>
                      </a:lnTo>
                      <a:lnTo>
                        <a:pt x="368" y="337"/>
                      </a:lnTo>
                      <a:lnTo>
                        <a:pt x="368" y="347"/>
                      </a:lnTo>
                      <a:lnTo>
                        <a:pt x="368" y="357"/>
                      </a:lnTo>
                      <a:lnTo>
                        <a:pt x="362" y="366"/>
                      </a:lnTo>
                      <a:lnTo>
                        <a:pt x="350" y="371"/>
                      </a:lnTo>
                      <a:lnTo>
                        <a:pt x="345" y="376"/>
                      </a:lnTo>
                      <a:lnTo>
                        <a:pt x="333" y="381"/>
                      </a:lnTo>
                      <a:lnTo>
                        <a:pt x="322" y="381"/>
                      </a:lnTo>
                      <a:lnTo>
                        <a:pt x="316" y="381"/>
                      </a:lnTo>
                      <a:lnTo>
                        <a:pt x="304" y="381"/>
                      </a:lnTo>
                      <a:lnTo>
                        <a:pt x="293" y="381"/>
                      </a:lnTo>
                      <a:lnTo>
                        <a:pt x="281" y="381"/>
                      </a:lnTo>
                      <a:lnTo>
                        <a:pt x="276" y="381"/>
                      </a:lnTo>
                      <a:lnTo>
                        <a:pt x="264" y="381"/>
                      </a:lnTo>
                      <a:lnTo>
                        <a:pt x="259" y="386"/>
                      </a:lnTo>
                      <a:lnTo>
                        <a:pt x="247" y="386"/>
                      </a:lnTo>
                      <a:lnTo>
                        <a:pt x="241" y="386"/>
                      </a:lnTo>
                      <a:lnTo>
                        <a:pt x="230" y="391"/>
                      </a:lnTo>
                      <a:lnTo>
                        <a:pt x="224" y="391"/>
                      </a:lnTo>
                      <a:lnTo>
                        <a:pt x="213" y="391"/>
                      </a:lnTo>
                      <a:lnTo>
                        <a:pt x="207" y="396"/>
                      </a:lnTo>
                      <a:lnTo>
                        <a:pt x="213" y="396"/>
                      </a:lnTo>
                      <a:lnTo>
                        <a:pt x="224" y="396"/>
                      </a:lnTo>
                      <a:lnTo>
                        <a:pt x="230" y="396"/>
                      </a:lnTo>
                      <a:lnTo>
                        <a:pt x="236" y="396"/>
                      </a:lnTo>
                      <a:lnTo>
                        <a:pt x="241" y="396"/>
                      </a:lnTo>
                      <a:lnTo>
                        <a:pt x="253" y="401"/>
                      </a:lnTo>
                      <a:lnTo>
                        <a:pt x="259" y="401"/>
                      </a:lnTo>
                      <a:lnTo>
                        <a:pt x="264" y="401"/>
                      </a:lnTo>
                      <a:lnTo>
                        <a:pt x="276" y="401"/>
                      </a:lnTo>
                      <a:lnTo>
                        <a:pt x="281" y="401"/>
                      </a:lnTo>
                      <a:lnTo>
                        <a:pt x="287" y="401"/>
                      </a:lnTo>
                      <a:lnTo>
                        <a:pt x="293" y="406"/>
                      </a:lnTo>
                      <a:lnTo>
                        <a:pt x="304" y="406"/>
                      </a:lnTo>
                      <a:lnTo>
                        <a:pt x="310" y="406"/>
                      </a:lnTo>
                      <a:lnTo>
                        <a:pt x="316" y="406"/>
                      </a:lnTo>
                      <a:lnTo>
                        <a:pt x="327" y="406"/>
                      </a:lnTo>
                      <a:lnTo>
                        <a:pt x="327" y="410"/>
                      </a:lnTo>
                      <a:lnTo>
                        <a:pt x="333" y="410"/>
                      </a:lnTo>
                      <a:lnTo>
                        <a:pt x="339" y="410"/>
                      </a:lnTo>
                      <a:lnTo>
                        <a:pt x="345" y="410"/>
                      </a:lnTo>
                      <a:lnTo>
                        <a:pt x="350" y="410"/>
                      </a:lnTo>
                      <a:lnTo>
                        <a:pt x="356" y="415"/>
                      </a:lnTo>
                      <a:lnTo>
                        <a:pt x="356" y="415"/>
                      </a:lnTo>
                      <a:lnTo>
                        <a:pt x="362" y="420"/>
                      </a:lnTo>
                      <a:lnTo>
                        <a:pt x="362" y="430"/>
                      </a:lnTo>
                      <a:lnTo>
                        <a:pt x="362" y="440"/>
                      </a:lnTo>
                      <a:lnTo>
                        <a:pt x="356" y="454"/>
                      </a:lnTo>
                      <a:lnTo>
                        <a:pt x="350" y="464"/>
                      </a:lnTo>
                      <a:lnTo>
                        <a:pt x="350" y="474"/>
                      </a:lnTo>
                      <a:lnTo>
                        <a:pt x="350" y="489"/>
                      </a:lnTo>
                      <a:lnTo>
                        <a:pt x="350" y="498"/>
                      </a:lnTo>
                      <a:lnTo>
                        <a:pt x="345" y="508"/>
                      </a:lnTo>
                      <a:lnTo>
                        <a:pt x="339" y="513"/>
                      </a:lnTo>
                      <a:lnTo>
                        <a:pt x="333" y="513"/>
                      </a:lnTo>
                      <a:lnTo>
                        <a:pt x="327" y="518"/>
                      </a:lnTo>
                      <a:lnTo>
                        <a:pt x="322" y="518"/>
                      </a:lnTo>
                      <a:lnTo>
                        <a:pt x="316" y="518"/>
                      </a:lnTo>
                      <a:lnTo>
                        <a:pt x="304" y="518"/>
                      </a:lnTo>
                      <a:lnTo>
                        <a:pt x="299" y="518"/>
                      </a:lnTo>
                      <a:lnTo>
                        <a:pt x="293" y="523"/>
                      </a:lnTo>
                      <a:lnTo>
                        <a:pt x="299" y="523"/>
                      </a:lnTo>
                      <a:lnTo>
                        <a:pt x="304" y="528"/>
                      </a:lnTo>
                      <a:lnTo>
                        <a:pt x="316" y="533"/>
                      </a:lnTo>
                      <a:lnTo>
                        <a:pt x="322" y="538"/>
                      </a:lnTo>
                      <a:lnTo>
                        <a:pt x="327" y="543"/>
                      </a:lnTo>
                      <a:lnTo>
                        <a:pt x="333" y="543"/>
                      </a:lnTo>
                      <a:lnTo>
                        <a:pt x="339" y="547"/>
                      </a:lnTo>
                      <a:lnTo>
                        <a:pt x="350" y="547"/>
                      </a:lnTo>
                      <a:lnTo>
                        <a:pt x="362" y="552"/>
                      </a:lnTo>
                      <a:lnTo>
                        <a:pt x="373" y="552"/>
                      </a:lnTo>
                      <a:lnTo>
                        <a:pt x="379" y="547"/>
                      </a:lnTo>
                      <a:lnTo>
                        <a:pt x="396" y="547"/>
                      </a:lnTo>
                      <a:lnTo>
                        <a:pt x="408" y="543"/>
                      </a:lnTo>
                      <a:lnTo>
                        <a:pt x="414" y="543"/>
                      </a:lnTo>
                      <a:lnTo>
                        <a:pt x="425" y="543"/>
                      </a:lnTo>
                      <a:lnTo>
                        <a:pt x="437" y="543"/>
                      </a:lnTo>
                      <a:lnTo>
                        <a:pt x="448" y="547"/>
                      </a:lnTo>
                      <a:lnTo>
                        <a:pt x="460" y="557"/>
                      </a:lnTo>
                      <a:lnTo>
                        <a:pt x="471" y="562"/>
                      </a:lnTo>
                      <a:lnTo>
                        <a:pt x="482" y="567"/>
                      </a:lnTo>
                      <a:lnTo>
                        <a:pt x="494" y="572"/>
                      </a:lnTo>
                      <a:lnTo>
                        <a:pt x="505" y="577"/>
                      </a:lnTo>
                      <a:lnTo>
                        <a:pt x="517" y="587"/>
                      </a:lnTo>
                      <a:lnTo>
                        <a:pt x="528" y="591"/>
                      </a:lnTo>
                      <a:lnTo>
                        <a:pt x="534" y="601"/>
                      </a:lnTo>
                      <a:lnTo>
                        <a:pt x="546" y="606"/>
                      </a:lnTo>
                      <a:lnTo>
                        <a:pt x="557" y="616"/>
                      </a:lnTo>
                      <a:lnTo>
                        <a:pt x="569" y="621"/>
                      </a:lnTo>
                      <a:lnTo>
                        <a:pt x="574" y="631"/>
                      </a:lnTo>
                      <a:lnTo>
                        <a:pt x="586" y="635"/>
                      </a:lnTo>
                      <a:lnTo>
                        <a:pt x="597" y="645"/>
                      </a:lnTo>
                      <a:lnTo>
                        <a:pt x="603" y="655"/>
                      </a:lnTo>
                      <a:lnTo>
                        <a:pt x="609" y="660"/>
                      </a:lnTo>
                      <a:lnTo>
                        <a:pt x="615" y="665"/>
                      </a:lnTo>
                      <a:lnTo>
                        <a:pt x="620" y="675"/>
                      </a:lnTo>
                      <a:lnTo>
                        <a:pt x="626" y="679"/>
                      </a:lnTo>
                      <a:lnTo>
                        <a:pt x="632" y="689"/>
                      </a:lnTo>
                      <a:lnTo>
                        <a:pt x="638" y="704"/>
                      </a:lnTo>
                      <a:lnTo>
                        <a:pt x="643" y="714"/>
                      </a:lnTo>
                      <a:lnTo>
                        <a:pt x="655" y="723"/>
                      </a:lnTo>
                      <a:lnTo>
                        <a:pt x="666" y="733"/>
                      </a:lnTo>
                      <a:lnTo>
                        <a:pt x="678" y="738"/>
                      </a:lnTo>
                      <a:lnTo>
                        <a:pt x="683" y="743"/>
                      </a:lnTo>
                      <a:lnTo>
                        <a:pt x="695" y="748"/>
                      </a:lnTo>
                      <a:lnTo>
                        <a:pt x="706" y="753"/>
                      </a:lnTo>
                      <a:lnTo>
                        <a:pt x="712" y="758"/>
                      </a:lnTo>
                      <a:lnTo>
                        <a:pt x="718" y="763"/>
                      </a:lnTo>
                      <a:lnTo>
                        <a:pt x="729" y="763"/>
                      </a:lnTo>
                      <a:lnTo>
                        <a:pt x="735" y="767"/>
                      </a:lnTo>
                      <a:lnTo>
                        <a:pt x="741" y="772"/>
                      </a:lnTo>
                      <a:lnTo>
                        <a:pt x="752" y="777"/>
                      </a:lnTo>
                      <a:lnTo>
                        <a:pt x="758" y="777"/>
                      </a:lnTo>
                      <a:lnTo>
                        <a:pt x="764" y="782"/>
                      </a:lnTo>
                      <a:lnTo>
                        <a:pt x="770" y="782"/>
                      </a:lnTo>
                      <a:lnTo>
                        <a:pt x="775" y="787"/>
                      </a:lnTo>
                      <a:lnTo>
                        <a:pt x="787" y="787"/>
                      </a:lnTo>
                      <a:lnTo>
                        <a:pt x="793" y="792"/>
                      </a:lnTo>
                      <a:lnTo>
                        <a:pt x="798" y="792"/>
                      </a:lnTo>
                      <a:lnTo>
                        <a:pt x="810" y="797"/>
                      </a:lnTo>
                      <a:lnTo>
                        <a:pt x="816" y="797"/>
                      </a:lnTo>
                      <a:lnTo>
                        <a:pt x="821" y="802"/>
                      </a:lnTo>
                      <a:lnTo>
                        <a:pt x="833" y="802"/>
                      </a:lnTo>
                      <a:lnTo>
                        <a:pt x="839" y="807"/>
                      </a:lnTo>
                      <a:lnTo>
                        <a:pt x="850" y="807"/>
                      </a:lnTo>
                      <a:lnTo>
                        <a:pt x="850" y="807"/>
                      </a:lnTo>
                      <a:lnTo>
                        <a:pt x="856" y="807"/>
                      </a:lnTo>
                      <a:lnTo>
                        <a:pt x="861" y="807"/>
                      </a:lnTo>
                      <a:lnTo>
                        <a:pt x="867" y="807"/>
                      </a:lnTo>
                      <a:lnTo>
                        <a:pt x="867" y="807"/>
                      </a:lnTo>
                      <a:lnTo>
                        <a:pt x="873" y="807"/>
                      </a:lnTo>
                      <a:lnTo>
                        <a:pt x="879" y="807"/>
                      </a:lnTo>
                      <a:lnTo>
                        <a:pt x="879" y="802"/>
                      </a:lnTo>
                      <a:lnTo>
                        <a:pt x="884" y="797"/>
                      </a:lnTo>
                      <a:lnTo>
                        <a:pt x="879" y="792"/>
                      </a:lnTo>
                      <a:lnTo>
                        <a:pt x="879" y="787"/>
                      </a:lnTo>
                      <a:lnTo>
                        <a:pt x="879" y="782"/>
                      </a:lnTo>
                      <a:lnTo>
                        <a:pt x="884" y="777"/>
                      </a:lnTo>
                      <a:lnTo>
                        <a:pt x="884" y="777"/>
                      </a:lnTo>
                      <a:lnTo>
                        <a:pt x="890" y="777"/>
                      </a:lnTo>
                      <a:lnTo>
                        <a:pt x="896" y="782"/>
                      </a:lnTo>
                      <a:lnTo>
                        <a:pt x="902" y="782"/>
                      </a:lnTo>
                      <a:lnTo>
                        <a:pt x="907" y="782"/>
                      </a:lnTo>
                      <a:lnTo>
                        <a:pt x="913" y="782"/>
                      </a:lnTo>
                      <a:lnTo>
                        <a:pt x="919" y="782"/>
                      </a:lnTo>
                      <a:lnTo>
                        <a:pt x="925" y="782"/>
                      </a:lnTo>
                      <a:lnTo>
                        <a:pt x="925" y="782"/>
                      </a:lnTo>
                      <a:lnTo>
                        <a:pt x="930" y="782"/>
                      </a:lnTo>
                      <a:lnTo>
                        <a:pt x="930" y="782"/>
                      </a:lnTo>
                      <a:lnTo>
                        <a:pt x="936" y="782"/>
                      </a:lnTo>
                      <a:lnTo>
                        <a:pt x="942" y="777"/>
                      </a:lnTo>
                      <a:lnTo>
                        <a:pt x="942" y="777"/>
                      </a:lnTo>
                      <a:lnTo>
                        <a:pt x="942" y="772"/>
                      </a:lnTo>
                      <a:lnTo>
                        <a:pt x="948" y="767"/>
                      </a:lnTo>
                      <a:lnTo>
                        <a:pt x="948" y="758"/>
                      </a:lnTo>
                      <a:lnTo>
                        <a:pt x="948" y="748"/>
                      </a:lnTo>
                      <a:lnTo>
                        <a:pt x="948" y="738"/>
                      </a:lnTo>
                      <a:lnTo>
                        <a:pt x="953" y="733"/>
                      </a:lnTo>
                      <a:lnTo>
                        <a:pt x="959" y="728"/>
                      </a:lnTo>
                      <a:lnTo>
                        <a:pt x="965" y="723"/>
                      </a:lnTo>
                      <a:lnTo>
                        <a:pt x="965" y="714"/>
                      </a:lnTo>
                      <a:lnTo>
                        <a:pt x="965" y="714"/>
                      </a:lnTo>
                      <a:lnTo>
                        <a:pt x="959" y="709"/>
                      </a:lnTo>
                      <a:lnTo>
                        <a:pt x="959" y="709"/>
                      </a:lnTo>
                      <a:lnTo>
                        <a:pt x="953" y="704"/>
                      </a:lnTo>
                      <a:lnTo>
                        <a:pt x="953" y="704"/>
                      </a:lnTo>
                      <a:lnTo>
                        <a:pt x="948" y="704"/>
                      </a:lnTo>
                      <a:lnTo>
                        <a:pt x="948" y="704"/>
                      </a:lnTo>
                      <a:lnTo>
                        <a:pt x="942" y="704"/>
                      </a:lnTo>
                      <a:lnTo>
                        <a:pt x="930" y="704"/>
                      </a:lnTo>
                      <a:lnTo>
                        <a:pt x="919" y="704"/>
                      </a:lnTo>
                      <a:lnTo>
                        <a:pt x="913" y="709"/>
                      </a:lnTo>
                      <a:lnTo>
                        <a:pt x="902" y="714"/>
                      </a:lnTo>
                      <a:lnTo>
                        <a:pt x="890" y="719"/>
                      </a:lnTo>
                      <a:lnTo>
                        <a:pt x="879" y="719"/>
                      </a:lnTo>
                      <a:lnTo>
                        <a:pt x="873" y="723"/>
                      </a:lnTo>
                      <a:lnTo>
                        <a:pt x="861" y="719"/>
                      </a:lnTo>
                      <a:lnTo>
                        <a:pt x="850" y="719"/>
                      </a:lnTo>
                      <a:lnTo>
                        <a:pt x="839" y="714"/>
                      </a:lnTo>
                      <a:lnTo>
                        <a:pt x="833" y="714"/>
                      </a:lnTo>
                      <a:lnTo>
                        <a:pt x="821" y="709"/>
                      </a:lnTo>
                      <a:lnTo>
                        <a:pt x="810" y="704"/>
                      </a:lnTo>
                      <a:lnTo>
                        <a:pt x="804" y="704"/>
                      </a:lnTo>
                      <a:lnTo>
                        <a:pt x="793" y="699"/>
                      </a:lnTo>
                      <a:lnTo>
                        <a:pt x="781" y="694"/>
                      </a:lnTo>
                      <a:lnTo>
                        <a:pt x="775" y="689"/>
                      </a:lnTo>
                      <a:lnTo>
                        <a:pt x="764" y="684"/>
                      </a:lnTo>
                      <a:lnTo>
                        <a:pt x="758" y="679"/>
                      </a:lnTo>
                      <a:lnTo>
                        <a:pt x="747" y="675"/>
                      </a:lnTo>
                      <a:lnTo>
                        <a:pt x="741" y="670"/>
                      </a:lnTo>
                      <a:lnTo>
                        <a:pt x="729" y="665"/>
                      </a:lnTo>
                      <a:lnTo>
                        <a:pt x="724" y="660"/>
                      </a:lnTo>
                      <a:lnTo>
                        <a:pt x="712" y="655"/>
                      </a:lnTo>
                      <a:lnTo>
                        <a:pt x="706" y="650"/>
                      </a:lnTo>
                      <a:lnTo>
                        <a:pt x="701" y="645"/>
                      </a:lnTo>
                      <a:lnTo>
                        <a:pt x="689" y="640"/>
                      </a:lnTo>
                      <a:lnTo>
                        <a:pt x="683" y="635"/>
                      </a:lnTo>
                      <a:lnTo>
                        <a:pt x="678" y="631"/>
                      </a:lnTo>
                      <a:lnTo>
                        <a:pt x="672" y="626"/>
                      </a:lnTo>
                      <a:lnTo>
                        <a:pt x="661" y="621"/>
                      </a:lnTo>
                      <a:lnTo>
                        <a:pt x="655" y="616"/>
                      </a:lnTo>
                      <a:lnTo>
                        <a:pt x="649" y="606"/>
                      </a:lnTo>
                      <a:lnTo>
                        <a:pt x="643" y="601"/>
                      </a:lnTo>
                      <a:lnTo>
                        <a:pt x="638" y="596"/>
                      </a:lnTo>
                      <a:lnTo>
                        <a:pt x="626" y="591"/>
                      </a:lnTo>
                      <a:lnTo>
                        <a:pt x="620" y="587"/>
                      </a:lnTo>
                      <a:lnTo>
                        <a:pt x="615" y="582"/>
                      </a:lnTo>
                      <a:lnTo>
                        <a:pt x="609" y="577"/>
                      </a:lnTo>
                      <a:lnTo>
                        <a:pt x="597" y="572"/>
                      </a:lnTo>
                      <a:lnTo>
                        <a:pt x="592" y="567"/>
                      </a:lnTo>
                      <a:lnTo>
                        <a:pt x="586" y="562"/>
                      </a:lnTo>
                      <a:lnTo>
                        <a:pt x="574" y="562"/>
                      </a:lnTo>
                      <a:lnTo>
                        <a:pt x="569" y="557"/>
                      </a:lnTo>
                      <a:lnTo>
                        <a:pt x="557" y="557"/>
                      </a:lnTo>
                      <a:lnTo>
                        <a:pt x="551" y="552"/>
                      </a:lnTo>
                      <a:lnTo>
                        <a:pt x="540" y="547"/>
                      </a:lnTo>
                      <a:lnTo>
                        <a:pt x="534" y="547"/>
                      </a:lnTo>
                      <a:lnTo>
                        <a:pt x="523" y="538"/>
                      </a:lnTo>
                      <a:lnTo>
                        <a:pt x="517" y="533"/>
                      </a:lnTo>
                      <a:lnTo>
                        <a:pt x="505" y="528"/>
                      </a:lnTo>
                      <a:lnTo>
                        <a:pt x="500" y="518"/>
                      </a:lnTo>
                      <a:lnTo>
                        <a:pt x="488" y="513"/>
                      </a:lnTo>
                      <a:lnTo>
                        <a:pt x="482" y="508"/>
                      </a:lnTo>
                      <a:lnTo>
                        <a:pt x="477" y="498"/>
                      </a:lnTo>
                      <a:lnTo>
                        <a:pt x="471" y="489"/>
                      </a:lnTo>
                      <a:lnTo>
                        <a:pt x="460" y="479"/>
                      </a:lnTo>
                      <a:lnTo>
                        <a:pt x="454" y="464"/>
                      </a:lnTo>
                      <a:lnTo>
                        <a:pt x="448" y="450"/>
                      </a:lnTo>
                      <a:lnTo>
                        <a:pt x="437" y="430"/>
                      </a:lnTo>
                      <a:lnTo>
                        <a:pt x="431" y="415"/>
                      </a:lnTo>
                      <a:lnTo>
                        <a:pt x="425" y="401"/>
                      </a:lnTo>
                      <a:lnTo>
                        <a:pt x="419" y="386"/>
                      </a:lnTo>
                      <a:lnTo>
                        <a:pt x="414" y="371"/>
                      </a:lnTo>
                      <a:lnTo>
                        <a:pt x="408" y="347"/>
                      </a:lnTo>
                      <a:lnTo>
                        <a:pt x="402" y="322"/>
                      </a:lnTo>
                      <a:lnTo>
                        <a:pt x="402" y="303"/>
                      </a:lnTo>
                      <a:lnTo>
                        <a:pt x="396" y="278"/>
                      </a:lnTo>
                      <a:lnTo>
                        <a:pt x="396" y="274"/>
                      </a:lnTo>
                      <a:lnTo>
                        <a:pt x="396" y="269"/>
                      </a:lnTo>
                      <a:lnTo>
                        <a:pt x="391" y="259"/>
                      </a:lnTo>
                      <a:lnTo>
                        <a:pt x="391" y="254"/>
                      </a:lnTo>
                      <a:lnTo>
                        <a:pt x="385" y="249"/>
                      </a:lnTo>
                      <a:lnTo>
                        <a:pt x="385" y="244"/>
                      </a:lnTo>
                      <a:lnTo>
                        <a:pt x="379" y="239"/>
                      </a:lnTo>
                      <a:lnTo>
                        <a:pt x="373" y="234"/>
                      </a:lnTo>
                      <a:lnTo>
                        <a:pt x="368" y="230"/>
                      </a:lnTo>
                      <a:lnTo>
                        <a:pt x="362" y="225"/>
                      </a:lnTo>
                      <a:lnTo>
                        <a:pt x="356" y="225"/>
                      </a:lnTo>
                      <a:lnTo>
                        <a:pt x="350" y="220"/>
                      </a:lnTo>
                      <a:lnTo>
                        <a:pt x="339" y="215"/>
                      </a:lnTo>
                      <a:lnTo>
                        <a:pt x="333" y="215"/>
                      </a:lnTo>
                      <a:lnTo>
                        <a:pt x="327" y="210"/>
                      </a:lnTo>
                      <a:lnTo>
                        <a:pt x="322" y="205"/>
                      </a:lnTo>
                      <a:lnTo>
                        <a:pt x="310" y="200"/>
                      </a:lnTo>
                      <a:lnTo>
                        <a:pt x="304" y="195"/>
                      </a:lnTo>
                      <a:lnTo>
                        <a:pt x="293" y="186"/>
                      </a:lnTo>
                      <a:lnTo>
                        <a:pt x="287" y="181"/>
                      </a:lnTo>
                      <a:lnTo>
                        <a:pt x="276" y="176"/>
                      </a:lnTo>
                      <a:lnTo>
                        <a:pt x="270" y="166"/>
                      </a:lnTo>
                      <a:lnTo>
                        <a:pt x="259" y="161"/>
                      </a:lnTo>
                      <a:lnTo>
                        <a:pt x="253" y="156"/>
                      </a:lnTo>
                      <a:lnTo>
                        <a:pt x="241" y="146"/>
                      </a:lnTo>
                      <a:lnTo>
                        <a:pt x="236" y="141"/>
                      </a:lnTo>
                      <a:lnTo>
                        <a:pt x="224" y="137"/>
                      </a:lnTo>
                      <a:lnTo>
                        <a:pt x="218" y="127"/>
                      </a:lnTo>
                      <a:lnTo>
                        <a:pt x="207" y="122"/>
                      </a:lnTo>
                      <a:lnTo>
                        <a:pt x="201" y="112"/>
                      </a:lnTo>
                      <a:lnTo>
                        <a:pt x="195" y="107"/>
                      </a:lnTo>
                      <a:lnTo>
                        <a:pt x="184" y="102"/>
                      </a:lnTo>
                      <a:lnTo>
                        <a:pt x="178" y="93"/>
                      </a:lnTo>
                      <a:lnTo>
                        <a:pt x="167" y="88"/>
                      </a:lnTo>
                      <a:lnTo>
                        <a:pt x="161" y="83"/>
                      </a:lnTo>
                      <a:lnTo>
                        <a:pt x="149" y="73"/>
                      </a:lnTo>
                      <a:lnTo>
                        <a:pt x="144" y="68"/>
                      </a:lnTo>
                      <a:lnTo>
                        <a:pt x="132" y="58"/>
                      </a:lnTo>
                      <a:lnTo>
                        <a:pt x="126" y="53"/>
                      </a:lnTo>
                      <a:lnTo>
                        <a:pt x="115" y="44"/>
                      </a:lnTo>
                      <a:lnTo>
                        <a:pt x="109" y="44"/>
                      </a:lnTo>
                      <a:lnTo>
                        <a:pt x="98" y="39"/>
                      </a:lnTo>
                      <a:lnTo>
                        <a:pt x="92" y="34"/>
                      </a:lnTo>
                      <a:lnTo>
                        <a:pt x="86" y="24"/>
                      </a:lnTo>
                      <a:lnTo>
                        <a:pt x="75" y="19"/>
                      </a:lnTo>
                      <a:lnTo>
                        <a:pt x="69" y="14"/>
                      </a:lnTo>
                      <a:lnTo>
                        <a:pt x="63" y="9"/>
                      </a:lnTo>
                      <a:lnTo>
                        <a:pt x="58"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175160" y="5464800"/>
                  <a:ext cx="131400" cy="91440"/>
                </a:xfrm>
                <a:custGeom>
                  <a:avLst/>
                  <a:gdLst/>
                  <a:ahLst/>
                  <a:rect l="l" t="t" r="r" b="b"/>
                  <a:pathLst>
                    <a:path w="104" h="68">
                      <a:moveTo>
                        <a:pt x="92" y="19"/>
                      </a:moveTo>
                      <a:lnTo>
                        <a:pt x="98" y="24"/>
                      </a:lnTo>
                      <a:lnTo>
                        <a:pt x="104" y="29"/>
                      </a:lnTo>
                      <a:lnTo>
                        <a:pt x="104" y="34"/>
                      </a:lnTo>
                      <a:lnTo>
                        <a:pt x="98" y="44"/>
                      </a:lnTo>
                      <a:lnTo>
                        <a:pt x="98" y="49"/>
                      </a:lnTo>
                      <a:lnTo>
                        <a:pt x="92" y="54"/>
                      </a:lnTo>
                      <a:lnTo>
                        <a:pt x="92" y="59"/>
                      </a:lnTo>
                      <a:lnTo>
                        <a:pt x="87" y="63"/>
                      </a:lnTo>
                      <a:lnTo>
                        <a:pt x="81" y="68"/>
                      </a:lnTo>
                      <a:lnTo>
                        <a:pt x="69" y="68"/>
                      </a:lnTo>
                      <a:lnTo>
                        <a:pt x="58" y="68"/>
                      </a:lnTo>
                      <a:lnTo>
                        <a:pt x="46" y="63"/>
                      </a:lnTo>
                      <a:lnTo>
                        <a:pt x="35" y="59"/>
                      </a:lnTo>
                      <a:lnTo>
                        <a:pt x="23" y="59"/>
                      </a:lnTo>
                      <a:lnTo>
                        <a:pt x="18" y="54"/>
                      </a:lnTo>
                      <a:lnTo>
                        <a:pt x="12" y="49"/>
                      </a:lnTo>
                      <a:lnTo>
                        <a:pt x="6" y="44"/>
                      </a:lnTo>
                      <a:lnTo>
                        <a:pt x="0" y="39"/>
                      </a:lnTo>
                      <a:lnTo>
                        <a:pt x="0" y="29"/>
                      </a:lnTo>
                      <a:lnTo>
                        <a:pt x="6" y="24"/>
                      </a:lnTo>
                      <a:lnTo>
                        <a:pt x="6" y="19"/>
                      </a:lnTo>
                      <a:lnTo>
                        <a:pt x="12" y="15"/>
                      </a:lnTo>
                      <a:lnTo>
                        <a:pt x="18" y="10"/>
                      </a:lnTo>
                      <a:lnTo>
                        <a:pt x="23" y="5"/>
                      </a:lnTo>
                      <a:lnTo>
                        <a:pt x="29" y="0"/>
                      </a:lnTo>
                      <a:lnTo>
                        <a:pt x="35" y="0"/>
                      </a:lnTo>
                      <a:lnTo>
                        <a:pt x="46" y="0"/>
                      </a:lnTo>
                      <a:lnTo>
                        <a:pt x="58" y="5"/>
                      </a:lnTo>
                      <a:lnTo>
                        <a:pt x="69" y="5"/>
                      </a:lnTo>
                      <a:lnTo>
                        <a:pt x="81" y="10"/>
                      </a:lnTo>
                      <a:lnTo>
                        <a:pt x="87" y="15"/>
                      </a:lnTo>
                      <a:lnTo>
                        <a:pt x="92" y="19"/>
                      </a:lnTo>
                      <a:close/>
                    </a:path>
                  </a:pathLst>
                </a:custGeom>
                <a:solidFill>
                  <a:srgbClr val="ffffff"/>
                </a:soli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262280" y="5622120"/>
                  <a:ext cx="211320" cy="111240"/>
                </a:xfrm>
                <a:custGeom>
                  <a:avLst/>
                  <a:gdLst/>
                  <a:ahLst/>
                  <a:rect l="l" t="t" r="r" b="b"/>
                  <a:pathLst>
                    <a:path w="167" h="83">
                      <a:moveTo>
                        <a:pt x="41" y="10"/>
                      </a:moveTo>
                      <a:lnTo>
                        <a:pt x="52" y="15"/>
                      </a:lnTo>
                      <a:lnTo>
                        <a:pt x="52" y="15"/>
                      </a:lnTo>
                      <a:lnTo>
                        <a:pt x="64" y="15"/>
                      </a:lnTo>
                      <a:lnTo>
                        <a:pt x="69" y="15"/>
                      </a:lnTo>
                      <a:lnTo>
                        <a:pt x="75" y="15"/>
                      </a:lnTo>
                      <a:lnTo>
                        <a:pt x="81" y="15"/>
                      </a:lnTo>
                      <a:lnTo>
                        <a:pt x="87" y="15"/>
                      </a:lnTo>
                      <a:lnTo>
                        <a:pt x="92" y="15"/>
                      </a:lnTo>
                      <a:lnTo>
                        <a:pt x="98" y="15"/>
                      </a:lnTo>
                      <a:lnTo>
                        <a:pt x="104" y="15"/>
                      </a:lnTo>
                      <a:lnTo>
                        <a:pt x="109" y="15"/>
                      </a:lnTo>
                      <a:lnTo>
                        <a:pt x="121" y="15"/>
                      </a:lnTo>
                      <a:lnTo>
                        <a:pt x="127" y="15"/>
                      </a:lnTo>
                      <a:lnTo>
                        <a:pt x="132" y="15"/>
                      </a:lnTo>
                      <a:lnTo>
                        <a:pt x="138" y="20"/>
                      </a:lnTo>
                      <a:lnTo>
                        <a:pt x="144" y="20"/>
                      </a:lnTo>
                      <a:lnTo>
                        <a:pt x="150" y="25"/>
                      </a:lnTo>
                      <a:lnTo>
                        <a:pt x="155" y="30"/>
                      </a:lnTo>
                      <a:lnTo>
                        <a:pt x="155" y="34"/>
                      </a:lnTo>
                      <a:lnTo>
                        <a:pt x="161" y="39"/>
                      </a:lnTo>
                      <a:lnTo>
                        <a:pt x="161" y="49"/>
                      </a:lnTo>
                      <a:lnTo>
                        <a:pt x="167" y="54"/>
                      </a:lnTo>
                      <a:lnTo>
                        <a:pt x="161" y="59"/>
                      </a:lnTo>
                      <a:lnTo>
                        <a:pt x="161" y="64"/>
                      </a:lnTo>
                      <a:lnTo>
                        <a:pt x="155" y="69"/>
                      </a:lnTo>
                      <a:lnTo>
                        <a:pt x="144" y="74"/>
                      </a:lnTo>
                      <a:lnTo>
                        <a:pt x="138" y="78"/>
                      </a:lnTo>
                      <a:lnTo>
                        <a:pt x="127" y="78"/>
                      </a:lnTo>
                      <a:lnTo>
                        <a:pt x="115" y="83"/>
                      </a:lnTo>
                      <a:lnTo>
                        <a:pt x="109" y="83"/>
                      </a:lnTo>
                      <a:lnTo>
                        <a:pt x="98" y="78"/>
                      </a:lnTo>
                      <a:lnTo>
                        <a:pt x="92" y="78"/>
                      </a:lnTo>
                      <a:lnTo>
                        <a:pt x="75" y="74"/>
                      </a:lnTo>
                      <a:lnTo>
                        <a:pt x="64" y="64"/>
                      </a:lnTo>
                      <a:lnTo>
                        <a:pt x="52" y="54"/>
                      </a:lnTo>
                      <a:lnTo>
                        <a:pt x="41" y="44"/>
                      </a:lnTo>
                      <a:lnTo>
                        <a:pt x="29" y="30"/>
                      </a:lnTo>
                      <a:lnTo>
                        <a:pt x="18" y="20"/>
                      </a:lnTo>
                      <a:lnTo>
                        <a:pt x="12" y="10"/>
                      </a:lnTo>
                      <a:lnTo>
                        <a:pt x="0" y="0"/>
                      </a:lnTo>
                      <a:lnTo>
                        <a:pt x="6" y="0"/>
                      </a:lnTo>
                      <a:lnTo>
                        <a:pt x="12" y="0"/>
                      </a:lnTo>
                      <a:lnTo>
                        <a:pt x="18" y="5"/>
                      </a:lnTo>
                      <a:lnTo>
                        <a:pt x="23" y="5"/>
                      </a:lnTo>
                      <a:lnTo>
                        <a:pt x="29" y="10"/>
                      </a:lnTo>
                      <a:lnTo>
                        <a:pt x="35" y="10"/>
                      </a:lnTo>
                      <a:lnTo>
                        <a:pt x="35" y="10"/>
                      </a:lnTo>
                      <a:lnTo>
                        <a:pt x="41" y="1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349760" y="5786280"/>
                  <a:ext cx="116640" cy="118080"/>
                </a:xfrm>
                <a:custGeom>
                  <a:avLst/>
                  <a:gdLst/>
                  <a:ahLst/>
                  <a:rect l="l" t="t" r="r" b="b"/>
                  <a:pathLst>
                    <a:path w="92" h="88">
                      <a:moveTo>
                        <a:pt x="0" y="5"/>
                      </a:moveTo>
                      <a:lnTo>
                        <a:pt x="0" y="0"/>
                      </a:lnTo>
                      <a:lnTo>
                        <a:pt x="6" y="0"/>
                      </a:lnTo>
                      <a:lnTo>
                        <a:pt x="12" y="0"/>
                      </a:lnTo>
                      <a:lnTo>
                        <a:pt x="18" y="5"/>
                      </a:lnTo>
                      <a:lnTo>
                        <a:pt x="23" y="5"/>
                      </a:lnTo>
                      <a:lnTo>
                        <a:pt x="29" y="10"/>
                      </a:lnTo>
                      <a:lnTo>
                        <a:pt x="35" y="10"/>
                      </a:lnTo>
                      <a:lnTo>
                        <a:pt x="40" y="15"/>
                      </a:lnTo>
                      <a:lnTo>
                        <a:pt x="46" y="15"/>
                      </a:lnTo>
                      <a:lnTo>
                        <a:pt x="52" y="15"/>
                      </a:lnTo>
                      <a:lnTo>
                        <a:pt x="58" y="15"/>
                      </a:lnTo>
                      <a:lnTo>
                        <a:pt x="63" y="20"/>
                      </a:lnTo>
                      <a:lnTo>
                        <a:pt x="69" y="20"/>
                      </a:lnTo>
                      <a:lnTo>
                        <a:pt x="75" y="25"/>
                      </a:lnTo>
                      <a:lnTo>
                        <a:pt x="81" y="25"/>
                      </a:lnTo>
                      <a:lnTo>
                        <a:pt x="81" y="30"/>
                      </a:lnTo>
                      <a:lnTo>
                        <a:pt x="86" y="35"/>
                      </a:lnTo>
                      <a:lnTo>
                        <a:pt x="92" y="44"/>
                      </a:lnTo>
                      <a:lnTo>
                        <a:pt x="92" y="54"/>
                      </a:lnTo>
                      <a:lnTo>
                        <a:pt x="92" y="64"/>
                      </a:lnTo>
                      <a:lnTo>
                        <a:pt x="92" y="74"/>
                      </a:lnTo>
                      <a:lnTo>
                        <a:pt x="86" y="79"/>
                      </a:lnTo>
                      <a:lnTo>
                        <a:pt x="86" y="84"/>
                      </a:lnTo>
                      <a:lnTo>
                        <a:pt x="81" y="88"/>
                      </a:lnTo>
                      <a:lnTo>
                        <a:pt x="69" y="88"/>
                      </a:lnTo>
                      <a:lnTo>
                        <a:pt x="63" y="88"/>
                      </a:lnTo>
                      <a:lnTo>
                        <a:pt x="58" y="88"/>
                      </a:lnTo>
                      <a:lnTo>
                        <a:pt x="52" y="84"/>
                      </a:lnTo>
                      <a:lnTo>
                        <a:pt x="46" y="79"/>
                      </a:lnTo>
                      <a:lnTo>
                        <a:pt x="40" y="79"/>
                      </a:lnTo>
                      <a:lnTo>
                        <a:pt x="40" y="74"/>
                      </a:lnTo>
                      <a:lnTo>
                        <a:pt x="35" y="69"/>
                      </a:lnTo>
                      <a:lnTo>
                        <a:pt x="29" y="64"/>
                      </a:lnTo>
                      <a:lnTo>
                        <a:pt x="18" y="54"/>
                      </a:lnTo>
                      <a:lnTo>
                        <a:pt x="12" y="49"/>
                      </a:lnTo>
                      <a:lnTo>
                        <a:pt x="6" y="40"/>
                      </a:lnTo>
                      <a:lnTo>
                        <a:pt x="0" y="30"/>
                      </a:lnTo>
                      <a:lnTo>
                        <a:pt x="0" y="25"/>
                      </a:lnTo>
                      <a:lnTo>
                        <a:pt x="0" y="15"/>
                      </a:lnTo>
                      <a:lnTo>
                        <a:pt x="0" y="5"/>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445160" y="5043960"/>
                  <a:ext cx="342000" cy="249840"/>
                </a:xfrm>
                <a:custGeom>
                  <a:avLst/>
                  <a:gdLst/>
                  <a:ahLst/>
                  <a:rect l="l" t="t" r="r" b="b"/>
                  <a:pathLst>
                    <a:path w="270" h="186">
                      <a:moveTo>
                        <a:pt x="0" y="10"/>
                      </a:moveTo>
                      <a:lnTo>
                        <a:pt x="6" y="15"/>
                      </a:lnTo>
                      <a:lnTo>
                        <a:pt x="11" y="19"/>
                      </a:lnTo>
                      <a:lnTo>
                        <a:pt x="23" y="24"/>
                      </a:lnTo>
                      <a:lnTo>
                        <a:pt x="29" y="24"/>
                      </a:lnTo>
                      <a:lnTo>
                        <a:pt x="40" y="29"/>
                      </a:lnTo>
                      <a:lnTo>
                        <a:pt x="46" y="34"/>
                      </a:lnTo>
                      <a:lnTo>
                        <a:pt x="57" y="34"/>
                      </a:lnTo>
                      <a:lnTo>
                        <a:pt x="63" y="34"/>
                      </a:lnTo>
                      <a:lnTo>
                        <a:pt x="75" y="34"/>
                      </a:lnTo>
                      <a:lnTo>
                        <a:pt x="80" y="29"/>
                      </a:lnTo>
                      <a:lnTo>
                        <a:pt x="86" y="24"/>
                      </a:lnTo>
                      <a:lnTo>
                        <a:pt x="98" y="19"/>
                      </a:lnTo>
                      <a:lnTo>
                        <a:pt x="103" y="15"/>
                      </a:lnTo>
                      <a:lnTo>
                        <a:pt x="109" y="10"/>
                      </a:lnTo>
                      <a:lnTo>
                        <a:pt x="115" y="5"/>
                      </a:lnTo>
                      <a:lnTo>
                        <a:pt x="126" y="0"/>
                      </a:lnTo>
                      <a:lnTo>
                        <a:pt x="126" y="10"/>
                      </a:lnTo>
                      <a:lnTo>
                        <a:pt x="126" y="19"/>
                      </a:lnTo>
                      <a:lnTo>
                        <a:pt x="126" y="29"/>
                      </a:lnTo>
                      <a:lnTo>
                        <a:pt x="126" y="39"/>
                      </a:lnTo>
                      <a:lnTo>
                        <a:pt x="121" y="49"/>
                      </a:lnTo>
                      <a:lnTo>
                        <a:pt x="121" y="59"/>
                      </a:lnTo>
                      <a:lnTo>
                        <a:pt x="121" y="68"/>
                      </a:lnTo>
                      <a:lnTo>
                        <a:pt x="121" y="78"/>
                      </a:lnTo>
                      <a:lnTo>
                        <a:pt x="126" y="88"/>
                      </a:lnTo>
                      <a:lnTo>
                        <a:pt x="132" y="98"/>
                      </a:lnTo>
                      <a:lnTo>
                        <a:pt x="138" y="103"/>
                      </a:lnTo>
                      <a:lnTo>
                        <a:pt x="149" y="107"/>
                      </a:lnTo>
                      <a:lnTo>
                        <a:pt x="155" y="117"/>
                      </a:lnTo>
                      <a:lnTo>
                        <a:pt x="166" y="122"/>
                      </a:lnTo>
                      <a:lnTo>
                        <a:pt x="172" y="127"/>
                      </a:lnTo>
                      <a:lnTo>
                        <a:pt x="184" y="132"/>
                      </a:lnTo>
                      <a:lnTo>
                        <a:pt x="189" y="132"/>
                      </a:lnTo>
                      <a:lnTo>
                        <a:pt x="195" y="132"/>
                      </a:lnTo>
                      <a:lnTo>
                        <a:pt x="201" y="132"/>
                      </a:lnTo>
                      <a:lnTo>
                        <a:pt x="212" y="132"/>
                      </a:lnTo>
                      <a:lnTo>
                        <a:pt x="218" y="127"/>
                      </a:lnTo>
                      <a:lnTo>
                        <a:pt x="230" y="127"/>
                      </a:lnTo>
                      <a:lnTo>
                        <a:pt x="235" y="122"/>
                      </a:lnTo>
                      <a:lnTo>
                        <a:pt x="247" y="122"/>
                      </a:lnTo>
                      <a:lnTo>
                        <a:pt x="247" y="132"/>
                      </a:lnTo>
                      <a:lnTo>
                        <a:pt x="247" y="142"/>
                      </a:lnTo>
                      <a:lnTo>
                        <a:pt x="253" y="151"/>
                      </a:lnTo>
                      <a:lnTo>
                        <a:pt x="253" y="161"/>
                      </a:lnTo>
                      <a:lnTo>
                        <a:pt x="258" y="171"/>
                      </a:lnTo>
                      <a:lnTo>
                        <a:pt x="264" y="176"/>
                      </a:lnTo>
                      <a:lnTo>
                        <a:pt x="270" y="181"/>
                      </a:lnTo>
                      <a:lnTo>
                        <a:pt x="270" y="186"/>
                      </a:lnTo>
                      <a:lnTo>
                        <a:pt x="264" y="186"/>
                      </a:lnTo>
                      <a:lnTo>
                        <a:pt x="258" y="181"/>
                      </a:lnTo>
                      <a:lnTo>
                        <a:pt x="253" y="181"/>
                      </a:lnTo>
                      <a:lnTo>
                        <a:pt x="241" y="176"/>
                      </a:lnTo>
                      <a:lnTo>
                        <a:pt x="235" y="176"/>
                      </a:lnTo>
                      <a:lnTo>
                        <a:pt x="230" y="171"/>
                      </a:lnTo>
                      <a:lnTo>
                        <a:pt x="224" y="171"/>
                      </a:lnTo>
                      <a:lnTo>
                        <a:pt x="212" y="166"/>
                      </a:lnTo>
                      <a:lnTo>
                        <a:pt x="207" y="166"/>
                      </a:lnTo>
                      <a:lnTo>
                        <a:pt x="201" y="161"/>
                      </a:lnTo>
                      <a:lnTo>
                        <a:pt x="195" y="156"/>
                      </a:lnTo>
                      <a:lnTo>
                        <a:pt x="184" y="156"/>
                      </a:lnTo>
                      <a:lnTo>
                        <a:pt x="178" y="151"/>
                      </a:lnTo>
                      <a:lnTo>
                        <a:pt x="172" y="151"/>
                      </a:lnTo>
                      <a:lnTo>
                        <a:pt x="166" y="147"/>
                      </a:lnTo>
                      <a:lnTo>
                        <a:pt x="161" y="142"/>
                      </a:lnTo>
                      <a:lnTo>
                        <a:pt x="144" y="137"/>
                      </a:lnTo>
                      <a:lnTo>
                        <a:pt x="132" y="132"/>
                      </a:lnTo>
                      <a:lnTo>
                        <a:pt x="121" y="122"/>
                      </a:lnTo>
                      <a:lnTo>
                        <a:pt x="109" y="117"/>
                      </a:lnTo>
                      <a:lnTo>
                        <a:pt x="98" y="107"/>
                      </a:lnTo>
                      <a:lnTo>
                        <a:pt x="80" y="103"/>
                      </a:lnTo>
                      <a:lnTo>
                        <a:pt x="69" y="93"/>
                      </a:lnTo>
                      <a:lnTo>
                        <a:pt x="63" y="83"/>
                      </a:lnTo>
                      <a:lnTo>
                        <a:pt x="52" y="73"/>
                      </a:lnTo>
                      <a:lnTo>
                        <a:pt x="40" y="68"/>
                      </a:lnTo>
                      <a:lnTo>
                        <a:pt x="34" y="59"/>
                      </a:lnTo>
                      <a:lnTo>
                        <a:pt x="29" y="49"/>
                      </a:lnTo>
                      <a:lnTo>
                        <a:pt x="23" y="39"/>
                      </a:lnTo>
                      <a:lnTo>
                        <a:pt x="11" y="29"/>
                      </a:lnTo>
                      <a:lnTo>
                        <a:pt x="6" y="19"/>
                      </a:lnTo>
                      <a:lnTo>
                        <a:pt x="0" y="1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1" name=""/>
            <p:cNvSpPr/>
            <p:nvPr/>
          </p:nvSpPr>
          <p:spPr>
            <a:xfrm rot="20288400">
              <a:off x="3021120" y="1321200"/>
              <a:ext cx="4024440" cy="7970400"/>
            </a:xfrm>
            <a:prstGeom prst="rect">
              <a:avLst/>
            </a:prstGeom>
            <a:noFill/>
            <a:ln w="0">
              <a:noFill/>
            </a:ln>
          </p:spPr>
          <p:style>
            <a:lnRef idx="0"/>
            <a:fillRef idx="0"/>
            <a:effectRef idx="0"/>
            <a:fontRef idx="minor"/>
          </p:style>
          <p:txBody>
            <a:bodyPr lIns="90000" rIns="90000" tIns="46800" bIns="46800" anchor="t">
              <a:spAutoFit/>
            </a:bodyPr>
            <a:p>
              <a:pPr algn="ctr" rtl="1">
                <a:lnSpc>
                  <a:spcPct val="8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Arial"/>
                  <a:cs typeface="AL-Hor"/>
                </a:rPr>
                <a:t>وهي من العوائق الاجتماعية الأساسية في عملية لتفكير الإبداعي ، ومن العبارات التي عادة ما تفتك بالفكرة في مهدها ما نسمعه كثيراً عن طرح فكرة جديدة مثل : لقد جربنا هذه الفكرة من قبل ، من يضمن نجاح هذه الفكرة ، هذه الفكرة سابقة لوقتها ، هذه الفكرة لن يوافق عليها المسئولون </a:t>
              </a:r>
              <a:r>
                <a:rPr b="0" lang="en-US" sz="3800" spc="-1" strike="noStrike">
                  <a:solidFill>
                    <a:srgbClr val="000000"/>
                  </a:solidFill>
                  <a:latin typeface="Arial"/>
                  <a:ea typeface="AL-Hor"/>
                </a:rPr>
                <a:t>0</a:t>
              </a:r>
              <a:endParaRPr b="0" lang="en-US" sz="3800" spc="-1" strike="noStrike">
                <a:solidFill>
                  <a:srgbClr val="000000"/>
                </a:solidFill>
                <a:latin typeface="Arial"/>
              </a:endParaRPr>
            </a:p>
          </p:txBody>
        </p:sp>
      </p:grpSp>
      <p:grpSp>
        <p:nvGrpSpPr>
          <p:cNvPr id="222" name=""/>
          <p:cNvGrpSpPr/>
          <p:nvPr/>
        </p:nvGrpSpPr>
        <p:grpSpPr>
          <a:xfrm>
            <a:off x="5490360" y="427320"/>
            <a:ext cx="3712320" cy="3471480"/>
            <a:chOff x="5490360" y="427320"/>
            <a:chExt cx="3712320" cy="3471480"/>
          </a:xfrm>
        </p:grpSpPr>
        <p:grpSp>
          <p:nvGrpSpPr>
            <p:cNvPr id="223" name=""/>
            <p:cNvGrpSpPr/>
            <p:nvPr/>
          </p:nvGrpSpPr>
          <p:grpSpPr>
            <a:xfrm>
              <a:off x="5612400" y="427320"/>
              <a:ext cx="3590280" cy="2600280"/>
              <a:chOff x="5612400" y="427320"/>
              <a:chExt cx="3590280" cy="2600280"/>
            </a:xfrm>
          </p:grpSpPr>
          <p:sp>
            <p:nvSpPr>
              <p:cNvPr id="224" name=""/>
              <p:cNvSpPr/>
              <p:nvPr/>
            </p:nvSpPr>
            <p:spPr>
              <a:xfrm rot="1061400">
                <a:off x="5823000" y="1650600"/>
                <a:ext cx="507240" cy="571680"/>
              </a:xfrm>
              <a:custGeom>
                <a:avLst/>
                <a:gdLst/>
                <a:ahLst/>
                <a:rect l="l" t="t" r="r" b="b"/>
                <a:pathLst>
                  <a:path w="387" h="360">
                    <a:moveTo>
                      <a:pt x="0" y="282"/>
                    </a:moveTo>
                    <a:lnTo>
                      <a:pt x="0" y="282"/>
                    </a:lnTo>
                    <a:lnTo>
                      <a:pt x="0" y="288"/>
                    </a:lnTo>
                    <a:lnTo>
                      <a:pt x="4" y="294"/>
                    </a:lnTo>
                    <a:lnTo>
                      <a:pt x="4" y="300"/>
                    </a:lnTo>
                    <a:lnTo>
                      <a:pt x="8" y="306"/>
                    </a:lnTo>
                    <a:lnTo>
                      <a:pt x="8" y="312"/>
                    </a:lnTo>
                    <a:lnTo>
                      <a:pt x="12" y="318"/>
                    </a:lnTo>
                    <a:lnTo>
                      <a:pt x="16" y="324"/>
                    </a:lnTo>
                    <a:lnTo>
                      <a:pt x="20" y="330"/>
                    </a:lnTo>
                    <a:lnTo>
                      <a:pt x="29" y="336"/>
                    </a:lnTo>
                    <a:lnTo>
                      <a:pt x="33" y="342"/>
                    </a:lnTo>
                    <a:lnTo>
                      <a:pt x="41" y="348"/>
                    </a:lnTo>
                    <a:lnTo>
                      <a:pt x="45" y="354"/>
                    </a:lnTo>
                    <a:lnTo>
                      <a:pt x="53" y="354"/>
                    </a:lnTo>
                    <a:lnTo>
                      <a:pt x="62" y="360"/>
                    </a:lnTo>
                    <a:lnTo>
                      <a:pt x="66" y="360"/>
                    </a:lnTo>
                    <a:lnTo>
                      <a:pt x="78" y="360"/>
                    </a:lnTo>
                    <a:lnTo>
                      <a:pt x="78" y="360"/>
                    </a:lnTo>
                    <a:lnTo>
                      <a:pt x="86" y="360"/>
                    </a:lnTo>
                    <a:lnTo>
                      <a:pt x="103" y="360"/>
                    </a:lnTo>
                    <a:lnTo>
                      <a:pt x="119" y="348"/>
                    </a:lnTo>
                    <a:lnTo>
                      <a:pt x="132" y="336"/>
                    </a:lnTo>
                    <a:lnTo>
                      <a:pt x="144" y="318"/>
                    </a:lnTo>
                    <a:lnTo>
                      <a:pt x="156" y="300"/>
                    </a:lnTo>
                    <a:lnTo>
                      <a:pt x="165" y="282"/>
                    </a:lnTo>
                    <a:lnTo>
                      <a:pt x="177" y="264"/>
                    </a:lnTo>
                    <a:lnTo>
                      <a:pt x="189" y="240"/>
                    </a:lnTo>
                    <a:lnTo>
                      <a:pt x="198" y="222"/>
                    </a:lnTo>
                    <a:lnTo>
                      <a:pt x="206" y="204"/>
                    </a:lnTo>
                    <a:lnTo>
                      <a:pt x="218" y="186"/>
                    </a:lnTo>
                    <a:lnTo>
                      <a:pt x="226" y="174"/>
                    </a:lnTo>
                    <a:lnTo>
                      <a:pt x="239" y="162"/>
                    </a:lnTo>
                    <a:lnTo>
                      <a:pt x="247" y="150"/>
                    </a:lnTo>
                    <a:lnTo>
                      <a:pt x="263" y="144"/>
                    </a:lnTo>
                    <a:lnTo>
                      <a:pt x="263" y="144"/>
                    </a:lnTo>
                    <a:lnTo>
                      <a:pt x="268" y="144"/>
                    </a:lnTo>
                    <a:lnTo>
                      <a:pt x="272" y="150"/>
                    </a:lnTo>
                    <a:lnTo>
                      <a:pt x="276" y="150"/>
                    </a:lnTo>
                    <a:lnTo>
                      <a:pt x="276" y="156"/>
                    </a:lnTo>
                    <a:lnTo>
                      <a:pt x="276" y="162"/>
                    </a:lnTo>
                    <a:lnTo>
                      <a:pt x="280" y="174"/>
                    </a:lnTo>
                    <a:lnTo>
                      <a:pt x="280" y="180"/>
                    </a:lnTo>
                    <a:lnTo>
                      <a:pt x="280" y="192"/>
                    </a:lnTo>
                    <a:lnTo>
                      <a:pt x="280" y="204"/>
                    </a:lnTo>
                    <a:lnTo>
                      <a:pt x="280" y="210"/>
                    </a:lnTo>
                    <a:lnTo>
                      <a:pt x="280" y="222"/>
                    </a:lnTo>
                    <a:lnTo>
                      <a:pt x="284" y="228"/>
                    </a:lnTo>
                    <a:lnTo>
                      <a:pt x="288" y="234"/>
                    </a:lnTo>
                    <a:lnTo>
                      <a:pt x="292" y="240"/>
                    </a:lnTo>
                    <a:lnTo>
                      <a:pt x="301" y="246"/>
                    </a:lnTo>
                    <a:lnTo>
                      <a:pt x="317" y="246"/>
                    </a:lnTo>
                    <a:lnTo>
                      <a:pt x="317" y="246"/>
                    </a:lnTo>
                    <a:lnTo>
                      <a:pt x="321" y="246"/>
                    </a:lnTo>
                    <a:lnTo>
                      <a:pt x="325" y="246"/>
                    </a:lnTo>
                    <a:lnTo>
                      <a:pt x="329" y="246"/>
                    </a:lnTo>
                    <a:lnTo>
                      <a:pt x="334" y="240"/>
                    </a:lnTo>
                    <a:lnTo>
                      <a:pt x="342" y="240"/>
                    </a:lnTo>
                    <a:lnTo>
                      <a:pt x="346" y="234"/>
                    </a:lnTo>
                    <a:lnTo>
                      <a:pt x="350" y="234"/>
                    </a:lnTo>
                    <a:lnTo>
                      <a:pt x="354" y="228"/>
                    </a:lnTo>
                    <a:lnTo>
                      <a:pt x="358" y="222"/>
                    </a:lnTo>
                    <a:lnTo>
                      <a:pt x="362" y="216"/>
                    </a:lnTo>
                    <a:lnTo>
                      <a:pt x="366" y="210"/>
                    </a:lnTo>
                    <a:lnTo>
                      <a:pt x="371" y="204"/>
                    </a:lnTo>
                    <a:lnTo>
                      <a:pt x="375" y="198"/>
                    </a:lnTo>
                    <a:lnTo>
                      <a:pt x="379" y="192"/>
                    </a:lnTo>
                    <a:lnTo>
                      <a:pt x="379" y="186"/>
                    </a:lnTo>
                    <a:lnTo>
                      <a:pt x="387" y="174"/>
                    </a:lnTo>
                    <a:lnTo>
                      <a:pt x="387" y="174"/>
                    </a:lnTo>
                    <a:lnTo>
                      <a:pt x="383" y="168"/>
                    </a:lnTo>
                    <a:lnTo>
                      <a:pt x="379" y="156"/>
                    </a:lnTo>
                    <a:lnTo>
                      <a:pt x="375" y="144"/>
                    </a:lnTo>
                    <a:lnTo>
                      <a:pt x="371" y="132"/>
                    </a:lnTo>
                    <a:lnTo>
                      <a:pt x="366" y="120"/>
                    </a:lnTo>
                    <a:lnTo>
                      <a:pt x="358" y="108"/>
                    </a:lnTo>
                    <a:lnTo>
                      <a:pt x="354" y="102"/>
                    </a:lnTo>
                    <a:lnTo>
                      <a:pt x="350" y="90"/>
                    </a:lnTo>
                    <a:lnTo>
                      <a:pt x="346" y="78"/>
                    </a:lnTo>
                    <a:lnTo>
                      <a:pt x="338" y="66"/>
                    </a:lnTo>
                    <a:lnTo>
                      <a:pt x="334" y="54"/>
                    </a:lnTo>
                    <a:lnTo>
                      <a:pt x="329" y="42"/>
                    </a:lnTo>
                    <a:lnTo>
                      <a:pt x="321" y="36"/>
                    </a:lnTo>
                    <a:lnTo>
                      <a:pt x="317" y="24"/>
                    </a:lnTo>
                    <a:lnTo>
                      <a:pt x="309" y="12"/>
                    </a:lnTo>
                    <a:lnTo>
                      <a:pt x="301" y="0"/>
                    </a:lnTo>
                    <a:lnTo>
                      <a:pt x="0" y="42"/>
                    </a:lnTo>
                    <a:lnTo>
                      <a:pt x="0" y="282"/>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
              <p:cNvSpPr/>
              <p:nvPr/>
            </p:nvSpPr>
            <p:spPr>
              <a:xfrm rot="1061400">
                <a:off x="5861880" y="1659600"/>
                <a:ext cx="431280" cy="514080"/>
              </a:xfrm>
              <a:custGeom>
                <a:avLst/>
                <a:gdLst/>
                <a:ahLst/>
                <a:rect l="l" t="t" r="r" b="b"/>
                <a:pathLst>
                  <a:path w="329" h="324">
                    <a:moveTo>
                      <a:pt x="12" y="186"/>
                    </a:moveTo>
                    <a:lnTo>
                      <a:pt x="12" y="186"/>
                    </a:lnTo>
                    <a:lnTo>
                      <a:pt x="8" y="186"/>
                    </a:lnTo>
                    <a:lnTo>
                      <a:pt x="8" y="198"/>
                    </a:lnTo>
                    <a:lnTo>
                      <a:pt x="4" y="210"/>
                    </a:lnTo>
                    <a:lnTo>
                      <a:pt x="4" y="222"/>
                    </a:lnTo>
                    <a:lnTo>
                      <a:pt x="0" y="234"/>
                    </a:lnTo>
                    <a:lnTo>
                      <a:pt x="0" y="240"/>
                    </a:lnTo>
                    <a:lnTo>
                      <a:pt x="0" y="252"/>
                    </a:lnTo>
                    <a:lnTo>
                      <a:pt x="0" y="264"/>
                    </a:lnTo>
                    <a:lnTo>
                      <a:pt x="0" y="276"/>
                    </a:lnTo>
                    <a:lnTo>
                      <a:pt x="4" y="288"/>
                    </a:lnTo>
                    <a:lnTo>
                      <a:pt x="8" y="294"/>
                    </a:lnTo>
                    <a:lnTo>
                      <a:pt x="12" y="306"/>
                    </a:lnTo>
                    <a:lnTo>
                      <a:pt x="20" y="312"/>
                    </a:lnTo>
                    <a:lnTo>
                      <a:pt x="28" y="318"/>
                    </a:lnTo>
                    <a:lnTo>
                      <a:pt x="37" y="324"/>
                    </a:lnTo>
                    <a:lnTo>
                      <a:pt x="53" y="324"/>
                    </a:lnTo>
                    <a:lnTo>
                      <a:pt x="53" y="324"/>
                    </a:lnTo>
                    <a:lnTo>
                      <a:pt x="61" y="324"/>
                    </a:lnTo>
                    <a:lnTo>
                      <a:pt x="74" y="318"/>
                    </a:lnTo>
                    <a:lnTo>
                      <a:pt x="90" y="312"/>
                    </a:lnTo>
                    <a:lnTo>
                      <a:pt x="98" y="294"/>
                    </a:lnTo>
                    <a:lnTo>
                      <a:pt x="111" y="282"/>
                    </a:lnTo>
                    <a:lnTo>
                      <a:pt x="123" y="264"/>
                    </a:lnTo>
                    <a:lnTo>
                      <a:pt x="131" y="246"/>
                    </a:lnTo>
                    <a:lnTo>
                      <a:pt x="140" y="222"/>
                    </a:lnTo>
                    <a:lnTo>
                      <a:pt x="152" y="204"/>
                    </a:lnTo>
                    <a:lnTo>
                      <a:pt x="160" y="180"/>
                    </a:lnTo>
                    <a:lnTo>
                      <a:pt x="173" y="162"/>
                    </a:lnTo>
                    <a:lnTo>
                      <a:pt x="185" y="144"/>
                    </a:lnTo>
                    <a:lnTo>
                      <a:pt x="193" y="132"/>
                    </a:lnTo>
                    <a:lnTo>
                      <a:pt x="206" y="120"/>
                    </a:lnTo>
                    <a:lnTo>
                      <a:pt x="218" y="108"/>
                    </a:lnTo>
                    <a:lnTo>
                      <a:pt x="238" y="102"/>
                    </a:lnTo>
                    <a:lnTo>
                      <a:pt x="238" y="102"/>
                    </a:lnTo>
                    <a:lnTo>
                      <a:pt x="247" y="102"/>
                    </a:lnTo>
                    <a:lnTo>
                      <a:pt x="255" y="108"/>
                    </a:lnTo>
                    <a:lnTo>
                      <a:pt x="263" y="108"/>
                    </a:lnTo>
                    <a:lnTo>
                      <a:pt x="267" y="114"/>
                    </a:lnTo>
                    <a:lnTo>
                      <a:pt x="271" y="126"/>
                    </a:lnTo>
                    <a:lnTo>
                      <a:pt x="276" y="132"/>
                    </a:lnTo>
                    <a:lnTo>
                      <a:pt x="276" y="144"/>
                    </a:lnTo>
                    <a:lnTo>
                      <a:pt x="276" y="150"/>
                    </a:lnTo>
                    <a:lnTo>
                      <a:pt x="276" y="162"/>
                    </a:lnTo>
                    <a:lnTo>
                      <a:pt x="276" y="168"/>
                    </a:lnTo>
                    <a:lnTo>
                      <a:pt x="276" y="180"/>
                    </a:lnTo>
                    <a:lnTo>
                      <a:pt x="276" y="186"/>
                    </a:lnTo>
                    <a:lnTo>
                      <a:pt x="280" y="198"/>
                    </a:lnTo>
                    <a:lnTo>
                      <a:pt x="280" y="204"/>
                    </a:lnTo>
                    <a:lnTo>
                      <a:pt x="284" y="204"/>
                    </a:lnTo>
                    <a:lnTo>
                      <a:pt x="296" y="210"/>
                    </a:lnTo>
                    <a:lnTo>
                      <a:pt x="296" y="210"/>
                    </a:lnTo>
                    <a:lnTo>
                      <a:pt x="296" y="210"/>
                    </a:lnTo>
                    <a:lnTo>
                      <a:pt x="300" y="210"/>
                    </a:lnTo>
                    <a:lnTo>
                      <a:pt x="304" y="210"/>
                    </a:lnTo>
                    <a:lnTo>
                      <a:pt x="304" y="204"/>
                    </a:lnTo>
                    <a:lnTo>
                      <a:pt x="309" y="204"/>
                    </a:lnTo>
                    <a:lnTo>
                      <a:pt x="309" y="204"/>
                    </a:lnTo>
                    <a:lnTo>
                      <a:pt x="313" y="198"/>
                    </a:lnTo>
                    <a:lnTo>
                      <a:pt x="313" y="198"/>
                    </a:lnTo>
                    <a:lnTo>
                      <a:pt x="313" y="198"/>
                    </a:lnTo>
                    <a:lnTo>
                      <a:pt x="317" y="192"/>
                    </a:lnTo>
                    <a:lnTo>
                      <a:pt x="317" y="186"/>
                    </a:lnTo>
                    <a:lnTo>
                      <a:pt x="321" y="186"/>
                    </a:lnTo>
                    <a:lnTo>
                      <a:pt x="321" y="180"/>
                    </a:lnTo>
                    <a:lnTo>
                      <a:pt x="325" y="174"/>
                    </a:lnTo>
                    <a:lnTo>
                      <a:pt x="325" y="168"/>
                    </a:lnTo>
                    <a:lnTo>
                      <a:pt x="329" y="162"/>
                    </a:lnTo>
                    <a:lnTo>
                      <a:pt x="329" y="162"/>
                    </a:lnTo>
                    <a:lnTo>
                      <a:pt x="329" y="156"/>
                    </a:lnTo>
                    <a:lnTo>
                      <a:pt x="325" y="138"/>
                    </a:lnTo>
                    <a:lnTo>
                      <a:pt x="321" y="132"/>
                    </a:lnTo>
                    <a:lnTo>
                      <a:pt x="317" y="120"/>
                    </a:lnTo>
                    <a:lnTo>
                      <a:pt x="313" y="108"/>
                    </a:lnTo>
                    <a:lnTo>
                      <a:pt x="309" y="96"/>
                    </a:lnTo>
                    <a:lnTo>
                      <a:pt x="300" y="90"/>
                    </a:lnTo>
                    <a:lnTo>
                      <a:pt x="296" y="78"/>
                    </a:lnTo>
                    <a:lnTo>
                      <a:pt x="292" y="72"/>
                    </a:lnTo>
                    <a:lnTo>
                      <a:pt x="288" y="60"/>
                    </a:lnTo>
                    <a:lnTo>
                      <a:pt x="284" y="54"/>
                    </a:lnTo>
                    <a:lnTo>
                      <a:pt x="276" y="42"/>
                    </a:lnTo>
                    <a:lnTo>
                      <a:pt x="271" y="36"/>
                    </a:lnTo>
                    <a:lnTo>
                      <a:pt x="267" y="24"/>
                    </a:lnTo>
                    <a:lnTo>
                      <a:pt x="259" y="18"/>
                    </a:lnTo>
                    <a:lnTo>
                      <a:pt x="251" y="0"/>
                    </a:lnTo>
                    <a:lnTo>
                      <a:pt x="32" y="54"/>
                    </a:lnTo>
                    <a:lnTo>
                      <a:pt x="12" y="186"/>
                    </a:lnTo>
                    <a:close/>
                  </a:path>
                </a:pathLst>
              </a:custGeom>
              <a:solidFill>
                <a:srgbClr val="ffc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61400">
                <a:off x="8093160" y="2383920"/>
                <a:ext cx="501840" cy="581040"/>
              </a:xfrm>
              <a:custGeom>
                <a:avLst/>
                <a:gdLst/>
                <a:ahLst/>
                <a:rect l="l" t="t" r="r" b="b"/>
                <a:pathLst>
                  <a:path w="383" h="366">
                    <a:moveTo>
                      <a:pt x="383" y="288"/>
                    </a:moveTo>
                    <a:lnTo>
                      <a:pt x="383" y="288"/>
                    </a:lnTo>
                    <a:lnTo>
                      <a:pt x="383" y="294"/>
                    </a:lnTo>
                    <a:lnTo>
                      <a:pt x="383" y="300"/>
                    </a:lnTo>
                    <a:lnTo>
                      <a:pt x="379" y="306"/>
                    </a:lnTo>
                    <a:lnTo>
                      <a:pt x="379" y="312"/>
                    </a:lnTo>
                    <a:lnTo>
                      <a:pt x="375" y="318"/>
                    </a:lnTo>
                    <a:lnTo>
                      <a:pt x="371" y="324"/>
                    </a:lnTo>
                    <a:lnTo>
                      <a:pt x="366" y="330"/>
                    </a:lnTo>
                    <a:lnTo>
                      <a:pt x="362" y="336"/>
                    </a:lnTo>
                    <a:lnTo>
                      <a:pt x="358" y="342"/>
                    </a:lnTo>
                    <a:lnTo>
                      <a:pt x="350" y="348"/>
                    </a:lnTo>
                    <a:lnTo>
                      <a:pt x="346" y="354"/>
                    </a:lnTo>
                    <a:lnTo>
                      <a:pt x="338" y="354"/>
                    </a:lnTo>
                    <a:lnTo>
                      <a:pt x="334" y="360"/>
                    </a:lnTo>
                    <a:lnTo>
                      <a:pt x="325" y="366"/>
                    </a:lnTo>
                    <a:lnTo>
                      <a:pt x="317" y="366"/>
                    </a:lnTo>
                    <a:lnTo>
                      <a:pt x="305" y="366"/>
                    </a:lnTo>
                    <a:lnTo>
                      <a:pt x="305" y="366"/>
                    </a:lnTo>
                    <a:lnTo>
                      <a:pt x="296" y="366"/>
                    </a:lnTo>
                    <a:lnTo>
                      <a:pt x="280" y="360"/>
                    </a:lnTo>
                    <a:lnTo>
                      <a:pt x="268" y="354"/>
                    </a:lnTo>
                    <a:lnTo>
                      <a:pt x="255" y="342"/>
                    </a:lnTo>
                    <a:lnTo>
                      <a:pt x="243" y="324"/>
                    </a:lnTo>
                    <a:lnTo>
                      <a:pt x="231" y="306"/>
                    </a:lnTo>
                    <a:lnTo>
                      <a:pt x="218" y="288"/>
                    </a:lnTo>
                    <a:lnTo>
                      <a:pt x="206" y="270"/>
                    </a:lnTo>
                    <a:lnTo>
                      <a:pt x="198" y="246"/>
                    </a:lnTo>
                    <a:lnTo>
                      <a:pt x="185" y="228"/>
                    </a:lnTo>
                    <a:lnTo>
                      <a:pt x="177" y="210"/>
                    </a:lnTo>
                    <a:lnTo>
                      <a:pt x="169" y="192"/>
                    </a:lnTo>
                    <a:lnTo>
                      <a:pt x="156" y="174"/>
                    </a:lnTo>
                    <a:lnTo>
                      <a:pt x="148" y="162"/>
                    </a:lnTo>
                    <a:lnTo>
                      <a:pt x="136" y="156"/>
                    </a:lnTo>
                    <a:lnTo>
                      <a:pt x="119" y="150"/>
                    </a:lnTo>
                    <a:lnTo>
                      <a:pt x="119" y="150"/>
                    </a:lnTo>
                    <a:lnTo>
                      <a:pt x="115" y="150"/>
                    </a:lnTo>
                    <a:lnTo>
                      <a:pt x="111" y="150"/>
                    </a:lnTo>
                    <a:lnTo>
                      <a:pt x="111" y="156"/>
                    </a:lnTo>
                    <a:lnTo>
                      <a:pt x="107" y="162"/>
                    </a:lnTo>
                    <a:lnTo>
                      <a:pt x="107" y="168"/>
                    </a:lnTo>
                    <a:lnTo>
                      <a:pt x="107" y="180"/>
                    </a:lnTo>
                    <a:lnTo>
                      <a:pt x="107" y="186"/>
                    </a:lnTo>
                    <a:lnTo>
                      <a:pt x="107" y="198"/>
                    </a:lnTo>
                    <a:lnTo>
                      <a:pt x="107" y="204"/>
                    </a:lnTo>
                    <a:lnTo>
                      <a:pt x="103" y="216"/>
                    </a:lnTo>
                    <a:lnTo>
                      <a:pt x="103" y="228"/>
                    </a:lnTo>
                    <a:lnTo>
                      <a:pt x="99" y="234"/>
                    </a:lnTo>
                    <a:lnTo>
                      <a:pt x="95" y="240"/>
                    </a:lnTo>
                    <a:lnTo>
                      <a:pt x="90" y="246"/>
                    </a:lnTo>
                    <a:lnTo>
                      <a:pt x="82" y="252"/>
                    </a:lnTo>
                    <a:lnTo>
                      <a:pt x="66" y="252"/>
                    </a:lnTo>
                    <a:lnTo>
                      <a:pt x="66" y="252"/>
                    </a:lnTo>
                    <a:lnTo>
                      <a:pt x="66" y="252"/>
                    </a:lnTo>
                    <a:lnTo>
                      <a:pt x="57" y="252"/>
                    </a:lnTo>
                    <a:lnTo>
                      <a:pt x="53" y="252"/>
                    </a:lnTo>
                    <a:lnTo>
                      <a:pt x="49" y="246"/>
                    </a:lnTo>
                    <a:lnTo>
                      <a:pt x="45" y="246"/>
                    </a:lnTo>
                    <a:lnTo>
                      <a:pt x="41" y="240"/>
                    </a:lnTo>
                    <a:lnTo>
                      <a:pt x="37" y="234"/>
                    </a:lnTo>
                    <a:lnTo>
                      <a:pt x="29" y="234"/>
                    </a:lnTo>
                    <a:lnTo>
                      <a:pt x="25" y="228"/>
                    </a:lnTo>
                    <a:lnTo>
                      <a:pt x="20" y="222"/>
                    </a:lnTo>
                    <a:lnTo>
                      <a:pt x="16" y="216"/>
                    </a:lnTo>
                    <a:lnTo>
                      <a:pt x="12" y="210"/>
                    </a:lnTo>
                    <a:lnTo>
                      <a:pt x="12" y="204"/>
                    </a:lnTo>
                    <a:lnTo>
                      <a:pt x="8" y="198"/>
                    </a:lnTo>
                    <a:lnTo>
                      <a:pt x="4" y="186"/>
                    </a:lnTo>
                    <a:lnTo>
                      <a:pt x="0" y="180"/>
                    </a:lnTo>
                    <a:lnTo>
                      <a:pt x="0" y="180"/>
                    </a:lnTo>
                    <a:lnTo>
                      <a:pt x="0" y="174"/>
                    </a:lnTo>
                    <a:lnTo>
                      <a:pt x="4" y="162"/>
                    </a:lnTo>
                    <a:lnTo>
                      <a:pt x="8" y="150"/>
                    </a:lnTo>
                    <a:lnTo>
                      <a:pt x="12" y="138"/>
                    </a:lnTo>
                    <a:lnTo>
                      <a:pt x="20" y="126"/>
                    </a:lnTo>
                    <a:lnTo>
                      <a:pt x="25" y="114"/>
                    </a:lnTo>
                    <a:lnTo>
                      <a:pt x="29" y="102"/>
                    </a:lnTo>
                    <a:lnTo>
                      <a:pt x="33" y="96"/>
                    </a:lnTo>
                    <a:lnTo>
                      <a:pt x="41" y="84"/>
                    </a:lnTo>
                    <a:lnTo>
                      <a:pt x="45" y="72"/>
                    </a:lnTo>
                    <a:lnTo>
                      <a:pt x="49" y="60"/>
                    </a:lnTo>
                    <a:lnTo>
                      <a:pt x="57" y="48"/>
                    </a:lnTo>
                    <a:lnTo>
                      <a:pt x="62" y="36"/>
                    </a:lnTo>
                    <a:lnTo>
                      <a:pt x="66" y="30"/>
                    </a:lnTo>
                    <a:lnTo>
                      <a:pt x="74" y="18"/>
                    </a:lnTo>
                    <a:lnTo>
                      <a:pt x="82" y="0"/>
                    </a:lnTo>
                    <a:lnTo>
                      <a:pt x="383" y="48"/>
                    </a:lnTo>
                    <a:lnTo>
                      <a:pt x="383" y="288"/>
                    </a:lnTo>
                    <a:close/>
                  </a:path>
                </a:pathLst>
              </a:custGeom>
              <a:solidFill>
                <a:srgbClr val="ff9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rot="1061400">
                <a:off x="8135640" y="2404800"/>
                <a:ext cx="431280" cy="514080"/>
              </a:xfrm>
              <a:custGeom>
                <a:avLst/>
                <a:gdLst/>
                <a:ahLst/>
                <a:rect l="l" t="t" r="r" b="b"/>
                <a:pathLst>
                  <a:path w="329" h="324">
                    <a:moveTo>
                      <a:pt x="321" y="180"/>
                    </a:moveTo>
                    <a:lnTo>
                      <a:pt x="321" y="180"/>
                    </a:lnTo>
                    <a:lnTo>
                      <a:pt x="321" y="186"/>
                    </a:lnTo>
                    <a:lnTo>
                      <a:pt x="325" y="198"/>
                    </a:lnTo>
                    <a:lnTo>
                      <a:pt x="325" y="210"/>
                    </a:lnTo>
                    <a:lnTo>
                      <a:pt x="329" y="222"/>
                    </a:lnTo>
                    <a:lnTo>
                      <a:pt x="329" y="228"/>
                    </a:lnTo>
                    <a:lnTo>
                      <a:pt x="329" y="240"/>
                    </a:lnTo>
                    <a:lnTo>
                      <a:pt x="329" y="252"/>
                    </a:lnTo>
                    <a:lnTo>
                      <a:pt x="329" y="264"/>
                    </a:lnTo>
                    <a:lnTo>
                      <a:pt x="329" y="276"/>
                    </a:lnTo>
                    <a:lnTo>
                      <a:pt x="325" y="288"/>
                    </a:lnTo>
                    <a:lnTo>
                      <a:pt x="321" y="294"/>
                    </a:lnTo>
                    <a:lnTo>
                      <a:pt x="317" y="306"/>
                    </a:lnTo>
                    <a:lnTo>
                      <a:pt x="313" y="312"/>
                    </a:lnTo>
                    <a:lnTo>
                      <a:pt x="305" y="318"/>
                    </a:lnTo>
                    <a:lnTo>
                      <a:pt x="292" y="318"/>
                    </a:lnTo>
                    <a:lnTo>
                      <a:pt x="276" y="324"/>
                    </a:lnTo>
                    <a:lnTo>
                      <a:pt x="276" y="324"/>
                    </a:lnTo>
                    <a:lnTo>
                      <a:pt x="267" y="324"/>
                    </a:lnTo>
                    <a:lnTo>
                      <a:pt x="255" y="318"/>
                    </a:lnTo>
                    <a:lnTo>
                      <a:pt x="243" y="306"/>
                    </a:lnTo>
                    <a:lnTo>
                      <a:pt x="230" y="294"/>
                    </a:lnTo>
                    <a:lnTo>
                      <a:pt x="218" y="282"/>
                    </a:lnTo>
                    <a:lnTo>
                      <a:pt x="210" y="264"/>
                    </a:lnTo>
                    <a:lnTo>
                      <a:pt x="197" y="246"/>
                    </a:lnTo>
                    <a:lnTo>
                      <a:pt x="189" y="222"/>
                    </a:lnTo>
                    <a:lnTo>
                      <a:pt x="177" y="204"/>
                    </a:lnTo>
                    <a:lnTo>
                      <a:pt x="169" y="180"/>
                    </a:lnTo>
                    <a:lnTo>
                      <a:pt x="156" y="162"/>
                    </a:lnTo>
                    <a:lnTo>
                      <a:pt x="148" y="144"/>
                    </a:lnTo>
                    <a:lnTo>
                      <a:pt x="136" y="132"/>
                    </a:lnTo>
                    <a:lnTo>
                      <a:pt x="123" y="114"/>
                    </a:lnTo>
                    <a:lnTo>
                      <a:pt x="111" y="108"/>
                    </a:lnTo>
                    <a:lnTo>
                      <a:pt x="90" y="102"/>
                    </a:lnTo>
                    <a:lnTo>
                      <a:pt x="90" y="102"/>
                    </a:lnTo>
                    <a:lnTo>
                      <a:pt x="86" y="102"/>
                    </a:lnTo>
                    <a:lnTo>
                      <a:pt x="74" y="102"/>
                    </a:lnTo>
                    <a:lnTo>
                      <a:pt x="66" y="108"/>
                    </a:lnTo>
                    <a:lnTo>
                      <a:pt x="61" y="114"/>
                    </a:lnTo>
                    <a:lnTo>
                      <a:pt x="61" y="120"/>
                    </a:lnTo>
                    <a:lnTo>
                      <a:pt x="57" y="132"/>
                    </a:lnTo>
                    <a:lnTo>
                      <a:pt x="57" y="138"/>
                    </a:lnTo>
                    <a:lnTo>
                      <a:pt x="57" y="150"/>
                    </a:lnTo>
                    <a:lnTo>
                      <a:pt x="57" y="162"/>
                    </a:lnTo>
                    <a:lnTo>
                      <a:pt x="53" y="168"/>
                    </a:lnTo>
                    <a:lnTo>
                      <a:pt x="53" y="180"/>
                    </a:lnTo>
                    <a:lnTo>
                      <a:pt x="53" y="186"/>
                    </a:lnTo>
                    <a:lnTo>
                      <a:pt x="53" y="192"/>
                    </a:lnTo>
                    <a:lnTo>
                      <a:pt x="49" y="198"/>
                    </a:lnTo>
                    <a:lnTo>
                      <a:pt x="45" y="204"/>
                    </a:lnTo>
                    <a:lnTo>
                      <a:pt x="33" y="210"/>
                    </a:lnTo>
                    <a:lnTo>
                      <a:pt x="33" y="210"/>
                    </a:lnTo>
                    <a:lnTo>
                      <a:pt x="33" y="210"/>
                    </a:lnTo>
                    <a:lnTo>
                      <a:pt x="28" y="210"/>
                    </a:lnTo>
                    <a:lnTo>
                      <a:pt x="28" y="204"/>
                    </a:lnTo>
                    <a:lnTo>
                      <a:pt x="24" y="204"/>
                    </a:lnTo>
                    <a:lnTo>
                      <a:pt x="24" y="204"/>
                    </a:lnTo>
                    <a:lnTo>
                      <a:pt x="20" y="204"/>
                    </a:lnTo>
                    <a:lnTo>
                      <a:pt x="20" y="198"/>
                    </a:lnTo>
                    <a:lnTo>
                      <a:pt x="16" y="198"/>
                    </a:lnTo>
                    <a:lnTo>
                      <a:pt x="16" y="192"/>
                    </a:lnTo>
                    <a:lnTo>
                      <a:pt x="16" y="192"/>
                    </a:lnTo>
                    <a:lnTo>
                      <a:pt x="12" y="186"/>
                    </a:lnTo>
                    <a:lnTo>
                      <a:pt x="12" y="180"/>
                    </a:lnTo>
                    <a:lnTo>
                      <a:pt x="8" y="180"/>
                    </a:lnTo>
                    <a:lnTo>
                      <a:pt x="8" y="174"/>
                    </a:lnTo>
                    <a:lnTo>
                      <a:pt x="4" y="168"/>
                    </a:lnTo>
                    <a:lnTo>
                      <a:pt x="0" y="156"/>
                    </a:lnTo>
                    <a:lnTo>
                      <a:pt x="0" y="156"/>
                    </a:lnTo>
                    <a:lnTo>
                      <a:pt x="0" y="150"/>
                    </a:lnTo>
                    <a:lnTo>
                      <a:pt x="8" y="138"/>
                    </a:lnTo>
                    <a:lnTo>
                      <a:pt x="12" y="126"/>
                    </a:lnTo>
                    <a:lnTo>
                      <a:pt x="16" y="120"/>
                    </a:lnTo>
                    <a:lnTo>
                      <a:pt x="20" y="108"/>
                    </a:lnTo>
                    <a:lnTo>
                      <a:pt x="24" y="96"/>
                    </a:lnTo>
                    <a:lnTo>
                      <a:pt x="28" y="90"/>
                    </a:lnTo>
                    <a:lnTo>
                      <a:pt x="33" y="78"/>
                    </a:lnTo>
                    <a:lnTo>
                      <a:pt x="37" y="72"/>
                    </a:lnTo>
                    <a:lnTo>
                      <a:pt x="41" y="60"/>
                    </a:lnTo>
                    <a:lnTo>
                      <a:pt x="49" y="54"/>
                    </a:lnTo>
                    <a:lnTo>
                      <a:pt x="53" y="42"/>
                    </a:lnTo>
                    <a:lnTo>
                      <a:pt x="57" y="36"/>
                    </a:lnTo>
                    <a:lnTo>
                      <a:pt x="61" y="24"/>
                    </a:lnTo>
                    <a:lnTo>
                      <a:pt x="70" y="12"/>
                    </a:lnTo>
                    <a:lnTo>
                      <a:pt x="82" y="0"/>
                    </a:lnTo>
                    <a:lnTo>
                      <a:pt x="300" y="54"/>
                    </a:lnTo>
                    <a:lnTo>
                      <a:pt x="321" y="180"/>
                    </a:lnTo>
                    <a:close/>
                  </a:path>
                </a:pathLst>
              </a:custGeom>
              <a:solidFill>
                <a:srgbClr val="ffcc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1061400">
                <a:off x="5784480" y="881640"/>
                <a:ext cx="3245760" cy="1638360"/>
              </a:xfrm>
              <a:custGeom>
                <a:avLst/>
                <a:gdLst/>
                <a:ahLst/>
                <a:rect l="l" t="t" r="r" b="b"/>
                <a:pathLst>
                  <a:path w="2476" h="1032">
                    <a:moveTo>
                      <a:pt x="1236" y="546"/>
                    </a:moveTo>
                    <a:lnTo>
                      <a:pt x="1236" y="546"/>
                    </a:lnTo>
                    <a:lnTo>
                      <a:pt x="1248" y="546"/>
                    </a:lnTo>
                    <a:lnTo>
                      <a:pt x="1277" y="546"/>
                    </a:lnTo>
                    <a:lnTo>
                      <a:pt x="1306" y="546"/>
                    </a:lnTo>
                    <a:lnTo>
                      <a:pt x="1335" y="546"/>
                    </a:lnTo>
                    <a:lnTo>
                      <a:pt x="1368" y="552"/>
                    </a:lnTo>
                    <a:lnTo>
                      <a:pt x="1401" y="552"/>
                    </a:lnTo>
                    <a:lnTo>
                      <a:pt x="1438" y="552"/>
                    </a:lnTo>
                    <a:lnTo>
                      <a:pt x="1471" y="558"/>
                    </a:lnTo>
                    <a:lnTo>
                      <a:pt x="1508" y="564"/>
                    </a:lnTo>
                    <a:lnTo>
                      <a:pt x="1545" y="570"/>
                    </a:lnTo>
                    <a:lnTo>
                      <a:pt x="1582" y="576"/>
                    </a:lnTo>
                    <a:lnTo>
                      <a:pt x="1619" y="588"/>
                    </a:lnTo>
                    <a:lnTo>
                      <a:pt x="1660" y="594"/>
                    </a:lnTo>
                    <a:lnTo>
                      <a:pt x="1697" y="606"/>
                    </a:lnTo>
                    <a:lnTo>
                      <a:pt x="1734" y="618"/>
                    </a:lnTo>
                    <a:lnTo>
                      <a:pt x="1792" y="642"/>
                    </a:lnTo>
                    <a:lnTo>
                      <a:pt x="1792" y="642"/>
                    </a:lnTo>
                    <a:lnTo>
                      <a:pt x="1817" y="648"/>
                    </a:lnTo>
                    <a:lnTo>
                      <a:pt x="1862" y="672"/>
                    </a:lnTo>
                    <a:lnTo>
                      <a:pt x="1912" y="690"/>
                    </a:lnTo>
                    <a:lnTo>
                      <a:pt x="1957" y="714"/>
                    </a:lnTo>
                    <a:lnTo>
                      <a:pt x="2006" y="738"/>
                    </a:lnTo>
                    <a:lnTo>
                      <a:pt x="2052" y="756"/>
                    </a:lnTo>
                    <a:lnTo>
                      <a:pt x="2097" y="780"/>
                    </a:lnTo>
                    <a:lnTo>
                      <a:pt x="2138" y="810"/>
                    </a:lnTo>
                    <a:lnTo>
                      <a:pt x="2179" y="834"/>
                    </a:lnTo>
                    <a:lnTo>
                      <a:pt x="2212" y="858"/>
                    </a:lnTo>
                    <a:lnTo>
                      <a:pt x="2245" y="882"/>
                    </a:lnTo>
                    <a:lnTo>
                      <a:pt x="2274" y="906"/>
                    </a:lnTo>
                    <a:lnTo>
                      <a:pt x="2299" y="936"/>
                    </a:lnTo>
                    <a:lnTo>
                      <a:pt x="2315" y="960"/>
                    </a:lnTo>
                    <a:lnTo>
                      <a:pt x="2328" y="990"/>
                    </a:lnTo>
                    <a:lnTo>
                      <a:pt x="2336" y="1032"/>
                    </a:lnTo>
                    <a:lnTo>
                      <a:pt x="2336" y="1032"/>
                    </a:lnTo>
                    <a:lnTo>
                      <a:pt x="2336" y="1020"/>
                    </a:lnTo>
                    <a:lnTo>
                      <a:pt x="2340" y="1002"/>
                    </a:lnTo>
                    <a:lnTo>
                      <a:pt x="2340" y="978"/>
                    </a:lnTo>
                    <a:lnTo>
                      <a:pt x="2344" y="954"/>
                    </a:lnTo>
                    <a:lnTo>
                      <a:pt x="2348" y="930"/>
                    </a:lnTo>
                    <a:lnTo>
                      <a:pt x="2352" y="906"/>
                    </a:lnTo>
                    <a:lnTo>
                      <a:pt x="2357" y="882"/>
                    </a:lnTo>
                    <a:lnTo>
                      <a:pt x="2365" y="858"/>
                    </a:lnTo>
                    <a:lnTo>
                      <a:pt x="2369" y="834"/>
                    </a:lnTo>
                    <a:lnTo>
                      <a:pt x="2377" y="810"/>
                    </a:lnTo>
                    <a:lnTo>
                      <a:pt x="2385" y="786"/>
                    </a:lnTo>
                    <a:lnTo>
                      <a:pt x="2394" y="762"/>
                    </a:lnTo>
                    <a:lnTo>
                      <a:pt x="2402" y="738"/>
                    </a:lnTo>
                    <a:lnTo>
                      <a:pt x="2410" y="714"/>
                    </a:lnTo>
                    <a:lnTo>
                      <a:pt x="2418" y="696"/>
                    </a:lnTo>
                    <a:lnTo>
                      <a:pt x="2431" y="660"/>
                    </a:lnTo>
                    <a:lnTo>
                      <a:pt x="2431" y="660"/>
                    </a:lnTo>
                    <a:lnTo>
                      <a:pt x="2435" y="654"/>
                    </a:lnTo>
                    <a:lnTo>
                      <a:pt x="2447" y="630"/>
                    </a:lnTo>
                    <a:lnTo>
                      <a:pt x="2455" y="612"/>
                    </a:lnTo>
                    <a:lnTo>
                      <a:pt x="2464" y="594"/>
                    </a:lnTo>
                    <a:lnTo>
                      <a:pt x="2468" y="576"/>
                    </a:lnTo>
                    <a:lnTo>
                      <a:pt x="2472" y="564"/>
                    </a:lnTo>
                    <a:lnTo>
                      <a:pt x="2472" y="546"/>
                    </a:lnTo>
                    <a:lnTo>
                      <a:pt x="2476" y="534"/>
                    </a:lnTo>
                    <a:lnTo>
                      <a:pt x="2476" y="522"/>
                    </a:lnTo>
                    <a:lnTo>
                      <a:pt x="2472" y="510"/>
                    </a:lnTo>
                    <a:lnTo>
                      <a:pt x="2472" y="498"/>
                    </a:lnTo>
                    <a:lnTo>
                      <a:pt x="2468" y="486"/>
                    </a:lnTo>
                    <a:lnTo>
                      <a:pt x="2460" y="474"/>
                    </a:lnTo>
                    <a:lnTo>
                      <a:pt x="2455" y="462"/>
                    </a:lnTo>
                    <a:lnTo>
                      <a:pt x="2443" y="450"/>
                    </a:lnTo>
                    <a:lnTo>
                      <a:pt x="2427" y="432"/>
                    </a:lnTo>
                    <a:lnTo>
                      <a:pt x="2427" y="432"/>
                    </a:lnTo>
                    <a:lnTo>
                      <a:pt x="2422" y="426"/>
                    </a:lnTo>
                    <a:lnTo>
                      <a:pt x="2402" y="408"/>
                    </a:lnTo>
                    <a:lnTo>
                      <a:pt x="2381" y="390"/>
                    </a:lnTo>
                    <a:lnTo>
                      <a:pt x="2361" y="372"/>
                    </a:lnTo>
                    <a:lnTo>
                      <a:pt x="2332" y="354"/>
                    </a:lnTo>
                    <a:lnTo>
                      <a:pt x="2307" y="336"/>
                    </a:lnTo>
                    <a:lnTo>
                      <a:pt x="2278" y="312"/>
                    </a:lnTo>
                    <a:lnTo>
                      <a:pt x="2245" y="294"/>
                    </a:lnTo>
                    <a:lnTo>
                      <a:pt x="2212" y="276"/>
                    </a:lnTo>
                    <a:lnTo>
                      <a:pt x="2179" y="252"/>
                    </a:lnTo>
                    <a:lnTo>
                      <a:pt x="2142" y="234"/>
                    </a:lnTo>
                    <a:lnTo>
                      <a:pt x="2105" y="216"/>
                    </a:lnTo>
                    <a:lnTo>
                      <a:pt x="2064" y="198"/>
                    </a:lnTo>
                    <a:lnTo>
                      <a:pt x="2023" y="174"/>
                    </a:lnTo>
                    <a:lnTo>
                      <a:pt x="1982" y="156"/>
                    </a:lnTo>
                    <a:lnTo>
                      <a:pt x="1920" y="132"/>
                    </a:lnTo>
                    <a:lnTo>
                      <a:pt x="1920" y="132"/>
                    </a:lnTo>
                    <a:lnTo>
                      <a:pt x="1899" y="126"/>
                    </a:lnTo>
                    <a:lnTo>
                      <a:pt x="1862" y="114"/>
                    </a:lnTo>
                    <a:lnTo>
                      <a:pt x="1825" y="102"/>
                    </a:lnTo>
                    <a:lnTo>
                      <a:pt x="1784" y="84"/>
                    </a:lnTo>
                    <a:lnTo>
                      <a:pt x="1747" y="72"/>
                    </a:lnTo>
                    <a:lnTo>
                      <a:pt x="1706" y="66"/>
                    </a:lnTo>
                    <a:lnTo>
                      <a:pt x="1664" y="54"/>
                    </a:lnTo>
                    <a:lnTo>
                      <a:pt x="1619" y="42"/>
                    </a:lnTo>
                    <a:lnTo>
                      <a:pt x="1578" y="36"/>
                    </a:lnTo>
                    <a:lnTo>
                      <a:pt x="1533" y="24"/>
                    </a:lnTo>
                    <a:lnTo>
                      <a:pt x="1487" y="18"/>
                    </a:lnTo>
                    <a:lnTo>
                      <a:pt x="1446" y="12"/>
                    </a:lnTo>
                    <a:lnTo>
                      <a:pt x="1397" y="6"/>
                    </a:lnTo>
                    <a:lnTo>
                      <a:pt x="1351" y="6"/>
                    </a:lnTo>
                    <a:lnTo>
                      <a:pt x="1306" y="0"/>
                    </a:lnTo>
                    <a:lnTo>
                      <a:pt x="1236" y="0"/>
                    </a:lnTo>
                    <a:lnTo>
                      <a:pt x="1236" y="0"/>
                    </a:lnTo>
                    <a:lnTo>
                      <a:pt x="1211" y="0"/>
                    </a:lnTo>
                    <a:lnTo>
                      <a:pt x="1166" y="0"/>
                    </a:lnTo>
                    <a:lnTo>
                      <a:pt x="1121" y="6"/>
                    </a:lnTo>
                    <a:lnTo>
                      <a:pt x="1075" y="6"/>
                    </a:lnTo>
                    <a:lnTo>
                      <a:pt x="1026" y="12"/>
                    </a:lnTo>
                    <a:lnTo>
                      <a:pt x="981" y="18"/>
                    </a:lnTo>
                    <a:lnTo>
                      <a:pt x="935" y="24"/>
                    </a:lnTo>
                    <a:lnTo>
                      <a:pt x="890" y="30"/>
                    </a:lnTo>
                    <a:lnTo>
                      <a:pt x="849" y="36"/>
                    </a:lnTo>
                    <a:lnTo>
                      <a:pt x="803" y="48"/>
                    </a:lnTo>
                    <a:lnTo>
                      <a:pt x="762" y="60"/>
                    </a:lnTo>
                    <a:lnTo>
                      <a:pt x="717" y="66"/>
                    </a:lnTo>
                    <a:lnTo>
                      <a:pt x="680" y="78"/>
                    </a:lnTo>
                    <a:lnTo>
                      <a:pt x="639" y="90"/>
                    </a:lnTo>
                    <a:lnTo>
                      <a:pt x="597" y="108"/>
                    </a:lnTo>
                    <a:lnTo>
                      <a:pt x="544" y="126"/>
                    </a:lnTo>
                    <a:lnTo>
                      <a:pt x="544" y="126"/>
                    </a:lnTo>
                    <a:lnTo>
                      <a:pt x="519" y="132"/>
                    </a:lnTo>
                    <a:lnTo>
                      <a:pt x="478" y="150"/>
                    </a:lnTo>
                    <a:lnTo>
                      <a:pt x="437" y="168"/>
                    </a:lnTo>
                    <a:lnTo>
                      <a:pt x="400" y="186"/>
                    </a:lnTo>
                    <a:lnTo>
                      <a:pt x="358" y="204"/>
                    </a:lnTo>
                    <a:lnTo>
                      <a:pt x="325" y="222"/>
                    </a:lnTo>
                    <a:lnTo>
                      <a:pt x="288" y="240"/>
                    </a:lnTo>
                    <a:lnTo>
                      <a:pt x="255" y="258"/>
                    </a:lnTo>
                    <a:lnTo>
                      <a:pt x="222" y="282"/>
                    </a:lnTo>
                    <a:lnTo>
                      <a:pt x="189" y="300"/>
                    </a:lnTo>
                    <a:lnTo>
                      <a:pt x="161" y="318"/>
                    </a:lnTo>
                    <a:lnTo>
                      <a:pt x="136" y="336"/>
                    </a:lnTo>
                    <a:lnTo>
                      <a:pt x="111" y="354"/>
                    </a:lnTo>
                    <a:lnTo>
                      <a:pt x="91" y="372"/>
                    </a:lnTo>
                    <a:lnTo>
                      <a:pt x="70" y="390"/>
                    </a:lnTo>
                    <a:lnTo>
                      <a:pt x="41" y="414"/>
                    </a:lnTo>
                    <a:lnTo>
                      <a:pt x="41" y="414"/>
                    </a:lnTo>
                    <a:lnTo>
                      <a:pt x="37" y="420"/>
                    </a:lnTo>
                    <a:lnTo>
                      <a:pt x="29" y="432"/>
                    </a:lnTo>
                    <a:lnTo>
                      <a:pt x="16" y="444"/>
                    </a:lnTo>
                    <a:lnTo>
                      <a:pt x="12" y="456"/>
                    </a:lnTo>
                    <a:lnTo>
                      <a:pt x="8" y="468"/>
                    </a:lnTo>
                    <a:lnTo>
                      <a:pt x="4" y="480"/>
                    </a:lnTo>
                    <a:lnTo>
                      <a:pt x="0" y="492"/>
                    </a:lnTo>
                    <a:lnTo>
                      <a:pt x="0" y="504"/>
                    </a:lnTo>
                    <a:lnTo>
                      <a:pt x="0" y="516"/>
                    </a:lnTo>
                    <a:lnTo>
                      <a:pt x="0" y="528"/>
                    </a:lnTo>
                    <a:lnTo>
                      <a:pt x="4" y="546"/>
                    </a:lnTo>
                    <a:lnTo>
                      <a:pt x="8" y="558"/>
                    </a:lnTo>
                    <a:lnTo>
                      <a:pt x="12" y="576"/>
                    </a:lnTo>
                    <a:lnTo>
                      <a:pt x="21" y="594"/>
                    </a:lnTo>
                    <a:lnTo>
                      <a:pt x="25" y="606"/>
                    </a:lnTo>
                    <a:lnTo>
                      <a:pt x="41" y="636"/>
                    </a:lnTo>
                    <a:lnTo>
                      <a:pt x="41" y="636"/>
                    </a:lnTo>
                    <a:lnTo>
                      <a:pt x="45" y="642"/>
                    </a:lnTo>
                    <a:lnTo>
                      <a:pt x="54" y="666"/>
                    </a:lnTo>
                    <a:lnTo>
                      <a:pt x="62" y="690"/>
                    </a:lnTo>
                    <a:lnTo>
                      <a:pt x="70" y="714"/>
                    </a:lnTo>
                    <a:lnTo>
                      <a:pt x="78" y="738"/>
                    </a:lnTo>
                    <a:lnTo>
                      <a:pt x="86" y="762"/>
                    </a:lnTo>
                    <a:lnTo>
                      <a:pt x="91" y="792"/>
                    </a:lnTo>
                    <a:lnTo>
                      <a:pt x="99" y="816"/>
                    </a:lnTo>
                    <a:lnTo>
                      <a:pt x="103" y="840"/>
                    </a:lnTo>
                    <a:lnTo>
                      <a:pt x="111" y="870"/>
                    </a:lnTo>
                    <a:lnTo>
                      <a:pt x="115" y="894"/>
                    </a:lnTo>
                    <a:lnTo>
                      <a:pt x="119" y="918"/>
                    </a:lnTo>
                    <a:lnTo>
                      <a:pt x="124" y="942"/>
                    </a:lnTo>
                    <a:lnTo>
                      <a:pt x="128" y="966"/>
                    </a:lnTo>
                    <a:lnTo>
                      <a:pt x="132" y="984"/>
                    </a:lnTo>
                    <a:lnTo>
                      <a:pt x="132" y="1014"/>
                    </a:lnTo>
                    <a:lnTo>
                      <a:pt x="132" y="1014"/>
                    </a:lnTo>
                    <a:lnTo>
                      <a:pt x="136" y="1002"/>
                    </a:lnTo>
                    <a:lnTo>
                      <a:pt x="144" y="972"/>
                    </a:lnTo>
                    <a:lnTo>
                      <a:pt x="157" y="942"/>
                    </a:lnTo>
                    <a:lnTo>
                      <a:pt x="177" y="918"/>
                    </a:lnTo>
                    <a:lnTo>
                      <a:pt x="198" y="888"/>
                    </a:lnTo>
                    <a:lnTo>
                      <a:pt x="227" y="864"/>
                    </a:lnTo>
                    <a:lnTo>
                      <a:pt x="264" y="840"/>
                    </a:lnTo>
                    <a:lnTo>
                      <a:pt x="297" y="816"/>
                    </a:lnTo>
                    <a:lnTo>
                      <a:pt x="338" y="792"/>
                    </a:lnTo>
                    <a:lnTo>
                      <a:pt x="379" y="768"/>
                    </a:lnTo>
                    <a:lnTo>
                      <a:pt x="424" y="744"/>
                    </a:lnTo>
                    <a:lnTo>
                      <a:pt x="470" y="726"/>
                    </a:lnTo>
                    <a:lnTo>
                      <a:pt x="519" y="702"/>
                    </a:lnTo>
                    <a:lnTo>
                      <a:pt x="569" y="684"/>
                    </a:lnTo>
                    <a:lnTo>
                      <a:pt x="614" y="660"/>
                    </a:lnTo>
                    <a:lnTo>
                      <a:pt x="688" y="630"/>
                    </a:lnTo>
                    <a:lnTo>
                      <a:pt x="688" y="630"/>
                    </a:lnTo>
                    <a:lnTo>
                      <a:pt x="704" y="624"/>
                    </a:lnTo>
                    <a:lnTo>
                      <a:pt x="742" y="612"/>
                    </a:lnTo>
                    <a:lnTo>
                      <a:pt x="779" y="600"/>
                    </a:lnTo>
                    <a:lnTo>
                      <a:pt x="820" y="588"/>
                    </a:lnTo>
                    <a:lnTo>
                      <a:pt x="857" y="582"/>
                    </a:lnTo>
                    <a:lnTo>
                      <a:pt x="894" y="576"/>
                    </a:lnTo>
                    <a:lnTo>
                      <a:pt x="931" y="564"/>
                    </a:lnTo>
                    <a:lnTo>
                      <a:pt x="968" y="564"/>
                    </a:lnTo>
                    <a:lnTo>
                      <a:pt x="1005" y="558"/>
                    </a:lnTo>
                    <a:lnTo>
                      <a:pt x="1038" y="552"/>
                    </a:lnTo>
                    <a:lnTo>
                      <a:pt x="1075" y="552"/>
                    </a:lnTo>
                    <a:lnTo>
                      <a:pt x="1108" y="546"/>
                    </a:lnTo>
                    <a:lnTo>
                      <a:pt x="1137" y="546"/>
                    </a:lnTo>
                    <a:lnTo>
                      <a:pt x="1170" y="546"/>
                    </a:lnTo>
                    <a:lnTo>
                      <a:pt x="1199" y="546"/>
                    </a:lnTo>
                    <a:lnTo>
                      <a:pt x="1236" y="546"/>
                    </a:lnTo>
                    <a:close/>
                  </a:path>
                </a:pathLst>
              </a:custGeom>
              <a:solidFill>
                <a:srgbClr val="ff9900">
                  <a:alpha val="43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rot="1061400">
                <a:off x="5828040" y="930960"/>
                <a:ext cx="3185280" cy="1438200"/>
              </a:xfrm>
              <a:custGeom>
                <a:avLst/>
                <a:gdLst/>
                <a:ahLst/>
                <a:rect l="l" t="t" r="r" b="b"/>
                <a:pathLst>
                  <a:path w="2430" h="906">
                    <a:moveTo>
                      <a:pt x="1215" y="480"/>
                    </a:moveTo>
                    <a:lnTo>
                      <a:pt x="1215" y="480"/>
                    </a:lnTo>
                    <a:lnTo>
                      <a:pt x="1227" y="480"/>
                    </a:lnTo>
                    <a:lnTo>
                      <a:pt x="1256" y="480"/>
                    </a:lnTo>
                    <a:lnTo>
                      <a:pt x="1285" y="480"/>
                    </a:lnTo>
                    <a:lnTo>
                      <a:pt x="1314" y="480"/>
                    </a:lnTo>
                    <a:lnTo>
                      <a:pt x="1347" y="486"/>
                    </a:lnTo>
                    <a:lnTo>
                      <a:pt x="1380" y="486"/>
                    </a:lnTo>
                    <a:lnTo>
                      <a:pt x="1417" y="492"/>
                    </a:lnTo>
                    <a:lnTo>
                      <a:pt x="1454" y="498"/>
                    </a:lnTo>
                    <a:lnTo>
                      <a:pt x="1491" y="504"/>
                    </a:lnTo>
                    <a:lnTo>
                      <a:pt x="1528" y="510"/>
                    </a:lnTo>
                    <a:lnTo>
                      <a:pt x="1565" y="516"/>
                    </a:lnTo>
                    <a:lnTo>
                      <a:pt x="1602" y="528"/>
                    </a:lnTo>
                    <a:lnTo>
                      <a:pt x="1643" y="534"/>
                    </a:lnTo>
                    <a:lnTo>
                      <a:pt x="1680" y="546"/>
                    </a:lnTo>
                    <a:lnTo>
                      <a:pt x="1718" y="564"/>
                    </a:lnTo>
                    <a:lnTo>
                      <a:pt x="1775" y="582"/>
                    </a:lnTo>
                    <a:lnTo>
                      <a:pt x="1775" y="582"/>
                    </a:lnTo>
                    <a:lnTo>
                      <a:pt x="1800" y="594"/>
                    </a:lnTo>
                    <a:lnTo>
                      <a:pt x="1845" y="612"/>
                    </a:lnTo>
                    <a:lnTo>
                      <a:pt x="1891" y="636"/>
                    </a:lnTo>
                    <a:lnTo>
                      <a:pt x="1936" y="654"/>
                    </a:lnTo>
                    <a:lnTo>
                      <a:pt x="1981" y="678"/>
                    </a:lnTo>
                    <a:lnTo>
                      <a:pt x="2022" y="696"/>
                    </a:lnTo>
                    <a:lnTo>
                      <a:pt x="2064" y="714"/>
                    </a:lnTo>
                    <a:lnTo>
                      <a:pt x="2101" y="738"/>
                    </a:lnTo>
                    <a:lnTo>
                      <a:pt x="2138" y="762"/>
                    </a:lnTo>
                    <a:lnTo>
                      <a:pt x="2171" y="780"/>
                    </a:lnTo>
                    <a:lnTo>
                      <a:pt x="2204" y="804"/>
                    </a:lnTo>
                    <a:lnTo>
                      <a:pt x="2233" y="822"/>
                    </a:lnTo>
                    <a:lnTo>
                      <a:pt x="2253" y="840"/>
                    </a:lnTo>
                    <a:lnTo>
                      <a:pt x="2274" y="864"/>
                    </a:lnTo>
                    <a:lnTo>
                      <a:pt x="2290" y="882"/>
                    </a:lnTo>
                    <a:lnTo>
                      <a:pt x="2303" y="906"/>
                    </a:lnTo>
                    <a:lnTo>
                      <a:pt x="2303" y="906"/>
                    </a:lnTo>
                    <a:lnTo>
                      <a:pt x="2307" y="900"/>
                    </a:lnTo>
                    <a:lnTo>
                      <a:pt x="2307" y="882"/>
                    </a:lnTo>
                    <a:lnTo>
                      <a:pt x="2311" y="864"/>
                    </a:lnTo>
                    <a:lnTo>
                      <a:pt x="2315" y="846"/>
                    </a:lnTo>
                    <a:lnTo>
                      <a:pt x="2319" y="828"/>
                    </a:lnTo>
                    <a:lnTo>
                      <a:pt x="2323" y="810"/>
                    </a:lnTo>
                    <a:lnTo>
                      <a:pt x="2327" y="792"/>
                    </a:lnTo>
                    <a:lnTo>
                      <a:pt x="2331" y="774"/>
                    </a:lnTo>
                    <a:lnTo>
                      <a:pt x="2336" y="762"/>
                    </a:lnTo>
                    <a:lnTo>
                      <a:pt x="2344" y="744"/>
                    </a:lnTo>
                    <a:lnTo>
                      <a:pt x="2348" y="726"/>
                    </a:lnTo>
                    <a:lnTo>
                      <a:pt x="2356" y="702"/>
                    </a:lnTo>
                    <a:lnTo>
                      <a:pt x="2364" y="690"/>
                    </a:lnTo>
                    <a:lnTo>
                      <a:pt x="2373" y="666"/>
                    </a:lnTo>
                    <a:lnTo>
                      <a:pt x="2381" y="648"/>
                    </a:lnTo>
                    <a:lnTo>
                      <a:pt x="2393" y="618"/>
                    </a:lnTo>
                    <a:lnTo>
                      <a:pt x="2393" y="618"/>
                    </a:lnTo>
                    <a:lnTo>
                      <a:pt x="2397" y="606"/>
                    </a:lnTo>
                    <a:lnTo>
                      <a:pt x="2406" y="588"/>
                    </a:lnTo>
                    <a:lnTo>
                      <a:pt x="2414" y="570"/>
                    </a:lnTo>
                    <a:lnTo>
                      <a:pt x="2422" y="552"/>
                    </a:lnTo>
                    <a:lnTo>
                      <a:pt x="2426" y="540"/>
                    </a:lnTo>
                    <a:lnTo>
                      <a:pt x="2430" y="522"/>
                    </a:lnTo>
                    <a:lnTo>
                      <a:pt x="2430" y="510"/>
                    </a:lnTo>
                    <a:lnTo>
                      <a:pt x="2430" y="504"/>
                    </a:lnTo>
                    <a:lnTo>
                      <a:pt x="2430" y="492"/>
                    </a:lnTo>
                    <a:lnTo>
                      <a:pt x="2430" y="480"/>
                    </a:lnTo>
                    <a:lnTo>
                      <a:pt x="2426" y="474"/>
                    </a:lnTo>
                    <a:lnTo>
                      <a:pt x="2422" y="462"/>
                    </a:lnTo>
                    <a:lnTo>
                      <a:pt x="2414" y="456"/>
                    </a:lnTo>
                    <a:lnTo>
                      <a:pt x="2410" y="444"/>
                    </a:lnTo>
                    <a:lnTo>
                      <a:pt x="2401" y="438"/>
                    </a:lnTo>
                    <a:lnTo>
                      <a:pt x="2385" y="420"/>
                    </a:lnTo>
                    <a:lnTo>
                      <a:pt x="2385" y="420"/>
                    </a:lnTo>
                    <a:lnTo>
                      <a:pt x="2377" y="414"/>
                    </a:lnTo>
                    <a:lnTo>
                      <a:pt x="2360" y="396"/>
                    </a:lnTo>
                    <a:lnTo>
                      <a:pt x="2340" y="378"/>
                    </a:lnTo>
                    <a:lnTo>
                      <a:pt x="2319" y="360"/>
                    </a:lnTo>
                    <a:lnTo>
                      <a:pt x="2294" y="342"/>
                    </a:lnTo>
                    <a:lnTo>
                      <a:pt x="2266" y="324"/>
                    </a:lnTo>
                    <a:lnTo>
                      <a:pt x="2237" y="306"/>
                    </a:lnTo>
                    <a:lnTo>
                      <a:pt x="2208" y="282"/>
                    </a:lnTo>
                    <a:lnTo>
                      <a:pt x="2175" y="264"/>
                    </a:lnTo>
                    <a:lnTo>
                      <a:pt x="2142" y="246"/>
                    </a:lnTo>
                    <a:lnTo>
                      <a:pt x="2105" y="222"/>
                    </a:lnTo>
                    <a:lnTo>
                      <a:pt x="2068" y="204"/>
                    </a:lnTo>
                    <a:lnTo>
                      <a:pt x="2031" y="186"/>
                    </a:lnTo>
                    <a:lnTo>
                      <a:pt x="1994" y="168"/>
                    </a:lnTo>
                    <a:lnTo>
                      <a:pt x="1952" y="150"/>
                    </a:lnTo>
                    <a:lnTo>
                      <a:pt x="1886" y="120"/>
                    </a:lnTo>
                    <a:lnTo>
                      <a:pt x="1886" y="120"/>
                    </a:lnTo>
                    <a:lnTo>
                      <a:pt x="1870" y="114"/>
                    </a:lnTo>
                    <a:lnTo>
                      <a:pt x="1833" y="102"/>
                    </a:lnTo>
                    <a:lnTo>
                      <a:pt x="1796" y="90"/>
                    </a:lnTo>
                    <a:lnTo>
                      <a:pt x="1755" y="78"/>
                    </a:lnTo>
                    <a:lnTo>
                      <a:pt x="1718" y="66"/>
                    </a:lnTo>
                    <a:lnTo>
                      <a:pt x="1676" y="54"/>
                    </a:lnTo>
                    <a:lnTo>
                      <a:pt x="1635" y="48"/>
                    </a:lnTo>
                    <a:lnTo>
                      <a:pt x="1594" y="36"/>
                    </a:lnTo>
                    <a:lnTo>
                      <a:pt x="1553" y="30"/>
                    </a:lnTo>
                    <a:lnTo>
                      <a:pt x="1507" y="24"/>
                    </a:lnTo>
                    <a:lnTo>
                      <a:pt x="1466" y="18"/>
                    </a:lnTo>
                    <a:lnTo>
                      <a:pt x="1421" y="12"/>
                    </a:lnTo>
                    <a:lnTo>
                      <a:pt x="1376" y="6"/>
                    </a:lnTo>
                    <a:lnTo>
                      <a:pt x="1330" y="6"/>
                    </a:lnTo>
                    <a:lnTo>
                      <a:pt x="1285" y="0"/>
                    </a:lnTo>
                    <a:lnTo>
                      <a:pt x="1215" y="0"/>
                    </a:lnTo>
                    <a:lnTo>
                      <a:pt x="1215" y="0"/>
                    </a:lnTo>
                    <a:lnTo>
                      <a:pt x="1190" y="0"/>
                    </a:lnTo>
                    <a:lnTo>
                      <a:pt x="1145" y="0"/>
                    </a:lnTo>
                    <a:lnTo>
                      <a:pt x="1100" y="6"/>
                    </a:lnTo>
                    <a:lnTo>
                      <a:pt x="1054" y="6"/>
                    </a:lnTo>
                    <a:lnTo>
                      <a:pt x="1005" y="12"/>
                    </a:lnTo>
                    <a:lnTo>
                      <a:pt x="964" y="18"/>
                    </a:lnTo>
                    <a:lnTo>
                      <a:pt x="918" y="24"/>
                    </a:lnTo>
                    <a:lnTo>
                      <a:pt x="873" y="30"/>
                    </a:lnTo>
                    <a:lnTo>
                      <a:pt x="828" y="42"/>
                    </a:lnTo>
                    <a:lnTo>
                      <a:pt x="786" y="48"/>
                    </a:lnTo>
                    <a:lnTo>
                      <a:pt x="745" y="60"/>
                    </a:lnTo>
                    <a:lnTo>
                      <a:pt x="700" y="72"/>
                    </a:lnTo>
                    <a:lnTo>
                      <a:pt x="663" y="78"/>
                    </a:lnTo>
                    <a:lnTo>
                      <a:pt x="622" y="96"/>
                    </a:lnTo>
                    <a:lnTo>
                      <a:pt x="580" y="102"/>
                    </a:lnTo>
                    <a:lnTo>
                      <a:pt x="527" y="126"/>
                    </a:lnTo>
                    <a:lnTo>
                      <a:pt x="527" y="126"/>
                    </a:lnTo>
                    <a:lnTo>
                      <a:pt x="506" y="132"/>
                    </a:lnTo>
                    <a:lnTo>
                      <a:pt x="465" y="150"/>
                    </a:lnTo>
                    <a:lnTo>
                      <a:pt x="424" y="168"/>
                    </a:lnTo>
                    <a:lnTo>
                      <a:pt x="383" y="186"/>
                    </a:lnTo>
                    <a:lnTo>
                      <a:pt x="346" y="204"/>
                    </a:lnTo>
                    <a:lnTo>
                      <a:pt x="313" y="222"/>
                    </a:lnTo>
                    <a:lnTo>
                      <a:pt x="276" y="240"/>
                    </a:lnTo>
                    <a:lnTo>
                      <a:pt x="243" y="258"/>
                    </a:lnTo>
                    <a:lnTo>
                      <a:pt x="214" y="276"/>
                    </a:lnTo>
                    <a:lnTo>
                      <a:pt x="185" y="288"/>
                    </a:lnTo>
                    <a:lnTo>
                      <a:pt x="156" y="306"/>
                    </a:lnTo>
                    <a:lnTo>
                      <a:pt x="131" y="324"/>
                    </a:lnTo>
                    <a:lnTo>
                      <a:pt x="111" y="342"/>
                    </a:lnTo>
                    <a:lnTo>
                      <a:pt x="90" y="360"/>
                    </a:lnTo>
                    <a:lnTo>
                      <a:pt x="70" y="372"/>
                    </a:lnTo>
                    <a:lnTo>
                      <a:pt x="49" y="396"/>
                    </a:lnTo>
                    <a:lnTo>
                      <a:pt x="49" y="396"/>
                    </a:lnTo>
                    <a:lnTo>
                      <a:pt x="41" y="402"/>
                    </a:lnTo>
                    <a:lnTo>
                      <a:pt x="33" y="414"/>
                    </a:lnTo>
                    <a:lnTo>
                      <a:pt x="20" y="426"/>
                    </a:lnTo>
                    <a:lnTo>
                      <a:pt x="16" y="432"/>
                    </a:lnTo>
                    <a:lnTo>
                      <a:pt x="8" y="444"/>
                    </a:lnTo>
                    <a:lnTo>
                      <a:pt x="4" y="456"/>
                    </a:lnTo>
                    <a:lnTo>
                      <a:pt x="0" y="462"/>
                    </a:lnTo>
                    <a:lnTo>
                      <a:pt x="0" y="474"/>
                    </a:lnTo>
                    <a:lnTo>
                      <a:pt x="0" y="486"/>
                    </a:lnTo>
                    <a:lnTo>
                      <a:pt x="0" y="492"/>
                    </a:lnTo>
                    <a:lnTo>
                      <a:pt x="0" y="504"/>
                    </a:lnTo>
                    <a:lnTo>
                      <a:pt x="4" y="522"/>
                    </a:lnTo>
                    <a:lnTo>
                      <a:pt x="8" y="534"/>
                    </a:lnTo>
                    <a:lnTo>
                      <a:pt x="16" y="546"/>
                    </a:lnTo>
                    <a:lnTo>
                      <a:pt x="24" y="564"/>
                    </a:lnTo>
                    <a:lnTo>
                      <a:pt x="37" y="588"/>
                    </a:lnTo>
                    <a:lnTo>
                      <a:pt x="37" y="588"/>
                    </a:lnTo>
                    <a:lnTo>
                      <a:pt x="41" y="600"/>
                    </a:lnTo>
                    <a:lnTo>
                      <a:pt x="49" y="618"/>
                    </a:lnTo>
                    <a:lnTo>
                      <a:pt x="57" y="636"/>
                    </a:lnTo>
                    <a:lnTo>
                      <a:pt x="65" y="660"/>
                    </a:lnTo>
                    <a:lnTo>
                      <a:pt x="74" y="678"/>
                    </a:lnTo>
                    <a:lnTo>
                      <a:pt x="78" y="696"/>
                    </a:lnTo>
                    <a:lnTo>
                      <a:pt x="82" y="714"/>
                    </a:lnTo>
                    <a:lnTo>
                      <a:pt x="90" y="738"/>
                    </a:lnTo>
                    <a:lnTo>
                      <a:pt x="94" y="756"/>
                    </a:lnTo>
                    <a:lnTo>
                      <a:pt x="98" y="774"/>
                    </a:lnTo>
                    <a:lnTo>
                      <a:pt x="103" y="792"/>
                    </a:lnTo>
                    <a:lnTo>
                      <a:pt x="107" y="816"/>
                    </a:lnTo>
                    <a:lnTo>
                      <a:pt x="111" y="834"/>
                    </a:lnTo>
                    <a:lnTo>
                      <a:pt x="115" y="852"/>
                    </a:lnTo>
                    <a:lnTo>
                      <a:pt x="119" y="864"/>
                    </a:lnTo>
                    <a:lnTo>
                      <a:pt x="123" y="894"/>
                    </a:lnTo>
                    <a:lnTo>
                      <a:pt x="123" y="894"/>
                    </a:lnTo>
                    <a:lnTo>
                      <a:pt x="127" y="882"/>
                    </a:lnTo>
                    <a:lnTo>
                      <a:pt x="136" y="870"/>
                    </a:lnTo>
                    <a:lnTo>
                      <a:pt x="148" y="852"/>
                    </a:lnTo>
                    <a:lnTo>
                      <a:pt x="164" y="834"/>
                    </a:lnTo>
                    <a:lnTo>
                      <a:pt x="189" y="810"/>
                    </a:lnTo>
                    <a:lnTo>
                      <a:pt x="218" y="792"/>
                    </a:lnTo>
                    <a:lnTo>
                      <a:pt x="247" y="768"/>
                    </a:lnTo>
                    <a:lnTo>
                      <a:pt x="284" y="750"/>
                    </a:lnTo>
                    <a:lnTo>
                      <a:pt x="321" y="726"/>
                    </a:lnTo>
                    <a:lnTo>
                      <a:pt x="362" y="702"/>
                    </a:lnTo>
                    <a:lnTo>
                      <a:pt x="403" y="684"/>
                    </a:lnTo>
                    <a:lnTo>
                      <a:pt x="449" y="660"/>
                    </a:lnTo>
                    <a:lnTo>
                      <a:pt x="494" y="642"/>
                    </a:lnTo>
                    <a:lnTo>
                      <a:pt x="539" y="618"/>
                    </a:lnTo>
                    <a:lnTo>
                      <a:pt x="585" y="600"/>
                    </a:lnTo>
                    <a:lnTo>
                      <a:pt x="659" y="570"/>
                    </a:lnTo>
                    <a:lnTo>
                      <a:pt x="659" y="570"/>
                    </a:lnTo>
                    <a:lnTo>
                      <a:pt x="675" y="564"/>
                    </a:lnTo>
                    <a:lnTo>
                      <a:pt x="716" y="552"/>
                    </a:lnTo>
                    <a:lnTo>
                      <a:pt x="754" y="540"/>
                    </a:lnTo>
                    <a:lnTo>
                      <a:pt x="791" y="528"/>
                    </a:lnTo>
                    <a:lnTo>
                      <a:pt x="832" y="522"/>
                    </a:lnTo>
                    <a:lnTo>
                      <a:pt x="869" y="510"/>
                    </a:lnTo>
                    <a:lnTo>
                      <a:pt x="906" y="504"/>
                    </a:lnTo>
                    <a:lnTo>
                      <a:pt x="943" y="498"/>
                    </a:lnTo>
                    <a:lnTo>
                      <a:pt x="980" y="492"/>
                    </a:lnTo>
                    <a:lnTo>
                      <a:pt x="1017" y="492"/>
                    </a:lnTo>
                    <a:lnTo>
                      <a:pt x="1050" y="486"/>
                    </a:lnTo>
                    <a:lnTo>
                      <a:pt x="1083" y="486"/>
                    </a:lnTo>
                    <a:lnTo>
                      <a:pt x="1116" y="480"/>
                    </a:lnTo>
                    <a:lnTo>
                      <a:pt x="1149" y="480"/>
                    </a:lnTo>
                    <a:lnTo>
                      <a:pt x="1178" y="480"/>
                    </a:lnTo>
                    <a:lnTo>
                      <a:pt x="1215" y="480"/>
                    </a:lnTo>
                    <a:close/>
                  </a:path>
                </a:pathLst>
              </a:custGeom>
              <a:solidFill>
                <a:srgbClr val="fffc8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
            <p:cNvSpPr txBox="1"/>
            <p:nvPr/>
          </p:nvSpPr>
          <p:spPr>
            <a:xfrm rot="877200">
              <a:off x="5722560" y="1341360"/>
              <a:ext cx="2952720" cy="2220840"/>
            </a:xfrm>
            <a:prstGeom prst="rect">
              <a:avLst/>
            </a:prstGeom>
          </p:spPr>
          <p:txBody>
            <a:bodyPr wrap="none" fromWordArt="1" lIns="90000" rIns="90000" tIns="46800" bIns="46800" anchor="t" anchorCtr="1">
              <a:prstTxWarp prst="textArchUp">
                <a:avLst>
                  <a:gd name="adj" fmla="val 1251947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L-Hor"/>
                </a:rPr>
                <a:t>7</a:t>
              </a:r>
              <a:r>
                <a:rPr b="0" lang="hi-IN" sz="1800" spc="1" strike="noStrike">
                  <a:ln w="9360">
                    <a:solidFill>
                      <a:srgbClr val="000000"/>
                    </a:solidFill>
                    <a:miter/>
                  </a:ln>
                  <a:solidFill>
                    <a:srgbClr val="000000"/>
                  </a:solidFill>
                  <a:latin typeface="AL-Hor"/>
                </a:rPr>
                <a:t>ــــ التسرع في تقويم الأفكار</a:t>
              </a:r>
              <a:r>
                <a:rPr b="0" lang="en-US" sz="1800" spc="1" strike="noStrike">
                  <a:ln w="9360">
                    <a:solidFill>
                      <a:srgbClr val="000000"/>
                    </a:solidFill>
                    <a:miter/>
                  </a:ln>
                  <a:solidFill>
                    <a:srgbClr val="000000"/>
                  </a:solidFill>
                  <a:latin typeface="AL-Hor"/>
                </a:rPr>
                <a:t> </a:t>
              </a:r>
              <a:endParaRPr b="0" lang="en-US" sz="1800" spc="1" strike="noStrike">
                <a:ln w="9360">
                  <a:solidFill>
                    <a:srgbClr val="000000"/>
                  </a:solidFill>
                  <a:miter/>
                </a:ln>
                <a:solidFill>
                  <a:srgbClr val="000000"/>
                </a:solidFill>
                <a:latin typeface="AL-Hor"/>
                <a:ea typeface="AL-Hor"/>
              </a:endParaRPr>
            </a:p>
          </p:txBody>
        </p:sp>
      </p:gr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29">
                                  <p:stCondLst>
                                    <p:cond delay="0"/>
                                  </p:stCondLst>
                                  <p:childTnLst>
                                    <p:set>
                                      <p:cBhvr>
                                        <p:cTn id="738" dur="1" fill="hold">
                                          <p:stCondLst>
                                            <p:cond delay="0"/>
                                          </p:stCondLst>
                                        </p:cTn>
                                        <p:tgtEl>
                                          <p:spTgt spid="222"/>
                                        </p:tgtEl>
                                        <p:attrNameLst>
                                          <p:attrName>style.visibility</p:attrName>
                                        </p:attrNameLst>
                                      </p:cBhvr>
                                      <p:to>
                                        <p:strVal val="visible"/>
                                      </p:to>
                                    </p:set>
                                    <p:anim calcmode="lin" valueType="num">
                                      <p:cBhvr additive="repl">
                                        <p:cTn id="739" dur="1000" fill="hold"/>
                                        <p:tgtEl>
                                          <p:spTgt spid="222"/>
                                        </p:tgtEl>
                                        <p:attrNameLst>
                                          <p:attrName>ppt_x</p:attrName>
                                        </p:attrNameLst>
                                      </p:cBhvr>
                                      <p:tavLst>
                                        <p:tav tm="0">
                                          <p:val>
                                            <p:strVal val="#ppt_x-.2"/>
                                          </p:val>
                                        </p:tav>
                                        <p:tav tm="100000">
                                          <p:val>
                                            <p:strVal val="#ppt_x"/>
                                          </p:val>
                                        </p:tav>
                                      </p:tavLst>
                                    </p:anim>
                                    <p:anim calcmode="lin" valueType="num">
                                      <p:cBhvr additive="repl">
                                        <p:cTn id="740"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741" dur="1000"/>
                                        <p:tgtEl>
                                          <p:spTgt spid="222"/>
                                        </p:tgtEl>
                                      </p:cBhvr>
                                    </p:animEffect>
                                  </p:childTnLst>
                                </p:cTn>
                              </p:par>
                              <p:par>
                                <p:cTn id="742" nodeType="withEffect" fill="hold" presetClass="emph" presetID="32" repeatCount="indefinite">
                                  <p:stCondLst>
                                    <p:cond delay="0"/>
                                  </p:stCondLst>
                                  <p:childTnLst>
                                    <p:animClr clrSpc="rgb">
                                      <p:cBhvr>
                                        <p:cTn id="743" dur="200" fill="hold"/>
                                        <p:tgtEl>
                                          <p:spTgt spid="222"/>
                                        </p:tgtEl>
                                        <p:attrNameLst>
                                          <p:attrName>style.color</p:attrName>
                                        </p:attrNameLst>
                                      </p:cBhvr>
                                      <p:to>
                                        <a:srgbClr val="333399"/>
                                      </p:to>
                                    </p:animClr>
                                    <p:animClr clrSpc="rgb">
                                      <p:cBhvr>
                                        <p:cTn id="744" dur="200" fill="hold"/>
                                        <p:tgtEl>
                                          <p:spTgt spid="222"/>
                                        </p:tgtEl>
                                        <p:attrNameLst>
                                          <p:attrName>fillcolor</p:attrName>
                                        </p:attrNameLst>
                                      </p:cBhvr>
                                      <p:to>
                                        <a:srgbClr val="333399"/>
                                      </p:to>
                                    </p:animClr>
                                    <p:set>
                                      <p:cBhvr>
                                        <p:cTn id="745" dur="200" fill="hold"/>
                                        <p:tgtEl>
                                          <p:spTgt spid="222"/>
                                        </p:tgtEl>
                                        <p:attrNameLst>
                                          <p:attrName>fill.type</p:attrName>
                                        </p:attrNameLst>
                                      </p:cBhvr>
                                      <p:to>
                                        <p:strVal val="solid"/>
                                      </p:to>
                                    </p:set>
                                    <p:animRot by="120000">
                                      <p:cBhvr>
                                        <p:cTn id="746" dur="200" fill="hold">
                                          <p:stCondLst>
                                            <p:cond delay="0"/>
                                          </p:stCondLst>
                                        </p:cTn>
                                        <p:tgtEl>
                                          <p:spTgt spid="222"/>
                                        </p:tgtEl>
                                        <p:attrNameLst>
                                          <p:attrName>r</p:attrName>
                                        </p:attrNameLst>
                                      </p:cBhvr>
                                    </p:animRot>
                                    <p:animRot by="-240000">
                                      <p:cBhvr>
                                        <p:cTn id="747" dur="400" fill="hold">
                                          <p:stCondLst>
                                            <p:cond delay="400"/>
                                          </p:stCondLst>
                                        </p:cTn>
                                        <p:tgtEl>
                                          <p:spTgt spid="222"/>
                                        </p:tgtEl>
                                        <p:attrNameLst>
                                          <p:attrName>r</p:attrName>
                                        </p:attrNameLst>
                                      </p:cBhvr>
                                    </p:animRot>
                                    <p:animRot by="240000">
                                      <p:cBhvr>
                                        <p:cTn id="748" dur="400" fill="hold">
                                          <p:stCondLst>
                                            <p:cond delay="800"/>
                                          </p:stCondLst>
                                        </p:cTn>
                                        <p:tgtEl>
                                          <p:spTgt spid="222"/>
                                        </p:tgtEl>
                                        <p:attrNameLst>
                                          <p:attrName>r</p:attrName>
                                        </p:attrNameLst>
                                      </p:cBhvr>
                                    </p:animRot>
                                    <p:animRot by="-240000">
                                      <p:cBhvr>
                                        <p:cTn id="749" dur="400" fill="hold">
                                          <p:stCondLst>
                                            <p:cond delay="1200"/>
                                          </p:stCondLst>
                                        </p:cTn>
                                        <p:tgtEl>
                                          <p:spTgt spid="222"/>
                                        </p:tgtEl>
                                        <p:attrNameLst>
                                          <p:attrName>r</p:attrName>
                                        </p:attrNameLst>
                                      </p:cBhvr>
                                    </p:animRot>
                                    <p:animRot by="120000">
                                      <p:cBhvr>
                                        <p:cTn id="750" dur="400" fill="hold">
                                          <p:stCondLst>
                                            <p:cond delay="1600"/>
                                          </p:stCondLst>
                                        </p:cTn>
                                        <p:tgtEl>
                                          <p:spTgt spid="222"/>
                                        </p:tgtEl>
                                        <p:attrNameLst>
                                          <p:attrName>r</p:attrName>
                                        </p:attrNameLst>
                                      </p:cBhvr>
                                    </p:animRo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3" presetSubtype="16">
                                  <p:stCondLst>
                                    <p:cond delay="0"/>
                                  </p:stCondLst>
                                  <p:childTnLst>
                                    <p:set>
                                      <p:cBhvr>
                                        <p:cTn id="754" dur="1" fill="hold">
                                          <p:stCondLst>
                                            <p:cond delay="0"/>
                                          </p:stCondLst>
                                        </p:cTn>
                                        <p:tgtEl>
                                          <p:spTgt spid="201"/>
                                        </p:tgtEl>
                                        <p:attrNameLst>
                                          <p:attrName>style.visibility</p:attrName>
                                        </p:attrNameLst>
                                      </p:cBhvr>
                                      <p:to>
                                        <p:strVal val="visible"/>
                                      </p:to>
                                    </p:set>
                                    <p:anim calcmode="lin" valueType="num">
                                      <p:cBhvr additive="repl">
                                        <p:cTn id="755" dur="3000" fill="hold"/>
                                        <p:tgtEl>
                                          <p:spTgt spid="201"/>
                                        </p:tgtEl>
                                        <p:attrNameLst>
                                          <p:attrName>ppt_w</p:attrName>
                                        </p:attrNameLst>
                                      </p:cBhvr>
                                      <p:tavLst>
                                        <p:tav tm="0">
                                          <p:val>
                                            <p:fltVal val="0"/>
                                          </p:val>
                                        </p:tav>
                                        <p:tav tm="100000">
                                          <p:val>
                                            <p:strVal val="#ppt_w"/>
                                          </p:val>
                                        </p:tav>
                                      </p:tavLst>
                                    </p:anim>
                                    <p:anim calcmode="lin" valueType="num">
                                      <p:cBhvr additive="repl">
                                        <p:cTn id="756" dur="3000" fill="hold"/>
                                        <p:tgtEl>
                                          <p:spTgt spid="2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31" name=""/>
          <p:cNvGrpSpPr/>
          <p:nvPr/>
        </p:nvGrpSpPr>
        <p:grpSpPr>
          <a:xfrm>
            <a:off x="-211320" y="409680"/>
            <a:ext cx="9552600" cy="6854040"/>
            <a:chOff x="-211320" y="409680"/>
            <a:chExt cx="9552600" cy="6854040"/>
          </a:xfrm>
        </p:grpSpPr>
        <p:sp>
          <p:nvSpPr>
            <p:cNvPr id="232" name=""/>
            <p:cNvSpPr/>
            <p:nvPr/>
          </p:nvSpPr>
          <p:spPr>
            <a:xfrm>
              <a:off x="1368360" y="1557360"/>
              <a:ext cx="6335640" cy="5706360"/>
            </a:xfrm>
            <a:prstGeom prst="rect">
              <a:avLst/>
            </a:prstGeom>
            <a:solidFill>
              <a:srgbClr val="ff0000">
                <a:alpha val="39000"/>
              </a:srgbClr>
            </a:solidFill>
            <a:ln w="0">
              <a:noFill/>
            </a:ln>
          </p:spPr>
          <p:style>
            <a:lnRef idx="0"/>
            <a:fillRef idx="0"/>
            <a:effectRef idx="0"/>
            <a:fontRef idx="minor"/>
          </p:style>
          <p:txBody>
            <a:bodyPr lIns="90000" rIns="90000" tIns="46800" bIns="46800" anchor="t">
              <a:spAutoFit/>
            </a:bodyPr>
            <a:p>
              <a:pPr algn="r" rtl="1">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AL-Hor"/>
                </a:rPr>
                <a:t>وهو من أقوى العوائق الاجتماعية للتفكير الإبداعي </a:t>
              </a:r>
              <a:r>
                <a:rPr b="0" lang="en-US" sz="5400" spc="-1" strike="noStrike">
                  <a:solidFill>
                    <a:srgbClr val="000000"/>
                  </a:solidFill>
                  <a:latin typeface="Arial"/>
                  <a:ea typeface="AL-Hor"/>
                </a:rPr>
                <a:t>0</a:t>
              </a:r>
              <a:endParaRPr b="0" lang="en-US" sz="5400" spc="-1" strike="noStrike">
                <a:solidFill>
                  <a:srgbClr val="000000"/>
                </a:solidFill>
                <a:latin typeface="Arial"/>
              </a:endParaRPr>
            </a:p>
            <a:p>
              <a:pPr algn="r" rtl="1">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AL-Hor"/>
                </a:rPr>
                <a:t>هذا ويعتبر العصف الذهني أحد أهم الأساليب الناجحة في التفكير الإبداعي </a:t>
              </a:r>
              <a:r>
                <a:rPr b="0" lang="en-US" sz="5400" spc="-1" strike="noStrike">
                  <a:solidFill>
                    <a:srgbClr val="000000"/>
                  </a:solidFill>
                  <a:latin typeface="Arial"/>
                  <a:ea typeface="AL-Hor"/>
                </a:rPr>
                <a:t>0</a:t>
              </a:r>
              <a:endParaRPr b="0" lang="en-US" sz="5400" spc="-1" strike="noStrike">
                <a:solidFill>
                  <a:srgbClr val="000000"/>
                </a:solidFill>
                <a:latin typeface="Arial"/>
              </a:endParaRPr>
            </a:p>
          </p:txBody>
        </p:sp>
        <p:grpSp>
          <p:nvGrpSpPr>
            <p:cNvPr id="233" name=""/>
            <p:cNvGrpSpPr/>
            <p:nvPr/>
          </p:nvGrpSpPr>
          <p:grpSpPr>
            <a:xfrm>
              <a:off x="-211320" y="409680"/>
              <a:ext cx="9552600" cy="6418080"/>
              <a:chOff x="-211320" y="409680"/>
              <a:chExt cx="9552600" cy="6418080"/>
            </a:xfrm>
          </p:grpSpPr>
          <p:grpSp>
            <p:nvGrpSpPr>
              <p:cNvPr id="234" name=""/>
              <p:cNvGrpSpPr/>
              <p:nvPr/>
            </p:nvGrpSpPr>
            <p:grpSpPr>
              <a:xfrm>
                <a:off x="-211320" y="409680"/>
                <a:ext cx="2012760" cy="1935360"/>
                <a:chOff x="-211320" y="409680"/>
                <a:chExt cx="2012760" cy="1935360"/>
              </a:xfrm>
            </p:grpSpPr>
            <p:sp>
              <p:nvSpPr>
                <p:cNvPr id="235" name=""/>
                <p:cNvSpPr/>
                <p:nvPr/>
              </p:nvSpPr>
              <p:spPr>
                <a:xfrm rot="2405400">
                  <a:off x="-65160" y="836640"/>
                  <a:ext cx="1720800" cy="1081080"/>
                </a:xfrm>
                <a:custGeom>
                  <a:avLst/>
                  <a:gdLst/>
                  <a:ahLst/>
                  <a:rect l="l" t="t" r="r" b="b"/>
                  <a:pathLst>
                    <a:path w="2023" h="1467">
                      <a:moveTo>
                        <a:pt x="1911" y="226"/>
                      </a:moveTo>
                      <a:lnTo>
                        <a:pt x="1911" y="219"/>
                      </a:lnTo>
                      <a:lnTo>
                        <a:pt x="1916" y="213"/>
                      </a:lnTo>
                      <a:lnTo>
                        <a:pt x="1916" y="207"/>
                      </a:lnTo>
                      <a:lnTo>
                        <a:pt x="1916" y="194"/>
                      </a:lnTo>
                      <a:lnTo>
                        <a:pt x="1911" y="182"/>
                      </a:lnTo>
                      <a:lnTo>
                        <a:pt x="1916" y="176"/>
                      </a:lnTo>
                      <a:lnTo>
                        <a:pt x="1916" y="163"/>
                      </a:lnTo>
                      <a:lnTo>
                        <a:pt x="1922" y="163"/>
                      </a:lnTo>
                      <a:lnTo>
                        <a:pt x="1911" y="151"/>
                      </a:lnTo>
                      <a:lnTo>
                        <a:pt x="1905" y="138"/>
                      </a:lnTo>
                      <a:lnTo>
                        <a:pt x="1899" y="125"/>
                      </a:lnTo>
                      <a:lnTo>
                        <a:pt x="1894" y="119"/>
                      </a:lnTo>
                      <a:lnTo>
                        <a:pt x="1894" y="113"/>
                      </a:lnTo>
                      <a:lnTo>
                        <a:pt x="1888" y="100"/>
                      </a:lnTo>
                      <a:lnTo>
                        <a:pt x="1877" y="94"/>
                      </a:lnTo>
                      <a:lnTo>
                        <a:pt x="1866" y="88"/>
                      </a:lnTo>
                      <a:lnTo>
                        <a:pt x="1854" y="82"/>
                      </a:lnTo>
                      <a:lnTo>
                        <a:pt x="1849" y="75"/>
                      </a:lnTo>
                      <a:lnTo>
                        <a:pt x="1837" y="75"/>
                      </a:lnTo>
                      <a:lnTo>
                        <a:pt x="1826" y="69"/>
                      </a:lnTo>
                      <a:lnTo>
                        <a:pt x="1820" y="69"/>
                      </a:lnTo>
                      <a:lnTo>
                        <a:pt x="1809" y="69"/>
                      </a:lnTo>
                      <a:lnTo>
                        <a:pt x="1798" y="69"/>
                      </a:lnTo>
                      <a:lnTo>
                        <a:pt x="1787" y="69"/>
                      </a:lnTo>
                      <a:lnTo>
                        <a:pt x="1775" y="69"/>
                      </a:lnTo>
                      <a:lnTo>
                        <a:pt x="1770" y="63"/>
                      </a:lnTo>
                      <a:lnTo>
                        <a:pt x="1758" y="63"/>
                      </a:lnTo>
                      <a:lnTo>
                        <a:pt x="1747" y="63"/>
                      </a:lnTo>
                      <a:lnTo>
                        <a:pt x="1736" y="63"/>
                      </a:lnTo>
                      <a:lnTo>
                        <a:pt x="1725" y="63"/>
                      </a:lnTo>
                      <a:lnTo>
                        <a:pt x="1719" y="63"/>
                      </a:lnTo>
                      <a:lnTo>
                        <a:pt x="1708" y="56"/>
                      </a:lnTo>
                      <a:lnTo>
                        <a:pt x="1696" y="56"/>
                      </a:lnTo>
                      <a:lnTo>
                        <a:pt x="1691" y="50"/>
                      </a:lnTo>
                      <a:lnTo>
                        <a:pt x="1685" y="50"/>
                      </a:lnTo>
                      <a:lnTo>
                        <a:pt x="1674" y="44"/>
                      </a:lnTo>
                      <a:lnTo>
                        <a:pt x="1668" y="44"/>
                      </a:lnTo>
                      <a:lnTo>
                        <a:pt x="1657" y="38"/>
                      </a:lnTo>
                      <a:lnTo>
                        <a:pt x="1651" y="31"/>
                      </a:lnTo>
                      <a:lnTo>
                        <a:pt x="1646" y="31"/>
                      </a:lnTo>
                      <a:lnTo>
                        <a:pt x="1634" y="25"/>
                      </a:lnTo>
                      <a:lnTo>
                        <a:pt x="1629" y="19"/>
                      </a:lnTo>
                      <a:lnTo>
                        <a:pt x="1623" y="19"/>
                      </a:lnTo>
                      <a:lnTo>
                        <a:pt x="1612" y="13"/>
                      </a:lnTo>
                      <a:lnTo>
                        <a:pt x="1606" y="13"/>
                      </a:lnTo>
                      <a:lnTo>
                        <a:pt x="1595" y="13"/>
                      </a:lnTo>
                      <a:lnTo>
                        <a:pt x="1589" y="6"/>
                      </a:lnTo>
                      <a:lnTo>
                        <a:pt x="1584" y="6"/>
                      </a:lnTo>
                      <a:lnTo>
                        <a:pt x="1572" y="6"/>
                      </a:lnTo>
                      <a:lnTo>
                        <a:pt x="1561" y="6"/>
                      </a:lnTo>
                      <a:lnTo>
                        <a:pt x="1556" y="6"/>
                      </a:lnTo>
                      <a:lnTo>
                        <a:pt x="1544" y="6"/>
                      </a:lnTo>
                      <a:lnTo>
                        <a:pt x="1533" y="6"/>
                      </a:lnTo>
                      <a:lnTo>
                        <a:pt x="1527" y="6"/>
                      </a:lnTo>
                      <a:lnTo>
                        <a:pt x="1516" y="6"/>
                      </a:lnTo>
                      <a:lnTo>
                        <a:pt x="1505" y="6"/>
                      </a:lnTo>
                      <a:lnTo>
                        <a:pt x="1499" y="13"/>
                      </a:lnTo>
                      <a:lnTo>
                        <a:pt x="1488" y="13"/>
                      </a:lnTo>
                      <a:lnTo>
                        <a:pt x="1477" y="13"/>
                      </a:lnTo>
                      <a:lnTo>
                        <a:pt x="1471" y="13"/>
                      </a:lnTo>
                      <a:lnTo>
                        <a:pt x="1460" y="19"/>
                      </a:lnTo>
                      <a:lnTo>
                        <a:pt x="1448" y="19"/>
                      </a:lnTo>
                      <a:lnTo>
                        <a:pt x="1443" y="19"/>
                      </a:lnTo>
                      <a:lnTo>
                        <a:pt x="1432" y="19"/>
                      </a:lnTo>
                      <a:lnTo>
                        <a:pt x="1426" y="19"/>
                      </a:lnTo>
                      <a:lnTo>
                        <a:pt x="1420" y="19"/>
                      </a:lnTo>
                      <a:lnTo>
                        <a:pt x="1409" y="19"/>
                      </a:lnTo>
                      <a:lnTo>
                        <a:pt x="1403" y="19"/>
                      </a:lnTo>
                      <a:lnTo>
                        <a:pt x="1398" y="19"/>
                      </a:lnTo>
                      <a:lnTo>
                        <a:pt x="1392" y="19"/>
                      </a:lnTo>
                      <a:lnTo>
                        <a:pt x="1386" y="19"/>
                      </a:lnTo>
                      <a:lnTo>
                        <a:pt x="1375" y="19"/>
                      </a:lnTo>
                      <a:lnTo>
                        <a:pt x="1370" y="19"/>
                      </a:lnTo>
                      <a:lnTo>
                        <a:pt x="1364" y="19"/>
                      </a:lnTo>
                      <a:lnTo>
                        <a:pt x="1358" y="19"/>
                      </a:lnTo>
                      <a:lnTo>
                        <a:pt x="1353" y="19"/>
                      </a:lnTo>
                      <a:lnTo>
                        <a:pt x="1341" y="13"/>
                      </a:lnTo>
                      <a:lnTo>
                        <a:pt x="1336" y="13"/>
                      </a:lnTo>
                      <a:lnTo>
                        <a:pt x="1330" y="13"/>
                      </a:lnTo>
                      <a:lnTo>
                        <a:pt x="1324" y="13"/>
                      </a:lnTo>
                      <a:lnTo>
                        <a:pt x="1319" y="13"/>
                      </a:lnTo>
                      <a:lnTo>
                        <a:pt x="1308" y="13"/>
                      </a:lnTo>
                      <a:lnTo>
                        <a:pt x="1302" y="13"/>
                      </a:lnTo>
                      <a:lnTo>
                        <a:pt x="1296" y="13"/>
                      </a:lnTo>
                      <a:lnTo>
                        <a:pt x="1291" y="6"/>
                      </a:lnTo>
                      <a:lnTo>
                        <a:pt x="1285" y="6"/>
                      </a:lnTo>
                      <a:lnTo>
                        <a:pt x="1279" y="6"/>
                      </a:lnTo>
                      <a:lnTo>
                        <a:pt x="1268" y="6"/>
                      </a:lnTo>
                      <a:lnTo>
                        <a:pt x="1262" y="6"/>
                      </a:lnTo>
                      <a:lnTo>
                        <a:pt x="1257" y="0"/>
                      </a:lnTo>
                      <a:lnTo>
                        <a:pt x="1251" y="0"/>
                      </a:lnTo>
                      <a:lnTo>
                        <a:pt x="1246" y="0"/>
                      </a:lnTo>
                      <a:lnTo>
                        <a:pt x="1240" y="0"/>
                      </a:lnTo>
                      <a:lnTo>
                        <a:pt x="1229" y="0"/>
                      </a:lnTo>
                      <a:lnTo>
                        <a:pt x="1223" y="0"/>
                      </a:lnTo>
                      <a:lnTo>
                        <a:pt x="1217" y="0"/>
                      </a:lnTo>
                      <a:lnTo>
                        <a:pt x="1206" y="0"/>
                      </a:lnTo>
                      <a:lnTo>
                        <a:pt x="1195" y="6"/>
                      </a:lnTo>
                      <a:lnTo>
                        <a:pt x="1189" y="6"/>
                      </a:lnTo>
                      <a:lnTo>
                        <a:pt x="1178" y="13"/>
                      </a:lnTo>
                      <a:lnTo>
                        <a:pt x="1167" y="13"/>
                      </a:lnTo>
                      <a:lnTo>
                        <a:pt x="1155" y="19"/>
                      </a:lnTo>
                      <a:lnTo>
                        <a:pt x="1150" y="25"/>
                      </a:lnTo>
                      <a:lnTo>
                        <a:pt x="1138" y="31"/>
                      </a:lnTo>
                      <a:lnTo>
                        <a:pt x="1122" y="38"/>
                      </a:lnTo>
                      <a:lnTo>
                        <a:pt x="1110" y="44"/>
                      </a:lnTo>
                      <a:lnTo>
                        <a:pt x="1093" y="50"/>
                      </a:lnTo>
                      <a:lnTo>
                        <a:pt x="1076" y="63"/>
                      </a:lnTo>
                      <a:lnTo>
                        <a:pt x="1060" y="69"/>
                      </a:lnTo>
                      <a:lnTo>
                        <a:pt x="1048" y="75"/>
                      </a:lnTo>
                      <a:lnTo>
                        <a:pt x="1031" y="82"/>
                      </a:lnTo>
                      <a:lnTo>
                        <a:pt x="1014" y="94"/>
                      </a:lnTo>
                      <a:lnTo>
                        <a:pt x="1003" y="100"/>
                      </a:lnTo>
                      <a:lnTo>
                        <a:pt x="986" y="107"/>
                      </a:lnTo>
                      <a:lnTo>
                        <a:pt x="969" y="119"/>
                      </a:lnTo>
                      <a:lnTo>
                        <a:pt x="958" y="125"/>
                      </a:lnTo>
                      <a:lnTo>
                        <a:pt x="941" y="132"/>
                      </a:lnTo>
                      <a:lnTo>
                        <a:pt x="924" y="144"/>
                      </a:lnTo>
                      <a:lnTo>
                        <a:pt x="913" y="151"/>
                      </a:lnTo>
                      <a:lnTo>
                        <a:pt x="896" y="157"/>
                      </a:lnTo>
                      <a:lnTo>
                        <a:pt x="879" y="169"/>
                      </a:lnTo>
                      <a:lnTo>
                        <a:pt x="868" y="176"/>
                      </a:lnTo>
                      <a:lnTo>
                        <a:pt x="851" y="182"/>
                      </a:lnTo>
                      <a:lnTo>
                        <a:pt x="834" y="188"/>
                      </a:lnTo>
                      <a:lnTo>
                        <a:pt x="823" y="201"/>
                      </a:lnTo>
                      <a:lnTo>
                        <a:pt x="806" y="207"/>
                      </a:lnTo>
                      <a:lnTo>
                        <a:pt x="789" y="213"/>
                      </a:lnTo>
                      <a:lnTo>
                        <a:pt x="778" y="226"/>
                      </a:lnTo>
                      <a:lnTo>
                        <a:pt x="761" y="232"/>
                      </a:lnTo>
                      <a:lnTo>
                        <a:pt x="744" y="238"/>
                      </a:lnTo>
                      <a:lnTo>
                        <a:pt x="733" y="251"/>
                      </a:lnTo>
                      <a:lnTo>
                        <a:pt x="716" y="257"/>
                      </a:lnTo>
                      <a:lnTo>
                        <a:pt x="699" y="263"/>
                      </a:lnTo>
                      <a:lnTo>
                        <a:pt x="688" y="270"/>
                      </a:lnTo>
                      <a:lnTo>
                        <a:pt x="671" y="282"/>
                      </a:lnTo>
                      <a:lnTo>
                        <a:pt x="654" y="288"/>
                      </a:lnTo>
                      <a:lnTo>
                        <a:pt x="643" y="295"/>
                      </a:lnTo>
                      <a:lnTo>
                        <a:pt x="631" y="301"/>
                      </a:lnTo>
                      <a:lnTo>
                        <a:pt x="620" y="307"/>
                      </a:lnTo>
                      <a:lnTo>
                        <a:pt x="609" y="314"/>
                      </a:lnTo>
                      <a:lnTo>
                        <a:pt x="592" y="320"/>
                      </a:lnTo>
                      <a:lnTo>
                        <a:pt x="581" y="326"/>
                      </a:lnTo>
                      <a:lnTo>
                        <a:pt x="569" y="332"/>
                      </a:lnTo>
                      <a:lnTo>
                        <a:pt x="558" y="339"/>
                      </a:lnTo>
                      <a:lnTo>
                        <a:pt x="547" y="345"/>
                      </a:lnTo>
                      <a:lnTo>
                        <a:pt x="530" y="351"/>
                      </a:lnTo>
                      <a:lnTo>
                        <a:pt x="519" y="351"/>
                      </a:lnTo>
                      <a:lnTo>
                        <a:pt x="507" y="357"/>
                      </a:lnTo>
                      <a:lnTo>
                        <a:pt x="496" y="364"/>
                      </a:lnTo>
                      <a:lnTo>
                        <a:pt x="485" y="370"/>
                      </a:lnTo>
                      <a:lnTo>
                        <a:pt x="468" y="376"/>
                      </a:lnTo>
                      <a:lnTo>
                        <a:pt x="457" y="383"/>
                      </a:lnTo>
                      <a:lnTo>
                        <a:pt x="451" y="383"/>
                      </a:lnTo>
                      <a:lnTo>
                        <a:pt x="445" y="383"/>
                      </a:lnTo>
                      <a:lnTo>
                        <a:pt x="434" y="389"/>
                      </a:lnTo>
                      <a:lnTo>
                        <a:pt x="428" y="389"/>
                      </a:lnTo>
                      <a:lnTo>
                        <a:pt x="423" y="389"/>
                      </a:lnTo>
                      <a:lnTo>
                        <a:pt x="417" y="389"/>
                      </a:lnTo>
                      <a:lnTo>
                        <a:pt x="406" y="389"/>
                      </a:lnTo>
                      <a:lnTo>
                        <a:pt x="400" y="395"/>
                      </a:lnTo>
                      <a:lnTo>
                        <a:pt x="389" y="401"/>
                      </a:lnTo>
                      <a:lnTo>
                        <a:pt x="378" y="401"/>
                      </a:lnTo>
                      <a:lnTo>
                        <a:pt x="361" y="408"/>
                      </a:lnTo>
                      <a:lnTo>
                        <a:pt x="349" y="414"/>
                      </a:lnTo>
                      <a:lnTo>
                        <a:pt x="338" y="420"/>
                      </a:lnTo>
                      <a:lnTo>
                        <a:pt x="327" y="426"/>
                      </a:lnTo>
                      <a:lnTo>
                        <a:pt x="310" y="433"/>
                      </a:lnTo>
                      <a:lnTo>
                        <a:pt x="299" y="439"/>
                      </a:lnTo>
                      <a:lnTo>
                        <a:pt x="287" y="445"/>
                      </a:lnTo>
                      <a:lnTo>
                        <a:pt x="276" y="452"/>
                      </a:lnTo>
                      <a:lnTo>
                        <a:pt x="265" y="458"/>
                      </a:lnTo>
                      <a:lnTo>
                        <a:pt x="248" y="464"/>
                      </a:lnTo>
                      <a:lnTo>
                        <a:pt x="237" y="470"/>
                      </a:lnTo>
                      <a:lnTo>
                        <a:pt x="225" y="477"/>
                      </a:lnTo>
                      <a:lnTo>
                        <a:pt x="214" y="477"/>
                      </a:lnTo>
                      <a:lnTo>
                        <a:pt x="203" y="483"/>
                      </a:lnTo>
                      <a:lnTo>
                        <a:pt x="186" y="489"/>
                      </a:lnTo>
                      <a:lnTo>
                        <a:pt x="175" y="495"/>
                      </a:lnTo>
                      <a:lnTo>
                        <a:pt x="163" y="502"/>
                      </a:lnTo>
                      <a:lnTo>
                        <a:pt x="152" y="508"/>
                      </a:lnTo>
                      <a:lnTo>
                        <a:pt x="135" y="514"/>
                      </a:lnTo>
                      <a:lnTo>
                        <a:pt x="124" y="520"/>
                      </a:lnTo>
                      <a:lnTo>
                        <a:pt x="113" y="527"/>
                      </a:lnTo>
                      <a:lnTo>
                        <a:pt x="101" y="533"/>
                      </a:lnTo>
                      <a:lnTo>
                        <a:pt x="90" y="539"/>
                      </a:lnTo>
                      <a:lnTo>
                        <a:pt x="73" y="546"/>
                      </a:lnTo>
                      <a:lnTo>
                        <a:pt x="62" y="552"/>
                      </a:lnTo>
                      <a:lnTo>
                        <a:pt x="51" y="558"/>
                      </a:lnTo>
                      <a:lnTo>
                        <a:pt x="39" y="564"/>
                      </a:lnTo>
                      <a:lnTo>
                        <a:pt x="23" y="571"/>
                      </a:lnTo>
                      <a:lnTo>
                        <a:pt x="11" y="577"/>
                      </a:lnTo>
                      <a:lnTo>
                        <a:pt x="0" y="583"/>
                      </a:lnTo>
                      <a:lnTo>
                        <a:pt x="17" y="640"/>
                      </a:lnTo>
                      <a:lnTo>
                        <a:pt x="39" y="690"/>
                      </a:lnTo>
                      <a:lnTo>
                        <a:pt x="56" y="746"/>
                      </a:lnTo>
                      <a:lnTo>
                        <a:pt x="79" y="803"/>
                      </a:lnTo>
                      <a:lnTo>
                        <a:pt x="96" y="859"/>
                      </a:lnTo>
                      <a:lnTo>
                        <a:pt x="118" y="916"/>
                      </a:lnTo>
                      <a:lnTo>
                        <a:pt x="135" y="966"/>
                      </a:lnTo>
                      <a:lnTo>
                        <a:pt x="158" y="1022"/>
                      </a:lnTo>
                      <a:lnTo>
                        <a:pt x="175" y="1079"/>
                      </a:lnTo>
                      <a:lnTo>
                        <a:pt x="197" y="1135"/>
                      </a:lnTo>
                      <a:lnTo>
                        <a:pt x="214" y="1185"/>
                      </a:lnTo>
                      <a:lnTo>
                        <a:pt x="237" y="1242"/>
                      </a:lnTo>
                      <a:lnTo>
                        <a:pt x="254" y="1298"/>
                      </a:lnTo>
                      <a:lnTo>
                        <a:pt x="276" y="1355"/>
                      </a:lnTo>
                      <a:lnTo>
                        <a:pt x="293" y="1411"/>
                      </a:lnTo>
                      <a:lnTo>
                        <a:pt x="316" y="1467"/>
                      </a:lnTo>
                      <a:lnTo>
                        <a:pt x="321" y="1455"/>
                      </a:lnTo>
                      <a:lnTo>
                        <a:pt x="327" y="1442"/>
                      </a:lnTo>
                      <a:lnTo>
                        <a:pt x="333" y="1430"/>
                      </a:lnTo>
                      <a:lnTo>
                        <a:pt x="344" y="1417"/>
                      </a:lnTo>
                      <a:lnTo>
                        <a:pt x="349" y="1405"/>
                      </a:lnTo>
                      <a:lnTo>
                        <a:pt x="355" y="1392"/>
                      </a:lnTo>
                      <a:lnTo>
                        <a:pt x="361" y="1380"/>
                      </a:lnTo>
                      <a:lnTo>
                        <a:pt x="366" y="1367"/>
                      </a:lnTo>
                      <a:lnTo>
                        <a:pt x="378" y="1367"/>
                      </a:lnTo>
                      <a:lnTo>
                        <a:pt x="383" y="1367"/>
                      </a:lnTo>
                      <a:lnTo>
                        <a:pt x="395" y="1367"/>
                      </a:lnTo>
                      <a:lnTo>
                        <a:pt x="406" y="1367"/>
                      </a:lnTo>
                      <a:lnTo>
                        <a:pt x="411" y="1367"/>
                      </a:lnTo>
                      <a:lnTo>
                        <a:pt x="423" y="1367"/>
                      </a:lnTo>
                      <a:lnTo>
                        <a:pt x="428" y="1367"/>
                      </a:lnTo>
                      <a:lnTo>
                        <a:pt x="440" y="1367"/>
                      </a:lnTo>
                      <a:lnTo>
                        <a:pt x="445" y="1367"/>
                      </a:lnTo>
                      <a:lnTo>
                        <a:pt x="457" y="1367"/>
                      </a:lnTo>
                      <a:lnTo>
                        <a:pt x="462" y="1367"/>
                      </a:lnTo>
                      <a:lnTo>
                        <a:pt x="473" y="1367"/>
                      </a:lnTo>
                      <a:lnTo>
                        <a:pt x="479" y="1367"/>
                      </a:lnTo>
                      <a:lnTo>
                        <a:pt x="490" y="1367"/>
                      </a:lnTo>
                      <a:lnTo>
                        <a:pt x="496" y="1367"/>
                      </a:lnTo>
                      <a:lnTo>
                        <a:pt x="507" y="1367"/>
                      </a:lnTo>
                      <a:lnTo>
                        <a:pt x="519" y="1367"/>
                      </a:lnTo>
                      <a:lnTo>
                        <a:pt x="530" y="1361"/>
                      </a:lnTo>
                      <a:lnTo>
                        <a:pt x="547" y="1361"/>
                      </a:lnTo>
                      <a:lnTo>
                        <a:pt x="558" y="1361"/>
                      </a:lnTo>
                      <a:lnTo>
                        <a:pt x="569" y="1361"/>
                      </a:lnTo>
                      <a:lnTo>
                        <a:pt x="586" y="1355"/>
                      </a:lnTo>
                      <a:lnTo>
                        <a:pt x="597" y="1355"/>
                      </a:lnTo>
                      <a:lnTo>
                        <a:pt x="614" y="1355"/>
                      </a:lnTo>
                      <a:lnTo>
                        <a:pt x="626" y="1348"/>
                      </a:lnTo>
                      <a:lnTo>
                        <a:pt x="637" y="1348"/>
                      </a:lnTo>
                      <a:lnTo>
                        <a:pt x="654" y="1342"/>
                      </a:lnTo>
                      <a:lnTo>
                        <a:pt x="665" y="1342"/>
                      </a:lnTo>
                      <a:lnTo>
                        <a:pt x="676" y="1336"/>
                      </a:lnTo>
                      <a:lnTo>
                        <a:pt x="693" y="1336"/>
                      </a:lnTo>
                      <a:lnTo>
                        <a:pt x="705" y="1329"/>
                      </a:lnTo>
                      <a:lnTo>
                        <a:pt x="716" y="1329"/>
                      </a:lnTo>
                      <a:lnTo>
                        <a:pt x="727" y="1323"/>
                      </a:lnTo>
                      <a:lnTo>
                        <a:pt x="744" y="1317"/>
                      </a:lnTo>
                      <a:lnTo>
                        <a:pt x="755" y="1311"/>
                      </a:lnTo>
                      <a:lnTo>
                        <a:pt x="766" y="1311"/>
                      </a:lnTo>
                      <a:lnTo>
                        <a:pt x="783" y="1304"/>
                      </a:lnTo>
                      <a:lnTo>
                        <a:pt x="795" y="1298"/>
                      </a:lnTo>
                      <a:lnTo>
                        <a:pt x="806" y="1292"/>
                      </a:lnTo>
                      <a:lnTo>
                        <a:pt x="817" y="1286"/>
                      </a:lnTo>
                      <a:lnTo>
                        <a:pt x="828" y="1279"/>
                      </a:lnTo>
                      <a:lnTo>
                        <a:pt x="845" y="1273"/>
                      </a:lnTo>
                      <a:lnTo>
                        <a:pt x="857" y="1267"/>
                      </a:lnTo>
                      <a:lnTo>
                        <a:pt x="868" y="1260"/>
                      </a:lnTo>
                      <a:lnTo>
                        <a:pt x="879" y="1254"/>
                      </a:lnTo>
                      <a:lnTo>
                        <a:pt x="890" y="1248"/>
                      </a:lnTo>
                      <a:lnTo>
                        <a:pt x="902" y="1242"/>
                      </a:lnTo>
                      <a:lnTo>
                        <a:pt x="913" y="1235"/>
                      </a:lnTo>
                      <a:lnTo>
                        <a:pt x="924" y="1229"/>
                      </a:lnTo>
                      <a:lnTo>
                        <a:pt x="930" y="1223"/>
                      </a:lnTo>
                      <a:lnTo>
                        <a:pt x="936" y="1217"/>
                      </a:lnTo>
                      <a:lnTo>
                        <a:pt x="947" y="1210"/>
                      </a:lnTo>
                      <a:lnTo>
                        <a:pt x="952" y="1204"/>
                      </a:lnTo>
                      <a:lnTo>
                        <a:pt x="958" y="1198"/>
                      </a:lnTo>
                      <a:lnTo>
                        <a:pt x="964" y="1185"/>
                      </a:lnTo>
                      <a:lnTo>
                        <a:pt x="975" y="1179"/>
                      </a:lnTo>
                      <a:lnTo>
                        <a:pt x="986" y="1179"/>
                      </a:lnTo>
                      <a:lnTo>
                        <a:pt x="998" y="1173"/>
                      </a:lnTo>
                      <a:lnTo>
                        <a:pt x="1014" y="1173"/>
                      </a:lnTo>
                      <a:lnTo>
                        <a:pt x="1026" y="1166"/>
                      </a:lnTo>
                      <a:lnTo>
                        <a:pt x="1043" y="1166"/>
                      </a:lnTo>
                      <a:lnTo>
                        <a:pt x="1054" y="1160"/>
                      </a:lnTo>
                      <a:lnTo>
                        <a:pt x="1071" y="1154"/>
                      </a:lnTo>
                      <a:lnTo>
                        <a:pt x="1082" y="1154"/>
                      </a:lnTo>
                      <a:lnTo>
                        <a:pt x="1093" y="1148"/>
                      </a:lnTo>
                      <a:lnTo>
                        <a:pt x="1110" y="1148"/>
                      </a:lnTo>
                      <a:lnTo>
                        <a:pt x="1122" y="1141"/>
                      </a:lnTo>
                      <a:lnTo>
                        <a:pt x="1138" y="1141"/>
                      </a:lnTo>
                      <a:lnTo>
                        <a:pt x="1150" y="1135"/>
                      </a:lnTo>
                      <a:lnTo>
                        <a:pt x="1167" y="1135"/>
                      </a:lnTo>
                      <a:lnTo>
                        <a:pt x="1178" y="1129"/>
                      </a:lnTo>
                      <a:lnTo>
                        <a:pt x="1189" y="1122"/>
                      </a:lnTo>
                      <a:lnTo>
                        <a:pt x="1200" y="1129"/>
                      </a:lnTo>
                      <a:lnTo>
                        <a:pt x="1212" y="1135"/>
                      </a:lnTo>
                      <a:lnTo>
                        <a:pt x="1223" y="1148"/>
                      </a:lnTo>
                      <a:lnTo>
                        <a:pt x="1234" y="1154"/>
                      </a:lnTo>
                      <a:lnTo>
                        <a:pt x="1240" y="1160"/>
                      </a:lnTo>
                      <a:lnTo>
                        <a:pt x="1251" y="1166"/>
                      </a:lnTo>
                      <a:lnTo>
                        <a:pt x="1262" y="1173"/>
                      </a:lnTo>
                      <a:lnTo>
                        <a:pt x="1274" y="1173"/>
                      </a:lnTo>
                      <a:lnTo>
                        <a:pt x="1279" y="1179"/>
                      </a:lnTo>
                      <a:lnTo>
                        <a:pt x="1291" y="1179"/>
                      </a:lnTo>
                      <a:lnTo>
                        <a:pt x="1296" y="1179"/>
                      </a:lnTo>
                      <a:lnTo>
                        <a:pt x="1308" y="1185"/>
                      </a:lnTo>
                      <a:lnTo>
                        <a:pt x="1313" y="1185"/>
                      </a:lnTo>
                      <a:lnTo>
                        <a:pt x="1324" y="1185"/>
                      </a:lnTo>
                      <a:lnTo>
                        <a:pt x="1330" y="1191"/>
                      </a:lnTo>
                      <a:lnTo>
                        <a:pt x="1341" y="1191"/>
                      </a:lnTo>
                      <a:lnTo>
                        <a:pt x="1347" y="1191"/>
                      </a:lnTo>
                      <a:lnTo>
                        <a:pt x="1358" y="1191"/>
                      </a:lnTo>
                      <a:lnTo>
                        <a:pt x="1364" y="1198"/>
                      </a:lnTo>
                      <a:lnTo>
                        <a:pt x="1375" y="1198"/>
                      </a:lnTo>
                      <a:lnTo>
                        <a:pt x="1381" y="1198"/>
                      </a:lnTo>
                      <a:lnTo>
                        <a:pt x="1386" y="1198"/>
                      </a:lnTo>
                      <a:lnTo>
                        <a:pt x="1398" y="1198"/>
                      </a:lnTo>
                      <a:lnTo>
                        <a:pt x="1403" y="1198"/>
                      </a:lnTo>
                      <a:lnTo>
                        <a:pt x="1415" y="1198"/>
                      </a:lnTo>
                      <a:lnTo>
                        <a:pt x="1426" y="1191"/>
                      </a:lnTo>
                      <a:lnTo>
                        <a:pt x="1437" y="1191"/>
                      </a:lnTo>
                      <a:lnTo>
                        <a:pt x="1448" y="1185"/>
                      </a:lnTo>
                      <a:lnTo>
                        <a:pt x="1454" y="1179"/>
                      </a:lnTo>
                      <a:lnTo>
                        <a:pt x="1465" y="1173"/>
                      </a:lnTo>
                      <a:lnTo>
                        <a:pt x="1477" y="1166"/>
                      </a:lnTo>
                      <a:lnTo>
                        <a:pt x="1482" y="1160"/>
                      </a:lnTo>
                      <a:lnTo>
                        <a:pt x="1494" y="1154"/>
                      </a:lnTo>
                      <a:lnTo>
                        <a:pt x="1499" y="1148"/>
                      </a:lnTo>
                      <a:lnTo>
                        <a:pt x="1505" y="1141"/>
                      </a:lnTo>
                      <a:lnTo>
                        <a:pt x="1516" y="1129"/>
                      </a:lnTo>
                      <a:lnTo>
                        <a:pt x="1522" y="1122"/>
                      </a:lnTo>
                      <a:lnTo>
                        <a:pt x="1527" y="1110"/>
                      </a:lnTo>
                      <a:lnTo>
                        <a:pt x="1533" y="1104"/>
                      </a:lnTo>
                      <a:lnTo>
                        <a:pt x="1533" y="1091"/>
                      </a:lnTo>
                      <a:lnTo>
                        <a:pt x="1539" y="1079"/>
                      </a:lnTo>
                      <a:lnTo>
                        <a:pt x="1539" y="1060"/>
                      </a:lnTo>
                      <a:lnTo>
                        <a:pt x="1539" y="1041"/>
                      </a:lnTo>
                      <a:lnTo>
                        <a:pt x="1533" y="1028"/>
                      </a:lnTo>
                      <a:lnTo>
                        <a:pt x="1539" y="1022"/>
                      </a:lnTo>
                      <a:lnTo>
                        <a:pt x="1550" y="1016"/>
                      </a:lnTo>
                      <a:lnTo>
                        <a:pt x="1556" y="1016"/>
                      </a:lnTo>
                      <a:lnTo>
                        <a:pt x="1561" y="1010"/>
                      </a:lnTo>
                      <a:lnTo>
                        <a:pt x="1567" y="1010"/>
                      </a:lnTo>
                      <a:lnTo>
                        <a:pt x="1572" y="1003"/>
                      </a:lnTo>
                      <a:lnTo>
                        <a:pt x="1578" y="1003"/>
                      </a:lnTo>
                      <a:lnTo>
                        <a:pt x="1584" y="997"/>
                      </a:lnTo>
                      <a:lnTo>
                        <a:pt x="1589" y="991"/>
                      </a:lnTo>
                      <a:lnTo>
                        <a:pt x="1595" y="991"/>
                      </a:lnTo>
                      <a:lnTo>
                        <a:pt x="1601" y="985"/>
                      </a:lnTo>
                      <a:lnTo>
                        <a:pt x="1606" y="985"/>
                      </a:lnTo>
                      <a:lnTo>
                        <a:pt x="1618" y="978"/>
                      </a:lnTo>
                      <a:lnTo>
                        <a:pt x="1623" y="972"/>
                      </a:lnTo>
                      <a:lnTo>
                        <a:pt x="1629" y="966"/>
                      </a:lnTo>
                      <a:lnTo>
                        <a:pt x="1634" y="966"/>
                      </a:lnTo>
                      <a:lnTo>
                        <a:pt x="1634" y="959"/>
                      </a:lnTo>
                      <a:lnTo>
                        <a:pt x="1640" y="953"/>
                      </a:lnTo>
                      <a:lnTo>
                        <a:pt x="1646" y="947"/>
                      </a:lnTo>
                      <a:lnTo>
                        <a:pt x="1646" y="941"/>
                      </a:lnTo>
                      <a:lnTo>
                        <a:pt x="1651" y="934"/>
                      </a:lnTo>
                      <a:lnTo>
                        <a:pt x="1651" y="928"/>
                      </a:lnTo>
                      <a:lnTo>
                        <a:pt x="1657" y="928"/>
                      </a:lnTo>
                      <a:lnTo>
                        <a:pt x="1657" y="922"/>
                      </a:lnTo>
                      <a:lnTo>
                        <a:pt x="1663" y="922"/>
                      </a:lnTo>
                      <a:lnTo>
                        <a:pt x="1668" y="922"/>
                      </a:lnTo>
                      <a:lnTo>
                        <a:pt x="1674" y="922"/>
                      </a:lnTo>
                      <a:lnTo>
                        <a:pt x="1680" y="928"/>
                      </a:lnTo>
                      <a:lnTo>
                        <a:pt x="1685" y="928"/>
                      </a:lnTo>
                      <a:lnTo>
                        <a:pt x="1696" y="928"/>
                      </a:lnTo>
                      <a:lnTo>
                        <a:pt x="1702" y="928"/>
                      </a:lnTo>
                      <a:lnTo>
                        <a:pt x="1708" y="934"/>
                      </a:lnTo>
                      <a:lnTo>
                        <a:pt x="1713" y="934"/>
                      </a:lnTo>
                      <a:lnTo>
                        <a:pt x="1719" y="934"/>
                      </a:lnTo>
                      <a:lnTo>
                        <a:pt x="1725" y="934"/>
                      </a:lnTo>
                      <a:lnTo>
                        <a:pt x="1730" y="941"/>
                      </a:lnTo>
                      <a:lnTo>
                        <a:pt x="1736" y="941"/>
                      </a:lnTo>
                      <a:lnTo>
                        <a:pt x="1742" y="941"/>
                      </a:lnTo>
                      <a:lnTo>
                        <a:pt x="1747" y="941"/>
                      </a:lnTo>
                      <a:lnTo>
                        <a:pt x="1753" y="934"/>
                      </a:lnTo>
                      <a:lnTo>
                        <a:pt x="1764" y="934"/>
                      </a:lnTo>
                      <a:lnTo>
                        <a:pt x="1775" y="928"/>
                      </a:lnTo>
                      <a:lnTo>
                        <a:pt x="1787" y="928"/>
                      </a:lnTo>
                      <a:lnTo>
                        <a:pt x="1798" y="922"/>
                      </a:lnTo>
                      <a:lnTo>
                        <a:pt x="1809" y="916"/>
                      </a:lnTo>
                      <a:lnTo>
                        <a:pt x="1815" y="909"/>
                      </a:lnTo>
                      <a:lnTo>
                        <a:pt x="1826" y="897"/>
                      </a:lnTo>
                      <a:lnTo>
                        <a:pt x="1832" y="890"/>
                      </a:lnTo>
                      <a:lnTo>
                        <a:pt x="1837" y="878"/>
                      </a:lnTo>
                      <a:lnTo>
                        <a:pt x="1843" y="865"/>
                      </a:lnTo>
                      <a:lnTo>
                        <a:pt x="1849" y="847"/>
                      </a:lnTo>
                      <a:lnTo>
                        <a:pt x="1854" y="834"/>
                      </a:lnTo>
                      <a:lnTo>
                        <a:pt x="1854" y="821"/>
                      </a:lnTo>
                      <a:lnTo>
                        <a:pt x="1860" y="809"/>
                      </a:lnTo>
                      <a:lnTo>
                        <a:pt x="1860" y="790"/>
                      </a:lnTo>
                      <a:lnTo>
                        <a:pt x="1860" y="778"/>
                      </a:lnTo>
                      <a:lnTo>
                        <a:pt x="1866" y="746"/>
                      </a:lnTo>
                      <a:lnTo>
                        <a:pt x="1866" y="715"/>
                      </a:lnTo>
                      <a:lnTo>
                        <a:pt x="1860" y="690"/>
                      </a:lnTo>
                      <a:lnTo>
                        <a:pt x="1860" y="658"/>
                      </a:lnTo>
                      <a:lnTo>
                        <a:pt x="1860" y="652"/>
                      </a:lnTo>
                      <a:lnTo>
                        <a:pt x="1860" y="640"/>
                      </a:lnTo>
                      <a:lnTo>
                        <a:pt x="1854" y="640"/>
                      </a:lnTo>
                      <a:lnTo>
                        <a:pt x="1854" y="633"/>
                      </a:lnTo>
                      <a:lnTo>
                        <a:pt x="1849" y="627"/>
                      </a:lnTo>
                      <a:lnTo>
                        <a:pt x="1849" y="627"/>
                      </a:lnTo>
                      <a:lnTo>
                        <a:pt x="1843" y="627"/>
                      </a:lnTo>
                      <a:lnTo>
                        <a:pt x="1837" y="627"/>
                      </a:lnTo>
                      <a:lnTo>
                        <a:pt x="1832" y="627"/>
                      </a:lnTo>
                      <a:lnTo>
                        <a:pt x="1826" y="627"/>
                      </a:lnTo>
                      <a:lnTo>
                        <a:pt x="1815" y="627"/>
                      </a:lnTo>
                      <a:lnTo>
                        <a:pt x="1809" y="633"/>
                      </a:lnTo>
                      <a:lnTo>
                        <a:pt x="1798" y="640"/>
                      </a:lnTo>
                      <a:lnTo>
                        <a:pt x="1792" y="640"/>
                      </a:lnTo>
                      <a:lnTo>
                        <a:pt x="1781" y="646"/>
                      </a:lnTo>
                      <a:lnTo>
                        <a:pt x="1770" y="652"/>
                      </a:lnTo>
                      <a:lnTo>
                        <a:pt x="1775" y="646"/>
                      </a:lnTo>
                      <a:lnTo>
                        <a:pt x="1787" y="646"/>
                      </a:lnTo>
                      <a:lnTo>
                        <a:pt x="1792" y="640"/>
                      </a:lnTo>
                      <a:lnTo>
                        <a:pt x="1804" y="633"/>
                      </a:lnTo>
                      <a:lnTo>
                        <a:pt x="1809" y="633"/>
                      </a:lnTo>
                      <a:lnTo>
                        <a:pt x="1820" y="627"/>
                      </a:lnTo>
                      <a:lnTo>
                        <a:pt x="1826" y="627"/>
                      </a:lnTo>
                      <a:lnTo>
                        <a:pt x="1832" y="621"/>
                      </a:lnTo>
                      <a:lnTo>
                        <a:pt x="1843" y="615"/>
                      </a:lnTo>
                      <a:lnTo>
                        <a:pt x="1849" y="615"/>
                      </a:lnTo>
                      <a:lnTo>
                        <a:pt x="1860" y="608"/>
                      </a:lnTo>
                      <a:lnTo>
                        <a:pt x="1866" y="602"/>
                      </a:lnTo>
                      <a:lnTo>
                        <a:pt x="1871" y="602"/>
                      </a:lnTo>
                      <a:lnTo>
                        <a:pt x="1882" y="596"/>
                      </a:lnTo>
                      <a:lnTo>
                        <a:pt x="1888" y="589"/>
                      </a:lnTo>
                      <a:lnTo>
                        <a:pt x="1894" y="583"/>
                      </a:lnTo>
                      <a:lnTo>
                        <a:pt x="1899" y="577"/>
                      </a:lnTo>
                      <a:lnTo>
                        <a:pt x="1911" y="571"/>
                      </a:lnTo>
                      <a:lnTo>
                        <a:pt x="1916" y="564"/>
                      </a:lnTo>
                      <a:lnTo>
                        <a:pt x="1922" y="558"/>
                      </a:lnTo>
                      <a:lnTo>
                        <a:pt x="1928" y="552"/>
                      </a:lnTo>
                      <a:lnTo>
                        <a:pt x="1933" y="546"/>
                      </a:lnTo>
                      <a:lnTo>
                        <a:pt x="1939" y="539"/>
                      </a:lnTo>
                      <a:lnTo>
                        <a:pt x="1944" y="527"/>
                      </a:lnTo>
                      <a:lnTo>
                        <a:pt x="1950" y="520"/>
                      </a:lnTo>
                      <a:lnTo>
                        <a:pt x="1956" y="514"/>
                      </a:lnTo>
                      <a:lnTo>
                        <a:pt x="1961" y="508"/>
                      </a:lnTo>
                      <a:lnTo>
                        <a:pt x="1967" y="495"/>
                      </a:lnTo>
                      <a:lnTo>
                        <a:pt x="1973" y="489"/>
                      </a:lnTo>
                      <a:lnTo>
                        <a:pt x="1978" y="483"/>
                      </a:lnTo>
                      <a:lnTo>
                        <a:pt x="1984" y="470"/>
                      </a:lnTo>
                      <a:lnTo>
                        <a:pt x="1990" y="464"/>
                      </a:lnTo>
                      <a:lnTo>
                        <a:pt x="1995" y="452"/>
                      </a:lnTo>
                      <a:lnTo>
                        <a:pt x="2001" y="433"/>
                      </a:lnTo>
                      <a:lnTo>
                        <a:pt x="2006" y="420"/>
                      </a:lnTo>
                      <a:lnTo>
                        <a:pt x="2012" y="401"/>
                      </a:lnTo>
                      <a:lnTo>
                        <a:pt x="2018" y="383"/>
                      </a:lnTo>
                      <a:lnTo>
                        <a:pt x="2018" y="370"/>
                      </a:lnTo>
                      <a:lnTo>
                        <a:pt x="2023" y="351"/>
                      </a:lnTo>
                      <a:lnTo>
                        <a:pt x="2018" y="339"/>
                      </a:lnTo>
                      <a:lnTo>
                        <a:pt x="2018" y="326"/>
                      </a:lnTo>
                      <a:lnTo>
                        <a:pt x="2012" y="314"/>
                      </a:lnTo>
                      <a:lnTo>
                        <a:pt x="2006" y="301"/>
                      </a:lnTo>
                      <a:lnTo>
                        <a:pt x="1995" y="295"/>
                      </a:lnTo>
                      <a:lnTo>
                        <a:pt x="1990" y="282"/>
                      </a:lnTo>
                      <a:lnTo>
                        <a:pt x="1978" y="276"/>
                      </a:lnTo>
                      <a:lnTo>
                        <a:pt x="1967" y="263"/>
                      </a:lnTo>
                      <a:lnTo>
                        <a:pt x="1961" y="257"/>
                      </a:lnTo>
                      <a:lnTo>
                        <a:pt x="1956" y="251"/>
                      </a:lnTo>
                      <a:lnTo>
                        <a:pt x="1950" y="245"/>
                      </a:lnTo>
                      <a:lnTo>
                        <a:pt x="1944" y="245"/>
                      </a:lnTo>
                      <a:lnTo>
                        <a:pt x="1939" y="238"/>
                      </a:lnTo>
                      <a:lnTo>
                        <a:pt x="1928" y="238"/>
                      </a:lnTo>
                      <a:lnTo>
                        <a:pt x="1922" y="232"/>
                      </a:lnTo>
                      <a:lnTo>
                        <a:pt x="1916" y="232"/>
                      </a:lnTo>
                      <a:lnTo>
                        <a:pt x="1911" y="22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rot="2405400">
                  <a:off x="176760" y="1112400"/>
                  <a:ext cx="1400040" cy="817920"/>
                </a:xfrm>
                <a:custGeom>
                  <a:avLst/>
                  <a:gdLst/>
                  <a:ahLst/>
                  <a:rect l="l" t="t" r="r" b="b"/>
                  <a:pathLst>
                    <a:path w="1646" h="1110">
                      <a:moveTo>
                        <a:pt x="0" y="1110"/>
                      </a:moveTo>
                      <a:lnTo>
                        <a:pt x="0" y="1104"/>
                      </a:lnTo>
                      <a:lnTo>
                        <a:pt x="6" y="1091"/>
                      </a:lnTo>
                      <a:lnTo>
                        <a:pt x="6" y="1079"/>
                      </a:lnTo>
                      <a:lnTo>
                        <a:pt x="11" y="1066"/>
                      </a:lnTo>
                      <a:lnTo>
                        <a:pt x="11" y="1054"/>
                      </a:lnTo>
                      <a:lnTo>
                        <a:pt x="17" y="1041"/>
                      </a:lnTo>
                      <a:lnTo>
                        <a:pt x="23" y="1029"/>
                      </a:lnTo>
                      <a:lnTo>
                        <a:pt x="23" y="1016"/>
                      </a:lnTo>
                      <a:lnTo>
                        <a:pt x="28" y="997"/>
                      </a:lnTo>
                      <a:lnTo>
                        <a:pt x="34" y="972"/>
                      </a:lnTo>
                      <a:lnTo>
                        <a:pt x="39" y="953"/>
                      </a:lnTo>
                      <a:lnTo>
                        <a:pt x="45" y="928"/>
                      </a:lnTo>
                      <a:lnTo>
                        <a:pt x="51" y="909"/>
                      </a:lnTo>
                      <a:lnTo>
                        <a:pt x="56" y="884"/>
                      </a:lnTo>
                      <a:lnTo>
                        <a:pt x="62" y="865"/>
                      </a:lnTo>
                      <a:lnTo>
                        <a:pt x="68" y="840"/>
                      </a:lnTo>
                      <a:lnTo>
                        <a:pt x="68" y="828"/>
                      </a:lnTo>
                      <a:lnTo>
                        <a:pt x="73" y="815"/>
                      </a:lnTo>
                      <a:lnTo>
                        <a:pt x="79" y="803"/>
                      </a:lnTo>
                      <a:lnTo>
                        <a:pt x="79" y="790"/>
                      </a:lnTo>
                      <a:lnTo>
                        <a:pt x="85" y="778"/>
                      </a:lnTo>
                      <a:lnTo>
                        <a:pt x="85" y="765"/>
                      </a:lnTo>
                      <a:lnTo>
                        <a:pt x="90" y="753"/>
                      </a:lnTo>
                      <a:lnTo>
                        <a:pt x="90" y="746"/>
                      </a:lnTo>
                      <a:lnTo>
                        <a:pt x="96" y="734"/>
                      </a:lnTo>
                      <a:lnTo>
                        <a:pt x="96" y="728"/>
                      </a:lnTo>
                      <a:lnTo>
                        <a:pt x="96" y="715"/>
                      </a:lnTo>
                      <a:lnTo>
                        <a:pt x="101" y="702"/>
                      </a:lnTo>
                      <a:lnTo>
                        <a:pt x="101" y="696"/>
                      </a:lnTo>
                      <a:lnTo>
                        <a:pt x="101" y="684"/>
                      </a:lnTo>
                      <a:lnTo>
                        <a:pt x="107" y="677"/>
                      </a:lnTo>
                      <a:lnTo>
                        <a:pt x="113" y="671"/>
                      </a:lnTo>
                      <a:lnTo>
                        <a:pt x="113" y="665"/>
                      </a:lnTo>
                      <a:lnTo>
                        <a:pt x="118" y="665"/>
                      </a:lnTo>
                      <a:lnTo>
                        <a:pt x="118" y="665"/>
                      </a:lnTo>
                      <a:lnTo>
                        <a:pt x="124" y="671"/>
                      </a:lnTo>
                      <a:lnTo>
                        <a:pt x="130" y="671"/>
                      </a:lnTo>
                      <a:lnTo>
                        <a:pt x="130" y="671"/>
                      </a:lnTo>
                      <a:lnTo>
                        <a:pt x="135" y="677"/>
                      </a:lnTo>
                      <a:lnTo>
                        <a:pt x="141" y="677"/>
                      </a:lnTo>
                      <a:lnTo>
                        <a:pt x="141" y="671"/>
                      </a:lnTo>
                      <a:lnTo>
                        <a:pt x="147" y="659"/>
                      </a:lnTo>
                      <a:lnTo>
                        <a:pt x="147" y="652"/>
                      </a:lnTo>
                      <a:lnTo>
                        <a:pt x="152" y="652"/>
                      </a:lnTo>
                      <a:lnTo>
                        <a:pt x="163" y="652"/>
                      </a:lnTo>
                      <a:lnTo>
                        <a:pt x="169" y="659"/>
                      </a:lnTo>
                      <a:lnTo>
                        <a:pt x="175" y="665"/>
                      </a:lnTo>
                      <a:lnTo>
                        <a:pt x="180" y="671"/>
                      </a:lnTo>
                      <a:lnTo>
                        <a:pt x="186" y="677"/>
                      </a:lnTo>
                      <a:lnTo>
                        <a:pt x="192" y="684"/>
                      </a:lnTo>
                      <a:lnTo>
                        <a:pt x="203" y="696"/>
                      </a:lnTo>
                      <a:lnTo>
                        <a:pt x="209" y="702"/>
                      </a:lnTo>
                      <a:lnTo>
                        <a:pt x="214" y="702"/>
                      </a:lnTo>
                      <a:lnTo>
                        <a:pt x="220" y="702"/>
                      </a:lnTo>
                      <a:lnTo>
                        <a:pt x="225" y="702"/>
                      </a:lnTo>
                      <a:lnTo>
                        <a:pt x="231" y="702"/>
                      </a:lnTo>
                      <a:lnTo>
                        <a:pt x="237" y="702"/>
                      </a:lnTo>
                      <a:lnTo>
                        <a:pt x="242" y="702"/>
                      </a:lnTo>
                      <a:lnTo>
                        <a:pt x="248" y="702"/>
                      </a:lnTo>
                      <a:lnTo>
                        <a:pt x="254" y="696"/>
                      </a:lnTo>
                      <a:lnTo>
                        <a:pt x="259" y="696"/>
                      </a:lnTo>
                      <a:lnTo>
                        <a:pt x="259" y="690"/>
                      </a:lnTo>
                      <a:lnTo>
                        <a:pt x="259" y="684"/>
                      </a:lnTo>
                      <a:lnTo>
                        <a:pt x="265" y="671"/>
                      </a:lnTo>
                      <a:lnTo>
                        <a:pt x="265" y="665"/>
                      </a:lnTo>
                      <a:lnTo>
                        <a:pt x="265" y="659"/>
                      </a:lnTo>
                      <a:lnTo>
                        <a:pt x="271" y="659"/>
                      </a:lnTo>
                      <a:lnTo>
                        <a:pt x="276" y="659"/>
                      </a:lnTo>
                      <a:lnTo>
                        <a:pt x="282" y="659"/>
                      </a:lnTo>
                      <a:lnTo>
                        <a:pt x="287" y="659"/>
                      </a:lnTo>
                      <a:lnTo>
                        <a:pt x="293" y="659"/>
                      </a:lnTo>
                      <a:lnTo>
                        <a:pt x="299" y="665"/>
                      </a:lnTo>
                      <a:lnTo>
                        <a:pt x="304" y="665"/>
                      </a:lnTo>
                      <a:lnTo>
                        <a:pt x="310" y="671"/>
                      </a:lnTo>
                      <a:lnTo>
                        <a:pt x="316" y="671"/>
                      </a:lnTo>
                      <a:lnTo>
                        <a:pt x="321" y="677"/>
                      </a:lnTo>
                      <a:lnTo>
                        <a:pt x="327" y="684"/>
                      </a:lnTo>
                      <a:lnTo>
                        <a:pt x="333" y="684"/>
                      </a:lnTo>
                      <a:lnTo>
                        <a:pt x="338" y="690"/>
                      </a:lnTo>
                      <a:lnTo>
                        <a:pt x="344" y="690"/>
                      </a:lnTo>
                      <a:lnTo>
                        <a:pt x="349" y="696"/>
                      </a:lnTo>
                      <a:lnTo>
                        <a:pt x="355" y="696"/>
                      </a:lnTo>
                      <a:lnTo>
                        <a:pt x="361" y="702"/>
                      </a:lnTo>
                      <a:lnTo>
                        <a:pt x="366" y="702"/>
                      </a:lnTo>
                      <a:lnTo>
                        <a:pt x="372" y="702"/>
                      </a:lnTo>
                      <a:lnTo>
                        <a:pt x="383" y="702"/>
                      </a:lnTo>
                      <a:lnTo>
                        <a:pt x="389" y="702"/>
                      </a:lnTo>
                      <a:lnTo>
                        <a:pt x="394" y="702"/>
                      </a:lnTo>
                      <a:lnTo>
                        <a:pt x="400" y="702"/>
                      </a:lnTo>
                      <a:lnTo>
                        <a:pt x="406" y="702"/>
                      </a:lnTo>
                      <a:lnTo>
                        <a:pt x="411" y="696"/>
                      </a:lnTo>
                      <a:lnTo>
                        <a:pt x="417" y="696"/>
                      </a:lnTo>
                      <a:lnTo>
                        <a:pt x="423" y="696"/>
                      </a:lnTo>
                      <a:lnTo>
                        <a:pt x="428" y="696"/>
                      </a:lnTo>
                      <a:lnTo>
                        <a:pt x="434" y="690"/>
                      </a:lnTo>
                      <a:lnTo>
                        <a:pt x="445" y="690"/>
                      </a:lnTo>
                      <a:lnTo>
                        <a:pt x="451" y="690"/>
                      </a:lnTo>
                      <a:lnTo>
                        <a:pt x="456" y="690"/>
                      </a:lnTo>
                      <a:lnTo>
                        <a:pt x="462" y="684"/>
                      </a:lnTo>
                      <a:lnTo>
                        <a:pt x="468" y="684"/>
                      </a:lnTo>
                      <a:lnTo>
                        <a:pt x="462" y="677"/>
                      </a:lnTo>
                      <a:lnTo>
                        <a:pt x="456" y="677"/>
                      </a:lnTo>
                      <a:lnTo>
                        <a:pt x="456" y="671"/>
                      </a:lnTo>
                      <a:lnTo>
                        <a:pt x="451" y="665"/>
                      </a:lnTo>
                      <a:lnTo>
                        <a:pt x="445" y="665"/>
                      </a:lnTo>
                      <a:lnTo>
                        <a:pt x="440" y="659"/>
                      </a:lnTo>
                      <a:lnTo>
                        <a:pt x="434" y="652"/>
                      </a:lnTo>
                      <a:lnTo>
                        <a:pt x="434" y="646"/>
                      </a:lnTo>
                      <a:lnTo>
                        <a:pt x="428" y="640"/>
                      </a:lnTo>
                      <a:lnTo>
                        <a:pt x="423" y="633"/>
                      </a:lnTo>
                      <a:lnTo>
                        <a:pt x="423" y="621"/>
                      </a:lnTo>
                      <a:lnTo>
                        <a:pt x="417" y="615"/>
                      </a:lnTo>
                      <a:lnTo>
                        <a:pt x="417" y="602"/>
                      </a:lnTo>
                      <a:lnTo>
                        <a:pt x="411" y="596"/>
                      </a:lnTo>
                      <a:lnTo>
                        <a:pt x="411" y="590"/>
                      </a:lnTo>
                      <a:lnTo>
                        <a:pt x="406" y="577"/>
                      </a:lnTo>
                      <a:lnTo>
                        <a:pt x="411" y="583"/>
                      </a:lnTo>
                      <a:lnTo>
                        <a:pt x="417" y="590"/>
                      </a:lnTo>
                      <a:lnTo>
                        <a:pt x="423" y="596"/>
                      </a:lnTo>
                      <a:lnTo>
                        <a:pt x="428" y="602"/>
                      </a:lnTo>
                      <a:lnTo>
                        <a:pt x="434" y="608"/>
                      </a:lnTo>
                      <a:lnTo>
                        <a:pt x="440" y="615"/>
                      </a:lnTo>
                      <a:lnTo>
                        <a:pt x="445" y="621"/>
                      </a:lnTo>
                      <a:lnTo>
                        <a:pt x="451" y="627"/>
                      </a:lnTo>
                      <a:lnTo>
                        <a:pt x="456" y="627"/>
                      </a:lnTo>
                      <a:lnTo>
                        <a:pt x="462" y="633"/>
                      </a:lnTo>
                      <a:lnTo>
                        <a:pt x="473" y="640"/>
                      </a:lnTo>
                      <a:lnTo>
                        <a:pt x="479" y="640"/>
                      </a:lnTo>
                      <a:lnTo>
                        <a:pt x="485" y="646"/>
                      </a:lnTo>
                      <a:lnTo>
                        <a:pt x="490" y="652"/>
                      </a:lnTo>
                      <a:lnTo>
                        <a:pt x="496" y="659"/>
                      </a:lnTo>
                      <a:lnTo>
                        <a:pt x="502" y="659"/>
                      </a:lnTo>
                      <a:lnTo>
                        <a:pt x="507" y="665"/>
                      </a:lnTo>
                      <a:lnTo>
                        <a:pt x="518" y="665"/>
                      </a:lnTo>
                      <a:lnTo>
                        <a:pt x="524" y="671"/>
                      </a:lnTo>
                      <a:lnTo>
                        <a:pt x="530" y="677"/>
                      </a:lnTo>
                      <a:lnTo>
                        <a:pt x="535" y="677"/>
                      </a:lnTo>
                      <a:lnTo>
                        <a:pt x="541" y="677"/>
                      </a:lnTo>
                      <a:lnTo>
                        <a:pt x="552" y="684"/>
                      </a:lnTo>
                      <a:lnTo>
                        <a:pt x="558" y="684"/>
                      </a:lnTo>
                      <a:lnTo>
                        <a:pt x="564" y="684"/>
                      </a:lnTo>
                      <a:lnTo>
                        <a:pt x="575" y="690"/>
                      </a:lnTo>
                      <a:lnTo>
                        <a:pt x="580" y="690"/>
                      </a:lnTo>
                      <a:lnTo>
                        <a:pt x="586" y="690"/>
                      </a:lnTo>
                      <a:lnTo>
                        <a:pt x="597" y="690"/>
                      </a:lnTo>
                      <a:lnTo>
                        <a:pt x="603" y="690"/>
                      </a:lnTo>
                      <a:lnTo>
                        <a:pt x="609" y="690"/>
                      </a:lnTo>
                      <a:lnTo>
                        <a:pt x="620" y="690"/>
                      </a:lnTo>
                      <a:lnTo>
                        <a:pt x="626" y="690"/>
                      </a:lnTo>
                      <a:lnTo>
                        <a:pt x="637" y="690"/>
                      </a:lnTo>
                      <a:lnTo>
                        <a:pt x="642" y="690"/>
                      </a:lnTo>
                      <a:lnTo>
                        <a:pt x="648" y="690"/>
                      </a:lnTo>
                      <a:lnTo>
                        <a:pt x="659" y="690"/>
                      </a:lnTo>
                      <a:lnTo>
                        <a:pt x="665" y="684"/>
                      </a:lnTo>
                      <a:lnTo>
                        <a:pt x="676" y="684"/>
                      </a:lnTo>
                      <a:lnTo>
                        <a:pt x="682" y="684"/>
                      </a:lnTo>
                      <a:lnTo>
                        <a:pt x="688" y="684"/>
                      </a:lnTo>
                      <a:lnTo>
                        <a:pt x="693" y="677"/>
                      </a:lnTo>
                      <a:lnTo>
                        <a:pt x="699" y="677"/>
                      </a:lnTo>
                      <a:lnTo>
                        <a:pt x="710" y="677"/>
                      </a:lnTo>
                      <a:lnTo>
                        <a:pt x="716" y="671"/>
                      </a:lnTo>
                      <a:lnTo>
                        <a:pt x="721" y="671"/>
                      </a:lnTo>
                      <a:lnTo>
                        <a:pt x="727" y="671"/>
                      </a:lnTo>
                      <a:lnTo>
                        <a:pt x="733" y="665"/>
                      </a:lnTo>
                      <a:lnTo>
                        <a:pt x="738" y="665"/>
                      </a:lnTo>
                      <a:lnTo>
                        <a:pt x="750" y="659"/>
                      </a:lnTo>
                      <a:lnTo>
                        <a:pt x="755" y="659"/>
                      </a:lnTo>
                      <a:lnTo>
                        <a:pt x="761" y="652"/>
                      </a:lnTo>
                      <a:lnTo>
                        <a:pt x="766" y="652"/>
                      </a:lnTo>
                      <a:lnTo>
                        <a:pt x="772" y="646"/>
                      </a:lnTo>
                      <a:lnTo>
                        <a:pt x="778" y="640"/>
                      </a:lnTo>
                      <a:lnTo>
                        <a:pt x="783" y="640"/>
                      </a:lnTo>
                      <a:lnTo>
                        <a:pt x="789" y="633"/>
                      </a:lnTo>
                      <a:lnTo>
                        <a:pt x="795" y="621"/>
                      </a:lnTo>
                      <a:lnTo>
                        <a:pt x="795" y="608"/>
                      </a:lnTo>
                      <a:lnTo>
                        <a:pt x="795" y="602"/>
                      </a:lnTo>
                      <a:lnTo>
                        <a:pt x="789" y="590"/>
                      </a:lnTo>
                      <a:lnTo>
                        <a:pt x="783" y="577"/>
                      </a:lnTo>
                      <a:lnTo>
                        <a:pt x="772" y="571"/>
                      </a:lnTo>
                      <a:lnTo>
                        <a:pt x="766" y="558"/>
                      </a:lnTo>
                      <a:lnTo>
                        <a:pt x="755" y="552"/>
                      </a:lnTo>
                      <a:lnTo>
                        <a:pt x="750" y="539"/>
                      </a:lnTo>
                      <a:lnTo>
                        <a:pt x="744" y="533"/>
                      </a:lnTo>
                      <a:lnTo>
                        <a:pt x="738" y="521"/>
                      </a:lnTo>
                      <a:lnTo>
                        <a:pt x="733" y="508"/>
                      </a:lnTo>
                      <a:lnTo>
                        <a:pt x="727" y="502"/>
                      </a:lnTo>
                      <a:lnTo>
                        <a:pt x="721" y="489"/>
                      </a:lnTo>
                      <a:lnTo>
                        <a:pt x="716" y="483"/>
                      </a:lnTo>
                      <a:lnTo>
                        <a:pt x="710" y="470"/>
                      </a:lnTo>
                      <a:lnTo>
                        <a:pt x="704" y="458"/>
                      </a:lnTo>
                      <a:lnTo>
                        <a:pt x="704" y="445"/>
                      </a:lnTo>
                      <a:lnTo>
                        <a:pt x="699" y="439"/>
                      </a:lnTo>
                      <a:lnTo>
                        <a:pt x="699" y="433"/>
                      </a:lnTo>
                      <a:lnTo>
                        <a:pt x="704" y="427"/>
                      </a:lnTo>
                      <a:lnTo>
                        <a:pt x="704" y="427"/>
                      </a:lnTo>
                      <a:lnTo>
                        <a:pt x="710" y="427"/>
                      </a:lnTo>
                      <a:lnTo>
                        <a:pt x="716" y="420"/>
                      </a:lnTo>
                      <a:lnTo>
                        <a:pt x="721" y="420"/>
                      </a:lnTo>
                      <a:lnTo>
                        <a:pt x="727" y="420"/>
                      </a:lnTo>
                      <a:lnTo>
                        <a:pt x="733" y="420"/>
                      </a:lnTo>
                      <a:lnTo>
                        <a:pt x="738" y="427"/>
                      </a:lnTo>
                      <a:lnTo>
                        <a:pt x="744" y="427"/>
                      </a:lnTo>
                      <a:lnTo>
                        <a:pt x="750" y="427"/>
                      </a:lnTo>
                      <a:lnTo>
                        <a:pt x="755" y="433"/>
                      </a:lnTo>
                      <a:lnTo>
                        <a:pt x="761" y="433"/>
                      </a:lnTo>
                      <a:lnTo>
                        <a:pt x="766" y="433"/>
                      </a:lnTo>
                      <a:lnTo>
                        <a:pt x="772" y="439"/>
                      </a:lnTo>
                      <a:lnTo>
                        <a:pt x="778" y="439"/>
                      </a:lnTo>
                      <a:lnTo>
                        <a:pt x="783" y="445"/>
                      </a:lnTo>
                      <a:lnTo>
                        <a:pt x="789" y="445"/>
                      </a:lnTo>
                      <a:lnTo>
                        <a:pt x="795" y="452"/>
                      </a:lnTo>
                      <a:lnTo>
                        <a:pt x="806" y="452"/>
                      </a:lnTo>
                      <a:lnTo>
                        <a:pt x="812" y="452"/>
                      </a:lnTo>
                      <a:lnTo>
                        <a:pt x="817" y="458"/>
                      </a:lnTo>
                      <a:lnTo>
                        <a:pt x="823" y="458"/>
                      </a:lnTo>
                      <a:lnTo>
                        <a:pt x="828" y="458"/>
                      </a:lnTo>
                      <a:lnTo>
                        <a:pt x="834" y="464"/>
                      </a:lnTo>
                      <a:lnTo>
                        <a:pt x="845" y="464"/>
                      </a:lnTo>
                      <a:lnTo>
                        <a:pt x="851" y="464"/>
                      </a:lnTo>
                      <a:lnTo>
                        <a:pt x="862" y="464"/>
                      </a:lnTo>
                      <a:lnTo>
                        <a:pt x="868" y="458"/>
                      </a:lnTo>
                      <a:lnTo>
                        <a:pt x="874" y="458"/>
                      </a:lnTo>
                      <a:lnTo>
                        <a:pt x="885" y="458"/>
                      </a:lnTo>
                      <a:lnTo>
                        <a:pt x="890" y="452"/>
                      </a:lnTo>
                      <a:lnTo>
                        <a:pt x="896" y="445"/>
                      </a:lnTo>
                      <a:lnTo>
                        <a:pt x="907" y="439"/>
                      </a:lnTo>
                      <a:lnTo>
                        <a:pt x="913" y="433"/>
                      </a:lnTo>
                      <a:lnTo>
                        <a:pt x="913" y="420"/>
                      </a:lnTo>
                      <a:lnTo>
                        <a:pt x="919" y="414"/>
                      </a:lnTo>
                      <a:lnTo>
                        <a:pt x="924" y="401"/>
                      </a:lnTo>
                      <a:lnTo>
                        <a:pt x="930" y="395"/>
                      </a:lnTo>
                      <a:lnTo>
                        <a:pt x="936" y="383"/>
                      </a:lnTo>
                      <a:lnTo>
                        <a:pt x="941" y="376"/>
                      </a:lnTo>
                      <a:lnTo>
                        <a:pt x="947" y="370"/>
                      </a:lnTo>
                      <a:lnTo>
                        <a:pt x="952" y="364"/>
                      </a:lnTo>
                      <a:lnTo>
                        <a:pt x="958" y="358"/>
                      </a:lnTo>
                      <a:lnTo>
                        <a:pt x="958" y="351"/>
                      </a:lnTo>
                      <a:lnTo>
                        <a:pt x="964" y="345"/>
                      </a:lnTo>
                      <a:lnTo>
                        <a:pt x="969" y="339"/>
                      </a:lnTo>
                      <a:lnTo>
                        <a:pt x="981" y="332"/>
                      </a:lnTo>
                      <a:lnTo>
                        <a:pt x="986" y="332"/>
                      </a:lnTo>
                      <a:lnTo>
                        <a:pt x="992" y="326"/>
                      </a:lnTo>
                      <a:lnTo>
                        <a:pt x="1003" y="326"/>
                      </a:lnTo>
                      <a:lnTo>
                        <a:pt x="1009" y="320"/>
                      </a:lnTo>
                      <a:lnTo>
                        <a:pt x="1014" y="320"/>
                      </a:lnTo>
                      <a:lnTo>
                        <a:pt x="1026" y="320"/>
                      </a:lnTo>
                      <a:lnTo>
                        <a:pt x="1031" y="326"/>
                      </a:lnTo>
                      <a:lnTo>
                        <a:pt x="1043" y="326"/>
                      </a:lnTo>
                      <a:lnTo>
                        <a:pt x="1048" y="332"/>
                      </a:lnTo>
                      <a:lnTo>
                        <a:pt x="1054" y="339"/>
                      </a:lnTo>
                      <a:lnTo>
                        <a:pt x="1060" y="345"/>
                      </a:lnTo>
                      <a:lnTo>
                        <a:pt x="1060" y="351"/>
                      </a:lnTo>
                      <a:lnTo>
                        <a:pt x="1065" y="358"/>
                      </a:lnTo>
                      <a:lnTo>
                        <a:pt x="1071" y="364"/>
                      </a:lnTo>
                      <a:lnTo>
                        <a:pt x="1076" y="370"/>
                      </a:lnTo>
                      <a:lnTo>
                        <a:pt x="1082" y="376"/>
                      </a:lnTo>
                      <a:lnTo>
                        <a:pt x="1093" y="376"/>
                      </a:lnTo>
                      <a:lnTo>
                        <a:pt x="1105" y="383"/>
                      </a:lnTo>
                      <a:lnTo>
                        <a:pt x="1110" y="383"/>
                      </a:lnTo>
                      <a:lnTo>
                        <a:pt x="1122" y="383"/>
                      </a:lnTo>
                      <a:lnTo>
                        <a:pt x="1133" y="383"/>
                      </a:lnTo>
                      <a:lnTo>
                        <a:pt x="1144" y="383"/>
                      </a:lnTo>
                      <a:lnTo>
                        <a:pt x="1155" y="376"/>
                      </a:lnTo>
                      <a:lnTo>
                        <a:pt x="1167" y="376"/>
                      </a:lnTo>
                      <a:lnTo>
                        <a:pt x="1172" y="376"/>
                      </a:lnTo>
                      <a:lnTo>
                        <a:pt x="1184" y="376"/>
                      </a:lnTo>
                      <a:lnTo>
                        <a:pt x="1189" y="370"/>
                      </a:lnTo>
                      <a:lnTo>
                        <a:pt x="1195" y="370"/>
                      </a:lnTo>
                      <a:lnTo>
                        <a:pt x="1206" y="370"/>
                      </a:lnTo>
                      <a:lnTo>
                        <a:pt x="1212" y="370"/>
                      </a:lnTo>
                      <a:lnTo>
                        <a:pt x="1217" y="364"/>
                      </a:lnTo>
                      <a:lnTo>
                        <a:pt x="1229" y="364"/>
                      </a:lnTo>
                      <a:lnTo>
                        <a:pt x="1234" y="364"/>
                      </a:lnTo>
                      <a:lnTo>
                        <a:pt x="1246" y="358"/>
                      </a:lnTo>
                      <a:lnTo>
                        <a:pt x="1251" y="358"/>
                      </a:lnTo>
                      <a:lnTo>
                        <a:pt x="1257" y="351"/>
                      </a:lnTo>
                      <a:lnTo>
                        <a:pt x="1262" y="351"/>
                      </a:lnTo>
                      <a:lnTo>
                        <a:pt x="1268" y="345"/>
                      </a:lnTo>
                      <a:lnTo>
                        <a:pt x="1274" y="339"/>
                      </a:lnTo>
                      <a:lnTo>
                        <a:pt x="1279" y="332"/>
                      </a:lnTo>
                      <a:lnTo>
                        <a:pt x="1285" y="326"/>
                      </a:lnTo>
                      <a:lnTo>
                        <a:pt x="1285" y="314"/>
                      </a:lnTo>
                      <a:lnTo>
                        <a:pt x="1279" y="301"/>
                      </a:lnTo>
                      <a:lnTo>
                        <a:pt x="1279" y="289"/>
                      </a:lnTo>
                      <a:lnTo>
                        <a:pt x="1274" y="282"/>
                      </a:lnTo>
                      <a:lnTo>
                        <a:pt x="1274" y="270"/>
                      </a:lnTo>
                      <a:lnTo>
                        <a:pt x="1274" y="257"/>
                      </a:lnTo>
                      <a:lnTo>
                        <a:pt x="1274" y="251"/>
                      </a:lnTo>
                      <a:lnTo>
                        <a:pt x="1279" y="245"/>
                      </a:lnTo>
                      <a:lnTo>
                        <a:pt x="1285" y="251"/>
                      </a:lnTo>
                      <a:lnTo>
                        <a:pt x="1291" y="257"/>
                      </a:lnTo>
                      <a:lnTo>
                        <a:pt x="1291" y="270"/>
                      </a:lnTo>
                      <a:lnTo>
                        <a:pt x="1296" y="276"/>
                      </a:lnTo>
                      <a:lnTo>
                        <a:pt x="1302" y="282"/>
                      </a:lnTo>
                      <a:lnTo>
                        <a:pt x="1308" y="289"/>
                      </a:lnTo>
                      <a:lnTo>
                        <a:pt x="1313" y="289"/>
                      </a:lnTo>
                      <a:lnTo>
                        <a:pt x="1319" y="276"/>
                      </a:lnTo>
                      <a:lnTo>
                        <a:pt x="1319" y="270"/>
                      </a:lnTo>
                      <a:lnTo>
                        <a:pt x="1319" y="263"/>
                      </a:lnTo>
                      <a:lnTo>
                        <a:pt x="1319" y="251"/>
                      </a:lnTo>
                      <a:lnTo>
                        <a:pt x="1319" y="238"/>
                      </a:lnTo>
                      <a:lnTo>
                        <a:pt x="1313" y="226"/>
                      </a:lnTo>
                      <a:lnTo>
                        <a:pt x="1313" y="220"/>
                      </a:lnTo>
                      <a:lnTo>
                        <a:pt x="1313" y="207"/>
                      </a:lnTo>
                      <a:lnTo>
                        <a:pt x="1319" y="213"/>
                      </a:lnTo>
                      <a:lnTo>
                        <a:pt x="1324" y="220"/>
                      </a:lnTo>
                      <a:lnTo>
                        <a:pt x="1324" y="226"/>
                      </a:lnTo>
                      <a:lnTo>
                        <a:pt x="1330" y="232"/>
                      </a:lnTo>
                      <a:lnTo>
                        <a:pt x="1336" y="232"/>
                      </a:lnTo>
                      <a:lnTo>
                        <a:pt x="1341" y="238"/>
                      </a:lnTo>
                      <a:lnTo>
                        <a:pt x="1347" y="245"/>
                      </a:lnTo>
                      <a:lnTo>
                        <a:pt x="1353" y="245"/>
                      </a:lnTo>
                      <a:lnTo>
                        <a:pt x="1358" y="245"/>
                      </a:lnTo>
                      <a:lnTo>
                        <a:pt x="1364" y="238"/>
                      </a:lnTo>
                      <a:lnTo>
                        <a:pt x="1370" y="232"/>
                      </a:lnTo>
                      <a:lnTo>
                        <a:pt x="1375" y="232"/>
                      </a:lnTo>
                      <a:lnTo>
                        <a:pt x="1381" y="226"/>
                      </a:lnTo>
                      <a:lnTo>
                        <a:pt x="1386" y="220"/>
                      </a:lnTo>
                      <a:lnTo>
                        <a:pt x="1392" y="213"/>
                      </a:lnTo>
                      <a:lnTo>
                        <a:pt x="1398" y="207"/>
                      </a:lnTo>
                      <a:lnTo>
                        <a:pt x="1398" y="188"/>
                      </a:lnTo>
                      <a:lnTo>
                        <a:pt x="1398" y="169"/>
                      </a:lnTo>
                      <a:lnTo>
                        <a:pt x="1398" y="151"/>
                      </a:lnTo>
                      <a:lnTo>
                        <a:pt x="1398" y="132"/>
                      </a:lnTo>
                      <a:lnTo>
                        <a:pt x="1398" y="126"/>
                      </a:lnTo>
                      <a:lnTo>
                        <a:pt x="1392" y="119"/>
                      </a:lnTo>
                      <a:lnTo>
                        <a:pt x="1392" y="113"/>
                      </a:lnTo>
                      <a:lnTo>
                        <a:pt x="1386" y="113"/>
                      </a:lnTo>
                      <a:lnTo>
                        <a:pt x="1386" y="107"/>
                      </a:lnTo>
                      <a:lnTo>
                        <a:pt x="1381" y="100"/>
                      </a:lnTo>
                      <a:lnTo>
                        <a:pt x="1381" y="94"/>
                      </a:lnTo>
                      <a:lnTo>
                        <a:pt x="1381" y="88"/>
                      </a:lnTo>
                      <a:lnTo>
                        <a:pt x="1381" y="82"/>
                      </a:lnTo>
                      <a:lnTo>
                        <a:pt x="1381" y="75"/>
                      </a:lnTo>
                      <a:lnTo>
                        <a:pt x="1381" y="69"/>
                      </a:lnTo>
                      <a:lnTo>
                        <a:pt x="1381" y="63"/>
                      </a:lnTo>
                      <a:lnTo>
                        <a:pt x="1386" y="57"/>
                      </a:lnTo>
                      <a:lnTo>
                        <a:pt x="1386" y="50"/>
                      </a:lnTo>
                      <a:lnTo>
                        <a:pt x="1392" y="44"/>
                      </a:lnTo>
                      <a:lnTo>
                        <a:pt x="1398" y="38"/>
                      </a:lnTo>
                      <a:lnTo>
                        <a:pt x="1403" y="31"/>
                      </a:lnTo>
                      <a:lnTo>
                        <a:pt x="1409" y="25"/>
                      </a:lnTo>
                      <a:lnTo>
                        <a:pt x="1415" y="25"/>
                      </a:lnTo>
                      <a:lnTo>
                        <a:pt x="1420" y="19"/>
                      </a:lnTo>
                      <a:lnTo>
                        <a:pt x="1426" y="13"/>
                      </a:lnTo>
                      <a:lnTo>
                        <a:pt x="1432" y="13"/>
                      </a:lnTo>
                      <a:lnTo>
                        <a:pt x="1443" y="6"/>
                      </a:lnTo>
                      <a:lnTo>
                        <a:pt x="1448" y="0"/>
                      </a:lnTo>
                      <a:lnTo>
                        <a:pt x="1443" y="6"/>
                      </a:lnTo>
                      <a:lnTo>
                        <a:pt x="1437" y="13"/>
                      </a:lnTo>
                      <a:lnTo>
                        <a:pt x="1432" y="25"/>
                      </a:lnTo>
                      <a:lnTo>
                        <a:pt x="1426" y="31"/>
                      </a:lnTo>
                      <a:lnTo>
                        <a:pt x="1420" y="38"/>
                      </a:lnTo>
                      <a:lnTo>
                        <a:pt x="1415" y="44"/>
                      </a:lnTo>
                      <a:lnTo>
                        <a:pt x="1409" y="50"/>
                      </a:lnTo>
                      <a:lnTo>
                        <a:pt x="1409" y="57"/>
                      </a:lnTo>
                      <a:lnTo>
                        <a:pt x="1409" y="63"/>
                      </a:lnTo>
                      <a:lnTo>
                        <a:pt x="1409" y="69"/>
                      </a:lnTo>
                      <a:lnTo>
                        <a:pt x="1409" y="82"/>
                      </a:lnTo>
                      <a:lnTo>
                        <a:pt x="1409" y="88"/>
                      </a:lnTo>
                      <a:lnTo>
                        <a:pt x="1415" y="94"/>
                      </a:lnTo>
                      <a:lnTo>
                        <a:pt x="1415" y="100"/>
                      </a:lnTo>
                      <a:lnTo>
                        <a:pt x="1420" y="107"/>
                      </a:lnTo>
                      <a:lnTo>
                        <a:pt x="1420" y="113"/>
                      </a:lnTo>
                      <a:lnTo>
                        <a:pt x="1426" y="126"/>
                      </a:lnTo>
                      <a:lnTo>
                        <a:pt x="1432" y="138"/>
                      </a:lnTo>
                      <a:lnTo>
                        <a:pt x="1437" y="151"/>
                      </a:lnTo>
                      <a:lnTo>
                        <a:pt x="1443" y="163"/>
                      </a:lnTo>
                      <a:lnTo>
                        <a:pt x="1448" y="176"/>
                      </a:lnTo>
                      <a:lnTo>
                        <a:pt x="1454" y="188"/>
                      </a:lnTo>
                      <a:lnTo>
                        <a:pt x="1460" y="201"/>
                      </a:lnTo>
                      <a:lnTo>
                        <a:pt x="1471" y="213"/>
                      </a:lnTo>
                      <a:lnTo>
                        <a:pt x="1477" y="213"/>
                      </a:lnTo>
                      <a:lnTo>
                        <a:pt x="1482" y="220"/>
                      </a:lnTo>
                      <a:lnTo>
                        <a:pt x="1488" y="220"/>
                      </a:lnTo>
                      <a:lnTo>
                        <a:pt x="1494" y="220"/>
                      </a:lnTo>
                      <a:lnTo>
                        <a:pt x="1499" y="226"/>
                      </a:lnTo>
                      <a:lnTo>
                        <a:pt x="1505" y="226"/>
                      </a:lnTo>
                      <a:lnTo>
                        <a:pt x="1516" y="220"/>
                      </a:lnTo>
                      <a:lnTo>
                        <a:pt x="1522" y="220"/>
                      </a:lnTo>
                      <a:lnTo>
                        <a:pt x="1527" y="220"/>
                      </a:lnTo>
                      <a:lnTo>
                        <a:pt x="1539" y="213"/>
                      </a:lnTo>
                      <a:lnTo>
                        <a:pt x="1544" y="213"/>
                      </a:lnTo>
                      <a:lnTo>
                        <a:pt x="1556" y="207"/>
                      </a:lnTo>
                      <a:lnTo>
                        <a:pt x="1561" y="201"/>
                      </a:lnTo>
                      <a:lnTo>
                        <a:pt x="1567" y="195"/>
                      </a:lnTo>
                      <a:lnTo>
                        <a:pt x="1578" y="195"/>
                      </a:lnTo>
                      <a:lnTo>
                        <a:pt x="1584" y="188"/>
                      </a:lnTo>
                      <a:lnTo>
                        <a:pt x="1589" y="182"/>
                      </a:lnTo>
                      <a:lnTo>
                        <a:pt x="1595" y="176"/>
                      </a:lnTo>
                      <a:lnTo>
                        <a:pt x="1601" y="169"/>
                      </a:lnTo>
                      <a:lnTo>
                        <a:pt x="1606" y="163"/>
                      </a:lnTo>
                      <a:lnTo>
                        <a:pt x="1612" y="157"/>
                      </a:lnTo>
                      <a:lnTo>
                        <a:pt x="1612" y="151"/>
                      </a:lnTo>
                      <a:lnTo>
                        <a:pt x="1618" y="144"/>
                      </a:lnTo>
                      <a:lnTo>
                        <a:pt x="1623" y="138"/>
                      </a:lnTo>
                      <a:lnTo>
                        <a:pt x="1623" y="126"/>
                      </a:lnTo>
                      <a:lnTo>
                        <a:pt x="1623" y="113"/>
                      </a:lnTo>
                      <a:lnTo>
                        <a:pt x="1629" y="107"/>
                      </a:lnTo>
                      <a:lnTo>
                        <a:pt x="1629" y="94"/>
                      </a:lnTo>
                      <a:lnTo>
                        <a:pt x="1629" y="88"/>
                      </a:lnTo>
                      <a:lnTo>
                        <a:pt x="1634" y="75"/>
                      </a:lnTo>
                      <a:lnTo>
                        <a:pt x="1634" y="69"/>
                      </a:lnTo>
                      <a:lnTo>
                        <a:pt x="1640" y="63"/>
                      </a:lnTo>
                      <a:lnTo>
                        <a:pt x="1640" y="82"/>
                      </a:lnTo>
                      <a:lnTo>
                        <a:pt x="1646" y="107"/>
                      </a:lnTo>
                      <a:lnTo>
                        <a:pt x="1646" y="126"/>
                      </a:lnTo>
                      <a:lnTo>
                        <a:pt x="1640" y="144"/>
                      </a:lnTo>
                      <a:lnTo>
                        <a:pt x="1634" y="163"/>
                      </a:lnTo>
                      <a:lnTo>
                        <a:pt x="1629" y="176"/>
                      </a:lnTo>
                      <a:lnTo>
                        <a:pt x="1623" y="195"/>
                      </a:lnTo>
                      <a:lnTo>
                        <a:pt x="1618" y="207"/>
                      </a:lnTo>
                      <a:lnTo>
                        <a:pt x="1612" y="213"/>
                      </a:lnTo>
                      <a:lnTo>
                        <a:pt x="1606" y="226"/>
                      </a:lnTo>
                      <a:lnTo>
                        <a:pt x="1601" y="232"/>
                      </a:lnTo>
                      <a:lnTo>
                        <a:pt x="1601" y="238"/>
                      </a:lnTo>
                      <a:lnTo>
                        <a:pt x="1595" y="251"/>
                      </a:lnTo>
                      <a:lnTo>
                        <a:pt x="1589" y="257"/>
                      </a:lnTo>
                      <a:lnTo>
                        <a:pt x="1584" y="263"/>
                      </a:lnTo>
                      <a:lnTo>
                        <a:pt x="1578" y="276"/>
                      </a:lnTo>
                      <a:lnTo>
                        <a:pt x="1572" y="282"/>
                      </a:lnTo>
                      <a:lnTo>
                        <a:pt x="1561" y="289"/>
                      </a:lnTo>
                      <a:lnTo>
                        <a:pt x="1556" y="295"/>
                      </a:lnTo>
                      <a:lnTo>
                        <a:pt x="1550" y="301"/>
                      </a:lnTo>
                      <a:lnTo>
                        <a:pt x="1544" y="307"/>
                      </a:lnTo>
                      <a:lnTo>
                        <a:pt x="1539" y="314"/>
                      </a:lnTo>
                      <a:lnTo>
                        <a:pt x="1533" y="320"/>
                      </a:lnTo>
                      <a:lnTo>
                        <a:pt x="1522" y="326"/>
                      </a:lnTo>
                      <a:lnTo>
                        <a:pt x="1510" y="339"/>
                      </a:lnTo>
                      <a:lnTo>
                        <a:pt x="1505" y="345"/>
                      </a:lnTo>
                      <a:lnTo>
                        <a:pt x="1494" y="351"/>
                      </a:lnTo>
                      <a:lnTo>
                        <a:pt x="1488" y="358"/>
                      </a:lnTo>
                      <a:lnTo>
                        <a:pt x="1482" y="358"/>
                      </a:lnTo>
                      <a:lnTo>
                        <a:pt x="1477" y="364"/>
                      </a:lnTo>
                      <a:lnTo>
                        <a:pt x="1465" y="364"/>
                      </a:lnTo>
                      <a:lnTo>
                        <a:pt x="1454" y="370"/>
                      </a:lnTo>
                      <a:lnTo>
                        <a:pt x="1465" y="370"/>
                      </a:lnTo>
                      <a:lnTo>
                        <a:pt x="1471" y="370"/>
                      </a:lnTo>
                      <a:lnTo>
                        <a:pt x="1477" y="370"/>
                      </a:lnTo>
                      <a:lnTo>
                        <a:pt x="1482" y="376"/>
                      </a:lnTo>
                      <a:lnTo>
                        <a:pt x="1482" y="383"/>
                      </a:lnTo>
                      <a:lnTo>
                        <a:pt x="1488" y="389"/>
                      </a:lnTo>
                      <a:lnTo>
                        <a:pt x="1488" y="395"/>
                      </a:lnTo>
                      <a:lnTo>
                        <a:pt x="1488" y="401"/>
                      </a:lnTo>
                      <a:lnTo>
                        <a:pt x="1494" y="433"/>
                      </a:lnTo>
                      <a:lnTo>
                        <a:pt x="1494" y="464"/>
                      </a:lnTo>
                      <a:lnTo>
                        <a:pt x="1494" y="489"/>
                      </a:lnTo>
                      <a:lnTo>
                        <a:pt x="1494" y="521"/>
                      </a:lnTo>
                      <a:lnTo>
                        <a:pt x="1488" y="533"/>
                      </a:lnTo>
                      <a:lnTo>
                        <a:pt x="1488" y="552"/>
                      </a:lnTo>
                      <a:lnTo>
                        <a:pt x="1482" y="564"/>
                      </a:lnTo>
                      <a:lnTo>
                        <a:pt x="1482" y="577"/>
                      </a:lnTo>
                      <a:lnTo>
                        <a:pt x="1477" y="596"/>
                      </a:lnTo>
                      <a:lnTo>
                        <a:pt x="1471" y="608"/>
                      </a:lnTo>
                      <a:lnTo>
                        <a:pt x="1465" y="621"/>
                      </a:lnTo>
                      <a:lnTo>
                        <a:pt x="1460" y="633"/>
                      </a:lnTo>
                      <a:lnTo>
                        <a:pt x="1454" y="640"/>
                      </a:lnTo>
                      <a:lnTo>
                        <a:pt x="1443" y="652"/>
                      </a:lnTo>
                      <a:lnTo>
                        <a:pt x="1437" y="659"/>
                      </a:lnTo>
                      <a:lnTo>
                        <a:pt x="1426" y="665"/>
                      </a:lnTo>
                      <a:lnTo>
                        <a:pt x="1415" y="671"/>
                      </a:lnTo>
                      <a:lnTo>
                        <a:pt x="1403" y="677"/>
                      </a:lnTo>
                      <a:lnTo>
                        <a:pt x="1392" y="677"/>
                      </a:lnTo>
                      <a:lnTo>
                        <a:pt x="1381" y="684"/>
                      </a:lnTo>
                      <a:lnTo>
                        <a:pt x="1375" y="684"/>
                      </a:lnTo>
                      <a:lnTo>
                        <a:pt x="1370" y="684"/>
                      </a:lnTo>
                      <a:lnTo>
                        <a:pt x="1364" y="684"/>
                      </a:lnTo>
                      <a:lnTo>
                        <a:pt x="1358" y="684"/>
                      </a:lnTo>
                      <a:lnTo>
                        <a:pt x="1353" y="677"/>
                      </a:lnTo>
                      <a:lnTo>
                        <a:pt x="1347" y="677"/>
                      </a:lnTo>
                      <a:lnTo>
                        <a:pt x="1341" y="677"/>
                      </a:lnTo>
                      <a:lnTo>
                        <a:pt x="1336" y="677"/>
                      </a:lnTo>
                      <a:lnTo>
                        <a:pt x="1330" y="671"/>
                      </a:lnTo>
                      <a:lnTo>
                        <a:pt x="1319" y="671"/>
                      </a:lnTo>
                      <a:lnTo>
                        <a:pt x="1313" y="671"/>
                      </a:lnTo>
                      <a:lnTo>
                        <a:pt x="1308" y="671"/>
                      </a:lnTo>
                      <a:lnTo>
                        <a:pt x="1302" y="665"/>
                      </a:lnTo>
                      <a:lnTo>
                        <a:pt x="1296" y="665"/>
                      </a:lnTo>
                      <a:lnTo>
                        <a:pt x="1291" y="665"/>
                      </a:lnTo>
                      <a:lnTo>
                        <a:pt x="1285" y="665"/>
                      </a:lnTo>
                      <a:lnTo>
                        <a:pt x="1279" y="671"/>
                      </a:lnTo>
                      <a:lnTo>
                        <a:pt x="1279" y="671"/>
                      </a:lnTo>
                      <a:lnTo>
                        <a:pt x="1279" y="677"/>
                      </a:lnTo>
                      <a:lnTo>
                        <a:pt x="1274" y="684"/>
                      </a:lnTo>
                      <a:lnTo>
                        <a:pt x="1274" y="690"/>
                      </a:lnTo>
                      <a:lnTo>
                        <a:pt x="1268" y="696"/>
                      </a:lnTo>
                      <a:lnTo>
                        <a:pt x="1262" y="702"/>
                      </a:lnTo>
                      <a:lnTo>
                        <a:pt x="1257" y="709"/>
                      </a:lnTo>
                      <a:lnTo>
                        <a:pt x="1257" y="709"/>
                      </a:lnTo>
                      <a:lnTo>
                        <a:pt x="1246" y="715"/>
                      </a:lnTo>
                      <a:lnTo>
                        <a:pt x="1240" y="721"/>
                      </a:lnTo>
                      <a:lnTo>
                        <a:pt x="1234" y="721"/>
                      </a:lnTo>
                      <a:lnTo>
                        <a:pt x="1229" y="728"/>
                      </a:lnTo>
                      <a:lnTo>
                        <a:pt x="1223" y="734"/>
                      </a:lnTo>
                      <a:lnTo>
                        <a:pt x="1217" y="734"/>
                      </a:lnTo>
                      <a:lnTo>
                        <a:pt x="1212" y="740"/>
                      </a:lnTo>
                      <a:lnTo>
                        <a:pt x="1206" y="740"/>
                      </a:lnTo>
                      <a:lnTo>
                        <a:pt x="1200" y="746"/>
                      </a:lnTo>
                      <a:lnTo>
                        <a:pt x="1195" y="753"/>
                      </a:lnTo>
                      <a:lnTo>
                        <a:pt x="1189" y="753"/>
                      </a:lnTo>
                      <a:lnTo>
                        <a:pt x="1184" y="759"/>
                      </a:lnTo>
                      <a:lnTo>
                        <a:pt x="1178" y="759"/>
                      </a:lnTo>
                      <a:lnTo>
                        <a:pt x="1167" y="765"/>
                      </a:lnTo>
                      <a:lnTo>
                        <a:pt x="1161" y="771"/>
                      </a:lnTo>
                      <a:lnTo>
                        <a:pt x="1161" y="784"/>
                      </a:lnTo>
                      <a:lnTo>
                        <a:pt x="1167" y="803"/>
                      </a:lnTo>
                      <a:lnTo>
                        <a:pt x="1167" y="822"/>
                      </a:lnTo>
                      <a:lnTo>
                        <a:pt x="1161" y="834"/>
                      </a:lnTo>
                      <a:lnTo>
                        <a:pt x="1155" y="847"/>
                      </a:lnTo>
                      <a:lnTo>
                        <a:pt x="1155" y="859"/>
                      </a:lnTo>
                      <a:lnTo>
                        <a:pt x="1144" y="865"/>
                      </a:lnTo>
                      <a:lnTo>
                        <a:pt x="1138" y="878"/>
                      </a:lnTo>
                      <a:lnTo>
                        <a:pt x="1133" y="884"/>
                      </a:lnTo>
                      <a:lnTo>
                        <a:pt x="1127" y="891"/>
                      </a:lnTo>
                      <a:lnTo>
                        <a:pt x="1116" y="897"/>
                      </a:lnTo>
                      <a:lnTo>
                        <a:pt x="1110" y="909"/>
                      </a:lnTo>
                      <a:lnTo>
                        <a:pt x="1099" y="909"/>
                      </a:lnTo>
                      <a:lnTo>
                        <a:pt x="1093" y="916"/>
                      </a:lnTo>
                      <a:lnTo>
                        <a:pt x="1082" y="922"/>
                      </a:lnTo>
                      <a:lnTo>
                        <a:pt x="1071" y="928"/>
                      </a:lnTo>
                      <a:lnTo>
                        <a:pt x="1065" y="934"/>
                      </a:lnTo>
                      <a:lnTo>
                        <a:pt x="1054" y="934"/>
                      </a:lnTo>
                      <a:lnTo>
                        <a:pt x="1043" y="941"/>
                      </a:lnTo>
                      <a:lnTo>
                        <a:pt x="1031" y="941"/>
                      </a:lnTo>
                      <a:lnTo>
                        <a:pt x="1026" y="941"/>
                      </a:lnTo>
                      <a:lnTo>
                        <a:pt x="1014" y="941"/>
                      </a:lnTo>
                      <a:lnTo>
                        <a:pt x="1009" y="941"/>
                      </a:lnTo>
                      <a:lnTo>
                        <a:pt x="998" y="941"/>
                      </a:lnTo>
                      <a:lnTo>
                        <a:pt x="992" y="941"/>
                      </a:lnTo>
                      <a:lnTo>
                        <a:pt x="986" y="941"/>
                      </a:lnTo>
                      <a:lnTo>
                        <a:pt x="975" y="934"/>
                      </a:lnTo>
                      <a:lnTo>
                        <a:pt x="969" y="934"/>
                      </a:lnTo>
                      <a:lnTo>
                        <a:pt x="958" y="934"/>
                      </a:lnTo>
                      <a:lnTo>
                        <a:pt x="952" y="934"/>
                      </a:lnTo>
                      <a:lnTo>
                        <a:pt x="941" y="928"/>
                      </a:lnTo>
                      <a:lnTo>
                        <a:pt x="936" y="928"/>
                      </a:lnTo>
                      <a:lnTo>
                        <a:pt x="924" y="928"/>
                      </a:lnTo>
                      <a:lnTo>
                        <a:pt x="919" y="922"/>
                      </a:lnTo>
                      <a:lnTo>
                        <a:pt x="913" y="922"/>
                      </a:lnTo>
                      <a:lnTo>
                        <a:pt x="902" y="916"/>
                      </a:lnTo>
                      <a:lnTo>
                        <a:pt x="890" y="916"/>
                      </a:lnTo>
                      <a:lnTo>
                        <a:pt x="879" y="909"/>
                      </a:lnTo>
                      <a:lnTo>
                        <a:pt x="868" y="903"/>
                      </a:lnTo>
                      <a:lnTo>
                        <a:pt x="862" y="897"/>
                      </a:lnTo>
                      <a:lnTo>
                        <a:pt x="851" y="891"/>
                      </a:lnTo>
                      <a:lnTo>
                        <a:pt x="840" y="878"/>
                      </a:lnTo>
                      <a:lnTo>
                        <a:pt x="828" y="872"/>
                      </a:lnTo>
                      <a:lnTo>
                        <a:pt x="817" y="865"/>
                      </a:lnTo>
                      <a:lnTo>
                        <a:pt x="806" y="872"/>
                      </a:lnTo>
                      <a:lnTo>
                        <a:pt x="789" y="872"/>
                      </a:lnTo>
                      <a:lnTo>
                        <a:pt x="778" y="878"/>
                      </a:lnTo>
                      <a:lnTo>
                        <a:pt x="766" y="878"/>
                      </a:lnTo>
                      <a:lnTo>
                        <a:pt x="750" y="884"/>
                      </a:lnTo>
                      <a:lnTo>
                        <a:pt x="738" y="891"/>
                      </a:lnTo>
                      <a:lnTo>
                        <a:pt x="721" y="891"/>
                      </a:lnTo>
                      <a:lnTo>
                        <a:pt x="710" y="897"/>
                      </a:lnTo>
                      <a:lnTo>
                        <a:pt x="693" y="897"/>
                      </a:lnTo>
                      <a:lnTo>
                        <a:pt x="682" y="903"/>
                      </a:lnTo>
                      <a:lnTo>
                        <a:pt x="671" y="903"/>
                      </a:lnTo>
                      <a:lnTo>
                        <a:pt x="654" y="909"/>
                      </a:lnTo>
                      <a:lnTo>
                        <a:pt x="642" y="916"/>
                      </a:lnTo>
                      <a:lnTo>
                        <a:pt x="626" y="916"/>
                      </a:lnTo>
                      <a:lnTo>
                        <a:pt x="614" y="922"/>
                      </a:lnTo>
                      <a:lnTo>
                        <a:pt x="603" y="922"/>
                      </a:lnTo>
                      <a:lnTo>
                        <a:pt x="592" y="928"/>
                      </a:lnTo>
                      <a:lnTo>
                        <a:pt x="586" y="934"/>
                      </a:lnTo>
                      <a:lnTo>
                        <a:pt x="580" y="947"/>
                      </a:lnTo>
                      <a:lnTo>
                        <a:pt x="575" y="953"/>
                      </a:lnTo>
                      <a:lnTo>
                        <a:pt x="564" y="960"/>
                      </a:lnTo>
                      <a:lnTo>
                        <a:pt x="558" y="966"/>
                      </a:lnTo>
                      <a:lnTo>
                        <a:pt x="552" y="972"/>
                      </a:lnTo>
                      <a:lnTo>
                        <a:pt x="541" y="978"/>
                      </a:lnTo>
                      <a:lnTo>
                        <a:pt x="530" y="985"/>
                      </a:lnTo>
                      <a:lnTo>
                        <a:pt x="518" y="991"/>
                      </a:lnTo>
                      <a:lnTo>
                        <a:pt x="507" y="997"/>
                      </a:lnTo>
                      <a:lnTo>
                        <a:pt x="496" y="1003"/>
                      </a:lnTo>
                      <a:lnTo>
                        <a:pt x="485" y="1010"/>
                      </a:lnTo>
                      <a:lnTo>
                        <a:pt x="468" y="1016"/>
                      </a:lnTo>
                      <a:lnTo>
                        <a:pt x="456" y="1022"/>
                      </a:lnTo>
                      <a:lnTo>
                        <a:pt x="445" y="1029"/>
                      </a:lnTo>
                      <a:lnTo>
                        <a:pt x="434" y="1035"/>
                      </a:lnTo>
                      <a:lnTo>
                        <a:pt x="423" y="1041"/>
                      </a:lnTo>
                      <a:lnTo>
                        <a:pt x="406" y="1047"/>
                      </a:lnTo>
                      <a:lnTo>
                        <a:pt x="394" y="1054"/>
                      </a:lnTo>
                      <a:lnTo>
                        <a:pt x="383" y="1054"/>
                      </a:lnTo>
                      <a:lnTo>
                        <a:pt x="372" y="1060"/>
                      </a:lnTo>
                      <a:lnTo>
                        <a:pt x="355" y="1066"/>
                      </a:lnTo>
                      <a:lnTo>
                        <a:pt x="344" y="1072"/>
                      </a:lnTo>
                      <a:lnTo>
                        <a:pt x="333" y="1072"/>
                      </a:lnTo>
                      <a:lnTo>
                        <a:pt x="316" y="1079"/>
                      </a:lnTo>
                      <a:lnTo>
                        <a:pt x="304" y="1079"/>
                      </a:lnTo>
                      <a:lnTo>
                        <a:pt x="293" y="1085"/>
                      </a:lnTo>
                      <a:lnTo>
                        <a:pt x="282" y="1085"/>
                      </a:lnTo>
                      <a:lnTo>
                        <a:pt x="265" y="1091"/>
                      </a:lnTo>
                      <a:lnTo>
                        <a:pt x="254" y="1091"/>
                      </a:lnTo>
                      <a:lnTo>
                        <a:pt x="242" y="1098"/>
                      </a:lnTo>
                      <a:lnTo>
                        <a:pt x="225" y="1098"/>
                      </a:lnTo>
                      <a:lnTo>
                        <a:pt x="214" y="1098"/>
                      </a:lnTo>
                      <a:lnTo>
                        <a:pt x="197" y="1098"/>
                      </a:lnTo>
                      <a:lnTo>
                        <a:pt x="186" y="1104"/>
                      </a:lnTo>
                      <a:lnTo>
                        <a:pt x="175" y="1104"/>
                      </a:lnTo>
                      <a:lnTo>
                        <a:pt x="158" y="1104"/>
                      </a:lnTo>
                      <a:lnTo>
                        <a:pt x="147" y="1110"/>
                      </a:lnTo>
                      <a:lnTo>
                        <a:pt x="135" y="1110"/>
                      </a:lnTo>
                      <a:lnTo>
                        <a:pt x="124" y="1110"/>
                      </a:lnTo>
                      <a:lnTo>
                        <a:pt x="118" y="1110"/>
                      </a:lnTo>
                      <a:lnTo>
                        <a:pt x="107" y="1110"/>
                      </a:lnTo>
                      <a:lnTo>
                        <a:pt x="101" y="1110"/>
                      </a:lnTo>
                      <a:lnTo>
                        <a:pt x="90" y="1110"/>
                      </a:lnTo>
                      <a:lnTo>
                        <a:pt x="85" y="1110"/>
                      </a:lnTo>
                      <a:lnTo>
                        <a:pt x="73" y="1110"/>
                      </a:lnTo>
                      <a:lnTo>
                        <a:pt x="68" y="1110"/>
                      </a:lnTo>
                      <a:lnTo>
                        <a:pt x="56" y="1110"/>
                      </a:lnTo>
                      <a:lnTo>
                        <a:pt x="51" y="1110"/>
                      </a:lnTo>
                      <a:lnTo>
                        <a:pt x="39" y="1110"/>
                      </a:lnTo>
                      <a:lnTo>
                        <a:pt x="34" y="1110"/>
                      </a:lnTo>
                      <a:lnTo>
                        <a:pt x="23" y="1110"/>
                      </a:lnTo>
                      <a:lnTo>
                        <a:pt x="17" y="1110"/>
                      </a:lnTo>
                      <a:lnTo>
                        <a:pt x="6" y="1110"/>
                      </a:lnTo>
                      <a:lnTo>
                        <a:pt x="0" y="1110"/>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rot="2405400">
                  <a:off x="290160" y="1374840"/>
                  <a:ext cx="1088640" cy="475920"/>
                </a:xfrm>
                <a:custGeom>
                  <a:avLst/>
                  <a:gdLst/>
                  <a:ahLst/>
                  <a:rect l="l" t="t" r="r" b="b"/>
                  <a:pathLst>
                    <a:path w="1280" h="646">
                      <a:moveTo>
                        <a:pt x="1246" y="0"/>
                      </a:moveTo>
                      <a:lnTo>
                        <a:pt x="1257" y="6"/>
                      </a:lnTo>
                      <a:lnTo>
                        <a:pt x="1268" y="12"/>
                      </a:lnTo>
                      <a:lnTo>
                        <a:pt x="1274" y="25"/>
                      </a:lnTo>
                      <a:lnTo>
                        <a:pt x="1274" y="37"/>
                      </a:lnTo>
                      <a:lnTo>
                        <a:pt x="1274" y="50"/>
                      </a:lnTo>
                      <a:lnTo>
                        <a:pt x="1274" y="63"/>
                      </a:lnTo>
                      <a:lnTo>
                        <a:pt x="1274" y="75"/>
                      </a:lnTo>
                      <a:lnTo>
                        <a:pt x="1280" y="88"/>
                      </a:lnTo>
                      <a:lnTo>
                        <a:pt x="1268" y="88"/>
                      </a:lnTo>
                      <a:lnTo>
                        <a:pt x="1263" y="88"/>
                      </a:lnTo>
                      <a:lnTo>
                        <a:pt x="1251" y="88"/>
                      </a:lnTo>
                      <a:lnTo>
                        <a:pt x="1240" y="81"/>
                      </a:lnTo>
                      <a:lnTo>
                        <a:pt x="1234" y="81"/>
                      </a:lnTo>
                      <a:lnTo>
                        <a:pt x="1223" y="81"/>
                      </a:lnTo>
                      <a:lnTo>
                        <a:pt x="1218" y="81"/>
                      </a:lnTo>
                      <a:lnTo>
                        <a:pt x="1212" y="88"/>
                      </a:lnTo>
                      <a:lnTo>
                        <a:pt x="1206" y="88"/>
                      </a:lnTo>
                      <a:lnTo>
                        <a:pt x="1201" y="94"/>
                      </a:lnTo>
                      <a:lnTo>
                        <a:pt x="1195" y="94"/>
                      </a:lnTo>
                      <a:lnTo>
                        <a:pt x="1189" y="100"/>
                      </a:lnTo>
                      <a:lnTo>
                        <a:pt x="1189" y="106"/>
                      </a:lnTo>
                      <a:lnTo>
                        <a:pt x="1184" y="113"/>
                      </a:lnTo>
                      <a:lnTo>
                        <a:pt x="1178" y="119"/>
                      </a:lnTo>
                      <a:lnTo>
                        <a:pt x="1172" y="119"/>
                      </a:lnTo>
                      <a:lnTo>
                        <a:pt x="1167" y="125"/>
                      </a:lnTo>
                      <a:lnTo>
                        <a:pt x="1161" y="138"/>
                      </a:lnTo>
                      <a:lnTo>
                        <a:pt x="1156" y="144"/>
                      </a:lnTo>
                      <a:lnTo>
                        <a:pt x="1150" y="150"/>
                      </a:lnTo>
                      <a:lnTo>
                        <a:pt x="1150" y="157"/>
                      </a:lnTo>
                      <a:lnTo>
                        <a:pt x="1139" y="163"/>
                      </a:lnTo>
                      <a:lnTo>
                        <a:pt x="1133" y="169"/>
                      </a:lnTo>
                      <a:lnTo>
                        <a:pt x="1127" y="175"/>
                      </a:lnTo>
                      <a:lnTo>
                        <a:pt x="1122" y="175"/>
                      </a:lnTo>
                      <a:lnTo>
                        <a:pt x="1116" y="175"/>
                      </a:lnTo>
                      <a:lnTo>
                        <a:pt x="1110" y="175"/>
                      </a:lnTo>
                      <a:lnTo>
                        <a:pt x="1105" y="169"/>
                      </a:lnTo>
                      <a:lnTo>
                        <a:pt x="1099" y="169"/>
                      </a:lnTo>
                      <a:lnTo>
                        <a:pt x="1094" y="163"/>
                      </a:lnTo>
                      <a:lnTo>
                        <a:pt x="1088" y="163"/>
                      </a:lnTo>
                      <a:lnTo>
                        <a:pt x="1082" y="163"/>
                      </a:lnTo>
                      <a:lnTo>
                        <a:pt x="1071" y="157"/>
                      </a:lnTo>
                      <a:lnTo>
                        <a:pt x="1065" y="157"/>
                      </a:lnTo>
                      <a:lnTo>
                        <a:pt x="1054" y="150"/>
                      </a:lnTo>
                      <a:lnTo>
                        <a:pt x="1043" y="150"/>
                      </a:lnTo>
                      <a:lnTo>
                        <a:pt x="1032" y="144"/>
                      </a:lnTo>
                      <a:lnTo>
                        <a:pt x="1026" y="144"/>
                      </a:lnTo>
                      <a:lnTo>
                        <a:pt x="1015" y="144"/>
                      </a:lnTo>
                      <a:lnTo>
                        <a:pt x="1003" y="150"/>
                      </a:lnTo>
                      <a:lnTo>
                        <a:pt x="1003" y="150"/>
                      </a:lnTo>
                      <a:lnTo>
                        <a:pt x="998" y="157"/>
                      </a:lnTo>
                      <a:lnTo>
                        <a:pt x="992" y="163"/>
                      </a:lnTo>
                      <a:lnTo>
                        <a:pt x="992" y="169"/>
                      </a:lnTo>
                      <a:lnTo>
                        <a:pt x="986" y="175"/>
                      </a:lnTo>
                      <a:lnTo>
                        <a:pt x="986" y="182"/>
                      </a:lnTo>
                      <a:lnTo>
                        <a:pt x="986" y="194"/>
                      </a:lnTo>
                      <a:lnTo>
                        <a:pt x="981" y="200"/>
                      </a:lnTo>
                      <a:lnTo>
                        <a:pt x="981" y="207"/>
                      </a:lnTo>
                      <a:lnTo>
                        <a:pt x="975" y="219"/>
                      </a:lnTo>
                      <a:lnTo>
                        <a:pt x="975" y="232"/>
                      </a:lnTo>
                      <a:lnTo>
                        <a:pt x="981" y="238"/>
                      </a:lnTo>
                      <a:lnTo>
                        <a:pt x="986" y="244"/>
                      </a:lnTo>
                      <a:lnTo>
                        <a:pt x="986" y="251"/>
                      </a:lnTo>
                      <a:lnTo>
                        <a:pt x="992" y="257"/>
                      </a:lnTo>
                      <a:lnTo>
                        <a:pt x="998" y="257"/>
                      </a:lnTo>
                      <a:lnTo>
                        <a:pt x="1003" y="263"/>
                      </a:lnTo>
                      <a:lnTo>
                        <a:pt x="1009" y="263"/>
                      </a:lnTo>
                      <a:lnTo>
                        <a:pt x="1015" y="269"/>
                      </a:lnTo>
                      <a:lnTo>
                        <a:pt x="1020" y="269"/>
                      </a:lnTo>
                      <a:lnTo>
                        <a:pt x="1032" y="276"/>
                      </a:lnTo>
                      <a:lnTo>
                        <a:pt x="1037" y="276"/>
                      </a:lnTo>
                      <a:lnTo>
                        <a:pt x="1043" y="282"/>
                      </a:lnTo>
                      <a:lnTo>
                        <a:pt x="1048" y="288"/>
                      </a:lnTo>
                      <a:lnTo>
                        <a:pt x="1054" y="288"/>
                      </a:lnTo>
                      <a:lnTo>
                        <a:pt x="1060" y="295"/>
                      </a:lnTo>
                      <a:lnTo>
                        <a:pt x="1065" y="295"/>
                      </a:lnTo>
                      <a:lnTo>
                        <a:pt x="1071" y="301"/>
                      </a:lnTo>
                      <a:lnTo>
                        <a:pt x="1065" y="295"/>
                      </a:lnTo>
                      <a:lnTo>
                        <a:pt x="1060" y="295"/>
                      </a:lnTo>
                      <a:lnTo>
                        <a:pt x="1054" y="295"/>
                      </a:lnTo>
                      <a:lnTo>
                        <a:pt x="1048" y="295"/>
                      </a:lnTo>
                      <a:lnTo>
                        <a:pt x="1043" y="295"/>
                      </a:lnTo>
                      <a:lnTo>
                        <a:pt x="1037" y="295"/>
                      </a:lnTo>
                      <a:lnTo>
                        <a:pt x="1032" y="295"/>
                      </a:lnTo>
                      <a:lnTo>
                        <a:pt x="1020" y="288"/>
                      </a:lnTo>
                      <a:lnTo>
                        <a:pt x="1015" y="288"/>
                      </a:lnTo>
                      <a:lnTo>
                        <a:pt x="1009" y="288"/>
                      </a:lnTo>
                      <a:lnTo>
                        <a:pt x="1003" y="288"/>
                      </a:lnTo>
                      <a:lnTo>
                        <a:pt x="998" y="288"/>
                      </a:lnTo>
                      <a:lnTo>
                        <a:pt x="992" y="288"/>
                      </a:lnTo>
                      <a:lnTo>
                        <a:pt x="986" y="282"/>
                      </a:lnTo>
                      <a:lnTo>
                        <a:pt x="981" y="282"/>
                      </a:lnTo>
                      <a:lnTo>
                        <a:pt x="975" y="282"/>
                      </a:lnTo>
                      <a:lnTo>
                        <a:pt x="970" y="276"/>
                      </a:lnTo>
                      <a:lnTo>
                        <a:pt x="964" y="276"/>
                      </a:lnTo>
                      <a:lnTo>
                        <a:pt x="958" y="269"/>
                      </a:lnTo>
                      <a:lnTo>
                        <a:pt x="953" y="263"/>
                      </a:lnTo>
                      <a:lnTo>
                        <a:pt x="947" y="257"/>
                      </a:lnTo>
                      <a:lnTo>
                        <a:pt x="941" y="257"/>
                      </a:lnTo>
                      <a:lnTo>
                        <a:pt x="936" y="251"/>
                      </a:lnTo>
                      <a:lnTo>
                        <a:pt x="930" y="251"/>
                      </a:lnTo>
                      <a:lnTo>
                        <a:pt x="919" y="244"/>
                      </a:lnTo>
                      <a:lnTo>
                        <a:pt x="908" y="244"/>
                      </a:lnTo>
                      <a:lnTo>
                        <a:pt x="896" y="238"/>
                      </a:lnTo>
                      <a:lnTo>
                        <a:pt x="885" y="238"/>
                      </a:lnTo>
                      <a:lnTo>
                        <a:pt x="879" y="232"/>
                      </a:lnTo>
                      <a:lnTo>
                        <a:pt x="868" y="232"/>
                      </a:lnTo>
                      <a:lnTo>
                        <a:pt x="857" y="232"/>
                      </a:lnTo>
                      <a:lnTo>
                        <a:pt x="846" y="232"/>
                      </a:lnTo>
                      <a:lnTo>
                        <a:pt x="834" y="232"/>
                      </a:lnTo>
                      <a:lnTo>
                        <a:pt x="829" y="238"/>
                      </a:lnTo>
                      <a:lnTo>
                        <a:pt x="817" y="244"/>
                      </a:lnTo>
                      <a:lnTo>
                        <a:pt x="806" y="244"/>
                      </a:lnTo>
                      <a:lnTo>
                        <a:pt x="800" y="251"/>
                      </a:lnTo>
                      <a:lnTo>
                        <a:pt x="789" y="257"/>
                      </a:lnTo>
                      <a:lnTo>
                        <a:pt x="784" y="269"/>
                      </a:lnTo>
                      <a:lnTo>
                        <a:pt x="778" y="276"/>
                      </a:lnTo>
                      <a:lnTo>
                        <a:pt x="772" y="288"/>
                      </a:lnTo>
                      <a:lnTo>
                        <a:pt x="767" y="301"/>
                      </a:lnTo>
                      <a:lnTo>
                        <a:pt x="767" y="320"/>
                      </a:lnTo>
                      <a:lnTo>
                        <a:pt x="772" y="332"/>
                      </a:lnTo>
                      <a:lnTo>
                        <a:pt x="784" y="338"/>
                      </a:lnTo>
                      <a:lnTo>
                        <a:pt x="789" y="345"/>
                      </a:lnTo>
                      <a:lnTo>
                        <a:pt x="795" y="351"/>
                      </a:lnTo>
                      <a:lnTo>
                        <a:pt x="806" y="357"/>
                      </a:lnTo>
                      <a:lnTo>
                        <a:pt x="817" y="364"/>
                      </a:lnTo>
                      <a:lnTo>
                        <a:pt x="829" y="370"/>
                      </a:lnTo>
                      <a:lnTo>
                        <a:pt x="834" y="370"/>
                      </a:lnTo>
                      <a:lnTo>
                        <a:pt x="846" y="376"/>
                      </a:lnTo>
                      <a:lnTo>
                        <a:pt x="851" y="382"/>
                      </a:lnTo>
                      <a:lnTo>
                        <a:pt x="857" y="389"/>
                      </a:lnTo>
                      <a:lnTo>
                        <a:pt x="868" y="395"/>
                      </a:lnTo>
                      <a:lnTo>
                        <a:pt x="874" y="401"/>
                      </a:lnTo>
                      <a:lnTo>
                        <a:pt x="879" y="407"/>
                      </a:lnTo>
                      <a:lnTo>
                        <a:pt x="891" y="414"/>
                      </a:lnTo>
                      <a:lnTo>
                        <a:pt x="896" y="420"/>
                      </a:lnTo>
                      <a:lnTo>
                        <a:pt x="902" y="426"/>
                      </a:lnTo>
                      <a:lnTo>
                        <a:pt x="896" y="426"/>
                      </a:lnTo>
                      <a:lnTo>
                        <a:pt x="885" y="420"/>
                      </a:lnTo>
                      <a:lnTo>
                        <a:pt x="879" y="420"/>
                      </a:lnTo>
                      <a:lnTo>
                        <a:pt x="874" y="414"/>
                      </a:lnTo>
                      <a:lnTo>
                        <a:pt x="868" y="414"/>
                      </a:lnTo>
                      <a:lnTo>
                        <a:pt x="857" y="407"/>
                      </a:lnTo>
                      <a:lnTo>
                        <a:pt x="851" y="407"/>
                      </a:lnTo>
                      <a:lnTo>
                        <a:pt x="846" y="407"/>
                      </a:lnTo>
                      <a:lnTo>
                        <a:pt x="834" y="401"/>
                      </a:lnTo>
                      <a:lnTo>
                        <a:pt x="829" y="401"/>
                      </a:lnTo>
                      <a:lnTo>
                        <a:pt x="817" y="395"/>
                      </a:lnTo>
                      <a:lnTo>
                        <a:pt x="812" y="395"/>
                      </a:lnTo>
                      <a:lnTo>
                        <a:pt x="806" y="395"/>
                      </a:lnTo>
                      <a:lnTo>
                        <a:pt x="795" y="389"/>
                      </a:lnTo>
                      <a:lnTo>
                        <a:pt x="789" y="389"/>
                      </a:lnTo>
                      <a:lnTo>
                        <a:pt x="784" y="389"/>
                      </a:lnTo>
                      <a:lnTo>
                        <a:pt x="778" y="382"/>
                      </a:lnTo>
                      <a:lnTo>
                        <a:pt x="772" y="382"/>
                      </a:lnTo>
                      <a:lnTo>
                        <a:pt x="767" y="382"/>
                      </a:lnTo>
                      <a:lnTo>
                        <a:pt x="761" y="382"/>
                      </a:lnTo>
                      <a:lnTo>
                        <a:pt x="755" y="382"/>
                      </a:lnTo>
                      <a:lnTo>
                        <a:pt x="750" y="382"/>
                      </a:lnTo>
                      <a:lnTo>
                        <a:pt x="744" y="382"/>
                      </a:lnTo>
                      <a:lnTo>
                        <a:pt x="738" y="382"/>
                      </a:lnTo>
                      <a:lnTo>
                        <a:pt x="733" y="395"/>
                      </a:lnTo>
                      <a:lnTo>
                        <a:pt x="727" y="414"/>
                      </a:lnTo>
                      <a:lnTo>
                        <a:pt x="727" y="426"/>
                      </a:lnTo>
                      <a:lnTo>
                        <a:pt x="727" y="445"/>
                      </a:lnTo>
                      <a:lnTo>
                        <a:pt x="722" y="451"/>
                      </a:lnTo>
                      <a:lnTo>
                        <a:pt x="722" y="458"/>
                      </a:lnTo>
                      <a:lnTo>
                        <a:pt x="716" y="464"/>
                      </a:lnTo>
                      <a:lnTo>
                        <a:pt x="716" y="476"/>
                      </a:lnTo>
                      <a:lnTo>
                        <a:pt x="710" y="483"/>
                      </a:lnTo>
                      <a:lnTo>
                        <a:pt x="710" y="489"/>
                      </a:lnTo>
                      <a:lnTo>
                        <a:pt x="710" y="495"/>
                      </a:lnTo>
                      <a:lnTo>
                        <a:pt x="710" y="501"/>
                      </a:lnTo>
                      <a:lnTo>
                        <a:pt x="716" y="508"/>
                      </a:lnTo>
                      <a:lnTo>
                        <a:pt x="716" y="514"/>
                      </a:lnTo>
                      <a:lnTo>
                        <a:pt x="722" y="520"/>
                      </a:lnTo>
                      <a:lnTo>
                        <a:pt x="727" y="527"/>
                      </a:lnTo>
                      <a:lnTo>
                        <a:pt x="738" y="533"/>
                      </a:lnTo>
                      <a:lnTo>
                        <a:pt x="744" y="533"/>
                      </a:lnTo>
                      <a:lnTo>
                        <a:pt x="750" y="539"/>
                      </a:lnTo>
                      <a:lnTo>
                        <a:pt x="755" y="545"/>
                      </a:lnTo>
                      <a:lnTo>
                        <a:pt x="744" y="545"/>
                      </a:lnTo>
                      <a:lnTo>
                        <a:pt x="738" y="545"/>
                      </a:lnTo>
                      <a:lnTo>
                        <a:pt x="727" y="545"/>
                      </a:lnTo>
                      <a:lnTo>
                        <a:pt x="722" y="552"/>
                      </a:lnTo>
                      <a:lnTo>
                        <a:pt x="710" y="552"/>
                      </a:lnTo>
                      <a:lnTo>
                        <a:pt x="705" y="552"/>
                      </a:lnTo>
                      <a:lnTo>
                        <a:pt x="693" y="552"/>
                      </a:lnTo>
                      <a:lnTo>
                        <a:pt x="688" y="552"/>
                      </a:lnTo>
                      <a:lnTo>
                        <a:pt x="676" y="552"/>
                      </a:lnTo>
                      <a:lnTo>
                        <a:pt x="665" y="545"/>
                      </a:lnTo>
                      <a:lnTo>
                        <a:pt x="654" y="533"/>
                      </a:lnTo>
                      <a:lnTo>
                        <a:pt x="648" y="527"/>
                      </a:lnTo>
                      <a:lnTo>
                        <a:pt x="637" y="520"/>
                      </a:lnTo>
                      <a:lnTo>
                        <a:pt x="626" y="514"/>
                      </a:lnTo>
                      <a:lnTo>
                        <a:pt x="614" y="508"/>
                      </a:lnTo>
                      <a:lnTo>
                        <a:pt x="603" y="501"/>
                      </a:lnTo>
                      <a:lnTo>
                        <a:pt x="592" y="508"/>
                      </a:lnTo>
                      <a:lnTo>
                        <a:pt x="575" y="508"/>
                      </a:lnTo>
                      <a:lnTo>
                        <a:pt x="564" y="508"/>
                      </a:lnTo>
                      <a:lnTo>
                        <a:pt x="547" y="508"/>
                      </a:lnTo>
                      <a:lnTo>
                        <a:pt x="536" y="514"/>
                      </a:lnTo>
                      <a:lnTo>
                        <a:pt x="519" y="514"/>
                      </a:lnTo>
                      <a:lnTo>
                        <a:pt x="507" y="520"/>
                      </a:lnTo>
                      <a:lnTo>
                        <a:pt x="496" y="520"/>
                      </a:lnTo>
                      <a:lnTo>
                        <a:pt x="479" y="527"/>
                      </a:lnTo>
                      <a:lnTo>
                        <a:pt x="468" y="533"/>
                      </a:lnTo>
                      <a:lnTo>
                        <a:pt x="451" y="533"/>
                      </a:lnTo>
                      <a:lnTo>
                        <a:pt x="440" y="539"/>
                      </a:lnTo>
                      <a:lnTo>
                        <a:pt x="428" y="545"/>
                      </a:lnTo>
                      <a:lnTo>
                        <a:pt x="412" y="552"/>
                      </a:lnTo>
                      <a:lnTo>
                        <a:pt x="400" y="558"/>
                      </a:lnTo>
                      <a:lnTo>
                        <a:pt x="389" y="558"/>
                      </a:lnTo>
                      <a:lnTo>
                        <a:pt x="383" y="564"/>
                      </a:lnTo>
                      <a:lnTo>
                        <a:pt x="378" y="564"/>
                      </a:lnTo>
                      <a:lnTo>
                        <a:pt x="372" y="564"/>
                      </a:lnTo>
                      <a:lnTo>
                        <a:pt x="372" y="570"/>
                      </a:lnTo>
                      <a:lnTo>
                        <a:pt x="366" y="577"/>
                      </a:lnTo>
                      <a:lnTo>
                        <a:pt x="361" y="577"/>
                      </a:lnTo>
                      <a:lnTo>
                        <a:pt x="361" y="583"/>
                      </a:lnTo>
                      <a:lnTo>
                        <a:pt x="355" y="589"/>
                      </a:lnTo>
                      <a:lnTo>
                        <a:pt x="350" y="589"/>
                      </a:lnTo>
                      <a:lnTo>
                        <a:pt x="344" y="596"/>
                      </a:lnTo>
                      <a:lnTo>
                        <a:pt x="338" y="602"/>
                      </a:lnTo>
                      <a:lnTo>
                        <a:pt x="333" y="608"/>
                      </a:lnTo>
                      <a:lnTo>
                        <a:pt x="327" y="614"/>
                      </a:lnTo>
                      <a:lnTo>
                        <a:pt x="316" y="614"/>
                      </a:lnTo>
                      <a:lnTo>
                        <a:pt x="310" y="621"/>
                      </a:lnTo>
                      <a:lnTo>
                        <a:pt x="299" y="627"/>
                      </a:lnTo>
                      <a:lnTo>
                        <a:pt x="288" y="633"/>
                      </a:lnTo>
                      <a:lnTo>
                        <a:pt x="276" y="633"/>
                      </a:lnTo>
                      <a:lnTo>
                        <a:pt x="265" y="633"/>
                      </a:lnTo>
                      <a:lnTo>
                        <a:pt x="254" y="639"/>
                      </a:lnTo>
                      <a:lnTo>
                        <a:pt x="242" y="639"/>
                      </a:lnTo>
                      <a:lnTo>
                        <a:pt x="231" y="639"/>
                      </a:lnTo>
                      <a:lnTo>
                        <a:pt x="220" y="646"/>
                      </a:lnTo>
                      <a:lnTo>
                        <a:pt x="214" y="646"/>
                      </a:lnTo>
                      <a:lnTo>
                        <a:pt x="203" y="646"/>
                      </a:lnTo>
                      <a:lnTo>
                        <a:pt x="192" y="646"/>
                      </a:lnTo>
                      <a:lnTo>
                        <a:pt x="186" y="646"/>
                      </a:lnTo>
                      <a:lnTo>
                        <a:pt x="175" y="646"/>
                      </a:lnTo>
                      <a:lnTo>
                        <a:pt x="169" y="646"/>
                      </a:lnTo>
                      <a:lnTo>
                        <a:pt x="158" y="646"/>
                      </a:lnTo>
                      <a:lnTo>
                        <a:pt x="152" y="646"/>
                      </a:lnTo>
                      <a:lnTo>
                        <a:pt x="147" y="646"/>
                      </a:lnTo>
                      <a:lnTo>
                        <a:pt x="135" y="646"/>
                      </a:lnTo>
                      <a:lnTo>
                        <a:pt x="130" y="646"/>
                      </a:lnTo>
                      <a:lnTo>
                        <a:pt x="119" y="646"/>
                      </a:lnTo>
                      <a:lnTo>
                        <a:pt x="113" y="646"/>
                      </a:lnTo>
                      <a:lnTo>
                        <a:pt x="102" y="639"/>
                      </a:lnTo>
                      <a:lnTo>
                        <a:pt x="90" y="639"/>
                      </a:lnTo>
                      <a:lnTo>
                        <a:pt x="85" y="639"/>
                      </a:lnTo>
                      <a:lnTo>
                        <a:pt x="73" y="639"/>
                      </a:lnTo>
                      <a:lnTo>
                        <a:pt x="73" y="633"/>
                      </a:lnTo>
                      <a:lnTo>
                        <a:pt x="68" y="633"/>
                      </a:lnTo>
                      <a:lnTo>
                        <a:pt x="62" y="633"/>
                      </a:lnTo>
                      <a:lnTo>
                        <a:pt x="57" y="633"/>
                      </a:lnTo>
                      <a:lnTo>
                        <a:pt x="57" y="627"/>
                      </a:lnTo>
                      <a:lnTo>
                        <a:pt x="51" y="627"/>
                      </a:lnTo>
                      <a:lnTo>
                        <a:pt x="45" y="621"/>
                      </a:lnTo>
                      <a:lnTo>
                        <a:pt x="45" y="614"/>
                      </a:lnTo>
                      <a:lnTo>
                        <a:pt x="45" y="614"/>
                      </a:lnTo>
                      <a:lnTo>
                        <a:pt x="45" y="608"/>
                      </a:lnTo>
                      <a:lnTo>
                        <a:pt x="51" y="608"/>
                      </a:lnTo>
                      <a:lnTo>
                        <a:pt x="51" y="602"/>
                      </a:lnTo>
                      <a:lnTo>
                        <a:pt x="57" y="602"/>
                      </a:lnTo>
                      <a:lnTo>
                        <a:pt x="57" y="596"/>
                      </a:lnTo>
                      <a:lnTo>
                        <a:pt x="62" y="596"/>
                      </a:lnTo>
                      <a:lnTo>
                        <a:pt x="62" y="589"/>
                      </a:lnTo>
                      <a:lnTo>
                        <a:pt x="57" y="589"/>
                      </a:lnTo>
                      <a:lnTo>
                        <a:pt x="51" y="583"/>
                      </a:lnTo>
                      <a:lnTo>
                        <a:pt x="45" y="583"/>
                      </a:lnTo>
                      <a:lnTo>
                        <a:pt x="40" y="583"/>
                      </a:lnTo>
                      <a:lnTo>
                        <a:pt x="34" y="583"/>
                      </a:lnTo>
                      <a:lnTo>
                        <a:pt x="28" y="577"/>
                      </a:lnTo>
                      <a:lnTo>
                        <a:pt x="23" y="577"/>
                      </a:lnTo>
                      <a:lnTo>
                        <a:pt x="17" y="577"/>
                      </a:lnTo>
                      <a:lnTo>
                        <a:pt x="17" y="577"/>
                      </a:lnTo>
                      <a:lnTo>
                        <a:pt x="11" y="570"/>
                      </a:lnTo>
                      <a:lnTo>
                        <a:pt x="11" y="570"/>
                      </a:lnTo>
                      <a:lnTo>
                        <a:pt x="6" y="564"/>
                      </a:lnTo>
                      <a:lnTo>
                        <a:pt x="6" y="564"/>
                      </a:lnTo>
                      <a:lnTo>
                        <a:pt x="0" y="558"/>
                      </a:lnTo>
                      <a:lnTo>
                        <a:pt x="0" y="558"/>
                      </a:lnTo>
                      <a:lnTo>
                        <a:pt x="0" y="552"/>
                      </a:lnTo>
                      <a:lnTo>
                        <a:pt x="0" y="539"/>
                      </a:lnTo>
                      <a:lnTo>
                        <a:pt x="6" y="527"/>
                      </a:lnTo>
                      <a:lnTo>
                        <a:pt x="11" y="520"/>
                      </a:lnTo>
                      <a:lnTo>
                        <a:pt x="11" y="508"/>
                      </a:lnTo>
                      <a:lnTo>
                        <a:pt x="11" y="495"/>
                      </a:lnTo>
                      <a:lnTo>
                        <a:pt x="11" y="489"/>
                      </a:lnTo>
                      <a:lnTo>
                        <a:pt x="6" y="476"/>
                      </a:lnTo>
                      <a:lnTo>
                        <a:pt x="11" y="470"/>
                      </a:lnTo>
                      <a:lnTo>
                        <a:pt x="11" y="464"/>
                      </a:lnTo>
                      <a:lnTo>
                        <a:pt x="17" y="464"/>
                      </a:lnTo>
                      <a:lnTo>
                        <a:pt x="17" y="464"/>
                      </a:lnTo>
                      <a:lnTo>
                        <a:pt x="23" y="458"/>
                      </a:lnTo>
                      <a:lnTo>
                        <a:pt x="28" y="458"/>
                      </a:lnTo>
                      <a:lnTo>
                        <a:pt x="28" y="458"/>
                      </a:lnTo>
                      <a:lnTo>
                        <a:pt x="34" y="464"/>
                      </a:lnTo>
                      <a:lnTo>
                        <a:pt x="40" y="464"/>
                      </a:lnTo>
                      <a:lnTo>
                        <a:pt x="45" y="470"/>
                      </a:lnTo>
                      <a:lnTo>
                        <a:pt x="57" y="476"/>
                      </a:lnTo>
                      <a:lnTo>
                        <a:pt x="62" y="489"/>
                      </a:lnTo>
                      <a:lnTo>
                        <a:pt x="73" y="495"/>
                      </a:lnTo>
                      <a:lnTo>
                        <a:pt x="79" y="508"/>
                      </a:lnTo>
                      <a:lnTo>
                        <a:pt x="90" y="514"/>
                      </a:lnTo>
                      <a:lnTo>
                        <a:pt x="96" y="520"/>
                      </a:lnTo>
                      <a:lnTo>
                        <a:pt x="107" y="527"/>
                      </a:lnTo>
                      <a:lnTo>
                        <a:pt x="119" y="527"/>
                      </a:lnTo>
                      <a:lnTo>
                        <a:pt x="130" y="527"/>
                      </a:lnTo>
                      <a:lnTo>
                        <a:pt x="141" y="527"/>
                      </a:lnTo>
                      <a:lnTo>
                        <a:pt x="152" y="527"/>
                      </a:lnTo>
                      <a:lnTo>
                        <a:pt x="164" y="527"/>
                      </a:lnTo>
                      <a:lnTo>
                        <a:pt x="175" y="527"/>
                      </a:lnTo>
                      <a:lnTo>
                        <a:pt x="180" y="527"/>
                      </a:lnTo>
                      <a:lnTo>
                        <a:pt x="192" y="527"/>
                      </a:lnTo>
                      <a:lnTo>
                        <a:pt x="203" y="527"/>
                      </a:lnTo>
                      <a:lnTo>
                        <a:pt x="214" y="527"/>
                      </a:lnTo>
                      <a:lnTo>
                        <a:pt x="226" y="527"/>
                      </a:lnTo>
                      <a:lnTo>
                        <a:pt x="237" y="520"/>
                      </a:lnTo>
                      <a:lnTo>
                        <a:pt x="248" y="520"/>
                      </a:lnTo>
                      <a:lnTo>
                        <a:pt x="259" y="520"/>
                      </a:lnTo>
                      <a:lnTo>
                        <a:pt x="271" y="514"/>
                      </a:lnTo>
                      <a:lnTo>
                        <a:pt x="282" y="514"/>
                      </a:lnTo>
                      <a:lnTo>
                        <a:pt x="293" y="514"/>
                      </a:lnTo>
                      <a:lnTo>
                        <a:pt x="299" y="508"/>
                      </a:lnTo>
                      <a:lnTo>
                        <a:pt x="310" y="508"/>
                      </a:lnTo>
                      <a:lnTo>
                        <a:pt x="321" y="501"/>
                      </a:lnTo>
                      <a:lnTo>
                        <a:pt x="327" y="501"/>
                      </a:lnTo>
                      <a:lnTo>
                        <a:pt x="338" y="495"/>
                      </a:lnTo>
                      <a:lnTo>
                        <a:pt x="350" y="489"/>
                      </a:lnTo>
                      <a:lnTo>
                        <a:pt x="355" y="489"/>
                      </a:lnTo>
                      <a:lnTo>
                        <a:pt x="366" y="483"/>
                      </a:lnTo>
                      <a:lnTo>
                        <a:pt x="378" y="476"/>
                      </a:lnTo>
                      <a:lnTo>
                        <a:pt x="383" y="476"/>
                      </a:lnTo>
                      <a:lnTo>
                        <a:pt x="395" y="470"/>
                      </a:lnTo>
                      <a:lnTo>
                        <a:pt x="406" y="470"/>
                      </a:lnTo>
                      <a:lnTo>
                        <a:pt x="417" y="464"/>
                      </a:lnTo>
                      <a:lnTo>
                        <a:pt x="423" y="464"/>
                      </a:lnTo>
                      <a:lnTo>
                        <a:pt x="434" y="458"/>
                      </a:lnTo>
                      <a:lnTo>
                        <a:pt x="445" y="458"/>
                      </a:lnTo>
                      <a:lnTo>
                        <a:pt x="451" y="458"/>
                      </a:lnTo>
                      <a:lnTo>
                        <a:pt x="462" y="458"/>
                      </a:lnTo>
                      <a:lnTo>
                        <a:pt x="474" y="458"/>
                      </a:lnTo>
                      <a:lnTo>
                        <a:pt x="485" y="458"/>
                      </a:lnTo>
                      <a:lnTo>
                        <a:pt x="490" y="458"/>
                      </a:lnTo>
                      <a:lnTo>
                        <a:pt x="502" y="458"/>
                      </a:lnTo>
                      <a:lnTo>
                        <a:pt x="513" y="458"/>
                      </a:lnTo>
                      <a:lnTo>
                        <a:pt x="519" y="458"/>
                      </a:lnTo>
                      <a:lnTo>
                        <a:pt x="524" y="458"/>
                      </a:lnTo>
                      <a:lnTo>
                        <a:pt x="530" y="458"/>
                      </a:lnTo>
                      <a:lnTo>
                        <a:pt x="536" y="451"/>
                      </a:lnTo>
                      <a:lnTo>
                        <a:pt x="541" y="451"/>
                      </a:lnTo>
                      <a:lnTo>
                        <a:pt x="547" y="451"/>
                      </a:lnTo>
                      <a:lnTo>
                        <a:pt x="552" y="445"/>
                      </a:lnTo>
                      <a:lnTo>
                        <a:pt x="558" y="445"/>
                      </a:lnTo>
                      <a:lnTo>
                        <a:pt x="564" y="445"/>
                      </a:lnTo>
                      <a:lnTo>
                        <a:pt x="569" y="439"/>
                      </a:lnTo>
                      <a:lnTo>
                        <a:pt x="575" y="439"/>
                      </a:lnTo>
                      <a:lnTo>
                        <a:pt x="581" y="433"/>
                      </a:lnTo>
                      <a:lnTo>
                        <a:pt x="586" y="433"/>
                      </a:lnTo>
                      <a:lnTo>
                        <a:pt x="592" y="426"/>
                      </a:lnTo>
                      <a:lnTo>
                        <a:pt x="592" y="426"/>
                      </a:lnTo>
                      <a:lnTo>
                        <a:pt x="598" y="420"/>
                      </a:lnTo>
                      <a:lnTo>
                        <a:pt x="609" y="414"/>
                      </a:lnTo>
                      <a:lnTo>
                        <a:pt x="614" y="407"/>
                      </a:lnTo>
                      <a:lnTo>
                        <a:pt x="620" y="401"/>
                      </a:lnTo>
                      <a:lnTo>
                        <a:pt x="631" y="395"/>
                      </a:lnTo>
                      <a:lnTo>
                        <a:pt x="637" y="389"/>
                      </a:lnTo>
                      <a:lnTo>
                        <a:pt x="643" y="376"/>
                      </a:lnTo>
                      <a:lnTo>
                        <a:pt x="654" y="370"/>
                      </a:lnTo>
                      <a:lnTo>
                        <a:pt x="660" y="364"/>
                      </a:lnTo>
                      <a:lnTo>
                        <a:pt x="665" y="357"/>
                      </a:lnTo>
                      <a:lnTo>
                        <a:pt x="676" y="345"/>
                      </a:lnTo>
                      <a:lnTo>
                        <a:pt x="682" y="338"/>
                      </a:lnTo>
                      <a:lnTo>
                        <a:pt x="688" y="332"/>
                      </a:lnTo>
                      <a:lnTo>
                        <a:pt x="693" y="320"/>
                      </a:lnTo>
                      <a:lnTo>
                        <a:pt x="699" y="313"/>
                      </a:lnTo>
                      <a:lnTo>
                        <a:pt x="710" y="307"/>
                      </a:lnTo>
                      <a:lnTo>
                        <a:pt x="716" y="295"/>
                      </a:lnTo>
                      <a:lnTo>
                        <a:pt x="722" y="282"/>
                      </a:lnTo>
                      <a:lnTo>
                        <a:pt x="733" y="269"/>
                      </a:lnTo>
                      <a:lnTo>
                        <a:pt x="738" y="257"/>
                      </a:lnTo>
                      <a:lnTo>
                        <a:pt x="744" y="244"/>
                      </a:lnTo>
                      <a:lnTo>
                        <a:pt x="755" y="232"/>
                      </a:lnTo>
                      <a:lnTo>
                        <a:pt x="761" y="213"/>
                      </a:lnTo>
                      <a:lnTo>
                        <a:pt x="767" y="200"/>
                      </a:lnTo>
                      <a:lnTo>
                        <a:pt x="778" y="188"/>
                      </a:lnTo>
                      <a:lnTo>
                        <a:pt x="784" y="182"/>
                      </a:lnTo>
                      <a:lnTo>
                        <a:pt x="784" y="175"/>
                      </a:lnTo>
                      <a:lnTo>
                        <a:pt x="789" y="169"/>
                      </a:lnTo>
                      <a:lnTo>
                        <a:pt x="795" y="163"/>
                      </a:lnTo>
                      <a:lnTo>
                        <a:pt x="800" y="157"/>
                      </a:lnTo>
                      <a:lnTo>
                        <a:pt x="806" y="150"/>
                      </a:lnTo>
                      <a:lnTo>
                        <a:pt x="812" y="150"/>
                      </a:lnTo>
                      <a:lnTo>
                        <a:pt x="823" y="144"/>
                      </a:lnTo>
                      <a:lnTo>
                        <a:pt x="829" y="144"/>
                      </a:lnTo>
                      <a:lnTo>
                        <a:pt x="840" y="138"/>
                      </a:lnTo>
                      <a:lnTo>
                        <a:pt x="846" y="138"/>
                      </a:lnTo>
                      <a:lnTo>
                        <a:pt x="857" y="138"/>
                      </a:lnTo>
                      <a:lnTo>
                        <a:pt x="862" y="138"/>
                      </a:lnTo>
                      <a:lnTo>
                        <a:pt x="874" y="138"/>
                      </a:lnTo>
                      <a:lnTo>
                        <a:pt x="879" y="138"/>
                      </a:lnTo>
                      <a:lnTo>
                        <a:pt x="885" y="132"/>
                      </a:lnTo>
                      <a:lnTo>
                        <a:pt x="902" y="132"/>
                      </a:lnTo>
                      <a:lnTo>
                        <a:pt x="913" y="125"/>
                      </a:lnTo>
                      <a:lnTo>
                        <a:pt x="924" y="125"/>
                      </a:lnTo>
                      <a:lnTo>
                        <a:pt x="936" y="119"/>
                      </a:lnTo>
                      <a:lnTo>
                        <a:pt x="947" y="113"/>
                      </a:lnTo>
                      <a:lnTo>
                        <a:pt x="958" y="113"/>
                      </a:lnTo>
                      <a:lnTo>
                        <a:pt x="970" y="106"/>
                      </a:lnTo>
                      <a:lnTo>
                        <a:pt x="981" y="100"/>
                      </a:lnTo>
                      <a:lnTo>
                        <a:pt x="992" y="100"/>
                      </a:lnTo>
                      <a:lnTo>
                        <a:pt x="1003" y="94"/>
                      </a:lnTo>
                      <a:lnTo>
                        <a:pt x="1015" y="88"/>
                      </a:lnTo>
                      <a:lnTo>
                        <a:pt x="1026" y="88"/>
                      </a:lnTo>
                      <a:lnTo>
                        <a:pt x="1037" y="81"/>
                      </a:lnTo>
                      <a:lnTo>
                        <a:pt x="1048" y="75"/>
                      </a:lnTo>
                      <a:lnTo>
                        <a:pt x="1060" y="69"/>
                      </a:lnTo>
                      <a:lnTo>
                        <a:pt x="1071" y="69"/>
                      </a:lnTo>
                      <a:lnTo>
                        <a:pt x="1077" y="63"/>
                      </a:lnTo>
                      <a:lnTo>
                        <a:pt x="1082" y="63"/>
                      </a:lnTo>
                      <a:lnTo>
                        <a:pt x="1088" y="63"/>
                      </a:lnTo>
                      <a:lnTo>
                        <a:pt x="1094" y="56"/>
                      </a:lnTo>
                      <a:lnTo>
                        <a:pt x="1099" y="56"/>
                      </a:lnTo>
                      <a:lnTo>
                        <a:pt x="1105" y="50"/>
                      </a:lnTo>
                      <a:lnTo>
                        <a:pt x="1110" y="50"/>
                      </a:lnTo>
                      <a:lnTo>
                        <a:pt x="1116" y="50"/>
                      </a:lnTo>
                      <a:lnTo>
                        <a:pt x="1122" y="44"/>
                      </a:lnTo>
                      <a:lnTo>
                        <a:pt x="1127" y="44"/>
                      </a:lnTo>
                      <a:lnTo>
                        <a:pt x="1139" y="44"/>
                      </a:lnTo>
                      <a:lnTo>
                        <a:pt x="1144" y="37"/>
                      </a:lnTo>
                      <a:lnTo>
                        <a:pt x="1150" y="37"/>
                      </a:lnTo>
                      <a:lnTo>
                        <a:pt x="1156" y="31"/>
                      </a:lnTo>
                      <a:lnTo>
                        <a:pt x="1161" y="31"/>
                      </a:lnTo>
                      <a:lnTo>
                        <a:pt x="1167" y="31"/>
                      </a:lnTo>
                      <a:lnTo>
                        <a:pt x="1178" y="31"/>
                      </a:lnTo>
                      <a:lnTo>
                        <a:pt x="1189" y="25"/>
                      </a:lnTo>
                      <a:lnTo>
                        <a:pt x="1195" y="25"/>
                      </a:lnTo>
                      <a:lnTo>
                        <a:pt x="1206" y="19"/>
                      </a:lnTo>
                      <a:lnTo>
                        <a:pt x="1218" y="19"/>
                      </a:lnTo>
                      <a:lnTo>
                        <a:pt x="1229" y="12"/>
                      </a:lnTo>
                      <a:lnTo>
                        <a:pt x="1234" y="6"/>
                      </a:lnTo>
                      <a:lnTo>
                        <a:pt x="1246"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rot="2405400">
                  <a:off x="938880" y="1247400"/>
                  <a:ext cx="742680" cy="226080"/>
                </a:xfrm>
                <a:custGeom>
                  <a:avLst/>
                  <a:gdLst/>
                  <a:ahLst/>
                  <a:rect l="l" t="t" r="r" b="b"/>
                  <a:pathLst>
                    <a:path w="873" h="307">
                      <a:moveTo>
                        <a:pt x="873" y="119"/>
                      </a:moveTo>
                      <a:lnTo>
                        <a:pt x="868" y="119"/>
                      </a:lnTo>
                      <a:lnTo>
                        <a:pt x="862" y="119"/>
                      </a:lnTo>
                      <a:lnTo>
                        <a:pt x="856" y="113"/>
                      </a:lnTo>
                      <a:lnTo>
                        <a:pt x="851" y="113"/>
                      </a:lnTo>
                      <a:lnTo>
                        <a:pt x="840" y="113"/>
                      </a:lnTo>
                      <a:lnTo>
                        <a:pt x="834" y="113"/>
                      </a:lnTo>
                      <a:lnTo>
                        <a:pt x="828" y="113"/>
                      </a:lnTo>
                      <a:lnTo>
                        <a:pt x="823" y="113"/>
                      </a:lnTo>
                      <a:lnTo>
                        <a:pt x="817" y="113"/>
                      </a:lnTo>
                      <a:lnTo>
                        <a:pt x="811" y="119"/>
                      </a:lnTo>
                      <a:lnTo>
                        <a:pt x="806" y="119"/>
                      </a:lnTo>
                      <a:lnTo>
                        <a:pt x="800" y="119"/>
                      </a:lnTo>
                      <a:lnTo>
                        <a:pt x="794" y="125"/>
                      </a:lnTo>
                      <a:lnTo>
                        <a:pt x="789" y="125"/>
                      </a:lnTo>
                      <a:lnTo>
                        <a:pt x="783" y="125"/>
                      </a:lnTo>
                      <a:lnTo>
                        <a:pt x="778" y="132"/>
                      </a:lnTo>
                      <a:lnTo>
                        <a:pt x="772" y="132"/>
                      </a:lnTo>
                      <a:lnTo>
                        <a:pt x="766" y="138"/>
                      </a:lnTo>
                      <a:lnTo>
                        <a:pt x="761" y="138"/>
                      </a:lnTo>
                      <a:lnTo>
                        <a:pt x="755" y="144"/>
                      </a:lnTo>
                      <a:lnTo>
                        <a:pt x="749" y="144"/>
                      </a:lnTo>
                      <a:lnTo>
                        <a:pt x="744" y="144"/>
                      </a:lnTo>
                      <a:lnTo>
                        <a:pt x="738" y="150"/>
                      </a:lnTo>
                      <a:lnTo>
                        <a:pt x="732" y="150"/>
                      </a:lnTo>
                      <a:lnTo>
                        <a:pt x="727" y="157"/>
                      </a:lnTo>
                      <a:lnTo>
                        <a:pt x="716" y="163"/>
                      </a:lnTo>
                      <a:lnTo>
                        <a:pt x="710" y="163"/>
                      </a:lnTo>
                      <a:lnTo>
                        <a:pt x="704" y="169"/>
                      </a:lnTo>
                      <a:lnTo>
                        <a:pt x="693" y="175"/>
                      </a:lnTo>
                      <a:lnTo>
                        <a:pt x="687" y="182"/>
                      </a:lnTo>
                      <a:lnTo>
                        <a:pt x="682" y="182"/>
                      </a:lnTo>
                      <a:lnTo>
                        <a:pt x="676" y="188"/>
                      </a:lnTo>
                      <a:lnTo>
                        <a:pt x="665" y="194"/>
                      </a:lnTo>
                      <a:lnTo>
                        <a:pt x="659" y="201"/>
                      </a:lnTo>
                      <a:lnTo>
                        <a:pt x="654" y="201"/>
                      </a:lnTo>
                      <a:lnTo>
                        <a:pt x="642" y="207"/>
                      </a:lnTo>
                      <a:lnTo>
                        <a:pt x="637" y="213"/>
                      </a:lnTo>
                      <a:lnTo>
                        <a:pt x="631" y="219"/>
                      </a:lnTo>
                      <a:lnTo>
                        <a:pt x="620" y="219"/>
                      </a:lnTo>
                      <a:lnTo>
                        <a:pt x="614" y="226"/>
                      </a:lnTo>
                      <a:lnTo>
                        <a:pt x="608" y="232"/>
                      </a:lnTo>
                      <a:lnTo>
                        <a:pt x="597" y="232"/>
                      </a:lnTo>
                      <a:lnTo>
                        <a:pt x="592" y="238"/>
                      </a:lnTo>
                      <a:lnTo>
                        <a:pt x="580" y="244"/>
                      </a:lnTo>
                      <a:lnTo>
                        <a:pt x="575" y="251"/>
                      </a:lnTo>
                      <a:lnTo>
                        <a:pt x="563" y="251"/>
                      </a:lnTo>
                      <a:lnTo>
                        <a:pt x="558" y="257"/>
                      </a:lnTo>
                      <a:lnTo>
                        <a:pt x="546" y="263"/>
                      </a:lnTo>
                      <a:lnTo>
                        <a:pt x="541" y="263"/>
                      </a:lnTo>
                      <a:lnTo>
                        <a:pt x="530" y="270"/>
                      </a:lnTo>
                      <a:lnTo>
                        <a:pt x="524" y="276"/>
                      </a:lnTo>
                      <a:lnTo>
                        <a:pt x="513" y="276"/>
                      </a:lnTo>
                      <a:lnTo>
                        <a:pt x="507" y="282"/>
                      </a:lnTo>
                      <a:lnTo>
                        <a:pt x="496" y="288"/>
                      </a:lnTo>
                      <a:lnTo>
                        <a:pt x="490" y="288"/>
                      </a:lnTo>
                      <a:lnTo>
                        <a:pt x="479" y="288"/>
                      </a:lnTo>
                      <a:lnTo>
                        <a:pt x="468" y="295"/>
                      </a:lnTo>
                      <a:lnTo>
                        <a:pt x="462" y="295"/>
                      </a:lnTo>
                      <a:lnTo>
                        <a:pt x="451" y="301"/>
                      </a:lnTo>
                      <a:lnTo>
                        <a:pt x="445" y="301"/>
                      </a:lnTo>
                      <a:lnTo>
                        <a:pt x="434" y="301"/>
                      </a:lnTo>
                      <a:lnTo>
                        <a:pt x="422" y="301"/>
                      </a:lnTo>
                      <a:lnTo>
                        <a:pt x="417" y="307"/>
                      </a:lnTo>
                      <a:lnTo>
                        <a:pt x="406" y="307"/>
                      </a:lnTo>
                      <a:lnTo>
                        <a:pt x="394" y="307"/>
                      </a:lnTo>
                      <a:lnTo>
                        <a:pt x="389" y="307"/>
                      </a:lnTo>
                      <a:lnTo>
                        <a:pt x="377" y="307"/>
                      </a:lnTo>
                      <a:lnTo>
                        <a:pt x="366" y="307"/>
                      </a:lnTo>
                      <a:lnTo>
                        <a:pt x="360" y="307"/>
                      </a:lnTo>
                      <a:lnTo>
                        <a:pt x="349" y="307"/>
                      </a:lnTo>
                      <a:lnTo>
                        <a:pt x="338" y="307"/>
                      </a:lnTo>
                      <a:lnTo>
                        <a:pt x="332" y="307"/>
                      </a:lnTo>
                      <a:lnTo>
                        <a:pt x="321" y="307"/>
                      </a:lnTo>
                      <a:lnTo>
                        <a:pt x="310" y="307"/>
                      </a:lnTo>
                      <a:lnTo>
                        <a:pt x="298" y="307"/>
                      </a:lnTo>
                      <a:lnTo>
                        <a:pt x="287" y="307"/>
                      </a:lnTo>
                      <a:lnTo>
                        <a:pt x="282" y="307"/>
                      </a:lnTo>
                      <a:lnTo>
                        <a:pt x="270" y="307"/>
                      </a:lnTo>
                      <a:lnTo>
                        <a:pt x="259" y="301"/>
                      </a:lnTo>
                      <a:lnTo>
                        <a:pt x="248" y="301"/>
                      </a:lnTo>
                      <a:lnTo>
                        <a:pt x="236" y="301"/>
                      </a:lnTo>
                      <a:lnTo>
                        <a:pt x="225" y="295"/>
                      </a:lnTo>
                      <a:lnTo>
                        <a:pt x="220" y="295"/>
                      </a:lnTo>
                      <a:lnTo>
                        <a:pt x="208" y="295"/>
                      </a:lnTo>
                      <a:lnTo>
                        <a:pt x="197" y="288"/>
                      </a:lnTo>
                      <a:lnTo>
                        <a:pt x="186" y="288"/>
                      </a:lnTo>
                      <a:lnTo>
                        <a:pt x="174" y="288"/>
                      </a:lnTo>
                      <a:lnTo>
                        <a:pt x="169" y="282"/>
                      </a:lnTo>
                      <a:lnTo>
                        <a:pt x="158" y="282"/>
                      </a:lnTo>
                      <a:lnTo>
                        <a:pt x="146" y="276"/>
                      </a:lnTo>
                      <a:lnTo>
                        <a:pt x="141" y="270"/>
                      </a:lnTo>
                      <a:lnTo>
                        <a:pt x="129" y="263"/>
                      </a:lnTo>
                      <a:lnTo>
                        <a:pt x="124" y="257"/>
                      </a:lnTo>
                      <a:lnTo>
                        <a:pt x="112" y="251"/>
                      </a:lnTo>
                      <a:lnTo>
                        <a:pt x="107" y="244"/>
                      </a:lnTo>
                      <a:lnTo>
                        <a:pt x="96" y="238"/>
                      </a:lnTo>
                      <a:lnTo>
                        <a:pt x="90" y="238"/>
                      </a:lnTo>
                      <a:lnTo>
                        <a:pt x="84" y="232"/>
                      </a:lnTo>
                      <a:lnTo>
                        <a:pt x="79" y="232"/>
                      </a:lnTo>
                      <a:lnTo>
                        <a:pt x="67" y="226"/>
                      </a:lnTo>
                      <a:lnTo>
                        <a:pt x="62" y="226"/>
                      </a:lnTo>
                      <a:lnTo>
                        <a:pt x="56" y="219"/>
                      </a:lnTo>
                      <a:lnTo>
                        <a:pt x="45" y="219"/>
                      </a:lnTo>
                      <a:lnTo>
                        <a:pt x="39" y="213"/>
                      </a:lnTo>
                      <a:lnTo>
                        <a:pt x="34" y="207"/>
                      </a:lnTo>
                      <a:lnTo>
                        <a:pt x="28" y="201"/>
                      </a:lnTo>
                      <a:lnTo>
                        <a:pt x="22" y="194"/>
                      </a:lnTo>
                      <a:lnTo>
                        <a:pt x="17" y="188"/>
                      </a:lnTo>
                      <a:lnTo>
                        <a:pt x="11" y="182"/>
                      </a:lnTo>
                      <a:lnTo>
                        <a:pt x="11" y="169"/>
                      </a:lnTo>
                      <a:lnTo>
                        <a:pt x="5" y="163"/>
                      </a:lnTo>
                      <a:lnTo>
                        <a:pt x="0" y="157"/>
                      </a:lnTo>
                      <a:lnTo>
                        <a:pt x="5" y="163"/>
                      </a:lnTo>
                      <a:lnTo>
                        <a:pt x="17" y="169"/>
                      </a:lnTo>
                      <a:lnTo>
                        <a:pt x="28" y="169"/>
                      </a:lnTo>
                      <a:lnTo>
                        <a:pt x="34" y="175"/>
                      </a:lnTo>
                      <a:lnTo>
                        <a:pt x="45" y="182"/>
                      </a:lnTo>
                      <a:lnTo>
                        <a:pt x="50" y="182"/>
                      </a:lnTo>
                      <a:lnTo>
                        <a:pt x="62" y="188"/>
                      </a:lnTo>
                      <a:lnTo>
                        <a:pt x="73" y="188"/>
                      </a:lnTo>
                      <a:lnTo>
                        <a:pt x="79" y="182"/>
                      </a:lnTo>
                      <a:lnTo>
                        <a:pt x="79" y="175"/>
                      </a:lnTo>
                      <a:lnTo>
                        <a:pt x="84" y="175"/>
                      </a:lnTo>
                      <a:lnTo>
                        <a:pt x="84" y="169"/>
                      </a:lnTo>
                      <a:lnTo>
                        <a:pt x="90" y="157"/>
                      </a:lnTo>
                      <a:lnTo>
                        <a:pt x="90" y="150"/>
                      </a:lnTo>
                      <a:lnTo>
                        <a:pt x="96" y="150"/>
                      </a:lnTo>
                      <a:lnTo>
                        <a:pt x="101" y="144"/>
                      </a:lnTo>
                      <a:lnTo>
                        <a:pt x="112" y="144"/>
                      </a:lnTo>
                      <a:lnTo>
                        <a:pt x="118" y="150"/>
                      </a:lnTo>
                      <a:lnTo>
                        <a:pt x="129" y="150"/>
                      </a:lnTo>
                      <a:lnTo>
                        <a:pt x="141" y="157"/>
                      </a:lnTo>
                      <a:lnTo>
                        <a:pt x="152" y="157"/>
                      </a:lnTo>
                      <a:lnTo>
                        <a:pt x="158" y="163"/>
                      </a:lnTo>
                      <a:lnTo>
                        <a:pt x="169" y="169"/>
                      </a:lnTo>
                      <a:lnTo>
                        <a:pt x="180" y="169"/>
                      </a:lnTo>
                      <a:lnTo>
                        <a:pt x="186" y="169"/>
                      </a:lnTo>
                      <a:lnTo>
                        <a:pt x="191" y="175"/>
                      </a:lnTo>
                      <a:lnTo>
                        <a:pt x="197" y="175"/>
                      </a:lnTo>
                      <a:lnTo>
                        <a:pt x="203" y="175"/>
                      </a:lnTo>
                      <a:lnTo>
                        <a:pt x="208" y="175"/>
                      </a:lnTo>
                      <a:lnTo>
                        <a:pt x="214" y="175"/>
                      </a:lnTo>
                      <a:lnTo>
                        <a:pt x="220" y="182"/>
                      </a:lnTo>
                      <a:lnTo>
                        <a:pt x="225" y="182"/>
                      </a:lnTo>
                      <a:lnTo>
                        <a:pt x="231" y="182"/>
                      </a:lnTo>
                      <a:lnTo>
                        <a:pt x="236" y="182"/>
                      </a:lnTo>
                      <a:lnTo>
                        <a:pt x="242" y="182"/>
                      </a:lnTo>
                      <a:lnTo>
                        <a:pt x="253" y="182"/>
                      </a:lnTo>
                      <a:lnTo>
                        <a:pt x="259" y="188"/>
                      </a:lnTo>
                      <a:lnTo>
                        <a:pt x="265" y="188"/>
                      </a:lnTo>
                      <a:lnTo>
                        <a:pt x="270" y="188"/>
                      </a:lnTo>
                      <a:lnTo>
                        <a:pt x="276" y="188"/>
                      </a:lnTo>
                      <a:lnTo>
                        <a:pt x="276" y="175"/>
                      </a:lnTo>
                      <a:lnTo>
                        <a:pt x="276" y="163"/>
                      </a:lnTo>
                      <a:lnTo>
                        <a:pt x="276" y="144"/>
                      </a:lnTo>
                      <a:lnTo>
                        <a:pt x="282" y="132"/>
                      </a:lnTo>
                      <a:lnTo>
                        <a:pt x="282" y="100"/>
                      </a:lnTo>
                      <a:lnTo>
                        <a:pt x="287" y="69"/>
                      </a:lnTo>
                      <a:lnTo>
                        <a:pt x="287" y="38"/>
                      </a:lnTo>
                      <a:lnTo>
                        <a:pt x="293" y="0"/>
                      </a:lnTo>
                      <a:lnTo>
                        <a:pt x="293" y="19"/>
                      </a:lnTo>
                      <a:lnTo>
                        <a:pt x="293" y="31"/>
                      </a:lnTo>
                      <a:lnTo>
                        <a:pt x="298" y="44"/>
                      </a:lnTo>
                      <a:lnTo>
                        <a:pt x="298" y="56"/>
                      </a:lnTo>
                      <a:lnTo>
                        <a:pt x="298" y="69"/>
                      </a:lnTo>
                      <a:lnTo>
                        <a:pt x="304" y="81"/>
                      </a:lnTo>
                      <a:lnTo>
                        <a:pt x="310" y="94"/>
                      </a:lnTo>
                      <a:lnTo>
                        <a:pt x="310" y="106"/>
                      </a:lnTo>
                      <a:lnTo>
                        <a:pt x="315" y="113"/>
                      </a:lnTo>
                      <a:lnTo>
                        <a:pt x="321" y="119"/>
                      </a:lnTo>
                      <a:lnTo>
                        <a:pt x="327" y="132"/>
                      </a:lnTo>
                      <a:lnTo>
                        <a:pt x="332" y="138"/>
                      </a:lnTo>
                      <a:lnTo>
                        <a:pt x="338" y="144"/>
                      </a:lnTo>
                      <a:lnTo>
                        <a:pt x="344" y="144"/>
                      </a:lnTo>
                      <a:lnTo>
                        <a:pt x="349" y="150"/>
                      </a:lnTo>
                      <a:lnTo>
                        <a:pt x="355" y="150"/>
                      </a:lnTo>
                      <a:lnTo>
                        <a:pt x="366" y="150"/>
                      </a:lnTo>
                      <a:lnTo>
                        <a:pt x="372" y="150"/>
                      </a:lnTo>
                      <a:lnTo>
                        <a:pt x="377" y="150"/>
                      </a:lnTo>
                      <a:lnTo>
                        <a:pt x="383" y="144"/>
                      </a:lnTo>
                      <a:lnTo>
                        <a:pt x="389" y="138"/>
                      </a:lnTo>
                      <a:lnTo>
                        <a:pt x="394" y="138"/>
                      </a:lnTo>
                      <a:lnTo>
                        <a:pt x="400" y="132"/>
                      </a:lnTo>
                      <a:lnTo>
                        <a:pt x="411" y="132"/>
                      </a:lnTo>
                      <a:lnTo>
                        <a:pt x="417" y="125"/>
                      </a:lnTo>
                      <a:lnTo>
                        <a:pt x="428" y="125"/>
                      </a:lnTo>
                      <a:lnTo>
                        <a:pt x="434" y="125"/>
                      </a:lnTo>
                      <a:lnTo>
                        <a:pt x="445" y="125"/>
                      </a:lnTo>
                      <a:lnTo>
                        <a:pt x="451" y="125"/>
                      </a:lnTo>
                      <a:lnTo>
                        <a:pt x="462" y="125"/>
                      </a:lnTo>
                      <a:lnTo>
                        <a:pt x="468" y="119"/>
                      </a:lnTo>
                      <a:lnTo>
                        <a:pt x="473" y="113"/>
                      </a:lnTo>
                      <a:lnTo>
                        <a:pt x="479" y="106"/>
                      </a:lnTo>
                      <a:lnTo>
                        <a:pt x="479" y="100"/>
                      </a:lnTo>
                      <a:lnTo>
                        <a:pt x="473" y="94"/>
                      </a:lnTo>
                      <a:lnTo>
                        <a:pt x="473" y="88"/>
                      </a:lnTo>
                      <a:lnTo>
                        <a:pt x="468" y="81"/>
                      </a:lnTo>
                      <a:lnTo>
                        <a:pt x="462" y="75"/>
                      </a:lnTo>
                      <a:lnTo>
                        <a:pt x="456" y="69"/>
                      </a:lnTo>
                      <a:lnTo>
                        <a:pt x="456" y="63"/>
                      </a:lnTo>
                      <a:lnTo>
                        <a:pt x="451" y="50"/>
                      </a:lnTo>
                      <a:lnTo>
                        <a:pt x="451" y="31"/>
                      </a:lnTo>
                      <a:lnTo>
                        <a:pt x="451" y="12"/>
                      </a:lnTo>
                      <a:lnTo>
                        <a:pt x="451" y="0"/>
                      </a:lnTo>
                      <a:lnTo>
                        <a:pt x="456" y="0"/>
                      </a:lnTo>
                      <a:lnTo>
                        <a:pt x="462" y="0"/>
                      </a:lnTo>
                      <a:lnTo>
                        <a:pt x="468" y="0"/>
                      </a:lnTo>
                      <a:lnTo>
                        <a:pt x="473" y="6"/>
                      </a:lnTo>
                      <a:lnTo>
                        <a:pt x="479" y="6"/>
                      </a:lnTo>
                      <a:lnTo>
                        <a:pt x="484" y="6"/>
                      </a:lnTo>
                      <a:lnTo>
                        <a:pt x="490" y="12"/>
                      </a:lnTo>
                      <a:lnTo>
                        <a:pt x="490" y="12"/>
                      </a:lnTo>
                      <a:lnTo>
                        <a:pt x="496" y="19"/>
                      </a:lnTo>
                      <a:lnTo>
                        <a:pt x="501" y="25"/>
                      </a:lnTo>
                      <a:lnTo>
                        <a:pt x="501" y="31"/>
                      </a:lnTo>
                      <a:lnTo>
                        <a:pt x="501" y="38"/>
                      </a:lnTo>
                      <a:lnTo>
                        <a:pt x="507" y="44"/>
                      </a:lnTo>
                      <a:lnTo>
                        <a:pt x="507" y="56"/>
                      </a:lnTo>
                      <a:lnTo>
                        <a:pt x="513" y="56"/>
                      </a:lnTo>
                      <a:lnTo>
                        <a:pt x="518" y="63"/>
                      </a:lnTo>
                      <a:lnTo>
                        <a:pt x="518" y="69"/>
                      </a:lnTo>
                      <a:lnTo>
                        <a:pt x="524" y="69"/>
                      </a:lnTo>
                      <a:lnTo>
                        <a:pt x="530" y="75"/>
                      </a:lnTo>
                      <a:lnTo>
                        <a:pt x="535" y="75"/>
                      </a:lnTo>
                      <a:lnTo>
                        <a:pt x="541" y="75"/>
                      </a:lnTo>
                      <a:lnTo>
                        <a:pt x="546" y="81"/>
                      </a:lnTo>
                      <a:lnTo>
                        <a:pt x="558" y="81"/>
                      </a:lnTo>
                      <a:lnTo>
                        <a:pt x="563" y="88"/>
                      </a:lnTo>
                      <a:lnTo>
                        <a:pt x="569" y="88"/>
                      </a:lnTo>
                      <a:lnTo>
                        <a:pt x="575" y="88"/>
                      </a:lnTo>
                      <a:lnTo>
                        <a:pt x="580" y="88"/>
                      </a:lnTo>
                      <a:lnTo>
                        <a:pt x="586" y="94"/>
                      </a:lnTo>
                      <a:lnTo>
                        <a:pt x="592" y="94"/>
                      </a:lnTo>
                      <a:lnTo>
                        <a:pt x="597" y="94"/>
                      </a:lnTo>
                      <a:lnTo>
                        <a:pt x="603" y="94"/>
                      </a:lnTo>
                      <a:lnTo>
                        <a:pt x="608" y="94"/>
                      </a:lnTo>
                      <a:lnTo>
                        <a:pt x="620" y="94"/>
                      </a:lnTo>
                      <a:lnTo>
                        <a:pt x="625" y="94"/>
                      </a:lnTo>
                      <a:lnTo>
                        <a:pt x="637" y="94"/>
                      </a:lnTo>
                      <a:lnTo>
                        <a:pt x="642" y="94"/>
                      </a:lnTo>
                      <a:lnTo>
                        <a:pt x="654" y="94"/>
                      </a:lnTo>
                      <a:lnTo>
                        <a:pt x="659" y="94"/>
                      </a:lnTo>
                      <a:lnTo>
                        <a:pt x="670" y="94"/>
                      </a:lnTo>
                      <a:lnTo>
                        <a:pt x="676" y="94"/>
                      </a:lnTo>
                      <a:lnTo>
                        <a:pt x="687" y="94"/>
                      </a:lnTo>
                      <a:lnTo>
                        <a:pt x="693" y="94"/>
                      </a:lnTo>
                      <a:lnTo>
                        <a:pt x="704" y="94"/>
                      </a:lnTo>
                      <a:lnTo>
                        <a:pt x="710" y="94"/>
                      </a:lnTo>
                      <a:lnTo>
                        <a:pt x="721" y="94"/>
                      </a:lnTo>
                      <a:lnTo>
                        <a:pt x="727" y="94"/>
                      </a:lnTo>
                      <a:lnTo>
                        <a:pt x="738" y="88"/>
                      </a:lnTo>
                      <a:lnTo>
                        <a:pt x="744" y="88"/>
                      </a:lnTo>
                      <a:lnTo>
                        <a:pt x="755" y="88"/>
                      </a:lnTo>
                      <a:lnTo>
                        <a:pt x="761" y="81"/>
                      </a:lnTo>
                      <a:lnTo>
                        <a:pt x="772" y="81"/>
                      </a:lnTo>
                      <a:lnTo>
                        <a:pt x="778" y="75"/>
                      </a:lnTo>
                      <a:lnTo>
                        <a:pt x="789" y="69"/>
                      </a:lnTo>
                      <a:lnTo>
                        <a:pt x="800" y="63"/>
                      </a:lnTo>
                      <a:lnTo>
                        <a:pt x="806" y="63"/>
                      </a:lnTo>
                      <a:lnTo>
                        <a:pt x="817" y="56"/>
                      </a:lnTo>
                      <a:lnTo>
                        <a:pt x="817" y="63"/>
                      </a:lnTo>
                      <a:lnTo>
                        <a:pt x="823" y="63"/>
                      </a:lnTo>
                      <a:lnTo>
                        <a:pt x="823" y="69"/>
                      </a:lnTo>
                      <a:lnTo>
                        <a:pt x="828" y="69"/>
                      </a:lnTo>
                      <a:lnTo>
                        <a:pt x="828" y="75"/>
                      </a:lnTo>
                      <a:lnTo>
                        <a:pt x="834" y="81"/>
                      </a:lnTo>
                      <a:lnTo>
                        <a:pt x="834" y="81"/>
                      </a:lnTo>
                      <a:lnTo>
                        <a:pt x="840" y="88"/>
                      </a:lnTo>
                      <a:lnTo>
                        <a:pt x="845" y="88"/>
                      </a:lnTo>
                      <a:lnTo>
                        <a:pt x="845" y="94"/>
                      </a:lnTo>
                      <a:lnTo>
                        <a:pt x="851" y="100"/>
                      </a:lnTo>
                      <a:lnTo>
                        <a:pt x="856" y="100"/>
                      </a:lnTo>
                      <a:lnTo>
                        <a:pt x="862" y="106"/>
                      </a:lnTo>
                      <a:lnTo>
                        <a:pt x="862" y="113"/>
                      </a:lnTo>
                      <a:lnTo>
                        <a:pt x="868" y="113"/>
                      </a:lnTo>
                      <a:lnTo>
                        <a:pt x="873" y="119"/>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rot="2405400">
                  <a:off x="1110960" y="1742760"/>
                  <a:ext cx="85680" cy="60480"/>
                </a:xfrm>
                <a:custGeom>
                  <a:avLst/>
                  <a:gdLst/>
                  <a:ahLst/>
                  <a:rect l="l" t="t" r="r" b="b"/>
                  <a:pathLst>
                    <a:path w="101" h="82">
                      <a:moveTo>
                        <a:pt x="17" y="0"/>
                      </a:moveTo>
                      <a:lnTo>
                        <a:pt x="11" y="6"/>
                      </a:lnTo>
                      <a:lnTo>
                        <a:pt x="5" y="13"/>
                      </a:lnTo>
                      <a:lnTo>
                        <a:pt x="0" y="19"/>
                      </a:lnTo>
                      <a:lnTo>
                        <a:pt x="0" y="31"/>
                      </a:lnTo>
                      <a:lnTo>
                        <a:pt x="0" y="38"/>
                      </a:lnTo>
                      <a:lnTo>
                        <a:pt x="0" y="50"/>
                      </a:lnTo>
                      <a:lnTo>
                        <a:pt x="0" y="57"/>
                      </a:lnTo>
                      <a:lnTo>
                        <a:pt x="5" y="63"/>
                      </a:lnTo>
                      <a:lnTo>
                        <a:pt x="5" y="69"/>
                      </a:lnTo>
                      <a:lnTo>
                        <a:pt x="17" y="75"/>
                      </a:lnTo>
                      <a:lnTo>
                        <a:pt x="28" y="82"/>
                      </a:lnTo>
                      <a:lnTo>
                        <a:pt x="39" y="82"/>
                      </a:lnTo>
                      <a:lnTo>
                        <a:pt x="50" y="82"/>
                      </a:lnTo>
                      <a:lnTo>
                        <a:pt x="67" y="82"/>
                      </a:lnTo>
                      <a:lnTo>
                        <a:pt x="79" y="82"/>
                      </a:lnTo>
                      <a:lnTo>
                        <a:pt x="84" y="75"/>
                      </a:lnTo>
                      <a:lnTo>
                        <a:pt x="90" y="75"/>
                      </a:lnTo>
                      <a:lnTo>
                        <a:pt x="96" y="69"/>
                      </a:lnTo>
                      <a:lnTo>
                        <a:pt x="101" y="63"/>
                      </a:lnTo>
                      <a:lnTo>
                        <a:pt x="101" y="57"/>
                      </a:lnTo>
                      <a:lnTo>
                        <a:pt x="101" y="44"/>
                      </a:lnTo>
                      <a:lnTo>
                        <a:pt x="101" y="38"/>
                      </a:lnTo>
                      <a:lnTo>
                        <a:pt x="96" y="31"/>
                      </a:lnTo>
                      <a:lnTo>
                        <a:pt x="96" y="19"/>
                      </a:lnTo>
                      <a:lnTo>
                        <a:pt x="90" y="13"/>
                      </a:lnTo>
                      <a:lnTo>
                        <a:pt x="84" y="6"/>
                      </a:lnTo>
                      <a:lnTo>
                        <a:pt x="73" y="6"/>
                      </a:lnTo>
                      <a:lnTo>
                        <a:pt x="62" y="0"/>
                      </a:lnTo>
                      <a:lnTo>
                        <a:pt x="50" y="0"/>
                      </a:lnTo>
                      <a:lnTo>
                        <a:pt x="34" y="0"/>
                      </a:lnTo>
                      <a:lnTo>
                        <a:pt x="22" y="0"/>
                      </a:lnTo>
                      <a:lnTo>
                        <a:pt x="17" y="0"/>
                      </a:lnTo>
                      <a:close/>
                    </a:path>
                  </a:pathLst>
                </a:custGeom>
                <a:solidFill>
                  <a:srgbClr val="ffffff"/>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rot="2405400">
                  <a:off x="924120" y="1710720"/>
                  <a:ext cx="163080" cy="74160"/>
                </a:xfrm>
                <a:custGeom>
                  <a:avLst/>
                  <a:gdLst/>
                  <a:ahLst/>
                  <a:rect l="l" t="t" r="r" b="b"/>
                  <a:pathLst>
                    <a:path w="192" h="101">
                      <a:moveTo>
                        <a:pt x="141" y="38"/>
                      </a:moveTo>
                      <a:lnTo>
                        <a:pt x="136" y="38"/>
                      </a:lnTo>
                      <a:lnTo>
                        <a:pt x="130" y="38"/>
                      </a:lnTo>
                      <a:lnTo>
                        <a:pt x="124" y="32"/>
                      </a:lnTo>
                      <a:lnTo>
                        <a:pt x="119" y="32"/>
                      </a:lnTo>
                      <a:lnTo>
                        <a:pt x="113" y="25"/>
                      </a:lnTo>
                      <a:lnTo>
                        <a:pt x="108" y="25"/>
                      </a:lnTo>
                      <a:lnTo>
                        <a:pt x="102" y="25"/>
                      </a:lnTo>
                      <a:lnTo>
                        <a:pt x="96" y="19"/>
                      </a:lnTo>
                      <a:lnTo>
                        <a:pt x="85" y="19"/>
                      </a:lnTo>
                      <a:lnTo>
                        <a:pt x="79" y="13"/>
                      </a:lnTo>
                      <a:lnTo>
                        <a:pt x="74" y="13"/>
                      </a:lnTo>
                      <a:lnTo>
                        <a:pt x="68" y="6"/>
                      </a:lnTo>
                      <a:lnTo>
                        <a:pt x="62" y="6"/>
                      </a:lnTo>
                      <a:lnTo>
                        <a:pt x="57" y="6"/>
                      </a:lnTo>
                      <a:lnTo>
                        <a:pt x="46" y="0"/>
                      </a:lnTo>
                      <a:lnTo>
                        <a:pt x="40" y="6"/>
                      </a:lnTo>
                      <a:lnTo>
                        <a:pt x="34" y="6"/>
                      </a:lnTo>
                      <a:lnTo>
                        <a:pt x="29" y="13"/>
                      </a:lnTo>
                      <a:lnTo>
                        <a:pt x="17" y="13"/>
                      </a:lnTo>
                      <a:lnTo>
                        <a:pt x="12" y="19"/>
                      </a:lnTo>
                      <a:lnTo>
                        <a:pt x="6" y="25"/>
                      </a:lnTo>
                      <a:lnTo>
                        <a:pt x="6" y="32"/>
                      </a:lnTo>
                      <a:lnTo>
                        <a:pt x="0" y="38"/>
                      </a:lnTo>
                      <a:lnTo>
                        <a:pt x="0" y="50"/>
                      </a:lnTo>
                      <a:lnTo>
                        <a:pt x="6" y="57"/>
                      </a:lnTo>
                      <a:lnTo>
                        <a:pt x="12" y="69"/>
                      </a:lnTo>
                      <a:lnTo>
                        <a:pt x="17" y="75"/>
                      </a:lnTo>
                      <a:lnTo>
                        <a:pt x="29" y="82"/>
                      </a:lnTo>
                      <a:lnTo>
                        <a:pt x="34" y="88"/>
                      </a:lnTo>
                      <a:lnTo>
                        <a:pt x="46" y="94"/>
                      </a:lnTo>
                      <a:lnTo>
                        <a:pt x="51" y="101"/>
                      </a:lnTo>
                      <a:lnTo>
                        <a:pt x="62" y="101"/>
                      </a:lnTo>
                      <a:lnTo>
                        <a:pt x="74" y="101"/>
                      </a:lnTo>
                      <a:lnTo>
                        <a:pt x="79" y="101"/>
                      </a:lnTo>
                      <a:lnTo>
                        <a:pt x="91" y="94"/>
                      </a:lnTo>
                      <a:lnTo>
                        <a:pt x="96" y="94"/>
                      </a:lnTo>
                      <a:lnTo>
                        <a:pt x="102" y="88"/>
                      </a:lnTo>
                      <a:lnTo>
                        <a:pt x="113" y="88"/>
                      </a:lnTo>
                      <a:lnTo>
                        <a:pt x="119" y="82"/>
                      </a:lnTo>
                      <a:lnTo>
                        <a:pt x="130" y="75"/>
                      </a:lnTo>
                      <a:lnTo>
                        <a:pt x="136" y="75"/>
                      </a:lnTo>
                      <a:lnTo>
                        <a:pt x="141" y="69"/>
                      </a:lnTo>
                      <a:lnTo>
                        <a:pt x="153" y="63"/>
                      </a:lnTo>
                      <a:lnTo>
                        <a:pt x="158" y="63"/>
                      </a:lnTo>
                      <a:lnTo>
                        <a:pt x="170" y="57"/>
                      </a:lnTo>
                      <a:lnTo>
                        <a:pt x="175" y="50"/>
                      </a:lnTo>
                      <a:lnTo>
                        <a:pt x="181" y="50"/>
                      </a:lnTo>
                      <a:lnTo>
                        <a:pt x="192" y="44"/>
                      </a:lnTo>
                      <a:lnTo>
                        <a:pt x="186" y="44"/>
                      </a:lnTo>
                      <a:lnTo>
                        <a:pt x="181" y="44"/>
                      </a:lnTo>
                      <a:lnTo>
                        <a:pt x="175" y="44"/>
                      </a:lnTo>
                      <a:lnTo>
                        <a:pt x="164" y="44"/>
                      </a:lnTo>
                      <a:lnTo>
                        <a:pt x="158" y="44"/>
                      </a:lnTo>
                      <a:lnTo>
                        <a:pt x="153" y="44"/>
                      </a:lnTo>
                      <a:lnTo>
                        <a:pt x="147" y="38"/>
                      </a:lnTo>
                      <a:lnTo>
                        <a:pt x="141" y="38"/>
                      </a:lnTo>
                      <a:close/>
                    </a:path>
                  </a:pathLst>
                </a:custGeom>
                <a:solidFill>
                  <a:srgbClr val="ffffff"/>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
              <p:cNvGrpSpPr/>
              <p:nvPr/>
            </p:nvGrpSpPr>
            <p:grpSpPr>
              <a:xfrm>
                <a:off x="7111800" y="5367960"/>
                <a:ext cx="2229480" cy="1459800"/>
                <a:chOff x="7111800" y="5367960"/>
                <a:chExt cx="2229480" cy="1459800"/>
              </a:xfrm>
            </p:grpSpPr>
            <p:sp>
              <p:nvSpPr>
                <p:cNvPr id="242" name=""/>
                <p:cNvSpPr/>
                <p:nvPr/>
              </p:nvSpPr>
              <p:spPr>
                <a:xfrm rot="796800">
                  <a:off x="7200720" y="5589720"/>
                  <a:ext cx="2050920" cy="1015920"/>
                </a:xfrm>
                <a:custGeom>
                  <a:avLst/>
                  <a:gdLst/>
                  <a:ahLst/>
                  <a:rect l="l" t="t" r="r" b="b"/>
                  <a:pathLst>
                    <a:path w="2023" h="1467">
                      <a:moveTo>
                        <a:pt x="112" y="226"/>
                      </a:moveTo>
                      <a:lnTo>
                        <a:pt x="112" y="226"/>
                      </a:lnTo>
                      <a:lnTo>
                        <a:pt x="107" y="213"/>
                      </a:lnTo>
                      <a:lnTo>
                        <a:pt x="107" y="207"/>
                      </a:lnTo>
                      <a:lnTo>
                        <a:pt x="107" y="194"/>
                      </a:lnTo>
                      <a:lnTo>
                        <a:pt x="112" y="182"/>
                      </a:lnTo>
                      <a:lnTo>
                        <a:pt x="107" y="176"/>
                      </a:lnTo>
                      <a:lnTo>
                        <a:pt x="107" y="163"/>
                      </a:lnTo>
                      <a:lnTo>
                        <a:pt x="101" y="163"/>
                      </a:lnTo>
                      <a:lnTo>
                        <a:pt x="112" y="151"/>
                      </a:lnTo>
                      <a:lnTo>
                        <a:pt x="118" y="138"/>
                      </a:lnTo>
                      <a:lnTo>
                        <a:pt x="124" y="126"/>
                      </a:lnTo>
                      <a:lnTo>
                        <a:pt x="129" y="119"/>
                      </a:lnTo>
                      <a:lnTo>
                        <a:pt x="129" y="113"/>
                      </a:lnTo>
                      <a:lnTo>
                        <a:pt x="135" y="107"/>
                      </a:lnTo>
                      <a:lnTo>
                        <a:pt x="146" y="94"/>
                      </a:lnTo>
                      <a:lnTo>
                        <a:pt x="157" y="88"/>
                      </a:lnTo>
                      <a:lnTo>
                        <a:pt x="169" y="82"/>
                      </a:lnTo>
                      <a:lnTo>
                        <a:pt x="174" y="75"/>
                      </a:lnTo>
                      <a:lnTo>
                        <a:pt x="186" y="75"/>
                      </a:lnTo>
                      <a:lnTo>
                        <a:pt x="197" y="75"/>
                      </a:lnTo>
                      <a:lnTo>
                        <a:pt x="203" y="69"/>
                      </a:lnTo>
                      <a:lnTo>
                        <a:pt x="214" y="69"/>
                      </a:lnTo>
                      <a:lnTo>
                        <a:pt x="225" y="69"/>
                      </a:lnTo>
                      <a:lnTo>
                        <a:pt x="236" y="69"/>
                      </a:lnTo>
                      <a:lnTo>
                        <a:pt x="248" y="69"/>
                      </a:lnTo>
                      <a:lnTo>
                        <a:pt x="253" y="69"/>
                      </a:lnTo>
                      <a:lnTo>
                        <a:pt x="265" y="63"/>
                      </a:lnTo>
                      <a:lnTo>
                        <a:pt x="276" y="63"/>
                      </a:lnTo>
                      <a:lnTo>
                        <a:pt x="287" y="63"/>
                      </a:lnTo>
                      <a:lnTo>
                        <a:pt x="298" y="63"/>
                      </a:lnTo>
                      <a:lnTo>
                        <a:pt x="304" y="63"/>
                      </a:lnTo>
                      <a:lnTo>
                        <a:pt x="315" y="57"/>
                      </a:lnTo>
                      <a:lnTo>
                        <a:pt x="327" y="57"/>
                      </a:lnTo>
                      <a:lnTo>
                        <a:pt x="332" y="50"/>
                      </a:lnTo>
                      <a:lnTo>
                        <a:pt x="338" y="50"/>
                      </a:lnTo>
                      <a:lnTo>
                        <a:pt x="349" y="44"/>
                      </a:lnTo>
                      <a:lnTo>
                        <a:pt x="355" y="44"/>
                      </a:lnTo>
                      <a:lnTo>
                        <a:pt x="366" y="38"/>
                      </a:lnTo>
                      <a:lnTo>
                        <a:pt x="372" y="38"/>
                      </a:lnTo>
                      <a:lnTo>
                        <a:pt x="377" y="31"/>
                      </a:lnTo>
                      <a:lnTo>
                        <a:pt x="389" y="25"/>
                      </a:lnTo>
                      <a:lnTo>
                        <a:pt x="394" y="25"/>
                      </a:lnTo>
                      <a:lnTo>
                        <a:pt x="400" y="19"/>
                      </a:lnTo>
                      <a:lnTo>
                        <a:pt x="411" y="19"/>
                      </a:lnTo>
                      <a:lnTo>
                        <a:pt x="417" y="13"/>
                      </a:lnTo>
                      <a:lnTo>
                        <a:pt x="428" y="13"/>
                      </a:lnTo>
                      <a:lnTo>
                        <a:pt x="434" y="6"/>
                      </a:lnTo>
                      <a:lnTo>
                        <a:pt x="439" y="6"/>
                      </a:lnTo>
                      <a:lnTo>
                        <a:pt x="451" y="6"/>
                      </a:lnTo>
                      <a:lnTo>
                        <a:pt x="462" y="6"/>
                      </a:lnTo>
                      <a:lnTo>
                        <a:pt x="467" y="6"/>
                      </a:lnTo>
                      <a:lnTo>
                        <a:pt x="479" y="6"/>
                      </a:lnTo>
                      <a:lnTo>
                        <a:pt x="490" y="6"/>
                      </a:lnTo>
                      <a:lnTo>
                        <a:pt x="496" y="6"/>
                      </a:lnTo>
                      <a:lnTo>
                        <a:pt x="507" y="6"/>
                      </a:lnTo>
                      <a:lnTo>
                        <a:pt x="518" y="13"/>
                      </a:lnTo>
                      <a:lnTo>
                        <a:pt x="524" y="13"/>
                      </a:lnTo>
                      <a:lnTo>
                        <a:pt x="535" y="13"/>
                      </a:lnTo>
                      <a:lnTo>
                        <a:pt x="546" y="13"/>
                      </a:lnTo>
                      <a:lnTo>
                        <a:pt x="552" y="13"/>
                      </a:lnTo>
                      <a:lnTo>
                        <a:pt x="563" y="19"/>
                      </a:lnTo>
                      <a:lnTo>
                        <a:pt x="575" y="19"/>
                      </a:lnTo>
                      <a:lnTo>
                        <a:pt x="580" y="19"/>
                      </a:lnTo>
                      <a:lnTo>
                        <a:pt x="591" y="19"/>
                      </a:lnTo>
                      <a:lnTo>
                        <a:pt x="597" y="19"/>
                      </a:lnTo>
                      <a:lnTo>
                        <a:pt x="603" y="19"/>
                      </a:lnTo>
                      <a:lnTo>
                        <a:pt x="614" y="19"/>
                      </a:lnTo>
                      <a:lnTo>
                        <a:pt x="620" y="19"/>
                      </a:lnTo>
                      <a:lnTo>
                        <a:pt x="625" y="19"/>
                      </a:lnTo>
                      <a:lnTo>
                        <a:pt x="631" y="19"/>
                      </a:lnTo>
                      <a:lnTo>
                        <a:pt x="637" y="19"/>
                      </a:lnTo>
                      <a:lnTo>
                        <a:pt x="648" y="19"/>
                      </a:lnTo>
                      <a:lnTo>
                        <a:pt x="653" y="19"/>
                      </a:lnTo>
                      <a:lnTo>
                        <a:pt x="659" y="19"/>
                      </a:lnTo>
                      <a:lnTo>
                        <a:pt x="665" y="19"/>
                      </a:lnTo>
                      <a:lnTo>
                        <a:pt x="670" y="19"/>
                      </a:lnTo>
                      <a:lnTo>
                        <a:pt x="682" y="19"/>
                      </a:lnTo>
                      <a:lnTo>
                        <a:pt x="687" y="13"/>
                      </a:lnTo>
                      <a:lnTo>
                        <a:pt x="693" y="13"/>
                      </a:lnTo>
                      <a:lnTo>
                        <a:pt x="699" y="13"/>
                      </a:lnTo>
                      <a:lnTo>
                        <a:pt x="704" y="13"/>
                      </a:lnTo>
                      <a:lnTo>
                        <a:pt x="715" y="13"/>
                      </a:lnTo>
                      <a:lnTo>
                        <a:pt x="721" y="13"/>
                      </a:lnTo>
                      <a:lnTo>
                        <a:pt x="727" y="13"/>
                      </a:lnTo>
                      <a:lnTo>
                        <a:pt x="732" y="13"/>
                      </a:lnTo>
                      <a:lnTo>
                        <a:pt x="738" y="6"/>
                      </a:lnTo>
                      <a:lnTo>
                        <a:pt x="744" y="6"/>
                      </a:lnTo>
                      <a:lnTo>
                        <a:pt x="755" y="6"/>
                      </a:lnTo>
                      <a:lnTo>
                        <a:pt x="761" y="6"/>
                      </a:lnTo>
                      <a:lnTo>
                        <a:pt x="766" y="6"/>
                      </a:lnTo>
                      <a:lnTo>
                        <a:pt x="772" y="0"/>
                      </a:lnTo>
                      <a:lnTo>
                        <a:pt x="777" y="0"/>
                      </a:lnTo>
                      <a:lnTo>
                        <a:pt x="783" y="0"/>
                      </a:lnTo>
                      <a:lnTo>
                        <a:pt x="794" y="0"/>
                      </a:lnTo>
                      <a:lnTo>
                        <a:pt x="800" y="0"/>
                      </a:lnTo>
                      <a:lnTo>
                        <a:pt x="806" y="0"/>
                      </a:lnTo>
                      <a:lnTo>
                        <a:pt x="817" y="0"/>
                      </a:lnTo>
                      <a:lnTo>
                        <a:pt x="828" y="6"/>
                      </a:lnTo>
                      <a:lnTo>
                        <a:pt x="834" y="6"/>
                      </a:lnTo>
                      <a:lnTo>
                        <a:pt x="845" y="13"/>
                      </a:lnTo>
                      <a:lnTo>
                        <a:pt x="856" y="13"/>
                      </a:lnTo>
                      <a:lnTo>
                        <a:pt x="868" y="19"/>
                      </a:lnTo>
                      <a:lnTo>
                        <a:pt x="873" y="25"/>
                      </a:lnTo>
                      <a:lnTo>
                        <a:pt x="885" y="31"/>
                      </a:lnTo>
                      <a:lnTo>
                        <a:pt x="901" y="38"/>
                      </a:lnTo>
                      <a:lnTo>
                        <a:pt x="913" y="44"/>
                      </a:lnTo>
                      <a:lnTo>
                        <a:pt x="930" y="57"/>
                      </a:lnTo>
                      <a:lnTo>
                        <a:pt x="947" y="63"/>
                      </a:lnTo>
                      <a:lnTo>
                        <a:pt x="963" y="69"/>
                      </a:lnTo>
                      <a:lnTo>
                        <a:pt x="975" y="75"/>
                      </a:lnTo>
                      <a:lnTo>
                        <a:pt x="992" y="88"/>
                      </a:lnTo>
                      <a:lnTo>
                        <a:pt x="1009" y="94"/>
                      </a:lnTo>
                      <a:lnTo>
                        <a:pt x="1020" y="100"/>
                      </a:lnTo>
                      <a:lnTo>
                        <a:pt x="1037" y="107"/>
                      </a:lnTo>
                      <a:lnTo>
                        <a:pt x="1054" y="119"/>
                      </a:lnTo>
                      <a:lnTo>
                        <a:pt x="1065" y="126"/>
                      </a:lnTo>
                      <a:lnTo>
                        <a:pt x="1082" y="132"/>
                      </a:lnTo>
                      <a:lnTo>
                        <a:pt x="1099" y="144"/>
                      </a:lnTo>
                      <a:lnTo>
                        <a:pt x="1110" y="151"/>
                      </a:lnTo>
                      <a:lnTo>
                        <a:pt x="1127" y="157"/>
                      </a:lnTo>
                      <a:lnTo>
                        <a:pt x="1144" y="169"/>
                      </a:lnTo>
                      <a:lnTo>
                        <a:pt x="1155" y="176"/>
                      </a:lnTo>
                      <a:lnTo>
                        <a:pt x="1172" y="182"/>
                      </a:lnTo>
                      <a:lnTo>
                        <a:pt x="1189" y="194"/>
                      </a:lnTo>
                      <a:lnTo>
                        <a:pt x="1200" y="201"/>
                      </a:lnTo>
                      <a:lnTo>
                        <a:pt x="1217" y="207"/>
                      </a:lnTo>
                      <a:lnTo>
                        <a:pt x="1234" y="213"/>
                      </a:lnTo>
                      <a:lnTo>
                        <a:pt x="1245" y="226"/>
                      </a:lnTo>
                      <a:lnTo>
                        <a:pt x="1262" y="232"/>
                      </a:lnTo>
                      <a:lnTo>
                        <a:pt x="1279" y="238"/>
                      </a:lnTo>
                      <a:lnTo>
                        <a:pt x="1290" y="251"/>
                      </a:lnTo>
                      <a:lnTo>
                        <a:pt x="1307" y="257"/>
                      </a:lnTo>
                      <a:lnTo>
                        <a:pt x="1324" y="263"/>
                      </a:lnTo>
                      <a:lnTo>
                        <a:pt x="1335" y="270"/>
                      </a:lnTo>
                      <a:lnTo>
                        <a:pt x="1352" y="282"/>
                      </a:lnTo>
                      <a:lnTo>
                        <a:pt x="1369" y="289"/>
                      </a:lnTo>
                      <a:lnTo>
                        <a:pt x="1380" y="295"/>
                      </a:lnTo>
                      <a:lnTo>
                        <a:pt x="1392" y="301"/>
                      </a:lnTo>
                      <a:lnTo>
                        <a:pt x="1403" y="307"/>
                      </a:lnTo>
                      <a:lnTo>
                        <a:pt x="1414" y="314"/>
                      </a:lnTo>
                      <a:lnTo>
                        <a:pt x="1431" y="320"/>
                      </a:lnTo>
                      <a:lnTo>
                        <a:pt x="1442" y="326"/>
                      </a:lnTo>
                      <a:lnTo>
                        <a:pt x="1454" y="332"/>
                      </a:lnTo>
                      <a:lnTo>
                        <a:pt x="1465" y="339"/>
                      </a:lnTo>
                      <a:lnTo>
                        <a:pt x="1476" y="345"/>
                      </a:lnTo>
                      <a:lnTo>
                        <a:pt x="1493" y="351"/>
                      </a:lnTo>
                      <a:lnTo>
                        <a:pt x="1504" y="358"/>
                      </a:lnTo>
                      <a:lnTo>
                        <a:pt x="1516" y="358"/>
                      </a:lnTo>
                      <a:lnTo>
                        <a:pt x="1527" y="364"/>
                      </a:lnTo>
                      <a:lnTo>
                        <a:pt x="1538" y="370"/>
                      </a:lnTo>
                      <a:lnTo>
                        <a:pt x="1555" y="376"/>
                      </a:lnTo>
                      <a:lnTo>
                        <a:pt x="1566" y="383"/>
                      </a:lnTo>
                      <a:lnTo>
                        <a:pt x="1572" y="383"/>
                      </a:lnTo>
                      <a:lnTo>
                        <a:pt x="1578" y="389"/>
                      </a:lnTo>
                      <a:lnTo>
                        <a:pt x="1589" y="389"/>
                      </a:lnTo>
                      <a:lnTo>
                        <a:pt x="1595" y="389"/>
                      </a:lnTo>
                      <a:lnTo>
                        <a:pt x="1600" y="389"/>
                      </a:lnTo>
                      <a:lnTo>
                        <a:pt x="1606" y="389"/>
                      </a:lnTo>
                      <a:lnTo>
                        <a:pt x="1617" y="389"/>
                      </a:lnTo>
                      <a:lnTo>
                        <a:pt x="1623" y="395"/>
                      </a:lnTo>
                      <a:lnTo>
                        <a:pt x="1634" y="401"/>
                      </a:lnTo>
                      <a:lnTo>
                        <a:pt x="1645" y="401"/>
                      </a:lnTo>
                      <a:lnTo>
                        <a:pt x="1662" y="408"/>
                      </a:lnTo>
                      <a:lnTo>
                        <a:pt x="1674" y="414"/>
                      </a:lnTo>
                      <a:lnTo>
                        <a:pt x="1685" y="420"/>
                      </a:lnTo>
                      <a:lnTo>
                        <a:pt x="1696" y="427"/>
                      </a:lnTo>
                      <a:lnTo>
                        <a:pt x="1713" y="433"/>
                      </a:lnTo>
                      <a:lnTo>
                        <a:pt x="1724" y="439"/>
                      </a:lnTo>
                      <a:lnTo>
                        <a:pt x="1736" y="445"/>
                      </a:lnTo>
                      <a:lnTo>
                        <a:pt x="1747" y="452"/>
                      </a:lnTo>
                      <a:lnTo>
                        <a:pt x="1758" y="458"/>
                      </a:lnTo>
                      <a:lnTo>
                        <a:pt x="1775" y="464"/>
                      </a:lnTo>
                      <a:lnTo>
                        <a:pt x="1786" y="470"/>
                      </a:lnTo>
                      <a:lnTo>
                        <a:pt x="1798" y="477"/>
                      </a:lnTo>
                      <a:lnTo>
                        <a:pt x="1809" y="483"/>
                      </a:lnTo>
                      <a:lnTo>
                        <a:pt x="1820" y="489"/>
                      </a:lnTo>
                      <a:lnTo>
                        <a:pt x="1837" y="495"/>
                      </a:lnTo>
                      <a:lnTo>
                        <a:pt x="1848" y="502"/>
                      </a:lnTo>
                      <a:lnTo>
                        <a:pt x="1860" y="502"/>
                      </a:lnTo>
                      <a:lnTo>
                        <a:pt x="1871" y="508"/>
                      </a:lnTo>
                      <a:lnTo>
                        <a:pt x="1888" y="514"/>
                      </a:lnTo>
                      <a:lnTo>
                        <a:pt x="1899" y="521"/>
                      </a:lnTo>
                      <a:lnTo>
                        <a:pt x="1910" y="527"/>
                      </a:lnTo>
                      <a:lnTo>
                        <a:pt x="1922" y="533"/>
                      </a:lnTo>
                      <a:lnTo>
                        <a:pt x="1933" y="539"/>
                      </a:lnTo>
                      <a:lnTo>
                        <a:pt x="1950" y="546"/>
                      </a:lnTo>
                      <a:lnTo>
                        <a:pt x="1961" y="552"/>
                      </a:lnTo>
                      <a:lnTo>
                        <a:pt x="1972" y="558"/>
                      </a:lnTo>
                      <a:lnTo>
                        <a:pt x="1984" y="564"/>
                      </a:lnTo>
                      <a:lnTo>
                        <a:pt x="2000" y="571"/>
                      </a:lnTo>
                      <a:lnTo>
                        <a:pt x="2012" y="577"/>
                      </a:lnTo>
                      <a:lnTo>
                        <a:pt x="2023" y="583"/>
                      </a:lnTo>
                      <a:lnTo>
                        <a:pt x="2006" y="640"/>
                      </a:lnTo>
                      <a:lnTo>
                        <a:pt x="1984" y="696"/>
                      </a:lnTo>
                      <a:lnTo>
                        <a:pt x="1967" y="746"/>
                      </a:lnTo>
                      <a:lnTo>
                        <a:pt x="1944" y="803"/>
                      </a:lnTo>
                      <a:lnTo>
                        <a:pt x="1927" y="859"/>
                      </a:lnTo>
                      <a:lnTo>
                        <a:pt x="1905" y="916"/>
                      </a:lnTo>
                      <a:lnTo>
                        <a:pt x="1888" y="972"/>
                      </a:lnTo>
                      <a:lnTo>
                        <a:pt x="1865" y="1022"/>
                      </a:lnTo>
                      <a:lnTo>
                        <a:pt x="1848" y="1079"/>
                      </a:lnTo>
                      <a:lnTo>
                        <a:pt x="1826" y="1135"/>
                      </a:lnTo>
                      <a:lnTo>
                        <a:pt x="1809" y="1192"/>
                      </a:lnTo>
                      <a:lnTo>
                        <a:pt x="1786" y="1242"/>
                      </a:lnTo>
                      <a:lnTo>
                        <a:pt x="1769" y="1298"/>
                      </a:lnTo>
                      <a:lnTo>
                        <a:pt x="1747" y="1355"/>
                      </a:lnTo>
                      <a:lnTo>
                        <a:pt x="1730" y="1411"/>
                      </a:lnTo>
                      <a:lnTo>
                        <a:pt x="1707" y="1467"/>
                      </a:lnTo>
                      <a:lnTo>
                        <a:pt x="1702" y="1455"/>
                      </a:lnTo>
                      <a:lnTo>
                        <a:pt x="1696" y="1442"/>
                      </a:lnTo>
                      <a:lnTo>
                        <a:pt x="1690" y="1430"/>
                      </a:lnTo>
                      <a:lnTo>
                        <a:pt x="1679" y="1417"/>
                      </a:lnTo>
                      <a:lnTo>
                        <a:pt x="1674" y="1405"/>
                      </a:lnTo>
                      <a:lnTo>
                        <a:pt x="1668" y="1392"/>
                      </a:lnTo>
                      <a:lnTo>
                        <a:pt x="1662" y="1380"/>
                      </a:lnTo>
                      <a:lnTo>
                        <a:pt x="1657" y="1367"/>
                      </a:lnTo>
                      <a:lnTo>
                        <a:pt x="1645" y="1367"/>
                      </a:lnTo>
                      <a:lnTo>
                        <a:pt x="1640" y="1367"/>
                      </a:lnTo>
                      <a:lnTo>
                        <a:pt x="1628" y="1367"/>
                      </a:lnTo>
                      <a:lnTo>
                        <a:pt x="1617" y="1367"/>
                      </a:lnTo>
                      <a:lnTo>
                        <a:pt x="1612" y="1367"/>
                      </a:lnTo>
                      <a:lnTo>
                        <a:pt x="1600" y="1367"/>
                      </a:lnTo>
                      <a:lnTo>
                        <a:pt x="1595" y="1367"/>
                      </a:lnTo>
                      <a:lnTo>
                        <a:pt x="1583" y="1367"/>
                      </a:lnTo>
                      <a:lnTo>
                        <a:pt x="1578" y="1367"/>
                      </a:lnTo>
                      <a:lnTo>
                        <a:pt x="1566" y="1373"/>
                      </a:lnTo>
                      <a:lnTo>
                        <a:pt x="1561" y="1373"/>
                      </a:lnTo>
                      <a:lnTo>
                        <a:pt x="1550" y="1367"/>
                      </a:lnTo>
                      <a:lnTo>
                        <a:pt x="1544" y="1367"/>
                      </a:lnTo>
                      <a:lnTo>
                        <a:pt x="1533" y="1367"/>
                      </a:lnTo>
                      <a:lnTo>
                        <a:pt x="1527" y="1367"/>
                      </a:lnTo>
                      <a:lnTo>
                        <a:pt x="1516" y="1367"/>
                      </a:lnTo>
                      <a:lnTo>
                        <a:pt x="1504" y="1367"/>
                      </a:lnTo>
                      <a:lnTo>
                        <a:pt x="1493" y="1367"/>
                      </a:lnTo>
                      <a:lnTo>
                        <a:pt x="1476" y="1361"/>
                      </a:lnTo>
                      <a:lnTo>
                        <a:pt x="1465" y="1361"/>
                      </a:lnTo>
                      <a:lnTo>
                        <a:pt x="1454" y="1361"/>
                      </a:lnTo>
                      <a:lnTo>
                        <a:pt x="1437" y="1355"/>
                      </a:lnTo>
                      <a:lnTo>
                        <a:pt x="1426" y="1355"/>
                      </a:lnTo>
                      <a:lnTo>
                        <a:pt x="1409" y="1355"/>
                      </a:lnTo>
                      <a:lnTo>
                        <a:pt x="1397" y="1348"/>
                      </a:lnTo>
                      <a:lnTo>
                        <a:pt x="1386" y="1348"/>
                      </a:lnTo>
                      <a:lnTo>
                        <a:pt x="1369" y="1342"/>
                      </a:lnTo>
                      <a:lnTo>
                        <a:pt x="1358" y="1342"/>
                      </a:lnTo>
                      <a:lnTo>
                        <a:pt x="1347" y="1342"/>
                      </a:lnTo>
                      <a:lnTo>
                        <a:pt x="1330" y="1336"/>
                      </a:lnTo>
                      <a:lnTo>
                        <a:pt x="1318" y="1330"/>
                      </a:lnTo>
                      <a:lnTo>
                        <a:pt x="1307" y="1330"/>
                      </a:lnTo>
                      <a:lnTo>
                        <a:pt x="1296" y="1323"/>
                      </a:lnTo>
                      <a:lnTo>
                        <a:pt x="1279" y="1317"/>
                      </a:lnTo>
                      <a:lnTo>
                        <a:pt x="1268" y="1311"/>
                      </a:lnTo>
                      <a:lnTo>
                        <a:pt x="1257" y="1311"/>
                      </a:lnTo>
                      <a:lnTo>
                        <a:pt x="1240" y="1304"/>
                      </a:lnTo>
                      <a:lnTo>
                        <a:pt x="1228" y="1298"/>
                      </a:lnTo>
                      <a:lnTo>
                        <a:pt x="1217" y="1292"/>
                      </a:lnTo>
                      <a:lnTo>
                        <a:pt x="1206" y="1286"/>
                      </a:lnTo>
                      <a:lnTo>
                        <a:pt x="1195" y="1279"/>
                      </a:lnTo>
                      <a:lnTo>
                        <a:pt x="1178" y="1273"/>
                      </a:lnTo>
                      <a:lnTo>
                        <a:pt x="1166" y="1267"/>
                      </a:lnTo>
                      <a:lnTo>
                        <a:pt x="1155" y="1261"/>
                      </a:lnTo>
                      <a:lnTo>
                        <a:pt x="1144" y="1254"/>
                      </a:lnTo>
                      <a:lnTo>
                        <a:pt x="1133" y="1248"/>
                      </a:lnTo>
                      <a:lnTo>
                        <a:pt x="1121" y="1242"/>
                      </a:lnTo>
                      <a:lnTo>
                        <a:pt x="1110" y="1235"/>
                      </a:lnTo>
                      <a:lnTo>
                        <a:pt x="1099" y="1229"/>
                      </a:lnTo>
                      <a:lnTo>
                        <a:pt x="1093" y="1223"/>
                      </a:lnTo>
                      <a:lnTo>
                        <a:pt x="1087" y="1217"/>
                      </a:lnTo>
                      <a:lnTo>
                        <a:pt x="1076" y="1210"/>
                      </a:lnTo>
                      <a:lnTo>
                        <a:pt x="1071" y="1204"/>
                      </a:lnTo>
                      <a:lnTo>
                        <a:pt x="1065" y="1198"/>
                      </a:lnTo>
                      <a:lnTo>
                        <a:pt x="1059" y="1192"/>
                      </a:lnTo>
                      <a:lnTo>
                        <a:pt x="1048" y="1179"/>
                      </a:lnTo>
                      <a:lnTo>
                        <a:pt x="1037" y="1179"/>
                      </a:lnTo>
                      <a:lnTo>
                        <a:pt x="1025" y="1173"/>
                      </a:lnTo>
                      <a:lnTo>
                        <a:pt x="1009" y="1173"/>
                      </a:lnTo>
                      <a:lnTo>
                        <a:pt x="997" y="1166"/>
                      </a:lnTo>
                      <a:lnTo>
                        <a:pt x="980" y="1166"/>
                      </a:lnTo>
                      <a:lnTo>
                        <a:pt x="969" y="1160"/>
                      </a:lnTo>
                      <a:lnTo>
                        <a:pt x="952" y="1160"/>
                      </a:lnTo>
                      <a:lnTo>
                        <a:pt x="941" y="1154"/>
                      </a:lnTo>
                      <a:lnTo>
                        <a:pt x="930" y="1148"/>
                      </a:lnTo>
                      <a:lnTo>
                        <a:pt x="913" y="1148"/>
                      </a:lnTo>
                      <a:lnTo>
                        <a:pt x="901" y="1141"/>
                      </a:lnTo>
                      <a:lnTo>
                        <a:pt x="885" y="1141"/>
                      </a:lnTo>
                      <a:lnTo>
                        <a:pt x="873" y="1135"/>
                      </a:lnTo>
                      <a:lnTo>
                        <a:pt x="856" y="1135"/>
                      </a:lnTo>
                      <a:lnTo>
                        <a:pt x="845" y="1129"/>
                      </a:lnTo>
                      <a:lnTo>
                        <a:pt x="834" y="1129"/>
                      </a:lnTo>
                      <a:lnTo>
                        <a:pt x="823" y="1135"/>
                      </a:lnTo>
                      <a:lnTo>
                        <a:pt x="811" y="1141"/>
                      </a:lnTo>
                      <a:lnTo>
                        <a:pt x="800" y="1148"/>
                      </a:lnTo>
                      <a:lnTo>
                        <a:pt x="794" y="1154"/>
                      </a:lnTo>
                      <a:lnTo>
                        <a:pt x="783" y="1160"/>
                      </a:lnTo>
                      <a:lnTo>
                        <a:pt x="772" y="1166"/>
                      </a:lnTo>
                      <a:lnTo>
                        <a:pt x="761" y="1173"/>
                      </a:lnTo>
                      <a:lnTo>
                        <a:pt x="749" y="1173"/>
                      </a:lnTo>
                      <a:lnTo>
                        <a:pt x="744" y="1179"/>
                      </a:lnTo>
                      <a:lnTo>
                        <a:pt x="732" y="1179"/>
                      </a:lnTo>
                      <a:lnTo>
                        <a:pt x="727" y="1185"/>
                      </a:lnTo>
                      <a:lnTo>
                        <a:pt x="715" y="1185"/>
                      </a:lnTo>
                      <a:lnTo>
                        <a:pt x="710" y="1185"/>
                      </a:lnTo>
                      <a:lnTo>
                        <a:pt x="699" y="1192"/>
                      </a:lnTo>
                      <a:lnTo>
                        <a:pt x="693" y="1192"/>
                      </a:lnTo>
                      <a:lnTo>
                        <a:pt x="682" y="1192"/>
                      </a:lnTo>
                      <a:lnTo>
                        <a:pt x="676" y="1192"/>
                      </a:lnTo>
                      <a:lnTo>
                        <a:pt x="665" y="1198"/>
                      </a:lnTo>
                      <a:lnTo>
                        <a:pt x="659" y="1198"/>
                      </a:lnTo>
                      <a:lnTo>
                        <a:pt x="648" y="1198"/>
                      </a:lnTo>
                      <a:lnTo>
                        <a:pt x="642" y="1198"/>
                      </a:lnTo>
                      <a:lnTo>
                        <a:pt x="637" y="1198"/>
                      </a:lnTo>
                      <a:lnTo>
                        <a:pt x="625" y="1198"/>
                      </a:lnTo>
                      <a:lnTo>
                        <a:pt x="620" y="1198"/>
                      </a:lnTo>
                      <a:lnTo>
                        <a:pt x="608" y="1198"/>
                      </a:lnTo>
                      <a:lnTo>
                        <a:pt x="597" y="1192"/>
                      </a:lnTo>
                      <a:lnTo>
                        <a:pt x="586" y="1192"/>
                      </a:lnTo>
                      <a:lnTo>
                        <a:pt x="575" y="1185"/>
                      </a:lnTo>
                      <a:lnTo>
                        <a:pt x="569" y="1179"/>
                      </a:lnTo>
                      <a:lnTo>
                        <a:pt x="558" y="1173"/>
                      </a:lnTo>
                      <a:lnTo>
                        <a:pt x="546" y="1173"/>
                      </a:lnTo>
                      <a:lnTo>
                        <a:pt x="541" y="1160"/>
                      </a:lnTo>
                      <a:lnTo>
                        <a:pt x="529" y="1154"/>
                      </a:lnTo>
                      <a:lnTo>
                        <a:pt x="524" y="1148"/>
                      </a:lnTo>
                      <a:lnTo>
                        <a:pt x="518" y="1141"/>
                      </a:lnTo>
                      <a:lnTo>
                        <a:pt x="507" y="1129"/>
                      </a:lnTo>
                      <a:lnTo>
                        <a:pt x="501" y="1123"/>
                      </a:lnTo>
                      <a:lnTo>
                        <a:pt x="496" y="1110"/>
                      </a:lnTo>
                      <a:lnTo>
                        <a:pt x="490" y="1104"/>
                      </a:lnTo>
                      <a:lnTo>
                        <a:pt x="490" y="1091"/>
                      </a:lnTo>
                      <a:lnTo>
                        <a:pt x="484" y="1079"/>
                      </a:lnTo>
                      <a:lnTo>
                        <a:pt x="484" y="1060"/>
                      </a:lnTo>
                      <a:lnTo>
                        <a:pt x="484" y="1041"/>
                      </a:lnTo>
                      <a:lnTo>
                        <a:pt x="490" y="1029"/>
                      </a:lnTo>
                      <a:lnTo>
                        <a:pt x="484" y="1022"/>
                      </a:lnTo>
                      <a:lnTo>
                        <a:pt x="473" y="1022"/>
                      </a:lnTo>
                      <a:lnTo>
                        <a:pt x="467" y="1016"/>
                      </a:lnTo>
                      <a:lnTo>
                        <a:pt x="462" y="1010"/>
                      </a:lnTo>
                      <a:lnTo>
                        <a:pt x="456" y="1010"/>
                      </a:lnTo>
                      <a:lnTo>
                        <a:pt x="451" y="1003"/>
                      </a:lnTo>
                      <a:lnTo>
                        <a:pt x="445" y="1003"/>
                      </a:lnTo>
                      <a:lnTo>
                        <a:pt x="439" y="997"/>
                      </a:lnTo>
                      <a:lnTo>
                        <a:pt x="434" y="991"/>
                      </a:lnTo>
                      <a:lnTo>
                        <a:pt x="428" y="991"/>
                      </a:lnTo>
                      <a:lnTo>
                        <a:pt x="422" y="985"/>
                      </a:lnTo>
                      <a:lnTo>
                        <a:pt x="417" y="985"/>
                      </a:lnTo>
                      <a:lnTo>
                        <a:pt x="405" y="978"/>
                      </a:lnTo>
                      <a:lnTo>
                        <a:pt x="400" y="972"/>
                      </a:lnTo>
                      <a:lnTo>
                        <a:pt x="394" y="972"/>
                      </a:lnTo>
                      <a:lnTo>
                        <a:pt x="389" y="966"/>
                      </a:lnTo>
                      <a:lnTo>
                        <a:pt x="389" y="960"/>
                      </a:lnTo>
                      <a:lnTo>
                        <a:pt x="383" y="953"/>
                      </a:lnTo>
                      <a:lnTo>
                        <a:pt x="377" y="953"/>
                      </a:lnTo>
                      <a:lnTo>
                        <a:pt x="377" y="947"/>
                      </a:lnTo>
                      <a:lnTo>
                        <a:pt x="372" y="941"/>
                      </a:lnTo>
                      <a:lnTo>
                        <a:pt x="372" y="934"/>
                      </a:lnTo>
                      <a:lnTo>
                        <a:pt x="366" y="928"/>
                      </a:lnTo>
                      <a:lnTo>
                        <a:pt x="366" y="922"/>
                      </a:lnTo>
                      <a:lnTo>
                        <a:pt x="360" y="922"/>
                      </a:lnTo>
                      <a:lnTo>
                        <a:pt x="355" y="922"/>
                      </a:lnTo>
                      <a:lnTo>
                        <a:pt x="349" y="922"/>
                      </a:lnTo>
                      <a:lnTo>
                        <a:pt x="343" y="928"/>
                      </a:lnTo>
                      <a:lnTo>
                        <a:pt x="338" y="928"/>
                      </a:lnTo>
                      <a:lnTo>
                        <a:pt x="332" y="928"/>
                      </a:lnTo>
                      <a:lnTo>
                        <a:pt x="321" y="934"/>
                      </a:lnTo>
                      <a:lnTo>
                        <a:pt x="315" y="934"/>
                      </a:lnTo>
                      <a:lnTo>
                        <a:pt x="310" y="934"/>
                      </a:lnTo>
                      <a:lnTo>
                        <a:pt x="304" y="934"/>
                      </a:lnTo>
                      <a:lnTo>
                        <a:pt x="298" y="941"/>
                      </a:lnTo>
                      <a:lnTo>
                        <a:pt x="293" y="941"/>
                      </a:lnTo>
                      <a:lnTo>
                        <a:pt x="287" y="941"/>
                      </a:lnTo>
                      <a:lnTo>
                        <a:pt x="281" y="941"/>
                      </a:lnTo>
                      <a:lnTo>
                        <a:pt x="276" y="941"/>
                      </a:lnTo>
                      <a:lnTo>
                        <a:pt x="270" y="941"/>
                      </a:lnTo>
                      <a:lnTo>
                        <a:pt x="259" y="934"/>
                      </a:lnTo>
                      <a:lnTo>
                        <a:pt x="248" y="934"/>
                      </a:lnTo>
                      <a:lnTo>
                        <a:pt x="236" y="928"/>
                      </a:lnTo>
                      <a:lnTo>
                        <a:pt x="225" y="922"/>
                      </a:lnTo>
                      <a:lnTo>
                        <a:pt x="214" y="916"/>
                      </a:lnTo>
                      <a:lnTo>
                        <a:pt x="208" y="909"/>
                      </a:lnTo>
                      <a:lnTo>
                        <a:pt x="197" y="897"/>
                      </a:lnTo>
                      <a:lnTo>
                        <a:pt x="191" y="891"/>
                      </a:lnTo>
                      <a:lnTo>
                        <a:pt x="186" y="878"/>
                      </a:lnTo>
                      <a:lnTo>
                        <a:pt x="180" y="865"/>
                      </a:lnTo>
                      <a:lnTo>
                        <a:pt x="174" y="853"/>
                      </a:lnTo>
                      <a:lnTo>
                        <a:pt x="169" y="834"/>
                      </a:lnTo>
                      <a:lnTo>
                        <a:pt x="169" y="822"/>
                      </a:lnTo>
                      <a:lnTo>
                        <a:pt x="163" y="809"/>
                      </a:lnTo>
                      <a:lnTo>
                        <a:pt x="163" y="790"/>
                      </a:lnTo>
                      <a:lnTo>
                        <a:pt x="163" y="778"/>
                      </a:lnTo>
                      <a:lnTo>
                        <a:pt x="157" y="746"/>
                      </a:lnTo>
                      <a:lnTo>
                        <a:pt x="157" y="715"/>
                      </a:lnTo>
                      <a:lnTo>
                        <a:pt x="163" y="690"/>
                      </a:lnTo>
                      <a:lnTo>
                        <a:pt x="163" y="659"/>
                      </a:lnTo>
                      <a:lnTo>
                        <a:pt x="163" y="652"/>
                      </a:lnTo>
                      <a:lnTo>
                        <a:pt x="163" y="646"/>
                      </a:lnTo>
                      <a:lnTo>
                        <a:pt x="169" y="640"/>
                      </a:lnTo>
                      <a:lnTo>
                        <a:pt x="169" y="633"/>
                      </a:lnTo>
                      <a:lnTo>
                        <a:pt x="174" y="627"/>
                      </a:lnTo>
                      <a:lnTo>
                        <a:pt x="174" y="627"/>
                      </a:lnTo>
                      <a:lnTo>
                        <a:pt x="180" y="627"/>
                      </a:lnTo>
                      <a:lnTo>
                        <a:pt x="186" y="627"/>
                      </a:lnTo>
                      <a:lnTo>
                        <a:pt x="191" y="627"/>
                      </a:lnTo>
                      <a:lnTo>
                        <a:pt x="197" y="627"/>
                      </a:lnTo>
                      <a:lnTo>
                        <a:pt x="208" y="633"/>
                      </a:lnTo>
                      <a:lnTo>
                        <a:pt x="214" y="633"/>
                      </a:lnTo>
                      <a:lnTo>
                        <a:pt x="225" y="640"/>
                      </a:lnTo>
                      <a:lnTo>
                        <a:pt x="231" y="640"/>
                      </a:lnTo>
                      <a:lnTo>
                        <a:pt x="242" y="646"/>
                      </a:lnTo>
                      <a:lnTo>
                        <a:pt x="253" y="652"/>
                      </a:lnTo>
                      <a:lnTo>
                        <a:pt x="248" y="646"/>
                      </a:lnTo>
                      <a:lnTo>
                        <a:pt x="236" y="646"/>
                      </a:lnTo>
                      <a:lnTo>
                        <a:pt x="231" y="640"/>
                      </a:lnTo>
                      <a:lnTo>
                        <a:pt x="219" y="640"/>
                      </a:lnTo>
                      <a:lnTo>
                        <a:pt x="214" y="633"/>
                      </a:lnTo>
                      <a:lnTo>
                        <a:pt x="203" y="627"/>
                      </a:lnTo>
                      <a:lnTo>
                        <a:pt x="197" y="627"/>
                      </a:lnTo>
                      <a:lnTo>
                        <a:pt x="191" y="621"/>
                      </a:lnTo>
                      <a:lnTo>
                        <a:pt x="180" y="621"/>
                      </a:lnTo>
                      <a:lnTo>
                        <a:pt x="174" y="615"/>
                      </a:lnTo>
                      <a:lnTo>
                        <a:pt x="163" y="608"/>
                      </a:lnTo>
                      <a:lnTo>
                        <a:pt x="157" y="602"/>
                      </a:lnTo>
                      <a:lnTo>
                        <a:pt x="152" y="602"/>
                      </a:lnTo>
                      <a:lnTo>
                        <a:pt x="141" y="596"/>
                      </a:lnTo>
                      <a:lnTo>
                        <a:pt x="135" y="590"/>
                      </a:lnTo>
                      <a:lnTo>
                        <a:pt x="129" y="583"/>
                      </a:lnTo>
                      <a:lnTo>
                        <a:pt x="124" y="577"/>
                      </a:lnTo>
                      <a:lnTo>
                        <a:pt x="112" y="571"/>
                      </a:lnTo>
                      <a:lnTo>
                        <a:pt x="107" y="564"/>
                      </a:lnTo>
                      <a:lnTo>
                        <a:pt x="101" y="558"/>
                      </a:lnTo>
                      <a:lnTo>
                        <a:pt x="95" y="552"/>
                      </a:lnTo>
                      <a:lnTo>
                        <a:pt x="90" y="546"/>
                      </a:lnTo>
                      <a:lnTo>
                        <a:pt x="84" y="539"/>
                      </a:lnTo>
                      <a:lnTo>
                        <a:pt x="79" y="527"/>
                      </a:lnTo>
                      <a:lnTo>
                        <a:pt x="73" y="521"/>
                      </a:lnTo>
                      <a:lnTo>
                        <a:pt x="67" y="514"/>
                      </a:lnTo>
                      <a:lnTo>
                        <a:pt x="62" y="508"/>
                      </a:lnTo>
                      <a:lnTo>
                        <a:pt x="56" y="495"/>
                      </a:lnTo>
                      <a:lnTo>
                        <a:pt x="50" y="489"/>
                      </a:lnTo>
                      <a:lnTo>
                        <a:pt x="45" y="483"/>
                      </a:lnTo>
                      <a:lnTo>
                        <a:pt x="39" y="470"/>
                      </a:lnTo>
                      <a:lnTo>
                        <a:pt x="33" y="464"/>
                      </a:lnTo>
                      <a:lnTo>
                        <a:pt x="28" y="452"/>
                      </a:lnTo>
                      <a:lnTo>
                        <a:pt x="22" y="433"/>
                      </a:lnTo>
                      <a:lnTo>
                        <a:pt x="17" y="420"/>
                      </a:lnTo>
                      <a:lnTo>
                        <a:pt x="11" y="401"/>
                      </a:lnTo>
                      <a:lnTo>
                        <a:pt x="5" y="389"/>
                      </a:lnTo>
                      <a:lnTo>
                        <a:pt x="5" y="370"/>
                      </a:lnTo>
                      <a:lnTo>
                        <a:pt x="0" y="351"/>
                      </a:lnTo>
                      <a:lnTo>
                        <a:pt x="5" y="339"/>
                      </a:lnTo>
                      <a:lnTo>
                        <a:pt x="5" y="326"/>
                      </a:lnTo>
                      <a:lnTo>
                        <a:pt x="11" y="314"/>
                      </a:lnTo>
                      <a:lnTo>
                        <a:pt x="17" y="301"/>
                      </a:lnTo>
                      <a:lnTo>
                        <a:pt x="28" y="295"/>
                      </a:lnTo>
                      <a:lnTo>
                        <a:pt x="33" y="282"/>
                      </a:lnTo>
                      <a:lnTo>
                        <a:pt x="45" y="276"/>
                      </a:lnTo>
                      <a:lnTo>
                        <a:pt x="56" y="263"/>
                      </a:lnTo>
                      <a:lnTo>
                        <a:pt x="62" y="257"/>
                      </a:lnTo>
                      <a:lnTo>
                        <a:pt x="67" y="251"/>
                      </a:lnTo>
                      <a:lnTo>
                        <a:pt x="73" y="245"/>
                      </a:lnTo>
                      <a:lnTo>
                        <a:pt x="79" y="245"/>
                      </a:lnTo>
                      <a:lnTo>
                        <a:pt x="84" y="238"/>
                      </a:lnTo>
                      <a:lnTo>
                        <a:pt x="95" y="238"/>
                      </a:lnTo>
                      <a:lnTo>
                        <a:pt x="101" y="232"/>
                      </a:lnTo>
                      <a:lnTo>
                        <a:pt x="107" y="232"/>
                      </a:lnTo>
                      <a:lnTo>
                        <a:pt x="112" y="22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rot="796800">
                  <a:off x="7197840" y="5723280"/>
                  <a:ext cx="1668600" cy="772920"/>
                </a:xfrm>
                <a:custGeom>
                  <a:avLst/>
                  <a:gdLst/>
                  <a:ahLst/>
                  <a:rect l="l" t="t" r="r" b="b"/>
                  <a:pathLst>
                    <a:path w="1646" h="1116">
                      <a:moveTo>
                        <a:pt x="1646" y="1116"/>
                      </a:moveTo>
                      <a:lnTo>
                        <a:pt x="1646" y="1104"/>
                      </a:lnTo>
                      <a:lnTo>
                        <a:pt x="1640" y="1091"/>
                      </a:lnTo>
                      <a:lnTo>
                        <a:pt x="1640" y="1079"/>
                      </a:lnTo>
                      <a:lnTo>
                        <a:pt x="1635" y="1066"/>
                      </a:lnTo>
                      <a:lnTo>
                        <a:pt x="1635" y="1054"/>
                      </a:lnTo>
                      <a:lnTo>
                        <a:pt x="1629" y="1041"/>
                      </a:lnTo>
                      <a:lnTo>
                        <a:pt x="1623" y="1029"/>
                      </a:lnTo>
                      <a:lnTo>
                        <a:pt x="1623" y="1022"/>
                      </a:lnTo>
                      <a:lnTo>
                        <a:pt x="1618" y="997"/>
                      </a:lnTo>
                      <a:lnTo>
                        <a:pt x="1612" y="972"/>
                      </a:lnTo>
                      <a:lnTo>
                        <a:pt x="1607" y="953"/>
                      </a:lnTo>
                      <a:lnTo>
                        <a:pt x="1601" y="928"/>
                      </a:lnTo>
                      <a:lnTo>
                        <a:pt x="1595" y="909"/>
                      </a:lnTo>
                      <a:lnTo>
                        <a:pt x="1590" y="884"/>
                      </a:lnTo>
                      <a:lnTo>
                        <a:pt x="1584" y="866"/>
                      </a:lnTo>
                      <a:lnTo>
                        <a:pt x="1578" y="840"/>
                      </a:lnTo>
                      <a:lnTo>
                        <a:pt x="1578" y="828"/>
                      </a:lnTo>
                      <a:lnTo>
                        <a:pt x="1573" y="815"/>
                      </a:lnTo>
                      <a:lnTo>
                        <a:pt x="1567" y="803"/>
                      </a:lnTo>
                      <a:lnTo>
                        <a:pt x="1567" y="790"/>
                      </a:lnTo>
                      <a:lnTo>
                        <a:pt x="1561" y="784"/>
                      </a:lnTo>
                      <a:lnTo>
                        <a:pt x="1561" y="772"/>
                      </a:lnTo>
                      <a:lnTo>
                        <a:pt x="1556" y="759"/>
                      </a:lnTo>
                      <a:lnTo>
                        <a:pt x="1556" y="746"/>
                      </a:lnTo>
                      <a:lnTo>
                        <a:pt x="1550" y="734"/>
                      </a:lnTo>
                      <a:lnTo>
                        <a:pt x="1550" y="728"/>
                      </a:lnTo>
                      <a:lnTo>
                        <a:pt x="1550" y="715"/>
                      </a:lnTo>
                      <a:lnTo>
                        <a:pt x="1545" y="703"/>
                      </a:lnTo>
                      <a:lnTo>
                        <a:pt x="1545" y="696"/>
                      </a:lnTo>
                      <a:lnTo>
                        <a:pt x="1545" y="684"/>
                      </a:lnTo>
                      <a:lnTo>
                        <a:pt x="1539" y="677"/>
                      </a:lnTo>
                      <a:lnTo>
                        <a:pt x="1533" y="671"/>
                      </a:lnTo>
                      <a:lnTo>
                        <a:pt x="1533" y="665"/>
                      </a:lnTo>
                      <a:lnTo>
                        <a:pt x="1528" y="665"/>
                      </a:lnTo>
                      <a:lnTo>
                        <a:pt x="1528" y="665"/>
                      </a:lnTo>
                      <a:lnTo>
                        <a:pt x="1522" y="671"/>
                      </a:lnTo>
                      <a:lnTo>
                        <a:pt x="1516" y="671"/>
                      </a:lnTo>
                      <a:lnTo>
                        <a:pt x="1516" y="671"/>
                      </a:lnTo>
                      <a:lnTo>
                        <a:pt x="1511" y="677"/>
                      </a:lnTo>
                      <a:lnTo>
                        <a:pt x="1505" y="677"/>
                      </a:lnTo>
                      <a:lnTo>
                        <a:pt x="1505" y="671"/>
                      </a:lnTo>
                      <a:lnTo>
                        <a:pt x="1499" y="659"/>
                      </a:lnTo>
                      <a:lnTo>
                        <a:pt x="1499" y="652"/>
                      </a:lnTo>
                      <a:lnTo>
                        <a:pt x="1494" y="652"/>
                      </a:lnTo>
                      <a:lnTo>
                        <a:pt x="1483" y="652"/>
                      </a:lnTo>
                      <a:lnTo>
                        <a:pt x="1477" y="659"/>
                      </a:lnTo>
                      <a:lnTo>
                        <a:pt x="1471" y="665"/>
                      </a:lnTo>
                      <a:lnTo>
                        <a:pt x="1466" y="671"/>
                      </a:lnTo>
                      <a:lnTo>
                        <a:pt x="1460" y="677"/>
                      </a:lnTo>
                      <a:lnTo>
                        <a:pt x="1454" y="690"/>
                      </a:lnTo>
                      <a:lnTo>
                        <a:pt x="1443" y="696"/>
                      </a:lnTo>
                      <a:lnTo>
                        <a:pt x="1437" y="703"/>
                      </a:lnTo>
                      <a:lnTo>
                        <a:pt x="1432" y="703"/>
                      </a:lnTo>
                      <a:lnTo>
                        <a:pt x="1426" y="703"/>
                      </a:lnTo>
                      <a:lnTo>
                        <a:pt x="1421" y="703"/>
                      </a:lnTo>
                      <a:lnTo>
                        <a:pt x="1415" y="703"/>
                      </a:lnTo>
                      <a:lnTo>
                        <a:pt x="1409" y="703"/>
                      </a:lnTo>
                      <a:lnTo>
                        <a:pt x="1404" y="703"/>
                      </a:lnTo>
                      <a:lnTo>
                        <a:pt x="1398" y="703"/>
                      </a:lnTo>
                      <a:lnTo>
                        <a:pt x="1392" y="696"/>
                      </a:lnTo>
                      <a:lnTo>
                        <a:pt x="1387" y="696"/>
                      </a:lnTo>
                      <a:lnTo>
                        <a:pt x="1387" y="690"/>
                      </a:lnTo>
                      <a:lnTo>
                        <a:pt x="1387" y="684"/>
                      </a:lnTo>
                      <a:lnTo>
                        <a:pt x="1381" y="677"/>
                      </a:lnTo>
                      <a:lnTo>
                        <a:pt x="1381" y="671"/>
                      </a:lnTo>
                      <a:lnTo>
                        <a:pt x="1381" y="665"/>
                      </a:lnTo>
                      <a:lnTo>
                        <a:pt x="1375" y="659"/>
                      </a:lnTo>
                      <a:lnTo>
                        <a:pt x="1370" y="659"/>
                      </a:lnTo>
                      <a:lnTo>
                        <a:pt x="1364" y="659"/>
                      </a:lnTo>
                      <a:lnTo>
                        <a:pt x="1359" y="659"/>
                      </a:lnTo>
                      <a:lnTo>
                        <a:pt x="1353" y="659"/>
                      </a:lnTo>
                      <a:lnTo>
                        <a:pt x="1347" y="665"/>
                      </a:lnTo>
                      <a:lnTo>
                        <a:pt x="1342" y="665"/>
                      </a:lnTo>
                      <a:lnTo>
                        <a:pt x="1336" y="671"/>
                      </a:lnTo>
                      <a:lnTo>
                        <a:pt x="1330" y="677"/>
                      </a:lnTo>
                      <a:lnTo>
                        <a:pt x="1325" y="677"/>
                      </a:lnTo>
                      <a:lnTo>
                        <a:pt x="1319" y="684"/>
                      </a:lnTo>
                      <a:lnTo>
                        <a:pt x="1313" y="684"/>
                      </a:lnTo>
                      <a:lnTo>
                        <a:pt x="1308" y="690"/>
                      </a:lnTo>
                      <a:lnTo>
                        <a:pt x="1302" y="696"/>
                      </a:lnTo>
                      <a:lnTo>
                        <a:pt x="1297" y="696"/>
                      </a:lnTo>
                      <a:lnTo>
                        <a:pt x="1291" y="696"/>
                      </a:lnTo>
                      <a:lnTo>
                        <a:pt x="1285" y="703"/>
                      </a:lnTo>
                      <a:lnTo>
                        <a:pt x="1280" y="703"/>
                      </a:lnTo>
                      <a:lnTo>
                        <a:pt x="1274" y="703"/>
                      </a:lnTo>
                      <a:lnTo>
                        <a:pt x="1263" y="703"/>
                      </a:lnTo>
                      <a:lnTo>
                        <a:pt x="1257" y="703"/>
                      </a:lnTo>
                      <a:lnTo>
                        <a:pt x="1252" y="703"/>
                      </a:lnTo>
                      <a:lnTo>
                        <a:pt x="1246" y="703"/>
                      </a:lnTo>
                      <a:lnTo>
                        <a:pt x="1240" y="703"/>
                      </a:lnTo>
                      <a:lnTo>
                        <a:pt x="1235" y="703"/>
                      </a:lnTo>
                      <a:lnTo>
                        <a:pt x="1229" y="696"/>
                      </a:lnTo>
                      <a:lnTo>
                        <a:pt x="1223" y="696"/>
                      </a:lnTo>
                      <a:lnTo>
                        <a:pt x="1218" y="696"/>
                      </a:lnTo>
                      <a:lnTo>
                        <a:pt x="1212" y="696"/>
                      </a:lnTo>
                      <a:lnTo>
                        <a:pt x="1201" y="690"/>
                      </a:lnTo>
                      <a:lnTo>
                        <a:pt x="1195" y="690"/>
                      </a:lnTo>
                      <a:lnTo>
                        <a:pt x="1190" y="690"/>
                      </a:lnTo>
                      <a:lnTo>
                        <a:pt x="1184" y="684"/>
                      </a:lnTo>
                      <a:lnTo>
                        <a:pt x="1178" y="684"/>
                      </a:lnTo>
                      <a:lnTo>
                        <a:pt x="1184" y="684"/>
                      </a:lnTo>
                      <a:lnTo>
                        <a:pt x="1190" y="677"/>
                      </a:lnTo>
                      <a:lnTo>
                        <a:pt x="1190" y="671"/>
                      </a:lnTo>
                      <a:lnTo>
                        <a:pt x="1195" y="665"/>
                      </a:lnTo>
                      <a:lnTo>
                        <a:pt x="1201" y="665"/>
                      </a:lnTo>
                      <a:lnTo>
                        <a:pt x="1206" y="659"/>
                      </a:lnTo>
                      <a:lnTo>
                        <a:pt x="1212" y="652"/>
                      </a:lnTo>
                      <a:lnTo>
                        <a:pt x="1212" y="646"/>
                      </a:lnTo>
                      <a:lnTo>
                        <a:pt x="1218" y="640"/>
                      </a:lnTo>
                      <a:lnTo>
                        <a:pt x="1223" y="634"/>
                      </a:lnTo>
                      <a:lnTo>
                        <a:pt x="1223" y="621"/>
                      </a:lnTo>
                      <a:lnTo>
                        <a:pt x="1229" y="615"/>
                      </a:lnTo>
                      <a:lnTo>
                        <a:pt x="1229" y="608"/>
                      </a:lnTo>
                      <a:lnTo>
                        <a:pt x="1235" y="596"/>
                      </a:lnTo>
                      <a:lnTo>
                        <a:pt x="1235" y="590"/>
                      </a:lnTo>
                      <a:lnTo>
                        <a:pt x="1240" y="577"/>
                      </a:lnTo>
                      <a:lnTo>
                        <a:pt x="1235" y="583"/>
                      </a:lnTo>
                      <a:lnTo>
                        <a:pt x="1229" y="590"/>
                      </a:lnTo>
                      <a:lnTo>
                        <a:pt x="1223" y="596"/>
                      </a:lnTo>
                      <a:lnTo>
                        <a:pt x="1218" y="602"/>
                      </a:lnTo>
                      <a:lnTo>
                        <a:pt x="1212" y="608"/>
                      </a:lnTo>
                      <a:lnTo>
                        <a:pt x="1206" y="615"/>
                      </a:lnTo>
                      <a:lnTo>
                        <a:pt x="1201" y="621"/>
                      </a:lnTo>
                      <a:lnTo>
                        <a:pt x="1195" y="627"/>
                      </a:lnTo>
                      <a:lnTo>
                        <a:pt x="1190" y="627"/>
                      </a:lnTo>
                      <a:lnTo>
                        <a:pt x="1184" y="634"/>
                      </a:lnTo>
                      <a:lnTo>
                        <a:pt x="1173" y="640"/>
                      </a:lnTo>
                      <a:lnTo>
                        <a:pt x="1167" y="646"/>
                      </a:lnTo>
                      <a:lnTo>
                        <a:pt x="1161" y="646"/>
                      </a:lnTo>
                      <a:lnTo>
                        <a:pt x="1156" y="652"/>
                      </a:lnTo>
                      <a:lnTo>
                        <a:pt x="1150" y="659"/>
                      </a:lnTo>
                      <a:lnTo>
                        <a:pt x="1144" y="659"/>
                      </a:lnTo>
                      <a:lnTo>
                        <a:pt x="1139" y="665"/>
                      </a:lnTo>
                      <a:lnTo>
                        <a:pt x="1128" y="671"/>
                      </a:lnTo>
                      <a:lnTo>
                        <a:pt x="1122" y="671"/>
                      </a:lnTo>
                      <a:lnTo>
                        <a:pt x="1116" y="677"/>
                      </a:lnTo>
                      <a:lnTo>
                        <a:pt x="1111" y="677"/>
                      </a:lnTo>
                      <a:lnTo>
                        <a:pt x="1105" y="684"/>
                      </a:lnTo>
                      <a:lnTo>
                        <a:pt x="1094" y="684"/>
                      </a:lnTo>
                      <a:lnTo>
                        <a:pt x="1088" y="684"/>
                      </a:lnTo>
                      <a:lnTo>
                        <a:pt x="1082" y="690"/>
                      </a:lnTo>
                      <a:lnTo>
                        <a:pt x="1071" y="690"/>
                      </a:lnTo>
                      <a:lnTo>
                        <a:pt x="1066" y="690"/>
                      </a:lnTo>
                      <a:lnTo>
                        <a:pt x="1060" y="690"/>
                      </a:lnTo>
                      <a:lnTo>
                        <a:pt x="1049" y="690"/>
                      </a:lnTo>
                      <a:lnTo>
                        <a:pt x="1043" y="690"/>
                      </a:lnTo>
                      <a:lnTo>
                        <a:pt x="1037" y="690"/>
                      </a:lnTo>
                      <a:lnTo>
                        <a:pt x="1026" y="690"/>
                      </a:lnTo>
                      <a:lnTo>
                        <a:pt x="1020" y="690"/>
                      </a:lnTo>
                      <a:lnTo>
                        <a:pt x="1009" y="690"/>
                      </a:lnTo>
                      <a:lnTo>
                        <a:pt x="1004" y="690"/>
                      </a:lnTo>
                      <a:lnTo>
                        <a:pt x="998" y="690"/>
                      </a:lnTo>
                      <a:lnTo>
                        <a:pt x="987" y="690"/>
                      </a:lnTo>
                      <a:lnTo>
                        <a:pt x="981" y="684"/>
                      </a:lnTo>
                      <a:lnTo>
                        <a:pt x="970" y="684"/>
                      </a:lnTo>
                      <a:lnTo>
                        <a:pt x="964" y="684"/>
                      </a:lnTo>
                      <a:lnTo>
                        <a:pt x="958" y="684"/>
                      </a:lnTo>
                      <a:lnTo>
                        <a:pt x="953" y="684"/>
                      </a:lnTo>
                      <a:lnTo>
                        <a:pt x="947" y="677"/>
                      </a:lnTo>
                      <a:lnTo>
                        <a:pt x="936" y="677"/>
                      </a:lnTo>
                      <a:lnTo>
                        <a:pt x="930" y="677"/>
                      </a:lnTo>
                      <a:lnTo>
                        <a:pt x="925" y="671"/>
                      </a:lnTo>
                      <a:lnTo>
                        <a:pt x="919" y="671"/>
                      </a:lnTo>
                      <a:lnTo>
                        <a:pt x="913" y="665"/>
                      </a:lnTo>
                      <a:lnTo>
                        <a:pt x="908" y="665"/>
                      </a:lnTo>
                      <a:lnTo>
                        <a:pt x="896" y="659"/>
                      </a:lnTo>
                      <a:lnTo>
                        <a:pt x="891" y="659"/>
                      </a:lnTo>
                      <a:lnTo>
                        <a:pt x="885" y="652"/>
                      </a:lnTo>
                      <a:lnTo>
                        <a:pt x="880" y="652"/>
                      </a:lnTo>
                      <a:lnTo>
                        <a:pt x="874" y="646"/>
                      </a:lnTo>
                      <a:lnTo>
                        <a:pt x="868" y="646"/>
                      </a:lnTo>
                      <a:lnTo>
                        <a:pt x="863" y="640"/>
                      </a:lnTo>
                      <a:lnTo>
                        <a:pt x="857" y="634"/>
                      </a:lnTo>
                      <a:lnTo>
                        <a:pt x="851" y="621"/>
                      </a:lnTo>
                      <a:lnTo>
                        <a:pt x="851" y="608"/>
                      </a:lnTo>
                      <a:lnTo>
                        <a:pt x="851" y="602"/>
                      </a:lnTo>
                      <a:lnTo>
                        <a:pt x="857" y="590"/>
                      </a:lnTo>
                      <a:lnTo>
                        <a:pt x="863" y="577"/>
                      </a:lnTo>
                      <a:lnTo>
                        <a:pt x="874" y="571"/>
                      </a:lnTo>
                      <a:lnTo>
                        <a:pt x="880" y="558"/>
                      </a:lnTo>
                      <a:lnTo>
                        <a:pt x="891" y="552"/>
                      </a:lnTo>
                      <a:lnTo>
                        <a:pt x="896" y="539"/>
                      </a:lnTo>
                      <a:lnTo>
                        <a:pt x="902" y="533"/>
                      </a:lnTo>
                      <a:lnTo>
                        <a:pt x="908" y="521"/>
                      </a:lnTo>
                      <a:lnTo>
                        <a:pt x="913" y="508"/>
                      </a:lnTo>
                      <a:lnTo>
                        <a:pt x="919" y="502"/>
                      </a:lnTo>
                      <a:lnTo>
                        <a:pt x="925" y="489"/>
                      </a:lnTo>
                      <a:lnTo>
                        <a:pt x="930" y="483"/>
                      </a:lnTo>
                      <a:lnTo>
                        <a:pt x="936" y="471"/>
                      </a:lnTo>
                      <a:lnTo>
                        <a:pt x="942" y="458"/>
                      </a:lnTo>
                      <a:lnTo>
                        <a:pt x="942" y="445"/>
                      </a:lnTo>
                      <a:lnTo>
                        <a:pt x="947" y="439"/>
                      </a:lnTo>
                      <a:lnTo>
                        <a:pt x="947" y="433"/>
                      </a:lnTo>
                      <a:lnTo>
                        <a:pt x="942" y="433"/>
                      </a:lnTo>
                      <a:lnTo>
                        <a:pt x="942" y="427"/>
                      </a:lnTo>
                      <a:lnTo>
                        <a:pt x="936" y="427"/>
                      </a:lnTo>
                      <a:lnTo>
                        <a:pt x="930" y="427"/>
                      </a:lnTo>
                      <a:lnTo>
                        <a:pt x="925" y="427"/>
                      </a:lnTo>
                      <a:lnTo>
                        <a:pt x="919" y="427"/>
                      </a:lnTo>
                      <a:lnTo>
                        <a:pt x="913" y="427"/>
                      </a:lnTo>
                      <a:lnTo>
                        <a:pt x="908" y="427"/>
                      </a:lnTo>
                      <a:lnTo>
                        <a:pt x="902" y="427"/>
                      </a:lnTo>
                      <a:lnTo>
                        <a:pt x="896" y="427"/>
                      </a:lnTo>
                      <a:lnTo>
                        <a:pt x="891" y="433"/>
                      </a:lnTo>
                      <a:lnTo>
                        <a:pt x="885" y="433"/>
                      </a:lnTo>
                      <a:lnTo>
                        <a:pt x="880" y="439"/>
                      </a:lnTo>
                      <a:lnTo>
                        <a:pt x="874" y="439"/>
                      </a:lnTo>
                      <a:lnTo>
                        <a:pt x="868" y="445"/>
                      </a:lnTo>
                      <a:lnTo>
                        <a:pt x="863" y="445"/>
                      </a:lnTo>
                      <a:lnTo>
                        <a:pt x="857" y="445"/>
                      </a:lnTo>
                      <a:lnTo>
                        <a:pt x="851" y="452"/>
                      </a:lnTo>
                      <a:lnTo>
                        <a:pt x="840" y="452"/>
                      </a:lnTo>
                      <a:lnTo>
                        <a:pt x="834" y="458"/>
                      </a:lnTo>
                      <a:lnTo>
                        <a:pt x="829" y="458"/>
                      </a:lnTo>
                      <a:lnTo>
                        <a:pt x="823" y="458"/>
                      </a:lnTo>
                      <a:lnTo>
                        <a:pt x="818" y="458"/>
                      </a:lnTo>
                      <a:lnTo>
                        <a:pt x="812" y="464"/>
                      </a:lnTo>
                      <a:lnTo>
                        <a:pt x="801" y="464"/>
                      </a:lnTo>
                      <a:lnTo>
                        <a:pt x="795" y="464"/>
                      </a:lnTo>
                      <a:lnTo>
                        <a:pt x="789" y="464"/>
                      </a:lnTo>
                      <a:lnTo>
                        <a:pt x="778" y="458"/>
                      </a:lnTo>
                      <a:lnTo>
                        <a:pt x="772" y="458"/>
                      </a:lnTo>
                      <a:lnTo>
                        <a:pt x="761" y="458"/>
                      </a:lnTo>
                      <a:lnTo>
                        <a:pt x="756" y="452"/>
                      </a:lnTo>
                      <a:lnTo>
                        <a:pt x="750" y="445"/>
                      </a:lnTo>
                      <a:lnTo>
                        <a:pt x="739" y="439"/>
                      </a:lnTo>
                      <a:lnTo>
                        <a:pt x="733" y="433"/>
                      </a:lnTo>
                      <a:lnTo>
                        <a:pt x="733" y="420"/>
                      </a:lnTo>
                      <a:lnTo>
                        <a:pt x="727" y="414"/>
                      </a:lnTo>
                      <a:lnTo>
                        <a:pt x="722" y="402"/>
                      </a:lnTo>
                      <a:lnTo>
                        <a:pt x="716" y="395"/>
                      </a:lnTo>
                      <a:lnTo>
                        <a:pt x="710" y="389"/>
                      </a:lnTo>
                      <a:lnTo>
                        <a:pt x="705" y="376"/>
                      </a:lnTo>
                      <a:lnTo>
                        <a:pt x="699" y="370"/>
                      </a:lnTo>
                      <a:lnTo>
                        <a:pt x="694" y="364"/>
                      </a:lnTo>
                      <a:lnTo>
                        <a:pt x="688" y="358"/>
                      </a:lnTo>
                      <a:lnTo>
                        <a:pt x="688" y="351"/>
                      </a:lnTo>
                      <a:lnTo>
                        <a:pt x="682" y="345"/>
                      </a:lnTo>
                      <a:lnTo>
                        <a:pt x="677" y="339"/>
                      </a:lnTo>
                      <a:lnTo>
                        <a:pt x="665" y="333"/>
                      </a:lnTo>
                      <a:lnTo>
                        <a:pt x="660" y="333"/>
                      </a:lnTo>
                      <a:lnTo>
                        <a:pt x="654" y="326"/>
                      </a:lnTo>
                      <a:lnTo>
                        <a:pt x="643" y="326"/>
                      </a:lnTo>
                      <a:lnTo>
                        <a:pt x="637" y="326"/>
                      </a:lnTo>
                      <a:lnTo>
                        <a:pt x="632" y="326"/>
                      </a:lnTo>
                      <a:lnTo>
                        <a:pt x="620" y="326"/>
                      </a:lnTo>
                      <a:lnTo>
                        <a:pt x="615" y="326"/>
                      </a:lnTo>
                      <a:lnTo>
                        <a:pt x="603" y="326"/>
                      </a:lnTo>
                      <a:lnTo>
                        <a:pt x="598" y="333"/>
                      </a:lnTo>
                      <a:lnTo>
                        <a:pt x="592" y="339"/>
                      </a:lnTo>
                      <a:lnTo>
                        <a:pt x="586" y="345"/>
                      </a:lnTo>
                      <a:lnTo>
                        <a:pt x="586" y="351"/>
                      </a:lnTo>
                      <a:lnTo>
                        <a:pt x="581" y="358"/>
                      </a:lnTo>
                      <a:lnTo>
                        <a:pt x="575" y="364"/>
                      </a:lnTo>
                      <a:lnTo>
                        <a:pt x="570" y="370"/>
                      </a:lnTo>
                      <a:lnTo>
                        <a:pt x="564" y="376"/>
                      </a:lnTo>
                      <a:lnTo>
                        <a:pt x="553" y="376"/>
                      </a:lnTo>
                      <a:lnTo>
                        <a:pt x="541" y="383"/>
                      </a:lnTo>
                      <a:lnTo>
                        <a:pt x="536" y="383"/>
                      </a:lnTo>
                      <a:lnTo>
                        <a:pt x="524" y="383"/>
                      </a:lnTo>
                      <a:lnTo>
                        <a:pt x="513" y="383"/>
                      </a:lnTo>
                      <a:lnTo>
                        <a:pt x="502" y="383"/>
                      </a:lnTo>
                      <a:lnTo>
                        <a:pt x="491" y="383"/>
                      </a:lnTo>
                      <a:lnTo>
                        <a:pt x="479" y="376"/>
                      </a:lnTo>
                      <a:lnTo>
                        <a:pt x="474" y="376"/>
                      </a:lnTo>
                      <a:lnTo>
                        <a:pt x="462" y="376"/>
                      </a:lnTo>
                      <a:lnTo>
                        <a:pt x="457" y="376"/>
                      </a:lnTo>
                      <a:lnTo>
                        <a:pt x="451" y="370"/>
                      </a:lnTo>
                      <a:lnTo>
                        <a:pt x="440" y="370"/>
                      </a:lnTo>
                      <a:lnTo>
                        <a:pt x="434" y="370"/>
                      </a:lnTo>
                      <a:lnTo>
                        <a:pt x="429" y="364"/>
                      </a:lnTo>
                      <a:lnTo>
                        <a:pt x="417" y="364"/>
                      </a:lnTo>
                      <a:lnTo>
                        <a:pt x="412" y="364"/>
                      </a:lnTo>
                      <a:lnTo>
                        <a:pt x="400" y="358"/>
                      </a:lnTo>
                      <a:lnTo>
                        <a:pt x="395" y="358"/>
                      </a:lnTo>
                      <a:lnTo>
                        <a:pt x="389" y="351"/>
                      </a:lnTo>
                      <a:lnTo>
                        <a:pt x="384" y="351"/>
                      </a:lnTo>
                      <a:lnTo>
                        <a:pt x="378" y="345"/>
                      </a:lnTo>
                      <a:lnTo>
                        <a:pt x="372" y="339"/>
                      </a:lnTo>
                      <a:lnTo>
                        <a:pt x="367" y="333"/>
                      </a:lnTo>
                      <a:lnTo>
                        <a:pt x="361" y="326"/>
                      </a:lnTo>
                      <a:lnTo>
                        <a:pt x="361" y="314"/>
                      </a:lnTo>
                      <a:lnTo>
                        <a:pt x="367" y="307"/>
                      </a:lnTo>
                      <a:lnTo>
                        <a:pt x="367" y="295"/>
                      </a:lnTo>
                      <a:lnTo>
                        <a:pt x="372" y="282"/>
                      </a:lnTo>
                      <a:lnTo>
                        <a:pt x="372" y="270"/>
                      </a:lnTo>
                      <a:lnTo>
                        <a:pt x="372" y="257"/>
                      </a:lnTo>
                      <a:lnTo>
                        <a:pt x="372" y="251"/>
                      </a:lnTo>
                      <a:lnTo>
                        <a:pt x="367" y="251"/>
                      </a:lnTo>
                      <a:lnTo>
                        <a:pt x="361" y="251"/>
                      </a:lnTo>
                      <a:lnTo>
                        <a:pt x="355" y="257"/>
                      </a:lnTo>
                      <a:lnTo>
                        <a:pt x="355" y="270"/>
                      </a:lnTo>
                      <a:lnTo>
                        <a:pt x="350" y="276"/>
                      </a:lnTo>
                      <a:lnTo>
                        <a:pt x="344" y="282"/>
                      </a:lnTo>
                      <a:lnTo>
                        <a:pt x="338" y="289"/>
                      </a:lnTo>
                      <a:lnTo>
                        <a:pt x="333" y="289"/>
                      </a:lnTo>
                      <a:lnTo>
                        <a:pt x="327" y="282"/>
                      </a:lnTo>
                      <a:lnTo>
                        <a:pt x="327" y="270"/>
                      </a:lnTo>
                      <a:lnTo>
                        <a:pt x="327" y="264"/>
                      </a:lnTo>
                      <a:lnTo>
                        <a:pt x="327" y="251"/>
                      </a:lnTo>
                      <a:lnTo>
                        <a:pt x="327" y="238"/>
                      </a:lnTo>
                      <a:lnTo>
                        <a:pt x="333" y="226"/>
                      </a:lnTo>
                      <a:lnTo>
                        <a:pt x="333" y="220"/>
                      </a:lnTo>
                      <a:lnTo>
                        <a:pt x="333" y="207"/>
                      </a:lnTo>
                      <a:lnTo>
                        <a:pt x="327" y="213"/>
                      </a:lnTo>
                      <a:lnTo>
                        <a:pt x="322" y="220"/>
                      </a:lnTo>
                      <a:lnTo>
                        <a:pt x="322" y="226"/>
                      </a:lnTo>
                      <a:lnTo>
                        <a:pt x="316" y="232"/>
                      </a:lnTo>
                      <a:lnTo>
                        <a:pt x="310" y="238"/>
                      </a:lnTo>
                      <a:lnTo>
                        <a:pt x="305" y="238"/>
                      </a:lnTo>
                      <a:lnTo>
                        <a:pt x="299" y="245"/>
                      </a:lnTo>
                      <a:lnTo>
                        <a:pt x="293" y="245"/>
                      </a:lnTo>
                      <a:lnTo>
                        <a:pt x="288" y="245"/>
                      </a:lnTo>
                      <a:lnTo>
                        <a:pt x="282" y="238"/>
                      </a:lnTo>
                      <a:lnTo>
                        <a:pt x="276" y="238"/>
                      </a:lnTo>
                      <a:lnTo>
                        <a:pt x="271" y="232"/>
                      </a:lnTo>
                      <a:lnTo>
                        <a:pt x="265" y="226"/>
                      </a:lnTo>
                      <a:lnTo>
                        <a:pt x="260" y="220"/>
                      </a:lnTo>
                      <a:lnTo>
                        <a:pt x="254" y="213"/>
                      </a:lnTo>
                      <a:lnTo>
                        <a:pt x="248" y="207"/>
                      </a:lnTo>
                      <a:lnTo>
                        <a:pt x="248" y="188"/>
                      </a:lnTo>
                      <a:lnTo>
                        <a:pt x="248" y="170"/>
                      </a:lnTo>
                      <a:lnTo>
                        <a:pt x="248" y="151"/>
                      </a:lnTo>
                      <a:lnTo>
                        <a:pt x="248" y="132"/>
                      </a:lnTo>
                      <a:lnTo>
                        <a:pt x="248" y="126"/>
                      </a:lnTo>
                      <a:lnTo>
                        <a:pt x="254" y="119"/>
                      </a:lnTo>
                      <a:lnTo>
                        <a:pt x="254" y="119"/>
                      </a:lnTo>
                      <a:lnTo>
                        <a:pt x="260" y="113"/>
                      </a:lnTo>
                      <a:lnTo>
                        <a:pt x="260" y="107"/>
                      </a:lnTo>
                      <a:lnTo>
                        <a:pt x="265" y="101"/>
                      </a:lnTo>
                      <a:lnTo>
                        <a:pt x="265" y="94"/>
                      </a:lnTo>
                      <a:lnTo>
                        <a:pt x="265" y="94"/>
                      </a:lnTo>
                      <a:lnTo>
                        <a:pt x="265" y="88"/>
                      </a:lnTo>
                      <a:lnTo>
                        <a:pt x="265" y="75"/>
                      </a:lnTo>
                      <a:lnTo>
                        <a:pt x="265" y="69"/>
                      </a:lnTo>
                      <a:lnTo>
                        <a:pt x="265" y="63"/>
                      </a:lnTo>
                      <a:lnTo>
                        <a:pt x="260" y="57"/>
                      </a:lnTo>
                      <a:lnTo>
                        <a:pt x="260" y="50"/>
                      </a:lnTo>
                      <a:lnTo>
                        <a:pt x="254" y="44"/>
                      </a:lnTo>
                      <a:lnTo>
                        <a:pt x="248" y="38"/>
                      </a:lnTo>
                      <a:lnTo>
                        <a:pt x="243" y="32"/>
                      </a:lnTo>
                      <a:lnTo>
                        <a:pt x="237" y="25"/>
                      </a:lnTo>
                      <a:lnTo>
                        <a:pt x="231" y="25"/>
                      </a:lnTo>
                      <a:lnTo>
                        <a:pt x="226" y="19"/>
                      </a:lnTo>
                      <a:lnTo>
                        <a:pt x="220" y="13"/>
                      </a:lnTo>
                      <a:lnTo>
                        <a:pt x="214" y="13"/>
                      </a:lnTo>
                      <a:lnTo>
                        <a:pt x="203" y="6"/>
                      </a:lnTo>
                      <a:lnTo>
                        <a:pt x="198" y="0"/>
                      </a:lnTo>
                      <a:lnTo>
                        <a:pt x="203" y="13"/>
                      </a:lnTo>
                      <a:lnTo>
                        <a:pt x="209" y="19"/>
                      </a:lnTo>
                      <a:lnTo>
                        <a:pt x="214" y="25"/>
                      </a:lnTo>
                      <a:lnTo>
                        <a:pt x="220" y="32"/>
                      </a:lnTo>
                      <a:lnTo>
                        <a:pt x="226" y="38"/>
                      </a:lnTo>
                      <a:lnTo>
                        <a:pt x="231" y="44"/>
                      </a:lnTo>
                      <a:lnTo>
                        <a:pt x="237" y="50"/>
                      </a:lnTo>
                      <a:lnTo>
                        <a:pt x="237" y="57"/>
                      </a:lnTo>
                      <a:lnTo>
                        <a:pt x="237" y="69"/>
                      </a:lnTo>
                      <a:lnTo>
                        <a:pt x="237" y="75"/>
                      </a:lnTo>
                      <a:lnTo>
                        <a:pt x="237" y="82"/>
                      </a:lnTo>
                      <a:lnTo>
                        <a:pt x="237" y="88"/>
                      </a:lnTo>
                      <a:lnTo>
                        <a:pt x="231" y="94"/>
                      </a:lnTo>
                      <a:lnTo>
                        <a:pt x="231" y="101"/>
                      </a:lnTo>
                      <a:lnTo>
                        <a:pt x="226" y="107"/>
                      </a:lnTo>
                      <a:lnTo>
                        <a:pt x="226" y="113"/>
                      </a:lnTo>
                      <a:lnTo>
                        <a:pt x="220" y="126"/>
                      </a:lnTo>
                      <a:lnTo>
                        <a:pt x="214" y="138"/>
                      </a:lnTo>
                      <a:lnTo>
                        <a:pt x="209" y="151"/>
                      </a:lnTo>
                      <a:lnTo>
                        <a:pt x="203" y="163"/>
                      </a:lnTo>
                      <a:lnTo>
                        <a:pt x="198" y="176"/>
                      </a:lnTo>
                      <a:lnTo>
                        <a:pt x="192" y="188"/>
                      </a:lnTo>
                      <a:lnTo>
                        <a:pt x="186" y="201"/>
                      </a:lnTo>
                      <a:lnTo>
                        <a:pt x="175" y="213"/>
                      </a:lnTo>
                      <a:lnTo>
                        <a:pt x="169" y="220"/>
                      </a:lnTo>
                      <a:lnTo>
                        <a:pt x="164" y="220"/>
                      </a:lnTo>
                      <a:lnTo>
                        <a:pt x="158" y="220"/>
                      </a:lnTo>
                      <a:lnTo>
                        <a:pt x="152" y="226"/>
                      </a:lnTo>
                      <a:lnTo>
                        <a:pt x="147" y="226"/>
                      </a:lnTo>
                      <a:lnTo>
                        <a:pt x="141" y="226"/>
                      </a:lnTo>
                      <a:lnTo>
                        <a:pt x="130" y="226"/>
                      </a:lnTo>
                      <a:lnTo>
                        <a:pt x="124" y="220"/>
                      </a:lnTo>
                      <a:lnTo>
                        <a:pt x="119" y="220"/>
                      </a:lnTo>
                      <a:lnTo>
                        <a:pt x="107" y="220"/>
                      </a:lnTo>
                      <a:lnTo>
                        <a:pt x="102" y="213"/>
                      </a:lnTo>
                      <a:lnTo>
                        <a:pt x="90" y="207"/>
                      </a:lnTo>
                      <a:lnTo>
                        <a:pt x="85" y="201"/>
                      </a:lnTo>
                      <a:lnTo>
                        <a:pt x="79" y="201"/>
                      </a:lnTo>
                      <a:lnTo>
                        <a:pt x="68" y="195"/>
                      </a:lnTo>
                      <a:lnTo>
                        <a:pt x="62" y="188"/>
                      </a:lnTo>
                      <a:lnTo>
                        <a:pt x="57" y="182"/>
                      </a:lnTo>
                      <a:lnTo>
                        <a:pt x="51" y="176"/>
                      </a:lnTo>
                      <a:lnTo>
                        <a:pt x="45" y="170"/>
                      </a:lnTo>
                      <a:lnTo>
                        <a:pt x="40" y="163"/>
                      </a:lnTo>
                      <a:lnTo>
                        <a:pt x="34" y="157"/>
                      </a:lnTo>
                      <a:lnTo>
                        <a:pt x="34" y="151"/>
                      </a:lnTo>
                      <a:lnTo>
                        <a:pt x="28" y="144"/>
                      </a:lnTo>
                      <a:lnTo>
                        <a:pt x="23" y="138"/>
                      </a:lnTo>
                      <a:lnTo>
                        <a:pt x="23" y="126"/>
                      </a:lnTo>
                      <a:lnTo>
                        <a:pt x="23" y="119"/>
                      </a:lnTo>
                      <a:lnTo>
                        <a:pt x="17" y="107"/>
                      </a:lnTo>
                      <a:lnTo>
                        <a:pt x="17" y="94"/>
                      </a:lnTo>
                      <a:lnTo>
                        <a:pt x="17" y="88"/>
                      </a:lnTo>
                      <a:lnTo>
                        <a:pt x="12" y="75"/>
                      </a:lnTo>
                      <a:lnTo>
                        <a:pt x="12" y="69"/>
                      </a:lnTo>
                      <a:lnTo>
                        <a:pt x="6" y="63"/>
                      </a:lnTo>
                      <a:lnTo>
                        <a:pt x="6" y="88"/>
                      </a:lnTo>
                      <a:lnTo>
                        <a:pt x="0" y="107"/>
                      </a:lnTo>
                      <a:lnTo>
                        <a:pt x="0" y="126"/>
                      </a:lnTo>
                      <a:lnTo>
                        <a:pt x="6" y="144"/>
                      </a:lnTo>
                      <a:lnTo>
                        <a:pt x="12" y="163"/>
                      </a:lnTo>
                      <a:lnTo>
                        <a:pt x="17" y="176"/>
                      </a:lnTo>
                      <a:lnTo>
                        <a:pt x="23" y="195"/>
                      </a:lnTo>
                      <a:lnTo>
                        <a:pt x="28" y="207"/>
                      </a:lnTo>
                      <a:lnTo>
                        <a:pt x="34" y="220"/>
                      </a:lnTo>
                      <a:lnTo>
                        <a:pt x="40" y="226"/>
                      </a:lnTo>
                      <a:lnTo>
                        <a:pt x="45" y="232"/>
                      </a:lnTo>
                      <a:lnTo>
                        <a:pt x="45" y="245"/>
                      </a:lnTo>
                      <a:lnTo>
                        <a:pt x="51" y="251"/>
                      </a:lnTo>
                      <a:lnTo>
                        <a:pt x="57" y="257"/>
                      </a:lnTo>
                      <a:lnTo>
                        <a:pt x="62" y="264"/>
                      </a:lnTo>
                      <a:lnTo>
                        <a:pt x="68" y="276"/>
                      </a:lnTo>
                      <a:lnTo>
                        <a:pt x="74" y="282"/>
                      </a:lnTo>
                      <a:lnTo>
                        <a:pt x="85" y="289"/>
                      </a:lnTo>
                      <a:lnTo>
                        <a:pt x="90" y="295"/>
                      </a:lnTo>
                      <a:lnTo>
                        <a:pt x="96" y="301"/>
                      </a:lnTo>
                      <a:lnTo>
                        <a:pt x="102" y="314"/>
                      </a:lnTo>
                      <a:lnTo>
                        <a:pt x="107" y="320"/>
                      </a:lnTo>
                      <a:lnTo>
                        <a:pt x="113" y="326"/>
                      </a:lnTo>
                      <a:lnTo>
                        <a:pt x="124" y="326"/>
                      </a:lnTo>
                      <a:lnTo>
                        <a:pt x="136" y="339"/>
                      </a:lnTo>
                      <a:lnTo>
                        <a:pt x="141" y="345"/>
                      </a:lnTo>
                      <a:lnTo>
                        <a:pt x="152" y="351"/>
                      </a:lnTo>
                      <a:lnTo>
                        <a:pt x="158" y="358"/>
                      </a:lnTo>
                      <a:lnTo>
                        <a:pt x="164" y="358"/>
                      </a:lnTo>
                      <a:lnTo>
                        <a:pt x="169" y="364"/>
                      </a:lnTo>
                      <a:lnTo>
                        <a:pt x="181" y="364"/>
                      </a:lnTo>
                      <a:lnTo>
                        <a:pt x="192" y="370"/>
                      </a:lnTo>
                      <a:lnTo>
                        <a:pt x="181" y="370"/>
                      </a:lnTo>
                      <a:lnTo>
                        <a:pt x="175" y="370"/>
                      </a:lnTo>
                      <a:lnTo>
                        <a:pt x="169" y="376"/>
                      </a:lnTo>
                      <a:lnTo>
                        <a:pt x="164" y="376"/>
                      </a:lnTo>
                      <a:lnTo>
                        <a:pt x="164" y="383"/>
                      </a:lnTo>
                      <a:lnTo>
                        <a:pt x="158" y="389"/>
                      </a:lnTo>
                      <a:lnTo>
                        <a:pt x="158" y="395"/>
                      </a:lnTo>
                      <a:lnTo>
                        <a:pt x="158" y="402"/>
                      </a:lnTo>
                      <a:lnTo>
                        <a:pt x="152" y="433"/>
                      </a:lnTo>
                      <a:lnTo>
                        <a:pt x="152" y="464"/>
                      </a:lnTo>
                      <a:lnTo>
                        <a:pt x="152" y="489"/>
                      </a:lnTo>
                      <a:lnTo>
                        <a:pt x="152" y="521"/>
                      </a:lnTo>
                      <a:lnTo>
                        <a:pt x="158" y="533"/>
                      </a:lnTo>
                      <a:lnTo>
                        <a:pt x="158" y="552"/>
                      </a:lnTo>
                      <a:lnTo>
                        <a:pt x="164" y="565"/>
                      </a:lnTo>
                      <a:lnTo>
                        <a:pt x="164" y="577"/>
                      </a:lnTo>
                      <a:lnTo>
                        <a:pt x="169" y="596"/>
                      </a:lnTo>
                      <a:lnTo>
                        <a:pt x="175" y="608"/>
                      </a:lnTo>
                      <a:lnTo>
                        <a:pt x="181" y="621"/>
                      </a:lnTo>
                      <a:lnTo>
                        <a:pt x="186" y="634"/>
                      </a:lnTo>
                      <a:lnTo>
                        <a:pt x="192" y="640"/>
                      </a:lnTo>
                      <a:lnTo>
                        <a:pt x="203" y="652"/>
                      </a:lnTo>
                      <a:lnTo>
                        <a:pt x="209" y="659"/>
                      </a:lnTo>
                      <a:lnTo>
                        <a:pt x="220" y="665"/>
                      </a:lnTo>
                      <a:lnTo>
                        <a:pt x="231" y="671"/>
                      </a:lnTo>
                      <a:lnTo>
                        <a:pt x="243" y="677"/>
                      </a:lnTo>
                      <a:lnTo>
                        <a:pt x="254" y="677"/>
                      </a:lnTo>
                      <a:lnTo>
                        <a:pt x="265" y="684"/>
                      </a:lnTo>
                      <a:lnTo>
                        <a:pt x="271" y="684"/>
                      </a:lnTo>
                      <a:lnTo>
                        <a:pt x="276" y="684"/>
                      </a:lnTo>
                      <a:lnTo>
                        <a:pt x="282" y="684"/>
                      </a:lnTo>
                      <a:lnTo>
                        <a:pt x="288" y="684"/>
                      </a:lnTo>
                      <a:lnTo>
                        <a:pt x="293" y="684"/>
                      </a:lnTo>
                      <a:lnTo>
                        <a:pt x="299" y="677"/>
                      </a:lnTo>
                      <a:lnTo>
                        <a:pt x="305" y="677"/>
                      </a:lnTo>
                      <a:lnTo>
                        <a:pt x="310" y="677"/>
                      </a:lnTo>
                      <a:lnTo>
                        <a:pt x="316" y="677"/>
                      </a:lnTo>
                      <a:lnTo>
                        <a:pt x="327" y="671"/>
                      </a:lnTo>
                      <a:lnTo>
                        <a:pt x="333" y="671"/>
                      </a:lnTo>
                      <a:lnTo>
                        <a:pt x="338" y="671"/>
                      </a:lnTo>
                      <a:lnTo>
                        <a:pt x="344" y="665"/>
                      </a:lnTo>
                      <a:lnTo>
                        <a:pt x="350" y="665"/>
                      </a:lnTo>
                      <a:lnTo>
                        <a:pt x="355" y="665"/>
                      </a:lnTo>
                      <a:lnTo>
                        <a:pt x="361" y="665"/>
                      </a:lnTo>
                      <a:lnTo>
                        <a:pt x="367" y="671"/>
                      </a:lnTo>
                      <a:lnTo>
                        <a:pt x="367" y="677"/>
                      </a:lnTo>
                      <a:lnTo>
                        <a:pt x="367" y="684"/>
                      </a:lnTo>
                      <a:lnTo>
                        <a:pt x="372" y="684"/>
                      </a:lnTo>
                      <a:lnTo>
                        <a:pt x="372" y="690"/>
                      </a:lnTo>
                      <a:lnTo>
                        <a:pt x="378" y="696"/>
                      </a:lnTo>
                      <a:lnTo>
                        <a:pt x="384" y="703"/>
                      </a:lnTo>
                      <a:lnTo>
                        <a:pt x="389" y="709"/>
                      </a:lnTo>
                      <a:lnTo>
                        <a:pt x="389" y="715"/>
                      </a:lnTo>
                      <a:lnTo>
                        <a:pt x="400" y="715"/>
                      </a:lnTo>
                      <a:lnTo>
                        <a:pt x="406" y="721"/>
                      </a:lnTo>
                      <a:lnTo>
                        <a:pt x="412" y="728"/>
                      </a:lnTo>
                      <a:lnTo>
                        <a:pt x="417" y="728"/>
                      </a:lnTo>
                      <a:lnTo>
                        <a:pt x="423" y="734"/>
                      </a:lnTo>
                      <a:lnTo>
                        <a:pt x="429" y="734"/>
                      </a:lnTo>
                      <a:lnTo>
                        <a:pt x="434" y="740"/>
                      </a:lnTo>
                      <a:lnTo>
                        <a:pt x="440" y="746"/>
                      </a:lnTo>
                      <a:lnTo>
                        <a:pt x="446" y="746"/>
                      </a:lnTo>
                      <a:lnTo>
                        <a:pt x="451" y="753"/>
                      </a:lnTo>
                      <a:lnTo>
                        <a:pt x="457" y="753"/>
                      </a:lnTo>
                      <a:lnTo>
                        <a:pt x="462" y="759"/>
                      </a:lnTo>
                      <a:lnTo>
                        <a:pt x="468" y="759"/>
                      </a:lnTo>
                      <a:lnTo>
                        <a:pt x="479" y="765"/>
                      </a:lnTo>
                      <a:lnTo>
                        <a:pt x="485" y="772"/>
                      </a:lnTo>
                      <a:lnTo>
                        <a:pt x="485" y="784"/>
                      </a:lnTo>
                      <a:lnTo>
                        <a:pt x="479" y="803"/>
                      </a:lnTo>
                      <a:lnTo>
                        <a:pt x="479" y="822"/>
                      </a:lnTo>
                      <a:lnTo>
                        <a:pt x="485" y="840"/>
                      </a:lnTo>
                      <a:lnTo>
                        <a:pt x="491" y="847"/>
                      </a:lnTo>
                      <a:lnTo>
                        <a:pt x="491" y="859"/>
                      </a:lnTo>
                      <a:lnTo>
                        <a:pt x="502" y="866"/>
                      </a:lnTo>
                      <a:lnTo>
                        <a:pt x="508" y="878"/>
                      </a:lnTo>
                      <a:lnTo>
                        <a:pt x="513" y="884"/>
                      </a:lnTo>
                      <a:lnTo>
                        <a:pt x="519" y="891"/>
                      </a:lnTo>
                      <a:lnTo>
                        <a:pt x="530" y="903"/>
                      </a:lnTo>
                      <a:lnTo>
                        <a:pt x="536" y="909"/>
                      </a:lnTo>
                      <a:lnTo>
                        <a:pt x="547" y="916"/>
                      </a:lnTo>
                      <a:lnTo>
                        <a:pt x="553" y="922"/>
                      </a:lnTo>
                      <a:lnTo>
                        <a:pt x="564" y="922"/>
                      </a:lnTo>
                      <a:lnTo>
                        <a:pt x="575" y="928"/>
                      </a:lnTo>
                      <a:lnTo>
                        <a:pt x="581" y="935"/>
                      </a:lnTo>
                      <a:lnTo>
                        <a:pt x="592" y="935"/>
                      </a:lnTo>
                      <a:lnTo>
                        <a:pt x="603" y="941"/>
                      </a:lnTo>
                      <a:lnTo>
                        <a:pt x="615" y="941"/>
                      </a:lnTo>
                      <a:lnTo>
                        <a:pt x="620" y="941"/>
                      </a:lnTo>
                      <a:lnTo>
                        <a:pt x="632" y="941"/>
                      </a:lnTo>
                      <a:lnTo>
                        <a:pt x="637" y="941"/>
                      </a:lnTo>
                      <a:lnTo>
                        <a:pt x="648" y="941"/>
                      </a:lnTo>
                      <a:lnTo>
                        <a:pt x="654" y="941"/>
                      </a:lnTo>
                      <a:lnTo>
                        <a:pt x="660" y="941"/>
                      </a:lnTo>
                      <a:lnTo>
                        <a:pt x="671" y="941"/>
                      </a:lnTo>
                      <a:lnTo>
                        <a:pt x="677" y="935"/>
                      </a:lnTo>
                      <a:lnTo>
                        <a:pt x="688" y="935"/>
                      </a:lnTo>
                      <a:lnTo>
                        <a:pt x="694" y="935"/>
                      </a:lnTo>
                      <a:lnTo>
                        <a:pt x="705" y="928"/>
                      </a:lnTo>
                      <a:lnTo>
                        <a:pt x="710" y="928"/>
                      </a:lnTo>
                      <a:lnTo>
                        <a:pt x="722" y="928"/>
                      </a:lnTo>
                      <a:lnTo>
                        <a:pt x="727" y="922"/>
                      </a:lnTo>
                      <a:lnTo>
                        <a:pt x="733" y="922"/>
                      </a:lnTo>
                      <a:lnTo>
                        <a:pt x="744" y="916"/>
                      </a:lnTo>
                      <a:lnTo>
                        <a:pt x="756" y="916"/>
                      </a:lnTo>
                      <a:lnTo>
                        <a:pt x="767" y="909"/>
                      </a:lnTo>
                      <a:lnTo>
                        <a:pt x="778" y="903"/>
                      </a:lnTo>
                      <a:lnTo>
                        <a:pt x="784" y="897"/>
                      </a:lnTo>
                      <a:lnTo>
                        <a:pt x="795" y="891"/>
                      </a:lnTo>
                      <a:lnTo>
                        <a:pt x="806" y="884"/>
                      </a:lnTo>
                      <a:lnTo>
                        <a:pt x="818" y="872"/>
                      </a:lnTo>
                      <a:lnTo>
                        <a:pt x="829" y="866"/>
                      </a:lnTo>
                      <a:lnTo>
                        <a:pt x="840" y="872"/>
                      </a:lnTo>
                      <a:lnTo>
                        <a:pt x="857" y="878"/>
                      </a:lnTo>
                      <a:lnTo>
                        <a:pt x="868" y="878"/>
                      </a:lnTo>
                      <a:lnTo>
                        <a:pt x="880" y="884"/>
                      </a:lnTo>
                      <a:lnTo>
                        <a:pt x="896" y="884"/>
                      </a:lnTo>
                      <a:lnTo>
                        <a:pt x="908" y="891"/>
                      </a:lnTo>
                      <a:lnTo>
                        <a:pt x="925" y="891"/>
                      </a:lnTo>
                      <a:lnTo>
                        <a:pt x="936" y="897"/>
                      </a:lnTo>
                      <a:lnTo>
                        <a:pt x="953" y="897"/>
                      </a:lnTo>
                      <a:lnTo>
                        <a:pt x="964" y="903"/>
                      </a:lnTo>
                      <a:lnTo>
                        <a:pt x="975" y="909"/>
                      </a:lnTo>
                      <a:lnTo>
                        <a:pt x="992" y="909"/>
                      </a:lnTo>
                      <a:lnTo>
                        <a:pt x="1004" y="916"/>
                      </a:lnTo>
                      <a:lnTo>
                        <a:pt x="1020" y="916"/>
                      </a:lnTo>
                      <a:lnTo>
                        <a:pt x="1032" y="922"/>
                      </a:lnTo>
                      <a:lnTo>
                        <a:pt x="1043" y="922"/>
                      </a:lnTo>
                      <a:lnTo>
                        <a:pt x="1054" y="928"/>
                      </a:lnTo>
                      <a:lnTo>
                        <a:pt x="1060" y="941"/>
                      </a:lnTo>
                      <a:lnTo>
                        <a:pt x="1066" y="947"/>
                      </a:lnTo>
                      <a:lnTo>
                        <a:pt x="1071" y="953"/>
                      </a:lnTo>
                      <a:lnTo>
                        <a:pt x="1082" y="960"/>
                      </a:lnTo>
                      <a:lnTo>
                        <a:pt x="1088" y="966"/>
                      </a:lnTo>
                      <a:lnTo>
                        <a:pt x="1094" y="972"/>
                      </a:lnTo>
                      <a:lnTo>
                        <a:pt x="1105" y="978"/>
                      </a:lnTo>
                      <a:lnTo>
                        <a:pt x="1116" y="985"/>
                      </a:lnTo>
                      <a:lnTo>
                        <a:pt x="1128" y="991"/>
                      </a:lnTo>
                      <a:lnTo>
                        <a:pt x="1139" y="997"/>
                      </a:lnTo>
                      <a:lnTo>
                        <a:pt x="1150" y="1004"/>
                      </a:lnTo>
                      <a:lnTo>
                        <a:pt x="1161" y="1010"/>
                      </a:lnTo>
                      <a:lnTo>
                        <a:pt x="1178" y="1016"/>
                      </a:lnTo>
                      <a:lnTo>
                        <a:pt x="1190" y="1022"/>
                      </a:lnTo>
                      <a:lnTo>
                        <a:pt x="1201" y="1029"/>
                      </a:lnTo>
                      <a:lnTo>
                        <a:pt x="1212" y="1035"/>
                      </a:lnTo>
                      <a:lnTo>
                        <a:pt x="1223" y="1041"/>
                      </a:lnTo>
                      <a:lnTo>
                        <a:pt x="1240" y="1047"/>
                      </a:lnTo>
                      <a:lnTo>
                        <a:pt x="1252" y="1054"/>
                      </a:lnTo>
                      <a:lnTo>
                        <a:pt x="1263" y="1054"/>
                      </a:lnTo>
                      <a:lnTo>
                        <a:pt x="1274" y="1060"/>
                      </a:lnTo>
                      <a:lnTo>
                        <a:pt x="1291" y="1066"/>
                      </a:lnTo>
                      <a:lnTo>
                        <a:pt x="1302" y="1073"/>
                      </a:lnTo>
                      <a:lnTo>
                        <a:pt x="1313" y="1073"/>
                      </a:lnTo>
                      <a:lnTo>
                        <a:pt x="1330" y="1079"/>
                      </a:lnTo>
                      <a:lnTo>
                        <a:pt x="1342" y="1085"/>
                      </a:lnTo>
                      <a:lnTo>
                        <a:pt x="1353" y="1085"/>
                      </a:lnTo>
                      <a:lnTo>
                        <a:pt x="1364" y="1085"/>
                      </a:lnTo>
                      <a:lnTo>
                        <a:pt x="1381" y="1091"/>
                      </a:lnTo>
                      <a:lnTo>
                        <a:pt x="1392" y="1091"/>
                      </a:lnTo>
                      <a:lnTo>
                        <a:pt x="1409" y="1098"/>
                      </a:lnTo>
                      <a:lnTo>
                        <a:pt x="1421" y="1098"/>
                      </a:lnTo>
                      <a:lnTo>
                        <a:pt x="1432" y="1098"/>
                      </a:lnTo>
                      <a:lnTo>
                        <a:pt x="1449" y="1104"/>
                      </a:lnTo>
                      <a:lnTo>
                        <a:pt x="1460" y="1104"/>
                      </a:lnTo>
                      <a:lnTo>
                        <a:pt x="1471" y="1104"/>
                      </a:lnTo>
                      <a:lnTo>
                        <a:pt x="1488" y="1104"/>
                      </a:lnTo>
                      <a:lnTo>
                        <a:pt x="1499" y="1110"/>
                      </a:lnTo>
                      <a:lnTo>
                        <a:pt x="1511" y="1110"/>
                      </a:lnTo>
                      <a:lnTo>
                        <a:pt x="1522" y="1110"/>
                      </a:lnTo>
                      <a:lnTo>
                        <a:pt x="1528" y="1110"/>
                      </a:lnTo>
                      <a:lnTo>
                        <a:pt x="1539" y="1110"/>
                      </a:lnTo>
                      <a:lnTo>
                        <a:pt x="1545" y="1110"/>
                      </a:lnTo>
                      <a:lnTo>
                        <a:pt x="1556" y="1110"/>
                      </a:lnTo>
                      <a:lnTo>
                        <a:pt x="1561" y="1110"/>
                      </a:lnTo>
                      <a:lnTo>
                        <a:pt x="1573" y="1110"/>
                      </a:lnTo>
                      <a:lnTo>
                        <a:pt x="1578" y="1110"/>
                      </a:lnTo>
                      <a:lnTo>
                        <a:pt x="1590" y="1110"/>
                      </a:lnTo>
                      <a:lnTo>
                        <a:pt x="1595" y="1110"/>
                      </a:lnTo>
                      <a:lnTo>
                        <a:pt x="1607" y="1110"/>
                      </a:lnTo>
                      <a:lnTo>
                        <a:pt x="1612" y="1110"/>
                      </a:lnTo>
                      <a:lnTo>
                        <a:pt x="1623" y="1110"/>
                      </a:lnTo>
                      <a:lnTo>
                        <a:pt x="1629" y="1110"/>
                      </a:lnTo>
                      <a:lnTo>
                        <a:pt x="1640" y="1110"/>
                      </a:lnTo>
                      <a:lnTo>
                        <a:pt x="1646" y="1116"/>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rot="796800">
                  <a:off x="7332120" y="5965560"/>
                  <a:ext cx="1297800" cy="447480"/>
                </a:xfrm>
                <a:custGeom>
                  <a:avLst/>
                  <a:gdLst/>
                  <a:ahLst/>
                  <a:rect l="l" t="t" r="r" b="b"/>
                  <a:pathLst>
                    <a:path w="1280" h="646">
                      <a:moveTo>
                        <a:pt x="34" y="0"/>
                      </a:moveTo>
                      <a:lnTo>
                        <a:pt x="23" y="6"/>
                      </a:lnTo>
                      <a:lnTo>
                        <a:pt x="12" y="12"/>
                      </a:lnTo>
                      <a:lnTo>
                        <a:pt x="6" y="25"/>
                      </a:lnTo>
                      <a:lnTo>
                        <a:pt x="6" y="38"/>
                      </a:lnTo>
                      <a:lnTo>
                        <a:pt x="6" y="50"/>
                      </a:lnTo>
                      <a:lnTo>
                        <a:pt x="6" y="63"/>
                      </a:lnTo>
                      <a:lnTo>
                        <a:pt x="6" y="81"/>
                      </a:lnTo>
                      <a:lnTo>
                        <a:pt x="0" y="88"/>
                      </a:lnTo>
                      <a:lnTo>
                        <a:pt x="12" y="88"/>
                      </a:lnTo>
                      <a:lnTo>
                        <a:pt x="17" y="88"/>
                      </a:lnTo>
                      <a:lnTo>
                        <a:pt x="29" y="88"/>
                      </a:lnTo>
                      <a:lnTo>
                        <a:pt x="40" y="88"/>
                      </a:lnTo>
                      <a:lnTo>
                        <a:pt x="46" y="81"/>
                      </a:lnTo>
                      <a:lnTo>
                        <a:pt x="57" y="81"/>
                      </a:lnTo>
                      <a:lnTo>
                        <a:pt x="62" y="88"/>
                      </a:lnTo>
                      <a:lnTo>
                        <a:pt x="68" y="88"/>
                      </a:lnTo>
                      <a:lnTo>
                        <a:pt x="74" y="88"/>
                      </a:lnTo>
                      <a:lnTo>
                        <a:pt x="79" y="94"/>
                      </a:lnTo>
                      <a:lnTo>
                        <a:pt x="85" y="100"/>
                      </a:lnTo>
                      <a:lnTo>
                        <a:pt x="91" y="100"/>
                      </a:lnTo>
                      <a:lnTo>
                        <a:pt x="91" y="107"/>
                      </a:lnTo>
                      <a:lnTo>
                        <a:pt x="96" y="113"/>
                      </a:lnTo>
                      <a:lnTo>
                        <a:pt x="102" y="119"/>
                      </a:lnTo>
                      <a:lnTo>
                        <a:pt x="108" y="119"/>
                      </a:lnTo>
                      <a:lnTo>
                        <a:pt x="113" y="125"/>
                      </a:lnTo>
                      <a:lnTo>
                        <a:pt x="119" y="138"/>
                      </a:lnTo>
                      <a:lnTo>
                        <a:pt x="124" y="144"/>
                      </a:lnTo>
                      <a:lnTo>
                        <a:pt x="130" y="150"/>
                      </a:lnTo>
                      <a:lnTo>
                        <a:pt x="130" y="157"/>
                      </a:lnTo>
                      <a:lnTo>
                        <a:pt x="141" y="163"/>
                      </a:lnTo>
                      <a:lnTo>
                        <a:pt x="147" y="169"/>
                      </a:lnTo>
                      <a:lnTo>
                        <a:pt x="153" y="175"/>
                      </a:lnTo>
                      <a:lnTo>
                        <a:pt x="158" y="175"/>
                      </a:lnTo>
                      <a:lnTo>
                        <a:pt x="164" y="175"/>
                      </a:lnTo>
                      <a:lnTo>
                        <a:pt x="170" y="175"/>
                      </a:lnTo>
                      <a:lnTo>
                        <a:pt x="175" y="169"/>
                      </a:lnTo>
                      <a:lnTo>
                        <a:pt x="181" y="169"/>
                      </a:lnTo>
                      <a:lnTo>
                        <a:pt x="186" y="169"/>
                      </a:lnTo>
                      <a:lnTo>
                        <a:pt x="192" y="163"/>
                      </a:lnTo>
                      <a:lnTo>
                        <a:pt x="198" y="163"/>
                      </a:lnTo>
                      <a:lnTo>
                        <a:pt x="209" y="163"/>
                      </a:lnTo>
                      <a:lnTo>
                        <a:pt x="215" y="157"/>
                      </a:lnTo>
                      <a:lnTo>
                        <a:pt x="226" y="150"/>
                      </a:lnTo>
                      <a:lnTo>
                        <a:pt x="237" y="150"/>
                      </a:lnTo>
                      <a:lnTo>
                        <a:pt x="248" y="150"/>
                      </a:lnTo>
                      <a:lnTo>
                        <a:pt x="254" y="144"/>
                      </a:lnTo>
                      <a:lnTo>
                        <a:pt x="265" y="144"/>
                      </a:lnTo>
                      <a:lnTo>
                        <a:pt x="277" y="150"/>
                      </a:lnTo>
                      <a:lnTo>
                        <a:pt x="277" y="150"/>
                      </a:lnTo>
                      <a:lnTo>
                        <a:pt x="282" y="157"/>
                      </a:lnTo>
                      <a:lnTo>
                        <a:pt x="288" y="163"/>
                      </a:lnTo>
                      <a:lnTo>
                        <a:pt x="288" y="169"/>
                      </a:lnTo>
                      <a:lnTo>
                        <a:pt x="294" y="175"/>
                      </a:lnTo>
                      <a:lnTo>
                        <a:pt x="294" y="182"/>
                      </a:lnTo>
                      <a:lnTo>
                        <a:pt x="294" y="194"/>
                      </a:lnTo>
                      <a:lnTo>
                        <a:pt x="299" y="201"/>
                      </a:lnTo>
                      <a:lnTo>
                        <a:pt x="299" y="207"/>
                      </a:lnTo>
                      <a:lnTo>
                        <a:pt x="305" y="219"/>
                      </a:lnTo>
                      <a:lnTo>
                        <a:pt x="305" y="232"/>
                      </a:lnTo>
                      <a:lnTo>
                        <a:pt x="299" y="238"/>
                      </a:lnTo>
                      <a:lnTo>
                        <a:pt x="294" y="244"/>
                      </a:lnTo>
                      <a:lnTo>
                        <a:pt x="294" y="251"/>
                      </a:lnTo>
                      <a:lnTo>
                        <a:pt x="288" y="257"/>
                      </a:lnTo>
                      <a:lnTo>
                        <a:pt x="282" y="257"/>
                      </a:lnTo>
                      <a:lnTo>
                        <a:pt x="277" y="263"/>
                      </a:lnTo>
                      <a:lnTo>
                        <a:pt x="271" y="263"/>
                      </a:lnTo>
                      <a:lnTo>
                        <a:pt x="265" y="270"/>
                      </a:lnTo>
                      <a:lnTo>
                        <a:pt x="260" y="276"/>
                      </a:lnTo>
                      <a:lnTo>
                        <a:pt x="248" y="276"/>
                      </a:lnTo>
                      <a:lnTo>
                        <a:pt x="243" y="282"/>
                      </a:lnTo>
                      <a:lnTo>
                        <a:pt x="237" y="282"/>
                      </a:lnTo>
                      <a:lnTo>
                        <a:pt x="232" y="288"/>
                      </a:lnTo>
                      <a:lnTo>
                        <a:pt x="226" y="288"/>
                      </a:lnTo>
                      <a:lnTo>
                        <a:pt x="220" y="295"/>
                      </a:lnTo>
                      <a:lnTo>
                        <a:pt x="215" y="295"/>
                      </a:lnTo>
                      <a:lnTo>
                        <a:pt x="209" y="301"/>
                      </a:lnTo>
                      <a:lnTo>
                        <a:pt x="215" y="301"/>
                      </a:lnTo>
                      <a:lnTo>
                        <a:pt x="220" y="295"/>
                      </a:lnTo>
                      <a:lnTo>
                        <a:pt x="226" y="295"/>
                      </a:lnTo>
                      <a:lnTo>
                        <a:pt x="232" y="295"/>
                      </a:lnTo>
                      <a:lnTo>
                        <a:pt x="237" y="295"/>
                      </a:lnTo>
                      <a:lnTo>
                        <a:pt x="243" y="295"/>
                      </a:lnTo>
                      <a:lnTo>
                        <a:pt x="248" y="295"/>
                      </a:lnTo>
                      <a:lnTo>
                        <a:pt x="260" y="295"/>
                      </a:lnTo>
                      <a:lnTo>
                        <a:pt x="265" y="288"/>
                      </a:lnTo>
                      <a:lnTo>
                        <a:pt x="271" y="288"/>
                      </a:lnTo>
                      <a:lnTo>
                        <a:pt x="277" y="288"/>
                      </a:lnTo>
                      <a:lnTo>
                        <a:pt x="282" y="288"/>
                      </a:lnTo>
                      <a:lnTo>
                        <a:pt x="288" y="288"/>
                      </a:lnTo>
                      <a:lnTo>
                        <a:pt x="294" y="282"/>
                      </a:lnTo>
                      <a:lnTo>
                        <a:pt x="299" y="282"/>
                      </a:lnTo>
                      <a:lnTo>
                        <a:pt x="305" y="282"/>
                      </a:lnTo>
                      <a:lnTo>
                        <a:pt x="310" y="276"/>
                      </a:lnTo>
                      <a:lnTo>
                        <a:pt x="316" y="276"/>
                      </a:lnTo>
                      <a:lnTo>
                        <a:pt x="322" y="270"/>
                      </a:lnTo>
                      <a:lnTo>
                        <a:pt x="327" y="263"/>
                      </a:lnTo>
                      <a:lnTo>
                        <a:pt x="333" y="263"/>
                      </a:lnTo>
                      <a:lnTo>
                        <a:pt x="339" y="257"/>
                      </a:lnTo>
                      <a:lnTo>
                        <a:pt x="344" y="251"/>
                      </a:lnTo>
                      <a:lnTo>
                        <a:pt x="350" y="251"/>
                      </a:lnTo>
                      <a:lnTo>
                        <a:pt x="361" y="244"/>
                      </a:lnTo>
                      <a:lnTo>
                        <a:pt x="372" y="244"/>
                      </a:lnTo>
                      <a:lnTo>
                        <a:pt x="384" y="238"/>
                      </a:lnTo>
                      <a:lnTo>
                        <a:pt x="395" y="238"/>
                      </a:lnTo>
                      <a:lnTo>
                        <a:pt x="401" y="232"/>
                      </a:lnTo>
                      <a:lnTo>
                        <a:pt x="412" y="232"/>
                      </a:lnTo>
                      <a:lnTo>
                        <a:pt x="423" y="232"/>
                      </a:lnTo>
                      <a:lnTo>
                        <a:pt x="434" y="232"/>
                      </a:lnTo>
                      <a:lnTo>
                        <a:pt x="446" y="238"/>
                      </a:lnTo>
                      <a:lnTo>
                        <a:pt x="451" y="238"/>
                      </a:lnTo>
                      <a:lnTo>
                        <a:pt x="463" y="244"/>
                      </a:lnTo>
                      <a:lnTo>
                        <a:pt x="474" y="251"/>
                      </a:lnTo>
                      <a:lnTo>
                        <a:pt x="480" y="251"/>
                      </a:lnTo>
                      <a:lnTo>
                        <a:pt x="491" y="263"/>
                      </a:lnTo>
                      <a:lnTo>
                        <a:pt x="496" y="270"/>
                      </a:lnTo>
                      <a:lnTo>
                        <a:pt x="502" y="276"/>
                      </a:lnTo>
                      <a:lnTo>
                        <a:pt x="508" y="288"/>
                      </a:lnTo>
                      <a:lnTo>
                        <a:pt x="513" y="301"/>
                      </a:lnTo>
                      <a:lnTo>
                        <a:pt x="513" y="320"/>
                      </a:lnTo>
                      <a:lnTo>
                        <a:pt x="508" y="332"/>
                      </a:lnTo>
                      <a:lnTo>
                        <a:pt x="496" y="339"/>
                      </a:lnTo>
                      <a:lnTo>
                        <a:pt x="491" y="345"/>
                      </a:lnTo>
                      <a:lnTo>
                        <a:pt x="485" y="351"/>
                      </a:lnTo>
                      <a:lnTo>
                        <a:pt x="474" y="357"/>
                      </a:lnTo>
                      <a:lnTo>
                        <a:pt x="463" y="364"/>
                      </a:lnTo>
                      <a:lnTo>
                        <a:pt x="451" y="370"/>
                      </a:lnTo>
                      <a:lnTo>
                        <a:pt x="446" y="376"/>
                      </a:lnTo>
                      <a:lnTo>
                        <a:pt x="434" y="382"/>
                      </a:lnTo>
                      <a:lnTo>
                        <a:pt x="429" y="382"/>
                      </a:lnTo>
                      <a:lnTo>
                        <a:pt x="423" y="389"/>
                      </a:lnTo>
                      <a:lnTo>
                        <a:pt x="412" y="395"/>
                      </a:lnTo>
                      <a:lnTo>
                        <a:pt x="406" y="401"/>
                      </a:lnTo>
                      <a:lnTo>
                        <a:pt x="401" y="408"/>
                      </a:lnTo>
                      <a:lnTo>
                        <a:pt x="389" y="414"/>
                      </a:lnTo>
                      <a:lnTo>
                        <a:pt x="384" y="420"/>
                      </a:lnTo>
                      <a:lnTo>
                        <a:pt x="378" y="426"/>
                      </a:lnTo>
                      <a:lnTo>
                        <a:pt x="384" y="426"/>
                      </a:lnTo>
                      <a:lnTo>
                        <a:pt x="395" y="420"/>
                      </a:lnTo>
                      <a:lnTo>
                        <a:pt x="401" y="420"/>
                      </a:lnTo>
                      <a:lnTo>
                        <a:pt x="406" y="414"/>
                      </a:lnTo>
                      <a:lnTo>
                        <a:pt x="412" y="414"/>
                      </a:lnTo>
                      <a:lnTo>
                        <a:pt x="423" y="414"/>
                      </a:lnTo>
                      <a:lnTo>
                        <a:pt x="429" y="408"/>
                      </a:lnTo>
                      <a:lnTo>
                        <a:pt x="434" y="408"/>
                      </a:lnTo>
                      <a:lnTo>
                        <a:pt x="446" y="401"/>
                      </a:lnTo>
                      <a:lnTo>
                        <a:pt x="451" y="401"/>
                      </a:lnTo>
                      <a:lnTo>
                        <a:pt x="463" y="395"/>
                      </a:lnTo>
                      <a:lnTo>
                        <a:pt x="468" y="395"/>
                      </a:lnTo>
                      <a:lnTo>
                        <a:pt x="474" y="395"/>
                      </a:lnTo>
                      <a:lnTo>
                        <a:pt x="485" y="389"/>
                      </a:lnTo>
                      <a:lnTo>
                        <a:pt x="491" y="389"/>
                      </a:lnTo>
                      <a:lnTo>
                        <a:pt x="496" y="389"/>
                      </a:lnTo>
                      <a:lnTo>
                        <a:pt x="502" y="382"/>
                      </a:lnTo>
                      <a:lnTo>
                        <a:pt x="508" y="382"/>
                      </a:lnTo>
                      <a:lnTo>
                        <a:pt x="513" y="382"/>
                      </a:lnTo>
                      <a:lnTo>
                        <a:pt x="519" y="382"/>
                      </a:lnTo>
                      <a:lnTo>
                        <a:pt x="525" y="382"/>
                      </a:lnTo>
                      <a:lnTo>
                        <a:pt x="530" y="382"/>
                      </a:lnTo>
                      <a:lnTo>
                        <a:pt x="536" y="382"/>
                      </a:lnTo>
                      <a:lnTo>
                        <a:pt x="542" y="382"/>
                      </a:lnTo>
                      <a:lnTo>
                        <a:pt x="547" y="395"/>
                      </a:lnTo>
                      <a:lnTo>
                        <a:pt x="553" y="414"/>
                      </a:lnTo>
                      <a:lnTo>
                        <a:pt x="553" y="426"/>
                      </a:lnTo>
                      <a:lnTo>
                        <a:pt x="553" y="445"/>
                      </a:lnTo>
                      <a:lnTo>
                        <a:pt x="558" y="451"/>
                      </a:lnTo>
                      <a:lnTo>
                        <a:pt x="558" y="458"/>
                      </a:lnTo>
                      <a:lnTo>
                        <a:pt x="564" y="464"/>
                      </a:lnTo>
                      <a:lnTo>
                        <a:pt x="564" y="476"/>
                      </a:lnTo>
                      <a:lnTo>
                        <a:pt x="570" y="483"/>
                      </a:lnTo>
                      <a:lnTo>
                        <a:pt x="570" y="489"/>
                      </a:lnTo>
                      <a:lnTo>
                        <a:pt x="570" y="495"/>
                      </a:lnTo>
                      <a:lnTo>
                        <a:pt x="570" y="502"/>
                      </a:lnTo>
                      <a:lnTo>
                        <a:pt x="564" y="508"/>
                      </a:lnTo>
                      <a:lnTo>
                        <a:pt x="564" y="514"/>
                      </a:lnTo>
                      <a:lnTo>
                        <a:pt x="558" y="520"/>
                      </a:lnTo>
                      <a:lnTo>
                        <a:pt x="553" y="527"/>
                      </a:lnTo>
                      <a:lnTo>
                        <a:pt x="542" y="533"/>
                      </a:lnTo>
                      <a:lnTo>
                        <a:pt x="536" y="533"/>
                      </a:lnTo>
                      <a:lnTo>
                        <a:pt x="530" y="539"/>
                      </a:lnTo>
                      <a:lnTo>
                        <a:pt x="525" y="545"/>
                      </a:lnTo>
                      <a:lnTo>
                        <a:pt x="536" y="545"/>
                      </a:lnTo>
                      <a:lnTo>
                        <a:pt x="542" y="545"/>
                      </a:lnTo>
                      <a:lnTo>
                        <a:pt x="553" y="552"/>
                      </a:lnTo>
                      <a:lnTo>
                        <a:pt x="558" y="552"/>
                      </a:lnTo>
                      <a:lnTo>
                        <a:pt x="570" y="552"/>
                      </a:lnTo>
                      <a:lnTo>
                        <a:pt x="575" y="552"/>
                      </a:lnTo>
                      <a:lnTo>
                        <a:pt x="587" y="552"/>
                      </a:lnTo>
                      <a:lnTo>
                        <a:pt x="592" y="552"/>
                      </a:lnTo>
                      <a:lnTo>
                        <a:pt x="604" y="552"/>
                      </a:lnTo>
                      <a:lnTo>
                        <a:pt x="615" y="545"/>
                      </a:lnTo>
                      <a:lnTo>
                        <a:pt x="626" y="539"/>
                      </a:lnTo>
                      <a:lnTo>
                        <a:pt x="632" y="527"/>
                      </a:lnTo>
                      <a:lnTo>
                        <a:pt x="643" y="520"/>
                      </a:lnTo>
                      <a:lnTo>
                        <a:pt x="654" y="514"/>
                      </a:lnTo>
                      <a:lnTo>
                        <a:pt x="666" y="508"/>
                      </a:lnTo>
                      <a:lnTo>
                        <a:pt x="677" y="508"/>
                      </a:lnTo>
                      <a:lnTo>
                        <a:pt x="688" y="508"/>
                      </a:lnTo>
                      <a:lnTo>
                        <a:pt x="705" y="508"/>
                      </a:lnTo>
                      <a:lnTo>
                        <a:pt x="716" y="508"/>
                      </a:lnTo>
                      <a:lnTo>
                        <a:pt x="733" y="508"/>
                      </a:lnTo>
                      <a:lnTo>
                        <a:pt x="744" y="514"/>
                      </a:lnTo>
                      <a:lnTo>
                        <a:pt x="761" y="514"/>
                      </a:lnTo>
                      <a:lnTo>
                        <a:pt x="773" y="520"/>
                      </a:lnTo>
                      <a:lnTo>
                        <a:pt x="784" y="520"/>
                      </a:lnTo>
                      <a:lnTo>
                        <a:pt x="801" y="527"/>
                      </a:lnTo>
                      <a:lnTo>
                        <a:pt x="812" y="533"/>
                      </a:lnTo>
                      <a:lnTo>
                        <a:pt x="829" y="539"/>
                      </a:lnTo>
                      <a:lnTo>
                        <a:pt x="840" y="539"/>
                      </a:lnTo>
                      <a:lnTo>
                        <a:pt x="852" y="545"/>
                      </a:lnTo>
                      <a:lnTo>
                        <a:pt x="868" y="552"/>
                      </a:lnTo>
                      <a:lnTo>
                        <a:pt x="880" y="558"/>
                      </a:lnTo>
                      <a:lnTo>
                        <a:pt x="891" y="558"/>
                      </a:lnTo>
                      <a:lnTo>
                        <a:pt x="897" y="564"/>
                      </a:lnTo>
                      <a:lnTo>
                        <a:pt x="902" y="564"/>
                      </a:lnTo>
                      <a:lnTo>
                        <a:pt x="908" y="571"/>
                      </a:lnTo>
                      <a:lnTo>
                        <a:pt x="908" y="571"/>
                      </a:lnTo>
                      <a:lnTo>
                        <a:pt x="914" y="577"/>
                      </a:lnTo>
                      <a:lnTo>
                        <a:pt x="919" y="577"/>
                      </a:lnTo>
                      <a:lnTo>
                        <a:pt x="919" y="583"/>
                      </a:lnTo>
                      <a:lnTo>
                        <a:pt x="925" y="589"/>
                      </a:lnTo>
                      <a:lnTo>
                        <a:pt x="930" y="589"/>
                      </a:lnTo>
                      <a:lnTo>
                        <a:pt x="936" y="596"/>
                      </a:lnTo>
                      <a:lnTo>
                        <a:pt x="942" y="602"/>
                      </a:lnTo>
                      <a:lnTo>
                        <a:pt x="947" y="608"/>
                      </a:lnTo>
                      <a:lnTo>
                        <a:pt x="953" y="614"/>
                      </a:lnTo>
                      <a:lnTo>
                        <a:pt x="964" y="621"/>
                      </a:lnTo>
                      <a:lnTo>
                        <a:pt x="970" y="621"/>
                      </a:lnTo>
                      <a:lnTo>
                        <a:pt x="981" y="627"/>
                      </a:lnTo>
                      <a:lnTo>
                        <a:pt x="992" y="633"/>
                      </a:lnTo>
                      <a:lnTo>
                        <a:pt x="1004" y="633"/>
                      </a:lnTo>
                      <a:lnTo>
                        <a:pt x="1015" y="640"/>
                      </a:lnTo>
                      <a:lnTo>
                        <a:pt x="1026" y="640"/>
                      </a:lnTo>
                      <a:lnTo>
                        <a:pt x="1038" y="640"/>
                      </a:lnTo>
                      <a:lnTo>
                        <a:pt x="1049" y="640"/>
                      </a:lnTo>
                      <a:lnTo>
                        <a:pt x="1060" y="646"/>
                      </a:lnTo>
                      <a:lnTo>
                        <a:pt x="1066" y="646"/>
                      </a:lnTo>
                      <a:lnTo>
                        <a:pt x="1077" y="646"/>
                      </a:lnTo>
                      <a:lnTo>
                        <a:pt x="1088" y="646"/>
                      </a:lnTo>
                      <a:lnTo>
                        <a:pt x="1094" y="646"/>
                      </a:lnTo>
                      <a:lnTo>
                        <a:pt x="1105" y="646"/>
                      </a:lnTo>
                      <a:lnTo>
                        <a:pt x="1111" y="646"/>
                      </a:lnTo>
                      <a:lnTo>
                        <a:pt x="1122" y="646"/>
                      </a:lnTo>
                      <a:lnTo>
                        <a:pt x="1128" y="646"/>
                      </a:lnTo>
                      <a:lnTo>
                        <a:pt x="1133" y="646"/>
                      </a:lnTo>
                      <a:lnTo>
                        <a:pt x="1145" y="646"/>
                      </a:lnTo>
                      <a:lnTo>
                        <a:pt x="1150" y="646"/>
                      </a:lnTo>
                      <a:lnTo>
                        <a:pt x="1161" y="646"/>
                      </a:lnTo>
                      <a:lnTo>
                        <a:pt x="1167" y="646"/>
                      </a:lnTo>
                      <a:lnTo>
                        <a:pt x="1178" y="646"/>
                      </a:lnTo>
                      <a:lnTo>
                        <a:pt x="1190" y="640"/>
                      </a:lnTo>
                      <a:lnTo>
                        <a:pt x="1195" y="640"/>
                      </a:lnTo>
                      <a:lnTo>
                        <a:pt x="1207" y="640"/>
                      </a:lnTo>
                      <a:lnTo>
                        <a:pt x="1207" y="640"/>
                      </a:lnTo>
                      <a:lnTo>
                        <a:pt x="1212" y="633"/>
                      </a:lnTo>
                      <a:lnTo>
                        <a:pt x="1218" y="633"/>
                      </a:lnTo>
                      <a:lnTo>
                        <a:pt x="1223" y="633"/>
                      </a:lnTo>
                      <a:lnTo>
                        <a:pt x="1223" y="627"/>
                      </a:lnTo>
                      <a:lnTo>
                        <a:pt x="1229" y="627"/>
                      </a:lnTo>
                      <a:lnTo>
                        <a:pt x="1235" y="621"/>
                      </a:lnTo>
                      <a:lnTo>
                        <a:pt x="1235" y="621"/>
                      </a:lnTo>
                      <a:lnTo>
                        <a:pt x="1235" y="614"/>
                      </a:lnTo>
                      <a:lnTo>
                        <a:pt x="1235" y="608"/>
                      </a:lnTo>
                      <a:lnTo>
                        <a:pt x="1229" y="608"/>
                      </a:lnTo>
                      <a:lnTo>
                        <a:pt x="1229" y="602"/>
                      </a:lnTo>
                      <a:lnTo>
                        <a:pt x="1223" y="602"/>
                      </a:lnTo>
                      <a:lnTo>
                        <a:pt x="1223" y="596"/>
                      </a:lnTo>
                      <a:lnTo>
                        <a:pt x="1218" y="596"/>
                      </a:lnTo>
                      <a:lnTo>
                        <a:pt x="1218" y="589"/>
                      </a:lnTo>
                      <a:lnTo>
                        <a:pt x="1223" y="589"/>
                      </a:lnTo>
                      <a:lnTo>
                        <a:pt x="1229" y="583"/>
                      </a:lnTo>
                      <a:lnTo>
                        <a:pt x="1235" y="583"/>
                      </a:lnTo>
                      <a:lnTo>
                        <a:pt x="1240" y="583"/>
                      </a:lnTo>
                      <a:lnTo>
                        <a:pt x="1246" y="583"/>
                      </a:lnTo>
                      <a:lnTo>
                        <a:pt x="1252" y="583"/>
                      </a:lnTo>
                      <a:lnTo>
                        <a:pt x="1257" y="577"/>
                      </a:lnTo>
                      <a:lnTo>
                        <a:pt x="1263" y="577"/>
                      </a:lnTo>
                      <a:lnTo>
                        <a:pt x="1263" y="577"/>
                      </a:lnTo>
                      <a:lnTo>
                        <a:pt x="1269" y="571"/>
                      </a:lnTo>
                      <a:lnTo>
                        <a:pt x="1269" y="571"/>
                      </a:lnTo>
                      <a:lnTo>
                        <a:pt x="1274" y="564"/>
                      </a:lnTo>
                      <a:lnTo>
                        <a:pt x="1274" y="564"/>
                      </a:lnTo>
                      <a:lnTo>
                        <a:pt x="1280" y="558"/>
                      </a:lnTo>
                      <a:lnTo>
                        <a:pt x="1280" y="558"/>
                      </a:lnTo>
                      <a:lnTo>
                        <a:pt x="1280" y="552"/>
                      </a:lnTo>
                      <a:lnTo>
                        <a:pt x="1280" y="539"/>
                      </a:lnTo>
                      <a:lnTo>
                        <a:pt x="1274" y="533"/>
                      </a:lnTo>
                      <a:lnTo>
                        <a:pt x="1269" y="520"/>
                      </a:lnTo>
                      <a:lnTo>
                        <a:pt x="1269" y="508"/>
                      </a:lnTo>
                      <a:lnTo>
                        <a:pt x="1269" y="495"/>
                      </a:lnTo>
                      <a:lnTo>
                        <a:pt x="1269" y="489"/>
                      </a:lnTo>
                      <a:lnTo>
                        <a:pt x="1274" y="476"/>
                      </a:lnTo>
                      <a:lnTo>
                        <a:pt x="1269" y="470"/>
                      </a:lnTo>
                      <a:lnTo>
                        <a:pt x="1269" y="464"/>
                      </a:lnTo>
                      <a:lnTo>
                        <a:pt x="1263" y="464"/>
                      </a:lnTo>
                      <a:lnTo>
                        <a:pt x="1263" y="464"/>
                      </a:lnTo>
                      <a:lnTo>
                        <a:pt x="1257" y="464"/>
                      </a:lnTo>
                      <a:lnTo>
                        <a:pt x="1252" y="464"/>
                      </a:lnTo>
                      <a:lnTo>
                        <a:pt x="1252" y="464"/>
                      </a:lnTo>
                      <a:lnTo>
                        <a:pt x="1246" y="464"/>
                      </a:lnTo>
                      <a:lnTo>
                        <a:pt x="1240" y="464"/>
                      </a:lnTo>
                      <a:lnTo>
                        <a:pt x="1235" y="470"/>
                      </a:lnTo>
                      <a:lnTo>
                        <a:pt x="1223" y="476"/>
                      </a:lnTo>
                      <a:lnTo>
                        <a:pt x="1218" y="489"/>
                      </a:lnTo>
                      <a:lnTo>
                        <a:pt x="1207" y="495"/>
                      </a:lnTo>
                      <a:lnTo>
                        <a:pt x="1201" y="508"/>
                      </a:lnTo>
                      <a:lnTo>
                        <a:pt x="1190" y="514"/>
                      </a:lnTo>
                      <a:lnTo>
                        <a:pt x="1184" y="520"/>
                      </a:lnTo>
                      <a:lnTo>
                        <a:pt x="1173" y="527"/>
                      </a:lnTo>
                      <a:lnTo>
                        <a:pt x="1161" y="527"/>
                      </a:lnTo>
                      <a:lnTo>
                        <a:pt x="1150" y="527"/>
                      </a:lnTo>
                      <a:lnTo>
                        <a:pt x="1139" y="527"/>
                      </a:lnTo>
                      <a:lnTo>
                        <a:pt x="1128" y="527"/>
                      </a:lnTo>
                      <a:lnTo>
                        <a:pt x="1116" y="533"/>
                      </a:lnTo>
                      <a:lnTo>
                        <a:pt x="1105" y="527"/>
                      </a:lnTo>
                      <a:lnTo>
                        <a:pt x="1100" y="527"/>
                      </a:lnTo>
                      <a:lnTo>
                        <a:pt x="1088" y="527"/>
                      </a:lnTo>
                      <a:lnTo>
                        <a:pt x="1077" y="527"/>
                      </a:lnTo>
                      <a:lnTo>
                        <a:pt x="1066" y="527"/>
                      </a:lnTo>
                      <a:lnTo>
                        <a:pt x="1054" y="527"/>
                      </a:lnTo>
                      <a:lnTo>
                        <a:pt x="1043" y="520"/>
                      </a:lnTo>
                      <a:lnTo>
                        <a:pt x="1032" y="520"/>
                      </a:lnTo>
                      <a:lnTo>
                        <a:pt x="1021" y="520"/>
                      </a:lnTo>
                      <a:lnTo>
                        <a:pt x="1009" y="514"/>
                      </a:lnTo>
                      <a:lnTo>
                        <a:pt x="998" y="514"/>
                      </a:lnTo>
                      <a:lnTo>
                        <a:pt x="987" y="514"/>
                      </a:lnTo>
                      <a:lnTo>
                        <a:pt x="981" y="508"/>
                      </a:lnTo>
                      <a:lnTo>
                        <a:pt x="970" y="508"/>
                      </a:lnTo>
                      <a:lnTo>
                        <a:pt x="959" y="502"/>
                      </a:lnTo>
                      <a:lnTo>
                        <a:pt x="953" y="502"/>
                      </a:lnTo>
                      <a:lnTo>
                        <a:pt x="942" y="495"/>
                      </a:lnTo>
                      <a:lnTo>
                        <a:pt x="930" y="489"/>
                      </a:lnTo>
                      <a:lnTo>
                        <a:pt x="925" y="489"/>
                      </a:lnTo>
                      <a:lnTo>
                        <a:pt x="914" y="483"/>
                      </a:lnTo>
                      <a:lnTo>
                        <a:pt x="902" y="483"/>
                      </a:lnTo>
                      <a:lnTo>
                        <a:pt x="897" y="476"/>
                      </a:lnTo>
                      <a:lnTo>
                        <a:pt x="885" y="470"/>
                      </a:lnTo>
                      <a:lnTo>
                        <a:pt x="874" y="470"/>
                      </a:lnTo>
                      <a:lnTo>
                        <a:pt x="863" y="464"/>
                      </a:lnTo>
                      <a:lnTo>
                        <a:pt x="857" y="464"/>
                      </a:lnTo>
                      <a:lnTo>
                        <a:pt x="846" y="464"/>
                      </a:lnTo>
                      <a:lnTo>
                        <a:pt x="835" y="458"/>
                      </a:lnTo>
                      <a:lnTo>
                        <a:pt x="829" y="458"/>
                      </a:lnTo>
                      <a:lnTo>
                        <a:pt x="818" y="458"/>
                      </a:lnTo>
                      <a:lnTo>
                        <a:pt x="806" y="458"/>
                      </a:lnTo>
                      <a:lnTo>
                        <a:pt x="795" y="464"/>
                      </a:lnTo>
                      <a:lnTo>
                        <a:pt x="790" y="464"/>
                      </a:lnTo>
                      <a:lnTo>
                        <a:pt x="778" y="464"/>
                      </a:lnTo>
                      <a:lnTo>
                        <a:pt x="767" y="458"/>
                      </a:lnTo>
                      <a:lnTo>
                        <a:pt x="761" y="458"/>
                      </a:lnTo>
                      <a:lnTo>
                        <a:pt x="756" y="458"/>
                      </a:lnTo>
                      <a:lnTo>
                        <a:pt x="750" y="458"/>
                      </a:lnTo>
                      <a:lnTo>
                        <a:pt x="744" y="451"/>
                      </a:lnTo>
                      <a:lnTo>
                        <a:pt x="739" y="451"/>
                      </a:lnTo>
                      <a:lnTo>
                        <a:pt x="733" y="451"/>
                      </a:lnTo>
                      <a:lnTo>
                        <a:pt x="728" y="445"/>
                      </a:lnTo>
                      <a:lnTo>
                        <a:pt x="722" y="445"/>
                      </a:lnTo>
                      <a:lnTo>
                        <a:pt x="716" y="445"/>
                      </a:lnTo>
                      <a:lnTo>
                        <a:pt x="711" y="439"/>
                      </a:lnTo>
                      <a:lnTo>
                        <a:pt x="705" y="439"/>
                      </a:lnTo>
                      <a:lnTo>
                        <a:pt x="699" y="433"/>
                      </a:lnTo>
                      <a:lnTo>
                        <a:pt x="694" y="433"/>
                      </a:lnTo>
                      <a:lnTo>
                        <a:pt x="688" y="426"/>
                      </a:lnTo>
                      <a:lnTo>
                        <a:pt x="688" y="426"/>
                      </a:lnTo>
                      <a:lnTo>
                        <a:pt x="682" y="420"/>
                      </a:lnTo>
                      <a:lnTo>
                        <a:pt x="671" y="414"/>
                      </a:lnTo>
                      <a:lnTo>
                        <a:pt x="666" y="408"/>
                      </a:lnTo>
                      <a:lnTo>
                        <a:pt x="660" y="401"/>
                      </a:lnTo>
                      <a:lnTo>
                        <a:pt x="649" y="395"/>
                      </a:lnTo>
                      <a:lnTo>
                        <a:pt x="643" y="389"/>
                      </a:lnTo>
                      <a:lnTo>
                        <a:pt x="637" y="382"/>
                      </a:lnTo>
                      <a:lnTo>
                        <a:pt x="626" y="370"/>
                      </a:lnTo>
                      <a:lnTo>
                        <a:pt x="620" y="364"/>
                      </a:lnTo>
                      <a:lnTo>
                        <a:pt x="615" y="357"/>
                      </a:lnTo>
                      <a:lnTo>
                        <a:pt x="604" y="345"/>
                      </a:lnTo>
                      <a:lnTo>
                        <a:pt x="598" y="339"/>
                      </a:lnTo>
                      <a:lnTo>
                        <a:pt x="592" y="332"/>
                      </a:lnTo>
                      <a:lnTo>
                        <a:pt x="587" y="320"/>
                      </a:lnTo>
                      <a:lnTo>
                        <a:pt x="581" y="313"/>
                      </a:lnTo>
                      <a:lnTo>
                        <a:pt x="570" y="307"/>
                      </a:lnTo>
                      <a:lnTo>
                        <a:pt x="564" y="295"/>
                      </a:lnTo>
                      <a:lnTo>
                        <a:pt x="558" y="282"/>
                      </a:lnTo>
                      <a:lnTo>
                        <a:pt x="547" y="270"/>
                      </a:lnTo>
                      <a:lnTo>
                        <a:pt x="542" y="257"/>
                      </a:lnTo>
                      <a:lnTo>
                        <a:pt x="536" y="244"/>
                      </a:lnTo>
                      <a:lnTo>
                        <a:pt x="525" y="232"/>
                      </a:lnTo>
                      <a:lnTo>
                        <a:pt x="519" y="219"/>
                      </a:lnTo>
                      <a:lnTo>
                        <a:pt x="513" y="201"/>
                      </a:lnTo>
                      <a:lnTo>
                        <a:pt x="502" y="188"/>
                      </a:lnTo>
                      <a:lnTo>
                        <a:pt x="496" y="182"/>
                      </a:lnTo>
                      <a:lnTo>
                        <a:pt x="496" y="175"/>
                      </a:lnTo>
                      <a:lnTo>
                        <a:pt x="491" y="169"/>
                      </a:lnTo>
                      <a:lnTo>
                        <a:pt x="485" y="163"/>
                      </a:lnTo>
                      <a:lnTo>
                        <a:pt x="480" y="157"/>
                      </a:lnTo>
                      <a:lnTo>
                        <a:pt x="474" y="150"/>
                      </a:lnTo>
                      <a:lnTo>
                        <a:pt x="468" y="150"/>
                      </a:lnTo>
                      <a:lnTo>
                        <a:pt x="457" y="144"/>
                      </a:lnTo>
                      <a:lnTo>
                        <a:pt x="451" y="144"/>
                      </a:lnTo>
                      <a:lnTo>
                        <a:pt x="440" y="138"/>
                      </a:lnTo>
                      <a:lnTo>
                        <a:pt x="434" y="138"/>
                      </a:lnTo>
                      <a:lnTo>
                        <a:pt x="423" y="138"/>
                      </a:lnTo>
                      <a:lnTo>
                        <a:pt x="418" y="138"/>
                      </a:lnTo>
                      <a:lnTo>
                        <a:pt x="406" y="138"/>
                      </a:lnTo>
                      <a:lnTo>
                        <a:pt x="401" y="138"/>
                      </a:lnTo>
                      <a:lnTo>
                        <a:pt x="395" y="138"/>
                      </a:lnTo>
                      <a:lnTo>
                        <a:pt x="378" y="132"/>
                      </a:lnTo>
                      <a:lnTo>
                        <a:pt x="367" y="125"/>
                      </a:lnTo>
                      <a:lnTo>
                        <a:pt x="356" y="125"/>
                      </a:lnTo>
                      <a:lnTo>
                        <a:pt x="344" y="119"/>
                      </a:lnTo>
                      <a:lnTo>
                        <a:pt x="333" y="113"/>
                      </a:lnTo>
                      <a:lnTo>
                        <a:pt x="322" y="113"/>
                      </a:lnTo>
                      <a:lnTo>
                        <a:pt x="310" y="107"/>
                      </a:lnTo>
                      <a:lnTo>
                        <a:pt x="299" y="100"/>
                      </a:lnTo>
                      <a:lnTo>
                        <a:pt x="288" y="100"/>
                      </a:lnTo>
                      <a:lnTo>
                        <a:pt x="277" y="94"/>
                      </a:lnTo>
                      <a:lnTo>
                        <a:pt x="265" y="88"/>
                      </a:lnTo>
                      <a:lnTo>
                        <a:pt x="254" y="88"/>
                      </a:lnTo>
                      <a:lnTo>
                        <a:pt x="243" y="81"/>
                      </a:lnTo>
                      <a:lnTo>
                        <a:pt x="232" y="75"/>
                      </a:lnTo>
                      <a:lnTo>
                        <a:pt x="220" y="75"/>
                      </a:lnTo>
                      <a:lnTo>
                        <a:pt x="209" y="69"/>
                      </a:lnTo>
                      <a:lnTo>
                        <a:pt x="203" y="63"/>
                      </a:lnTo>
                      <a:lnTo>
                        <a:pt x="198" y="63"/>
                      </a:lnTo>
                      <a:lnTo>
                        <a:pt x="192" y="63"/>
                      </a:lnTo>
                      <a:lnTo>
                        <a:pt x="186" y="56"/>
                      </a:lnTo>
                      <a:lnTo>
                        <a:pt x="181" y="56"/>
                      </a:lnTo>
                      <a:lnTo>
                        <a:pt x="175" y="56"/>
                      </a:lnTo>
                      <a:lnTo>
                        <a:pt x="170" y="50"/>
                      </a:lnTo>
                      <a:lnTo>
                        <a:pt x="164" y="50"/>
                      </a:lnTo>
                      <a:lnTo>
                        <a:pt x="158" y="44"/>
                      </a:lnTo>
                      <a:lnTo>
                        <a:pt x="153" y="44"/>
                      </a:lnTo>
                      <a:lnTo>
                        <a:pt x="141" y="44"/>
                      </a:lnTo>
                      <a:lnTo>
                        <a:pt x="136" y="38"/>
                      </a:lnTo>
                      <a:lnTo>
                        <a:pt x="130" y="38"/>
                      </a:lnTo>
                      <a:lnTo>
                        <a:pt x="124" y="38"/>
                      </a:lnTo>
                      <a:lnTo>
                        <a:pt x="119" y="31"/>
                      </a:lnTo>
                      <a:lnTo>
                        <a:pt x="113" y="31"/>
                      </a:lnTo>
                      <a:lnTo>
                        <a:pt x="102" y="31"/>
                      </a:lnTo>
                      <a:lnTo>
                        <a:pt x="91" y="25"/>
                      </a:lnTo>
                      <a:lnTo>
                        <a:pt x="85" y="25"/>
                      </a:lnTo>
                      <a:lnTo>
                        <a:pt x="74" y="19"/>
                      </a:lnTo>
                      <a:lnTo>
                        <a:pt x="62" y="19"/>
                      </a:lnTo>
                      <a:lnTo>
                        <a:pt x="51" y="12"/>
                      </a:lnTo>
                      <a:lnTo>
                        <a:pt x="46" y="6"/>
                      </a:lnTo>
                      <a:lnTo>
                        <a:pt x="34"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
                <p:cNvSpPr/>
                <p:nvPr/>
              </p:nvSpPr>
              <p:spPr>
                <a:xfrm rot="796800">
                  <a:off x="7545240" y="5989680"/>
                  <a:ext cx="102240" cy="56520"/>
                </a:xfrm>
                <a:custGeom>
                  <a:avLst/>
                  <a:gdLst/>
                  <a:ahLst/>
                  <a:rect l="l" t="t" r="r" b="b"/>
                  <a:pathLst>
                    <a:path w="101" h="82">
                      <a:moveTo>
                        <a:pt x="84" y="6"/>
                      </a:moveTo>
                      <a:lnTo>
                        <a:pt x="90" y="6"/>
                      </a:lnTo>
                      <a:lnTo>
                        <a:pt x="96" y="13"/>
                      </a:lnTo>
                      <a:lnTo>
                        <a:pt x="101" y="25"/>
                      </a:lnTo>
                      <a:lnTo>
                        <a:pt x="101" y="32"/>
                      </a:lnTo>
                      <a:lnTo>
                        <a:pt x="101" y="38"/>
                      </a:lnTo>
                      <a:lnTo>
                        <a:pt x="101" y="50"/>
                      </a:lnTo>
                      <a:lnTo>
                        <a:pt x="101" y="57"/>
                      </a:lnTo>
                      <a:lnTo>
                        <a:pt x="96" y="63"/>
                      </a:lnTo>
                      <a:lnTo>
                        <a:pt x="96" y="75"/>
                      </a:lnTo>
                      <a:lnTo>
                        <a:pt x="84" y="75"/>
                      </a:lnTo>
                      <a:lnTo>
                        <a:pt x="73" y="82"/>
                      </a:lnTo>
                      <a:lnTo>
                        <a:pt x="62" y="82"/>
                      </a:lnTo>
                      <a:lnTo>
                        <a:pt x="51" y="82"/>
                      </a:lnTo>
                      <a:lnTo>
                        <a:pt x="34" y="82"/>
                      </a:lnTo>
                      <a:lnTo>
                        <a:pt x="22" y="82"/>
                      </a:lnTo>
                      <a:lnTo>
                        <a:pt x="17" y="82"/>
                      </a:lnTo>
                      <a:lnTo>
                        <a:pt x="11" y="75"/>
                      </a:lnTo>
                      <a:lnTo>
                        <a:pt x="5" y="69"/>
                      </a:lnTo>
                      <a:lnTo>
                        <a:pt x="0" y="63"/>
                      </a:lnTo>
                      <a:lnTo>
                        <a:pt x="0" y="57"/>
                      </a:lnTo>
                      <a:lnTo>
                        <a:pt x="0" y="50"/>
                      </a:lnTo>
                      <a:lnTo>
                        <a:pt x="0" y="38"/>
                      </a:lnTo>
                      <a:lnTo>
                        <a:pt x="5" y="32"/>
                      </a:lnTo>
                      <a:lnTo>
                        <a:pt x="5" y="25"/>
                      </a:lnTo>
                      <a:lnTo>
                        <a:pt x="11" y="13"/>
                      </a:lnTo>
                      <a:lnTo>
                        <a:pt x="17" y="6"/>
                      </a:lnTo>
                      <a:lnTo>
                        <a:pt x="28" y="6"/>
                      </a:lnTo>
                      <a:lnTo>
                        <a:pt x="39" y="0"/>
                      </a:lnTo>
                      <a:lnTo>
                        <a:pt x="51" y="0"/>
                      </a:lnTo>
                      <a:lnTo>
                        <a:pt x="67" y="0"/>
                      </a:lnTo>
                      <a:lnTo>
                        <a:pt x="79" y="0"/>
                      </a:lnTo>
                      <a:lnTo>
                        <a:pt x="84" y="6"/>
                      </a:lnTo>
                      <a:close/>
                    </a:path>
                  </a:pathLst>
                </a:custGeom>
                <a:solidFill>
                  <a:srgbClr val="ffffff"/>
                </a:soli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rot="796800">
                  <a:off x="7632360" y="6093360"/>
                  <a:ext cx="194400" cy="64800"/>
                </a:xfrm>
                <a:custGeom>
                  <a:avLst/>
                  <a:gdLst/>
                  <a:ahLst/>
                  <a:rect l="l" t="t" r="r" b="b"/>
                  <a:pathLst>
                    <a:path w="192" h="94">
                      <a:moveTo>
                        <a:pt x="51" y="31"/>
                      </a:moveTo>
                      <a:lnTo>
                        <a:pt x="56" y="31"/>
                      </a:lnTo>
                      <a:lnTo>
                        <a:pt x="62" y="31"/>
                      </a:lnTo>
                      <a:lnTo>
                        <a:pt x="68" y="25"/>
                      </a:lnTo>
                      <a:lnTo>
                        <a:pt x="73" y="25"/>
                      </a:lnTo>
                      <a:lnTo>
                        <a:pt x="79" y="25"/>
                      </a:lnTo>
                      <a:lnTo>
                        <a:pt x="84" y="18"/>
                      </a:lnTo>
                      <a:lnTo>
                        <a:pt x="90" y="18"/>
                      </a:lnTo>
                      <a:lnTo>
                        <a:pt x="96" y="12"/>
                      </a:lnTo>
                      <a:lnTo>
                        <a:pt x="107" y="12"/>
                      </a:lnTo>
                      <a:lnTo>
                        <a:pt x="113" y="6"/>
                      </a:lnTo>
                      <a:lnTo>
                        <a:pt x="118" y="6"/>
                      </a:lnTo>
                      <a:lnTo>
                        <a:pt x="124" y="0"/>
                      </a:lnTo>
                      <a:lnTo>
                        <a:pt x="130" y="0"/>
                      </a:lnTo>
                      <a:lnTo>
                        <a:pt x="135" y="0"/>
                      </a:lnTo>
                      <a:lnTo>
                        <a:pt x="146" y="0"/>
                      </a:lnTo>
                      <a:lnTo>
                        <a:pt x="152" y="0"/>
                      </a:lnTo>
                      <a:lnTo>
                        <a:pt x="158" y="0"/>
                      </a:lnTo>
                      <a:lnTo>
                        <a:pt x="163" y="6"/>
                      </a:lnTo>
                      <a:lnTo>
                        <a:pt x="175" y="6"/>
                      </a:lnTo>
                      <a:lnTo>
                        <a:pt x="180" y="12"/>
                      </a:lnTo>
                      <a:lnTo>
                        <a:pt x="186" y="18"/>
                      </a:lnTo>
                      <a:lnTo>
                        <a:pt x="186" y="25"/>
                      </a:lnTo>
                      <a:lnTo>
                        <a:pt x="192" y="31"/>
                      </a:lnTo>
                      <a:lnTo>
                        <a:pt x="192" y="43"/>
                      </a:lnTo>
                      <a:lnTo>
                        <a:pt x="186" y="50"/>
                      </a:lnTo>
                      <a:lnTo>
                        <a:pt x="180" y="62"/>
                      </a:lnTo>
                      <a:lnTo>
                        <a:pt x="175" y="69"/>
                      </a:lnTo>
                      <a:lnTo>
                        <a:pt x="163" y="81"/>
                      </a:lnTo>
                      <a:lnTo>
                        <a:pt x="158" y="87"/>
                      </a:lnTo>
                      <a:lnTo>
                        <a:pt x="146" y="87"/>
                      </a:lnTo>
                      <a:lnTo>
                        <a:pt x="141" y="94"/>
                      </a:lnTo>
                      <a:lnTo>
                        <a:pt x="130" y="94"/>
                      </a:lnTo>
                      <a:lnTo>
                        <a:pt x="118" y="94"/>
                      </a:lnTo>
                      <a:lnTo>
                        <a:pt x="113" y="94"/>
                      </a:lnTo>
                      <a:lnTo>
                        <a:pt x="101" y="87"/>
                      </a:lnTo>
                      <a:lnTo>
                        <a:pt x="96" y="87"/>
                      </a:lnTo>
                      <a:lnTo>
                        <a:pt x="90" y="81"/>
                      </a:lnTo>
                      <a:lnTo>
                        <a:pt x="79" y="81"/>
                      </a:lnTo>
                      <a:lnTo>
                        <a:pt x="73" y="75"/>
                      </a:lnTo>
                      <a:lnTo>
                        <a:pt x="62" y="75"/>
                      </a:lnTo>
                      <a:lnTo>
                        <a:pt x="56" y="69"/>
                      </a:lnTo>
                      <a:lnTo>
                        <a:pt x="51" y="62"/>
                      </a:lnTo>
                      <a:lnTo>
                        <a:pt x="39" y="56"/>
                      </a:lnTo>
                      <a:lnTo>
                        <a:pt x="34" y="56"/>
                      </a:lnTo>
                      <a:lnTo>
                        <a:pt x="22" y="50"/>
                      </a:lnTo>
                      <a:lnTo>
                        <a:pt x="17" y="43"/>
                      </a:lnTo>
                      <a:lnTo>
                        <a:pt x="11" y="43"/>
                      </a:lnTo>
                      <a:lnTo>
                        <a:pt x="0" y="37"/>
                      </a:lnTo>
                      <a:lnTo>
                        <a:pt x="6" y="37"/>
                      </a:lnTo>
                      <a:lnTo>
                        <a:pt x="11" y="37"/>
                      </a:lnTo>
                      <a:lnTo>
                        <a:pt x="17" y="37"/>
                      </a:lnTo>
                      <a:lnTo>
                        <a:pt x="28" y="37"/>
                      </a:lnTo>
                      <a:lnTo>
                        <a:pt x="34" y="37"/>
                      </a:lnTo>
                      <a:lnTo>
                        <a:pt x="39" y="37"/>
                      </a:lnTo>
                      <a:lnTo>
                        <a:pt x="45" y="37"/>
                      </a:lnTo>
                      <a:lnTo>
                        <a:pt x="51" y="31"/>
                      </a:lnTo>
                      <a:close/>
                    </a:path>
                  </a:pathLst>
                </a:custGeom>
                <a:solidFill>
                  <a:srgbClr val="ffffff"/>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rot="796800">
                  <a:off x="7737840" y="6217200"/>
                  <a:ext cx="130680" cy="60840"/>
                </a:xfrm>
                <a:custGeom>
                  <a:avLst/>
                  <a:gdLst/>
                  <a:ahLst/>
                  <a:rect l="l" t="t" r="r" b="b"/>
                  <a:pathLst>
                    <a:path w="129" h="88">
                      <a:moveTo>
                        <a:pt x="0" y="19"/>
                      </a:moveTo>
                      <a:lnTo>
                        <a:pt x="0" y="13"/>
                      </a:lnTo>
                      <a:lnTo>
                        <a:pt x="5" y="13"/>
                      </a:lnTo>
                      <a:lnTo>
                        <a:pt x="11" y="6"/>
                      </a:lnTo>
                      <a:lnTo>
                        <a:pt x="16" y="6"/>
                      </a:lnTo>
                      <a:lnTo>
                        <a:pt x="28" y="6"/>
                      </a:lnTo>
                      <a:lnTo>
                        <a:pt x="33" y="6"/>
                      </a:lnTo>
                      <a:lnTo>
                        <a:pt x="39" y="6"/>
                      </a:lnTo>
                      <a:lnTo>
                        <a:pt x="50" y="6"/>
                      </a:lnTo>
                      <a:lnTo>
                        <a:pt x="56" y="6"/>
                      </a:lnTo>
                      <a:lnTo>
                        <a:pt x="62" y="6"/>
                      </a:lnTo>
                      <a:lnTo>
                        <a:pt x="67" y="0"/>
                      </a:lnTo>
                      <a:lnTo>
                        <a:pt x="73" y="0"/>
                      </a:lnTo>
                      <a:lnTo>
                        <a:pt x="78" y="0"/>
                      </a:lnTo>
                      <a:lnTo>
                        <a:pt x="84" y="6"/>
                      </a:lnTo>
                      <a:lnTo>
                        <a:pt x="90" y="6"/>
                      </a:lnTo>
                      <a:lnTo>
                        <a:pt x="95" y="6"/>
                      </a:lnTo>
                      <a:lnTo>
                        <a:pt x="101" y="13"/>
                      </a:lnTo>
                      <a:lnTo>
                        <a:pt x="107" y="13"/>
                      </a:lnTo>
                      <a:lnTo>
                        <a:pt x="107" y="19"/>
                      </a:lnTo>
                      <a:lnTo>
                        <a:pt x="112" y="25"/>
                      </a:lnTo>
                      <a:lnTo>
                        <a:pt x="118" y="31"/>
                      </a:lnTo>
                      <a:lnTo>
                        <a:pt x="118" y="31"/>
                      </a:lnTo>
                      <a:lnTo>
                        <a:pt x="118" y="38"/>
                      </a:lnTo>
                      <a:lnTo>
                        <a:pt x="124" y="44"/>
                      </a:lnTo>
                      <a:lnTo>
                        <a:pt x="124" y="56"/>
                      </a:lnTo>
                      <a:lnTo>
                        <a:pt x="129" y="69"/>
                      </a:lnTo>
                      <a:lnTo>
                        <a:pt x="124" y="75"/>
                      </a:lnTo>
                      <a:lnTo>
                        <a:pt x="118" y="82"/>
                      </a:lnTo>
                      <a:lnTo>
                        <a:pt x="112" y="88"/>
                      </a:lnTo>
                      <a:lnTo>
                        <a:pt x="107" y="88"/>
                      </a:lnTo>
                      <a:lnTo>
                        <a:pt x="101" y="88"/>
                      </a:lnTo>
                      <a:lnTo>
                        <a:pt x="95" y="88"/>
                      </a:lnTo>
                      <a:lnTo>
                        <a:pt x="90" y="88"/>
                      </a:lnTo>
                      <a:lnTo>
                        <a:pt x="78" y="88"/>
                      </a:lnTo>
                      <a:lnTo>
                        <a:pt x="73" y="82"/>
                      </a:lnTo>
                      <a:lnTo>
                        <a:pt x="67" y="82"/>
                      </a:lnTo>
                      <a:lnTo>
                        <a:pt x="56" y="75"/>
                      </a:lnTo>
                      <a:lnTo>
                        <a:pt x="50" y="69"/>
                      </a:lnTo>
                      <a:lnTo>
                        <a:pt x="39" y="63"/>
                      </a:lnTo>
                      <a:lnTo>
                        <a:pt x="28" y="56"/>
                      </a:lnTo>
                      <a:lnTo>
                        <a:pt x="16" y="50"/>
                      </a:lnTo>
                      <a:lnTo>
                        <a:pt x="11" y="38"/>
                      </a:lnTo>
                      <a:lnTo>
                        <a:pt x="5" y="31"/>
                      </a:lnTo>
                      <a:lnTo>
                        <a:pt x="0" y="19"/>
                      </a:lnTo>
                      <a:close/>
                    </a:path>
                  </a:pathLst>
                </a:custGeom>
                <a:solidFill>
                  <a:srgbClr val="ffffff"/>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rot="796800">
                  <a:off x="7653240" y="5667120"/>
                  <a:ext cx="359640" cy="117720"/>
                </a:xfrm>
                <a:custGeom>
                  <a:avLst/>
                  <a:gdLst/>
                  <a:ahLst/>
                  <a:rect l="l" t="t" r="r" b="b"/>
                  <a:pathLst>
                    <a:path w="355" h="170">
                      <a:moveTo>
                        <a:pt x="0" y="75"/>
                      </a:moveTo>
                      <a:lnTo>
                        <a:pt x="11" y="75"/>
                      </a:lnTo>
                      <a:lnTo>
                        <a:pt x="22" y="75"/>
                      </a:lnTo>
                      <a:lnTo>
                        <a:pt x="28" y="82"/>
                      </a:lnTo>
                      <a:lnTo>
                        <a:pt x="39" y="82"/>
                      </a:lnTo>
                      <a:lnTo>
                        <a:pt x="50" y="82"/>
                      </a:lnTo>
                      <a:lnTo>
                        <a:pt x="62" y="82"/>
                      </a:lnTo>
                      <a:lnTo>
                        <a:pt x="67" y="82"/>
                      </a:lnTo>
                      <a:lnTo>
                        <a:pt x="79" y="75"/>
                      </a:lnTo>
                      <a:lnTo>
                        <a:pt x="84" y="69"/>
                      </a:lnTo>
                      <a:lnTo>
                        <a:pt x="90" y="63"/>
                      </a:lnTo>
                      <a:lnTo>
                        <a:pt x="95" y="57"/>
                      </a:lnTo>
                      <a:lnTo>
                        <a:pt x="101" y="44"/>
                      </a:lnTo>
                      <a:lnTo>
                        <a:pt x="101" y="32"/>
                      </a:lnTo>
                      <a:lnTo>
                        <a:pt x="107" y="19"/>
                      </a:lnTo>
                      <a:lnTo>
                        <a:pt x="112" y="13"/>
                      </a:lnTo>
                      <a:lnTo>
                        <a:pt x="118" y="0"/>
                      </a:lnTo>
                      <a:lnTo>
                        <a:pt x="118" y="6"/>
                      </a:lnTo>
                      <a:lnTo>
                        <a:pt x="118" y="13"/>
                      </a:lnTo>
                      <a:lnTo>
                        <a:pt x="124" y="19"/>
                      </a:lnTo>
                      <a:lnTo>
                        <a:pt x="124" y="25"/>
                      </a:lnTo>
                      <a:lnTo>
                        <a:pt x="129" y="32"/>
                      </a:lnTo>
                      <a:lnTo>
                        <a:pt x="129" y="38"/>
                      </a:lnTo>
                      <a:lnTo>
                        <a:pt x="135" y="44"/>
                      </a:lnTo>
                      <a:lnTo>
                        <a:pt x="135" y="50"/>
                      </a:lnTo>
                      <a:lnTo>
                        <a:pt x="135" y="57"/>
                      </a:lnTo>
                      <a:lnTo>
                        <a:pt x="141" y="63"/>
                      </a:lnTo>
                      <a:lnTo>
                        <a:pt x="141" y="75"/>
                      </a:lnTo>
                      <a:lnTo>
                        <a:pt x="141" y="82"/>
                      </a:lnTo>
                      <a:lnTo>
                        <a:pt x="146" y="88"/>
                      </a:lnTo>
                      <a:lnTo>
                        <a:pt x="146" y="94"/>
                      </a:lnTo>
                      <a:lnTo>
                        <a:pt x="152" y="101"/>
                      </a:lnTo>
                      <a:lnTo>
                        <a:pt x="157" y="107"/>
                      </a:lnTo>
                      <a:lnTo>
                        <a:pt x="163" y="113"/>
                      </a:lnTo>
                      <a:lnTo>
                        <a:pt x="174" y="119"/>
                      </a:lnTo>
                      <a:lnTo>
                        <a:pt x="186" y="126"/>
                      </a:lnTo>
                      <a:lnTo>
                        <a:pt x="197" y="132"/>
                      </a:lnTo>
                      <a:lnTo>
                        <a:pt x="208" y="132"/>
                      </a:lnTo>
                      <a:lnTo>
                        <a:pt x="219" y="138"/>
                      </a:lnTo>
                      <a:lnTo>
                        <a:pt x="225" y="138"/>
                      </a:lnTo>
                      <a:lnTo>
                        <a:pt x="236" y="144"/>
                      </a:lnTo>
                      <a:lnTo>
                        <a:pt x="248" y="138"/>
                      </a:lnTo>
                      <a:lnTo>
                        <a:pt x="253" y="138"/>
                      </a:lnTo>
                      <a:lnTo>
                        <a:pt x="259" y="132"/>
                      </a:lnTo>
                      <a:lnTo>
                        <a:pt x="265" y="126"/>
                      </a:lnTo>
                      <a:lnTo>
                        <a:pt x="276" y="119"/>
                      </a:lnTo>
                      <a:lnTo>
                        <a:pt x="281" y="113"/>
                      </a:lnTo>
                      <a:lnTo>
                        <a:pt x="287" y="107"/>
                      </a:lnTo>
                      <a:lnTo>
                        <a:pt x="293" y="101"/>
                      </a:lnTo>
                      <a:lnTo>
                        <a:pt x="298" y="107"/>
                      </a:lnTo>
                      <a:lnTo>
                        <a:pt x="304" y="113"/>
                      </a:lnTo>
                      <a:lnTo>
                        <a:pt x="304" y="119"/>
                      </a:lnTo>
                      <a:lnTo>
                        <a:pt x="310" y="126"/>
                      </a:lnTo>
                      <a:lnTo>
                        <a:pt x="315" y="132"/>
                      </a:lnTo>
                      <a:lnTo>
                        <a:pt x="315" y="138"/>
                      </a:lnTo>
                      <a:lnTo>
                        <a:pt x="321" y="144"/>
                      </a:lnTo>
                      <a:lnTo>
                        <a:pt x="327" y="144"/>
                      </a:lnTo>
                      <a:lnTo>
                        <a:pt x="327" y="151"/>
                      </a:lnTo>
                      <a:lnTo>
                        <a:pt x="332" y="151"/>
                      </a:lnTo>
                      <a:lnTo>
                        <a:pt x="338" y="157"/>
                      </a:lnTo>
                      <a:lnTo>
                        <a:pt x="338" y="157"/>
                      </a:lnTo>
                      <a:lnTo>
                        <a:pt x="343" y="157"/>
                      </a:lnTo>
                      <a:lnTo>
                        <a:pt x="349" y="163"/>
                      </a:lnTo>
                      <a:lnTo>
                        <a:pt x="349" y="163"/>
                      </a:lnTo>
                      <a:lnTo>
                        <a:pt x="355" y="170"/>
                      </a:lnTo>
                      <a:lnTo>
                        <a:pt x="349" y="170"/>
                      </a:lnTo>
                      <a:lnTo>
                        <a:pt x="338" y="170"/>
                      </a:lnTo>
                      <a:lnTo>
                        <a:pt x="332" y="170"/>
                      </a:lnTo>
                      <a:lnTo>
                        <a:pt x="321" y="170"/>
                      </a:lnTo>
                      <a:lnTo>
                        <a:pt x="315" y="170"/>
                      </a:lnTo>
                      <a:lnTo>
                        <a:pt x="304" y="170"/>
                      </a:lnTo>
                      <a:lnTo>
                        <a:pt x="298" y="170"/>
                      </a:lnTo>
                      <a:lnTo>
                        <a:pt x="287" y="170"/>
                      </a:lnTo>
                      <a:lnTo>
                        <a:pt x="281" y="170"/>
                      </a:lnTo>
                      <a:lnTo>
                        <a:pt x="270" y="170"/>
                      </a:lnTo>
                      <a:lnTo>
                        <a:pt x="265" y="170"/>
                      </a:lnTo>
                      <a:lnTo>
                        <a:pt x="253" y="170"/>
                      </a:lnTo>
                      <a:lnTo>
                        <a:pt x="248" y="170"/>
                      </a:lnTo>
                      <a:lnTo>
                        <a:pt x="236" y="170"/>
                      </a:lnTo>
                      <a:lnTo>
                        <a:pt x="231" y="170"/>
                      </a:lnTo>
                      <a:lnTo>
                        <a:pt x="225" y="170"/>
                      </a:lnTo>
                      <a:lnTo>
                        <a:pt x="214" y="170"/>
                      </a:lnTo>
                      <a:lnTo>
                        <a:pt x="208" y="163"/>
                      </a:lnTo>
                      <a:lnTo>
                        <a:pt x="197" y="163"/>
                      </a:lnTo>
                      <a:lnTo>
                        <a:pt x="191" y="163"/>
                      </a:lnTo>
                      <a:lnTo>
                        <a:pt x="186" y="163"/>
                      </a:lnTo>
                      <a:lnTo>
                        <a:pt x="174" y="163"/>
                      </a:lnTo>
                      <a:lnTo>
                        <a:pt x="169" y="157"/>
                      </a:lnTo>
                      <a:lnTo>
                        <a:pt x="157" y="157"/>
                      </a:lnTo>
                      <a:lnTo>
                        <a:pt x="152" y="157"/>
                      </a:lnTo>
                      <a:lnTo>
                        <a:pt x="146" y="157"/>
                      </a:lnTo>
                      <a:lnTo>
                        <a:pt x="135" y="151"/>
                      </a:lnTo>
                      <a:lnTo>
                        <a:pt x="129" y="151"/>
                      </a:lnTo>
                      <a:lnTo>
                        <a:pt x="118" y="144"/>
                      </a:lnTo>
                      <a:lnTo>
                        <a:pt x="112" y="144"/>
                      </a:lnTo>
                      <a:lnTo>
                        <a:pt x="107" y="144"/>
                      </a:lnTo>
                      <a:lnTo>
                        <a:pt x="95" y="138"/>
                      </a:lnTo>
                      <a:lnTo>
                        <a:pt x="90" y="138"/>
                      </a:lnTo>
                      <a:lnTo>
                        <a:pt x="84" y="132"/>
                      </a:lnTo>
                      <a:lnTo>
                        <a:pt x="79" y="132"/>
                      </a:lnTo>
                      <a:lnTo>
                        <a:pt x="73" y="126"/>
                      </a:lnTo>
                      <a:lnTo>
                        <a:pt x="67" y="126"/>
                      </a:lnTo>
                      <a:lnTo>
                        <a:pt x="62" y="119"/>
                      </a:lnTo>
                      <a:lnTo>
                        <a:pt x="56" y="113"/>
                      </a:lnTo>
                      <a:lnTo>
                        <a:pt x="50" y="113"/>
                      </a:lnTo>
                      <a:lnTo>
                        <a:pt x="45" y="107"/>
                      </a:lnTo>
                      <a:lnTo>
                        <a:pt x="39" y="101"/>
                      </a:lnTo>
                      <a:lnTo>
                        <a:pt x="33" y="101"/>
                      </a:lnTo>
                      <a:lnTo>
                        <a:pt x="28" y="94"/>
                      </a:lnTo>
                      <a:lnTo>
                        <a:pt x="22" y="88"/>
                      </a:lnTo>
                      <a:lnTo>
                        <a:pt x="11" y="88"/>
                      </a:lnTo>
                      <a:lnTo>
                        <a:pt x="5" y="82"/>
                      </a:lnTo>
                      <a:lnTo>
                        <a:pt x="0" y="75"/>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49" name="DiagonalStripe"/>
          <p:cNvSpPr/>
          <p:nvPr/>
        </p:nvSpPr>
        <p:spPr>
          <a:xfrm rot="16200000">
            <a:off x="-234720" y="2835360"/>
            <a:ext cx="4176720" cy="3779640"/>
          </a:xfrm>
          <a:custGeom>
            <a:avLst/>
            <a:gdLst>
              <a:gd name="textAreaLeft" fmla="*/ 0 w 4176720"/>
              <a:gd name="textAreaRight" fmla="*/ 3143520 w 4176720"/>
              <a:gd name="textAreaTop" fmla="*/ 0 h 3779640"/>
              <a:gd name="textAreaBottom" fmla="*/ 2844720 h 377964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rot="2898600">
            <a:off x="-1221120" y="4547520"/>
            <a:ext cx="5040000" cy="1219320"/>
          </a:xfrm>
          <a:prstGeom prst="rect">
            <a:avLst/>
          </a:prstGeom>
          <a:noFill/>
          <a:ln w="0">
            <a:noFill/>
          </a:ln>
        </p:spPr>
        <p:style>
          <a:lnRef idx="0"/>
          <a:fillRef idx="0"/>
          <a:effectRef idx="0"/>
          <a:fontRef idx="minor"/>
        </p:style>
        <p:txBody>
          <a:bodyPr lIns="0" rIns="0" tIns="0" bIns="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XtLotfi"/>
                <a:ea typeface="AXtLotfi"/>
              </a:rPr>
              <a:t></a:t>
            </a:r>
            <a:r>
              <a:rPr b="0" lang="hi-IN" sz="4000" spc="-1" strike="noStrike">
                <a:solidFill>
                  <a:srgbClr val="003399"/>
                </a:solidFill>
                <a:latin typeface="AXtLotfi"/>
                <a:cs typeface="AXtLotfi"/>
              </a:rPr>
              <a:t>الخوف</a:t>
            </a:r>
            <a:r>
              <a:rPr b="0" lang="en-US" sz="4000" spc="-1" strike="noStrike">
                <a:solidFill>
                  <a:srgbClr val="003399"/>
                </a:solidFill>
                <a:latin typeface="AXtLotfi"/>
                <a:ea typeface="AXtLotfi"/>
              </a:rPr>
              <a:t></a:t>
            </a:r>
            <a:r>
              <a:rPr b="0" lang="hi-IN" sz="4000" spc="-1" strike="noStrike">
                <a:solidFill>
                  <a:srgbClr val="003399"/>
                </a:solidFill>
                <a:latin typeface="AXtLotfi"/>
                <a:cs typeface="AXtLotfi"/>
              </a:rPr>
              <a:t>من</a:t>
            </a:r>
            <a:r>
              <a:rPr b="0" lang="en-US" sz="4000" spc="-1" strike="noStrike">
                <a:solidFill>
                  <a:srgbClr val="003399"/>
                </a:solidFill>
                <a:latin typeface="AXtLotfi"/>
                <a:ea typeface="AXtLotfi"/>
              </a:rPr>
              <a:t></a:t>
            </a:r>
            <a:r>
              <a:rPr b="0" lang="hi-IN" sz="4000" spc="-1" strike="noStrike">
                <a:solidFill>
                  <a:srgbClr val="003399"/>
                </a:solidFill>
                <a:latin typeface="AXtLotfi"/>
                <a:cs typeface="AXtLotfi"/>
              </a:rPr>
              <a:t>اتهام</a:t>
            </a:r>
            <a:r>
              <a:rPr b="0" lang="en-US" sz="4000" spc="-1" strike="noStrike">
                <a:solidFill>
                  <a:srgbClr val="003399"/>
                </a:solidFill>
                <a:latin typeface="AXtLotfi"/>
                <a:ea typeface="AXtLotfi"/>
              </a:rPr>
              <a:t></a:t>
            </a:r>
            <a:r>
              <a:rPr b="0" lang="hi-IN" sz="4000" spc="-1" strike="noStrike">
                <a:solidFill>
                  <a:srgbClr val="003399"/>
                </a:solidFill>
                <a:latin typeface="AXtLotfi"/>
                <a:cs typeface="AXtLotfi"/>
              </a:rPr>
              <a:t>الآخرين</a:t>
            </a:r>
            <a:r>
              <a:rPr b="0" lang="en-US" sz="4000" spc="-1" strike="noStrike">
                <a:solidFill>
                  <a:srgbClr val="003399"/>
                </a:solidFill>
                <a:latin typeface="AXtLotfi"/>
                <a:ea typeface="AXtLotfi"/>
              </a:rPr>
              <a:t></a:t>
            </a:r>
            <a:r>
              <a:rPr b="0" lang="hi-IN" sz="4000" spc="-1" strike="noStrike">
                <a:solidFill>
                  <a:srgbClr val="003399"/>
                </a:solidFill>
                <a:latin typeface="AXtLotfi"/>
                <a:cs typeface="AXtLotfi"/>
              </a:rPr>
              <a:t>لأفكارنا</a:t>
            </a:r>
            <a:r>
              <a:rPr b="0" lang="en-US" sz="4000" spc="-1" strike="noStrike">
                <a:solidFill>
                  <a:srgbClr val="003399"/>
                </a:solidFill>
                <a:latin typeface="AXtLotfi"/>
                <a:ea typeface="AXtLotfi"/>
              </a:rPr>
              <a:t></a:t>
            </a:r>
            <a:r>
              <a:rPr b="0" lang="hi-IN" sz="4000" spc="-1" strike="noStrike">
                <a:solidFill>
                  <a:srgbClr val="003399"/>
                </a:solidFill>
                <a:latin typeface="AXtLotfi"/>
                <a:cs typeface="AXtLotfi"/>
              </a:rPr>
              <a:t>بالسخافة</a:t>
            </a:r>
            <a:r>
              <a:rPr b="0" lang="en-US" sz="4000" spc="-1" strike="noStrike">
                <a:solidFill>
                  <a:srgbClr val="003399"/>
                </a:solidFill>
                <a:latin typeface="AXtLotfi"/>
                <a:ea typeface="AXtLotfi"/>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49">
                                  <p:stCondLst>
                                    <p:cond delay="0"/>
                                  </p:stCondLst>
                                  <p:childTnLst>
                                    <p:set>
                                      <p:cBhvr>
                                        <p:cTn id="762" dur="1" fill="hold">
                                          <p:stCondLst>
                                            <p:cond delay="0"/>
                                          </p:stCondLst>
                                        </p:cTn>
                                        <p:tgtEl>
                                          <p:spTgt spid="249"/>
                                        </p:tgtEl>
                                        <p:attrNameLst>
                                          <p:attrName>style.visibility</p:attrName>
                                        </p:attrNameLst>
                                      </p:cBhvr>
                                      <p:to>
                                        <p:strVal val="visible"/>
                                      </p:to>
                                    </p:set>
                                    <p:anim calcmode="lin" valueType="num">
                                      <p:cBhvr additive="repl">
                                        <p:cTn id="763" dur="500" fill="hold"/>
                                        <p:tgtEl>
                                          <p:spTgt spid="249"/>
                                        </p:tgtEl>
                                        <p:attrNameLst>
                                          <p:attrName>ppt_w</p:attrName>
                                        </p:attrNameLst>
                                      </p:cBhvr>
                                      <p:tavLst>
                                        <p:tav tm="0">
                                          <p:val>
                                            <p:fltVal val="0"/>
                                          </p:val>
                                        </p:tav>
                                        <p:tav tm="100000">
                                          <p:val>
                                            <p:strVal val="#ppt_w"/>
                                          </p:val>
                                        </p:tav>
                                      </p:tavLst>
                                    </p:anim>
                                    <p:anim calcmode="lin" valueType="num">
                                      <p:cBhvr additive="repl">
                                        <p:cTn id="764" dur="500" fill="hold"/>
                                        <p:tgtEl>
                                          <p:spTgt spid="249"/>
                                        </p:tgtEl>
                                        <p:attrNameLst>
                                          <p:attrName>ppt_h</p:attrName>
                                        </p:attrNameLst>
                                      </p:cBhvr>
                                      <p:tavLst>
                                        <p:tav tm="0">
                                          <p:val>
                                            <p:fltVal val="0"/>
                                          </p:val>
                                        </p:tav>
                                        <p:tav tm="100000">
                                          <p:val>
                                            <p:strVal val="#ppt_h"/>
                                          </p:val>
                                        </p:tav>
                                      </p:tavLst>
                                    </p:anim>
                                    <p:anim calcmode="lin" valueType="num">
                                      <p:cBhvr additive="repl">
                                        <p:cTn id="765" dur="500" fill="hold"/>
                                        <p:tgtEl>
                                          <p:spTgt spid="249"/>
                                        </p:tgtEl>
                                        <p:attrNameLst>
                                          <p:attrName>r</p:attrName>
                                        </p:attrNameLst>
                                      </p:cBhvr>
                                      <p:tavLst>
                                        <p:tav tm="0">
                                          <p:val>
                                            <p:strVal val="360"/>
                                          </p:val>
                                        </p:tav>
                                        <p:tav tm="100000">
                                          <p:val>
                                            <p:strVal val="0"/>
                                          </p:val>
                                        </p:tav>
                                      </p:tavLst>
                                    </p:anim>
                                    <p:animEffect filter="fade" transition="in">
                                      <p:cBhvr additive="repl">
                                        <p:cTn id="766" dur="500"/>
                                        <p:tgtEl>
                                          <p:spTgt spid="249"/>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39">
                                  <p:stCondLst>
                                    <p:cond delay="0"/>
                                  </p:stCondLst>
                                  <p:iterate type="lt">
                                    <p:tmAbs val="0"/>
                                  </p:iterate>
                                  <p:childTnLst>
                                    <p:set>
                                      <p:cBhvr>
                                        <p:cTn id="770" dur="1" fill="hold">
                                          <p:stCondLst>
                                            <p:cond delay="0"/>
                                          </p:stCondLst>
                                        </p:cTn>
                                        <p:tgtEl>
                                          <p:spTgt spid="250">
                                            <p:txEl>
                                              <p:pRg st="0" end="0"/>
                                            </p:txEl>
                                          </p:spTgt>
                                        </p:tgtEl>
                                        <p:attrNameLst>
                                          <p:attrName>style.visibility</p:attrName>
                                        </p:attrNameLst>
                                      </p:cBhvr>
                                      <p:to>
                                        <p:strVal val="visible"/>
                                      </p:to>
                                    </p:set>
                                    <p:anim calcmode="lin" valueType="num">
                                      <p:cBhvr additive="repl">
                                        <p:cTn id="771" dur="500" fill="hold"/>
                                        <p:tgtEl>
                                          <p:spTgt spid="25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2" dur="500" fill="hold"/>
                                        <p:tgtEl>
                                          <p:spTgt spid="25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73" dur="500" fill="hold"/>
                                        <p:tgtEl>
                                          <p:spTgt spid="25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74" dur="500" fill="hold"/>
                                        <p:tgtEl>
                                          <p:spTgt spid="250">
                                            <p:txEl>
                                              <p:pRg st="0" end="0"/>
                                            </p:txEl>
                                          </p:spTgt>
                                        </p:tgtEl>
                                        <p:attrNameLst>
                                          <p:attrName>ppt_y</p:attrName>
                                        </p:attrNameLst>
                                      </p:cBhvr>
                                      <p:tavLst>
                                        <p:tav tm="0">
                                          <p:val>
                                            <p:strVal val="#ppt_y"/>
                                          </p:val>
                                        </p:tav>
                                        <p:tav tm="100000">
                                          <p:val>
                                            <p:strVal val="#ppt_y"/>
                                          </p:val>
                                        </p:tav>
                                      </p:tavLst>
                                    </p:anim>
                                  </p:childTnLst>
                                </p:cTn>
                              </p:par>
                              <p:par>
                                <p:cTn id="775" nodeType="withEffect" fill="hold" presetClass="emph" presetID="36" repeatCount="indefinite">
                                  <p:stCondLst>
                                    <p:cond delay="0"/>
                                  </p:stCondLst>
                                  <p:iterate type="lt">
                                    <p:tmAbs val="37.5"/>
                                  </p:iterate>
                                  <p:childTnLst>
                                    <p:animScale>
                                      <p:cBhvr>
                                        <p:cTn id="776" dur="250" autoRev="1" fill="hold">
                                          <p:stCondLst>
                                            <p:cond delay="0"/>
                                          </p:stCondLst>
                                        </p:cTn>
                                        <p:tgtEl>
                                          <p:spTgt spid="250">
                                            <p:txEl>
                                              <p:pRg st="0" end="0"/>
                                            </p:txEl>
                                          </p:spTgt>
                                        </p:tgtEl>
                                      </p:cBhvr>
                                      <p:to x="80000" y="100000"/>
                                    </p:animScale>
                                    <p:anim calcmode="lin" valueType="num" by="(#ppt_w*0.10)">
                                      <p:cBhvr additive="repl">
                                        <p:cTn id="777" dur="250" autoRev="1" fill="hold">
                                          <p:stCondLst>
                                            <p:cond delay="0"/>
                                          </p:stCondLst>
                                        </p:cTn>
                                        <p:tgtEl>
                                          <p:spTgt spid="250">
                                            <p:txEl>
                                              <p:pRg st="0" end="0"/>
                                            </p:txEl>
                                          </p:spTgt>
                                        </p:tgtEl>
                                        <p:attrNameLst>
                                          <p:attrName>ppt_x</p:attrName>
                                        </p:attrNameLst>
                                      </p:cBhvr>
                                    </p:anim>
                                    <p:anim calcmode="lin" valueType="num" by="(-#ppt_w*0.10)">
                                      <p:cBhvr additive="repl">
                                        <p:cTn id="778" dur="250" autoRev="1" fill="hold">
                                          <p:stCondLst>
                                            <p:cond delay="0"/>
                                          </p:stCondLst>
                                        </p:cTn>
                                        <p:tgtEl>
                                          <p:spTgt spid="250">
                                            <p:txEl>
                                              <p:pRg st="0" end="0"/>
                                            </p:txEl>
                                          </p:spTgt>
                                        </p:tgtEl>
                                        <p:attrNameLst>
                                          <p:attrName>ppt_y</p:attrName>
                                        </p:attrNameLst>
                                      </p:cBhvr>
                                    </p:anim>
                                    <p:animRot by="-480000">
                                      <p:cBhvr>
                                        <p:cTn id="779" dur="250" autoRev="1" fill="hold">
                                          <p:stCondLst>
                                            <p:cond delay="0"/>
                                          </p:stCondLst>
                                        </p:cTn>
                                        <p:tgtEl>
                                          <p:spTgt spid="250">
                                            <p:txEl>
                                              <p:pRg st="0" end="0"/>
                                            </p:txEl>
                                          </p:spTgt>
                                        </p:tgtEl>
                                        <p:attrNameLst>
                                          <p:attrName>r</p:attrName>
                                        </p:attrNameLst>
                                      </p:cBhvr>
                                    </p:animRo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3" presetSubtype="16">
                                  <p:stCondLst>
                                    <p:cond delay="0"/>
                                  </p:stCondLst>
                                  <p:childTnLst>
                                    <p:set>
                                      <p:cBhvr>
                                        <p:cTn id="783" dur="1" fill="hold">
                                          <p:stCondLst>
                                            <p:cond delay="0"/>
                                          </p:stCondLst>
                                        </p:cTn>
                                        <p:tgtEl>
                                          <p:spTgt spid="231"/>
                                        </p:tgtEl>
                                        <p:attrNameLst>
                                          <p:attrName>style.visibility</p:attrName>
                                        </p:attrNameLst>
                                      </p:cBhvr>
                                      <p:to>
                                        <p:strVal val="visible"/>
                                      </p:to>
                                    </p:set>
                                    <p:anim calcmode="lin" valueType="num">
                                      <p:cBhvr additive="repl">
                                        <p:cTn id="784" dur="3000" fill="hold"/>
                                        <p:tgtEl>
                                          <p:spTgt spid="231"/>
                                        </p:tgtEl>
                                        <p:attrNameLst>
                                          <p:attrName>ppt_w</p:attrName>
                                        </p:attrNameLst>
                                      </p:cBhvr>
                                      <p:tavLst>
                                        <p:tav tm="0">
                                          <p:val>
                                            <p:fltVal val="0"/>
                                          </p:val>
                                        </p:tav>
                                        <p:tav tm="100000">
                                          <p:val>
                                            <p:strVal val="#ppt_w"/>
                                          </p:val>
                                        </p:tav>
                                      </p:tavLst>
                                    </p:anim>
                                    <p:anim calcmode="lin" valueType="num">
                                      <p:cBhvr additive="repl">
                                        <p:cTn id="785" dur="3000" fill="hold"/>
                                        <p:tgtEl>
                                          <p:spTgt spid="2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
          <p:cNvSpPr txBox="1"/>
          <p:nvPr/>
        </p:nvSpPr>
        <p:spPr>
          <a:xfrm>
            <a:off x="1042920" y="2924280"/>
            <a:ext cx="6913800" cy="20779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solidFill>
                  <a:srgbClr val="00ff00">
                    <a:alpha val="70000"/>
                  </a:srgbClr>
                </a:solidFill>
                <a:latin typeface="AL-Hor"/>
              </a:rPr>
              <a:t>خطوات جلسة العصف الذهني </a:t>
            </a:r>
            <a:endParaRPr b="0" lang="en-US" sz="4800" spc="1" strike="noStrike">
              <a:ln w="9360">
                <a:solidFill>
                  <a:srgbClr val="000000"/>
                </a:solidFill>
                <a:miter/>
              </a:ln>
              <a:solidFill>
                <a:srgbClr val="00ff00">
                  <a:alpha val="70000"/>
                </a:srgbClr>
              </a:solidFill>
              <a:latin typeface="AL-Hor"/>
              <a:ea typeface="AL-Hor"/>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51" repeatCount="1000">
                                  <p:stCondLst>
                                    <p:cond delay="0"/>
                                  </p:stCondLst>
                                  <p:childTnLst>
                                    <p:set>
                                      <p:cBhvr>
                                        <p:cTn id="791" dur="1" fill="hold">
                                          <p:stCondLst>
                                            <p:cond delay="0"/>
                                          </p:stCondLst>
                                        </p:cTn>
                                        <p:tgtEl>
                                          <p:spTgt spid="251"/>
                                        </p:tgtEl>
                                        <p:attrNameLst>
                                          <p:attrName>style.visibility</p:attrName>
                                        </p:attrNameLst>
                                      </p:cBhvr>
                                      <p:to>
                                        <p:strVal val="visible"/>
                                      </p:to>
                                    </p:set>
                                    <p:animEffect filter="fade" transition="in">
                                      <p:cBhvr additive="repl">
                                        <p:cTn id="792" dur="770"/>
                                        <p:tgtEl>
                                          <p:spTgt spid="251"/>
                                        </p:tgtEl>
                                      </p:cBhvr>
                                    </p:animEffect>
                                    <p:animScale>
                                      <p:cBhvr>
                                        <p:cTn id="793" dur="770" fill="hold"/>
                                        <p:tgtEl>
                                          <p:spTgt spid="251"/>
                                        </p:tgtEl>
                                      </p:cBhvr>
                                      <p:from x="10000" y="10000"/>
                                      <p:to x="200000" y="450000"/>
                                    </p:animScale>
                                    <p:animScale>
                                      <p:cBhvr>
                                        <p:cTn id="794" dur="1230" fill="hold">
                                          <p:stCondLst>
                                            <p:cond delay="770"/>
                                          </p:stCondLst>
                                        </p:cTn>
                                        <p:tgtEl>
                                          <p:spTgt spid="251"/>
                                        </p:tgtEl>
                                      </p:cBhvr>
                                      <p:from x="200000" y="450000"/>
                                      <p:to x="100000" y="100000"/>
                                    </p:animScale>
                                    <p:set>
                                      <p:cBhvr>
                                        <p:cTn id="795" dur="770" fill="hold"/>
                                        <p:tgtEl>
                                          <p:spTgt spid="251"/>
                                        </p:tgtEl>
                                        <p:attrNameLst>
                                          <p:attrName>ppt_x</p:attrName>
                                        </p:attrNameLst>
                                      </p:cBhvr>
                                      <p:to>
                                        <p:strVal val="(0.5)"/>
                                      </p:to>
                                    </p:set>
                                    <p:anim calcmode="lin" valueType="num" from="(0.5)" to="(#ppt_x)">
                                      <p:cBhvr additive="repl">
                                        <p:cTn id="796" dur="1230" fill="hold">
                                          <p:stCondLst>
                                            <p:cond delay="770"/>
                                          </p:stCondLst>
                                        </p:cTn>
                                        <p:tgtEl>
                                          <p:spTgt spid="251"/>
                                        </p:tgtEl>
                                        <p:attrNameLst>
                                          <p:attrName>ppt_x</p:attrName>
                                        </p:attrNameLst>
                                      </p:cBhvr>
                                    </p:anim>
                                    <p:set>
                                      <p:cBhvr>
                                        <p:cTn id="797" dur="770" fill="hold"/>
                                        <p:tgtEl>
                                          <p:spTgt spid="251"/>
                                        </p:tgtEl>
                                        <p:attrNameLst>
                                          <p:attrName>ppt_y</p:attrName>
                                        </p:attrNameLst>
                                      </p:cBhvr>
                                      <p:to>
                                        <p:strVal val="(#ppt_y+0.4)"/>
                                      </p:to>
                                    </p:set>
                                    <p:anim calcmode="lin" valueType="num" from="(#ppt_y+0.4)" to="(#ppt_y)">
                                      <p:cBhvr additive="repl">
                                        <p:cTn id="798" dur="1230" fill="hold">
                                          <p:stCondLst>
                                            <p:cond delay="770"/>
                                          </p:stCondLst>
                                        </p:cTn>
                                        <p:tgtEl>
                                          <p:spTgt spid="251"/>
                                        </p:tgtEl>
                                        <p:attrNameLst>
                                          <p:attrName>ppt_y</p:attrName>
                                        </p:attrNameLst>
                                      </p:cBhvr>
                                    </p:anim>
                                  </p:childTnLst>
                                </p:cTn>
                              </p:par>
                            </p:childTnLst>
                          </p:cTn>
                        </p:par>
                        <p:par>
                          <p:cTn id="799" fill="hold">
                            <p:stCondLst>
                              <p:cond delay="2000"/>
                            </p:stCondLst>
                            <p:childTnLst>
                              <p:par>
                                <p:cTn id="800" nodeType="afterEffect" fill="hold" presetClass="emph" presetID="23" repeatCount="indefinite">
                                  <p:stCondLst>
                                    <p:cond delay="0"/>
                                  </p:stCondLst>
                                  <p:childTnLst>
                                    <p:animClr clrSpc="hsl" dir="cw">
                                      <p:cBhvr>
                                        <p:cTn id="801" dur="500" fill="hold"/>
                                        <p:tgtEl>
                                          <p:spTgt spid="251"/>
                                        </p:tgtEl>
                                        <p:attrNameLst>
                                          <p:attrName>style.color</p:attrName>
                                        </p:attrNameLst>
                                      </p:cBhvr>
                                      <p:by>
                                        <p:hsl h="10842352.9411765" s="0" l="0"/>
                                      </p:by>
                                    </p:animClr>
                                    <p:animClr clrSpc="hsl" dir="cw">
                                      <p:cBhvr>
                                        <p:cTn id="802" dur="500" fill="hold"/>
                                        <p:tgtEl>
                                          <p:spTgt spid="251"/>
                                        </p:tgtEl>
                                        <p:attrNameLst>
                                          <p:attrName>fillcolor</p:attrName>
                                        </p:attrNameLst>
                                      </p:cBhvr>
                                      <p:by>
                                        <p:hsl h="10842352.9411765" s="0" l="0"/>
                                      </p:by>
                                    </p:animClr>
                                    <p:animClr clrSpc="hsl" dir="cw">
                                      <p:cBhvr>
                                        <p:cTn id="803" dur="500" fill="hold"/>
                                        <p:tgtEl>
                                          <p:spTgt spid="251"/>
                                        </p:tgtEl>
                                        <p:attrNameLst>
                                          <p:attrName>stroke.color</p:attrName>
                                        </p:attrNameLst>
                                      </p:cBhvr>
                                      <p:by>
                                        <p:hsl h="10842352.9411765" s="0" l="0"/>
                                      </p:by>
                                    </p:animClr>
                                    <p:set>
                                      <p:cBhvr>
                                        <p:cTn id="804" dur="500" fill="hold"/>
                                        <p:tgtEl>
                                          <p:spTgt spid="2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2" name="" descr=""/>
          <p:cNvPicPr/>
          <p:nvPr/>
        </p:nvPicPr>
        <p:blipFill>
          <a:blip r:embed="rId2"/>
          <a:stretch/>
        </p:blipFill>
        <p:spPr>
          <a:xfrm>
            <a:off x="0" y="1916280"/>
            <a:ext cx="9144000" cy="4968720"/>
          </a:xfrm>
          <a:prstGeom prst="rect">
            <a:avLst/>
          </a:prstGeom>
          <a:ln w="0">
            <a:noFill/>
          </a:ln>
        </p:spPr>
      </p:pic>
      <p:sp>
        <p:nvSpPr>
          <p:cNvPr id="253" name=""/>
          <p:cNvSpPr/>
          <p:nvPr/>
        </p:nvSpPr>
        <p:spPr>
          <a:xfrm>
            <a:off x="468360" y="2417760"/>
            <a:ext cx="8675640" cy="71823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700" spc="-1" strike="noStrike">
                <a:solidFill>
                  <a:srgbClr val="000000"/>
                </a:solidFill>
                <a:latin typeface="Arial"/>
                <a:cs typeface="AL-Hor"/>
              </a:rPr>
              <a:t>يجب أن يكون المشاركين على علم تام بتفاصيل الموضوع في حين يكون البعض الآخر لديهم فكرة بسيطة عنها وفي هذه الحالة المطلوب من قائد الجلسة هو مجرد إعطاء المشاركين الحد الأدنى من المعلومات عن الموضوع لأن إعطاء المزيد من التفاصيل قد يحد بصورة كبيرة من لوحة تفكير المشاركين وحصر تفكيرهم في مجالات صفية محددة</a:t>
            </a:r>
            <a:r>
              <a:rPr b="0" lang="en-US" sz="4700" spc="-1" strike="noStrike">
                <a:solidFill>
                  <a:srgbClr val="000000"/>
                </a:solidFill>
                <a:latin typeface="Arial"/>
                <a:ea typeface="AL-Hor"/>
              </a:rPr>
              <a:t>0</a:t>
            </a:r>
            <a:endParaRPr b="0" lang="en-US" sz="4700" spc="-1" strike="noStrike">
              <a:solidFill>
                <a:srgbClr val="000000"/>
              </a:solidFill>
              <a:latin typeface="Arial"/>
            </a:endParaRPr>
          </a:p>
        </p:txBody>
      </p:sp>
      <p:sp>
        <p:nvSpPr>
          <p:cNvPr id="254" name=""/>
          <p:cNvSpPr/>
          <p:nvPr/>
        </p:nvSpPr>
        <p:spPr>
          <a:xfrm>
            <a:off x="250920" y="836640"/>
            <a:ext cx="8497800" cy="1079640"/>
          </a:xfrm>
          <a:custGeom>
            <a:avLst/>
            <a:gdLst>
              <a:gd name="textAreaLeft" fmla="*/ 1062000 w 8497800"/>
              <a:gd name="textAreaRight" fmla="*/ 7435800 w 8497800"/>
              <a:gd name="textAreaTop" fmla="*/ 360000 h 1079640"/>
              <a:gd name="textAreaBottom" fmla="*/ 1080000 h 1079640"/>
            </a:gdLst>
            <a:ahLst/>
            <a:rect l="textAreaLeft" t="textAreaTop" r="textAreaRight" b="textAreaBottom"/>
            <a:pathLst>
              <a:path w="21600" h="21600">
                <a:moveTo>
                  <a:pt x="0" y="0"/>
                </a:moveTo>
                <a:lnTo>
                  <a:pt x="4725" y="0"/>
                </a:lnTo>
                <a:arcTo wR="675" hR="1800" stAng="16200000" swAng="5400000"/>
                <a:lnTo>
                  <a:pt x="5400" y="7200"/>
                </a:lnTo>
                <a:lnTo>
                  <a:pt x="16200" y="7200"/>
                </a:lnTo>
                <a:lnTo>
                  <a:pt x="16200" y="1800"/>
                </a:lnTo>
                <a:arcTo wR="675" hR="1800" stAng="10800000" swAng="5400000"/>
                <a:lnTo>
                  <a:pt x="21600" y="0"/>
                </a:lnTo>
                <a:lnTo>
                  <a:pt x="18900" y="7200"/>
                </a:lnTo>
                <a:lnTo>
                  <a:pt x="21600" y="14400"/>
                </a:lnTo>
                <a:lnTo>
                  <a:pt x="18900" y="14400"/>
                </a:lnTo>
                <a:lnTo>
                  <a:pt x="18900" y="19800"/>
                </a:lnTo>
                <a:arcTo wR="675" hR="1800" stAng="0" swAng="5400000"/>
                <a:lnTo>
                  <a:pt x="3375" y="21600"/>
                </a:lnTo>
                <a:arcTo wR="675" hR="1800" stAng="5400000" swAng="5400000"/>
                <a:lnTo>
                  <a:pt x="2700" y="14400"/>
                </a:lnTo>
                <a:lnTo>
                  <a:pt x="0" y="14400"/>
                </a:lnTo>
                <a:lnTo>
                  <a:pt x="2700" y="7200"/>
                </a:lnTo>
                <a:close/>
              </a:path>
              <a:path fill="none" w="21600" h="21600">
                <a:moveTo>
                  <a:pt x="5400" y="1800"/>
                </a:moveTo>
                <a:arcTo wR="675" hR="1800" stAng="0" swAng="5400000"/>
                <a:lnTo>
                  <a:pt x="3375" y="3600"/>
                </a:lnTo>
                <a:arcTo wR="675" hR="1800" stAng="16200000" swAng="-5400000"/>
                <a:arcTo wR="675" hR="1800" stAng="10800000" swAng="-5400000"/>
                <a:lnTo>
                  <a:pt x="5400" y="7200"/>
                </a:lnTo>
              </a:path>
              <a:path fill="none" w="21600" h="21600">
                <a:moveTo>
                  <a:pt x="16200" y="1800"/>
                </a:moveTo>
                <a:arcTo wR="675" hR="1800" stAng="10800000" swAng="-5400000"/>
                <a:lnTo>
                  <a:pt x="18225" y="3600"/>
                </a:lnTo>
                <a:arcTo wR="675" hR="1800" stAng="16200000" swAng="5400000"/>
                <a:arcTo wR="675" hR="1800" stAng="0" swAng="5400000"/>
                <a:lnTo>
                  <a:pt x="16200" y="7200"/>
                </a:lnTo>
              </a:path>
              <a:path fill="none" w="21600" h="21600">
                <a:moveTo>
                  <a:pt x="2700" y="5400"/>
                </a:moveTo>
                <a:lnTo>
                  <a:pt x="2700" y="14400"/>
                </a:lnTo>
              </a:path>
              <a:path fill="none" w="21600" h="21600">
                <a:moveTo>
                  <a:pt x="18900" y="5400"/>
                </a:moveTo>
                <a:lnTo>
                  <a:pt x="18900" y="14400"/>
                </a:lnTo>
              </a:path>
            </a:pathLst>
          </a:custGeom>
          <a:solidFill>
            <a:srgbClr val="bbe0e3">
              <a:alpha val="67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Kufi20 Normal"/>
              </a:rPr>
              <a:t>تحديد ومناقشة المشكلة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41">
                                  <p:stCondLst>
                                    <p:cond delay="0"/>
                                  </p:stCondLst>
                                  <p:iterate type="lt">
                                    <p:tmAbs val="50"/>
                                  </p:iterate>
                                  <p:childTnLst>
                                    <p:set>
                                      <p:cBhvr>
                                        <p:cTn id="810" dur="1" fill="hold">
                                          <p:stCondLst>
                                            <p:cond delay="0"/>
                                          </p:stCondLst>
                                        </p:cTn>
                                        <p:tgtEl>
                                          <p:spTgt spid="254"/>
                                        </p:tgtEl>
                                        <p:attrNameLst>
                                          <p:attrName>style.visibility</p:attrName>
                                        </p:attrNameLst>
                                      </p:cBhvr>
                                      <p:to>
                                        <p:strVal val="visible"/>
                                      </p:to>
                                    </p:set>
                                    <p:anim calcmode="lin" valueType="num">
                                      <p:cBhvr additive="repl">
                                        <p:cTn id="811" dur="500" fill="hold"/>
                                        <p:tgtEl>
                                          <p:spTgt spid="2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2" dur="500" fill="hold"/>
                                        <p:tgtEl>
                                          <p:spTgt spid="254"/>
                                        </p:tgtEl>
                                        <p:attrNameLst>
                                          <p:attrName>ppt_y</p:attrName>
                                        </p:attrNameLst>
                                      </p:cBhvr>
                                      <p:tavLst>
                                        <p:tav tm="0">
                                          <p:val>
                                            <p:strVal val="#ppt_y"/>
                                          </p:val>
                                        </p:tav>
                                        <p:tav tm="100000">
                                          <p:val>
                                            <p:strVal val="#ppt_y"/>
                                          </p:val>
                                        </p:tav>
                                      </p:tavLst>
                                    </p:anim>
                                    <p:anim calcmode="lin" valueType="num">
                                      <p:cBhvr additive="repl">
                                        <p:cTn id="813" dur="500" fill="hold"/>
                                        <p:tgtEl>
                                          <p:spTgt spid="2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4" dur="500" fill="hold"/>
                                        <p:tgtEl>
                                          <p:spTgt spid="2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5" dur="500"/>
                                        <p:tgtEl>
                                          <p:spTgt spid="254"/>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30">
                                  <p:stCondLst>
                                    <p:cond delay="0"/>
                                  </p:stCondLst>
                                  <p:childTnLst>
                                    <p:set>
                                      <p:cBhvr>
                                        <p:cTn id="819" dur="1" fill="hold">
                                          <p:stCondLst>
                                            <p:cond delay="0"/>
                                          </p:stCondLst>
                                        </p:cTn>
                                        <p:tgtEl>
                                          <p:spTgt spid="252"/>
                                        </p:tgtEl>
                                        <p:attrNameLst>
                                          <p:attrName>style.visibility</p:attrName>
                                        </p:attrNameLst>
                                      </p:cBhvr>
                                      <p:to>
                                        <p:strVal val="visible"/>
                                      </p:to>
                                    </p:set>
                                    <p:animEffect filter="fade" transition="in">
                                      <p:cBhvr additive="repl">
                                        <p:cTn id="820" dur="800"/>
                                        <p:tgtEl>
                                          <p:spTgt spid="252"/>
                                        </p:tgtEl>
                                      </p:cBhvr>
                                    </p:animEffect>
                                    <p:anim calcmode="lin" valueType="num">
                                      <p:cBhvr additive="repl">
                                        <p:cTn id="821" dur="800" fill="hold"/>
                                        <p:tgtEl>
                                          <p:spTgt spid="252"/>
                                        </p:tgtEl>
                                        <p:attrNameLst>
                                          <p:attrName>r</p:attrName>
                                        </p:attrNameLst>
                                      </p:cBhvr>
                                      <p:tavLst>
                                        <p:tav tm="0">
                                          <p:val>
                                            <p:strVal val="-90"/>
                                          </p:val>
                                        </p:tav>
                                        <p:tav tm="100000">
                                          <p:val>
                                            <p:strVal val="0"/>
                                          </p:val>
                                        </p:tav>
                                      </p:tavLst>
                                    </p:anim>
                                    <p:anim calcmode="lin" valueType="num">
                                      <p:cBhvr additive="repl">
                                        <p:cTn id="822" dur="800" fill="hold"/>
                                        <p:tgtEl>
                                          <p:spTgt spid="252"/>
                                        </p:tgtEl>
                                        <p:attrNameLst>
                                          <p:attrName>ppt_x</p:attrName>
                                        </p:attrNameLst>
                                      </p:cBhvr>
                                      <p:tavLst>
                                        <p:tav tm="0">
                                          <p:val>
                                            <p:strVal val="#ppt_x+0.4"/>
                                          </p:val>
                                        </p:tav>
                                        <p:tav tm="100000">
                                          <p:val>
                                            <p:strVal val="#ppt_x-0.05"/>
                                          </p:val>
                                        </p:tav>
                                      </p:tavLst>
                                    </p:anim>
                                    <p:anim calcmode="lin" valueType="num">
                                      <p:cBhvr additive="repl">
                                        <p:cTn id="823" dur="800" fill="hold"/>
                                        <p:tgtEl>
                                          <p:spTgt spid="252"/>
                                        </p:tgtEl>
                                        <p:attrNameLst>
                                          <p:attrName>ppt_y</p:attrName>
                                        </p:attrNameLst>
                                      </p:cBhvr>
                                      <p:tavLst>
                                        <p:tav tm="0">
                                          <p:val>
                                            <p:strVal val="#ppt_y-0.4"/>
                                          </p:val>
                                        </p:tav>
                                        <p:tav tm="100000">
                                          <p:val>
                                            <p:strVal val="#ppt_y+0.1"/>
                                          </p:val>
                                        </p:tav>
                                      </p:tavLst>
                                    </p:anim>
                                    <p:anim calcmode="lin" valueType="num">
                                      <p:cBhvr additive="repl">
                                        <p:cTn id="824" dur="200" fill="hold">
                                          <p:stCondLst>
                                            <p:cond delay="800"/>
                                          </p:stCondLst>
                                        </p:cTn>
                                        <p:tgtEl>
                                          <p:spTgt spid="252"/>
                                        </p:tgtEl>
                                        <p:attrNameLst>
                                          <p:attrName>ppt_x</p:attrName>
                                        </p:attrNameLst>
                                      </p:cBhvr>
                                      <p:tavLst>
                                        <p:tav tm="0">
                                          <p:val>
                                            <p:strVal val="#ppt_x-0.05"/>
                                          </p:val>
                                        </p:tav>
                                        <p:tav tm="100000">
                                          <p:val>
                                            <p:strVal val="#ppt_x"/>
                                          </p:val>
                                        </p:tav>
                                      </p:tavLst>
                                    </p:anim>
                                    <p:anim calcmode="lin" valueType="num">
                                      <p:cBhvr additive="repl">
                                        <p:cTn id="825" dur="200" fill="hold">
                                          <p:stCondLst>
                                            <p:cond delay="800"/>
                                          </p:stCondLst>
                                        </p:cTn>
                                        <p:tgtEl>
                                          <p:spTgt spid="252"/>
                                        </p:tgtEl>
                                        <p:attrNameLst>
                                          <p:attrName>ppt_y</p:attrName>
                                        </p:attrNameLst>
                                      </p:cBhvr>
                                      <p:tavLst>
                                        <p:tav tm="0">
                                          <p:val>
                                            <p:strVal val="#ppt_y+0.1"/>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39">
                                  <p:stCondLst>
                                    <p:cond delay="0"/>
                                  </p:stCondLst>
                                  <p:childTnLst>
                                    <p:set>
                                      <p:cBhvr>
                                        <p:cTn id="829" dur="1" fill="hold">
                                          <p:stCondLst>
                                            <p:cond delay="0"/>
                                          </p:stCondLst>
                                        </p:cTn>
                                        <p:tgtEl>
                                          <p:spTgt spid="253"/>
                                        </p:tgtEl>
                                        <p:attrNameLst>
                                          <p:attrName>style.visibility</p:attrName>
                                        </p:attrNameLst>
                                      </p:cBhvr>
                                      <p:to>
                                        <p:strVal val="visible"/>
                                      </p:to>
                                    </p:set>
                                    <p:anim calcmode="lin" valueType="num">
                                      <p:cBhvr additive="repl">
                                        <p:cTn id="830" dur="500" fill="hold"/>
                                        <p:tgtEl>
                                          <p:spTgt spid="2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31" dur="500" fill="hold"/>
                                        <p:tgtEl>
                                          <p:spTgt spid="2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32" dur="500" fill="hold"/>
                                        <p:tgtEl>
                                          <p:spTgt spid="2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833"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55" name=""/>
          <p:cNvGrpSpPr/>
          <p:nvPr/>
        </p:nvGrpSpPr>
        <p:grpSpPr>
          <a:xfrm>
            <a:off x="203040" y="1857240"/>
            <a:ext cx="8577360" cy="5097600"/>
            <a:chOff x="203040" y="1857240"/>
            <a:chExt cx="8577360" cy="5097600"/>
          </a:xfrm>
        </p:grpSpPr>
        <p:sp>
          <p:nvSpPr>
            <p:cNvPr id="256" name=""/>
            <p:cNvSpPr/>
            <p:nvPr/>
          </p:nvSpPr>
          <p:spPr>
            <a:xfrm>
              <a:off x="203040" y="1857240"/>
              <a:ext cx="8541000" cy="4795920"/>
            </a:xfrm>
            <a:custGeom>
              <a:avLst/>
              <a:gdLst/>
              <a:ahLst/>
              <a:rect l="l" t="t" r="r" b="b"/>
              <a:pathLst>
                <a:path w="5380" h="3021">
                  <a:moveTo>
                    <a:pt x="1755" y="3021"/>
                  </a:moveTo>
                  <a:lnTo>
                    <a:pt x="0" y="3012"/>
                  </a:lnTo>
                  <a:lnTo>
                    <a:pt x="8" y="0"/>
                  </a:lnTo>
                  <a:lnTo>
                    <a:pt x="5380" y="0"/>
                  </a:lnTo>
                  <a:lnTo>
                    <a:pt x="5380" y="0"/>
                  </a:lnTo>
                  <a:lnTo>
                    <a:pt x="5376" y="2597"/>
                  </a:lnTo>
                  <a:lnTo>
                    <a:pt x="1755" y="3021"/>
                  </a:lnTo>
                  <a:close/>
                </a:path>
              </a:pathLst>
            </a:custGeom>
            <a:gradFill rotWithShape="0">
              <a:gsLst>
                <a:gs pos="0">
                  <a:srgbClr val="ff9966">
                    <a:alpha val="19215"/>
                  </a:srgbClr>
                </a:gs>
                <a:gs pos="100000">
                  <a:srgbClr val="ffcc00"/>
                </a:gs>
              </a:gsLst>
              <a:path path="rect">
                <a:fillToRect l="50000" t="50000" r="50000" b="50000"/>
              </a:path>
            </a:gradFill>
            <a:ln w="31680">
              <a:solidFill>
                <a:srgbClr val="ff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rot="180600">
              <a:off x="3015720" y="5660640"/>
              <a:ext cx="5727960" cy="1144440"/>
            </a:xfrm>
            <a:custGeom>
              <a:avLst/>
              <a:gdLst/>
              <a:ahLst/>
              <a:rect l="l" t="t" r="r" b="b"/>
              <a:pathLst>
                <a:path w="1902" h="576">
                  <a:moveTo>
                    <a:pt x="0" y="576"/>
                  </a:moveTo>
                  <a:lnTo>
                    <a:pt x="1830" y="116"/>
                  </a:lnTo>
                  <a:lnTo>
                    <a:pt x="1854" y="108"/>
                  </a:lnTo>
                  <a:lnTo>
                    <a:pt x="1872" y="100"/>
                  </a:lnTo>
                  <a:lnTo>
                    <a:pt x="1884" y="91"/>
                  </a:lnTo>
                  <a:lnTo>
                    <a:pt x="1890" y="83"/>
                  </a:lnTo>
                  <a:lnTo>
                    <a:pt x="1896" y="71"/>
                  </a:lnTo>
                  <a:lnTo>
                    <a:pt x="1902" y="62"/>
                  </a:lnTo>
                  <a:lnTo>
                    <a:pt x="1902" y="50"/>
                  </a:lnTo>
                  <a:lnTo>
                    <a:pt x="1902" y="42"/>
                  </a:lnTo>
                  <a:lnTo>
                    <a:pt x="1902" y="54"/>
                  </a:lnTo>
                  <a:lnTo>
                    <a:pt x="1902" y="67"/>
                  </a:lnTo>
                  <a:lnTo>
                    <a:pt x="1896" y="75"/>
                  </a:lnTo>
                  <a:lnTo>
                    <a:pt x="1884" y="87"/>
                  </a:lnTo>
                  <a:lnTo>
                    <a:pt x="1878" y="96"/>
                  </a:lnTo>
                  <a:lnTo>
                    <a:pt x="1866" y="100"/>
                  </a:lnTo>
                  <a:lnTo>
                    <a:pt x="1854" y="108"/>
                  </a:lnTo>
                  <a:lnTo>
                    <a:pt x="1842" y="112"/>
                  </a:lnTo>
                  <a:lnTo>
                    <a:pt x="1824" y="116"/>
                  </a:lnTo>
                  <a:lnTo>
                    <a:pt x="1806" y="120"/>
                  </a:lnTo>
                  <a:lnTo>
                    <a:pt x="1788" y="125"/>
                  </a:lnTo>
                  <a:lnTo>
                    <a:pt x="1770" y="125"/>
                  </a:lnTo>
                  <a:lnTo>
                    <a:pt x="1746" y="125"/>
                  </a:lnTo>
                  <a:lnTo>
                    <a:pt x="1728" y="125"/>
                  </a:lnTo>
                  <a:lnTo>
                    <a:pt x="1704" y="125"/>
                  </a:lnTo>
                  <a:lnTo>
                    <a:pt x="1680" y="125"/>
                  </a:lnTo>
                  <a:lnTo>
                    <a:pt x="1656" y="120"/>
                  </a:lnTo>
                  <a:lnTo>
                    <a:pt x="1632" y="120"/>
                  </a:lnTo>
                  <a:lnTo>
                    <a:pt x="1608" y="116"/>
                  </a:lnTo>
                  <a:lnTo>
                    <a:pt x="1584" y="108"/>
                  </a:lnTo>
                  <a:lnTo>
                    <a:pt x="1560" y="104"/>
                  </a:lnTo>
                  <a:lnTo>
                    <a:pt x="1530" y="100"/>
                  </a:lnTo>
                  <a:lnTo>
                    <a:pt x="1506" y="91"/>
                  </a:lnTo>
                  <a:lnTo>
                    <a:pt x="1482" y="83"/>
                  </a:lnTo>
                  <a:lnTo>
                    <a:pt x="1458" y="75"/>
                  </a:lnTo>
                  <a:lnTo>
                    <a:pt x="1434" y="67"/>
                  </a:lnTo>
                  <a:lnTo>
                    <a:pt x="1410" y="58"/>
                  </a:lnTo>
                  <a:lnTo>
                    <a:pt x="1386" y="46"/>
                  </a:lnTo>
                  <a:lnTo>
                    <a:pt x="1362" y="37"/>
                  </a:lnTo>
                  <a:lnTo>
                    <a:pt x="1338" y="25"/>
                  </a:lnTo>
                  <a:lnTo>
                    <a:pt x="1320" y="13"/>
                  </a:lnTo>
                  <a:lnTo>
                    <a:pt x="1296" y="0"/>
                  </a:lnTo>
                  <a:lnTo>
                    <a:pt x="1272" y="21"/>
                  </a:lnTo>
                  <a:lnTo>
                    <a:pt x="1242" y="42"/>
                  </a:lnTo>
                  <a:lnTo>
                    <a:pt x="1212" y="62"/>
                  </a:lnTo>
                  <a:lnTo>
                    <a:pt x="1182" y="83"/>
                  </a:lnTo>
                  <a:lnTo>
                    <a:pt x="1152" y="104"/>
                  </a:lnTo>
                  <a:lnTo>
                    <a:pt x="1122" y="120"/>
                  </a:lnTo>
                  <a:lnTo>
                    <a:pt x="1086" y="141"/>
                  </a:lnTo>
                  <a:lnTo>
                    <a:pt x="1050" y="162"/>
                  </a:lnTo>
                  <a:lnTo>
                    <a:pt x="1014" y="178"/>
                  </a:lnTo>
                  <a:lnTo>
                    <a:pt x="978" y="199"/>
                  </a:lnTo>
                  <a:lnTo>
                    <a:pt x="936" y="216"/>
                  </a:lnTo>
                  <a:lnTo>
                    <a:pt x="900" y="236"/>
                  </a:lnTo>
                  <a:lnTo>
                    <a:pt x="858" y="253"/>
                  </a:lnTo>
                  <a:lnTo>
                    <a:pt x="816" y="274"/>
                  </a:lnTo>
                  <a:lnTo>
                    <a:pt x="774" y="290"/>
                  </a:lnTo>
                  <a:lnTo>
                    <a:pt x="732" y="311"/>
                  </a:lnTo>
                  <a:lnTo>
                    <a:pt x="690" y="328"/>
                  </a:lnTo>
                  <a:lnTo>
                    <a:pt x="642" y="344"/>
                  </a:lnTo>
                  <a:lnTo>
                    <a:pt x="600" y="361"/>
                  </a:lnTo>
                  <a:lnTo>
                    <a:pt x="558" y="377"/>
                  </a:lnTo>
                  <a:lnTo>
                    <a:pt x="510" y="398"/>
                  </a:lnTo>
                  <a:lnTo>
                    <a:pt x="462" y="415"/>
                  </a:lnTo>
                  <a:lnTo>
                    <a:pt x="420" y="431"/>
                  </a:lnTo>
                  <a:lnTo>
                    <a:pt x="372" y="448"/>
                  </a:lnTo>
                  <a:lnTo>
                    <a:pt x="324" y="464"/>
                  </a:lnTo>
                  <a:lnTo>
                    <a:pt x="276" y="481"/>
                  </a:lnTo>
                  <a:lnTo>
                    <a:pt x="234" y="498"/>
                  </a:lnTo>
                  <a:lnTo>
                    <a:pt x="186" y="510"/>
                  </a:lnTo>
                  <a:lnTo>
                    <a:pt x="138" y="527"/>
                  </a:lnTo>
                  <a:lnTo>
                    <a:pt x="90" y="543"/>
                  </a:lnTo>
                  <a:lnTo>
                    <a:pt x="42" y="560"/>
                  </a:lnTo>
                  <a:lnTo>
                    <a:pt x="0" y="576"/>
                  </a:lnTo>
                  <a:close/>
                </a:path>
              </a:pathLst>
            </a:custGeom>
            <a:gradFill rotWithShape="0">
              <a:gsLst>
                <a:gs pos="0">
                  <a:srgbClr val="ff9966">
                    <a:alpha val="19215"/>
                  </a:srgbClr>
                </a:gs>
                <a:gs pos="100000">
                  <a:srgbClr val="ffcc00"/>
                </a:gs>
              </a:gsLst>
              <a:path path="rect">
                <a:fillToRect l="50000" t="50000" r="50000" b="50000"/>
              </a:path>
            </a:gradFill>
            <a:ln w="31680">
              <a:solidFill>
                <a:srgbClr val="ff99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2998800" y="5905440"/>
              <a:ext cx="5546880" cy="763560"/>
            </a:xfrm>
            <a:custGeom>
              <a:avLst/>
              <a:gdLst/>
              <a:ahLst/>
              <a:rect l="l" t="t" r="r" b="b"/>
              <a:pathLst>
                <a:path w="1842" h="472">
                  <a:moveTo>
                    <a:pt x="1836" y="0"/>
                  </a:moveTo>
                  <a:lnTo>
                    <a:pt x="1836" y="0"/>
                  </a:lnTo>
                  <a:lnTo>
                    <a:pt x="0" y="460"/>
                  </a:lnTo>
                  <a:lnTo>
                    <a:pt x="6" y="472"/>
                  </a:lnTo>
                  <a:lnTo>
                    <a:pt x="1842" y="12"/>
                  </a:lnTo>
                  <a:lnTo>
                    <a:pt x="1842" y="12"/>
                  </a:lnTo>
                  <a:lnTo>
                    <a:pt x="1836" y="0"/>
                  </a:lnTo>
                  <a:close/>
                </a:path>
              </a:pathLst>
            </a:custGeom>
            <a:gradFill rotWithShape="0">
              <a:gsLst>
                <a:gs pos="0">
                  <a:srgbClr val="ff9966">
                    <a:alpha val="19215"/>
                  </a:srgbClr>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8528040" y="5799240"/>
              <a:ext cx="252360" cy="125280"/>
            </a:xfrm>
            <a:custGeom>
              <a:avLst/>
              <a:gdLst/>
              <a:ahLst/>
              <a:rect l="l" t="t" r="r" b="b"/>
              <a:pathLst>
                <a:path w="84" h="78">
                  <a:moveTo>
                    <a:pt x="84" y="0"/>
                  </a:moveTo>
                  <a:lnTo>
                    <a:pt x="66" y="0"/>
                  </a:lnTo>
                  <a:lnTo>
                    <a:pt x="66" y="8"/>
                  </a:lnTo>
                  <a:lnTo>
                    <a:pt x="60" y="16"/>
                  </a:lnTo>
                  <a:lnTo>
                    <a:pt x="60" y="29"/>
                  </a:lnTo>
                  <a:lnTo>
                    <a:pt x="54" y="37"/>
                  </a:lnTo>
                  <a:lnTo>
                    <a:pt x="48" y="45"/>
                  </a:lnTo>
                  <a:lnTo>
                    <a:pt x="36" y="54"/>
                  </a:lnTo>
                  <a:lnTo>
                    <a:pt x="18" y="62"/>
                  </a:lnTo>
                  <a:lnTo>
                    <a:pt x="0" y="66"/>
                  </a:lnTo>
                  <a:lnTo>
                    <a:pt x="6" y="78"/>
                  </a:lnTo>
                  <a:lnTo>
                    <a:pt x="30" y="70"/>
                  </a:lnTo>
                  <a:lnTo>
                    <a:pt x="48" y="62"/>
                  </a:lnTo>
                  <a:lnTo>
                    <a:pt x="60" y="54"/>
                  </a:lnTo>
                  <a:lnTo>
                    <a:pt x="72" y="41"/>
                  </a:lnTo>
                  <a:lnTo>
                    <a:pt x="78" y="33"/>
                  </a:lnTo>
                  <a:lnTo>
                    <a:pt x="78" y="20"/>
                  </a:lnTo>
                  <a:lnTo>
                    <a:pt x="84" y="8"/>
                  </a:lnTo>
                  <a:lnTo>
                    <a:pt x="84" y="0"/>
                  </a:lnTo>
                  <a:lnTo>
                    <a:pt x="66" y="0"/>
                  </a:lnTo>
                  <a:lnTo>
                    <a:pt x="84" y="0"/>
                  </a:lnTo>
                  <a:close/>
                </a:path>
              </a:pathLst>
            </a:custGeom>
            <a:gradFill rotWithShape="0">
              <a:gsLst>
                <a:gs pos="0">
                  <a:srgbClr val="ff9966">
                    <a:alpha val="19215"/>
                  </a:srgbClr>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900840" y="5724360"/>
              <a:ext cx="1879560" cy="222480"/>
            </a:xfrm>
            <a:custGeom>
              <a:avLst/>
              <a:gdLst/>
              <a:ahLst/>
              <a:rect l="l" t="t" r="r" b="b"/>
              <a:pathLst>
                <a:path w="624" h="137">
                  <a:moveTo>
                    <a:pt x="12" y="8"/>
                  </a:moveTo>
                  <a:lnTo>
                    <a:pt x="0" y="8"/>
                  </a:lnTo>
                  <a:lnTo>
                    <a:pt x="24" y="21"/>
                  </a:lnTo>
                  <a:lnTo>
                    <a:pt x="42" y="33"/>
                  </a:lnTo>
                  <a:lnTo>
                    <a:pt x="66" y="46"/>
                  </a:lnTo>
                  <a:lnTo>
                    <a:pt x="90" y="58"/>
                  </a:lnTo>
                  <a:lnTo>
                    <a:pt x="114" y="66"/>
                  </a:lnTo>
                  <a:lnTo>
                    <a:pt x="138" y="75"/>
                  </a:lnTo>
                  <a:lnTo>
                    <a:pt x="162" y="87"/>
                  </a:lnTo>
                  <a:lnTo>
                    <a:pt x="186" y="91"/>
                  </a:lnTo>
                  <a:lnTo>
                    <a:pt x="216" y="100"/>
                  </a:lnTo>
                  <a:lnTo>
                    <a:pt x="240" y="108"/>
                  </a:lnTo>
                  <a:lnTo>
                    <a:pt x="264" y="116"/>
                  </a:lnTo>
                  <a:lnTo>
                    <a:pt x="288" y="120"/>
                  </a:lnTo>
                  <a:lnTo>
                    <a:pt x="318" y="124"/>
                  </a:lnTo>
                  <a:lnTo>
                    <a:pt x="342" y="129"/>
                  </a:lnTo>
                  <a:lnTo>
                    <a:pt x="366" y="133"/>
                  </a:lnTo>
                  <a:lnTo>
                    <a:pt x="390" y="133"/>
                  </a:lnTo>
                  <a:lnTo>
                    <a:pt x="414" y="137"/>
                  </a:lnTo>
                  <a:lnTo>
                    <a:pt x="438" y="137"/>
                  </a:lnTo>
                  <a:lnTo>
                    <a:pt x="456" y="137"/>
                  </a:lnTo>
                  <a:lnTo>
                    <a:pt x="480" y="137"/>
                  </a:lnTo>
                  <a:lnTo>
                    <a:pt x="498" y="133"/>
                  </a:lnTo>
                  <a:lnTo>
                    <a:pt x="516" y="133"/>
                  </a:lnTo>
                  <a:lnTo>
                    <a:pt x="534" y="129"/>
                  </a:lnTo>
                  <a:lnTo>
                    <a:pt x="552" y="124"/>
                  </a:lnTo>
                  <a:lnTo>
                    <a:pt x="570" y="116"/>
                  </a:lnTo>
                  <a:lnTo>
                    <a:pt x="582" y="112"/>
                  </a:lnTo>
                  <a:lnTo>
                    <a:pt x="594" y="104"/>
                  </a:lnTo>
                  <a:lnTo>
                    <a:pt x="606" y="91"/>
                  </a:lnTo>
                  <a:lnTo>
                    <a:pt x="612" y="83"/>
                  </a:lnTo>
                  <a:lnTo>
                    <a:pt x="618" y="71"/>
                  </a:lnTo>
                  <a:lnTo>
                    <a:pt x="624" y="58"/>
                  </a:lnTo>
                  <a:lnTo>
                    <a:pt x="624" y="46"/>
                  </a:lnTo>
                  <a:lnTo>
                    <a:pt x="606" y="46"/>
                  </a:lnTo>
                  <a:lnTo>
                    <a:pt x="606" y="58"/>
                  </a:lnTo>
                  <a:lnTo>
                    <a:pt x="600" y="66"/>
                  </a:lnTo>
                  <a:lnTo>
                    <a:pt x="594" y="79"/>
                  </a:lnTo>
                  <a:lnTo>
                    <a:pt x="588" y="87"/>
                  </a:lnTo>
                  <a:lnTo>
                    <a:pt x="582" y="95"/>
                  </a:lnTo>
                  <a:lnTo>
                    <a:pt x="570" y="100"/>
                  </a:lnTo>
                  <a:lnTo>
                    <a:pt x="558" y="108"/>
                  </a:lnTo>
                  <a:lnTo>
                    <a:pt x="546" y="112"/>
                  </a:lnTo>
                  <a:lnTo>
                    <a:pt x="528" y="116"/>
                  </a:lnTo>
                  <a:lnTo>
                    <a:pt x="516" y="120"/>
                  </a:lnTo>
                  <a:lnTo>
                    <a:pt x="498" y="120"/>
                  </a:lnTo>
                  <a:lnTo>
                    <a:pt x="480" y="124"/>
                  </a:lnTo>
                  <a:lnTo>
                    <a:pt x="456" y="124"/>
                  </a:lnTo>
                  <a:lnTo>
                    <a:pt x="438" y="124"/>
                  </a:lnTo>
                  <a:lnTo>
                    <a:pt x="414" y="124"/>
                  </a:lnTo>
                  <a:lnTo>
                    <a:pt x="390" y="120"/>
                  </a:lnTo>
                  <a:lnTo>
                    <a:pt x="366" y="120"/>
                  </a:lnTo>
                  <a:lnTo>
                    <a:pt x="342" y="116"/>
                  </a:lnTo>
                  <a:lnTo>
                    <a:pt x="318" y="112"/>
                  </a:lnTo>
                  <a:lnTo>
                    <a:pt x="294" y="108"/>
                  </a:lnTo>
                  <a:lnTo>
                    <a:pt x="270" y="100"/>
                  </a:lnTo>
                  <a:lnTo>
                    <a:pt x="246" y="95"/>
                  </a:lnTo>
                  <a:lnTo>
                    <a:pt x="222" y="87"/>
                  </a:lnTo>
                  <a:lnTo>
                    <a:pt x="198" y="83"/>
                  </a:lnTo>
                  <a:lnTo>
                    <a:pt x="174" y="75"/>
                  </a:lnTo>
                  <a:lnTo>
                    <a:pt x="144" y="62"/>
                  </a:lnTo>
                  <a:lnTo>
                    <a:pt x="126" y="54"/>
                  </a:lnTo>
                  <a:lnTo>
                    <a:pt x="102" y="46"/>
                  </a:lnTo>
                  <a:lnTo>
                    <a:pt x="78" y="33"/>
                  </a:lnTo>
                  <a:lnTo>
                    <a:pt x="54" y="25"/>
                  </a:lnTo>
                  <a:lnTo>
                    <a:pt x="36" y="12"/>
                  </a:lnTo>
                  <a:lnTo>
                    <a:pt x="12" y="0"/>
                  </a:lnTo>
                  <a:lnTo>
                    <a:pt x="0" y="0"/>
                  </a:lnTo>
                  <a:lnTo>
                    <a:pt x="12" y="8"/>
                  </a:lnTo>
                  <a:close/>
                </a:path>
              </a:pathLst>
            </a:custGeom>
            <a:gradFill rotWithShape="0">
              <a:gsLst>
                <a:gs pos="0">
                  <a:srgbClr val="ff9966">
                    <a:alpha val="19215"/>
                  </a:srgbClr>
                </a:gs>
                <a:gs pos="100000">
                  <a:srgbClr val="ffcc00"/>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
          <p:cNvSpPr/>
          <p:nvPr/>
        </p:nvSpPr>
        <p:spPr>
          <a:xfrm>
            <a:off x="539640" y="1906560"/>
            <a:ext cx="7993080" cy="6798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L-Hor"/>
              </a:rPr>
              <a:t>	</a:t>
            </a:r>
            <a:r>
              <a:rPr b="0" lang="hi-IN" sz="4000" spc="-1" strike="noStrike">
                <a:solidFill>
                  <a:srgbClr val="000000"/>
                </a:solidFill>
                <a:latin typeface="Arial"/>
                <a:cs typeface="AL-Hor"/>
              </a:rPr>
              <a:t>يطلب من المشاركين في هذه المرحلة الخروج من نطاق الموضوع على النحو الذي عرف به وأن يحددوا أبعاده وجوانبه المختلفة من جديد فقد تكون للموضوع جوانب أخرى </a:t>
            </a:r>
            <a:r>
              <a:rPr b="0" lang="en-US" sz="4000" spc="-1" strike="noStrike">
                <a:solidFill>
                  <a:srgbClr val="000000"/>
                </a:solidFill>
                <a:latin typeface="Arial"/>
                <a:ea typeface="AL-Hor"/>
              </a:rPr>
              <a:t>	</a:t>
            </a:r>
            <a:r>
              <a:rPr b="0" lang="hi-IN" sz="4000" spc="-1" strike="noStrike">
                <a:solidFill>
                  <a:srgbClr val="000000"/>
                </a:solidFill>
                <a:latin typeface="Arial"/>
                <a:cs typeface="AL-Hor"/>
              </a:rPr>
              <a:t>وليس المطلوب اقتراح حلول في هذه المرحلة وإنما إعادة صياغة الموضوع وذلك عن طريق طرح الأسئلة المتعلقة بالموضوع ويجب كتابة هذه الأسئلة في مكان واضح           </a:t>
            </a:r>
            <a:r>
              <a:rPr b="0" lang="en-US" sz="4000" spc="-1" strike="noStrike">
                <a:solidFill>
                  <a:srgbClr val="000000"/>
                </a:solidFill>
                <a:latin typeface="Arial"/>
                <a:ea typeface="AL-Hor"/>
              </a:rPr>
              <a:t>0</a:t>
            </a:r>
            <a:r>
              <a:rPr b="0" lang="en-US" sz="4000" spc="-1" strike="noStrike">
                <a:solidFill>
                  <a:srgbClr val="000000"/>
                </a:solidFill>
                <a:latin typeface="Arial"/>
                <a:ea typeface="AL-Hor"/>
              </a:rPr>
              <a:t>                                                للجميع </a:t>
            </a:r>
            <a:r>
              <a:rPr b="0" lang="en-US" sz="4000" spc="-1" strike="noStrike">
                <a:solidFill>
                  <a:srgbClr val="000000"/>
                </a:solidFill>
                <a:latin typeface="Arial"/>
                <a:ea typeface="AL-Hor"/>
              </a:rPr>
              <a:t>0</a:t>
            </a:r>
            <a:r>
              <a:rPr b="0" lang="en-US" sz="4000" spc="-1" strike="noStrike">
                <a:solidFill>
                  <a:srgbClr val="000000"/>
                </a:solidFill>
                <a:latin typeface="Arial"/>
                <a:ea typeface="AL-Hor"/>
              </a:rPr>
              <a:t> </a:t>
            </a:r>
            <a:endParaRPr b="0" lang="en-US" sz="4000" spc="-1" strike="noStrike">
              <a:solidFill>
                <a:srgbClr val="000000"/>
              </a:solidFill>
              <a:latin typeface="Arial"/>
            </a:endParaRPr>
          </a:p>
        </p:txBody>
      </p:sp>
      <p:sp>
        <p:nvSpPr>
          <p:cNvPr id="262" name=""/>
          <p:cNvSpPr/>
          <p:nvPr/>
        </p:nvSpPr>
        <p:spPr>
          <a:xfrm>
            <a:off x="324000" y="836640"/>
            <a:ext cx="7921440" cy="1008000"/>
          </a:xfrm>
          <a:custGeom>
            <a:avLst/>
            <a:gdLst>
              <a:gd name="textAreaLeft" fmla="*/ 990000 w 7921440"/>
              <a:gd name="textAreaRight" fmla="*/ 6931440 w 7921440"/>
              <a:gd name="textAreaTop" fmla="*/ 68400 h 1008000"/>
              <a:gd name="textAreaBottom" fmla="*/ 754200 h 1008000"/>
            </a:gdLst>
            <a:ahLst/>
            <a:rect l="textAreaLeft" t="textAreaTop" r="textAreaRight" b="textAreaBottom"/>
            <a:pathLst>
              <a:path w="21600" h="21600">
                <a:moveTo>
                  <a:pt x="0" y="5443"/>
                </a:moveTo>
                <a:arcTo wR="21600" hR="20153" stAng="-7304956" swAng="498571"/>
                <a:lnTo>
                  <a:pt x="2700" y="1471"/>
                </a:lnTo>
                <a:arcTo wR="21600" hR="20153" stAng="-6806385" swAng="2812770"/>
                <a:lnTo>
                  <a:pt x="18900" y="4214"/>
                </a:lnTo>
                <a:arcTo wR="21600" hR="20153" stAng="-3993615" swAng="498571"/>
                <a:lnTo>
                  <a:pt x="18900" y="12292"/>
                </a:lnTo>
                <a:lnTo>
                  <a:pt x="21600" y="21600"/>
                </a:lnTo>
                <a:lnTo>
                  <a:pt x="21600" y="21600"/>
                </a:lnTo>
                <a:arcTo wR="21600" hR="20153" stAng="-3495044" swAng="-976834"/>
                <a:lnTo>
                  <a:pt x="16200" y="16797"/>
                </a:lnTo>
                <a:arcTo wR="21600" hR="20153" stAng="-4471878" swAng="-1856244"/>
                <a:lnTo>
                  <a:pt x="5400" y="19540"/>
                </a:lnTo>
                <a:arcTo wR="21600" hR="20153" stAng="-6328122" swAng="-976834"/>
                <a:lnTo>
                  <a:pt x="2700" y="12292"/>
                </a:lnTo>
                <a:close/>
              </a:path>
              <a:path fill="none" w="21600" h="21600">
                <a:moveTo>
                  <a:pt x="5400" y="16797"/>
                </a:moveTo>
                <a:arcTo wR="21600" hR="20153" stAng="-6328122" swAng="-478263"/>
                <a:lnTo>
                  <a:pt x="5400" y="19540"/>
                </a:lnTo>
              </a:path>
              <a:path fill="none" w="21600" h="21600">
                <a:moveTo>
                  <a:pt x="16200" y="16797"/>
                </a:moveTo>
                <a:arcTo wR="21600" hR="20153" stAng="-4471878" swAng="478263"/>
                <a:lnTo>
                  <a:pt x="16200" y="19540"/>
                </a:lnTo>
              </a:path>
              <a:path fill="none" w="21600" h="21600">
                <a:moveTo>
                  <a:pt x="2700" y="4214"/>
                </a:moveTo>
                <a:lnTo>
                  <a:pt x="2700" y="17628"/>
                </a:lnTo>
              </a:path>
              <a:path fill="none" w="21600" h="21600">
                <a:moveTo>
                  <a:pt x="18900" y="4214"/>
                </a:moveTo>
                <a:lnTo>
                  <a:pt x="18900" y="17628"/>
                </a:lnTo>
              </a:path>
            </a:pathLst>
          </a:custGeom>
          <a:solidFill>
            <a:srgbClr val="ff9900">
              <a:alpha val="8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Kufi20 Normal"/>
              </a:rPr>
              <a:t>إعادة صياغة الموضوع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39">
                                  <p:stCondLst>
                                    <p:cond delay="0"/>
                                  </p:stCondLst>
                                  <p:childTnLst>
                                    <p:set>
                                      <p:cBhvr>
                                        <p:cTn id="839" dur="1" fill="hold">
                                          <p:stCondLst>
                                            <p:cond delay="0"/>
                                          </p:stCondLst>
                                        </p:cTn>
                                        <p:tgtEl>
                                          <p:spTgt spid="262"/>
                                        </p:tgtEl>
                                        <p:attrNameLst>
                                          <p:attrName>style.visibility</p:attrName>
                                        </p:attrNameLst>
                                      </p:cBhvr>
                                      <p:to>
                                        <p:strVal val="visible"/>
                                      </p:to>
                                    </p:set>
                                    <p:anim calcmode="lin" valueType="num">
                                      <p:cBhvr additive="repl">
                                        <p:cTn id="840" dur="500" fill="hold"/>
                                        <p:tgtEl>
                                          <p:spTgt spid="2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1" dur="500" fill="hold"/>
                                        <p:tgtEl>
                                          <p:spTgt spid="2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42" dur="500" fill="hold"/>
                                        <p:tgtEl>
                                          <p:spTgt spid="2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43"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0">
                                  <p:stCondLst>
                                    <p:cond delay="0"/>
                                  </p:stCondLst>
                                  <p:childTnLst>
                                    <p:set>
                                      <p:cBhvr>
                                        <p:cTn id="847" dur="1" fill="hold">
                                          <p:stCondLst>
                                            <p:cond delay="0"/>
                                          </p:stCondLst>
                                        </p:cTn>
                                        <p:tgtEl>
                                          <p:spTgt spid="262">
                                            <p:txEl>
                                              <p:pRg st="0" end="0"/>
                                            </p:txEl>
                                          </p:spTgt>
                                        </p:tgtEl>
                                        <p:attrNameLst>
                                          <p:attrName>style.visibility</p:attrName>
                                        </p:attrNameLst>
                                      </p:cBhvr>
                                      <p:to>
                                        <p:strVal val="visible"/>
                                      </p:to>
                                    </p:set>
                                    <p:animEffect filter="fade" transition="in">
                                      <p:cBhvr additive="repl">
                                        <p:cTn id="848" dur="800"/>
                                        <p:tgtEl>
                                          <p:spTgt spid="262">
                                            <p:txEl>
                                              <p:pRg st="0" end="0"/>
                                            </p:txEl>
                                          </p:spTgt>
                                        </p:tgtEl>
                                      </p:cBhvr>
                                    </p:animEffect>
                                    <p:anim calcmode="lin" valueType="num">
                                      <p:cBhvr additive="repl">
                                        <p:cTn id="849" dur="800" fill="hold"/>
                                        <p:tgtEl>
                                          <p:spTgt spid="262">
                                            <p:txEl>
                                              <p:pRg st="0" end="0"/>
                                            </p:txEl>
                                          </p:spTgt>
                                        </p:tgtEl>
                                        <p:attrNameLst>
                                          <p:attrName>r</p:attrName>
                                        </p:attrNameLst>
                                      </p:cBhvr>
                                      <p:tavLst>
                                        <p:tav tm="0">
                                          <p:val>
                                            <p:strVal val="-90"/>
                                          </p:val>
                                        </p:tav>
                                        <p:tav tm="100000">
                                          <p:val>
                                            <p:strVal val="0"/>
                                          </p:val>
                                        </p:tav>
                                      </p:tavLst>
                                    </p:anim>
                                    <p:anim calcmode="lin" valueType="num">
                                      <p:cBhvr additive="repl">
                                        <p:cTn id="850" dur="800" fill="hold"/>
                                        <p:tgtEl>
                                          <p:spTgt spid="262">
                                            <p:txEl>
                                              <p:pRg st="0" end="0"/>
                                            </p:txEl>
                                          </p:spTgt>
                                        </p:tgtEl>
                                        <p:attrNameLst>
                                          <p:attrName>ppt_x</p:attrName>
                                        </p:attrNameLst>
                                      </p:cBhvr>
                                      <p:tavLst>
                                        <p:tav tm="0">
                                          <p:val>
                                            <p:strVal val="#ppt_x+0.4"/>
                                          </p:val>
                                        </p:tav>
                                        <p:tav tm="100000">
                                          <p:val>
                                            <p:strVal val="#ppt_x-0.05"/>
                                          </p:val>
                                        </p:tav>
                                      </p:tavLst>
                                    </p:anim>
                                    <p:anim calcmode="lin" valueType="num">
                                      <p:cBhvr additive="repl">
                                        <p:cTn id="851" dur="800" fill="hold"/>
                                        <p:tgtEl>
                                          <p:spTgt spid="262">
                                            <p:txEl>
                                              <p:pRg st="0" end="0"/>
                                            </p:txEl>
                                          </p:spTgt>
                                        </p:tgtEl>
                                        <p:attrNameLst>
                                          <p:attrName>ppt_y</p:attrName>
                                        </p:attrNameLst>
                                      </p:cBhvr>
                                      <p:tavLst>
                                        <p:tav tm="0">
                                          <p:val>
                                            <p:strVal val="#ppt_y-0.4"/>
                                          </p:val>
                                        </p:tav>
                                        <p:tav tm="100000">
                                          <p:val>
                                            <p:strVal val="#ppt_y+0.1"/>
                                          </p:val>
                                        </p:tav>
                                      </p:tavLst>
                                    </p:anim>
                                    <p:anim calcmode="lin" valueType="num">
                                      <p:cBhvr additive="repl">
                                        <p:cTn id="852" dur="200" fill="hold">
                                          <p:stCondLst>
                                            <p:cond delay="800"/>
                                          </p:stCondLst>
                                        </p:cTn>
                                        <p:tgtEl>
                                          <p:spTgt spid="262">
                                            <p:txEl>
                                              <p:pRg st="0" end="0"/>
                                            </p:txEl>
                                          </p:spTgt>
                                        </p:tgtEl>
                                        <p:attrNameLst>
                                          <p:attrName>ppt_x</p:attrName>
                                        </p:attrNameLst>
                                      </p:cBhvr>
                                      <p:tavLst>
                                        <p:tav tm="0">
                                          <p:val>
                                            <p:strVal val="#ppt_x-0.05"/>
                                          </p:val>
                                        </p:tav>
                                        <p:tav tm="100000">
                                          <p:val>
                                            <p:strVal val="#ppt_x"/>
                                          </p:val>
                                        </p:tav>
                                      </p:tavLst>
                                    </p:anim>
                                    <p:anim calcmode="lin" valueType="num">
                                      <p:cBhvr additive="repl">
                                        <p:cTn id="853" dur="200" fill="hold">
                                          <p:stCondLst>
                                            <p:cond delay="800"/>
                                          </p:stCondLst>
                                        </p:cTn>
                                        <p:tgtEl>
                                          <p:spTgt spid="26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6">
                                  <p:stCondLst>
                                    <p:cond delay="0"/>
                                  </p:stCondLst>
                                  <p:childTnLst>
                                    <p:set>
                                      <p:cBhvr>
                                        <p:cTn id="857" dur="1" fill="hold">
                                          <p:stCondLst>
                                            <p:cond delay="0"/>
                                          </p:stCondLst>
                                        </p:cTn>
                                        <p:tgtEl>
                                          <p:spTgt spid="255"/>
                                        </p:tgtEl>
                                        <p:attrNameLst>
                                          <p:attrName>style.visibility</p:attrName>
                                        </p:attrNameLst>
                                      </p:cBhvr>
                                      <p:to>
                                        <p:strVal val="visible"/>
                                      </p:to>
                                    </p:set>
                                    <p:animEffect filter="wipe(down)" transition="in">
                                      <p:cBhvr additive="repl">
                                        <p:cTn id="858" dur="580">
                                          <p:stCondLst>
                                            <p:cond delay="0"/>
                                          </p:stCondLst>
                                        </p:cTn>
                                        <p:tgtEl>
                                          <p:spTgt spid="255"/>
                                        </p:tgtEl>
                                      </p:cBhvr>
                                    </p:animEffect>
                                    <p:anim calcmode="lin" valueType="num">
                                      <p:cBhvr additive="repl">
                                        <p:cTn id="859" dur="1822">
                                          <p:stCondLst>
                                            <p:cond delay="0"/>
                                          </p:stCondLst>
                                        </p:cTn>
                                        <p:tgtEl>
                                          <p:spTgt spid="255"/>
                                        </p:tgtEl>
                                        <p:attrNameLst>
                                          <p:attrName>ppt_x</p:attrName>
                                        </p:attrNameLst>
                                      </p:cBhvr>
                                      <p:tavLst>
                                        <p:tav tm="0">
                                          <p:val>
                                            <p:strVal val="#ppt_x-0.25"/>
                                          </p:val>
                                        </p:tav>
                                        <p:tav tm="100000">
                                          <p:val>
                                            <p:strVal val="#ppt_x"/>
                                          </p:val>
                                        </p:tav>
                                      </p:tavLst>
                                    </p:anim>
                                    <p:anim calcmode="lin" valueType="num">
                                      <p:cBhvr additive="repl">
                                        <p:cTn id="860" dur="664">
                                          <p:stCondLst>
                                            <p:cond delay="0"/>
                                          </p:stCondLst>
                                        </p:cTn>
                                        <p:tgtEl>
                                          <p:spTgt spid="255"/>
                                        </p:tgtEl>
                                        <p:attrNameLst>
                                          <p:attrName>ppt_y</p:attrName>
                                        </p:attrNameLst>
                                      </p:cBhvr>
                                      <p:tavLst>
                                        <p:tav fmla="y-sin(pi*$)/3" tm="0">
                                          <p:val>
                                            <p:fltVal val="0.5"/>
                                          </p:val>
                                        </p:tav>
                                        <p:tav fmla="y-sin(pi*$)/3" tm="100000">
                                          <p:val>
                                            <p:fltVal val="1"/>
                                          </p:val>
                                        </p:tav>
                                      </p:tavLst>
                                    </p:anim>
                                    <p:anim calcmode="lin" valueType="num">
                                      <p:cBhvr additive="repl">
                                        <p:cTn id="861" dur="664">
                                          <p:stCondLst>
                                            <p:cond delay="664"/>
                                          </p:stCondLst>
                                        </p:cTn>
                                        <p:tgtEl>
                                          <p:spTgt spid="255"/>
                                        </p:tgtEl>
                                        <p:attrNameLst>
                                          <p:attrName>ppt_y</p:attrName>
                                        </p:attrNameLst>
                                      </p:cBhvr>
                                      <p:tavLst>
                                        <p:tav fmla="y-sin(pi*$)/9" tm="0">
                                          <p:val>
                                            <p:fltVal val="0"/>
                                          </p:val>
                                        </p:tav>
                                        <p:tav fmla="y-sin(pi*$)/9" tm="100000">
                                          <p:val>
                                            <p:fltVal val="1"/>
                                          </p:val>
                                        </p:tav>
                                      </p:tavLst>
                                    </p:anim>
                                    <p:anim calcmode="lin" valueType="num">
                                      <p:cBhvr additive="repl">
                                        <p:cTn id="862" dur="332">
                                          <p:stCondLst>
                                            <p:cond delay="1324"/>
                                          </p:stCondLst>
                                        </p:cTn>
                                        <p:tgtEl>
                                          <p:spTgt spid="255"/>
                                        </p:tgtEl>
                                        <p:attrNameLst>
                                          <p:attrName>ppt_y</p:attrName>
                                        </p:attrNameLst>
                                      </p:cBhvr>
                                      <p:tavLst>
                                        <p:tav fmla="y-sin(pi*$)/27" tm="0">
                                          <p:val>
                                            <p:fltVal val="0"/>
                                          </p:val>
                                        </p:tav>
                                        <p:tav fmla="y-sin(pi*$)/27" tm="100000">
                                          <p:val>
                                            <p:fltVal val="1"/>
                                          </p:val>
                                        </p:tav>
                                      </p:tavLst>
                                    </p:anim>
                                    <p:anim calcmode="lin" valueType="num">
                                      <p:cBhvr additive="repl">
                                        <p:cTn id="863" dur="164">
                                          <p:stCondLst>
                                            <p:cond delay="1656"/>
                                          </p:stCondLst>
                                        </p:cTn>
                                        <p:tgtEl>
                                          <p:spTgt spid="255"/>
                                        </p:tgtEl>
                                        <p:attrNameLst>
                                          <p:attrName>ppt_y</p:attrName>
                                        </p:attrNameLst>
                                      </p:cBhvr>
                                      <p:tavLst>
                                        <p:tav fmla="y-sin(pi*$)/81" tm="0">
                                          <p:val>
                                            <p:fltVal val="0"/>
                                          </p:val>
                                        </p:tav>
                                        <p:tav fmla="y-sin(pi*$)/81" tm="100000">
                                          <p:val>
                                            <p:fltVal val="1"/>
                                          </p:val>
                                        </p:tav>
                                      </p:tavLst>
                                    </p:anim>
                                    <p:animScale>
                                      <p:cBhvr>
                                        <p:cTn id="864" dur="26" fill="hold">
                                          <p:stCondLst>
                                            <p:cond delay="650"/>
                                          </p:stCondLst>
                                        </p:cTn>
                                        <p:tgtEl>
                                          <p:spTgt spid="255"/>
                                        </p:tgtEl>
                                      </p:cBhvr>
                                      <p:to x="100000" y="60000"/>
                                    </p:animScale>
                                    <p:animScale>
                                      <p:cBhvr>
                                        <p:cTn id="865" dur="166" fill="hold">
                                          <p:stCondLst>
                                            <p:cond delay="676"/>
                                          </p:stCondLst>
                                        </p:cTn>
                                        <p:tgtEl>
                                          <p:spTgt spid="255"/>
                                        </p:tgtEl>
                                      </p:cBhvr>
                                      <p:to x="100000" y="100000"/>
                                    </p:animScale>
                                    <p:animScale>
                                      <p:cBhvr>
                                        <p:cTn id="866" dur="26" fill="hold">
                                          <p:stCondLst>
                                            <p:cond delay="1312"/>
                                          </p:stCondLst>
                                        </p:cTn>
                                        <p:tgtEl>
                                          <p:spTgt spid="255"/>
                                        </p:tgtEl>
                                      </p:cBhvr>
                                      <p:to x="100000" y="80000"/>
                                    </p:animScale>
                                    <p:animScale>
                                      <p:cBhvr>
                                        <p:cTn id="867" dur="166" fill="hold">
                                          <p:stCondLst>
                                            <p:cond delay="1338"/>
                                          </p:stCondLst>
                                        </p:cTn>
                                        <p:tgtEl>
                                          <p:spTgt spid="255"/>
                                        </p:tgtEl>
                                      </p:cBhvr>
                                      <p:to x="100000" y="100000"/>
                                    </p:animScale>
                                    <p:animScale>
                                      <p:cBhvr>
                                        <p:cTn id="868" dur="26" fill="hold">
                                          <p:stCondLst>
                                            <p:cond delay="1642"/>
                                          </p:stCondLst>
                                        </p:cTn>
                                        <p:tgtEl>
                                          <p:spTgt spid="255"/>
                                        </p:tgtEl>
                                      </p:cBhvr>
                                      <p:to x="100000" y="90000"/>
                                    </p:animScale>
                                    <p:animScale>
                                      <p:cBhvr>
                                        <p:cTn id="869" dur="166" fill="hold">
                                          <p:stCondLst>
                                            <p:cond delay="1668"/>
                                          </p:stCondLst>
                                        </p:cTn>
                                        <p:tgtEl>
                                          <p:spTgt spid="255"/>
                                        </p:tgtEl>
                                      </p:cBhvr>
                                      <p:to x="100000" y="100000"/>
                                    </p:animScale>
                                    <p:animScale>
                                      <p:cBhvr>
                                        <p:cTn id="870" dur="26" fill="hold">
                                          <p:stCondLst>
                                            <p:cond delay="1808"/>
                                          </p:stCondLst>
                                        </p:cTn>
                                        <p:tgtEl>
                                          <p:spTgt spid="255"/>
                                        </p:tgtEl>
                                      </p:cBhvr>
                                      <p:to x="100000" y="95000"/>
                                    </p:animScale>
                                    <p:animScale>
                                      <p:cBhvr>
                                        <p:cTn id="871" dur="166" fill="hold">
                                          <p:stCondLst>
                                            <p:cond delay="1834"/>
                                          </p:stCondLst>
                                        </p:cTn>
                                        <p:tgtEl>
                                          <p:spTgt spid="255"/>
                                        </p:tgtEl>
                                      </p:cBhvr>
                                      <p:to x="100000" y="100000"/>
                                    </p:animScale>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55">
                                  <p:stCondLst>
                                    <p:cond delay="0"/>
                                  </p:stCondLst>
                                  <p:childTnLst>
                                    <p:set>
                                      <p:cBhvr>
                                        <p:cTn id="875" dur="1" fill="hold">
                                          <p:stCondLst>
                                            <p:cond delay="0"/>
                                          </p:stCondLst>
                                        </p:cTn>
                                        <p:tgtEl>
                                          <p:spTgt spid="261"/>
                                        </p:tgtEl>
                                        <p:attrNameLst>
                                          <p:attrName>style.visibility</p:attrName>
                                        </p:attrNameLst>
                                      </p:cBhvr>
                                      <p:to>
                                        <p:strVal val="visible"/>
                                      </p:to>
                                    </p:set>
                                    <p:anim calcmode="lin" valueType="num">
                                      <p:cBhvr additive="repl">
                                        <p:cTn id="876" dur="1000" fill="hold"/>
                                        <p:tgtEl>
                                          <p:spTgt spid="261"/>
                                        </p:tgtEl>
                                        <p:attrNameLst>
                                          <p:attrName>ppt_w</p:attrName>
                                        </p:attrNameLst>
                                      </p:cBhvr>
                                      <p:tavLst>
                                        <p:tav tm="0">
                                          <p:val>
                                            <p:strVal val="#ppt_w*0.70"/>
                                          </p:val>
                                        </p:tav>
                                        <p:tav tm="100000">
                                          <p:val>
                                            <p:strVal val="#ppt_w"/>
                                          </p:val>
                                        </p:tav>
                                      </p:tavLst>
                                    </p:anim>
                                    <p:anim calcmode="lin" valueType="num">
                                      <p:cBhvr additive="repl">
                                        <p:cTn id="877" dur="1000" fill="hold"/>
                                        <p:tgtEl>
                                          <p:spTgt spid="261"/>
                                        </p:tgtEl>
                                        <p:attrNameLst>
                                          <p:attrName>ppt_h</p:attrName>
                                        </p:attrNameLst>
                                      </p:cBhvr>
                                      <p:tavLst>
                                        <p:tav tm="0">
                                          <p:val>
                                            <p:strVal val="#ppt_h"/>
                                          </p:val>
                                        </p:tav>
                                        <p:tav tm="100000">
                                          <p:val>
                                            <p:strVal val="#ppt_h"/>
                                          </p:val>
                                        </p:tav>
                                      </p:tavLst>
                                    </p:anim>
                                    <p:animEffect filter="fade" transition="in">
                                      <p:cBhvr additive="repl">
                                        <p:cTn id="878" dur="1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3" name="" descr=""/>
          <p:cNvPicPr/>
          <p:nvPr/>
        </p:nvPicPr>
        <p:blipFill>
          <a:blip r:embed="rId2"/>
          <a:stretch/>
        </p:blipFill>
        <p:spPr>
          <a:xfrm>
            <a:off x="71280" y="1990800"/>
            <a:ext cx="8964720" cy="4751280"/>
          </a:xfrm>
          <a:prstGeom prst="rect">
            <a:avLst/>
          </a:prstGeom>
          <a:ln w="0">
            <a:noFill/>
          </a:ln>
        </p:spPr>
      </p:pic>
      <p:sp>
        <p:nvSpPr>
          <p:cNvPr id="264" name=""/>
          <p:cNvSpPr/>
          <p:nvPr/>
        </p:nvSpPr>
        <p:spPr>
          <a:xfrm>
            <a:off x="684360" y="2852640"/>
            <a:ext cx="8208720" cy="5212080"/>
          </a:xfrm>
          <a:prstGeom prst="rect">
            <a:avLst/>
          </a:prstGeom>
          <a:noFill/>
          <a:ln w="0">
            <a:noFill/>
          </a:ln>
        </p:spPr>
        <p:style>
          <a:lnRef idx="0"/>
          <a:fillRef idx="0"/>
          <a:effectRef idx="0"/>
          <a:fontRef idx="minor"/>
        </p:style>
        <p:txBody>
          <a:bodyPr lIns="90000" rIns="90000" tIns="46800" bIns="46800" anchor="t">
            <a:spAutoFit/>
          </a:bodyPr>
          <a:p>
            <a:pPr algn="just"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a:rPr>
              <a:t>يحتاج المشاركون في جلسة العصف الذهني إلى تهيئتهم للجو الإبداعي وتستغرق عملية التهيئة حوالي خمس دقائق يتدرب المشاركون على الإجابة عن سؤال أو أكثر يلقيه قائد المشغل </a:t>
            </a:r>
            <a:r>
              <a:rPr b="0" lang="en-US" sz="4800" spc="-1" strike="noStrike">
                <a:solidFill>
                  <a:srgbClr val="000000"/>
                </a:solidFill>
                <a:latin typeface="Arial"/>
                <a:ea typeface="AL-Mohanad"/>
              </a:rPr>
              <a:t>0</a:t>
            </a:r>
            <a:r>
              <a:rPr b="0" lang="en-US" sz="4800" spc="-1" strike="noStrike">
                <a:solidFill>
                  <a:srgbClr val="000000"/>
                </a:solidFill>
                <a:latin typeface="Arial"/>
                <a:ea typeface="Zokrofi"/>
              </a:rPr>
              <a:t> </a:t>
            </a:r>
            <a:endParaRPr b="0" lang="en-US" sz="4800" spc="-1" strike="noStrike">
              <a:solidFill>
                <a:srgbClr val="000000"/>
              </a:solidFill>
              <a:latin typeface="Arial"/>
            </a:endParaRPr>
          </a:p>
        </p:txBody>
      </p:sp>
      <p:sp>
        <p:nvSpPr>
          <p:cNvPr id="265" name=""/>
          <p:cNvSpPr/>
          <p:nvPr/>
        </p:nvSpPr>
        <p:spPr>
          <a:xfrm>
            <a:off x="324000" y="907920"/>
            <a:ext cx="8640720" cy="1079640"/>
          </a:xfrm>
          <a:prstGeom prst="verticalScroll">
            <a:avLst>
              <a:gd name="adj" fmla="val 25000"/>
            </a:avLst>
          </a:prstGeom>
          <a:gradFill rotWithShape="0">
            <a:gsLst>
              <a:gs pos="0">
                <a:srgbClr val="566768"/>
              </a:gs>
              <a:gs pos="100000">
                <a:srgbClr val="bbe0e3">
                  <a:alpha val="80392"/>
                </a:srgbClr>
              </a:gs>
            </a:gsLst>
            <a:lin ang="13500000"/>
          </a:gradFill>
          <a:ln w="9360">
            <a:solidFill>
              <a:srgbClr val="bbe0e3"/>
            </a:solidFill>
            <a:miter/>
          </a:ln>
        </p:spPr>
        <p:style>
          <a:lnRef idx="0"/>
          <a:fillRef idx="0"/>
          <a:effectRef idx="0"/>
          <a:fontRef idx="minor"/>
        </p:style>
        <p:txBody>
          <a:bodyPr wrap="none" lIns="90000" rIns="90000" tIns="262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Arial"/>
                <a:cs typeface="Kufi20 Normal"/>
              </a:rPr>
              <a:t>تهيئة جو العصف الذهني </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25">
                                  <p:stCondLst>
                                    <p:cond delay="0"/>
                                  </p:stCondLst>
                                  <p:childTnLst>
                                    <p:set>
                                      <p:cBhvr>
                                        <p:cTn id="884" dur="1" fill="hold">
                                          <p:stCondLst>
                                            <p:cond delay="0"/>
                                          </p:stCondLst>
                                        </p:cTn>
                                        <p:tgtEl>
                                          <p:spTgt spid="265"/>
                                        </p:tgtEl>
                                        <p:attrNameLst>
                                          <p:attrName>style.visibility</p:attrName>
                                        </p:attrNameLst>
                                      </p:cBhvr>
                                      <p:to>
                                        <p:strVal val="visible"/>
                                      </p:to>
                                    </p:set>
                                    <p:anim calcmode="lin" valueType="num">
                                      <p:cBhvr additive="repl">
                                        <p:cTn id="885" dur="500" fill="hold">
                                          <p:stCondLst>
                                            <p:cond delay="0"/>
                                          </p:stCondLst>
                                        </p:cTn>
                                        <p:tgtEl>
                                          <p:spTgt spid="265"/>
                                        </p:tgtEl>
                                        <p:attrNameLst>
                                          <p:attrName>r</p:attrName>
                                        </p:attrNameLst>
                                      </p:cBhvr>
                                      <p:tavLst>
                                        <p:tav tm="0">
                                          <p:val>
                                            <p:strVal val="-90"/>
                                          </p:val>
                                        </p:tav>
                                        <p:tav tm="100000">
                                          <p:val>
                                            <p:strVal val="0"/>
                                          </p:val>
                                        </p:tav>
                                      </p:tavLst>
                                    </p:anim>
                                    <p:anim calcmode="lin" valueType="num">
                                      <p:cBhvr additive="repl">
                                        <p:cTn id="886" dur="500" fill="hold">
                                          <p:stCondLst>
                                            <p:cond delay="0"/>
                                          </p:stCondLst>
                                        </p:cTn>
                                        <p:tgtEl>
                                          <p:spTgt spid="265"/>
                                        </p:tgtEl>
                                        <p:attrNameLst>
                                          <p:attrName>ppt_w</p:attrName>
                                        </p:attrNameLst>
                                      </p:cBhvr>
                                      <p:tavLst>
                                        <p:tav tm="0">
                                          <p:val>
                                            <p:strVal val="#ppt_w"/>
                                          </p:val>
                                        </p:tav>
                                        <p:tav tm="100000">
                                          <p:val>
                                            <p:strVal val="#ppt_w*.05"/>
                                          </p:val>
                                        </p:tav>
                                      </p:tavLst>
                                    </p:anim>
                                    <p:anim calcmode="lin" valueType="num">
                                      <p:cBhvr additive="repl">
                                        <p:cTn id="887" dur="500" fill="hold">
                                          <p:stCondLst>
                                            <p:cond delay="500"/>
                                          </p:stCondLst>
                                        </p:cTn>
                                        <p:tgtEl>
                                          <p:spTgt spid="265"/>
                                        </p:tgtEl>
                                        <p:attrNameLst>
                                          <p:attrName>ppt_w</p:attrName>
                                        </p:attrNameLst>
                                      </p:cBhvr>
                                      <p:tavLst>
                                        <p:tav tm="0">
                                          <p:val>
                                            <p:strVal val="#ppt_w*.05"/>
                                          </p:val>
                                        </p:tav>
                                        <p:tav tm="100000">
                                          <p:val>
                                            <p:strVal val="#ppt_w"/>
                                          </p:val>
                                        </p:tav>
                                      </p:tavLst>
                                    </p:anim>
                                    <p:anim calcmode="lin" valueType="num">
                                      <p:cBhvr additive="repl">
                                        <p:cTn id="888" dur="1000" fill="hold"/>
                                        <p:tgtEl>
                                          <p:spTgt spid="265"/>
                                        </p:tgtEl>
                                        <p:attrNameLst>
                                          <p:attrName>ppt_h</p:attrName>
                                        </p:attrNameLst>
                                      </p:cBhvr>
                                      <p:tavLst>
                                        <p:tav tm="0">
                                          <p:val>
                                            <p:strVal val="#ppt_h"/>
                                          </p:val>
                                        </p:tav>
                                        <p:tav tm="100000">
                                          <p:val>
                                            <p:strVal val="#ppt_h"/>
                                          </p:val>
                                        </p:tav>
                                      </p:tavLst>
                                    </p:anim>
                                    <p:anim calcmode="lin" valueType="num">
                                      <p:cBhvr additive="repl">
                                        <p:cTn id="889" dur="500" fill="hold">
                                          <p:stCondLst>
                                            <p:cond delay="0"/>
                                          </p:stCondLst>
                                        </p:cTn>
                                        <p:tgtEl>
                                          <p:spTgt spid="265"/>
                                        </p:tgtEl>
                                        <p:attrNameLst>
                                          <p:attrName>ppt_x</p:attrName>
                                        </p:attrNameLst>
                                      </p:cBhvr>
                                      <p:tavLst>
                                        <p:tav tm="0">
                                          <p:val>
                                            <p:strVal val="#ppt_x+.4"/>
                                          </p:val>
                                        </p:tav>
                                        <p:tav tm="100000">
                                          <p:val>
                                            <p:strVal val="#ppt_x"/>
                                          </p:val>
                                        </p:tav>
                                      </p:tavLst>
                                    </p:anim>
                                    <p:anim calcmode="lin" valueType="num">
                                      <p:cBhvr additive="repl">
                                        <p:cTn id="890" dur="500" fill="hold">
                                          <p:stCondLst>
                                            <p:cond delay="0"/>
                                          </p:stCondLst>
                                        </p:cTn>
                                        <p:tgtEl>
                                          <p:spTgt spid="265"/>
                                        </p:tgtEl>
                                        <p:attrNameLst>
                                          <p:attrName>ppt_y</p:attrName>
                                        </p:attrNameLst>
                                      </p:cBhvr>
                                      <p:tavLst>
                                        <p:tav tm="0">
                                          <p:val>
                                            <p:strVal val="#ppt_y-.2"/>
                                          </p:val>
                                        </p:tav>
                                        <p:tav tm="100000">
                                          <p:val>
                                            <p:strVal val="#ppt_y+.1"/>
                                          </p:val>
                                        </p:tav>
                                      </p:tavLst>
                                    </p:anim>
                                    <p:anim calcmode="lin" valueType="num">
                                      <p:cBhvr additive="repl">
                                        <p:cTn id="891" dur="500" fill="hold">
                                          <p:stCondLst>
                                            <p:cond delay="500"/>
                                          </p:stCondLst>
                                        </p:cTn>
                                        <p:tgtEl>
                                          <p:spTgt spid="265"/>
                                        </p:tgtEl>
                                        <p:attrNameLst>
                                          <p:attrName>ppt_y</p:attrName>
                                        </p:attrNameLst>
                                      </p:cBhvr>
                                      <p:tavLst>
                                        <p:tav tm="0">
                                          <p:val>
                                            <p:strVal val="#ppt_y+.1"/>
                                          </p:val>
                                        </p:tav>
                                        <p:tav tm="100000">
                                          <p:val>
                                            <p:strVal val="#ppt_y"/>
                                          </p:val>
                                        </p:tav>
                                      </p:tavLst>
                                    </p:anim>
                                    <p:animEffect filter="fade" transition="in">
                                      <p:cBhvr additive="repl">
                                        <p:cTn id="892" dur="1000">
                                          <p:stCondLst>
                                            <p:cond delay="0"/>
                                          </p:stCondLst>
                                        </p:cTn>
                                        <p:tgtEl>
                                          <p:spTgt spid="265"/>
                                        </p:tgtEl>
                                      </p:cBhvr>
                                    </p:animEffect>
                                  </p:childTnLst>
                                </p:cTn>
                              </p:par>
                            </p:childTnLst>
                          </p:cTn>
                        </p:par>
                        <p:par>
                          <p:cTn id="893" fill="hold">
                            <p:stCondLst>
                              <p:cond delay="1000"/>
                            </p:stCondLst>
                            <p:childTnLst>
                              <p:par>
                                <p:cTn id="894" nodeType="afterEffect" fill="hold" presetClass="entr" presetID="26">
                                  <p:stCondLst>
                                    <p:cond delay="0"/>
                                  </p:stCondLst>
                                  <p:childTnLst>
                                    <p:set>
                                      <p:cBhvr>
                                        <p:cTn id="895" dur="1" fill="hold">
                                          <p:stCondLst>
                                            <p:cond delay="0"/>
                                          </p:stCondLst>
                                        </p:cTn>
                                        <p:tgtEl>
                                          <p:spTgt spid="265">
                                            <p:txEl>
                                              <p:pRg st="0" end="0"/>
                                            </p:txEl>
                                          </p:spTgt>
                                        </p:tgtEl>
                                        <p:attrNameLst>
                                          <p:attrName>style.visibility</p:attrName>
                                        </p:attrNameLst>
                                      </p:cBhvr>
                                      <p:to>
                                        <p:strVal val="visible"/>
                                      </p:to>
                                    </p:set>
                                    <p:animEffect filter="wipe(down)" transition="in">
                                      <p:cBhvr additive="repl">
                                        <p:cTn id="896" dur="580">
                                          <p:stCondLst>
                                            <p:cond delay="0"/>
                                          </p:stCondLst>
                                        </p:cTn>
                                        <p:tgtEl>
                                          <p:spTgt spid="265">
                                            <p:txEl>
                                              <p:pRg st="0" end="0"/>
                                            </p:txEl>
                                          </p:spTgt>
                                        </p:tgtEl>
                                      </p:cBhvr>
                                    </p:animEffect>
                                    <p:anim calcmode="lin" valueType="num">
                                      <p:cBhvr additive="repl">
                                        <p:cTn id="897" dur="1822">
                                          <p:stCondLst>
                                            <p:cond delay="0"/>
                                          </p:stCondLst>
                                        </p:cTn>
                                        <p:tgtEl>
                                          <p:spTgt spid="265">
                                            <p:txEl>
                                              <p:pRg st="0" end="0"/>
                                            </p:txEl>
                                          </p:spTgt>
                                        </p:tgtEl>
                                        <p:attrNameLst>
                                          <p:attrName>ppt_x</p:attrName>
                                        </p:attrNameLst>
                                      </p:cBhvr>
                                      <p:tavLst>
                                        <p:tav tm="0">
                                          <p:val>
                                            <p:strVal val="#ppt_x-0.25"/>
                                          </p:val>
                                        </p:tav>
                                        <p:tav tm="100000">
                                          <p:val>
                                            <p:strVal val="#ppt_x"/>
                                          </p:val>
                                        </p:tav>
                                      </p:tavLst>
                                    </p:anim>
                                    <p:anim calcmode="lin" valueType="num">
                                      <p:cBhvr additive="repl">
                                        <p:cTn id="898" dur="664">
                                          <p:stCondLst>
                                            <p:cond delay="0"/>
                                          </p:stCondLst>
                                        </p:cTn>
                                        <p:tgtEl>
                                          <p:spTgt spid="26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99" dur="664">
                                          <p:stCondLst>
                                            <p:cond delay="664"/>
                                          </p:stCondLst>
                                        </p:cTn>
                                        <p:tgtEl>
                                          <p:spTgt spid="26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00" dur="332">
                                          <p:stCondLst>
                                            <p:cond delay="1324"/>
                                          </p:stCondLst>
                                        </p:cTn>
                                        <p:tgtEl>
                                          <p:spTgt spid="26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01" dur="164">
                                          <p:stCondLst>
                                            <p:cond delay="1656"/>
                                          </p:stCondLst>
                                        </p:cTn>
                                        <p:tgtEl>
                                          <p:spTgt spid="265">
                                            <p:txEl>
                                              <p:pRg st="0" end="0"/>
                                            </p:txEl>
                                          </p:spTgt>
                                        </p:tgtEl>
                                        <p:attrNameLst>
                                          <p:attrName>ppt_y</p:attrName>
                                        </p:attrNameLst>
                                      </p:cBhvr>
                                      <p:tavLst>
                                        <p:tav fmla="y-sin(pi*$)/81" tm="0">
                                          <p:val>
                                            <p:fltVal val="0"/>
                                          </p:val>
                                        </p:tav>
                                        <p:tav fmla="y-sin(pi*$)/81" tm="100000">
                                          <p:val>
                                            <p:fltVal val="1"/>
                                          </p:val>
                                        </p:tav>
                                      </p:tavLst>
                                    </p:anim>
                                    <p:animScale>
                                      <p:cBhvr>
                                        <p:cTn id="902" dur="26" fill="hold">
                                          <p:stCondLst>
                                            <p:cond delay="650"/>
                                          </p:stCondLst>
                                        </p:cTn>
                                        <p:tgtEl>
                                          <p:spTgt spid="265">
                                            <p:txEl>
                                              <p:pRg st="0" end="0"/>
                                            </p:txEl>
                                          </p:spTgt>
                                        </p:tgtEl>
                                      </p:cBhvr>
                                      <p:to x="100000" y="60000"/>
                                    </p:animScale>
                                    <p:animScale>
                                      <p:cBhvr>
                                        <p:cTn id="903" dur="166" fill="hold">
                                          <p:stCondLst>
                                            <p:cond delay="676"/>
                                          </p:stCondLst>
                                        </p:cTn>
                                        <p:tgtEl>
                                          <p:spTgt spid="265">
                                            <p:txEl>
                                              <p:pRg st="0" end="0"/>
                                            </p:txEl>
                                          </p:spTgt>
                                        </p:tgtEl>
                                      </p:cBhvr>
                                      <p:to x="100000" y="100000"/>
                                    </p:animScale>
                                    <p:animScale>
                                      <p:cBhvr>
                                        <p:cTn id="904" dur="26" fill="hold">
                                          <p:stCondLst>
                                            <p:cond delay="1312"/>
                                          </p:stCondLst>
                                        </p:cTn>
                                        <p:tgtEl>
                                          <p:spTgt spid="265">
                                            <p:txEl>
                                              <p:pRg st="0" end="0"/>
                                            </p:txEl>
                                          </p:spTgt>
                                        </p:tgtEl>
                                      </p:cBhvr>
                                      <p:to x="100000" y="80000"/>
                                    </p:animScale>
                                    <p:animScale>
                                      <p:cBhvr>
                                        <p:cTn id="905" dur="166" fill="hold">
                                          <p:stCondLst>
                                            <p:cond delay="1338"/>
                                          </p:stCondLst>
                                        </p:cTn>
                                        <p:tgtEl>
                                          <p:spTgt spid="265">
                                            <p:txEl>
                                              <p:pRg st="0" end="0"/>
                                            </p:txEl>
                                          </p:spTgt>
                                        </p:tgtEl>
                                      </p:cBhvr>
                                      <p:to x="100000" y="100000"/>
                                    </p:animScale>
                                    <p:animScale>
                                      <p:cBhvr>
                                        <p:cTn id="906" dur="26" fill="hold">
                                          <p:stCondLst>
                                            <p:cond delay="1642"/>
                                          </p:stCondLst>
                                        </p:cTn>
                                        <p:tgtEl>
                                          <p:spTgt spid="265">
                                            <p:txEl>
                                              <p:pRg st="0" end="0"/>
                                            </p:txEl>
                                          </p:spTgt>
                                        </p:tgtEl>
                                      </p:cBhvr>
                                      <p:to x="100000" y="90000"/>
                                    </p:animScale>
                                    <p:animScale>
                                      <p:cBhvr>
                                        <p:cTn id="907" dur="166" fill="hold">
                                          <p:stCondLst>
                                            <p:cond delay="1668"/>
                                          </p:stCondLst>
                                        </p:cTn>
                                        <p:tgtEl>
                                          <p:spTgt spid="265">
                                            <p:txEl>
                                              <p:pRg st="0" end="0"/>
                                            </p:txEl>
                                          </p:spTgt>
                                        </p:tgtEl>
                                      </p:cBhvr>
                                      <p:to x="100000" y="100000"/>
                                    </p:animScale>
                                    <p:animScale>
                                      <p:cBhvr>
                                        <p:cTn id="908" dur="26" fill="hold">
                                          <p:stCondLst>
                                            <p:cond delay="1808"/>
                                          </p:stCondLst>
                                        </p:cTn>
                                        <p:tgtEl>
                                          <p:spTgt spid="265">
                                            <p:txEl>
                                              <p:pRg st="0" end="0"/>
                                            </p:txEl>
                                          </p:spTgt>
                                        </p:tgtEl>
                                      </p:cBhvr>
                                      <p:to x="100000" y="95000"/>
                                    </p:animScale>
                                    <p:animScale>
                                      <p:cBhvr>
                                        <p:cTn id="909" dur="166" fill="hold">
                                          <p:stCondLst>
                                            <p:cond delay="1834"/>
                                          </p:stCondLst>
                                        </p:cTn>
                                        <p:tgtEl>
                                          <p:spTgt spid="265">
                                            <p:txEl>
                                              <p:pRg st="0" end="0"/>
                                            </p:txEl>
                                          </p:spTgt>
                                        </p:tgtEl>
                                      </p:cBhvr>
                                      <p:to x="100000" y="100000"/>
                                    </p:animScale>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3">
                                  <p:stCondLst>
                                    <p:cond delay="0"/>
                                  </p:stCondLst>
                                  <p:childTnLst>
                                    <p:set>
                                      <p:cBhvr>
                                        <p:cTn id="913" dur="1" fill="hold">
                                          <p:stCondLst>
                                            <p:cond delay="0"/>
                                          </p:stCondLst>
                                        </p:cTn>
                                        <p:tgtEl>
                                          <p:spTgt spid="263"/>
                                        </p:tgtEl>
                                        <p:attrNameLst>
                                          <p:attrName>style.visibility</p:attrName>
                                        </p:attrNameLst>
                                      </p:cBhvr>
                                      <p:to>
                                        <p:strVal val="visible"/>
                                      </p:to>
                                    </p:set>
                                    <p:anim calcmode="lin" valueType="num">
                                      <p:cBhvr additive="repl">
                                        <p:cTn id="914" dur="500" fill="hold"/>
                                        <p:tgtEl>
                                          <p:spTgt spid="263"/>
                                        </p:tgtEl>
                                        <p:attrNameLst>
                                          <p:attrName>ppt_w</p:attrName>
                                        </p:attrNameLst>
                                      </p:cBhvr>
                                      <p:tavLst>
                                        <p:tav tm="0">
                                          <p:val>
                                            <p:fltVal val="0"/>
                                          </p:val>
                                        </p:tav>
                                        <p:tav tm="100000">
                                          <p:val>
                                            <p:strVal val="#ppt_w"/>
                                          </p:val>
                                        </p:tav>
                                      </p:tavLst>
                                    </p:anim>
                                    <p:anim calcmode="lin" valueType="num">
                                      <p:cBhvr additive="repl">
                                        <p:cTn id="915" dur="500" fill="hold"/>
                                        <p:tgtEl>
                                          <p:spTgt spid="263"/>
                                        </p:tgtEl>
                                        <p:attrNameLst>
                                          <p:attrName>ppt_h</p:attrName>
                                        </p:attrNameLst>
                                      </p:cBhvr>
                                      <p:tavLst>
                                        <p:tav tm="0">
                                          <p:val>
                                            <p:fltVal val="0"/>
                                          </p:val>
                                        </p:tav>
                                        <p:tav tm="100000">
                                          <p:val>
                                            <p:strVal val="#ppt_h"/>
                                          </p:val>
                                        </p:tav>
                                      </p:tavLst>
                                    </p:anim>
                                    <p:animEffect filter="fade" transition="in">
                                      <p:cBhvr additive="repl">
                                        <p:cTn id="916" dur="500"/>
                                        <p:tgtEl>
                                          <p:spTgt spid="263"/>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5">
                                  <p:stCondLst>
                                    <p:cond delay="0"/>
                                  </p:stCondLst>
                                  <p:childTnLst>
                                    <p:set>
                                      <p:cBhvr>
                                        <p:cTn id="920" dur="1" fill="hold">
                                          <p:stCondLst>
                                            <p:cond delay="0"/>
                                          </p:stCondLst>
                                        </p:cTn>
                                        <p:tgtEl>
                                          <p:spTgt spid="264"/>
                                        </p:tgtEl>
                                        <p:attrNameLst>
                                          <p:attrName>style.visibility</p:attrName>
                                        </p:attrNameLst>
                                      </p:cBhvr>
                                      <p:to>
                                        <p:strVal val="visible"/>
                                      </p:to>
                                    </p:set>
                                    <p:anim calcmode="lin" valueType="num">
                                      <p:cBhvr additive="repl">
                                        <p:cTn id="921" dur="500" fill="hold">
                                          <p:stCondLst>
                                            <p:cond delay="0"/>
                                          </p:stCondLst>
                                        </p:cTn>
                                        <p:tgtEl>
                                          <p:spTgt spid="264"/>
                                        </p:tgtEl>
                                        <p:attrNameLst>
                                          <p:attrName>r</p:attrName>
                                        </p:attrNameLst>
                                      </p:cBhvr>
                                      <p:tavLst>
                                        <p:tav tm="0">
                                          <p:val>
                                            <p:strVal val="-90"/>
                                          </p:val>
                                        </p:tav>
                                        <p:tav tm="100000">
                                          <p:val>
                                            <p:strVal val="0"/>
                                          </p:val>
                                        </p:tav>
                                      </p:tavLst>
                                    </p:anim>
                                    <p:anim calcmode="lin" valueType="num">
                                      <p:cBhvr additive="repl">
                                        <p:cTn id="922" dur="500" fill="hold">
                                          <p:stCondLst>
                                            <p:cond delay="0"/>
                                          </p:stCondLst>
                                        </p:cTn>
                                        <p:tgtEl>
                                          <p:spTgt spid="264"/>
                                        </p:tgtEl>
                                        <p:attrNameLst>
                                          <p:attrName>ppt_w</p:attrName>
                                        </p:attrNameLst>
                                      </p:cBhvr>
                                      <p:tavLst>
                                        <p:tav tm="0">
                                          <p:val>
                                            <p:strVal val="#ppt_w"/>
                                          </p:val>
                                        </p:tav>
                                        <p:tav tm="100000">
                                          <p:val>
                                            <p:strVal val="#ppt_w*.05"/>
                                          </p:val>
                                        </p:tav>
                                      </p:tavLst>
                                    </p:anim>
                                    <p:anim calcmode="lin" valueType="num">
                                      <p:cBhvr additive="repl">
                                        <p:cTn id="923" dur="500" fill="hold">
                                          <p:stCondLst>
                                            <p:cond delay="500"/>
                                          </p:stCondLst>
                                        </p:cTn>
                                        <p:tgtEl>
                                          <p:spTgt spid="264"/>
                                        </p:tgtEl>
                                        <p:attrNameLst>
                                          <p:attrName>ppt_w</p:attrName>
                                        </p:attrNameLst>
                                      </p:cBhvr>
                                      <p:tavLst>
                                        <p:tav tm="0">
                                          <p:val>
                                            <p:strVal val="#ppt_w*.05"/>
                                          </p:val>
                                        </p:tav>
                                        <p:tav tm="100000">
                                          <p:val>
                                            <p:strVal val="#ppt_w"/>
                                          </p:val>
                                        </p:tav>
                                      </p:tavLst>
                                    </p:anim>
                                    <p:anim calcmode="lin" valueType="num">
                                      <p:cBhvr additive="repl">
                                        <p:cTn id="924" dur="1000" fill="hold"/>
                                        <p:tgtEl>
                                          <p:spTgt spid="264"/>
                                        </p:tgtEl>
                                        <p:attrNameLst>
                                          <p:attrName>ppt_h</p:attrName>
                                        </p:attrNameLst>
                                      </p:cBhvr>
                                      <p:tavLst>
                                        <p:tav tm="0">
                                          <p:val>
                                            <p:strVal val="#ppt_h"/>
                                          </p:val>
                                        </p:tav>
                                        <p:tav tm="100000">
                                          <p:val>
                                            <p:strVal val="#ppt_h"/>
                                          </p:val>
                                        </p:tav>
                                      </p:tavLst>
                                    </p:anim>
                                    <p:anim calcmode="lin" valueType="num">
                                      <p:cBhvr additive="repl">
                                        <p:cTn id="925" dur="500" fill="hold">
                                          <p:stCondLst>
                                            <p:cond delay="0"/>
                                          </p:stCondLst>
                                        </p:cTn>
                                        <p:tgtEl>
                                          <p:spTgt spid="264"/>
                                        </p:tgtEl>
                                        <p:attrNameLst>
                                          <p:attrName>ppt_x</p:attrName>
                                        </p:attrNameLst>
                                      </p:cBhvr>
                                      <p:tavLst>
                                        <p:tav tm="0">
                                          <p:val>
                                            <p:strVal val="#ppt_x+.4"/>
                                          </p:val>
                                        </p:tav>
                                        <p:tav tm="100000">
                                          <p:val>
                                            <p:strVal val="#ppt_x"/>
                                          </p:val>
                                        </p:tav>
                                      </p:tavLst>
                                    </p:anim>
                                    <p:anim calcmode="lin" valueType="num">
                                      <p:cBhvr additive="repl">
                                        <p:cTn id="926" dur="500" fill="hold">
                                          <p:stCondLst>
                                            <p:cond delay="0"/>
                                          </p:stCondLst>
                                        </p:cTn>
                                        <p:tgtEl>
                                          <p:spTgt spid="264"/>
                                        </p:tgtEl>
                                        <p:attrNameLst>
                                          <p:attrName>ppt_y</p:attrName>
                                        </p:attrNameLst>
                                      </p:cBhvr>
                                      <p:tavLst>
                                        <p:tav tm="0">
                                          <p:val>
                                            <p:strVal val="#ppt_y-.2"/>
                                          </p:val>
                                        </p:tav>
                                        <p:tav tm="100000">
                                          <p:val>
                                            <p:strVal val="#ppt_y+.1"/>
                                          </p:val>
                                        </p:tav>
                                      </p:tavLst>
                                    </p:anim>
                                    <p:anim calcmode="lin" valueType="num">
                                      <p:cBhvr additive="repl">
                                        <p:cTn id="927" dur="500" fill="hold">
                                          <p:stCondLst>
                                            <p:cond delay="500"/>
                                          </p:stCondLst>
                                        </p:cTn>
                                        <p:tgtEl>
                                          <p:spTgt spid="264"/>
                                        </p:tgtEl>
                                        <p:attrNameLst>
                                          <p:attrName>ppt_y</p:attrName>
                                        </p:attrNameLst>
                                      </p:cBhvr>
                                      <p:tavLst>
                                        <p:tav tm="0">
                                          <p:val>
                                            <p:strVal val="#ppt_y+.1"/>
                                          </p:val>
                                        </p:tav>
                                        <p:tav tm="100000">
                                          <p:val>
                                            <p:strVal val="#ppt_y"/>
                                          </p:val>
                                        </p:tav>
                                      </p:tavLst>
                                    </p:anim>
                                    <p:animEffect filter="fade" transition="in">
                                      <p:cBhvr additive="repl">
                                        <p:cTn id="928" dur="1000">
                                          <p:stCondLst>
                                            <p:cond delay="0"/>
                                          </p:stCondLst>
                                        </p:cTn>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txBox="1"/>
          <p:nvPr/>
        </p:nvSpPr>
        <p:spPr>
          <a:xfrm>
            <a:off x="325440" y="2349360"/>
            <a:ext cx="8567640" cy="2735280"/>
          </a:xfrm>
          <a:prstGeom prst="rect">
            <a:avLst/>
          </a:prstGeom>
        </p:spPr>
        <p:txBody>
          <a:bodyPr wrap="none" lIns="90000" rIns="90000" tIns="46800" bIns="46800" anchor="t" anchorCtr="1">
            <a:prstTxWarp prst="textWave2">
              <a:avLst>
                <a:gd name="adj1" fmla="val 0"/>
                <a:gd name="adj2" fmla="val 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0000">
                    <a:alpha val="70000"/>
                  </a:srgbClr>
                </a:solidFill>
                <a:latin typeface="AL-Hor"/>
              </a:rPr>
              <a:t> </a:t>
            </a:r>
            <a:r>
              <a:rPr b="0" lang="hi-IN" sz="1800" spc="1" strike="noStrike">
                <a:ln w="0">
                  <a:noFill/>
                </a:ln>
                <a:solidFill>
                  <a:srgbClr val="ff0000">
                    <a:alpha val="70000"/>
                  </a:srgbClr>
                </a:solidFill>
                <a:latin typeface="AL-Hor"/>
              </a:rPr>
              <a:t>أسالوبي العصف الذهني ودراسة الحالات الإدارية</a:t>
            </a:r>
            <a:r>
              <a:rPr b="1" lang="en-US" sz="1800" spc="1" strike="noStrike">
                <a:ln w="0">
                  <a:noFill/>
                </a:ln>
                <a:solidFill>
                  <a:srgbClr val="ff0000">
                    <a:alpha val="70000"/>
                  </a:srgbClr>
                </a:solidFill>
                <a:latin typeface="AL-Hor"/>
              </a:rPr>
              <a:t>  </a:t>
            </a:r>
            <a:endParaRPr b="1" lang="en-US" sz="1800" spc="1" strike="noStrike">
              <a:ln w="0">
                <a:noFill/>
              </a:ln>
              <a:solidFill>
                <a:srgbClr val="ff0000">
                  <a:alpha val="70000"/>
                </a:srgbClr>
              </a:solidFill>
              <a:latin typeface="AL-Hor"/>
              <a:ea typeface="AL-Hor"/>
            </a:endParaRPr>
          </a:p>
        </p:txBody>
      </p:sp>
      <p:sp>
        <p:nvSpPr>
          <p:cNvPr id="80" name=""/>
          <p:cNvSpPr txBox="1"/>
          <p:nvPr/>
        </p:nvSpPr>
        <p:spPr>
          <a:xfrm>
            <a:off x="611280" y="5229360"/>
            <a:ext cx="8064360" cy="14857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ffcc"/>
                    </a:gs>
                    <a:gs pos="100000">
                      <a:srgbClr val="ff9999"/>
                    </a:gs>
                  </a:gsLst>
                  <a:lin ang="5400000"/>
                </a:gradFill>
                <a:latin typeface="AL-Hor"/>
              </a:rPr>
              <a:t>وبناء النشاطات التدريبية</a:t>
            </a:r>
            <a:endParaRPr b="0" lang="en-US" sz="1800" spc="1" strike="noStrike">
              <a:ln w="9360">
                <a:solidFill>
                  <a:srgbClr val="000000"/>
                </a:solidFill>
                <a:miter/>
              </a:ln>
              <a:gradFill rotWithShape="0">
                <a:gsLst>
                  <a:gs pos="0">
                    <a:srgbClr val="ffffcc"/>
                  </a:gs>
                  <a:gs pos="100000">
                    <a:srgbClr val="ff9999"/>
                  </a:gs>
                </a:gsLst>
                <a:lin ang="5400000"/>
              </a:gradFill>
              <a:latin typeface="AL-Hor"/>
              <a:ea typeface="AL-Hor"/>
            </a:endParaRPr>
          </a:p>
        </p:txBody>
      </p:sp>
      <p:sp>
        <p:nvSpPr>
          <p:cNvPr id="81" name=""/>
          <p:cNvSpPr txBox="1"/>
          <p:nvPr/>
        </p:nvSpPr>
        <p:spPr>
          <a:xfrm rot="388800">
            <a:off x="1763640" y="1267920"/>
            <a:ext cx="5040360" cy="1513080"/>
          </a:xfrm>
          <a:prstGeom prst="rect">
            <a:avLst/>
          </a:prstGeom>
        </p:spPr>
        <p:txBody>
          <a:bodyPr wrap="none" lIns="90000" rIns="90000" tIns="46800" bIns="46800" anchor="t" anchorCtr="1">
            <a:prstTxWarp prst="textFade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0">
                  <a:noFill/>
                </a:ln>
                <a:gradFill rotWithShape="0">
                  <a:gsLst>
                    <a:gs pos="0">
                      <a:srgbClr val="9999ff"/>
                    </a:gs>
                    <a:gs pos="100000">
                      <a:srgbClr val="009999"/>
                    </a:gs>
                  </a:gsLst>
                  <a:lin ang="5400000"/>
                </a:gradFill>
                <a:latin typeface="AL-Mateen"/>
              </a:rPr>
              <a:t>التدريب على </a:t>
            </a:r>
            <a:endParaRPr b="1" lang="en-US" sz="5400" spc="1" strike="noStrike">
              <a:ln w="0">
                <a:noFill/>
              </a:ln>
              <a:gradFill rotWithShape="0">
                <a:gsLst>
                  <a:gs pos="0">
                    <a:srgbClr val="9999ff"/>
                  </a:gs>
                  <a:gs pos="100000">
                    <a:srgbClr val="009999"/>
                  </a:gs>
                </a:gsLst>
                <a:lin ang="5400000"/>
              </a:gradFill>
              <a:latin typeface="AL-Mateen"/>
              <a:ea typeface="AL-Matee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81"/>
                                        </p:tgtEl>
                                        <p:attrNameLst>
                                          <p:attrName>style.visibility</p:attrName>
                                        </p:attrNameLst>
                                      </p:cBhvr>
                                      <p:to>
                                        <p:strVal val="visible"/>
                                      </p:to>
                                    </p:set>
                                    <p:animEffect filter="fade" transition="in">
                                      <p:cBhvr additive="repl">
                                        <p:cTn id="23" dur="2000"/>
                                        <p:tgtEl>
                                          <p:spTgt spid="81"/>
                                        </p:tgtEl>
                                      </p:cBhvr>
                                    </p:animEffect>
                                  </p:childTnLst>
                                </p:cTn>
                              </p:par>
                            </p:childTnLst>
                          </p:cTn>
                        </p:par>
                        <p:par>
                          <p:cTn id="24" fill="hold">
                            <p:stCondLst>
                              <p:cond delay="2000"/>
                            </p:stCondLst>
                            <p:childTnLst>
                              <p:par>
                                <p:cTn id="25" nodeType="afterEffect" fill="hold" presetClass="emph" presetID="35" repeatCount="indefinite">
                                  <p:stCondLst>
                                    <p:cond delay="0"/>
                                  </p:stCondLst>
                                  <p:childTnLst>
                                    <p:anim calcmode="discrete" valueType="num">
                                      <p:cBhvr additive="repl">
                                        <p:cTn id="26" dur="1000" fill="hold"/>
                                        <p:tgtEl>
                                          <p:spTgt spid="81"/>
                                        </p:tgtEl>
                                        <p:attrNameLst>
                                          <p:attrName>style.visibility</p:attrName>
                                        </p:attrNameLst>
                                      </p:cBhvr>
                                      <p:tavLst>
                                        <p:tav tm="0">
                                          <p:val>
                                            <p:strVal val="hidden"/>
                                          </p:val>
                                        </p:tav>
                                        <p:tav tm="50000">
                                          <p:val>
                                            <p:strVal val="visible"/>
                                          </p:val>
                                        </p:tav>
                                      </p:tavLst>
                                    </p:anim>
                                  </p:childTnLst>
                                </p:cTn>
                              </p:par>
                            </p:childTnLst>
                          </p:cTn>
                        </p:par>
                        <p:par>
                          <p:cTn id="27" fill="hold">
                            <p:stCondLst>
                              <p:cond delay="3000"/>
                            </p:stCondLst>
                            <p:childTnLst>
                              <p:par>
                                <p:cTn id="28" nodeType="afterEffect" fill="hold" presetClass="entr" presetID="53">
                                  <p:stCondLst>
                                    <p:cond delay="0"/>
                                  </p:stCondLst>
                                  <p:childTnLst>
                                    <p:set>
                                      <p:cBhvr>
                                        <p:cTn id="29" dur="1" fill="hold">
                                          <p:stCondLst>
                                            <p:cond delay="0"/>
                                          </p:stCondLst>
                                        </p:cTn>
                                        <p:tgtEl>
                                          <p:spTgt spid="79"/>
                                        </p:tgtEl>
                                        <p:attrNameLst>
                                          <p:attrName>style.visibility</p:attrName>
                                        </p:attrNameLst>
                                      </p:cBhvr>
                                      <p:to>
                                        <p:strVal val="visible"/>
                                      </p:to>
                                    </p:set>
                                    <p:anim calcmode="lin" valueType="num">
                                      <p:cBhvr additive="repl">
                                        <p:cTn id="30" dur="5000" fill="hold"/>
                                        <p:tgtEl>
                                          <p:spTgt spid="79"/>
                                        </p:tgtEl>
                                        <p:attrNameLst>
                                          <p:attrName>ppt_w</p:attrName>
                                        </p:attrNameLst>
                                      </p:cBhvr>
                                      <p:tavLst>
                                        <p:tav tm="0">
                                          <p:val>
                                            <p:fltVal val="0"/>
                                          </p:val>
                                        </p:tav>
                                        <p:tav tm="100000">
                                          <p:val>
                                            <p:strVal val="#ppt_w"/>
                                          </p:val>
                                        </p:tav>
                                      </p:tavLst>
                                    </p:anim>
                                    <p:anim calcmode="lin" valueType="num">
                                      <p:cBhvr additive="repl">
                                        <p:cTn id="31" dur="5000" fill="hold"/>
                                        <p:tgtEl>
                                          <p:spTgt spid="79"/>
                                        </p:tgtEl>
                                        <p:attrNameLst>
                                          <p:attrName>ppt_h</p:attrName>
                                        </p:attrNameLst>
                                      </p:cBhvr>
                                      <p:tavLst>
                                        <p:tav tm="0">
                                          <p:val>
                                            <p:fltVal val="0"/>
                                          </p:val>
                                        </p:tav>
                                        <p:tav tm="100000">
                                          <p:val>
                                            <p:strVal val="#ppt_h"/>
                                          </p:val>
                                        </p:tav>
                                      </p:tavLst>
                                    </p:anim>
                                    <p:animEffect filter="fade" transition="in">
                                      <p:cBhvr additive="repl">
                                        <p:cTn id="32" dur="5000"/>
                                        <p:tgtEl>
                                          <p:spTgt spid="79"/>
                                        </p:tgtEl>
                                      </p:cBhvr>
                                    </p:animEffect>
                                  </p:childTnLst>
                                </p:cTn>
                              </p:par>
                            </p:childTnLst>
                          </p:cTn>
                        </p:par>
                        <p:par>
                          <p:cTn id="33" fill="hold">
                            <p:stCondLst>
                              <p:cond delay="8000"/>
                            </p:stCondLst>
                            <p:childTnLst>
                              <p:par>
                                <p:cTn id="34" nodeType="afterEffect" fill="hold" presetClass="entr" presetID="53">
                                  <p:stCondLst>
                                    <p:cond delay="0"/>
                                  </p:stCondLst>
                                  <p:childTnLst>
                                    <p:set>
                                      <p:cBhvr>
                                        <p:cTn id="35" dur="1" fill="hold">
                                          <p:stCondLst>
                                            <p:cond delay="0"/>
                                          </p:stCondLst>
                                        </p:cTn>
                                        <p:tgtEl>
                                          <p:spTgt spid="80"/>
                                        </p:tgtEl>
                                        <p:attrNameLst>
                                          <p:attrName>style.visibility</p:attrName>
                                        </p:attrNameLst>
                                      </p:cBhvr>
                                      <p:to>
                                        <p:strVal val="visible"/>
                                      </p:to>
                                    </p:set>
                                    <p:anim calcmode="lin" valueType="num">
                                      <p:cBhvr additive="repl">
                                        <p:cTn id="36" dur="5000" fill="hold"/>
                                        <p:tgtEl>
                                          <p:spTgt spid="80"/>
                                        </p:tgtEl>
                                        <p:attrNameLst>
                                          <p:attrName>ppt_w</p:attrName>
                                        </p:attrNameLst>
                                      </p:cBhvr>
                                      <p:tavLst>
                                        <p:tav tm="0">
                                          <p:val>
                                            <p:fltVal val="0"/>
                                          </p:val>
                                        </p:tav>
                                        <p:tav tm="100000">
                                          <p:val>
                                            <p:strVal val="#ppt_w"/>
                                          </p:val>
                                        </p:tav>
                                      </p:tavLst>
                                    </p:anim>
                                    <p:anim calcmode="lin" valueType="num">
                                      <p:cBhvr additive="repl">
                                        <p:cTn id="37" dur="5000" fill="hold"/>
                                        <p:tgtEl>
                                          <p:spTgt spid="80"/>
                                        </p:tgtEl>
                                        <p:attrNameLst>
                                          <p:attrName>ppt_h</p:attrName>
                                        </p:attrNameLst>
                                      </p:cBhvr>
                                      <p:tavLst>
                                        <p:tav tm="0">
                                          <p:val>
                                            <p:fltVal val="0"/>
                                          </p:val>
                                        </p:tav>
                                        <p:tav tm="100000">
                                          <p:val>
                                            <p:strVal val="#ppt_h"/>
                                          </p:val>
                                        </p:tav>
                                      </p:tavLst>
                                    </p:anim>
                                    <p:animEffect filter="fade" transition="in">
                                      <p:cBhvr additive="repl">
                                        <p:cTn id="38" dur="5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6" name="" descr=""/>
          <p:cNvPicPr/>
          <p:nvPr/>
        </p:nvPicPr>
        <p:blipFill>
          <a:blip r:embed="rId2"/>
          <a:stretch/>
        </p:blipFill>
        <p:spPr>
          <a:xfrm>
            <a:off x="0" y="1628640"/>
            <a:ext cx="9144000" cy="5185080"/>
          </a:xfrm>
          <a:prstGeom prst="rect">
            <a:avLst/>
          </a:prstGeom>
          <a:ln w="0">
            <a:noFill/>
          </a:ln>
        </p:spPr>
      </p:pic>
      <p:sp>
        <p:nvSpPr>
          <p:cNvPr id="267" name=""/>
          <p:cNvSpPr/>
          <p:nvPr/>
        </p:nvSpPr>
        <p:spPr>
          <a:xfrm>
            <a:off x="1187280" y="2060640"/>
            <a:ext cx="6769440" cy="5455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cs typeface="AL-Mohanad"/>
              </a:rPr>
              <a:t>يقوم قائد المشغل بكتابة السؤال أو الأسئلة التي وقع عليها الاختيار عن طريق إعادة صياغة الموضوع الذي تم التوصل إليه في المرحلة الثانية ويطلب من المشاركين تقديم أفكارهم بحرية على أن يقوم كاتب الملاحظات بتدوينها بسرعة على السبورة أو لوحة ورقية في مكان بارز للجميع مع ترقيم الأفكار حسب تسلسل ورودها ، ويمكن للقائد بعد ذلك أن يدعو المشاركين إلى التأمل بالأفكار المعروضة وتوليد المزيد منها</a:t>
            </a:r>
            <a:r>
              <a:rPr b="0" lang="en-US" sz="3200" spc="-1" strike="noStrike">
                <a:solidFill>
                  <a:srgbClr val="000000"/>
                </a:solidFill>
                <a:latin typeface="Arial"/>
                <a:ea typeface="Zokrofi"/>
              </a:rPr>
              <a:t> </a:t>
            </a:r>
            <a:endParaRPr b="0" lang="en-US" sz="3200" spc="-1" strike="noStrike">
              <a:solidFill>
                <a:srgbClr val="000000"/>
              </a:solidFill>
              <a:latin typeface="Arial"/>
            </a:endParaRPr>
          </a:p>
        </p:txBody>
      </p:sp>
      <p:grpSp>
        <p:nvGrpSpPr>
          <p:cNvPr id="268" name=""/>
          <p:cNvGrpSpPr/>
          <p:nvPr/>
        </p:nvGrpSpPr>
        <p:grpSpPr>
          <a:xfrm>
            <a:off x="-529200" y="255240"/>
            <a:ext cx="4905000" cy="5026680"/>
            <a:chOff x="-529200" y="255240"/>
            <a:chExt cx="4905000" cy="5026680"/>
          </a:xfrm>
        </p:grpSpPr>
        <p:pic>
          <p:nvPicPr>
            <p:cNvPr id="269" name="" descr=""/>
            <p:cNvPicPr/>
            <p:nvPr/>
          </p:nvPicPr>
          <p:blipFill>
            <a:blip r:embed="rId3"/>
            <a:stretch/>
          </p:blipFill>
          <p:spPr>
            <a:xfrm rot="19138800">
              <a:off x="-324360" y="1144800"/>
              <a:ext cx="3424320" cy="1905120"/>
            </a:xfrm>
            <a:prstGeom prst="rect">
              <a:avLst/>
            </a:prstGeom>
            <a:ln w="0">
              <a:noFill/>
            </a:ln>
          </p:spPr>
        </p:pic>
        <p:sp>
          <p:nvSpPr>
            <p:cNvPr id="270" name=""/>
            <p:cNvSpPr txBox="1"/>
            <p:nvPr/>
          </p:nvSpPr>
          <p:spPr>
            <a:xfrm rot="19124400">
              <a:off x="484560" y="1564920"/>
              <a:ext cx="3314880" cy="2995560"/>
            </a:xfrm>
            <a:prstGeom prst="rect">
              <a:avLst/>
            </a:prstGeom>
          </p:spPr>
          <p:txBody>
            <a:bodyPr wrap="none" fromWordArt="1" lIns="90000" rIns="90000" tIns="46800" bIns="46800" anchor="t" anchorCtr="1">
              <a:prstTxWarp prst="textArchUp">
                <a:avLst>
                  <a:gd name="adj" fmla="val 13236605"/>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solidFill>
                    <a:srgbClr val="000000"/>
                  </a:solidFill>
                  <a:latin typeface="AL-Battar"/>
                </a:rPr>
                <a:t>العصف الذهني</a:t>
              </a:r>
              <a:endParaRPr b="0" lang="en-US" sz="1800" spc="1" strike="noStrike">
                <a:ln w="9360">
                  <a:solidFill>
                    <a:srgbClr val="000000"/>
                  </a:solidFill>
                  <a:miter/>
                </a:ln>
                <a:solidFill>
                  <a:srgbClr val="000000"/>
                </a:solidFill>
                <a:latin typeface="AL-Battar"/>
                <a:ea typeface="AL-Battar"/>
              </a:endParaRPr>
            </a:p>
          </p:txBody>
        </p:sp>
      </p:gr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23" presetSubtype="16">
                                  <p:stCondLst>
                                    <p:cond delay="0"/>
                                  </p:stCondLst>
                                  <p:childTnLst>
                                    <p:set>
                                      <p:cBhvr>
                                        <p:cTn id="934" dur="1" fill="hold">
                                          <p:stCondLst>
                                            <p:cond delay="0"/>
                                          </p:stCondLst>
                                        </p:cTn>
                                        <p:tgtEl>
                                          <p:spTgt spid="268"/>
                                        </p:tgtEl>
                                        <p:attrNameLst>
                                          <p:attrName>style.visibility</p:attrName>
                                        </p:attrNameLst>
                                      </p:cBhvr>
                                      <p:to>
                                        <p:strVal val="visible"/>
                                      </p:to>
                                    </p:set>
                                    <p:anim calcmode="lin" valueType="num">
                                      <p:cBhvr additive="repl">
                                        <p:cTn id="935" dur="500" fill="hold"/>
                                        <p:tgtEl>
                                          <p:spTgt spid="268"/>
                                        </p:tgtEl>
                                        <p:attrNameLst>
                                          <p:attrName>ppt_w</p:attrName>
                                        </p:attrNameLst>
                                      </p:cBhvr>
                                      <p:tavLst>
                                        <p:tav tm="0">
                                          <p:val>
                                            <p:fltVal val="0"/>
                                          </p:val>
                                        </p:tav>
                                        <p:tav tm="100000">
                                          <p:val>
                                            <p:strVal val="#ppt_w"/>
                                          </p:val>
                                        </p:tav>
                                      </p:tavLst>
                                    </p:anim>
                                    <p:anim calcmode="lin" valueType="num">
                                      <p:cBhvr additive="repl">
                                        <p:cTn id="936"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30">
                                  <p:stCondLst>
                                    <p:cond delay="0"/>
                                  </p:stCondLst>
                                  <p:childTnLst>
                                    <p:set>
                                      <p:cBhvr>
                                        <p:cTn id="940" dur="1" fill="hold">
                                          <p:stCondLst>
                                            <p:cond delay="0"/>
                                          </p:stCondLst>
                                        </p:cTn>
                                        <p:tgtEl>
                                          <p:spTgt spid="266"/>
                                        </p:tgtEl>
                                        <p:attrNameLst>
                                          <p:attrName>style.visibility</p:attrName>
                                        </p:attrNameLst>
                                      </p:cBhvr>
                                      <p:to>
                                        <p:strVal val="visible"/>
                                      </p:to>
                                    </p:set>
                                    <p:animEffect filter="fade" transition="in">
                                      <p:cBhvr additive="repl">
                                        <p:cTn id="941" dur="800"/>
                                        <p:tgtEl>
                                          <p:spTgt spid="266"/>
                                        </p:tgtEl>
                                      </p:cBhvr>
                                    </p:animEffect>
                                    <p:anim calcmode="lin" valueType="num">
                                      <p:cBhvr additive="repl">
                                        <p:cTn id="942" dur="800" fill="hold"/>
                                        <p:tgtEl>
                                          <p:spTgt spid="266"/>
                                        </p:tgtEl>
                                        <p:attrNameLst>
                                          <p:attrName>r</p:attrName>
                                        </p:attrNameLst>
                                      </p:cBhvr>
                                      <p:tavLst>
                                        <p:tav tm="0">
                                          <p:val>
                                            <p:strVal val="-90"/>
                                          </p:val>
                                        </p:tav>
                                        <p:tav tm="100000">
                                          <p:val>
                                            <p:strVal val="0"/>
                                          </p:val>
                                        </p:tav>
                                      </p:tavLst>
                                    </p:anim>
                                    <p:anim calcmode="lin" valueType="num">
                                      <p:cBhvr additive="repl">
                                        <p:cTn id="943" dur="800" fill="hold"/>
                                        <p:tgtEl>
                                          <p:spTgt spid="266"/>
                                        </p:tgtEl>
                                        <p:attrNameLst>
                                          <p:attrName>ppt_x</p:attrName>
                                        </p:attrNameLst>
                                      </p:cBhvr>
                                      <p:tavLst>
                                        <p:tav tm="0">
                                          <p:val>
                                            <p:strVal val="#ppt_x+0.4"/>
                                          </p:val>
                                        </p:tav>
                                        <p:tav tm="100000">
                                          <p:val>
                                            <p:strVal val="#ppt_x-0.05"/>
                                          </p:val>
                                        </p:tav>
                                      </p:tavLst>
                                    </p:anim>
                                    <p:anim calcmode="lin" valueType="num">
                                      <p:cBhvr additive="repl">
                                        <p:cTn id="944" dur="800" fill="hold"/>
                                        <p:tgtEl>
                                          <p:spTgt spid="266"/>
                                        </p:tgtEl>
                                        <p:attrNameLst>
                                          <p:attrName>ppt_y</p:attrName>
                                        </p:attrNameLst>
                                      </p:cBhvr>
                                      <p:tavLst>
                                        <p:tav tm="0">
                                          <p:val>
                                            <p:strVal val="#ppt_y-0.4"/>
                                          </p:val>
                                        </p:tav>
                                        <p:tav tm="100000">
                                          <p:val>
                                            <p:strVal val="#ppt_y+0.1"/>
                                          </p:val>
                                        </p:tav>
                                      </p:tavLst>
                                    </p:anim>
                                    <p:anim calcmode="lin" valueType="num">
                                      <p:cBhvr additive="repl">
                                        <p:cTn id="945" dur="200" fill="hold">
                                          <p:stCondLst>
                                            <p:cond delay="800"/>
                                          </p:stCondLst>
                                        </p:cTn>
                                        <p:tgtEl>
                                          <p:spTgt spid="266"/>
                                        </p:tgtEl>
                                        <p:attrNameLst>
                                          <p:attrName>ppt_x</p:attrName>
                                        </p:attrNameLst>
                                      </p:cBhvr>
                                      <p:tavLst>
                                        <p:tav tm="0">
                                          <p:val>
                                            <p:strVal val="#ppt_x-0.05"/>
                                          </p:val>
                                        </p:tav>
                                        <p:tav tm="100000">
                                          <p:val>
                                            <p:strVal val="#ppt_x"/>
                                          </p:val>
                                        </p:tav>
                                      </p:tavLst>
                                    </p:anim>
                                    <p:anim calcmode="lin" valueType="num">
                                      <p:cBhvr additive="repl">
                                        <p:cTn id="946" dur="200" fill="hold">
                                          <p:stCondLst>
                                            <p:cond delay="800"/>
                                          </p:stCondLst>
                                        </p:cTn>
                                        <p:tgtEl>
                                          <p:spTgt spid="266"/>
                                        </p:tgtEl>
                                        <p:attrNameLst>
                                          <p:attrName>ppt_y</p:attrName>
                                        </p:attrNameLst>
                                      </p:cBhvr>
                                      <p:tavLst>
                                        <p:tav tm="0">
                                          <p:val>
                                            <p:strVal val="#ppt_y+0.1"/>
                                          </p:val>
                                        </p:tav>
                                        <p:tav tm="100000">
                                          <p:val>
                                            <p:strVal val="#ppt_y"/>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5">
                                  <p:stCondLst>
                                    <p:cond delay="0"/>
                                  </p:stCondLst>
                                  <p:childTnLst>
                                    <p:set>
                                      <p:cBhvr>
                                        <p:cTn id="950" dur="1" fill="hold">
                                          <p:stCondLst>
                                            <p:cond delay="0"/>
                                          </p:stCondLst>
                                        </p:cTn>
                                        <p:tgtEl>
                                          <p:spTgt spid="267"/>
                                        </p:tgtEl>
                                        <p:attrNameLst>
                                          <p:attrName>style.visibility</p:attrName>
                                        </p:attrNameLst>
                                      </p:cBhvr>
                                      <p:to>
                                        <p:strVal val="visible"/>
                                      </p:to>
                                    </p:set>
                                    <p:anim calcmode="lin" valueType="num">
                                      <p:cBhvr additive="repl">
                                        <p:cTn id="951" dur="500" fill="hold">
                                          <p:stCondLst>
                                            <p:cond delay="0"/>
                                          </p:stCondLst>
                                        </p:cTn>
                                        <p:tgtEl>
                                          <p:spTgt spid="267"/>
                                        </p:tgtEl>
                                        <p:attrNameLst>
                                          <p:attrName>r</p:attrName>
                                        </p:attrNameLst>
                                      </p:cBhvr>
                                      <p:tavLst>
                                        <p:tav tm="0">
                                          <p:val>
                                            <p:strVal val="-90"/>
                                          </p:val>
                                        </p:tav>
                                        <p:tav tm="100000">
                                          <p:val>
                                            <p:strVal val="0"/>
                                          </p:val>
                                        </p:tav>
                                      </p:tavLst>
                                    </p:anim>
                                    <p:anim calcmode="lin" valueType="num">
                                      <p:cBhvr additive="repl">
                                        <p:cTn id="952" dur="500" fill="hold">
                                          <p:stCondLst>
                                            <p:cond delay="0"/>
                                          </p:stCondLst>
                                        </p:cTn>
                                        <p:tgtEl>
                                          <p:spTgt spid="267"/>
                                        </p:tgtEl>
                                        <p:attrNameLst>
                                          <p:attrName>ppt_w</p:attrName>
                                        </p:attrNameLst>
                                      </p:cBhvr>
                                      <p:tavLst>
                                        <p:tav tm="0">
                                          <p:val>
                                            <p:strVal val="#ppt_w"/>
                                          </p:val>
                                        </p:tav>
                                        <p:tav tm="100000">
                                          <p:val>
                                            <p:strVal val="#ppt_w*.05"/>
                                          </p:val>
                                        </p:tav>
                                      </p:tavLst>
                                    </p:anim>
                                    <p:anim calcmode="lin" valueType="num">
                                      <p:cBhvr additive="repl">
                                        <p:cTn id="953" dur="500" fill="hold">
                                          <p:stCondLst>
                                            <p:cond delay="500"/>
                                          </p:stCondLst>
                                        </p:cTn>
                                        <p:tgtEl>
                                          <p:spTgt spid="267"/>
                                        </p:tgtEl>
                                        <p:attrNameLst>
                                          <p:attrName>ppt_w</p:attrName>
                                        </p:attrNameLst>
                                      </p:cBhvr>
                                      <p:tavLst>
                                        <p:tav tm="0">
                                          <p:val>
                                            <p:strVal val="#ppt_w*.05"/>
                                          </p:val>
                                        </p:tav>
                                        <p:tav tm="100000">
                                          <p:val>
                                            <p:strVal val="#ppt_w"/>
                                          </p:val>
                                        </p:tav>
                                      </p:tavLst>
                                    </p:anim>
                                    <p:anim calcmode="lin" valueType="num">
                                      <p:cBhvr additive="repl">
                                        <p:cTn id="954" dur="1000" fill="hold"/>
                                        <p:tgtEl>
                                          <p:spTgt spid="267"/>
                                        </p:tgtEl>
                                        <p:attrNameLst>
                                          <p:attrName>ppt_h</p:attrName>
                                        </p:attrNameLst>
                                      </p:cBhvr>
                                      <p:tavLst>
                                        <p:tav tm="0">
                                          <p:val>
                                            <p:strVal val="#ppt_h"/>
                                          </p:val>
                                        </p:tav>
                                        <p:tav tm="100000">
                                          <p:val>
                                            <p:strVal val="#ppt_h"/>
                                          </p:val>
                                        </p:tav>
                                      </p:tavLst>
                                    </p:anim>
                                    <p:anim calcmode="lin" valueType="num">
                                      <p:cBhvr additive="repl">
                                        <p:cTn id="955" dur="500" fill="hold">
                                          <p:stCondLst>
                                            <p:cond delay="0"/>
                                          </p:stCondLst>
                                        </p:cTn>
                                        <p:tgtEl>
                                          <p:spTgt spid="267"/>
                                        </p:tgtEl>
                                        <p:attrNameLst>
                                          <p:attrName>ppt_x</p:attrName>
                                        </p:attrNameLst>
                                      </p:cBhvr>
                                      <p:tavLst>
                                        <p:tav tm="0">
                                          <p:val>
                                            <p:strVal val="#ppt_x+.4"/>
                                          </p:val>
                                        </p:tav>
                                        <p:tav tm="100000">
                                          <p:val>
                                            <p:strVal val="#ppt_x"/>
                                          </p:val>
                                        </p:tav>
                                      </p:tavLst>
                                    </p:anim>
                                    <p:anim calcmode="lin" valueType="num">
                                      <p:cBhvr additive="repl">
                                        <p:cTn id="956" dur="500" fill="hold">
                                          <p:stCondLst>
                                            <p:cond delay="0"/>
                                          </p:stCondLst>
                                        </p:cTn>
                                        <p:tgtEl>
                                          <p:spTgt spid="267"/>
                                        </p:tgtEl>
                                        <p:attrNameLst>
                                          <p:attrName>ppt_y</p:attrName>
                                        </p:attrNameLst>
                                      </p:cBhvr>
                                      <p:tavLst>
                                        <p:tav tm="0">
                                          <p:val>
                                            <p:strVal val="#ppt_y-.2"/>
                                          </p:val>
                                        </p:tav>
                                        <p:tav tm="100000">
                                          <p:val>
                                            <p:strVal val="#ppt_y+.1"/>
                                          </p:val>
                                        </p:tav>
                                      </p:tavLst>
                                    </p:anim>
                                    <p:anim calcmode="lin" valueType="num">
                                      <p:cBhvr additive="repl">
                                        <p:cTn id="957" dur="500" fill="hold">
                                          <p:stCondLst>
                                            <p:cond delay="500"/>
                                          </p:stCondLst>
                                        </p:cTn>
                                        <p:tgtEl>
                                          <p:spTgt spid="267"/>
                                        </p:tgtEl>
                                        <p:attrNameLst>
                                          <p:attrName>ppt_y</p:attrName>
                                        </p:attrNameLst>
                                      </p:cBhvr>
                                      <p:tavLst>
                                        <p:tav tm="0">
                                          <p:val>
                                            <p:strVal val="#ppt_y+.1"/>
                                          </p:val>
                                        </p:tav>
                                        <p:tav tm="100000">
                                          <p:val>
                                            <p:strVal val="#ppt_y"/>
                                          </p:val>
                                        </p:tav>
                                      </p:tavLst>
                                    </p:anim>
                                    <p:animEffect filter="fade" transition="in">
                                      <p:cBhvr additive="repl">
                                        <p:cTn id="958" dur="1000">
                                          <p:stCondLst>
                                            <p:cond delay="0"/>
                                          </p:stCondLst>
                                        </p:cTn>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1" name=""/>
          <p:cNvGrpSpPr/>
          <p:nvPr/>
        </p:nvGrpSpPr>
        <p:grpSpPr>
          <a:xfrm>
            <a:off x="1042920" y="836640"/>
            <a:ext cx="8064720" cy="6021360"/>
            <a:chOff x="1042920" y="836640"/>
            <a:chExt cx="8064720" cy="6021360"/>
          </a:xfrm>
        </p:grpSpPr>
        <p:sp>
          <p:nvSpPr>
            <p:cNvPr id="272" name=""/>
            <p:cNvSpPr/>
            <p:nvPr/>
          </p:nvSpPr>
          <p:spPr>
            <a:xfrm>
              <a:off x="1042920" y="836640"/>
              <a:ext cx="8064720" cy="6021360"/>
            </a:xfrm>
            <a:custGeom>
              <a:avLst/>
              <a:gdLst/>
              <a:ahLst/>
              <a:rect l="l" t="t" r="r" b="b"/>
              <a:pathLst>
                <a:path w="3828" h="3341">
                  <a:moveTo>
                    <a:pt x="1290" y="0"/>
                  </a:moveTo>
                  <a:lnTo>
                    <a:pt x="3810" y="619"/>
                  </a:lnTo>
                  <a:lnTo>
                    <a:pt x="3816" y="619"/>
                  </a:lnTo>
                  <a:lnTo>
                    <a:pt x="3816" y="624"/>
                  </a:lnTo>
                  <a:lnTo>
                    <a:pt x="3822" y="628"/>
                  </a:lnTo>
                  <a:lnTo>
                    <a:pt x="3828" y="628"/>
                  </a:lnTo>
                  <a:lnTo>
                    <a:pt x="3828" y="632"/>
                  </a:lnTo>
                  <a:lnTo>
                    <a:pt x="3828" y="637"/>
                  </a:lnTo>
                  <a:lnTo>
                    <a:pt x="3828" y="641"/>
                  </a:lnTo>
                  <a:lnTo>
                    <a:pt x="3828" y="646"/>
                  </a:lnTo>
                  <a:lnTo>
                    <a:pt x="3720" y="872"/>
                  </a:lnTo>
                  <a:lnTo>
                    <a:pt x="3720" y="881"/>
                  </a:lnTo>
                  <a:lnTo>
                    <a:pt x="3720" y="885"/>
                  </a:lnTo>
                  <a:lnTo>
                    <a:pt x="3726" y="894"/>
                  </a:lnTo>
                  <a:lnTo>
                    <a:pt x="3732" y="898"/>
                  </a:lnTo>
                  <a:lnTo>
                    <a:pt x="3738" y="907"/>
                  </a:lnTo>
                  <a:lnTo>
                    <a:pt x="3750" y="912"/>
                  </a:lnTo>
                  <a:lnTo>
                    <a:pt x="3756" y="920"/>
                  </a:lnTo>
                  <a:lnTo>
                    <a:pt x="3768" y="925"/>
                  </a:lnTo>
                  <a:lnTo>
                    <a:pt x="3780" y="933"/>
                  </a:lnTo>
                  <a:lnTo>
                    <a:pt x="3786" y="938"/>
                  </a:lnTo>
                  <a:lnTo>
                    <a:pt x="3798" y="946"/>
                  </a:lnTo>
                  <a:lnTo>
                    <a:pt x="3804" y="951"/>
                  </a:lnTo>
                  <a:lnTo>
                    <a:pt x="3810" y="960"/>
                  </a:lnTo>
                  <a:lnTo>
                    <a:pt x="3816" y="964"/>
                  </a:lnTo>
                  <a:lnTo>
                    <a:pt x="3816" y="973"/>
                  </a:lnTo>
                  <a:lnTo>
                    <a:pt x="3816" y="977"/>
                  </a:lnTo>
                  <a:lnTo>
                    <a:pt x="3534" y="1579"/>
                  </a:lnTo>
                  <a:lnTo>
                    <a:pt x="3528" y="1583"/>
                  </a:lnTo>
                  <a:lnTo>
                    <a:pt x="3522" y="1588"/>
                  </a:lnTo>
                  <a:lnTo>
                    <a:pt x="3516" y="1592"/>
                  </a:lnTo>
                  <a:lnTo>
                    <a:pt x="3504" y="1592"/>
                  </a:lnTo>
                  <a:lnTo>
                    <a:pt x="3492" y="1592"/>
                  </a:lnTo>
                  <a:lnTo>
                    <a:pt x="3480" y="1592"/>
                  </a:lnTo>
                  <a:lnTo>
                    <a:pt x="3468" y="1592"/>
                  </a:lnTo>
                  <a:lnTo>
                    <a:pt x="3456" y="1592"/>
                  </a:lnTo>
                  <a:lnTo>
                    <a:pt x="3444" y="1592"/>
                  </a:lnTo>
                  <a:lnTo>
                    <a:pt x="3432" y="1592"/>
                  </a:lnTo>
                  <a:lnTo>
                    <a:pt x="3420" y="1592"/>
                  </a:lnTo>
                  <a:lnTo>
                    <a:pt x="3408" y="1592"/>
                  </a:lnTo>
                  <a:lnTo>
                    <a:pt x="3396" y="1592"/>
                  </a:lnTo>
                  <a:lnTo>
                    <a:pt x="3390" y="1596"/>
                  </a:lnTo>
                  <a:lnTo>
                    <a:pt x="3384" y="1601"/>
                  </a:lnTo>
                  <a:lnTo>
                    <a:pt x="3378" y="1605"/>
                  </a:lnTo>
                  <a:lnTo>
                    <a:pt x="2574" y="3328"/>
                  </a:lnTo>
                  <a:lnTo>
                    <a:pt x="2574" y="3332"/>
                  </a:lnTo>
                  <a:lnTo>
                    <a:pt x="2568" y="3332"/>
                  </a:lnTo>
                  <a:lnTo>
                    <a:pt x="2568" y="3337"/>
                  </a:lnTo>
                  <a:lnTo>
                    <a:pt x="2562" y="3341"/>
                  </a:lnTo>
                  <a:lnTo>
                    <a:pt x="2556" y="3341"/>
                  </a:lnTo>
                  <a:lnTo>
                    <a:pt x="2550" y="3341"/>
                  </a:lnTo>
                  <a:lnTo>
                    <a:pt x="2544" y="3341"/>
                  </a:lnTo>
                  <a:lnTo>
                    <a:pt x="2538" y="3341"/>
                  </a:lnTo>
                  <a:lnTo>
                    <a:pt x="18" y="2722"/>
                  </a:lnTo>
                  <a:lnTo>
                    <a:pt x="12" y="2722"/>
                  </a:lnTo>
                  <a:lnTo>
                    <a:pt x="12" y="2717"/>
                  </a:lnTo>
                  <a:lnTo>
                    <a:pt x="6" y="2713"/>
                  </a:lnTo>
                  <a:lnTo>
                    <a:pt x="0" y="2713"/>
                  </a:lnTo>
                  <a:lnTo>
                    <a:pt x="0" y="2709"/>
                  </a:lnTo>
                  <a:lnTo>
                    <a:pt x="0" y="2704"/>
                  </a:lnTo>
                  <a:lnTo>
                    <a:pt x="0" y="2700"/>
                  </a:lnTo>
                  <a:lnTo>
                    <a:pt x="0" y="2695"/>
                  </a:lnTo>
                  <a:lnTo>
                    <a:pt x="1254" y="13"/>
                  </a:lnTo>
                  <a:lnTo>
                    <a:pt x="1254" y="9"/>
                  </a:lnTo>
                  <a:lnTo>
                    <a:pt x="1260" y="9"/>
                  </a:lnTo>
                  <a:lnTo>
                    <a:pt x="1260" y="4"/>
                  </a:lnTo>
                  <a:lnTo>
                    <a:pt x="1266" y="0"/>
                  </a:lnTo>
                  <a:lnTo>
                    <a:pt x="1272" y="0"/>
                  </a:lnTo>
                  <a:lnTo>
                    <a:pt x="1278" y="0"/>
                  </a:lnTo>
                  <a:lnTo>
                    <a:pt x="1284" y="0"/>
                  </a:lnTo>
                  <a:lnTo>
                    <a:pt x="1290" y="0"/>
                  </a:lnTo>
                  <a:close/>
                </a:path>
              </a:pathLst>
            </a:custGeom>
            <a:solidFill>
              <a:srgbClr val="33cccc">
                <a:alpha val="62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42920" y="836640"/>
              <a:ext cx="8064720" cy="6021360"/>
            </a:xfrm>
            <a:custGeom>
              <a:avLst/>
              <a:gdLst/>
              <a:ahLst/>
              <a:rect l="l" t="t" r="r" b="b"/>
              <a:pathLst>
                <a:path w="3828" h="3341">
                  <a:moveTo>
                    <a:pt x="1290" y="0"/>
                  </a:moveTo>
                  <a:lnTo>
                    <a:pt x="3810" y="619"/>
                  </a:lnTo>
                  <a:lnTo>
                    <a:pt x="3816" y="619"/>
                  </a:lnTo>
                  <a:lnTo>
                    <a:pt x="3816" y="624"/>
                  </a:lnTo>
                  <a:lnTo>
                    <a:pt x="3822" y="628"/>
                  </a:lnTo>
                  <a:lnTo>
                    <a:pt x="3828" y="628"/>
                  </a:lnTo>
                  <a:lnTo>
                    <a:pt x="3828" y="632"/>
                  </a:lnTo>
                  <a:lnTo>
                    <a:pt x="3828" y="637"/>
                  </a:lnTo>
                  <a:lnTo>
                    <a:pt x="3828" y="641"/>
                  </a:lnTo>
                  <a:lnTo>
                    <a:pt x="3828" y="646"/>
                  </a:lnTo>
                  <a:lnTo>
                    <a:pt x="3720" y="872"/>
                  </a:lnTo>
                  <a:lnTo>
                    <a:pt x="3720" y="881"/>
                  </a:lnTo>
                  <a:lnTo>
                    <a:pt x="3720" y="885"/>
                  </a:lnTo>
                  <a:lnTo>
                    <a:pt x="3726" y="894"/>
                  </a:lnTo>
                  <a:lnTo>
                    <a:pt x="3732" y="898"/>
                  </a:lnTo>
                  <a:lnTo>
                    <a:pt x="3738" y="907"/>
                  </a:lnTo>
                  <a:lnTo>
                    <a:pt x="3750" y="912"/>
                  </a:lnTo>
                  <a:lnTo>
                    <a:pt x="3756" y="920"/>
                  </a:lnTo>
                  <a:lnTo>
                    <a:pt x="3768" y="925"/>
                  </a:lnTo>
                  <a:lnTo>
                    <a:pt x="3780" y="933"/>
                  </a:lnTo>
                  <a:lnTo>
                    <a:pt x="3786" y="938"/>
                  </a:lnTo>
                  <a:lnTo>
                    <a:pt x="3798" y="946"/>
                  </a:lnTo>
                  <a:lnTo>
                    <a:pt x="3804" y="951"/>
                  </a:lnTo>
                  <a:lnTo>
                    <a:pt x="3810" y="960"/>
                  </a:lnTo>
                  <a:lnTo>
                    <a:pt x="3816" y="964"/>
                  </a:lnTo>
                  <a:lnTo>
                    <a:pt x="3816" y="973"/>
                  </a:lnTo>
                  <a:lnTo>
                    <a:pt x="3816" y="977"/>
                  </a:lnTo>
                  <a:lnTo>
                    <a:pt x="3534" y="1579"/>
                  </a:lnTo>
                  <a:lnTo>
                    <a:pt x="3528" y="1583"/>
                  </a:lnTo>
                  <a:lnTo>
                    <a:pt x="3522" y="1588"/>
                  </a:lnTo>
                  <a:lnTo>
                    <a:pt x="3516" y="1592"/>
                  </a:lnTo>
                  <a:lnTo>
                    <a:pt x="3504" y="1592"/>
                  </a:lnTo>
                  <a:lnTo>
                    <a:pt x="3492" y="1592"/>
                  </a:lnTo>
                  <a:lnTo>
                    <a:pt x="3480" y="1592"/>
                  </a:lnTo>
                  <a:lnTo>
                    <a:pt x="3468" y="1592"/>
                  </a:lnTo>
                  <a:lnTo>
                    <a:pt x="3456" y="1592"/>
                  </a:lnTo>
                  <a:lnTo>
                    <a:pt x="3444" y="1592"/>
                  </a:lnTo>
                  <a:lnTo>
                    <a:pt x="3432" y="1592"/>
                  </a:lnTo>
                  <a:lnTo>
                    <a:pt x="3420" y="1592"/>
                  </a:lnTo>
                  <a:lnTo>
                    <a:pt x="3408" y="1592"/>
                  </a:lnTo>
                  <a:lnTo>
                    <a:pt x="3396" y="1592"/>
                  </a:lnTo>
                  <a:lnTo>
                    <a:pt x="3390" y="1596"/>
                  </a:lnTo>
                  <a:lnTo>
                    <a:pt x="3384" y="1601"/>
                  </a:lnTo>
                  <a:lnTo>
                    <a:pt x="3378" y="1605"/>
                  </a:lnTo>
                  <a:lnTo>
                    <a:pt x="2574" y="3328"/>
                  </a:lnTo>
                  <a:lnTo>
                    <a:pt x="2574" y="3332"/>
                  </a:lnTo>
                  <a:lnTo>
                    <a:pt x="2568" y="3332"/>
                  </a:lnTo>
                  <a:lnTo>
                    <a:pt x="2568" y="3337"/>
                  </a:lnTo>
                  <a:lnTo>
                    <a:pt x="2562" y="3341"/>
                  </a:lnTo>
                  <a:lnTo>
                    <a:pt x="2556" y="3341"/>
                  </a:lnTo>
                  <a:lnTo>
                    <a:pt x="2550" y="3341"/>
                  </a:lnTo>
                  <a:lnTo>
                    <a:pt x="2544" y="3341"/>
                  </a:lnTo>
                  <a:lnTo>
                    <a:pt x="2538" y="3341"/>
                  </a:lnTo>
                  <a:lnTo>
                    <a:pt x="18" y="2722"/>
                  </a:lnTo>
                  <a:lnTo>
                    <a:pt x="12" y="2722"/>
                  </a:lnTo>
                  <a:lnTo>
                    <a:pt x="12" y="2717"/>
                  </a:lnTo>
                  <a:lnTo>
                    <a:pt x="6" y="2713"/>
                  </a:lnTo>
                  <a:lnTo>
                    <a:pt x="0" y="2713"/>
                  </a:lnTo>
                  <a:lnTo>
                    <a:pt x="0" y="2709"/>
                  </a:lnTo>
                  <a:lnTo>
                    <a:pt x="0" y="2704"/>
                  </a:lnTo>
                  <a:lnTo>
                    <a:pt x="0" y="2700"/>
                  </a:lnTo>
                  <a:lnTo>
                    <a:pt x="0" y="2695"/>
                  </a:lnTo>
                  <a:lnTo>
                    <a:pt x="1254" y="13"/>
                  </a:lnTo>
                  <a:lnTo>
                    <a:pt x="1254" y="9"/>
                  </a:lnTo>
                  <a:lnTo>
                    <a:pt x="1260" y="9"/>
                  </a:lnTo>
                  <a:lnTo>
                    <a:pt x="1260" y="4"/>
                  </a:lnTo>
                  <a:lnTo>
                    <a:pt x="1266" y="0"/>
                  </a:lnTo>
                  <a:lnTo>
                    <a:pt x="1272" y="0"/>
                  </a:lnTo>
                  <a:lnTo>
                    <a:pt x="1278" y="0"/>
                  </a:lnTo>
                  <a:lnTo>
                    <a:pt x="1284" y="0"/>
                  </a:lnTo>
                  <a:lnTo>
                    <a:pt x="1290" y="0"/>
                  </a:lnTo>
                </a:path>
              </a:pathLst>
            </a:custGeom>
            <a:noFill/>
            <a:ln w="0">
              <a:solidFill>
                <a:srgbClr val="333399"/>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70200" y="1327320"/>
              <a:ext cx="6561000" cy="5126040"/>
            </a:xfrm>
            <a:prstGeom prst="rect">
              <a:avLst/>
            </a:prstGeom>
            <a:solidFill>
              <a:srgbClr val="ffcc00">
                <a:alpha val="65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
          <p:cNvSpPr/>
          <p:nvPr/>
        </p:nvSpPr>
        <p:spPr>
          <a:xfrm>
            <a:off x="1979640" y="1341360"/>
            <a:ext cx="6408720" cy="4896000"/>
          </a:xfrm>
          <a:prstGeom prst="rect">
            <a:avLst/>
          </a:prstGeom>
          <a:noFill/>
          <a:ln w="0">
            <a:noFill/>
          </a:ln>
        </p:spPr>
        <p:style>
          <a:lnRef idx="0"/>
          <a:fillRef idx="0"/>
          <a:effectRef idx="0"/>
          <a:fontRef idx="minor"/>
        </p:style>
        <p:txBody>
          <a:bodyPr lIns="90000" rIns="90000" tIns="46800" bIns="46800" anchor="t">
            <a:noAutofit/>
          </a:bodyPr>
          <a:p>
            <a:pPr algn="just" rtl="1">
              <a:lnSpc>
                <a:spcPct val="70000"/>
              </a:lnSpc>
              <a:spcBef>
                <a:spcPts val="2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300" spc="-1" strike="noStrike">
                <a:solidFill>
                  <a:srgbClr val="000000"/>
                </a:solidFill>
                <a:latin typeface="Times New Roman"/>
                <a:cs typeface="AL-Mohanad"/>
              </a:rPr>
              <a:t>عندما يوشك معين الأفكار أن ينضب لدى المشاركين يمكن     لقائد المشغل أن يدعو المشاركين إلى اختيار أغرب الأفكار المطروحة وأكثرها بعداً عن الأفكار الواردة وعن الموضوع ويطلب منهم أن يفكروا كيف يمكن تحويل هذه الأفكار إلى فكرة عملية مفيدة وعند انتهاء الجلسة يشكر قائد المشغل المشاركين على مساهمتهم المفيدة</a:t>
            </a:r>
            <a:r>
              <a:rPr b="0" lang="en-US" sz="4300" spc="-1" strike="noStrike">
                <a:solidFill>
                  <a:srgbClr val="000000"/>
                </a:solidFill>
                <a:latin typeface="Arial"/>
                <a:ea typeface="AL-Hor"/>
              </a:rPr>
              <a:t> </a:t>
            </a:r>
            <a:endParaRPr b="0" lang="en-US" sz="4300" spc="-1" strike="noStrike">
              <a:solidFill>
                <a:srgbClr val="000000"/>
              </a:solidFill>
              <a:latin typeface="Arial"/>
            </a:endParaRPr>
          </a:p>
        </p:txBody>
      </p:sp>
      <p:grpSp>
        <p:nvGrpSpPr>
          <p:cNvPr id="276" name=""/>
          <p:cNvGrpSpPr/>
          <p:nvPr/>
        </p:nvGrpSpPr>
        <p:grpSpPr>
          <a:xfrm>
            <a:off x="-228600" y="713160"/>
            <a:ext cx="3331800" cy="3324240"/>
            <a:chOff x="-228600" y="713160"/>
            <a:chExt cx="3331800" cy="3324240"/>
          </a:xfrm>
        </p:grpSpPr>
        <p:sp>
          <p:nvSpPr>
            <p:cNvPr id="277" name="DiagonalStripe"/>
            <p:cNvSpPr/>
            <p:nvPr/>
          </p:nvSpPr>
          <p:spPr>
            <a:xfrm>
              <a:off x="0" y="836640"/>
              <a:ext cx="2556000" cy="2663640"/>
            </a:xfrm>
            <a:custGeom>
              <a:avLst/>
              <a:gdLst>
                <a:gd name="textAreaLeft" fmla="*/ 0 w 2556000"/>
                <a:gd name="textAreaRight" fmla="*/ 1923840 w 2556000"/>
                <a:gd name="textAreaTop" fmla="*/ 0 h 2663640"/>
                <a:gd name="textAreaBottom" fmla="*/ 2004840 h 2663640"/>
              </a:gdLst>
              <a:ahLst/>
              <a:rect l="textAreaLeft" t="textAreaTop" r="textAreaRight" b="textAreaBottom"/>
              <a:pathLst>
                <a:path w="21600" h="21600">
                  <a:moveTo>
                    <a:pt x="10914" y="0"/>
                  </a:moveTo>
                  <a:lnTo>
                    <a:pt x="0" y="10914"/>
                  </a:lnTo>
                </a:path>
                <a:path w="21600" h="21600">
                  <a:moveTo>
                    <a:pt x="0" y="21600"/>
                  </a:moveTo>
                  <a:lnTo>
                    <a:pt x="21600" y="0"/>
                  </a:lnTo>
                </a:path>
              </a:pathLst>
            </a:custGeom>
            <a:blipFill rotWithShape="0">
              <a:blip r:embed="rId2"/>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8937200">
              <a:off x="136080" y="1322640"/>
              <a:ext cx="260172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ff"/>
                  </a:solidFill>
                  <a:latin typeface="Arial"/>
                  <a:cs typeface="AL-Hor"/>
                </a:rPr>
                <a:t>تحديد أغرب فكرة</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35">
                                  <p:stCondLst>
                                    <p:cond delay="0"/>
                                  </p:stCondLst>
                                  <p:childTnLst>
                                    <p:set>
                                      <p:cBhvr>
                                        <p:cTn id="964" dur="1" fill="hold">
                                          <p:stCondLst>
                                            <p:cond delay="0"/>
                                          </p:stCondLst>
                                        </p:cTn>
                                        <p:tgtEl>
                                          <p:spTgt spid="271"/>
                                        </p:tgtEl>
                                        <p:attrNameLst>
                                          <p:attrName>style.visibility</p:attrName>
                                        </p:attrNameLst>
                                      </p:cBhvr>
                                      <p:to>
                                        <p:strVal val="visible"/>
                                      </p:to>
                                    </p:set>
                                    <p:animEffect filter="fade" transition="in">
                                      <p:cBhvr additive="repl">
                                        <p:cTn id="965" dur="2000"/>
                                        <p:tgtEl>
                                          <p:spTgt spid="271"/>
                                        </p:tgtEl>
                                      </p:cBhvr>
                                    </p:animEffect>
                                    <p:anim calcmode="lin" valueType="num">
                                      <p:cBhvr additive="repl">
                                        <p:cTn id="966" dur="2000" fill="hold"/>
                                        <p:tgtEl>
                                          <p:spTgt spid="271"/>
                                        </p:tgtEl>
                                        <p:attrNameLst>
                                          <p:attrName>r</p:attrName>
                                        </p:attrNameLst>
                                      </p:cBhvr>
                                      <p:tavLst>
                                        <p:tav tm="0">
                                          <p:val>
                                            <p:strVal val="720"/>
                                          </p:val>
                                        </p:tav>
                                        <p:tav tm="100000">
                                          <p:val>
                                            <p:strVal val="0"/>
                                          </p:val>
                                        </p:tav>
                                      </p:tavLst>
                                    </p:anim>
                                    <p:anim calcmode="lin" valueType="num">
                                      <p:cBhvr additive="repl">
                                        <p:cTn id="967" dur="2000" fill="hold"/>
                                        <p:tgtEl>
                                          <p:spTgt spid="271"/>
                                        </p:tgtEl>
                                        <p:attrNameLst>
                                          <p:attrName>ppt_h</p:attrName>
                                        </p:attrNameLst>
                                      </p:cBhvr>
                                      <p:tavLst>
                                        <p:tav tm="0">
                                          <p:val>
                                            <p:fltVal val="0"/>
                                          </p:val>
                                        </p:tav>
                                        <p:tav tm="100000">
                                          <p:val>
                                            <p:strVal val="#ppt_h"/>
                                          </p:val>
                                        </p:tav>
                                      </p:tavLst>
                                    </p:anim>
                                    <p:anim calcmode="lin" valueType="num">
                                      <p:cBhvr additive="repl">
                                        <p:cTn id="968" dur="2000" fill="hold"/>
                                        <p:tgtEl>
                                          <p:spTgt spid="271"/>
                                        </p:tgtEl>
                                        <p:attrNameLst>
                                          <p:attrName>ppt_w</p:attrName>
                                        </p:attrNameLst>
                                      </p:cBhvr>
                                      <p:tavLst>
                                        <p:tav tm="0">
                                          <p:val>
                                            <p:fltVal val="0"/>
                                          </p:val>
                                        </p:tav>
                                        <p:tav tm="100000">
                                          <p:val>
                                            <p:strVal val="#ppt_w"/>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5">
                                  <p:stCondLst>
                                    <p:cond delay="0"/>
                                  </p:stCondLst>
                                  <p:childTnLst>
                                    <p:set>
                                      <p:cBhvr>
                                        <p:cTn id="972" dur="1" fill="hold">
                                          <p:stCondLst>
                                            <p:cond delay="0"/>
                                          </p:stCondLst>
                                        </p:cTn>
                                        <p:tgtEl>
                                          <p:spTgt spid="276"/>
                                        </p:tgtEl>
                                        <p:attrNameLst>
                                          <p:attrName>style.visibility</p:attrName>
                                        </p:attrNameLst>
                                      </p:cBhvr>
                                      <p:to>
                                        <p:strVal val="visible"/>
                                      </p:to>
                                    </p:set>
                                    <p:anim calcmode="lin" valueType="num">
                                      <p:cBhvr additive="repl">
                                        <p:cTn id="973" dur="500" fill="hold">
                                          <p:stCondLst>
                                            <p:cond delay="0"/>
                                          </p:stCondLst>
                                        </p:cTn>
                                        <p:tgtEl>
                                          <p:spTgt spid="276"/>
                                        </p:tgtEl>
                                        <p:attrNameLst>
                                          <p:attrName>r</p:attrName>
                                        </p:attrNameLst>
                                      </p:cBhvr>
                                      <p:tavLst>
                                        <p:tav tm="0">
                                          <p:val>
                                            <p:strVal val="-90"/>
                                          </p:val>
                                        </p:tav>
                                        <p:tav tm="100000">
                                          <p:val>
                                            <p:strVal val="0"/>
                                          </p:val>
                                        </p:tav>
                                      </p:tavLst>
                                    </p:anim>
                                    <p:anim calcmode="lin" valueType="num">
                                      <p:cBhvr additive="repl">
                                        <p:cTn id="974" dur="500" fill="hold">
                                          <p:stCondLst>
                                            <p:cond delay="0"/>
                                          </p:stCondLst>
                                        </p:cTn>
                                        <p:tgtEl>
                                          <p:spTgt spid="276"/>
                                        </p:tgtEl>
                                        <p:attrNameLst>
                                          <p:attrName>ppt_w</p:attrName>
                                        </p:attrNameLst>
                                      </p:cBhvr>
                                      <p:tavLst>
                                        <p:tav tm="0">
                                          <p:val>
                                            <p:strVal val="#ppt_w"/>
                                          </p:val>
                                        </p:tav>
                                        <p:tav tm="100000">
                                          <p:val>
                                            <p:strVal val="#ppt_w*.05"/>
                                          </p:val>
                                        </p:tav>
                                      </p:tavLst>
                                    </p:anim>
                                    <p:anim calcmode="lin" valueType="num">
                                      <p:cBhvr additive="repl">
                                        <p:cTn id="975" dur="500" fill="hold">
                                          <p:stCondLst>
                                            <p:cond delay="500"/>
                                          </p:stCondLst>
                                        </p:cTn>
                                        <p:tgtEl>
                                          <p:spTgt spid="276"/>
                                        </p:tgtEl>
                                        <p:attrNameLst>
                                          <p:attrName>ppt_w</p:attrName>
                                        </p:attrNameLst>
                                      </p:cBhvr>
                                      <p:tavLst>
                                        <p:tav tm="0">
                                          <p:val>
                                            <p:strVal val="#ppt_w*.05"/>
                                          </p:val>
                                        </p:tav>
                                        <p:tav tm="100000">
                                          <p:val>
                                            <p:strVal val="#ppt_w"/>
                                          </p:val>
                                        </p:tav>
                                      </p:tavLst>
                                    </p:anim>
                                    <p:anim calcmode="lin" valueType="num">
                                      <p:cBhvr additive="repl">
                                        <p:cTn id="976" dur="1000" fill="hold"/>
                                        <p:tgtEl>
                                          <p:spTgt spid="276"/>
                                        </p:tgtEl>
                                        <p:attrNameLst>
                                          <p:attrName>ppt_h</p:attrName>
                                        </p:attrNameLst>
                                      </p:cBhvr>
                                      <p:tavLst>
                                        <p:tav tm="0">
                                          <p:val>
                                            <p:strVal val="#ppt_h"/>
                                          </p:val>
                                        </p:tav>
                                        <p:tav tm="100000">
                                          <p:val>
                                            <p:strVal val="#ppt_h"/>
                                          </p:val>
                                        </p:tav>
                                      </p:tavLst>
                                    </p:anim>
                                    <p:anim calcmode="lin" valueType="num">
                                      <p:cBhvr additive="repl">
                                        <p:cTn id="977" dur="500" fill="hold">
                                          <p:stCondLst>
                                            <p:cond delay="0"/>
                                          </p:stCondLst>
                                        </p:cTn>
                                        <p:tgtEl>
                                          <p:spTgt spid="276"/>
                                        </p:tgtEl>
                                        <p:attrNameLst>
                                          <p:attrName>ppt_x</p:attrName>
                                        </p:attrNameLst>
                                      </p:cBhvr>
                                      <p:tavLst>
                                        <p:tav tm="0">
                                          <p:val>
                                            <p:strVal val="#ppt_x+.4"/>
                                          </p:val>
                                        </p:tav>
                                        <p:tav tm="100000">
                                          <p:val>
                                            <p:strVal val="#ppt_x"/>
                                          </p:val>
                                        </p:tav>
                                      </p:tavLst>
                                    </p:anim>
                                    <p:anim calcmode="lin" valueType="num">
                                      <p:cBhvr additive="repl">
                                        <p:cTn id="978" dur="500" fill="hold">
                                          <p:stCondLst>
                                            <p:cond delay="0"/>
                                          </p:stCondLst>
                                        </p:cTn>
                                        <p:tgtEl>
                                          <p:spTgt spid="276"/>
                                        </p:tgtEl>
                                        <p:attrNameLst>
                                          <p:attrName>ppt_y</p:attrName>
                                        </p:attrNameLst>
                                      </p:cBhvr>
                                      <p:tavLst>
                                        <p:tav tm="0">
                                          <p:val>
                                            <p:strVal val="#ppt_y-.2"/>
                                          </p:val>
                                        </p:tav>
                                        <p:tav tm="100000">
                                          <p:val>
                                            <p:strVal val="#ppt_y+.1"/>
                                          </p:val>
                                        </p:tav>
                                      </p:tavLst>
                                    </p:anim>
                                    <p:anim calcmode="lin" valueType="num">
                                      <p:cBhvr additive="repl">
                                        <p:cTn id="979" dur="500" fill="hold">
                                          <p:stCondLst>
                                            <p:cond delay="500"/>
                                          </p:stCondLst>
                                        </p:cTn>
                                        <p:tgtEl>
                                          <p:spTgt spid="276"/>
                                        </p:tgtEl>
                                        <p:attrNameLst>
                                          <p:attrName>ppt_y</p:attrName>
                                        </p:attrNameLst>
                                      </p:cBhvr>
                                      <p:tavLst>
                                        <p:tav tm="0">
                                          <p:val>
                                            <p:strVal val="#ppt_y+.1"/>
                                          </p:val>
                                        </p:tav>
                                        <p:tav tm="100000">
                                          <p:val>
                                            <p:strVal val="#ppt_y"/>
                                          </p:val>
                                        </p:tav>
                                      </p:tavLst>
                                    </p:anim>
                                    <p:animEffect filter="fade" transition="in">
                                      <p:cBhvr additive="repl">
                                        <p:cTn id="980" dur="1000">
                                          <p:stCondLst>
                                            <p:cond delay="0"/>
                                          </p:stCondLst>
                                        </p:cTn>
                                        <p:tgtEl>
                                          <p:spTgt spid="276"/>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9">
                                  <p:stCondLst>
                                    <p:cond delay="0"/>
                                  </p:stCondLst>
                                  <p:childTnLst>
                                    <p:set>
                                      <p:cBhvr>
                                        <p:cTn id="984" dur="1" fill="hold">
                                          <p:stCondLst>
                                            <p:cond delay="0"/>
                                          </p:stCondLst>
                                        </p:cTn>
                                        <p:tgtEl>
                                          <p:spTgt spid="275"/>
                                        </p:tgtEl>
                                        <p:attrNameLst>
                                          <p:attrName>style.visibility</p:attrName>
                                        </p:attrNameLst>
                                      </p:cBhvr>
                                      <p:to>
                                        <p:strVal val="visible"/>
                                      </p:to>
                                    </p:set>
                                    <p:anim calcmode="lin" valueType="num">
                                      <p:cBhvr additive="repl">
                                        <p:cTn id="985" dur="500" fill="hold"/>
                                        <p:tgtEl>
                                          <p:spTgt spid="27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6" dur="500" fill="hold"/>
                                        <p:tgtEl>
                                          <p:spTgt spid="27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87" dur="500" fill="hold"/>
                                        <p:tgtEl>
                                          <p:spTgt spid="275"/>
                                        </p:tgtEl>
                                        <p:attrNameLst>
                                          <p:attrName>ppt_x</p:attrName>
                                        </p:attrNameLst>
                                      </p:cBhvr>
                                      <p:tavLst>
                                        <p:tav tm="0">
                                          <p:val>
                                            <p:strVal val="#ppt_x-.3"/>
                                          </p:val>
                                        </p:tav>
                                        <p:tav tm="50000">
                                          <p:val>
                                            <p:strVal val="#ppt_x"/>
                                          </p:val>
                                        </p:tav>
                                        <p:tav tm="100000">
                                          <p:val>
                                            <p:strVal val="#ppt_x"/>
                                          </p:val>
                                        </p:tav>
                                      </p:tavLst>
                                    </p:anim>
                                    <p:anim calcmode="lin" valueType="num">
                                      <p:cBhvr additive="repl">
                                        <p:cTn id="988"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79" name=""/>
          <p:cNvGrpSpPr/>
          <p:nvPr/>
        </p:nvGrpSpPr>
        <p:grpSpPr>
          <a:xfrm>
            <a:off x="900000" y="1889280"/>
            <a:ext cx="8208720" cy="4963680"/>
            <a:chOff x="900000" y="1889280"/>
            <a:chExt cx="8208720" cy="4963680"/>
          </a:xfrm>
        </p:grpSpPr>
        <p:sp>
          <p:nvSpPr>
            <p:cNvPr id="280" name=""/>
            <p:cNvSpPr/>
            <p:nvPr/>
          </p:nvSpPr>
          <p:spPr>
            <a:xfrm>
              <a:off x="900000" y="1960560"/>
              <a:ext cx="8068320" cy="4892400"/>
            </a:xfrm>
            <a:custGeom>
              <a:avLst/>
              <a:gdLst/>
              <a:ahLst/>
              <a:rect l="l" t="t" r="r" b="b"/>
              <a:pathLst>
                <a:path w="5221" h="3082">
                  <a:moveTo>
                    <a:pt x="181" y="1955"/>
                  </a:moveTo>
                  <a:lnTo>
                    <a:pt x="181" y="1583"/>
                  </a:lnTo>
                  <a:lnTo>
                    <a:pt x="200" y="1578"/>
                  </a:lnTo>
                  <a:lnTo>
                    <a:pt x="210" y="1570"/>
                  </a:lnTo>
                  <a:lnTo>
                    <a:pt x="229" y="1565"/>
                  </a:lnTo>
                  <a:lnTo>
                    <a:pt x="258" y="1556"/>
                  </a:lnTo>
                  <a:lnTo>
                    <a:pt x="277" y="1552"/>
                  </a:lnTo>
                  <a:lnTo>
                    <a:pt x="296" y="1548"/>
                  </a:lnTo>
                  <a:lnTo>
                    <a:pt x="315" y="1539"/>
                  </a:lnTo>
                  <a:lnTo>
                    <a:pt x="334" y="1539"/>
                  </a:lnTo>
                  <a:lnTo>
                    <a:pt x="315" y="1539"/>
                  </a:lnTo>
                  <a:lnTo>
                    <a:pt x="305" y="1539"/>
                  </a:lnTo>
                  <a:lnTo>
                    <a:pt x="286" y="1535"/>
                  </a:lnTo>
                  <a:lnTo>
                    <a:pt x="277" y="1535"/>
                  </a:lnTo>
                  <a:lnTo>
                    <a:pt x="258" y="1535"/>
                  </a:lnTo>
                  <a:lnTo>
                    <a:pt x="248" y="1530"/>
                  </a:lnTo>
                  <a:lnTo>
                    <a:pt x="229" y="1530"/>
                  </a:lnTo>
                  <a:lnTo>
                    <a:pt x="220" y="1526"/>
                  </a:lnTo>
                  <a:lnTo>
                    <a:pt x="200" y="1526"/>
                  </a:lnTo>
                  <a:lnTo>
                    <a:pt x="191" y="1526"/>
                  </a:lnTo>
                  <a:lnTo>
                    <a:pt x="172" y="1521"/>
                  </a:lnTo>
                  <a:lnTo>
                    <a:pt x="162" y="1517"/>
                  </a:lnTo>
                  <a:lnTo>
                    <a:pt x="143" y="1517"/>
                  </a:lnTo>
                  <a:lnTo>
                    <a:pt x="134" y="1513"/>
                  </a:lnTo>
                  <a:lnTo>
                    <a:pt x="124" y="1508"/>
                  </a:lnTo>
                  <a:lnTo>
                    <a:pt x="115" y="1508"/>
                  </a:lnTo>
                  <a:lnTo>
                    <a:pt x="115" y="1460"/>
                  </a:lnTo>
                  <a:lnTo>
                    <a:pt x="115" y="1412"/>
                  </a:lnTo>
                  <a:lnTo>
                    <a:pt x="105" y="1364"/>
                  </a:lnTo>
                  <a:lnTo>
                    <a:pt x="95" y="1320"/>
                  </a:lnTo>
                  <a:lnTo>
                    <a:pt x="86" y="1280"/>
                  </a:lnTo>
                  <a:lnTo>
                    <a:pt x="76" y="1241"/>
                  </a:lnTo>
                  <a:lnTo>
                    <a:pt x="67" y="1201"/>
                  </a:lnTo>
                  <a:lnTo>
                    <a:pt x="67" y="1158"/>
                  </a:lnTo>
                  <a:lnTo>
                    <a:pt x="76" y="1118"/>
                  </a:lnTo>
                  <a:lnTo>
                    <a:pt x="76" y="1079"/>
                  </a:lnTo>
                  <a:lnTo>
                    <a:pt x="86" y="1039"/>
                  </a:lnTo>
                  <a:lnTo>
                    <a:pt x="95" y="1004"/>
                  </a:lnTo>
                  <a:lnTo>
                    <a:pt x="105" y="965"/>
                  </a:lnTo>
                  <a:lnTo>
                    <a:pt x="105" y="925"/>
                  </a:lnTo>
                  <a:lnTo>
                    <a:pt x="115" y="886"/>
                  </a:lnTo>
                  <a:lnTo>
                    <a:pt x="115" y="846"/>
                  </a:lnTo>
                  <a:lnTo>
                    <a:pt x="105" y="807"/>
                  </a:lnTo>
                  <a:lnTo>
                    <a:pt x="105" y="767"/>
                  </a:lnTo>
                  <a:lnTo>
                    <a:pt x="86" y="724"/>
                  </a:lnTo>
                  <a:lnTo>
                    <a:pt x="67" y="684"/>
                  </a:lnTo>
                  <a:lnTo>
                    <a:pt x="57" y="680"/>
                  </a:lnTo>
                  <a:lnTo>
                    <a:pt x="48" y="667"/>
                  </a:lnTo>
                  <a:lnTo>
                    <a:pt x="38" y="658"/>
                  </a:lnTo>
                  <a:lnTo>
                    <a:pt x="38" y="645"/>
                  </a:lnTo>
                  <a:lnTo>
                    <a:pt x="48" y="627"/>
                  </a:lnTo>
                  <a:lnTo>
                    <a:pt x="76" y="623"/>
                  </a:lnTo>
                  <a:lnTo>
                    <a:pt x="95" y="618"/>
                  </a:lnTo>
                  <a:lnTo>
                    <a:pt x="115" y="618"/>
                  </a:lnTo>
                  <a:lnTo>
                    <a:pt x="134" y="618"/>
                  </a:lnTo>
                  <a:lnTo>
                    <a:pt x="162" y="614"/>
                  </a:lnTo>
                  <a:lnTo>
                    <a:pt x="172" y="614"/>
                  </a:lnTo>
                  <a:lnTo>
                    <a:pt x="200" y="614"/>
                  </a:lnTo>
                  <a:lnTo>
                    <a:pt x="210" y="614"/>
                  </a:lnTo>
                  <a:lnTo>
                    <a:pt x="229" y="605"/>
                  </a:lnTo>
                  <a:lnTo>
                    <a:pt x="239" y="601"/>
                  </a:lnTo>
                  <a:lnTo>
                    <a:pt x="248" y="592"/>
                  </a:lnTo>
                  <a:lnTo>
                    <a:pt x="267" y="583"/>
                  </a:lnTo>
                  <a:lnTo>
                    <a:pt x="277" y="579"/>
                  </a:lnTo>
                  <a:lnTo>
                    <a:pt x="296" y="574"/>
                  </a:lnTo>
                  <a:lnTo>
                    <a:pt x="315" y="570"/>
                  </a:lnTo>
                  <a:lnTo>
                    <a:pt x="334" y="566"/>
                  </a:lnTo>
                  <a:lnTo>
                    <a:pt x="296" y="553"/>
                  </a:lnTo>
                  <a:lnTo>
                    <a:pt x="181" y="553"/>
                  </a:lnTo>
                  <a:lnTo>
                    <a:pt x="162" y="544"/>
                  </a:lnTo>
                  <a:lnTo>
                    <a:pt x="143" y="539"/>
                  </a:lnTo>
                  <a:lnTo>
                    <a:pt x="115" y="531"/>
                  </a:lnTo>
                  <a:lnTo>
                    <a:pt x="86" y="526"/>
                  </a:lnTo>
                  <a:lnTo>
                    <a:pt x="67" y="522"/>
                  </a:lnTo>
                  <a:lnTo>
                    <a:pt x="38" y="513"/>
                  </a:lnTo>
                  <a:lnTo>
                    <a:pt x="19" y="509"/>
                  </a:lnTo>
                  <a:lnTo>
                    <a:pt x="0" y="500"/>
                  </a:lnTo>
                  <a:lnTo>
                    <a:pt x="29" y="465"/>
                  </a:lnTo>
                  <a:lnTo>
                    <a:pt x="38" y="421"/>
                  </a:lnTo>
                  <a:lnTo>
                    <a:pt x="48" y="377"/>
                  </a:lnTo>
                  <a:lnTo>
                    <a:pt x="38" y="333"/>
                  </a:lnTo>
                  <a:lnTo>
                    <a:pt x="29" y="285"/>
                  </a:lnTo>
                  <a:lnTo>
                    <a:pt x="10" y="241"/>
                  </a:lnTo>
                  <a:lnTo>
                    <a:pt x="0" y="197"/>
                  </a:lnTo>
                  <a:lnTo>
                    <a:pt x="0" y="158"/>
                  </a:lnTo>
                  <a:lnTo>
                    <a:pt x="19" y="158"/>
                  </a:lnTo>
                  <a:lnTo>
                    <a:pt x="38" y="158"/>
                  </a:lnTo>
                  <a:lnTo>
                    <a:pt x="57" y="158"/>
                  </a:lnTo>
                  <a:lnTo>
                    <a:pt x="76" y="154"/>
                  </a:lnTo>
                  <a:lnTo>
                    <a:pt x="95" y="154"/>
                  </a:lnTo>
                  <a:lnTo>
                    <a:pt x="115" y="154"/>
                  </a:lnTo>
                  <a:lnTo>
                    <a:pt x="134" y="149"/>
                  </a:lnTo>
                  <a:lnTo>
                    <a:pt x="153" y="149"/>
                  </a:lnTo>
                  <a:lnTo>
                    <a:pt x="162" y="145"/>
                  </a:lnTo>
                  <a:lnTo>
                    <a:pt x="181" y="136"/>
                  </a:lnTo>
                  <a:lnTo>
                    <a:pt x="200" y="132"/>
                  </a:lnTo>
                  <a:lnTo>
                    <a:pt x="210" y="127"/>
                  </a:lnTo>
                  <a:lnTo>
                    <a:pt x="229" y="123"/>
                  </a:lnTo>
                  <a:lnTo>
                    <a:pt x="248" y="114"/>
                  </a:lnTo>
                  <a:lnTo>
                    <a:pt x="267" y="110"/>
                  </a:lnTo>
                  <a:lnTo>
                    <a:pt x="277" y="105"/>
                  </a:lnTo>
                  <a:lnTo>
                    <a:pt x="296" y="101"/>
                  </a:lnTo>
                  <a:lnTo>
                    <a:pt x="305" y="92"/>
                  </a:lnTo>
                  <a:lnTo>
                    <a:pt x="325" y="88"/>
                  </a:lnTo>
                  <a:lnTo>
                    <a:pt x="334" y="79"/>
                  </a:lnTo>
                  <a:lnTo>
                    <a:pt x="344" y="70"/>
                  </a:lnTo>
                  <a:lnTo>
                    <a:pt x="353" y="62"/>
                  </a:lnTo>
                  <a:lnTo>
                    <a:pt x="363" y="48"/>
                  </a:lnTo>
                  <a:lnTo>
                    <a:pt x="363" y="35"/>
                  </a:lnTo>
                  <a:lnTo>
                    <a:pt x="401" y="35"/>
                  </a:lnTo>
                  <a:lnTo>
                    <a:pt x="439" y="31"/>
                  </a:lnTo>
                  <a:lnTo>
                    <a:pt x="477" y="31"/>
                  </a:lnTo>
                  <a:lnTo>
                    <a:pt x="515" y="27"/>
                  </a:lnTo>
                  <a:lnTo>
                    <a:pt x="554" y="27"/>
                  </a:lnTo>
                  <a:lnTo>
                    <a:pt x="592" y="22"/>
                  </a:lnTo>
                  <a:lnTo>
                    <a:pt x="630" y="18"/>
                  </a:lnTo>
                  <a:lnTo>
                    <a:pt x="678" y="13"/>
                  </a:lnTo>
                  <a:lnTo>
                    <a:pt x="716" y="13"/>
                  </a:lnTo>
                  <a:lnTo>
                    <a:pt x="754" y="9"/>
                  </a:lnTo>
                  <a:lnTo>
                    <a:pt x="802" y="9"/>
                  </a:lnTo>
                  <a:lnTo>
                    <a:pt x="840" y="5"/>
                  </a:lnTo>
                  <a:lnTo>
                    <a:pt x="878" y="5"/>
                  </a:lnTo>
                  <a:lnTo>
                    <a:pt x="926" y="0"/>
                  </a:lnTo>
                  <a:lnTo>
                    <a:pt x="964" y="0"/>
                  </a:lnTo>
                  <a:lnTo>
                    <a:pt x="1002" y="0"/>
                  </a:lnTo>
                  <a:lnTo>
                    <a:pt x="1002" y="57"/>
                  </a:lnTo>
                  <a:lnTo>
                    <a:pt x="1126" y="110"/>
                  </a:lnTo>
                  <a:lnTo>
                    <a:pt x="1126" y="101"/>
                  </a:lnTo>
                  <a:lnTo>
                    <a:pt x="1136" y="88"/>
                  </a:lnTo>
                  <a:lnTo>
                    <a:pt x="1145" y="75"/>
                  </a:lnTo>
                  <a:lnTo>
                    <a:pt x="1155" y="66"/>
                  </a:lnTo>
                  <a:lnTo>
                    <a:pt x="1164" y="53"/>
                  </a:lnTo>
                  <a:lnTo>
                    <a:pt x="1174" y="44"/>
                  </a:lnTo>
                  <a:lnTo>
                    <a:pt x="1184" y="35"/>
                  </a:lnTo>
                  <a:lnTo>
                    <a:pt x="1184" y="27"/>
                  </a:lnTo>
                  <a:lnTo>
                    <a:pt x="1212" y="31"/>
                  </a:lnTo>
                  <a:lnTo>
                    <a:pt x="1231" y="31"/>
                  </a:lnTo>
                  <a:lnTo>
                    <a:pt x="1260" y="35"/>
                  </a:lnTo>
                  <a:lnTo>
                    <a:pt x="1279" y="35"/>
                  </a:lnTo>
                  <a:lnTo>
                    <a:pt x="1308" y="40"/>
                  </a:lnTo>
                  <a:lnTo>
                    <a:pt x="1336" y="40"/>
                  </a:lnTo>
                  <a:lnTo>
                    <a:pt x="1365" y="44"/>
                  </a:lnTo>
                  <a:lnTo>
                    <a:pt x="1394" y="44"/>
                  </a:lnTo>
                  <a:lnTo>
                    <a:pt x="1413" y="44"/>
                  </a:lnTo>
                  <a:lnTo>
                    <a:pt x="1451" y="48"/>
                  </a:lnTo>
                  <a:lnTo>
                    <a:pt x="1479" y="48"/>
                  </a:lnTo>
                  <a:lnTo>
                    <a:pt x="1508" y="48"/>
                  </a:lnTo>
                  <a:lnTo>
                    <a:pt x="1537" y="48"/>
                  </a:lnTo>
                  <a:lnTo>
                    <a:pt x="1565" y="53"/>
                  </a:lnTo>
                  <a:lnTo>
                    <a:pt x="1594" y="53"/>
                  </a:lnTo>
                  <a:lnTo>
                    <a:pt x="1623" y="53"/>
                  </a:lnTo>
                  <a:lnTo>
                    <a:pt x="1651" y="53"/>
                  </a:lnTo>
                  <a:lnTo>
                    <a:pt x="1689" y="53"/>
                  </a:lnTo>
                  <a:lnTo>
                    <a:pt x="1718" y="53"/>
                  </a:lnTo>
                  <a:lnTo>
                    <a:pt x="1747" y="53"/>
                  </a:lnTo>
                  <a:lnTo>
                    <a:pt x="1775" y="53"/>
                  </a:lnTo>
                  <a:lnTo>
                    <a:pt x="1804" y="53"/>
                  </a:lnTo>
                  <a:lnTo>
                    <a:pt x="1833" y="57"/>
                  </a:lnTo>
                  <a:lnTo>
                    <a:pt x="1871" y="57"/>
                  </a:lnTo>
                  <a:lnTo>
                    <a:pt x="1899" y="57"/>
                  </a:lnTo>
                  <a:lnTo>
                    <a:pt x="1928" y="57"/>
                  </a:lnTo>
                  <a:lnTo>
                    <a:pt x="1957" y="57"/>
                  </a:lnTo>
                  <a:lnTo>
                    <a:pt x="1985" y="57"/>
                  </a:lnTo>
                  <a:lnTo>
                    <a:pt x="2014" y="57"/>
                  </a:lnTo>
                  <a:lnTo>
                    <a:pt x="2033" y="57"/>
                  </a:lnTo>
                  <a:lnTo>
                    <a:pt x="2062" y="57"/>
                  </a:lnTo>
                  <a:lnTo>
                    <a:pt x="2090" y="57"/>
                  </a:lnTo>
                  <a:lnTo>
                    <a:pt x="2148" y="84"/>
                  </a:lnTo>
                  <a:lnTo>
                    <a:pt x="2148" y="141"/>
                  </a:lnTo>
                  <a:lnTo>
                    <a:pt x="2186" y="132"/>
                  </a:lnTo>
                  <a:lnTo>
                    <a:pt x="2214" y="123"/>
                  </a:lnTo>
                  <a:lnTo>
                    <a:pt x="2243" y="110"/>
                  </a:lnTo>
                  <a:lnTo>
                    <a:pt x="2262" y="97"/>
                  </a:lnTo>
                  <a:lnTo>
                    <a:pt x="2272" y="84"/>
                  </a:lnTo>
                  <a:lnTo>
                    <a:pt x="2291" y="70"/>
                  </a:lnTo>
                  <a:lnTo>
                    <a:pt x="2310" y="62"/>
                  </a:lnTo>
                  <a:lnTo>
                    <a:pt x="2329" y="62"/>
                  </a:lnTo>
                  <a:lnTo>
                    <a:pt x="2367" y="62"/>
                  </a:lnTo>
                  <a:lnTo>
                    <a:pt x="2405" y="62"/>
                  </a:lnTo>
                  <a:lnTo>
                    <a:pt x="2444" y="66"/>
                  </a:lnTo>
                  <a:lnTo>
                    <a:pt x="2482" y="66"/>
                  </a:lnTo>
                  <a:lnTo>
                    <a:pt x="2529" y="66"/>
                  </a:lnTo>
                  <a:lnTo>
                    <a:pt x="2568" y="70"/>
                  </a:lnTo>
                  <a:lnTo>
                    <a:pt x="2606" y="70"/>
                  </a:lnTo>
                  <a:lnTo>
                    <a:pt x="2654" y="75"/>
                  </a:lnTo>
                  <a:lnTo>
                    <a:pt x="2692" y="79"/>
                  </a:lnTo>
                  <a:lnTo>
                    <a:pt x="2730" y="79"/>
                  </a:lnTo>
                  <a:lnTo>
                    <a:pt x="2778" y="84"/>
                  </a:lnTo>
                  <a:lnTo>
                    <a:pt x="2816" y="88"/>
                  </a:lnTo>
                  <a:lnTo>
                    <a:pt x="2863" y="88"/>
                  </a:lnTo>
                  <a:lnTo>
                    <a:pt x="2902" y="92"/>
                  </a:lnTo>
                  <a:lnTo>
                    <a:pt x="2949" y="92"/>
                  </a:lnTo>
                  <a:lnTo>
                    <a:pt x="2988" y="97"/>
                  </a:lnTo>
                  <a:lnTo>
                    <a:pt x="3035" y="97"/>
                  </a:lnTo>
                  <a:lnTo>
                    <a:pt x="3073" y="101"/>
                  </a:lnTo>
                  <a:lnTo>
                    <a:pt x="3121" y="101"/>
                  </a:lnTo>
                  <a:lnTo>
                    <a:pt x="3169" y="101"/>
                  </a:lnTo>
                  <a:lnTo>
                    <a:pt x="3207" y="101"/>
                  </a:lnTo>
                  <a:lnTo>
                    <a:pt x="3255" y="101"/>
                  </a:lnTo>
                  <a:lnTo>
                    <a:pt x="3293" y="101"/>
                  </a:lnTo>
                  <a:lnTo>
                    <a:pt x="3341" y="97"/>
                  </a:lnTo>
                  <a:lnTo>
                    <a:pt x="3388" y="97"/>
                  </a:lnTo>
                  <a:lnTo>
                    <a:pt x="3427" y="92"/>
                  </a:lnTo>
                  <a:lnTo>
                    <a:pt x="3474" y="88"/>
                  </a:lnTo>
                  <a:lnTo>
                    <a:pt x="3513" y="84"/>
                  </a:lnTo>
                  <a:lnTo>
                    <a:pt x="3560" y="79"/>
                  </a:lnTo>
                  <a:lnTo>
                    <a:pt x="3598" y="70"/>
                  </a:lnTo>
                  <a:lnTo>
                    <a:pt x="3646" y="66"/>
                  </a:lnTo>
                  <a:lnTo>
                    <a:pt x="3684" y="57"/>
                  </a:lnTo>
                  <a:lnTo>
                    <a:pt x="3694" y="53"/>
                  </a:lnTo>
                  <a:lnTo>
                    <a:pt x="3713" y="48"/>
                  </a:lnTo>
                  <a:lnTo>
                    <a:pt x="3723" y="48"/>
                  </a:lnTo>
                  <a:lnTo>
                    <a:pt x="3742" y="44"/>
                  </a:lnTo>
                  <a:lnTo>
                    <a:pt x="3761" y="44"/>
                  </a:lnTo>
                  <a:lnTo>
                    <a:pt x="3780" y="40"/>
                  </a:lnTo>
                  <a:lnTo>
                    <a:pt x="3789" y="40"/>
                  </a:lnTo>
                  <a:lnTo>
                    <a:pt x="3808" y="35"/>
                  </a:lnTo>
                  <a:lnTo>
                    <a:pt x="3828" y="35"/>
                  </a:lnTo>
                  <a:lnTo>
                    <a:pt x="3847" y="31"/>
                  </a:lnTo>
                  <a:lnTo>
                    <a:pt x="3866" y="31"/>
                  </a:lnTo>
                  <a:lnTo>
                    <a:pt x="3885" y="31"/>
                  </a:lnTo>
                  <a:lnTo>
                    <a:pt x="3904" y="31"/>
                  </a:lnTo>
                  <a:lnTo>
                    <a:pt x="3923" y="27"/>
                  </a:lnTo>
                  <a:lnTo>
                    <a:pt x="3942" y="27"/>
                  </a:lnTo>
                  <a:lnTo>
                    <a:pt x="3961" y="27"/>
                  </a:lnTo>
                  <a:lnTo>
                    <a:pt x="3971" y="31"/>
                  </a:lnTo>
                  <a:lnTo>
                    <a:pt x="3980" y="40"/>
                  </a:lnTo>
                  <a:lnTo>
                    <a:pt x="3990" y="44"/>
                  </a:lnTo>
                  <a:lnTo>
                    <a:pt x="3999" y="48"/>
                  </a:lnTo>
                  <a:lnTo>
                    <a:pt x="4009" y="57"/>
                  </a:lnTo>
                  <a:lnTo>
                    <a:pt x="4009" y="66"/>
                  </a:lnTo>
                  <a:lnTo>
                    <a:pt x="4018" y="75"/>
                  </a:lnTo>
                  <a:lnTo>
                    <a:pt x="4018" y="84"/>
                  </a:lnTo>
                  <a:lnTo>
                    <a:pt x="4038" y="84"/>
                  </a:lnTo>
                  <a:lnTo>
                    <a:pt x="4057" y="84"/>
                  </a:lnTo>
                  <a:lnTo>
                    <a:pt x="4076" y="88"/>
                  </a:lnTo>
                  <a:lnTo>
                    <a:pt x="4095" y="92"/>
                  </a:lnTo>
                  <a:lnTo>
                    <a:pt x="4114" y="92"/>
                  </a:lnTo>
                  <a:lnTo>
                    <a:pt x="4123" y="97"/>
                  </a:lnTo>
                  <a:lnTo>
                    <a:pt x="4152" y="97"/>
                  </a:lnTo>
                  <a:lnTo>
                    <a:pt x="4171" y="97"/>
                  </a:lnTo>
                  <a:lnTo>
                    <a:pt x="4295" y="44"/>
                  </a:lnTo>
                  <a:lnTo>
                    <a:pt x="4925" y="44"/>
                  </a:lnTo>
                  <a:lnTo>
                    <a:pt x="4925" y="48"/>
                  </a:lnTo>
                  <a:lnTo>
                    <a:pt x="4916" y="57"/>
                  </a:lnTo>
                  <a:lnTo>
                    <a:pt x="4906" y="66"/>
                  </a:lnTo>
                  <a:lnTo>
                    <a:pt x="4897" y="75"/>
                  </a:lnTo>
                  <a:lnTo>
                    <a:pt x="4887" y="88"/>
                  </a:lnTo>
                  <a:lnTo>
                    <a:pt x="4868" y="97"/>
                  </a:lnTo>
                  <a:lnTo>
                    <a:pt x="4868" y="105"/>
                  </a:lnTo>
                  <a:lnTo>
                    <a:pt x="4858" y="110"/>
                  </a:lnTo>
                  <a:lnTo>
                    <a:pt x="4877" y="119"/>
                  </a:lnTo>
                  <a:lnTo>
                    <a:pt x="4897" y="127"/>
                  </a:lnTo>
                  <a:lnTo>
                    <a:pt x="4916" y="132"/>
                  </a:lnTo>
                  <a:lnTo>
                    <a:pt x="4935" y="141"/>
                  </a:lnTo>
                  <a:lnTo>
                    <a:pt x="4954" y="145"/>
                  </a:lnTo>
                  <a:lnTo>
                    <a:pt x="4982" y="149"/>
                  </a:lnTo>
                  <a:lnTo>
                    <a:pt x="5002" y="158"/>
                  </a:lnTo>
                  <a:lnTo>
                    <a:pt x="5030" y="162"/>
                  </a:lnTo>
                  <a:lnTo>
                    <a:pt x="5059" y="167"/>
                  </a:lnTo>
                  <a:lnTo>
                    <a:pt x="5087" y="171"/>
                  </a:lnTo>
                  <a:lnTo>
                    <a:pt x="5116" y="171"/>
                  </a:lnTo>
                  <a:lnTo>
                    <a:pt x="5135" y="176"/>
                  </a:lnTo>
                  <a:lnTo>
                    <a:pt x="5164" y="176"/>
                  </a:lnTo>
                  <a:lnTo>
                    <a:pt x="5183" y="180"/>
                  </a:lnTo>
                  <a:lnTo>
                    <a:pt x="5202" y="180"/>
                  </a:lnTo>
                  <a:lnTo>
                    <a:pt x="5221" y="180"/>
                  </a:lnTo>
                  <a:lnTo>
                    <a:pt x="5221" y="215"/>
                  </a:lnTo>
                  <a:lnTo>
                    <a:pt x="5212" y="254"/>
                  </a:lnTo>
                  <a:lnTo>
                    <a:pt x="5202" y="298"/>
                  </a:lnTo>
                  <a:lnTo>
                    <a:pt x="5192" y="333"/>
                  </a:lnTo>
                  <a:lnTo>
                    <a:pt x="5183" y="338"/>
                  </a:lnTo>
                  <a:lnTo>
                    <a:pt x="5164" y="342"/>
                  </a:lnTo>
                  <a:lnTo>
                    <a:pt x="5154" y="347"/>
                  </a:lnTo>
                  <a:lnTo>
                    <a:pt x="5135" y="355"/>
                  </a:lnTo>
                  <a:lnTo>
                    <a:pt x="5116" y="360"/>
                  </a:lnTo>
                  <a:lnTo>
                    <a:pt x="5107" y="364"/>
                  </a:lnTo>
                  <a:lnTo>
                    <a:pt x="5087" y="368"/>
                  </a:lnTo>
                  <a:lnTo>
                    <a:pt x="5078" y="373"/>
                  </a:lnTo>
                  <a:lnTo>
                    <a:pt x="5078" y="425"/>
                  </a:lnTo>
                  <a:lnTo>
                    <a:pt x="5068" y="478"/>
                  </a:lnTo>
                  <a:lnTo>
                    <a:pt x="5068" y="535"/>
                  </a:lnTo>
                  <a:lnTo>
                    <a:pt x="5078" y="596"/>
                  </a:lnTo>
                  <a:lnTo>
                    <a:pt x="5078" y="653"/>
                  </a:lnTo>
                  <a:lnTo>
                    <a:pt x="5097" y="706"/>
                  </a:lnTo>
                  <a:lnTo>
                    <a:pt x="5126" y="759"/>
                  </a:lnTo>
                  <a:lnTo>
                    <a:pt x="5164" y="802"/>
                  </a:lnTo>
                  <a:lnTo>
                    <a:pt x="5154" y="811"/>
                  </a:lnTo>
                  <a:lnTo>
                    <a:pt x="5135" y="816"/>
                  </a:lnTo>
                  <a:lnTo>
                    <a:pt x="5107" y="824"/>
                  </a:lnTo>
                  <a:lnTo>
                    <a:pt x="5087" y="833"/>
                  </a:lnTo>
                  <a:lnTo>
                    <a:pt x="5068" y="838"/>
                  </a:lnTo>
                  <a:lnTo>
                    <a:pt x="5049" y="846"/>
                  </a:lnTo>
                  <a:lnTo>
                    <a:pt x="5030" y="855"/>
                  </a:lnTo>
                  <a:lnTo>
                    <a:pt x="5011" y="859"/>
                  </a:lnTo>
                  <a:lnTo>
                    <a:pt x="5059" y="881"/>
                  </a:lnTo>
                  <a:lnTo>
                    <a:pt x="5087" y="903"/>
                  </a:lnTo>
                  <a:lnTo>
                    <a:pt x="5116" y="930"/>
                  </a:lnTo>
                  <a:lnTo>
                    <a:pt x="5135" y="956"/>
                  </a:lnTo>
                  <a:lnTo>
                    <a:pt x="5145" y="987"/>
                  </a:lnTo>
                  <a:lnTo>
                    <a:pt x="5154" y="1017"/>
                  </a:lnTo>
                  <a:lnTo>
                    <a:pt x="5154" y="1048"/>
                  </a:lnTo>
                  <a:lnTo>
                    <a:pt x="5154" y="1074"/>
                  </a:lnTo>
                  <a:lnTo>
                    <a:pt x="5154" y="1105"/>
                  </a:lnTo>
                  <a:lnTo>
                    <a:pt x="5145" y="1136"/>
                  </a:lnTo>
                  <a:lnTo>
                    <a:pt x="5135" y="1166"/>
                  </a:lnTo>
                  <a:lnTo>
                    <a:pt x="5126" y="1197"/>
                  </a:lnTo>
                  <a:lnTo>
                    <a:pt x="5107" y="1223"/>
                  </a:lnTo>
                  <a:lnTo>
                    <a:pt x="5097" y="1254"/>
                  </a:lnTo>
                  <a:lnTo>
                    <a:pt x="5087" y="1280"/>
                  </a:lnTo>
                  <a:lnTo>
                    <a:pt x="5078" y="1302"/>
                  </a:lnTo>
                  <a:lnTo>
                    <a:pt x="5049" y="1385"/>
                  </a:lnTo>
                  <a:lnTo>
                    <a:pt x="5040" y="1473"/>
                  </a:lnTo>
                  <a:lnTo>
                    <a:pt x="5049" y="1565"/>
                  </a:lnTo>
                  <a:lnTo>
                    <a:pt x="5059" y="1657"/>
                  </a:lnTo>
                  <a:lnTo>
                    <a:pt x="5068" y="1749"/>
                  </a:lnTo>
                  <a:lnTo>
                    <a:pt x="5087" y="1841"/>
                  </a:lnTo>
                  <a:lnTo>
                    <a:pt x="5097" y="1929"/>
                  </a:lnTo>
                  <a:lnTo>
                    <a:pt x="5107" y="2008"/>
                  </a:lnTo>
                  <a:lnTo>
                    <a:pt x="4925" y="2091"/>
                  </a:lnTo>
                  <a:lnTo>
                    <a:pt x="4916" y="2104"/>
                  </a:lnTo>
                  <a:lnTo>
                    <a:pt x="4916" y="2113"/>
                  </a:lnTo>
                  <a:lnTo>
                    <a:pt x="4916" y="2122"/>
                  </a:lnTo>
                  <a:lnTo>
                    <a:pt x="4916" y="2131"/>
                  </a:lnTo>
                  <a:lnTo>
                    <a:pt x="4916" y="2139"/>
                  </a:lnTo>
                  <a:lnTo>
                    <a:pt x="4925" y="2144"/>
                  </a:lnTo>
                  <a:lnTo>
                    <a:pt x="4935" y="2148"/>
                  </a:lnTo>
                  <a:lnTo>
                    <a:pt x="4954" y="2148"/>
                  </a:lnTo>
                  <a:lnTo>
                    <a:pt x="4963" y="2148"/>
                  </a:lnTo>
                  <a:lnTo>
                    <a:pt x="4982" y="2148"/>
                  </a:lnTo>
                  <a:lnTo>
                    <a:pt x="4992" y="2148"/>
                  </a:lnTo>
                  <a:lnTo>
                    <a:pt x="5011" y="2148"/>
                  </a:lnTo>
                  <a:lnTo>
                    <a:pt x="5030" y="2148"/>
                  </a:lnTo>
                  <a:lnTo>
                    <a:pt x="5040" y="2148"/>
                  </a:lnTo>
                  <a:lnTo>
                    <a:pt x="5059" y="2148"/>
                  </a:lnTo>
                  <a:lnTo>
                    <a:pt x="5068" y="2153"/>
                  </a:lnTo>
                  <a:lnTo>
                    <a:pt x="5078" y="2153"/>
                  </a:lnTo>
                  <a:lnTo>
                    <a:pt x="5087" y="2153"/>
                  </a:lnTo>
                  <a:lnTo>
                    <a:pt x="5107" y="2153"/>
                  </a:lnTo>
                  <a:lnTo>
                    <a:pt x="5107" y="2157"/>
                  </a:lnTo>
                  <a:lnTo>
                    <a:pt x="5116" y="2157"/>
                  </a:lnTo>
                  <a:lnTo>
                    <a:pt x="5126" y="2157"/>
                  </a:lnTo>
                  <a:lnTo>
                    <a:pt x="5135" y="2161"/>
                  </a:lnTo>
                  <a:lnTo>
                    <a:pt x="5135" y="2161"/>
                  </a:lnTo>
                  <a:lnTo>
                    <a:pt x="5107" y="2236"/>
                  </a:lnTo>
                  <a:lnTo>
                    <a:pt x="5087" y="2328"/>
                  </a:lnTo>
                  <a:lnTo>
                    <a:pt x="5078" y="2424"/>
                  </a:lnTo>
                  <a:lnTo>
                    <a:pt x="5078" y="2534"/>
                  </a:lnTo>
                  <a:lnTo>
                    <a:pt x="5078" y="2648"/>
                  </a:lnTo>
                  <a:lnTo>
                    <a:pt x="5087" y="2762"/>
                  </a:lnTo>
                  <a:lnTo>
                    <a:pt x="5097" y="2872"/>
                  </a:lnTo>
                  <a:lnTo>
                    <a:pt x="5097" y="2972"/>
                  </a:lnTo>
                  <a:lnTo>
                    <a:pt x="5087" y="2977"/>
                  </a:lnTo>
                  <a:lnTo>
                    <a:pt x="5068" y="2981"/>
                  </a:lnTo>
                  <a:lnTo>
                    <a:pt x="5049" y="2986"/>
                  </a:lnTo>
                  <a:lnTo>
                    <a:pt x="5030" y="2990"/>
                  </a:lnTo>
                  <a:lnTo>
                    <a:pt x="5011" y="2990"/>
                  </a:lnTo>
                  <a:lnTo>
                    <a:pt x="4992" y="2994"/>
                  </a:lnTo>
                  <a:lnTo>
                    <a:pt x="4973" y="2994"/>
                  </a:lnTo>
                  <a:lnTo>
                    <a:pt x="4954" y="2994"/>
                  </a:lnTo>
                  <a:lnTo>
                    <a:pt x="4935" y="2999"/>
                  </a:lnTo>
                  <a:lnTo>
                    <a:pt x="4916" y="2999"/>
                  </a:lnTo>
                  <a:lnTo>
                    <a:pt x="4887" y="2999"/>
                  </a:lnTo>
                  <a:lnTo>
                    <a:pt x="4868" y="3003"/>
                  </a:lnTo>
                  <a:lnTo>
                    <a:pt x="4839" y="3003"/>
                  </a:lnTo>
                  <a:lnTo>
                    <a:pt x="4820" y="3003"/>
                  </a:lnTo>
                  <a:lnTo>
                    <a:pt x="4792" y="3007"/>
                  </a:lnTo>
                  <a:lnTo>
                    <a:pt x="4763" y="3007"/>
                  </a:lnTo>
                  <a:lnTo>
                    <a:pt x="4753" y="3003"/>
                  </a:lnTo>
                  <a:lnTo>
                    <a:pt x="4734" y="2999"/>
                  </a:lnTo>
                  <a:lnTo>
                    <a:pt x="4725" y="2999"/>
                  </a:lnTo>
                  <a:lnTo>
                    <a:pt x="4715" y="2994"/>
                  </a:lnTo>
                  <a:lnTo>
                    <a:pt x="4696" y="2990"/>
                  </a:lnTo>
                  <a:lnTo>
                    <a:pt x="4687" y="2990"/>
                  </a:lnTo>
                  <a:lnTo>
                    <a:pt x="4677" y="2986"/>
                  </a:lnTo>
                  <a:lnTo>
                    <a:pt x="4658" y="2986"/>
                  </a:lnTo>
                  <a:lnTo>
                    <a:pt x="4648" y="2986"/>
                  </a:lnTo>
                  <a:lnTo>
                    <a:pt x="4629" y="2981"/>
                  </a:lnTo>
                  <a:lnTo>
                    <a:pt x="4620" y="2981"/>
                  </a:lnTo>
                  <a:lnTo>
                    <a:pt x="4610" y="2977"/>
                  </a:lnTo>
                  <a:lnTo>
                    <a:pt x="4601" y="2977"/>
                  </a:lnTo>
                  <a:lnTo>
                    <a:pt x="4582" y="2972"/>
                  </a:lnTo>
                  <a:lnTo>
                    <a:pt x="4572" y="2968"/>
                  </a:lnTo>
                  <a:lnTo>
                    <a:pt x="4562" y="2968"/>
                  </a:lnTo>
                  <a:lnTo>
                    <a:pt x="4534" y="2968"/>
                  </a:lnTo>
                  <a:lnTo>
                    <a:pt x="4505" y="2972"/>
                  </a:lnTo>
                  <a:lnTo>
                    <a:pt x="4486" y="2972"/>
                  </a:lnTo>
                  <a:lnTo>
                    <a:pt x="4457" y="2977"/>
                  </a:lnTo>
                  <a:lnTo>
                    <a:pt x="4438" y="2977"/>
                  </a:lnTo>
                  <a:lnTo>
                    <a:pt x="4410" y="2981"/>
                  </a:lnTo>
                  <a:lnTo>
                    <a:pt x="4391" y="2981"/>
                  </a:lnTo>
                  <a:lnTo>
                    <a:pt x="4372" y="2986"/>
                  </a:lnTo>
                  <a:lnTo>
                    <a:pt x="4353" y="2986"/>
                  </a:lnTo>
                  <a:lnTo>
                    <a:pt x="4333" y="2990"/>
                  </a:lnTo>
                  <a:lnTo>
                    <a:pt x="4314" y="2994"/>
                  </a:lnTo>
                  <a:lnTo>
                    <a:pt x="4295" y="2999"/>
                  </a:lnTo>
                  <a:lnTo>
                    <a:pt x="4276" y="3003"/>
                  </a:lnTo>
                  <a:lnTo>
                    <a:pt x="4257" y="3012"/>
                  </a:lnTo>
                  <a:lnTo>
                    <a:pt x="4238" y="3021"/>
                  </a:lnTo>
                  <a:lnTo>
                    <a:pt x="4219" y="3029"/>
                  </a:lnTo>
                  <a:lnTo>
                    <a:pt x="4190" y="3025"/>
                  </a:lnTo>
                  <a:lnTo>
                    <a:pt x="4171" y="3025"/>
                  </a:lnTo>
                  <a:lnTo>
                    <a:pt x="4143" y="3025"/>
                  </a:lnTo>
                  <a:lnTo>
                    <a:pt x="4114" y="3025"/>
                  </a:lnTo>
                  <a:lnTo>
                    <a:pt x="4095" y="3025"/>
                  </a:lnTo>
                  <a:lnTo>
                    <a:pt x="4066" y="3025"/>
                  </a:lnTo>
                  <a:lnTo>
                    <a:pt x="4038" y="3025"/>
                  </a:lnTo>
                  <a:lnTo>
                    <a:pt x="4009" y="3025"/>
                  </a:lnTo>
                  <a:lnTo>
                    <a:pt x="3980" y="3025"/>
                  </a:lnTo>
                  <a:lnTo>
                    <a:pt x="3952" y="3025"/>
                  </a:lnTo>
                  <a:lnTo>
                    <a:pt x="3923" y="3025"/>
                  </a:lnTo>
                  <a:lnTo>
                    <a:pt x="3894" y="3025"/>
                  </a:lnTo>
                  <a:lnTo>
                    <a:pt x="3866" y="3029"/>
                  </a:lnTo>
                  <a:lnTo>
                    <a:pt x="3847" y="3029"/>
                  </a:lnTo>
                  <a:lnTo>
                    <a:pt x="3818" y="3029"/>
                  </a:lnTo>
                  <a:lnTo>
                    <a:pt x="3799" y="3029"/>
                  </a:lnTo>
                  <a:lnTo>
                    <a:pt x="3780" y="3025"/>
                  </a:lnTo>
                  <a:lnTo>
                    <a:pt x="3770" y="3021"/>
                  </a:lnTo>
                  <a:lnTo>
                    <a:pt x="3761" y="3016"/>
                  </a:lnTo>
                  <a:lnTo>
                    <a:pt x="3742" y="3012"/>
                  </a:lnTo>
                  <a:lnTo>
                    <a:pt x="3732" y="3007"/>
                  </a:lnTo>
                  <a:lnTo>
                    <a:pt x="3713" y="3003"/>
                  </a:lnTo>
                  <a:lnTo>
                    <a:pt x="3703" y="2999"/>
                  </a:lnTo>
                  <a:lnTo>
                    <a:pt x="3694" y="2994"/>
                  </a:lnTo>
                  <a:lnTo>
                    <a:pt x="3694" y="2999"/>
                  </a:lnTo>
                  <a:lnTo>
                    <a:pt x="3684" y="3003"/>
                  </a:lnTo>
                  <a:lnTo>
                    <a:pt x="3675" y="3007"/>
                  </a:lnTo>
                  <a:lnTo>
                    <a:pt x="3675" y="3012"/>
                  </a:lnTo>
                  <a:lnTo>
                    <a:pt x="3665" y="3016"/>
                  </a:lnTo>
                  <a:lnTo>
                    <a:pt x="3656" y="3021"/>
                  </a:lnTo>
                  <a:lnTo>
                    <a:pt x="3656" y="3025"/>
                  </a:lnTo>
                  <a:lnTo>
                    <a:pt x="3646" y="3029"/>
                  </a:lnTo>
                  <a:lnTo>
                    <a:pt x="3618" y="3029"/>
                  </a:lnTo>
                  <a:lnTo>
                    <a:pt x="3589" y="3029"/>
                  </a:lnTo>
                  <a:lnTo>
                    <a:pt x="3551" y="3029"/>
                  </a:lnTo>
                  <a:lnTo>
                    <a:pt x="3513" y="3034"/>
                  </a:lnTo>
                  <a:lnTo>
                    <a:pt x="3474" y="3034"/>
                  </a:lnTo>
                  <a:lnTo>
                    <a:pt x="3436" y="3038"/>
                  </a:lnTo>
                  <a:lnTo>
                    <a:pt x="3398" y="3038"/>
                  </a:lnTo>
                  <a:lnTo>
                    <a:pt x="3360" y="3043"/>
                  </a:lnTo>
                  <a:lnTo>
                    <a:pt x="3312" y="3043"/>
                  </a:lnTo>
                  <a:lnTo>
                    <a:pt x="3274" y="3043"/>
                  </a:lnTo>
                  <a:lnTo>
                    <a:pt x="3236" y="3043"/>
                  </a:lnTo>
                  <a:lnTo>
                    <a:pt x="3198" y="3043"/>
                  </a:lnTo>
                  <a:lnTo>
                    <a:pt x="3169" y="3043"/>
                  </a:lnTo>
                  <a:lnTo>
                    <a:pt x="3131" y="3043"/>
                  </a:lnTo>
                  <a:lnTo>
                    <a:pt x="3102" y="3038"/>
                  </a:lnTo>
                  <a:lnTo>
                    <a:pt x="3073" y="3034"/>
                  </a:lnTo>
                  <a:lnTo>
                    <a:pt x="3054" y="3029"/>
                  </a:lnTo>
                  <a:lnTo>
                    <a:pt x="3045" y="3025"/>
                  </a:lnTo>
                  <a:lnTo>
                    <a:pt x="3026" y="3021"/>
                  </a:lnTo>
                  <a:lnTo>
                    <a:pt x="3016" y="3016"/>
                  </a:lnTo>
                  <a:lnTo>
                    <a:pt x="3007" y="3012"/>
                  </a:lnTo>
                  <a:lnTo>
                    <a:pt x="2997" y="3003"/>
                  </a:lnTo>
                  <a:lnTo>
                    <a:pt x="2988" y="2999"/>
                  </a:lnTo>
                  <a:lnTo>
                    <a:pt x="2978" y="2990"/>
                  </a:lnTo>
                  <a:lnTo>
                    <a:pt x="2968" y="2986"/>
                  </a:lnTo>
                  <a:lnTo>
                    <a:pt x="2959" y="2981"/>
                  </a:lnTo>
                  <a:lnTo>
                    <a:pt x="2949" y="2977"/>
                  </a:lnTo>
                  <a:lnTo>
                    <a:pt x="2930" y="2972"/>
                  </a:lnTo>
                  <a:lnTo>
                    <a:pt x="2921" y="2968"/>
                  </a:lnTo>
                  <a:lnTo>
                    <a:pt x="2902" y="2964"/>
                  </a:lnTo>
                  <a:lnTo>
                    <a:pt x="2883" y="2964"/>
                  </a:lnTo>
                  <a:lnTo>
                    <a:pt x="2863" y="2964"/>
                  </a:lnTo>
                  <a:lnTo>
                    <a:pt x="2854" y="2964"/>
                  </a:lnTo>
                  <a:lnTo>
                    <a:pt x="2835" y="2959"/>
                  </a:lnTo>
                  <a:lnTo>
                    <a:pt x="2825" y="2959"/>
                  </a:lnTo>
                  <a:lnTo>
                    <a:pt x="2806" y="2959"/>
                  </a:lnTo>
                  <a:lnTo>
                    <a:pt x="2797" y="2959"/>
                  </a:lnTo>
                  <a:lnTo>
                    <a:pt x="2778" y="2959"/>
                  </a:lnTo>
                  <a:lnTo>
                    <a:pt x="2778" y="2959"/>
                  </a:lnTo>
                  <a:lnTo>
                    <a:pt x="2768" y="2964"/>
                  </a:lnTo>
                  <a:lnTo>
                    <a:pt x="2768" y="2968"/>
                  </a:lnTo>
                  <a:lnTo>
                    <a:pt x="2758" y="2977"/>
                  </a:lnTo>
                  <a:lnTo>
                    <a:pt x="2749" y="2981"/>
                  </a:lnTo>
                  <a:lnTo>
                    <a:pt x="2749" y="2990"/>
                  </a:lnTo>
                  <a:lnTo>
                    <a:pt x="2739" y="2999"/>
                  </a:lnTo>
                  <a:lnTo>
                    <a:pt x="2730" y="3003"/>
                  </a:lnTo>
                  <a:lnTo>
                    <a:pt x="2720" y="3007"/>
                  </a:lnTo>
                  <a:lnTo>
                    <a:pt x="2720" y="3012"/>
                  </a:lnTo>
                  <a:lnTo>
                    <a:pt x="2711" y="3016"/>
                  </a:lnTo>
                  <a:lnTo>
                    <a:pt x="2701" y="3021"/>
                  </a:lnTo>
                  <a:lnTo>
                    <a:pt x="2692" y="3021"/>
                  </a:lnTo>
                  <a:lnTo>
                    <a:pt x="2682" y="3025"/>
                  </a:lnTo>
                  <a:lnTo>
                    <a:pt x="2673" y="3025"/>
                  </a:lnTo>
                  <a:lnTo>
                    <a:pt x="2663" y="3029"/>
                  </a:lnTo>
                  <a:lnTo>
                    <a:pt x="2654" y="3034"/>
                  </a:lnTo>
                  <a:lnTo>
                    <a:pt x="2654" y="3034"/>
                  </a:lnTo>
                  <a:lnTo>
                    <a:pt x="2596" y="3034"/>
                  </a:lnTo>
                  <a:lnTo>
                    <a:pt x="2558" y="3034"/>
                  </a:lnTo>
                  <a:lnTo>
                    <a:pt x="2510" y="3034"/>
                  </a:lnTo>
                  <a:lnTo>
                    <a:pt x="2472" y="3034"/>
                  </a:lnTo>
                  <a:lnTo>
                    <a:pt x="2434" y="3034"/>
                  </a:lnTo>
                  <a:lnTo>
                    <a:pt x="2396" y="3034"/>
                  </a:lnTo>
                  <a:lnTo>
                    <a:pt x="2358" y="3034"/>
                  </a:lnTo>
                  <a:lnTo>
                    <a:pt x="2319" y="3034"/>
                  </a:lnTo>
                  <a:lnTo>
                    <a:pt x="2291" y="3034"/>
                  </a:lnTo>
                  <a:lnTo>
                    <a:pt x="2253" y="3038"/>
                  </a:lnTo>
                  <a:lnTo>
                    <a:pt x="2214" y="3038"/>
                  </a:lnTo>
                  <a:lnTo>
                    <a:pt x="2176" y="3038"/>
                  </a:lnTo>
                  <a:lnTo>
                    <a:pt x="2138" y="3043"/>
                  </a:lnTo>
                  <a:lnTo>
                    <a:pt x="2100" y="3047"/>
                  </a:lnTo>
                  <a:lnTo>
                    <a:pt x="2052" y="3051"/>
                  </a:lnTo>
                  <a:lnTo>
                    <a:pt x="2004" y="3056"/>
                  </a:lnTo>
                  <a:lnTo>
                    <a:pt x="1976" y="3056"/>
                  </a:lnTo>
                  <a:lnTo>
                    <a:pt x="1947" y="3060"/>
                  </a:lnTo>
                  <a:lnTo>
                    <a:pt x="1909" y="3064"/>
                  </a:lnTo>
                  <a:lnTo>
                    <a:pt x="1880" y="3064"/>
                  </a:lnTo>
                  <a:lnTo>
                    <a:pt x="1852" y="3069"/>
                  </a:lnTo>
                  <a:lnTo>
                    <a:pt x="1814" y="3069"/>
                  </a:lnTo>
                  <a:lnTo>
                    <a:pt x="1785" y="3073"/>
                  </a:lnTo>
                  <a:lnTo>
                    <a:pt x="1756" y="3073"/>
                  </a:lnTo>
                  <a:lnTo>
                    <a:pt x="1718" y="3078"/>
                  </a:lnTo>
                  <a:lnTo>
                    <a:pt x="1689" y="3078"/>
                  </a:lnTo>
                  <a:lnTo>
                    <a:pt x="1651" y="3078"/>
                  </a:lnTo>
                  <a:lnTo>
                    <a:pt x="1623" y="3078"/>
                  </a:lnTo>
                  <a:lnTo>
                    <a:pt x="1594" y="3082"/>
                  </a:lnTo>
                  <a:lnTo>
                    <a:pt x="1556" y="3082"/>
                  </a:lnTo>
                  <a:lnTo>
                    <a:pt x="1527" y="3082"/>
                  </a:lnTo>
                  <a:lnTo>
                    <a:pt x="1489" y="3082"/>
                  </a:lnTo>
                  <a:lnTo>
                    <a:pt x="1460" y="3082"/>
                  </a:lnTo>
                  <a:lnTo>
                    <a:pt x="1422" y="3082"/>
                  </a:lnTo>
                  <a:lnTo>
                    <a:pt x="1394" y="3082"/>
                  </a:lnTo>
                  <a:lnTo>
                    <a:pt x="1355" y="3082"/>
                  </a:lnTo>
                  <a:lnTo>
                    <a:pt x="1327" y="3082"/>
                  </a:lnTo>
                  <a:lnTo>
                    <a:pt x="1298" y="3078"/>
                  </a:lnTo>
                  <a:lnTo>
                    <a:pt x="1260" y="3078"/>
                  </a:lnTo>
                  <a:lnTo>
                    <a:pt x="1231" y="3078"/>
                  </a:lnTo>
                  <a:lnTo>
                    <a:pt x="1193" y="3073"/>
                  </a:lnTo>
                  <a:lnTo>
                    <a:pt x="1164" y="3073"/>
                  </a:lnTo>
                  <a:lnTo>
                    <a:pt x="1136" y="3069"/>
                  </a:lnTo>
                  <a:lnTo>
                    <a:pt x="1098" y="3069"/>
                  </a:lnTo>
                  <a:lnTo>
                    <a:pt x="1069" y="3064"/>
                  </a:lnTo>
                  <a:lnTo>
                    <a:pt x="1040" y="3064"/>
                  </a:lnTo>
                  <a:lnTo>
                    <a:pt x="1012" y="3060"/>
                  </a:lnTo>
                  <a:lnTo>
                    <a:pt x="974" y="3056"/>
                  </a:lnTo>
                  <a:lnTo>
                    <a:pt x="974" y="3051"/>
                  </a:lnTo>
                  <a:lnTo>
                    <a:pt x="974" y="3047"/>
                  </a:lnTo>
                  <a:lnTo>
                    <a:pt x="964" y="3043"/>
                  </a:lnTo>
                  <a:lnTo>
                    <a:pt x="964" y="3038"/>
                  </a:lnTo>
                  <a:lnTo>
                    <a:pt x="954" y="3034"/>
                  </a:lnTo>
                  <a:lnTo>
                    <a:pt x="945" y="3025"/>
                  </a:lnTo>
                  <a:lnTo>
                    <a:pt x="935" y="3021"/>
                  </a:lnTo>
                  <a:lnTo>
                    <a:pt x="926" y="3012"/>
                  </a:lnTo>
                  <a:lnTo>
                    <a:pt x="878" y="3012"/>
                  </a:lnTo>
                  <a:lnTo>
                    <a:pt x="840" y="3016"/>
                  </a:lnTo>
                  <a:lnTo>
                    <a:pt x="792" y="3016"/>
                  </a:lnTo>
                  <a:lnTo>
                    <a:pt x="745" y="3016"/>
                  </a:lnTo>
                  <a:lnTo>
                    <a:pt x="697" y="3021"/>
                  </a:lnTo>
                  <a:lnTo>
                    <a:pt x="649" y="3021"/>
                  </a:lnTo>
                  <a:lnTo>
                    <a:pt x="611" y="3021"/>
                  </a:lnTo>
                  <a:lnTo>
                    <a:pt x="563" y="3021"/>
                  </a:lnTo>
                  <a:lnTo>
                    <a:pt x="515" y="3025"/>
                  </a:lnTo>
                  <a:lnTo>
                    <a:pt x="468" y="3021"/>
                  </a:lnTo>
                  <a:lnTo>
                    <a:pt x="420" y="3021"/>
                  </a:lnTo>
                  <a:lnTo>
                    <a:pt x="382" y="3016"/>
                  </a:lnTo>
                  <a:lnTo>
                    <a:pt x="334" y="3012"/>
                  </a:lnTo>
                  <a:lnTo>
                    <a:pt x="296" y="3007"/>
                  </a:lnTo>
                  <a:lnTo>
                    <a:pt x="258" y="2999"/>
                  </a:lnTo>
                  <a:lnTo>
                    <a:pt x="210" y="2986"/>
                  </a:lnTo>
                  <a:lnTo>
                    <a:pt x="200" y="2986"/>
                  </a:lnTo>
                  <a:lnTo>
                    <a:pt x="181" y="2986"/>
                  </a:lnTo>
                  <a:lnTo>
                    <a:pt x="172" y="2981"/>
                  </a:lnTo>
                  <a:lnTo>
                    <a:pt x="153" y="2981"/>
                  </a:lnTo>
                  <a:lnTo>
                    <a:pt x="143" y="2977"/>
                  </a:lnTo>
                  <a:lnTo>
                    <a:pt x="124" y="2977"/>
                  </a:lnTo>
                  <a:lnTo>
                    <a:pt x="115" y="2977"/>
                  </a:lnTo>
                  <a:lnTo>
                    <a:pt x="105" y="2977"/>
                  </a:lnTo>
                  <a:lnTo>
                    <a:pt x="95" y="2937"/>
                  </a:lnTo>
                  <a:lnTo>
                    <a:pt x="95" y="2880"/>
                  </a:lnTo>
                  <a:lnTo>
                    <a:pt x="105" y="2819"/>
                  </a:lnTo>
                  <a:lnTo>
                    <a:pt x="115" y="2780"/>
                  </a:lnTo>
                  <a:lnTo>
                    <a:pt x="115" y="2771"/>
                  </a:lnTo>
                  <a:lnTo>
                    <a:pt x="134" y="2762"/>
                  </a:lnTo>
                  <a:lnTo>
                    <a:pt x="143" y="2753"/>
                  </a:lnTo>
                  <a:lnTo>
                    <a:pt x="153" y="2749"/>
                  </a:lnTo>
                  <a:lnTo>
                    <a:pt x="172" y="2740"/>
                  </a:lnTo>
                  <a:lnTo>
                    <a:pt x="181" y="2736"/>
                  </a:lnTo>
                  <a:lnTo>
                    <a:pt x="200" y="2727"/>
                  </a:lnTo>
                  <a:lnTo>
                    <a:pt x="210" y="2723"/>
                  </a:lnTo>
                  <a:lnTo>
                    <a:pt x="210" y="2692"/>
                  </a:lnTo>
                  <a:lnTo>
                    <a:pt x="220" y="2661"/>
                  </a:lnTo>
                  <a:lnTo>
                    <a:pt x="220" y="2635"/>
                  </a:lnTo>
                  <a:lnTo>
                    <a:pt x="229" y="2604"/>
                  </a:lnTo>
                  <a:lnTo>
                    <a:pt x="229" y="2578"/>
                  </a:lnTo>
                  <a:lnTo>
                    <a:pt x="239" y="2547"/>
                  </a:lnTo>
                  <a:lnTo>
                    <a:pt x="248" y="2521"/>
                  </a:lnTo>
                  <a:lnTo>
                    <a:pt x="258" y="2490"/>
                  </a:lnTo>
                  <a:lnTo>
                    <a:pt x="267" y="2481"/>
                  </a:lnTo>
                  <a:lnTo>
                    <a:pt x="267" y="2464"/>
                  </a:lnTo>
                  <a:lnTo>
                    <a:pt x="277" y="2451"/>
                  </a:lnTo>
                  <a:lnTo>
                    <a:pt x="286" y="2433"/>
                  </a:lnTo>
                  <a:lnTo>
                    <a:pt x="286" y="2420"/>
                  </a:lnTo>
                  <a:lnTo>
                    <a:pt x="286" y="2407"/>
                  </a:lnTo>
                  <a:lnTo>
                    <a:pt x="286" y="2394"/>
                  </a:lnTo>
                  <a:lnTo>
                    <a:pt x="277" y="2381"/>
                  </a:lnTo>
                  <a:lnTo>
                    <a:pt x="267" y="2372"/>
                  </a:lnTo>
                  <a:lnTo>
                    <a:pt x="258" y="2363"/>
                  </a:lnTo>
                  <a:lnTo>
                    <a:pt x="248" y="2354"/>
                  </a:lnTo>
                  <a:lnTo>
                    <a:pt x="239" y="2346"/>
                  </a:lnTo>
                  <a:lnTo>
                    <a:pt x="229" y="2337"/>
                  </a:lnTo>
                  <a:lnTo>
                    <a:pt x="220" y="2328"/>
                  </a:lnTo>
                  <a:lnTo>
                    <a:pt x="210" y="2319"/>
                  </a:lnTo>
                  <a:lnTo>
                    <a:pt x="200" y="2306"/>
                  </a:lnTo>
                  <a:lnTo>
                    <a:pt x="191" y="2284"/>
                  </a:lnTo>
                  <a:lnTo>
                    <a:pt x="191" y="2262"/>
                  </a:lnTo>
                  <a:lnTo>
                    <a:pt x="200" y="2240"/>
                  </a:lnTo>
                  <a:lnTo>
                    <a:pt x="210" y="2218"/>
                  </a:lnTo>
                  <a:lnTo>
                    <a:pt x="220" y="2196"/>
                  </a:lnTo>
                  <a:lnTo>
                    <a:pt x="229" y="2175"/>
                  </a:lnTo>
                  <a:lnTo>
                    <a:pt x="229" y="2157"/>
                  </a:lnTo>
                  <a:lnTo>
                    <a:pt x="239" y="2135"/>
                  </a:lnTo>
                  <a:lnTo>
                    <a:pt x="229" y="2131"/>
                  </a:lnTo>
                  <a:lnTo>
                    <a:pt x="220" y="2131"/>
                  </a:lnTo>
                  <a:lnTo>
                    <a:pt x="220" y="2126"/>
                  </a:lnTo>
                  <a:lnTo>
                    <a:pt x="210" y="2122"/>
                  </a:lnTo>
                  <a:lnTo>
                    <a:pt x="200" y="2122"/>
                  </a:lnTo>
                  <a:lnTo>
                    <a:pt x="191" y="2118"/>
                  </a:lnTo>
                  <a:lnTo>
                    <a:pt x="181" y="2118"/>
                  </a:lnTo>
                  <a:lnTo>
                    <a:pt x="172" y="2113"/>
                  </a:lnTo>
                  <a:lnTo>
                    <a:pt x="172" y="2083"/>
                  </a:lnTo>
                  <a:lnTo>
                    <a:pt x="286" y="2043"/>
                  </a:lnTo>
                  <a:lnTo>
                    <a:pt x="286" y="2030"/>
                  </a:lnTo>
                  <a:lnTo>
                    <a:pt x="267" y="2021"/>
                  </a:lnTo>
                  <a:lnTo>
                    <a:pt x="248" y="2012"/>
                  </a:lnTo>
                  <a:lnTo>
                    <a:pt x="229" y="2004"/>
                  </a:lnTo>
                  <a:lnTo>
                    <a:pt x="210" y="1995"/>
                  </a:lnTo>
                  <a:lnTo>
                    <a:pt x="191" y="1982"/>
                  </a:lnTo>
                  <a:lnTo>
                    <a:pt x="181" y="1969"/>
                  </a:lnTo>
                  <a:lnTo>
                    <a:pt x="181" y="1955"/>
                  </a:lnTo>
                  <a:close/>
                </a:path>
              </a:pathLst>
            </a:custGeom>
            <a:solidFill>
              <a:srgbClr val="b7b7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40400" y="1889280"/>
              <a:ext cx="8068320" cy="4892400"/>
            </a:xfrm>
            <a:custGeom>
              <a:avLst/>
              <a:gdLst/>
              <a:ahLst/>
              <a:rect l="l" t="t" r="r" b="b"/>
              <a:pathLst>
                <a:path w="5221" h="3082">
                  <a:moveTo>
                    <a:pt x="181" y="1955"/>
                  </a:moveTo>
                  <a:lnTo>
                    <a:pt x="181" y="1583"/>
                  </a:lnTo>
                  <a:lnTo>
                    <a:pt x="191" y="1578"/>
                  </a:lnTo>
                  <a:lnTo>
                    <a:pt x="210" y="1569"/>
                  </a:lnTo>
                  <a:lnTo>
                    <a:pt x="229" y="1565"/>
                  </a:lnTo>
                  <a:lnTo>
                    <a:pt x="248" y="1556"/>
                  </a:lnTo>
                  <a:lnTo>
                    <a:pt x="277" y="1552"/>
                  </a:lnTo>
                  <a:lnTo>
                    <a:pt x="296" y="1547"/>
                  </a:lnTo>
                  <a:lnTo>
                    <a:pt x="315" y="1543"/>
                  </a:lnTo>
                  <a:lnTo>
                    <a:pt x="324" y="1539"/>
                  </a:lnTo>
                  <a:lnTo>
                    <a:pt x="315" y="1539"/>
                  </a:lnTo>
                  <a:lnTo>
                    <a:pt x="296" y="1539"/>
                  </a:lnTo>
                  <a:lnTo>
                    <a:pt x="286" y="1534"/>
                  </a:lnTo>
                  <a:lnTo>
                    <a:pt x="267" y="1534"/>
                  </a:lnTo>
                  <a:lnTo>
                    <a:pt x="258" y="1534"/>
                  </a:lnTo>
                  <a:lnTo>
                    <a:pt x="239" y="1530"/>
                  </a:lnTo>
                  <a:lnTo>
                    <a:pt x="229" y="1530"/>
                  </a:lnTo>
                  <a:lnTo>
                    <a:pt x="210" y="1530"/>
                  </a:lnTo>
                  <a:lnTo>
                    <a:pt x="200" y="1526"/>
                  </a:lnTo>
                  <a:lnTo>
                    <a:pt x="181" y="1526"/>
                  </a:lnTo>
                  <a:lnTo>
                    <a:pt x="172" y="1521"/>
                  </a:lnTo>
                  <a:lnTo>
                    <a:pt x="153" y="1517"/>
                  </a:lnTo>
                  <a:lnTo>
                    <a:pt x="143" y="1517"/>
                  </a:lnTo>
                  <a:lnTo>
                    <a:pt x="134" y="1512"/>
                  </a:lnTo>
                  <a:lnTo>
                    <a:pt x="124" y="1508"/>
                  </a:lnTo>
                  <a:lnTo>
                    <a:pt x="114" y="1508"/>
                  </a:lnTo>
                  <a:lnTo>
                    <a:pt x="114" y="1460"/>
                  </a:lnTo>
                  <a:lnTo>
                    <a:pt x="114" y="1412"/>
                  </a:lnTo>
                  <a:lnTo>
                    <a:pt x="105" y="1359"/>
                  </a:lnTo>
                  <a:lnTo>
                    <a:pt x="95" y="1320"/>
                  </a:lnTo>
                  <a:lnTo>
                    <a:pt x="76" y="1280"/>
                  </a:lnTo>
                  <a:lnTo>
                    <a:pt x="67" y="1241"/>
                  </a:lnTo>
                  <a:lnTo>
                    <a:pt x="67" y="1201"/>
                  </a:lnTo>
                  <a:lnTo>
                    <a:pt x="67" y="1157"/>
                  </a:lnTo>
                  <a:lnTo>
                    <a:pt x="67" y="1118"/>
                  </a:lnTo>
                  <a:lnTo>
                    <a:pt x="76" y="1078"/>
                  </a:lnTo>
                  <a:lnTo>
                    <a:pt x="86" y="1039"/>
                  </a:lnTo>
                  <a:lnTo>
                    <a:pt x="86" y="1004"/>
                  </a:lnTo>
                  <a:lnTo>
                    <a:pt x="95" y="964"/>
                  </a:lnTo>
                  <a:lnTo>
                    <a:pt x="105" y="925"/>
                  </a:lnTo>
                  <a:lnTo>
                    <a:pt x="105" y="886"/>
                  </a:lnTo>
                  <a:lnTo>
                    <a:pt x="105" y="846"/>
                  </a:lnTo>
                  <a:lnTo>
                    <a:pt x="105" y="807"/>
                  </a:lnTo>
                  <a:lnTo>
                    <a:pt x="95" y="767"/>
                  </a:lnTo>
                  <a:lnTo>
                    <a:pt x="86" y="723"/>
                  </a:lnTo>
                  <a:lnTo>
                    <a:pt x="57" y="684"/>
                  </a:lnTo>
                  <a:lnTo>
                    <a:pt x="57" y="679"/>
                  </a:lnTo>
                  <a:lnTo>
                    <a:pt x="48" y="666"/>
                  </a:lnTo>
                  <a:lnTo>
                    <a:pt x="38" y="658"/>
                  </a:lnTo>
                  <a:lnTo>
                    <a:pt x="38" y="644"/>
                  </a:lnTo>
                  <a:lnTo>
                    <a:pt x="48" y="627"/>
                  </a:lnTo>
                  <a:lnTo>
                    <a:pt x="67" y="622"/>
                  </a:lnTo>
                  <a:lnTo>
                    <a:pt x="95" y="618"/>
                  </a:lnTo>
                  <a:lnTo>
                    <a:pt x="114" y="618"/>
                  </a:lnTo>
                  <a:lnTo>
                    <a:pt x="134" y="618"/>
                  </a:lnTo>
                  <a:lnTo>
                    <a:pt x="153" y="614"/>
                  </a:lnTo>
                  <a:lnTo>
                    <a:pt x="172" y="614"/>
                  </a:lnTo>
                  <a:lnTo>
                    <a:pt x="191" y="614"/>
                  </a:lnTo>
                  <a:lnTo>
                    <a:pt x="210" y="614"/>
                  </a:lnTo>
                  <a:lnTo>
                    <a:pt x="219" y="605"/>
                  </a:lnTo>
                  <a:lnTo>
                    <a:pt x="239" y="601"/>
                  </a:lnTo>
                  <a:lnTo>
                    <a:pt x="248" y="592"/>
                  </a:lnTo>
                  <a:lnTo>
                    <a:pt x="258" y="583"/>
                  </a:lnTo>
                  <a:lnTo>
                    <a:pt x="277" y="579"/>
                  </a:lnTo>
                  <a:lnTo>
                    <a:pt x="296" y="574"/>
                  </a:lnTo>
                  <a:lnTo>
                    <a:pt x="305" y="570"/>
                  </a:lnTo>
                  <a:lnTo>
                    <a:pt x="324" y="566"/>
                  </a:lnTo>
                  <a:lnTo>
                    <a:pt x="296" y="552"/>
                  </a:lnTo>
                  <a:lnTo>
                    <a:pt x="181" y="552"/>
                  </a:lnTo>
                  <a:lnTo>
                    <a:pt x="162" y="544"/>
                  </a:lnTo>
                  <a:lnTo>
                    <a:pt x="134" y="539"/>
                  </a:lnTo>
                  <a:lnTo>
                    <a:pt x="114" y="530"/>
                  </a:lnTo>
                  <a:lnTo>
                    <a:pt x="86" y="526"/>
                  </a:lnTo>
                  <a:lnTo>
                    <a:pt x="67" y="522"/>
                  </a:lnTo>
                  <a:lnTo>
                    <a:pt x="38" y="513"/>
                  </a:lnTo>
                  <a:lnTo>
                    <a:pt x="19" y="509"/>
                  </a:lnTo>
                  <a:lnTo>
                    <a:pt x="0" y="500"/>
                  </a:lnTo>
                  <a:lnTo>
                    <a:pt x="29" y="460"/>
                  </a:lnTo>
                  <a:lnTo>
                    <a:pt x="38" y="421"/>
                  </a:lnTo>
                  <a:lnTo>
                    <a:pt x="38" y="377"/>
                  </a:lnTo>
                  <a:lnTo>
                    <a:pt x="29" y="333"/>
                  </a:lnTo>
                  <a:lnTo>
                    <a:pt x="19" y="285"/>
                  </a:lnTo>
                  <a:lnTo>
                    <a:pt x="9" y="241"/>
                  </a:lnTo>
                  <a:lnTo>
                    <a:pt x="0" y="197"/>
                  </a:lnTo>
                  <a:lnTo>
                    <a:pt x="0" y="158"/>
                  </a:lnTo>
                  <a:lnTo>
                    <a:pt x="19" y="158"/>
                  </a:lnTo>
                  <a:lnTo>
                    <a:pt x="29" y="158"/>
                  </a:lnTo>
                  <a:lnTo>
                    <a:pt x="48" y="158"/>
                  </a:lnTo>
                  <a:lnTo>
                    <a:pt x="67" y="153"/>
                  </a:lnTo>
                  <a:lnTo>
                    <a:pt x="86" y="153"/>
                  </a:lnTo>
                  <a:lnTo>
                    <a:pt x="105" y="153"/>
                  </a:lnTo>
                  <a:lnTo>
                    <a:pt x="124" y="149"/>
                  </a:lnTo>
                  <a:lnTo>
                    <a:pt x="143" y="149"/>
                  </a:lnTo>
                  <a:lnTo>
                    <a:pt x="162" y="145"/>
                  </a:lnTo>
                  <a:lnTo>
                    <a:pt x="181" y="136"/>
                  </a:lnTo>
                  <a:lnTo>
                    <a:pt x="191" y="132"/>
                  </a:lnTo>
                  <a:lnTo>
                    <a:pt x="210" y="127"/>
                  </a:lnTo>
                  <a:lnTo>
                    <a:pt x="229" y="123"/>
                  </a:lnTo>
                  <a:lnTo>
                    <a:pt x="248" y="114"/>
                  </a:lnTo>
                  <a:lnTo>
                    <a:pt x="258" y="110"/>
                  </a:lnTo>
                  <a:lnTo>
                    <a:pt x="277" y="105"/>
                  </a:lnTo>
                  <a:lnTo>
                    <a:pt x="296" y="101"/>
                  </a:lnTo>
                  <a:lnTo>
                    <a:pt x="305" y="92"/>
                  </a:lnTo>
                  <a:lnTo>
                    <a:pt x="315" y="88"/>
                  </a:lnTo>
                  <a:lnTo>
                    <a:pt x="334" y="79"/>
                  </a:lnTo>
                  <a:lnTo>
                    <a:pt x="344" y="70"/>
                  </a:lnTo>
                  <a:lnTo>
                    <a:pt x="353" y="61"/>
                  </a:lnTo>
                  <a:lnTo>
                    <a:pt x="353" y="48"/>
                  </a:lnTo>
                  <a:lnTo>
                    <a:pt x="363" y="35"/>
                  </a:lnTo>
                  <a:lnTo>
                    <a:pt x="391" y="35"/>
                  </a:lnTo>
                  <a:lnTo>
                    <a:pt x="429" y="31"/>
                  </a:lnTo>
                  <a:lnTo>
                    <a:pt x="468" y="31"/>
                  </a:lnTo>
                  <a:lnTo>
                    <a:pt x="506" y="26"/>
                  </a:lnTo>
                  <a:lnTo>
                    <a:pt x="544" y="26"/>
                  </a:lnTo>
                  <a:lnTo>
                    <a:pt x="592" y="22"/>
                  </a:lnTo>
                  <a:lnTo>
                    <a:pt x="630" y="18"/>
                  </a:lnTo>
                  <a:lnTo>
                    <a:pt x="668" y="13"/>
                  </a:lnTo>
                  <a:lnTo>
                    <a:pt x="716" y="13"/>
                  </a:lnTo>
                  <a:lnTo>
                    <a:pt x="754" y="9"/>
                  </a:lnTo>
                  <a:lnTo>
                    <a:pt x="792" y="9"/>
                  </a:lnTo>
                  <a:lnTo>
                    <a:pt x="840" y="4"/>
                  </a:lnTo>
                  <a:lnTo>
                    <a:pt x="878" y="4"/>
                  </a:lnTo>
                  <a:lnTo>
                    <a:pt x="916" y="0"/>
                  </a:lnTo>
                  <a:lnTo>
                    <a:pt x="964" y="0"/>
                  </a:lnTo>
                  <a:lnTo>
                    <a:pt x="1002" y="0"/>
                  </a:lnTo>
                  <a:lnTo>
                    <a:pt x="1002" y="57"/>
                  </a:lnTo>
                  <a:lnTo>
                    <a:pt x="1117" y="110"/>
                  </a:lnTo>
                  <a:lnTo>
                    <a:pt x="1126" y="101"/>
                  </a:lnTo>
                  <a:lnTo>
                    <a:pt x="1126" y="88"/>
                  </a:lnTo>
                  <a:lnTo>
                    <a:pt x="1136" y="75"/>
                  </a:lnTo>
                  <a:lnTo>
                    <a:pt x="1155" y="66"/>
                  </a:lnTo>
                  <a:lnTo>
                    <a:pt x="1164" y="53"/>
                  </a:lnTo>
                  <a:lnTo>
                    <a:pt x="1174" y="44"/>
                  </a:lnTo>
                  <a:lnTo>
                    <a:pt x="1183" y="35"/>
                  </a:lnTo>
                  <a:lnTo>
                    <a:pt x="1183" y="26"/>
                  </a:lnTo>
                  <a:lnTo>
                    <a:pt x="1203" y="31"/>
                  </a:lnTo>
                  <a:lnTo>
                    <a:pt x="1231" y="31"/>
                  </a:lnTo>
                  <a:lnTo>
                    <a:pt x="1250" y="35"/>
                  </a:lnTo>
                  <a:lnTo>
                    <a:pt x="1279" y="35"/>
                  </a:lnTo>
                  <a:lnTo>
                    <a:pt x="1308" y="39"/>
                  </a:lnTo>
                  <a:lnTo>
                    <a:pt x="1327" y="39"/>
                  </a:lnTo>
                  <a:lnTo>
                    <a:pt x="1355" y="44"/>
                  </a:lnTo>
                  <a:lnTo>
                    <a:pt x="1384" y="44"/>
                  </a:lnTo>
                  <a:lnTo>
                    <a:pt x="1413" y="44"/>
                  </a:lnTo>
                  <a:lnTo>
                    <a:pt x="1441" y="48"/>
                  </a:lnTo>
                  <a:lnTo>
                    <a:pt x="1470" y="48"/>
                  </a:lnTo>
                  <a:lnTo>
                    <a:pt x="1498" y="48"/>
                  </a:lnTo>
                  <a:lnTo>
                    <a:pt x="1527" y="48"/>
                  </a:lnTo>
                  <a:lnTo>
                    <a:pt x="1565" y="53"/>
                  </a:lnTo>
                  <a:lnTo>
                    <a:pt x="1594" y="53"/>
                  </a:lnTo>
                  <a:lnTo>
                    <a:pt x="1623" y="53"/>
                  </a:lnTo>
                  <a:lnTo>
                    <a:pt x="1651" y="53"/>
                  </a:lnTo>
                  <a:lnTo>
                    <a:pt x="1680" y="53"/>
                  </a:lnTo>
                  <a:lnTo>
                    <a:pt x="1718" y="53"/>
                  </a:lnTo>
                  <a:lnTo>
                    <a:pt x="1747" y="53"/>
                  </a:lnTo>
                  <a:lnTo>
                    <a:pt x="1775" y="53"/>
                  </a:lnTo>
                  <a:lnTo>
                    <a:pt x="1804" y="53"/>
                  </a:lnTo>
                  <a:lnTo>
                    <a:pt x="1833" y="53"/>
                  </a:lnTo>
                  <a:lnTo>
                    <a:pt x="1861" y="53"/>
                  </a:lnTo>
                  <a:lnTo>
                    <a:pt x="1890" y="53"/>
                  </a:lnTo>
                  <a:lnTo>
                    <a:pt x="1918" y="57"/>
                  </a:lnTo>
                  <a:lnTo>
                    <a:pt x="1947" y="57"/>
                  </a:lnTo>
                  <a:lnTo>
                    <a:pt x="1976" y="57"/>
                  </a:lnTo>
                  <a:lnTo>
                    <a:pt x="2004" y="57"/>
                  </a:lnTo>
                  <a:lnTo>
                    <a:pt x="2033" y="57"/>
                  </a:lnTo>
                  <a:lnTo>
                    <a:pt x="2062" y="57"/>
                  </a:lnTo>
                  <a:lnTo>
                    <a:pt x="2090" y="57"/>
                  </a:lnTo>
                  <a:lnTo>
                    <a:pt x="2148" y="83"/>
                  </a:lnTo>
                  <a:lnTo>
                    <a:pt x="2148" y="140"/>
                  </a:lnTo>
                  <a:lnTo>
                    <a:pt x="2186" y="132"/>
                  </a:lnTo>
                  <a:lnTo>
                    <a:pt x="2214" y="118"/>
                  </a:lnTo>
                  <a:lnTo>
                    <a:pt x="2233" y="110"/>
                  </a:lnTo>
                  <a:lnTo>
                    <a:pt x="2253" y="92"/>
                  </a:lnTo>
                  <a:lnTo>
                    <a:pt x="2272" y="83"/>
                  </a:lnTo>
                  <a:lnTo>
                    <a:pt x="2291" y="70"/>
                  </a:lnTo>
                  <a:lnTo>
                    <a:pt x="2310" y="61"/>
                  </a:lnTo>
                  <a:lnTo>
                    <a:pt x="2329" y="61"/>
                  </a:lnTo>
                  <a:lnTo>
                    <a:pt x="2367" y="61"/>
                  </a:lnTo>
                  <a:lnTo>
                    <a:pt x="2405" y="61"/>
                  </a:lnTo>
                  <a:lnTo>
                    <a:pt x="2443" y="66"/>
                  </a:lnTo>
                  <a:lnTo>
                    <a:pt x="2482" y="66"/>
                  </a:lnTo>
                  <a:lnTo>
                    <a:pt x="2520" y="66"/>
                  </a:lnTo>
                  <a:lnTo>
                    <a:pt x="2568" y="70"/>
                  </a:lnTo>
                  <a:lnTo>
                    <a:pt x="2606" y="70"/>
                  </a:lnTo>
                  <a:lnTo>
                    <a:pt x="2644" y="75"/>
                  </a:lnTo>
                  <a:lnTo>
                    <a:pt x="2692" y="79"/>
                  </a:lnTo>
                  <a:lnTo>
                    <a:pt x="2730" y="79"/>
                  </a:lnTo>
                  <a:lnTo>
                    <a:pt x="2768" y="83"/>
                  </a:lnTo>
                  <a:lnTo>
                    <a:pt x="2816" y="88"/>
                  </a:lnTo>
                  <a:lnTo>
                    <a:pt x="2854" y="88"/>
                  </a:lnTo>
                  <a:lnTo>
                    <a:pt x="2902" y="92"/>
                  </a:lnTo>
                  <a:lnTo>
                    <a:pt x="2940" y="92"/>
                  </a:lnTo>
                  <a:lnTo>
                    <a:pt x="2987" y="96"/>
                  </a:lnTo>
                  <a:lnTo>
                    <a:pt x="3035" y="96"/>
                  </a:lnTo>
                  <a:lnTo>
                    <a:pt x="3073" y="101"/>
                  </a:lnTo>
                  <a:lnTo>
                    <a:pt x="3121" y="101"/>
                  </a:lnTo>
                  <a:lnTo>
                    <a:pt x="3159" y="101"/>
                  </a:lnTo>
                  <a:lnTo>
                    <a:pt x="3207" y="101"/>
                  </a:lnTo>
                  <a:lnTo>
                    <a:pt x="3245" y="101"/>
                  </a:lnTo>
                  <a:lnTo>
                    <a:pt x="3293" y="101"/>
                  </a:lnTo>
                  <a:lnTo>
                    <a:pt x="3341" y="96"/>
                  </a:lnTo>
                  <a:lnTo>
                    <a:pt x="3379" y="96"/>
                  </a:lnTo>
                  <a:lnTo>
                    <a:pt x="3427" y="92"/>
                  </a:lnTo>
                  <a:lnTo>
                    <a:pt x="3465" y="88"/>
                  </a:lnTo>
                  <a:lnTo>
                    <a:pt x="3512" y="83"/>
                  </a:lnTo>
                  <a:lnTo>
                    <a:pt x="3560" y="79"/>
                  </a:lnTo>
                  <a:lnTo>
                    <a:pt x="3598" y="70"/>
                  </a:lnTo>
                  <a:lnTo>
                    <a:pt x="3637" y="66"/>
                  </a:lnTo>
                  <a:lnTo>
                    <a:pt x="3684" y="57"/>
                  </a:lnTo>
                  <a:lnTo>
                    <a:pt x="3694" y="53"/>
                  </a:lnTo>
                  <a:lnTo>
                    <a:pt x="3713" y="48"/>
                  </a:lnTo>
                  <a:lnTo>
                    <a:pt x="3722" y="48"/>
                  </a:lnTo>
                  <a:lnTo>
                    <a:pt x="3742" y="44"/>
                  </a:lnTo>
                  <a:lnTo>
                    <a:pt x="3751" y="44"/>
                  </a:lnTo>
                  <a:lnTo>
                    <a:pt x="3770" y="39"/>
                  </a:lnTo>
                  <a:lnTo>
                    <a:pt x="3789" y="39"/>
                  </a:lnTo>
                  <a:lnTo>
                    <a:pt x="3808" y="35"/>
                  </a:lnTo>
                  <a:lnTo>
                    <a:pt x="3827" y="35"/>
                  </a:lnTo>
                  <a:lnTo>
                    <a:pt x="3847" y="31"/>
                  </a:lnTo>
                  <a:lnTo>
                    <a:pt x="3866" y="31"/>
                  </a:lnTo>
                  <a:lnTo>
                    <a:pt x="3885" y="31"/>
                  </a:lnTo>
                  <a:lnTo>
                    <a:pt x="3904" y="31"/>
                  </a:lnTo>
                  <a:lnTo>
                    <a:pt x="3923" y="26"/>
                  </a:lnTo>
                  <a:lnTo>
                    <a:pt x="3942" y="26"/>
                  </a:lnTo>
                  <a:lnTo>
                    <a:pt x="3952" y="26"/>
                  </a:lnTo>
                  <a:lnTo>
                    <a:pt x="3971" y="31"/>
                  </a:lnTo>
                  <a:lnTo>
                    <a:pt x="3980" y="39"/>
                  </a:lnTo>
                  <a:lnTo>
                    <a:pt x="3990" y="44"/>
                  </a:lnTo>
                  <a:lnTo>
                    <a:pt x="3999" y="48"/>
                  </a:lnTo>
                  <a:lnTo>
                    <a:pt x="3999" y="57"/>
                  </a:lnTo>
                  <a:lnTo>
                    <a:pt x="4009" y="66"/>
                  </a:lnTo>
                  <a:lnTo>
                    <a:pt x="4009" y="75"/>
                  </a:lnTo>
                  <a:lnTo>
                    <a:pt x="4018" y="83"/>
                  </a:lnTo>
                  <a:lnTo>
                    <a:pt x="4037" y="83"/>
                  </a:lnTo>
                  <a:lnTo>
                    <a:pt x="4057" y="83"/>
                  </a:lnTo>
                  <a:lnTo>
                    <a:pt x="4076" y="88"/>
                  </a:lnTo>
                  <a:lnTo>
                    <a:pt x="4095" y="92"/>
                  </a:lnTo>
                  <a:lnTo>
                    <a:pt x="4104" y="92"/>
                  </a:lnTo>
                  <a:lnTo>
                    <a:pt x="4123" y="96"/>
                  </a:lnTo>
                  <a:lnTo>
                    <a:pt x="4142" y="96"/>
                  </a:lnTo>
                  <a:lnTo>
                    <a:pt x="4162" y="96"/>
                  </a:lnTo>
                  <a:lnTo>
                    <a:pt x="4286" y="39"/>
                  </a:lnTo>
                  <a:lnTo>
                    <a:pt x="4916" y="39"/>
                  </a:lnTo>
                  <a:lnTo>
                    <a:pt x="4916" y="48"/>
                  </a:lnTo>
                  <a:lnTo>
                    <a:pt x="4906" y="57"/>
                  </a:lnTo>
                  <a:lnTo>
                    <a:pt x="4896" y="66"/>
                  </a:lnTo>
                  <a:lnTo>
                    <a:pt x="4887" y="75"/>
                  </a:lnTo>
                  <a:lnTo>
                    <a:pt x="4877" y="88"/>
                  </a:lnTo>
                  <a:lnTo>
                    <a:pt x="4868" y="96"/>
                  </a:lnTo>
                  <a:lnTo>
                    <a:pt x="4858" y="105"/>
                  </a:lnTo>
                  <a:lnTo>
                    <a:pt x="4858" y="110"/>
                  </a:lnTo>
                  <a:lnTo>
                    <a:pt x="4868" y="118"/>
                  </a:lnTo>
                  <a:lnTo>
                    <a:pt x="4887" y="127"/>
                  </a:lnTo>
                  <a:lnTo>
                    <a:pt x="4906" y="132"/>
                  </a:lnTo>
                  <a:lnTo>
                    <a:pt x="4925" y="140"/>
                  </a:lnTo>
                  <a:lnTo>
                    <a:pt x="4954" y="145"/>
                  </a:lnTo>
                  <a:lnTo>
                    <a:pt x="4973" y="149"/>
                  </a:lnTo>
                  <a:lnTo>
                    <a:pt x="5001" y="158"/>
                  </a:lnTo>
                  <a:lnTo>
                    <a:pt x="5030" y="162"/>
                  </a:lnTo>
                  <a:lnTo>
                    <a:pt x="5059" y="167"/>
                  </a:lnTo>
                  <a:lnTo>
                    <a:pt x="5078" y="171"/>
                  </a:lnTo>
                  <a:lnTo>
                    <a:pt x="5106" y="171"/>
                  </a:lnTo>
                  <a:lnTo>
                    <a:pt x="5135" y="175"/>
                  </a:lnTo>
                  <a:lnTo>
                    <a:pt x="5164" y="175"/>
                  </a:lnTo>
                  <a:lnTo>
                    <a:pt x="5183" y="180"/>
                  </a:lnTo>
                  <a:lnTo>
                    <a:pt x="5202" y="180"/>
                  </a:lnTo>
                  <a:lnTo>
                    <a:pt x="5221" y="180"/>
                  </a:lnTo>
                  <a:lnTo>
                    <a:pt x="5221" y="215"/>
                  </a:lnTo>
                  <a:lnTo>
                    <a:pt x="5202" y="254"/>
                  </a:lnTo>
                  <a:lnTo>
                    <a:pt x="5192" y="298"/>
                  </a:lnTo>
                  <a:lnTo>
                    <a:pt x="5192" y="333"/>
                  </a:lnTo>
                  <a:lnTo>
                    <a:pt x="5183" y="338"/>
                  </a:lnTo>
                  <a:lnTo>
                    <a:pt x="5164" y="342"/>
                  </a:lnTo>
                  <a:lnTo>
                    <a:pt x="5145" y="346"/>
                  </a:lnTo>
                  <a:lnTo>
                    <a:pt x="5135" y="355"/>
                  </a:lnTo>
                  <a:lnTo>
                    <a:pt x="5116" y="359"/>
                  </a:lnTo>
                  <a:lnTo>
                    <a:pt x="5097" y="364"/>
                  </a:lnTo>
                  <a:lnTo>
                    <a:pt x="5087" y="368"/>
                  </a:lnTo>
                  <a:lnTo>
                    <a:pt x="5068" y="373"/>
                  </a:lnTo>
                  <a:lnTo>
                    <a:pt x="5068" y="425"/>
                  </a:lnTo>
                  <a:lnTo>
                    <a:pt x="5068" y="478"/>
                  </a:lnTo>
                  <a:lnTo>
                    <a:pt x="5068" y="535"/>
                  </a:lnTo>
                  <a:lnTo>
                    <a:pt x="5068" y="596"/>
                  </a:lnTo>
                  <a:lnTo>
                    <a:pt x="5078" y="653"/>
                  </a:lnTo>
                  <a:lnTo>
                    <a:pt x="5097" y="706"/>
                  </a:lnTo>
                  <a:lnTo>
                    <a:pt x="5126" y="758"/>
                  </a:lnTo>
                  <a:lnTo>
                    <a:pt x="5164" y="802"/>
                  </a:lnTo>
                  <a:lnTo>
                    <a:pt x="5145" y="811"/>
                  </a:lnTo>
                  <a:lnTo>
                    <a:pt x="5126" y="815"/>
                  </a:lnTo>
                  <a:lnTo>
                    <a:pt x="5106" y="824"/>
                  </a:lnTo>
                  <a:lnTo>
                    <a:pt x="5087" y="833"/>
                  </a:lnTo>
                  <a:lnTo>
                    <a:pt x="5059" y="837"/>
                  </a:lnTo>
                  <a:lnTo>
                    <a:pt x="5040" y="846"/>
                  </a:lnTo>
                  <a:lnTo>
                    <a:pt x="5021" y="855"/>
                  </a:lnTo>
                  <a:lnTo>
                    <a:pt x="5011" y="859"/>
                  </a:lnTo>
                  <a:lnTo>
                    <a:pt x="5049" y="881"/>
                  </a:lnTo>
                  <a:lnTo>
                    <a:pt x="5087" y="903"/>
                  </a:lnTo>
                  <a:lnTo>
                    <a:pt x="5106" y="929"/>
                  </a:lnTo>
                  <a:lnTo>
                    <a:pt x="5135" y="956"/>
                  </a:lnTo>
                  <a:lnTo>
                    <a:pt x="5145" y="986"/>
                  </a:lnTo>
                  <a:lnTo>
                    <a:pt x="5154" y="1017"/>
                  </a:lnTo>
                  <a:lnTo>
                    <a:pt x="5154" y="1043"/>
                  </a:lnTo>
                  <a:lnTo>
                    <a:pt x="5154" y="1074"/>
                  </a:lnTo>
                  <a:lnTo>
                    <a:pt x="5145" y="1105"/>
                  </a:lnTo>
                  <a:lnTo>
                    <a:pt x="5145" y="1135"/>
                  </a:lnTo>
                  <a:lnTo>
                    <a:pt x="5135" y="1166"/>
                  </a:lnTo>
                  <a:lnTo>
                    <a:pt x="5116" y="1197"/>
                  </a:lnTo>
                  <a:lnTo>
                    <a:pt x="5106" y="1223"/>
                  </a:lnTo>
                  <a:lnTo>
                    <a:pt x="5097" y="1254"/>
                  </a:lnTo>
                  <a:lnTo>
                    <a:pt x="5078" y="1280"/>
                  </a:lnTo>
                  <a:lnTo>
                    <a:pt x="5068" y="1302"/>
                  </a:lnTo>
                  <a:lnTo>
                    <a:pt x="5049" y="1385"/>
                  </a:lnTo>
                  <a:lnTo>
                    <a:pt x="5040" y="1473"/>
                  </a:lnTo>
                  <a:lnTo>
                    <a:pt x="5040" y="1565"/>
                  </a:lnTo>
                  <a:lnTo>
                    <a:pt x="5049" y="1657"/>
                  </a:lnTo>
                  <a:lnTo>
                    <a:pt x="5068" y="1749"/>
                  </a:lnTo>
                  <a:lnTo>
                    <a:pt x="5087" y="1841"/>
                  </a:lnTo>
                  <a:lnTo>
                    <a:pt x="5097" y="1929"/>
                  </a:lnTo>
                  <a:lnTo>
                    <a:pt x="5097" y="2008"/>
                  </a:lnTo>
                  <a:lnTo>
                    <a:pt x="4916" y="2091"/>
                  </a:lnTo>
                  <a:lnTo>
                    <a:pt x="4916" y="2104"/>
                  </a:lnTo>
                  <a:lnTo>
                    <a:pt x="4906" y="2113"/>
                  </a:lnTo>
                  <a:lnTo>
                    <a:pt x="4906" y="2122"/>
                  </a:lnTo>
                  <a:lnTo>
                    <a:pt x="4906" y="2131"/>
                  </a:lnTo>
                  <a:lnTo>
                    <a:pt x="4916" y="2139"/>
                  </a:lnTo>
                  <a:lnTo>
                    <a:pt x="4925" y="2144"/>
                  </a:lnTo>
                  <a:lnTo>
                    <a:pt x="4935" y="2148"/>
                  </a:lnTo>
                  <a:lnTo>
                    <a:pt x="4944" y="2148"/>
                  </a:lnTo>
                  <a:lnTo>
                    <a:pt x="4963" y="2148"/>
                  </a:lnTo>
                  <a:lnTo>
                    <a:pt x="4982" y="2148"/>
                  </a:lnTo>
                  <a:lnTo>
                    <a:pt x="4992" y="2148"/>
                  </a:lnTo>
                  <a:lnTo>
                    <a:pt x="5011" y="2148"/>
                  </a:lnTo>
                  <a:lnTo>
                    <a:pt x="5021" y="2148"/>
                  </a:lnTo>
                  <a:lnTo>
                    <a:pt x="5040" y="2148"/>
                  </a:lnTo>
                  <a:lnTo>
                    <a:pt x="5049" y="2148"/>
                  </a:lnTo>
                  <a:lnTo>
                    <a:pt x="5068" y="2152"/>
                  </a:lnTo>
                  <a:lnTo>
                    <a:pt x="5078" y="2152"/>
                  </a:lnTo>
                  <a:lnTo>
                    <a:pt x="5087" y="2152"/>
                  </a:lnTo>
                  <a:lnTo>
                    <a:pt x="5097" y="2152"/>
                  </a:lnTo>
                  <a:lnTo>
                    <a:pt x="5106" y="2157"/>
                  </a:lnTo>
                  <a:lnTo>
                    <a:pt x="5116" y="2157"/>
                  </a:lnTo>
                  <a:lnTo>
                    <a:pt x="5126" y="2157"/>
                  </a:lnTo>
                  <a:lnTo>
                    <a:pt x="5126" y="2161"/>
                  </a:lnTo>
                  <a:lnTo>
                    <a:pt x="5135" y="2161"/>
                  </a:lnTo>
                  <a:lnTo>
                    <a:pt x="5097" y="2236"/>
                  </a:lnTo>
                  <a:lnTo>
                    <a:pt x="5078" y="2323"/>
                  </a:lnTo>
                  <a:lnTo>
                    <a:pt x="5078" y="2424"/>
                  </a:lnTo>
                  <a:lnTo>
                    <a:pt x="5078" y="2534"/>
                  </a:lnTo>
                  <a:lnTo>
                    <a:pt x="5078" y="2648"/>
                  </a:lnTo>
                  <a:lnTo>
                    <a:pt x="5087" y="2762"/>
                  </a:lnTo>
                  <a:lnTo>
                    <a:pt x="5097" y="2871"/>
                  </a:lnTo>
                  <a:lnTo>
                    <a:pt x="5097" y="2972"/>
                  </a:lnTo>
                  <a:lnTo>
                    <a:pt x="5078" y="2977"/>
                  </a:lnTo>
                  <a:lnTo>
                    <a:pt x="5068" y="2981"/>
                  </a:lnTo>
                  <a:lnTo>
                    <a:pt x="5049" y="2985"/>
                  </a:lnTo>
                  <a:lnTo>
                    <a:pt x="5030" y="2990"/>
                  </a:lnTo>
                  <a:lnTo>
                    <a:pt x="5011" y="2990"/>
                  </a:lnTo>
                  <a:lnTo>
                    <a:pt x="4992" y="2994"/>
                  </a:lnTo>
                  <a:lnTo>
                    <a:pt x="4973" y="2994"/>
                  </a:lnTo>
                  <a:lnTo>
                    <a:pt x="4954" y="2994"/>
                  </a:lnTo>
                  <a:lnTo>
                    <a:pt x="4925" y="2998"/>
                  </a:lnTo>
                  <a:lnTo>
                    <a:pt x="4906" y="2998"/>
                  </a:lnTo>
                  <a:lnTo>
                    <a:pt x="4887" y="2998"/>
                  </a:lnTo>
                  <a:lnTo>
                    <a:pt x="4858" y="3003"/>
                  </a:lnTo>
                  <a:lnTo>
                    <a:pt x="4839" y="3003"/>
                  </a:lnTo>
                  <a:lnTo>
                    <a:pt x="4811" y="3003"/>
                  </a:lnTo>
                  <a:lnTo>
                    <a:pt x="4782" y="3007"/>
                  </a:lnTo>
                  <a:lnTo>
                    <a:pt x="4763" y="3007"/>
                  </a:lnTo>
                  <a:lnTo>
                    <a:pt x="4744" y="3003"/>
                  </a:lnTo>
                  <a:lnTo>
                    <a:pt x="4734" y="2998"/>
                  </a:lnTo>
                  <a:lnTo>
                    <a:pt x="4725" y="2998"/>
                  </a:lnTo>
                  <a:lnTo>
                    <a:pt x="4706" y="2994"/>
                  </a:lnTo>
                  <a:lnTo>
                    <a:pt x="4696" y="2990"/>
                  </a:lnTo>
                  <a:lnTo>
                    <a:pt x="4686" y="2990"/>
                  </a:lnTo>
                  <a:lnTo>
                    <a:pt x="4667" y="2985"/>
                  </a:lnTo>
                  <a:lnTo>
                    <a:pt x="4658" y="2985"/>
                  </a:lnTo>
                  <a:lnTo>
                    <a:pt x="4639" y="2985"/>
                  </a:lnTo>
                  <a:lnTo>
                    <a:pt x="4629" y="2981"/>
                  </a:lnTo>
                  <a:lnTo>
                    <a:pt x="4620" y="2981"/>
                  </a:lnTo>
                  <a:lnTo>
                    <a:pt x="4601" y="2977"/>
                  </a:lnTo>
                  <a:lnTo>
                    <a:pt x="4591" y="2977"/>
                  </a:lnTo>
                  <a:lnTo>
                    <a:pt x="4581" y="2972"/>
                  </a:lnTo>
                  <a:lnTo>
                    <a:pt x="4572" y="2968"/>
                  </a:lnTo>
                  <a:lnTo>
                    <a:pt x="4562" y="2968"/>
                  </a:lnTo>
                  <a:lnTo>
                    <a:pt x="4534" y="2968"/>
                  </a:lnTo>
                  <a:lnTo>
                    <a:pt x="4505" y="2972"/>
                  </a:lnTo>
                  <a:lnTo>
                    <a:pt x="4476" y="2972"/>
                  </a:lnTo>
                  <a:lnTo>
                    <a:pt x="4457" y="2977"/>
                  </a:lnTo>
                  <a:lnTo>
                    <a:pt x="4429" y="2977"/>
                  </a:lnTo>
                  <a:lnTo>
                    <a:pt x="4410" y="2981"/>
                  </a:lnTo>
                  <a:lnTo>
                    <a:pt x="4391" y="2981"/>
                  </a:lnTo>
                  <a:lnTo>
                    <a:pt x="4371" y="2985"/>
                  </a:lnTo>
                  <a:lnTo>
                    <a:pt x="4352" y="2985"/>
                  </a:lnTo>
                  <a:lnTo>
                    <a:pt x="4333" y="2990"/>
                  </a:lnTo>
                  <a:lnTo>
                    <a:pt x="4314" y="2994"/>
                  </a:lnTo>
                  <a:lnTo>
                    <a:pt x="4295" y="2998"/>
                  </a:lnTo>
                  <a:lnTo>
                    <a:pt x="4276" y="3003"/>
                  </a:lnTo>
                  <a:lnTo>
                    <a:pt x="4257" y="3012"/>
                  </a:lnTo>
                  <a:lnTo>
                    <a:pt x="4238" y="3020"/>
                  </a:lnTo>
                  <a:lnTo>
                    <a:pt x="4209" y="3029"/>
                  </a:lnTo>
                  <a:lnTo>
                    <a:pt x="4190" y="3025"/>
                  </a:lnTo>
                  <a:lnTo>
                    <a:pt x="4162" y="3025"/>
                  </a:lnTo>
                  <a:lnTo>
                    <a:pt x="4142" y="3025"/>
                  </a:lnTo>
                  <a:lnTo>
                    <a:pt x="4114" y="3025"/>
                  </a:lnTo>
                  <a:lnTo>
                    <a:pt x="4085" y="3025"/>
                  </a:lnTo>
                  <a:lnTo>
                    <a:pt x="4057" y="3025"/>
                  </a:lnTo>
                  <a:lnTo>
                    <a:pt x="4028" y="3025"/>
                  </a:lnTo>
                  <a:lnTo>
                    <a:pt x="3999" y="3025"/>
                  </a:lnTo>
                  <a:lnTo>
                    <a:pt x="3971" y="3025"/>
                  </a:lnTo>
                  <a:lnTo>
                    <a:pt x="3952" y="3025"/>
                  </a:lnTo>
                  <a:lnTo>
                    <a:pt x="3923" y="3025"/>
                  </a:lnTo>
                  <a:lnTo>
                    <a:pt x="3894" y="3025"/>
                  </a:lnTo>
                  <a:lnTo>
                    <a:pt x="3866" y="3025"/>
                  </a:lnTo>
                  <a:lnTo>
                    <a:pt x="3837" y="3029"/>
                  </a:lnTo>
                  <a:lnTo>
                    <a:pt x="3818" y="3029"/>
                  </a:lnTo>
                  <a:lnTo>
                    <a:pt x="3789" y="3029"/>
                  </a:lnTo>
                  <a:lnTo>
                    <a:pt x="3780" y="3025"/>
                  </a:lnTo>
                  <a:lnTo>
                    <a:pt x="3770" y="3020"/>
                  </a:lnTo>
                  <a:lnTo>
                    <a:pt x="3751" y="3016"/>
                  </a:lnTo>
                  <a:lnTo>
                    <a:pt x="3742" y="3012"/>
                  </a:lnTo>
                  <a:lnTo>
                    <a:pt x="3722" y="3007"/>
                  </a:lnTo>
                  <a:lnTo>
                    <a:pt x="3713" y="2998"/>
                  </a:lnTo>
                  <a:lnTo>
                    <a:pt x="3703" y="2998"/>
                  </a:lnTo>
                  <a:lnTo>
                    <a:pt x="3694" y="2994"/>
                  </a:lnTo>
                  <a:lnTo>
                    <a:pt x="3684" y="2998"/>
                  </a:lnTo>
                  <a:lnTo>
                    <a:pt x="3684" y="3003"/>
                  </a:lnTo>
                  <a:lnTo>
                    <a:pt x="3675" y="3007"/>
                  </a:lnTo>
                  <a:lnTo>
                    <a:pt x="3665" y="3012"/>
                  </a:lnTo>
                  <a:lnTo>
                    <a:pt x="3665" y="3016"/>
                  </a:lnTo>
                  <a:lnTo>
                    <a:pt x="3656" y="3020"/>
                  </a:lnTo>
                  <a:lnTo>
                    <a:pt x="3646" y="3025"/>
                  </a:lnTo>
                  <a:lnTo>
                    <a:pt x="3646" y="3029"/>
                  </a:lnTo>
                  <a:lnTo>
                    <a:pt x="3617" y="3029"/>
                  </a:lnTo>
                  <a:lnTo>
                    <a:pt x="3579" y="3029"/>
                  </a:lnTo>
                  <a:lnTo>
                    <a:pt x="3551" y="3029"/>
                  </a:lnTo>
                  <a:lnTo>
                    <a:pt x="3512" y="3034"/>
                  </a:lnTo>
                  <a:lnTo>
                    <a:pt x="3474" y="3034"/>
                  </a:lnTo>
                  <a:lnTo>
                    <a:pt x="3436" y="3038"/>
                  </a:lnTo>
                  <a:lnTo>
                    <a:pt x="3388" y="3038"/>
                  </a:lnTo>
                  <a:lnTo>
                    <a:pt x="3350" y="3038"/>
                  </a:lnTo>
                  <a:lnTo>
                    <a:pt x="3312" y="3042"/>
                  </a:lnTo>
                  <a:lnTo>
                    <a:pt x="3274" y="3042"/>
                  </a:lnTo>
                  <a:lnTo>
                    <a:pt x="3236" y="3042"/>
                  </a:lnTo>
                  <a:lnTo>
                    <a:pt x="3197" y="3042"/>
                  </a:lnTo>
                  <a:lnTo>
                    <a:pt x="3159" y="3042"/>
                  </a:lnTo>
                  <a:lnTo>
                    <a:pt x="3131" y="3038"/>
                  </a:lnTo>
                  <a:lnTo>
                    <a:pt x="3102" y="3038"/>
                  </a:lnTo>
                  <a:lnTo>
                    <a:pt x="3073" y="3034"/>
                  </a:lnTo>
                  <a:lnTo>
                    <a:pt x="3054" y="3029"/>
                  </a:lnTo>
                  <a:lnTo>
                    <a:pt x="3035" y="3025"/>
                  </a:lnTo>
                  <a:lnTo>
                    <a:pt x="3026" y="3020"/>
                  </a:lnTo>
                  <a:lnTo>
                    <a:pt x="3016" y="3016"/>
                  </a:lnTo>
                  <a:lnTo>
                    <a:pt x="2997" y="3012"/>
                  </a:lnTo>
                  <a:lnTo>
                    <a:pt x="2987" y="3003"/>
                  </a:lnTo>
                  <a:lnTo>
                    <a:pt x="2978" y="2998"/>
                  </a:lnTo>
                  <a:lnTo>
                    <a:pt x="2968" y="2990"/>
                  </a:lnTo>
                  <a:lnTo>
                    <a:pt x="2959" y="2985"/>
                  </a:lnTo>
                  <a:lnTo>
                    <a:pt x="2949" y="2981"/>
                  </a:lnTo>
                  <a:lnTo>
                    <a:pt x="2940" y="2977"/>
                  </a:lnTo>
                  <a:lnTo>
                    <a:pt x="2930" y="2972"/>
                  </a:lnTo>
                  <a:lnTo>
                    <a:pt x="2911" y="2968"/>
                  </a:lnTo>
                  <a:lnTo>
                    <a:pt x="2902" y="2963"/>
                  </a:lnTo>
                  <a:lnTo>
                    <a:pt x="2882" y="2963"/>
                  </a:lnTo>
                  <a:lnTo>
                    <a:pt x="2863" y="2963"/>
                  </a:lnTo>
                  <a:lnTo>
                    <a:pt x="2854" y="2959"/>
                  </a:lnTo>
                  <a:lnTo>
                    <a:pt x="2835" y="2959"/>
                  </a:lnTo>
                  <a:lnTo>
                    <a:pt x="2825" y="2959"/>
                  </a:lnTo>
                  <a:lnTo>
                    <a:pt x="2806" y="2959"/>
                  </a:lnTo>
                  <a:lnTo>
                    <a:pt x="2787" y="2959"/>
                  </a:lnTo>
                  <a:lnTo>
                    <a:pt x="2777" y="2959"/>
                  </a:lnTo>
                  <a:lnTo>
                    <a:pt x="2768" y="2959"/>
                  </a:lnTo>
                  <a:lnTo>
                    <a:pt x="2768" y="2963"/>
                  </a:lnTo>
                  <a:lnTo>
                    <a:pt x="2758" y="2968"/>
                  </a:lnTo>
                  <a:lnTo>
                    <a:pt x="2758" y="2977"/>
                  </a:lnTo>
                  <a:lnTo>
                    <a:pt x="2749" y="2981"/>
                  </a:lnTo>
                  <a:lnTo>
                    <a:pt x="2739" y="2990"/>
                  </a:lnTo>
                  <a:lnTo>
                    <a:pt x="2739" y="2998"/>
                  </a:lnTo>
                  <a:lnTo>
                    <a:pt x="2730" y="3003"/>
                  </a:lnTo>
                  <a:lnTo>
                    <a:pt x="2720" y="3007"/>
                  </a:lnTo>
                  <a:lnTo>
                    <a:pt x="2711" y="3012"/>
                  </a:lnTo>
                  <a:lnTo>
                    <a:pt x="2701" y="3016"/>
                  </a:lnTo>
                  <a:lnTo>
                    <a:pt x="2692" y="3020"/>
                  </a:lnTo>
                  <a:lnTo>
                    <a:pt x="2692" y="3020"/>
                  </a:lnTo>
                  <a:lnTo>
                    <a:pt x="2682" y="3025"/>
                  </a:lnTo>
                  <a:lnTo>
                    <a:pt x="2672" y="3025"/>
                  </a:lnTo>
                  <a:lnTo>
                    <a:pt x="2663" y="3029"/>
                  </a:lnTo>
                  <a:lnTo>
                    <a:pt x="2653" y="3034"/>
                  </a:lnTo>
                  <a:lnTo>
                    <a:pt x="2644" y="3034"/>
                  </a:lnTo>
                  <a:lnTo>
                    <a:pt x="2596" y="3034"/>
                  </a:lnTo>
                  <a:lnTo>
                    <a:pt x="2548" y="3034"/>
                  </a:lnTo>
                  <a:lnTo>
                    <a:pt x="2510" y="3034"/>
                  </a:lnTo>
                  <a:lnTo>
                    <a:pt x="2463" y="3034"/>
                  </a:lnTo>
                  <a:lnTo>
                    <a:pt x="2424" y="3034"/>
                  </a:lnTo>
                  <a:lnTo>
                    <a:pt x="2396" y="3034"/>
                  </a:lnTo>
                  <a:lnTo>
                    <a:pt x="2358" y="3034"/>
                  </a:lnTo>
                  <a:lnTo>
                    <a:pt x="2319" y="3034"/>
                  </a:lnTo>
                  <a:lnTo>
                    <a:pt x="2281" y="3034"/>
                  </a:lnTo>
                  <a:lnTo>
                    <a:pt x="2253" y="3038"/>
                  </a:lnTo>
                  <a:lnTo>
                    <a:pt x="2214" y="3038"/>
                  </a:lnTo>
                  <a:lnTo>
                    <a:pt x="2176" y="3038"/>
                  </a:lnTo>
                  <a:lnTo>
                    <a:pt x="2138" y="3042"/>
                  </a:lnTo>
                  <a:lnTo>
                    <a:pt x="2090" y="3047"/>
                  </a:lnTo>
                  <a:lnTo>
                    <a:pt x="2052" y="3051"/>
                  </a:lnTo>
                  <a:lnTo>
                    <a:pt x="2004" y="3051"/>
                  </a:lnTo>
                  <a:lnTo>
                    <a:pt x="1966" y="3055"/>
                  </a:lnTo>
                  <a:lnTo>
                    <a:pt x="1938" y="3060"/>
                  </a:lnTo>
                  <a:lnTo>
                    <a:pt x="1909" y="3064"/>
                  </a:lnTo>
                  <a:lnTo>
                    <a:pt x="1880" y="3064"/>
                  </a:lnTo>
                  <a:lnTo>
                    <a:pt x="1842" y="3069"/>
                  </a:lnTo>
                  <a:lnTo>
                    <a:pt x="1813" y="3069"/>
                  </a:lnTo>
                  <a:lnTo>
                    <a:pt x="1785" y="3073"/>
                  </a:lnTo>
                  <a:lnTo>
                    <a:pt x="1747" y="3073"/>
                  </a:lnTo>
                  <a:lnTo>
                    <a:pt x="1718" y="3077"/>
                  </a:lnTo>
                  <a:lnTo>
                    <a:pt x="1689" y="3077"/>
                  </a:lnTo>
                  <a:lnTo>
                    <a:pt x="1651" y="3077"/>
                  </a:lnTo>
                  <a:lnTo>
                    <a:pt x="1623" y="3077"/>
                  </a:lnTo>
                  <a:lnTo>
                    <a:pt x="1584" y="3082"/>
                  </a:lnTo>
                  <a:lnTo>
                    <a:pt x="1556" y="3082"/>
                  </a:lnTo>
                  <a:lnTo>
                    <a:pt x="1518" y="3082"/>
                  </a:lnTo>
                  <a:lnTo>
                    <a:pt x="1489" y="3082"/>
                  </a:lnTo>
                  <a:lnTo>
                    <a:pt x="1451" y="3082"/>
                  </a:lnTo>
                  <a:lnTo>
                    <a:pt x="1422" y="3082"/>
                  </a:lnTo>
                  <a:lnTo>
                    <a:pt x="1384" y="3082"/>
                  </a:lnTo>
                  <a:lnTo>
                    <a:pt x="1355" y="3082"/>
                  </a:lnTo>
                  <a:lnTo>
                    <a:pt x="1327" y="3077"/>
                  </a:lnTo>
                  <a:lnTo>
                    <a:pt x="1288" y="3077"/>
                  </a:lnTo>
                  <a:lnTo>
                    <a:pt x="1260" y="3077"/>
                  </a:lnTo>
                  <a:lnTo>
                    <a:pt x="1222" y="3077"/>
                  </a:lnTo>
                  <a:lnTo>
                    <a:pt x="1193" y="3073"/>
                  </a:lnTo>
                  <a:lnTo>
                    <a:pt x="1164" y="3073"/>
                  </a:lnTo>
                  <a:lnTo>
                    <a:pt x="1126" y="3069"/>
                  </a:lnTo>
                  <a:lnTo>
                    <a:pt x="1098" y="3069"/>
                  </a:lnTo>
                  <a:lnTo>
                    <a:pt x="1069" y="3064"/>
                  </a:lnTo>
                  <a:lnTo>
                    <a:pt x="1031" y="3064"/>
                  </a:lnTo>
                  <a:lnTo>
                    <a:pt x="1002" y="3060"/>
                  </a:lnTo>
                  <a:lnTo>
                    <a:pt x="973" y="3055"/>
                  </a:lnTo>
                  <a:lnTo>
                    <a:pt x="973" y="3051"/>
                  </a:lnTo>
                  <a:lnTo>
                    <a:pt x="973" y="3047"/>
                  </a:lnTo>
                  <a:lnTo>
                    <a:pt x="964" y="3042"/>
                  </a:lnTo>
                  <a:lnTo>
                    <a:pt x="954" y="3038"/>
                  </a:lnTo>
                  <a:lnTo>
                    <a:pt x="945" y="3034"/>
                  </a:lnTo>
                  <a:lnTo>
                    <a:pt x="935" y="3025"/>
                  </a:lnTo>
                  <a:lnTo>
                    <a:pt x="926" y="3020"/>
                  </a:lnTo>
                  <a:lnTo>
                    <a:pt x="926" y="3012"/>
                  </a:lnTo>
                  <a:lnTo>
                    <a:pt x="878" y="3012"/>
                  </a:lnTo>
                  <a:lnTo>
                    <a:pt x="830" y="3012"/>
                  </a:lnTo>
                  <a:lnTo>
                    <a:pt x="792" y="3016"/>
                  </a:lnTo>
                  <a:lnTo>
                    <a:pt x="744" y="3016"/>
                  </a:lnTo>
                  <a:lnTo>
                    <a:pt x="697" y="3020"/>
                  </a:lnTo>
                  <a:lnTo>
                    <a:pt x="649" y="3020"/>
                  </a:lnTo>
                  <a:lnTo>
                    <a:pt x="601" y="3020"/>
                  </a:lnTo>
                  <a:lnTo>
                    <a:pt x="554" y="3020"/>
                  </a:lnTo>
                  <a:lnTo>
                    <a:pt x="515" y="3025"/>
                  </a:lnTo>
                  <a:lnTo>
                    <a:pt x="468" y="3020"/>
                  </a:lnTo>
                  <a:lnTo>
                    <a:pt x="420" y="3020"/>
                  </a:lnTo>
                  <a:lnTo>
                    <a:pt x="382" y="3016"/>
                  </a:lnTo>
                  <a:lnTo>
                    <a:pt x="334" y="3012"/>
                  </a:lnTo>
                  <a:lnTo>
                    <a:pt x="286" y="3007"/>
                  </a:lnTo>
                  <a:lnTo>
                    <a:pt x="248" y="2998"/>
                  </a:lnTo>
                  <a:lnTo>
                    <a:pt x="210" y="2985"/>
                  </a:lnTo>
                  <a:lnTo>
                    <a:pt x="191" y="2985"/>
                  </a:lnTo>
                  <a:lnTo>
                    <a:pt x="181" y="2985"/>
                  </a:lnTo>
                  <a:lnTo>
                    <a:pt x="162" y="2981"/>
                  </a:lnTo>
                  <a:lnTo>
                    <a:pt x="153" y="2981"/>
                  </a:lnTo>
                  <a:lnTo>
                    <a:pt x="134" y="2977"/>
                  </a:lnTo>
                  <a:lnTo>
                    <a:pt x="124" y="2977"/>
                  </a:lnTo>
                  <a:lnTo>
                    <a:pt x="114" y="2977"/>
                  </a:lnTo>
                  <a:lnTo>
                    <a:pt x="95" y="2977"/>
                  </a:lnTo>
                  <a:lnTo>
                    <a:pt x="95" y="2937"/>
                  </a:lnTo>
                  <a:lnTo>
                    <a:pt x="95" y="2880"/>
                  </a:lnTo>
                  <a:lnTo>
                    <a:pt x="95" y="2819"/>
                  </a:lnTo>
                  <a:lnTo>
                    <a:pt x="114" y="2779"/>
                  </a:lnTo>
                  <a:lnTo>
                    <a:pt x="114" y="2771"/>
                  </a:lnTo>
                  <a:lnTo>
                    <a:pt x="124" y="2762"/>
                  </a:lnTo>
                  <a:lnTo>
                    <a:pt x="134" y="2753"/>
                  </a:lnTo>
                  <a:lnTo>
                    <a:pt x="153" y="2749"/>
                  </a:lnTo>
                  <a:lnTo>
                    <a:pt x="162" y="2740"/>
                  </a:lnTo>
                  <a:lnTo>
                    <a:pt x="181" y="2735"/>
                  </a:lnTo>
                  <a:lnTo>
                    <a:pt x="200" y="2727"/>
                  </a:lnTo>
                  <a:lnTo>
                    <a:pt x="210" y="2722"/>
                  </a:lnTo>
                  <a:lnTo>
                    <a:pt x="210" y="2692"/>
                  </a:lnTo>
                  <a:lnTo>
                    <a:pt x="210" y="2661"/>
                  </a:lnTo>
                  <a:lnTo>
                    <a:pt x="219" y="2635"/>
                  </a:lnTo>
                  <a:lnTo>
                    <a:pt x="219" y="2604"/>
                  </a:lnTo>
                  <a:lnTo>
                    <a:pt x="229" y="2573"/>
                  </a:lnTo>
                  <a:lnTo>
                    <a:pt x="239" y="2547"/>
                  </a:lnTo>
                  <a:lnTo>
                    <a:pt x="248" y="2521"/>
                  </a:lnTo>
                  <a:lnTo>
                    <a:pt x="258" y="2490"/>
                  </a:lnTo>
                  <a:lnTo>
                    <a:pt x="258" y="2481"/>
                  </a:lnTo>
                  <a:lnTo>
                    <a:pt x="267" y="2464"/>
                  </a:lnTo>
                  <a:lnTo>
                    <a:pt x="277" y="2451"/>
                  </a:lnTo>
                  <a:lnTo>
                    <a:pt x="277" y="2433"/>
                  </a:lnTo>
                  <a:lnTo>
                    <a:pt x="286" y="2420"/>
                  </a:lnTo>
                  <a:lnTo>
                    <a:pt x="286" y="2407"/>
                  </a:lnTo>
                  <a:lnTo>
                    <a:pt x="286" y="2389"/>
                  </a:lnTo>
                  <a:lnTo>
                    <a:pt x="277" y="2380"/>
                  </a:lnTo>
                  <a:lnTo>
                    <a:pt x="267" y="2372"/>
                  </a:lnTo>
                  <a:lnTo>
                    <a:pt x="258" y="2363"/>
                  </a:lnTo>
                  <a:lnTo>
                    <a:pt x="248" y="2354"/>
                  </a:lnTo>
                  <a:lnTo>
                    <a:pt x="229" y="2345"/>
                  </a:lnTo>
                  <a:lnTo>
                    <a:pt x="219" y="2337"/>
                  </a:lnTo>
                  <a:lnTo>
                    <a:pt x="210" y="2328"/>
                  </a:lnTo>
                  <a:lnTo>
                    <a:pt x="200" y="2319"/>
                  </a:lnTo>
                  <a:lnTo>
                    <a:pt x="200" y="2306"/>
                  </a:lnTo>
                  <a:lnTo>
                    <a:pt x="191" y="2284"/>
                  </a:lnTo>
                  <a:lnTo>
                    <a:pt x="191" y="2262"/>
                  </a:lnTo>
                  <a:lnTo>
                    <a:pt x="191" y="2240"/>
                  </a:lnTo>
                  <a:lnTo>
                    <a:pt x="200" y="2218"/>
                  </a:lnTo>
                  <a:lnTo>
                    <a:pt x="210" y="2196"/>
                  </a:lnTo>
                  <a:lnTo>
                    <a:pt x="219" y="2174"/>
                  </a:lnTo>
                  <a:lnTo>
                    <a:pt x="229" y="2157"/>
                  </a:lnTo>
                  <a:lnTo>
                    <a:pt x="229" y="2135"/>
                  </a:lnTo>
                  <a:lnTo>
                    <a:pt x="229" y="2131"/>
                  </a:lnTo>
                  <a:lnTo>
                    <a:pt x="219" y="2131"/>
                  </a:lnTo>
                  <a:lnTo>
                    <a:pt x="210" y="2126"/>
                  </a:lnTo>
                  <a:lnTo>
                    <a:pt x="200" y="2122"/>
                  </a:lnTo>
                  <a:lnTo>
                    <a:pt x="191" y="2122"/>
                  </a:lnTo>
                  <a:lnTo>
                    <a:pt x="181" y="2117"/>
                  </a:lnTo>
                  <a:lnTo>
                    <a:pt x="172" y="2117"/>
                  </a:lnTo>
                  <a:lnTo>
                    <a:pt x="162" y="2113"/>
                  </a:lnTo>
                  <a:lnTo>
                    <a:pt x="162" y="2082"/>
                  </a:lnTo>
                  <a:lnTo>
                    <a:pt x="286" y="2043"/>
                  </a:lnTo>
                  <a:lnTo>
                    <a:pt x="277" y="2030"/>
                  </a:lnTo>
                  <a:lnTo>
                    <a:pt x="267" y="2021"/>
                  </a:lnTo>
                  <a:lnTo>
                    <a:pt x="248" y="2012"/>
                  </a:lnTo>
                  <a:lnTo>
                    <a:pt x="229" y="2003"/>
                  </a:lnTo>
                  <a:lnTo>
                    <a:pt x="200" y="1995"/>
                  </a:lnTo>
                  <a:lnTo>
                    <a:pt x="181" y="1981"/>
                  </a:lnTo>
                  <a:lnTo>
                    <a:pt x="172" y="1968"/>
                  </a:lnTo>
                  <a:lnTo>
                    <a:pt x="181" y="1955"/>
                  </a:lnTo>
                  <a:close/>
                </a:path>
              </a:pathLst>
            </a:custGeom>
            <a:solidFill>
              <a:srgbClr val="fff7c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040400" y="1889280"/>
              <a:ext cx="8068320" cy="4892400"/>
            </a:xfrm>
            <a:custGeom>
              <a:avLst/>
              <a:gdLst/>
              <a:ahLst/>
              <a:rect l="l" t="t" r="r" b="b"/>
              <a:pathLst>
                <a:path w="5221" h="3082">
                  <a:moveTo>
                    <a:pt x="181" y="1955"/>
                  </a:moveTo>
                  <a:lnTo>
                    <a:pt x="181" y="1583"/>
                  </a:lnTo>
                  <a:lnTo>
                    <a:pt x="191" y="1578"/>
                  </a:lnTo>
                  <a:lnTo>
                    <a:pt x="210" y="1569"/>
                  </a:lnTo>
                  <a:lnTo>
                    <a:pt x="229" y="1565"/>
                  </a:lnTo>
                  <a:lnTo>
                    <a:pt x="248" y="1556"/>
                  </a:lnTo>
                  <a:lnTo>
                    <a:pt x="277" y="1552"/>
                  </a:lnTo>
                  <a:lnTo>
                    <a:pt x="296" y="1547"/>
                  </a:lnTo>
                  <a:lnTo>
                    <a:pt x="315" y="1543"/>
                  </a:lnTo>
                  <a:lnTo>
                    <a:pt x="324" y="1539"/>
                  </a:lnTo>
                  <a:lnTo>
                    <a:pt x="315" y="1539"/>
                  </a:lnTo>
                  <a:lnTo>
                    <a:pt x="296" y="1539"/>
                  </a:lnTo>
                  <a:lnTo>
                    <a:pt x="286" y="1534"/>
                  </a:lnTo>
                  <a:lnTo>
                    <a:pt x="267" y="1534"/>
                  </a:lnTo>
                  <a:lnTo>
                    <a:pt x="258" y="1534"/>
                  </a:lnTo>
                  <a:lnTo>
                    <a:pt x="239" y="1530"/>
                  </a:lnTo>
                  <a:lnTo>
                    <a:pt x="229" y="1530"/>
                  </a:lnTo>
                  <a:lnTo>
                    <a:pt x="210" y="1530"/>
                  </a:lnTo>
                  <a:lnTo>
                    <a:pt x="200" y="1526"/>
                  </a:lnTo>
                  <a:lnTo>
                    <a:pt x="181" y="1526"/>
                  </a:lnTo>
                  <a:lnTo>
                    <a:pt x="172" y="1521"/>
                  </a:lnTo>
                  <a:lnTo>
                    <a:pt x="153" y="1517"/>
                  </a:lnTo>
                  <a:lnTo>
                    <a:pt x="143" y="1517"/>
                  </a:lnTo>
                  <a:lnTo>
                    <a:pt x="134" y="1512"/>
                  </a:lnTo>
                  <a:lnTo>
                    <a:pt x="124" y="1508"/>
                  </a:lnTo>
                  <a:lnTo>
                    <a:pt x="114" y="1508"/>
                  </a:lnTo>
                  <a:lnTo>
                    <a:pt x="114" y="1460"/>
                  </a:lnTo>
                  <a:lnTo>
                    <a:pt x="114" y="1412"/>
                  </a:lnTo>
                  <a:lnTo>
                    <a:pt x="105" y="1359"/>
                  </a:lnTo>
                  <a:lnTo>
                    <a:pt x="95" y="1320"/>
                  </a:lnTo>
                  <a:lnTo>
                    <a:pt x="76" y="1280"/>
                  </a:lnTo>
                  <a:lnTo>
                    <a:pt x="67" y="1241"/>
                  </a:lnTo>
                  <a:lnTo>
                    <a:pt x="67" y="1201"/>
                  </a:lnTo>
                  <a:lnTo>
                    <a:pt x="67" y="1157"/>
                  </a:lnTo>
                  <a:lnTo>
                    <a:pt x="67" y="1118"/>
                  </a:lnTo>
                  <a:lnTo>
                    <a:pt x="76" y="1078"/>
                  </a:lnTo>
                  <a:lnTo>
                    <a:pt x="86" y="1039"/>
                  </a:lnTo>
                  <a:lnTo>
                    <a:pt x="86" y="1004"/>
                  </a:lnTo>
                  <a:lnTo>
                    <a:pt x="95" y="964"/>
                  </a:lnTo>
                  <a:lnTo>
                    <a:pt x="105" y="925"/>
                  </a:lnTo>
                  <a:lnTo>
                    <a:pt x="105" y="886"/>
                  </a:lnTo>
                  <a:lnTo>
                    <a:pt x="105" y="846"/>
                  </a:lnTo>
                  <a:lnTo>
                    <a:pt x="105" y="807"/>
                  </a:lnTo>
                  <a:lnTo>
                    <a:pt x="95" y="767"/>
                  </a:lnTo>
                  <a:lnTo>
                    <a:pt x="86" y="723"/>
                  </a:lnTo>
                  <a:lnTo>
                    <a:pt x="57" y="684"/>
                  </a:lnTo>
                  <a:lnTo>
                    <a:pt x="57" y="679"/>
                  </a:lnTo>
                  <a:lnTo>
                    <a:pt x="48" y="666"/>
                  </a:lnTo>
                  <a:lnTo>
                    <a:pt x="38" y="658"/>
                  </a:lnTo>
                  <a:lnTo>
                    <a:pt x="38" y="644"/>
                  </a:lnTo>
                  <a:lnTo>
                    <a:pt x="48" y="627"/>
                  </a:lnTo>
                  <a:lnTo>
                    <a:pt x="67" y="622"/>
                  </a:lnTo>
                  <a:lnTo>
                    <a:pt x="95" y="618"/>
                  </a:lnTo>
                  <a:lnTo>
                    <a:pt x="114" y="618"/>
                  </a:lnTo>
                  <a:lnTo>
                    <a:pt x="134" y="618"/>
                  </a:lnTo>
                  <a:lnTo>
                    <a:pt x="153" y="614"/>
                  </a:lnTo>
                  <a:lnTo>
                    <a:pt x="172" y="614"/>
                  </a:lnTo>
                  <a:lnTo>
                    <a:pt x="191" y="614"/>
                  </a:lnTo>
                  <a:lnTo>
                    <a:pt x="210" y="614"/>
                  </a:lnTo>
                  <a:lnTo>
                    <a:pt x="219" y="605"/>
                  </a:lnTo>
                  <a:lnTo>
                    <a:pt x="239" y="601"/>
                  </a:lnTo>
                  <a:lnTo>
                    <a:pt x="248" y="592"/>
                  </a:lnTo>
                  <a:lnTo>
                    <a:pt x="258" y="583"/>
                  </a:lnTo>
                  <a:lnTo>
                    <a:pt x="277" y="579"/>
                  </a:lnTo>
                  <a:lnTo>
                    <a:pt x="296" y="574"/>
                  </a:lnTo>
                  <a:lnTo>
                    <a:pt x="305" y="570"/>
                  </a:lnTo>
                  <a:lnTo>
                    <a:pt x="324" y="566"/>
                  </a:lnTo>
                  <a:lnTo>
                    <a:pt x="296" y="552"/>
                  </a:lnTo>
                  <a:lnTo>
                    <a:pt x="181" y="552"/>
                  </a:lnTo>
                  <a:lnTo>
                    <a:pt x="162" y="544"/>
                  </a:lnTo>
                  <a:lnTo>
                    <a:pt x="134" y="539"/>
                  </a:lnTo>
                  <a:lnTo>
                    <a:pt x="114" y="530"/>
                  </a:lnTo>
                  <a:lnTo>
                    <a:pt x="86" y="526"/>
                  </a:lnTo>
                  <a:lnTo>
                    <a:pt x="67" y="522"/>
                  </a:lnTo>
                  <a:lnTo>
                    <a:pt x="38" y="513"/>
                  </a:lnTo>
                  <a:lnTo>
                    <a:pt x="19" y="509"/>
                  </a:lnTo>
                  <a:lnTo>
                    <a:pt x="0" y="500"/>
                  </a:lnTo>
                  <a:lnTo>
                    <a:pt x="29" y="460"/>
                  </a:lnTo>
                  <a:lnTo>
                    <a:pt x="38" y="421"/>
                  </a:lnTo>
                  <a:lnTo>
                    <a:pt x="38" y="377"/>
                  </a:lnTo>
                  <a:lnTo>
                    <a:pt x="29" y="333"/>
                  </a:lnTo>
                  <a:lnTo>
                    <a:pt x="19" y="285"/>
                  </a:lnTo>
                  <a:lnTo>
                    <a:pt x="9" y="241"/>
                  </a:lnTo>
                  <a:lnTo>
                    <a:pt x="0" y="197"/>
                  </a:lnTo>
                  <a:lnTo>
                    <a:pt x="0" y="158"/>
                  </a:lnTo>
                  <a:lnTo>
                    <a:pt x="19" y="158"/>
                  </a:lnTo>
                  <a:lnTo>
                    <a:pt x="29" y="158"/>
                  </a:lnTo>
                  <a:lnTo>
                    <a:pt x="48" y="158"/>
                  </a:lnTo>
                  <a:lnTo>
                    <a:pt x="67" y="153"/>
                  </a:lnTo>
                  <a:lnTo>
                    <a:pt x="86" y="153"/>
                  </a:lnTo>
                  <a:lnTo>
                    <a:pt x="105" y="153"/>
                  </a:lnTo>
                  <a:lnTo>
                    <a:pt x="124" y="149"/>
                  </a:lnTo>
                  <a:lnTo>
                    <a:pt x="143" y="149"/>
                  </a:lnTo>
                  <a:lnTo>
                    <a:pt x="162" y="145"/>
                  </a:lnTo>
                  <a:lnTo>
                    <a:pt x="181" y="136"/>
                  </a:lnTo>
                  <a:lnTo>
                    <a:pt x="191" y="132"/>
                  </a:lnTo>
                  <a:lnTo>
                    <a:pt x="210" y="127"/>
                  </a:lnTo>
                  <a:lnTo>
                    <a:pt x="229" y="123"/>
                  </a:lnTo>
                  <a:lnTo>
                    <a:pt x="248" y="114"/>
                  </a:lnTo>
                  <a:lnTo>
                    <a:pt x="258" y="110"/>
                  </a:lnTo>
                  <a:lnTo>
                    <a:pt x="277" y="105"/>
                  </a:lnTo>
                  <a:lnTo>
                    <a:pt x="296" y="101"/>
                  </a:lnTo>
                  <a:lnTo>
                    <a:pt x="305" y="92"/>
                  </a:lnTo>
                  <a:lnTo>
                    <a:pt x="315" y="88"/>
                  </a:lnTo>
                  <a:lnTo>
                    <a:pt x="334" y="79"/>
                  </a:lnTo>
                  <a:lnTo>
                    <a:pt x="344" y="70"/>
                  </a:lnTo>
                  <a:lnTo>
                    <a:pt x="353" y="61"/>
                  </a:lnTo>
                  <a:lnTo>
                    <a:pt x="353" y="48"/>
                  </a:lnTo>
                  <a:lnTo>
                    <a:pt x="363" y="35"/>
                  </a:lnTo>
                  <a:lnTo>
                    <a:pt x="391" y="35"/>
                  </a:lnTo>
                  <a:lnTo>
                    <a:pt x="429" y="31"/>
                  </a:lnTo>
                  <a:lnTo>
                    <a:pt x="468" y="31"/>
                  </a:lnTo>
                  <a:lnTo>
                    <a:pt x="506" y="26"/>
                  </a:lnTo>
                  <a:lnTo>
                    <a:pt x="544" y="26"/>
                  </a:lnTo>
                  <a:lnTo>
                    <a:pt x="592" y="22"/>
                  </a:lnTo>
                  <a:lnTo>
                    <a:pt x="630" y="18"/>
                  </a:lnTo>
                  <a:lnTo>
                    <a:pt x="668" y="13"/>
                  </a:lnTo>
                  <a:lnTo>
                    <a:pt x="716" y="13"/>
                  </a:lnTo>
                  <a:lnTo>
                    <a:pt x="754" y="9"/>
                  </a:lnTo>
                  <a:lnTo>
                    <a:pt x="792" y="9"/>
                  </a:lnTo>
                  <a:lnTo>
                    <a:pt x="840" y="4"/>
                  </a:lnTo>
                  <a:lnTo>
                    <a:pt x="878" y="4"/>
                  </a:lnTo>
                  <a:lnTo>
                    <a:pt x="916" y="0"/>
                  </a:lnTo>
                  <a:lnTo>
                    <a:pt x="964" y="0"/>
                  </a:lnTo>
                  <a:lnTo>
                    <a:pt x="1002" y="0"/>
                  </a:lnTo>
                  <a:lnTo>
                    <a:pt x="1002" y="57"/>
                  </a:lnTo>
                  <a:lnTo>
                    <a:pt x="1117" y="110"/>
                  </a:lnTo>
                  <a:lnTo>
                    <a:pt x="1126" y="101"/>
                  </a:lnTo>
                  <a:lnTo>
                    <a:pt x="1126" y="88"/>
                  </a:lnTo>
                  <a:lnTo>
                    <a:pt x="1136" y="75"/>
                  </a:lnTo>
                  <a:lnTo>
                    <a:pt x="1155" y="66"/>
                  </a:lnTo>
                  <a:lnTo>
                    <a:pt x="1164" y="53"/>
                  </a:lnTo>
                  <a:lnTo>
                    <a:pt x="1174" y="44"/>
                  </a:lnTo>
                  <a:lnTo>
                    <a:pt x="1183" y="35"/>
                  </a:lnTo>
                  <a:lnTo>
                    <a:pt x="1183" y="26"/>
                  </a:lnTo>
                  <a:lnTo>
                    <a:pt x="1203" y="31"/>
                  </a:lnTo>
                  <a:lnTo>
                    <a:pt x="1231" y="31"/>
                  </a:lnTo>
                  <a:lnTo>
                    <a:pt x="1250" y="35"/>
                  </a:lnTo>
                  <a:lnTo>
                    <a:pt x="1279" y="35"/>
                  </a:lnTo>
                  <a:lnTo>
                    <a:pt x="1308" y="39"/>
                  </a:lnTo>
                  <a:lnTo>
                    <a:pt x="1327" y="39"/>
                  </a:lnTo>
                  <a:lnTo>
                    <a:pt x="1355" y="44"/>
                  </a:lnTo>
                  <a:lnTo>
                    <a:pt x="1384" y="44"/>
                  </a:lnTo>
                  <a:lnTo>
                    <a:pt x="1413" y="44"/>
                  </a:lnTo>
                  <a:lnTo>
                    <a:pt x="1441" y="48"/>
                  </a:lnTo>
                  <a:lnTo>
                    <a:pt x="1470" y="48"/>
                  </a:lnTo>
                  <a:lnTo>
                    <a:pt x="1498" y="48"/>
                  </a:lnTo>
                  <a:lnTo>
                    <a:pt x="1527" y="48"/>
                  </a:lnTo>
                  <a:lnTo>
                    <a:pt x="1565" y="53"/>
                  </a:lnTo>
                  <a:lnTo>
                    <a:pt x="1594" y="53"/>
                  </a:lnTo>
                  <a:lnTo>
                    <a:pt x="1623" y="53"/>
                  </a:lnTo>
                  <a:lnTo>
                    <a:pt x="1651" y="53"/>
                  </a:lnTo>
                  <a:lnTo>
                    <a:pt x="1680" y="53"/>
                  </a:lnTo>
                  <a:lnTo>
                    <a:pt x="1718" y="53"/>
                  </a:lnTo>
                  <a:lnTo>
                    <a:pt x="1747" y="53"/>
                  </a:lnTo>
                  <a:lnTo>
                    <a:pt x="1775" y="53"/>
                  </a:lnTo>
                  <a:lnTo>
                    <a:pt x="1804" y="53"/>
                  </a:lnTo>
                  <a:lnTo>
                    <a:pt x="1833" y="53"/>
                  </a:lnTo>
                  <a:lnTo>
                    <a:pt x="1861" y="53"/>
                  </a:lnTo>
                  <a:lnTo>
                    <a:pt x="1890" y="53"/>
                  </a:lnTo>
                  <a:lnTo>
                    <a:pt x="1918" y="57"/>
                  </a:lnTo>
                  <a:lnTo>
                    <a:pt x="1947" y="57"/>
                  </a:lnTo>
                  <a:lnTo>
                    <a:pt x="1976" y="57"/>
                  </a:lnTo>
                  <a:lnTo>
                    <a:pt x="2004" y="57"/>
                  </a:lnTo>
                  <a:lnTo>
                    <a:pt x="2033" y="57"/>
                  </a:lnTo>
                  <a:lnTo>
                    <a:pt x="2062" y="57"/>
                  </a:lnTo>
                  <a:lnTo>
                    <a:pt x="2090" y="57"/>
                  </a:lnTo>
                  <a:lnTo>
                    <a:pt x="2148" y="83"/>
                  </a:lnTo>
                  <a:lnTo>
                    <a:pt x="2148" y="140"/>
                  </a:lnTo>
                  <a:lnTo>
                    <a:pt x="2186" y="132"/>
                  </a:lnTo>
                  <a:lnTo>
                    <a:pt x="2214" y="118"/>
                  </a:lnTo>
                  <a:lnTo>
                    <a:pt x="2233" y="110"/>
                  </a:lnTo>
                  <a:lnTo>
                    <a:pt x="2253" y="92"/>
                  </a:lnTo>
                  <a:lnTo>
                    <a:pt x="2272" y="83"/>
                  </a:lnTo>
                  <a:lnTo>
                    <a:pt x="2291" y="70"/>
                  </a:lnTo>
                  <a:lnTo>
                    <a:pt x="2310" y="61"/>
                  </a:lnTo>
                  <a:lnTo>
                    <a:pt x="2329" y="61"/>
                  </a:lnTo>
                  <a:lnTo>
                    <a:pt x="2367" y="61"/>
                  </a:lnTo>
                  <a:lnTo>
                    <a:pt x="2405" y="61"/>
                  </a:lnTo>
                  <a:lnTo>
                    <a:pt x="2443" y="66"/>
                  </a:lnTo>
                  <a:lnTo>
                    <a:pt x="2482" y="66"/>
                  </a:lnTo>
                  <a:lnTo>
                    <a:pt x="2520" y="66"/>
                  </a:lnTo>
                  <a:lnTo>
                    <a:pt x="2568" y="70"/>
                  </a:lnTo>
                  <a:lnTo>
                    <a:pt x="2606" y="70"/>
                  </a:lnTo>
                  <a:lnTo>
                    <a:pt x="2644" y="75"/>
                  </a:lnTo>
                  <a:lnTo>
                    <a:pt x="2692" y="79"/>
                  </a:lnTo>
                  <a:lnTo>
                    <a:pt x="2730" y="79"/>
                  </a:lnTo>
                  <a:lnTo>
                    <a:pt x="2768" y="83"/>
                  </a:lnTo>
                  <a:lnTo>
                    <a:pt x="2816" y="88"/>
                  </a:lnTo>
                  <a:lnTo>
                    <a:pt x="2854" y="88"/>
                  </a:lnTo>
                  <a:lnTo>
                    <a:pt x="2902" y="92"/>
                  </a:lnTo>
                  <a:lnTo>
                    <a:pt x="2940" y="92"/>
                  </a:lnTo>
                  <a:lnTo>
                    <a:pt x="2987" y="96"/>
                  </a:lnTo>
                  <a:lnTo>
                    <a:pt x="3035" y="96"/>
                  </a:lnTo>
                  <a:lnTo>
                    <a:pt x="3073" y="101"/>
                  </a:lnTo>
                  <a:lnTo>
                    <a:pt x="3121" y="101"/>
                  </a:lnTo>
                  <a:lnTo>
                    <a:pt x="3159" y="101"/>
                  </a:lnTo>
                  <a:lnTo>
                    <a:pt x="3207" y="101"/>
                  </a:lnTo>
                  <a:lnTo>
                    <a:pt x="3245" y="101"/>
                  </a:lnTo>
                  <a:lnTo>
                    <a:pt x="3293" y="101"/>
                  </a:lnTo>
                  <a:lnTo>
                    <a:pt x="3341" y="96"/>
                  </a:lnTo>
                  <a:lnTo>
                    <a:pt x="3379" y="96"/>
                  </a:lnTo>
                  <a:lnTo>
                    <a:pt x="3427" y="92"/>
                  </a:lnTo>
                  <a:lnTo>
                    <a:pt x="3465" y="88"/>
                  </a:lnTo>
                  <a:lnTo>
                    <a:pt x="3512" y="83"/>
                  </a:lnTo>
                  <a:lnTo>
                    <a:pt x="3560" y="79"/>
                  </a:lnTo>
                  <a:lnTo>
                    <a:pt x="3598" y="70"/>
                  </a:lnTo>
                  <a:lnTo>
                    <a:pt x="3637" y="66"/>
                  </a:lnTo>
                  <a:lnTo>
                    <a:pt x="3684" y="57"/>
                  </a:lnTo>
                  <a:lnTo>
                    <a:pt x="3694" y="53"/>
                  </a:lnTo>
                  <a:lnTo>
                    <a:pt x="3713" y="48"/>
                  </a:lnTo>
                  <a:lnTo>
                    <a:pt x="3722" y="48"/>
                  </a:lnTo>
                  <a:lnTo>
                    <a:pt x="3742" y="44"/>
                  </a:lnTo>
                  <a:lnTo>
                    <a:pt x="3751" y="44"/>
                  </a:lnTo>
                  <a:lnTo>
                    <a:pt x="3770" y="39"/>
                  </a:lnTo>
                  <a:lnTo>
                    <a:pt x="3789" y="39"/>
                  </a:lnTo>
                  <a:lnTo>
                    <a:pt x="3808" y="35"/>
                  </a:lnTo>
                  <a:lnTo>
                    <a:pt x="3827" y="35"/>
                  </a:lnTo>
                  <a:lnTo>
                    <a:pt x="3847" y="31"/>
                  </a:lnTo>
                  <a:lnTo>
                    <a:pt x="3866" y="31"/>
                  </a:lnTo>
                  <a:lnTo>
                    <a:pt x="3885" y="31"/>
                  </a:lnTo>
                  <a:lnTo>
                    <a:pt x="3904" y="31"/>
                  </a:lnTo>
                  <a:lnTo>
                    <a:pt x="3923" y="26"/>
                  </a:lnTo>
                  <a:lnTo>
                    <a:pt x="3942" y="26"/>
                  </a:lnTo>
                  <a:lnTo>
                    <a:pt x="3952" y="26"/>
                  </a:lnTo>
                  <a:lnTo>
                    <a:pt x="3971" y="31"/>
                  </a:lnTo>
                  <a:lnTo>
                    <a:pt x="3980" y="39"/>
                  </a:lnTo>
                  <a:lnTo>
                    <a:pt x="3990" y="44"/>
                  </a:lnTo>
                  <a:lnTo>
                    <a:pt x="3999" y="48"/>
                  </a:lnTo>
                  <a:lnTo>
                    <a:pt x="3999" y="57"/>
                  </a:lnTo>
                  <a:lnTo>
                    <a:pt x="4009" y="66"/>
                  </a:lnTo>
                  <a:lnTo>
                    <a:pt x="4009" y="75"/>
                  </a:lnTo>
                  <a:lnTo>
                    <a:pt x="4018" y="83"/>
                  </a:lnTo>
                  <a:lnTo>
                    <a:pt x="4037" y="83"/>
                  </a:lnTo>
                  <a:lnTo>
                    <a:pt x="4057" y="83"/>
                  </a:lnTo>
                  <a:lnTo>
                    <a:pt x="4076" y="88"/>
                  </a:lnTo>
                  <a:lnTo>
                    <a:pt x="4095" y="92"/>
                  </a:lnTo>
                  <a:lnTo>
                    <a:pt x="4104" y="92"/>
                  </a:lnTo>
                  <a:lnTo>
                    <a:pt x="4123" y="96"/>
                  </a:lnTo>
                  <a:lnTo>
                    <a:pt x="4142" y="96"/>
                  </a:lnTo>
                  <a:lnTo>
                    <a:pt x="4162" y="96"/>
                  </a:lnTo>
                  <a:lnTo>
                    <a:pt x="4286" y="39"/>
                  </a:lnTo>
                  <a:lnTo>
                    <a:pt x="4916" y="39"/>
                  </a:lnTo>
                  <a:lnTo>
                    <a:pt x="4916" y="48"/>
                  </a:lnTo>
                  <a:lnTo>
                    <a:pt x="4906" y="57"/>
                  </a:lnTo>
                  <a:lnTo>
                    <a:pt x="4896" y="66"/>
                  </a:lnTo>
                  <a:lnTo>
                    <a:pt x="4887" y="75"/>
                  </a:lnTo>
                  <a:lnTo>
                    <a:pt x="4877" y="88"/>
                  </a:lnTo>
                  <a:lnTo>
                    <a:pt x="4868" y="96"/>
                  </a:lnTo>
                  <a:lnTo>
                    <a:pt x="4858" y="105"/>
                  </a:lnTo>
                  <a:lnTo>
                    <a:pt x="4858" y="110"/>
                  </a:lnTo>
                  <a:lnTo>
                    <a:pt x="4868" y="118"/>
                  </a:lnTo>
                  <a:lnTo>
                    <a:pt x="4887" y="127"/>
                  </a:lnTo>
                  <a:lnTo>
                    <a:pt x="4906" y="132"/>
                  </a:lnTo>
                  <a:lnTo>
                    <a:pt x="4925" y="140"/>
                  </a:lnTo>
                  <a:lnTo>
                    <a:pt x="4954" y="145"/>
                  </a:lnTo>
                  <a:lnTo>
                    <a:pt x="4973" y="149"/>
                  </a:lnTo>
                  <a:lnTo>
                    <a:pt x="5001" y="158"/>
                  </a:lnTo>
                  <a:lnTo>
                    <a:pt x="5030" y="162"/>
                  </a:lnTo>
                  <a:lnTo>
                    <a:pt x="5059" y="167"/>
                  </a:lnTo>
                  <a:lnTo>
                    <a:pt x="5078" y="171"/>
                  </a:lnTo>
                  <a:lnTo>
                    <a:pt x="5106" y="171"/>
                  </a:lnTo>
                  <a:lnTo>
                    <a:pt x="5135" y="175"/>
                  </a:lnTo>
                  <a:lnTo>
                    <a:pt x="5164" y="175"/>
                  </a:lnTo>
                  <a:lnTo>
                    <a:pt x="5183" y="180"/>
                  </a:lnTo>
                  <a:lnTo>
                    <a:pt x="5202" y="180"/>
                  </a:lnTo>
                  <a:lnTo>
                    <a:pt x="5221" y="180"/>
                  </a:lnTo>
                  <a:lnTo>
                    <a:pt x="5221" y="215"/>
                  </a:lnTo>
                  <a:lnTo>
                    <a:pt x="5202" y="254"/>
                  </a:lnTo>
                  <a:lnTo>
                    <a:pt x="5192" y="298"/>
                  </a:lnTo>
                  <a:lnTo>
                    <a:pt x="5192" y="333"/>
                  </a:lnTo>
                  <a:lnTo>
                    <a:pt x="5183" y="338"/>
                  </a:lnTo>
                  <a:lnTo>
                    <a:pt x="5164" y="342"/>
                  </a:lnTo>
                  <a:lnTo>
                    <a:pt x="5145" y="346"/>
                  </a:lnTo>
                  <a:lnTo>
                    <a:pt x="5135" y="355"/>
                  </a:lnTo>
                  <a:lnTo>
                    <a:pt x="5116" y="359"/>
                  </a:lnTo>
                  <a:lnTo>
                    <a:pt x="5097" y="364"/>
                  </a:lnTo>
                  <a:lnTo>
                    <a:pt x="5087" y="368"/>
                  </a:lnTo>
                  <a:lnTo>
                    <a:pt x="5068" y="373"/>
                  </a:lnTo>
                  <a:lnTo>
                    <a:pt x="5068" y="425"/>
                  </a:lnTo>
                  <a:lnTo>
                    <a:pt x="5068" y="478"/>
                  </a:lnTo>
                  <a:lnTo>
                    <a:pt x="5068" y="535"/>
                  </a:lnTo>
                  <a:lnTo>
                    <a:pt x="5068" y="596"/>
                  </a:lnTo>
                  <a:lnTo>
                    <a:pt x="5078" y="653"/>
                  </a:lnTo>
                  <a:lnTo>
                    <a:pt x="5097" y="706"/>
                  </a:lnTo>
                  <a:lnTo>
                    <a:pt x="5126" y="758"/>
                  </a:lnTo>
                  <a:lnTo>
                    <a:pt x="5164" y="802"/>
                  </a:lnTo>
                  <a:lnTo>
                    <a:pt x="5145" y="811"/>
                  </a:lnTo>
                  <a:lnTo>
                    <a:pt x="5126" y="815"/>
                  </a:lnTo>
                  <a:lnTo>
                    <a:pt x="5106" y="824"/>
                  </a:lnTo>
                  <a:lnTo>
                    <a:pt x="5087" y="833"/>
                  </a:lnTo>
                  <a:lnTo>
                    <a:pt x="5059" y="837"/>
                  </a:lnTo>
                  <a:lnTo>
                    <a:pt x="5040" y="846"/>
                  </a:lnTo>
                  <a:lnTo>
                    <a:pt x="5021" y="855"/>
                  </a:lnTo>
                  <a:lnTo>
                    <a:pt x="5011" y="859"/>
                  </a:lnTo>
                  <a:lnTo>
                    <a:pt x="5049" y="881"/>
                  </a:lnTo>
                  <a:lnTo>
                    <a:pt x="5087" y="903"/>
                  </a:lnTo>
                  <a:lnTo>
                    <a:pt x="5106" y="929"/>
                  </a:lnTo>
                  <a:lnTo>
                    <a:pt x="5135" y="956"/>
                  </a:lnTo>
                  <a:lnTo>
                    <a:pt x="5145" y="986"/>
                  </a:lnTo>
                  <a:lnTo>
                    <a:pt x="5154" y="1017"/>
                  </a:lnTo>
                  <a:lnTo>
                    <a:pt x="5154" y="1043"/>
                  </a:lnTo>
                  <a:lnTo>
                    <a:pt x="5154" y="1074"/>
                  </a:lnTo>
                  <a:lnTo>
                    <a:pt x="5145" y="1105"/>
                  </a:lnTo>
                  <a:lnTo>
                    <a:pt x="5145" y="1135"/>
                  </a:lnTo>
                  <a:lnTo>
                    <a:pt x="5135" y="1166"/>
                  </a:lnTo>
                  <a:lnTo>
                    <a:pt x="5116" y="1197"/>
                  </a:lnTo>
                  <a:lnTo>
                    <a:pt x="5106" y="1223"/>
                  </a:lnTo>
                  <a:lnTo>
                    <a:pt x="5097" y="1254"/>
                  </a:lnTo>
                  <a:lnTo>
                    <a:pt x="5078" y="1280"/>
                  </a:lnTo>
                  <a:lnTo>
                    <a:pt x="5068" y="1302"/>
                  </a:lnTo>
                  <a:lnTo>
                    <a:pt x="5049" y="1385"/>
                  </a:lnTo>
                  <a:lnTo>
                    <a:pt x="5040" y="1473"/>
                  </a:lnTo>
                  <a:lnTo>
                    <a:pt x="5040" y="1565"/>
                  </a:lnTo>
                  <a:lnTo>
                    <a:pt x="5049" y="1657"/>
                  </a:lnTo>
                  <a:lnTo>
                    <a:pt x="5068" y="1749"/>
                  </a:lnTo>
                  <a:lnTo>
                    <a:pt x="5087" y="1841"/>
                  </a:lnTo>
                  <a:lnTo>
                    <a:pt x="5097" y="1929"/>
                  </a:lnTo>
                  <a:lnTo>
                    <a:pt x="5097" y="2008"/>
                  </a:lnTo>
                  <a:lnTo>
                    <a:pt x="4916" y="2091"/>
                  </a:lnTo>
                  <a:lnTo>
                    <a:pt x="4916" y="2104"/>
                  </a:lnTo>
                  <a:lnTo>
                    <a:pt x="4906" y="2113"/>
                  </a:lnTo>
                  <a:lnTo>
                    <a:pt x="4906" y="2122"/>
                  </a:lnTo>
                  <a:lnTo>
                    <a:pt x="4906" y="2131"/>
                  </a:lnTo>
                  <a:lnTo>
                    <a:pt x="4916" y="2139"/>
                  </a:lnTo>
                  <a:lnTo>
                    <a:pt x="4925" y="2144"/>
                  </a:lnTo>
                  <a:lnTo>
                    <a:pt x="4935" y="2148"/>
                  </a:lnTo>
                  <a:lnTo>
                    <a:pt x="4944" y="2148"/>
                  </a:lnTo>
                  <a:lnTo>
                    <a:pt x="4963" y="2148"/>
                  </a:lnTo>
                  <a:lnTo>
                    <a:pt x="4982" y="2148"/>
                  </a:lnTo>
                  <a:lnTo>
                    <a:pt x="4992" y="2148"/>
                  </a:lnTo>
                  <a:lnTo>
                    <a:pt x="5011" y="2148"/>
                  </a:lnTo>
                  <a:lnTo>
                    <a:pt x="5021" y="2148"/>
                  </a:lnTo>
                  <a:lnTo>
                    <a:pt x="5040" y="2148"/>
                  </a:lnTo>
                  <a:lnTo>
                    <a:pt x="5049" y="2148"/>
                  </a:lnTo>
                  <a:lnTo>
                    <a:pt x="5068" y="2152"/>
                  </a:lnTo>
                  <a:lnTo>
                    <a:pt x="5078" y="2152"/>
                  </a:lnTo>
                  <a:lnTo>
                    <a:pt x="5087" y="2152"/>
                  </a:lnTo>
                  <a:lnTo>
                    <a:pt x="5097" y="2152"/>
                  </a:lnTo>
                  <a:lnTo>
                    <a:pt x="5106" y="2157"/>
                  </a:lnTo>
                  <a:lnTo>
                    <a:pt x="5116" y="2157"/>
                  </a:lnTo>
                  <a:lnTo>
                    <a:pt x="5126" y="2157"/>
                  </a:lnTo>
                  <a:lnTo>
                    <a:pt x="5126" y="2161"/>
                  </a:lnTo>
                  <a:lnTo>
                    <a:pt x="5135" y="2161"/>
                  </a:lnTo>
                  <a:lnTo>
                    <a:pt x="5097" y="2236"/>
                  </a:lnTo>
                  <a:lnTo>
                    <a:pt x="5078" y="2323"/>
                  </a:lnTo>
                  <a:lnTo>
                    <a:pt x="5078" y="2424"/>
                  </a:lnTo>
                  <a:lnTo>
                    <a:pt x="5078" y="2534"/>
                  </a:lnTo>
                  <a:lnTo>
                    <a:pt x="5078" y="2648"/>
                  </a:lnTo>
                  <a:lnTo>
                    <a:pt x="5087" y="2762"/>
                  </a:lnTo>
                  <a:lnTo>
                    <a:pt x="5097" y="2871"/>
                  </a:lnTo>
                  <a:lnTo>
                    <a:pt x="5097" y="2972"/>
                  </a:lnTo>
                  <a:lnTo>
                    <a:pt x="5078" y="2977"/>
                  </a:lnTo>
                  <a:lnTo>
                    <a:pt x="5068" y="2981"/>
                  </a:lnTo>
                  <a:lnTo>
                    <a:pt x="5049" y="2985"/>
                  </a:lnTo>
                  <a:lnTo>
                    <a:pt x="5030" y="2990"/>
                  </a:lnTo>
                  <a:lnTo>
                    <a:pt x="5011" y="2990"/>
                  </a:lnTo>
                  <a:lnTo>
                    <a:pt x="4992" y="2994"/>
                  </a:lnTo>
                  <a:lnTo>
                    <a:pt x="4973" y="2994"/>
                  </a:lnTo>
                  <a:lnTo>
                    <a:pt x="4954" y="2994"/>
                  </a:lnTo>
                  <a:lnTo>
                    <a:pt x="4925" y="2998"/>
                  </a:lnTo>
                  <a:lnTo>
                    <a:pt x="4906" y="2998"/>
                  </a:lnTo>
                  <a:lnTo>
                    <a:pt x="4887" y="2998"/>
                  </a:lnTo>
                  <a:lnTo>
                    <a:pt x="4858" y="3003"/>
                  </a:lnTo>
                  <a:lnTo>
                    <a:pt x="4839" y="3003"/>
                  </a:lnTo>
                  <a:lnTo>
                    <a:pt x="4811" y="3003"/>
                  </a:lnTo>
                  <a:lnTo>
                    <a:pt x="4782" y="3007"/>
                  </a:lnTo>
                  <a:lnTo>
                    <a:pt x="4763" y="3007"/>
                  </a:lnTo>
                  <a:lnTo>
                    <a:pt x="4744" y="3003"/>
                  </a:lnTo>
                  <a:lnTo>
                    <a:pt x="4734" y="2998"/>
                  </a:lnTo>
                  <a:lnTo>
                    <a:pt x="4725" y="2998"/>
                  </a:lnTo>
                  <a:lnTo>
                    <a:pt x="4706" y="2994"/>
                  </a:lnTo>
                  <a:lnTo>
                    <a:pt x="4696" y="2990"/>
                  </a:lnTo>
                  <a:lnTo>
                    <a:pt x="4686" y="2990"/>
                  </a:lnTo>
                  <a:lnTo>
                    <a:pt x="4667" y="2985"/>
                  </a:lnTo>
                  <a:lnTo>
                    <a:pt x="4658" y="2985"/>
                  </a:lnTo>
                  <a:lnTo>
                    <a:pt x="4639" y="2985"/>
                  </a:lnTo>
                  <a:lnTo>
                    <a:pt x="4629" y="2981"/>
                  </a:lnTo>
                  <a:lnTo>
                    <a:pt x="4620" y="2981"/>
                  </a:lnTo>
                  <a:lnTo>
                    <a:pt x="4601" y="2977"/>
                  </a:lnTo>
                  <a:lnTo>
                    <a:pt x="4591" y="2977"/>
                  </a:lnTo>
                  <a:lnTo>
                    <a:pt x="4581" y="2972"/>
                  </a:lnTo>
                  <a:lnTo>
                    <a:pt x="4572" y="2968"/>
                  </a:lnTo>
                  <a:lnTo>
                    <a:pt x="4562" y="2968"/>
                  </a:lnTo>
                  <a:lnTo>
                    <a:pt x="4534" y="2968"/>
                  </a:lnTo>
                  <a:lnTo>
                    <a:pt x="4505" y="2972"/>
                  </a:lnTo>
                  <a:lnTo>
                    <a:pt x="4476" y="2972"/>
                  </a:lnTo>
                  <a:lnTo>
                    <a:pt x="4457" y="2977"/>
                  </a:lnTo>
                  <a:lnTo>
                    <a:pt x="4429" y="2977"/>
                  </a:lnTo>
                  <a:lnTo>
                    <a:pt x="4410" y="2981"/>
                  </a:lnTo>
                  <a:lnTo>
                    <a:pt x="4391" y="2981"/>
                  </a:lnTo>
                  <a:lnTo>
                    <a:pt x="4371" y="2985"/>
                  </a:lnTo>
                  <a:lnTo>
                    <a:pt x="4352" y="2985"/>
                  </a:lnTo>
                  <a:lnTo>
                    <a:pt x="4333" y="2990"/>
                  </a:lnTo>
                  <a:lnTo>
                    <a:pt x="4314" y="2994"/>
                  </a:lnTo>
                  <a:lnTo>
                    <a:pt x="4295" y="2998"/>
                  </a:lnTo>
                  <a:lnTo>
                    <a:pt x="4276" y="3003"/>
                  </a:lnTo>
                  <a:lnTo>
                    <a:pt x="4257" y="3012"/>
                  </a:lnTo>
                  <a:lnTo>
                    <a:pt x="4238" y="3020"/>
                  </a:lnTo>
                  <a:lnTo>
                    <a:pt x="4209" y="3029"/>
                  </a:lnTo>
                  <a:lnTo>
                    <a:pt x="4190" y="3025"/>
                  </a:lnTo>
                  <a:lnTo>
                    <a:pt x="4162" y="3025"/>
                  </a:lnTo>
                  <a:lnTo>
                    <a:pt x="4142" y="3025"/>
                  </a:lnTo>
                  <a:lnTo>
                    <a:pt x="4114" y="3025"/>
                  </a:lnTo>
                  <a:lnTo>
                    <a:pt x="4085" y="3025"/>
                  </a:lnTo>
                  <a:lnTo>
                    <a:pt x="4057" y="3025"/>
                  </a:lnTo>
                  <a:lnTo>
                    <a:pt x="4028" y="3025"/>
                  </a:lnTo>
                  <a:lnTo>
                    <a:pt x="3999" y="3025"/>
                  </a:lnTo>
                  <a:lnTo>
                    <a:pt x="3971" y="3025"/>
                  </a:lnTo>
                  <a:lnTo>
                    <a:pt x="3952" y="3025"/>
                  </a:lnTo>
                  <a:lnTo>
                    <a:pt x="3923" y="3025"/>
                  </a:lnTo>
                  <a:lnTo>
                    <a:pt x="3894" y="3025"/>
                  </a:lnTo>
                  <a:lnTo>
                    <a:pt x="3866" y="3025"/>
                  </a:lnTo>
                  <a:lnTo>
                    <a:pt x="3837" y="3029"/>
                  </a:lnTo>
                  <a:lnTo>
                    <a:pt x="3818" y="3029"/>
                  </a:lnTo>
                  <a:lnTo>
                    <a:pt x="3789" y="3029"/>
                  </a:lnTo>
                  <a:lnTo>
                    <a:pt x="3780" y="3025"/>
                  </a:lnTo>
                  <a:lnTo>
                    <a:pt x="3770" y="3020"/>
                  </a:lnTo>
                  <a:lnTo>
                    <a:pt x="3751" y="3016"/>
                  </a:lnTo>
                  <a:lnTo>
                    <a:pt x="3742" y="3012"/>
                  </a:lnTo>
                  <a:lnTo>
                    <a:pt x="3722" y="3007"/>
                  </a:lnTo>
                  <a:lnTo>
                    <a:pt x="3713" y="2998"/>
                  </a:lnTo>
                  <a:lnTo>
                    <a:pt x="3703" y="2998"/>
                  </a:lnTo>
                  <a:lnTo>
                    <a:pt x="3694" y="2994"/>
                  </a:lnTo>
                  <a:lnTo>
                    <a:pt x="3684" y="2998"/>
                  </a:lnTo>
                  <a:lnTo>
                    <a:pt x="3684" y="3003"/>
                  </a:lnTo>
                  <a:lnTo>
                    <a:pt x="3675" y="3007"/>
                  </a:lnTo>
                  <a:lnTo>
                    <a:pt x="3665" y="3012"/>
                  </a:lnTo>
                  <a:lnTo>
                    <a:pt x="3665" y="3016"/>
                  </a:lnTo>
                  <a:lnTo>
                    <a:pt x="3656" y="3020"/>
                  </a:lnTo>
                  <a:lnTo>
                    <a:pt x="3646" y="3025"/>
                  </a:lnTo>
                  <a:lnTo>
                    <a:pt x="3646" y="3029"/>
                  </a:lnTo>
                  <a:lnTo>
                    <a:pt x="3617" y="3029"/>
                  </a:lnTo>
                  <a:lnTo>
                    <a:pt x="3579" y="3029"/>
                  </a:lnTo>
                  <a:lnTo>
                    <a:pt x="3551" y="3029"/>
                  </a:lnTo>
                  <a:lnTo>
                    <a:pt x="3512" y="3034"/>
                  </a:lnTo>
                  <a:lnTo>
                    <a:pt x="3474" y="3034"/>
                  </a:lnTo>
                  <a:lnTo>
                    <a:pt x="3436" y="3038"/>
                  </a:lnTo>
                  <a:lnTo>
                    <a:pt x="3388" y="3038"/>
                  </a:lnTo>
                  <a:lnTo>
                    <a:pt x="3350" y="3038"/>
                  </a:lnTo>
                  <a:lnTo>
                    <a:pt x="3312" y="3042"/>
                  </a:lnTo>
                  <a:lnTo>
                    <a:pt x="3274" y="3042"/>
                  </a:lnTo>
                  <a:lnTo>
                    <a:pt x="3236" y="3042"/>
                  </a:lnTo>
                  <a:lnTo>
                    <a:pt x="3197" y="3042"/>
                  </a:lnTo>
                  <a:lnTo>
                    <a:pt x="3159" y="3042"/>
                  </a:lnTo>
                  <a:lnTo>
                    <a:pt x="3131" y="3038"/>
                  </a:lnTo>
                  <a:lnTo>
                    <a:pt x="3102" y="3038"/>
                  </a:lnTo>
                  <a:lnTo>
                    <a:pt x="3073" y="3034"/>
                  </a:lnTo>
                  <a:lnTo>
                    <a:pt x="3054" y="3029"/>
                  </a:lnTo>
                  <a:lnTo>
                    <a:pt x="3035" y="3025"/>
                  </a:lnTo>
                  <a:lnTo>
                    <a:pt x="3026" y="3020"/>
                  </a:lnTo>
                  <a:lnTo>
                    <a:pt x="3016" y="3016"/>
                  </a:lnTo>
                  <a:lnTo>
                    <a:pt x="2997" y="3012"/>
                  </a:lnTo>
                  <a:lnTo>
                    <a:pt x="2987" y="3003"/>
                  </a:lnTo>
                  <a:lnTo>
                    <a:pt x="2978" y="2998"/>
                  </a:lnTo>
                  <a:lnTo>
                    <a:pt x="2968" y="2990"/>
                  </a:lnTo>
                  <a:lnTo>
                    <a:pt x="2959" y="2985"/>
                  </a:lnTo>
                  <a:lnTo>
                    <a:pt x="2949" y="2981"/>
                  </a:lnTo>
                  <a:lnTo>
                    <a:pt x="2940" y="2977"/>
                  </a:lnTo>
                  <a:lnTo>
                    <a:pt x="2930" y="2972"/>
                  </a:lnTo>
                  <a:lnTo>
                    <a:pt x="2911" y="2968"/>
                  </a:lnTo>
                  <a:lnTo>
                    <a:pt x="2902" y="2963"/>
                  </a:lnTo>
                  <a:lnTo>
                    <a:pt x="2882" y="2963"/>
                  </a:lnTo>
                  <a:lnTo>
                    <a:pt x="2863" y="2963"/>
                  </a:lnTo>
                  <a:lnTo>
                    <a:pt x="2854" y="2959"/>
                  </a:lnTo>
                  <a:lnTo>
                    <a:pt x="2835" y="2959"/>
                  </a:lnTo>
                  <a:lnTo>
                    <a:pt x="2825" y="2959"/>
                  </a:lnTo>
                  <a:lnTo>
                    <a:pt x="2806" y="2959"/>
                  </a:lnTo>
                  <a:lnTo>
                    <a:pt x="2787" y="2959"/>
                  </a:lnTo>
                  <a:lnTo>
                    <a:pt x="2777" y="2959"/>
                  </a:lnTo>
                  <a:lnTo>
                    <a:pt x="2768" y="2959"/>
                  </a:lnTo>
                  <a:lnTo>
                    <a:pt x="2768" y="2963"/>
                  </a:lnTo>
                  <a:lnTo>
                    <a:pt x="2758" y="2968"/>
                  </a:lnTo>
                  <a:lnTo>
                    <a:pt x="2758" y="2977"/>
                  </a:lnTo>
                  <a:lnTo>
                    <a:pt x="2749" y="2981"/>
                  </a:lnTo>
                  <a:lnTo>
                    <a:pt x="2739" y="2990"/>
                  </a:lnTo>
                  <a:lnTo>
                    <a:pt x="2739" y="2998"/>
                  </a:lnTo>
                  <a:lnTo>
                    <a:pt x="2730" y="3003"/>
                  </a:lnTo>
                  <a:lnTo>
                    <a:pt x="2720" y="3007"/>
                  </a:lnTo>
                  <a:lnTo>
                    <a:pt x="2711" y="3012"/>
                  </a:lnTo>
                  <a:lnTo>
                    <a:pt x="2701" y="3016"/>
                  </a:lnTo>
                  <a:lnTo>
                    <a:pt x="2692" y="3020"/>
                  </a:lnTo>
                  <a:lnTo>
                    <a:pt x="2692" y="3020"/>
                  </a:lnTo>
                  <a:lnTo>
                    <a:pt x="2682" y="3025"/>
                  </a:lnTo>
                  <a:lnTo>
                    <a:pt x="2672" y="3025"/>
                  </a:lnTo>
                  <a:lnTo>
                    <a:pt x="2663" y="3029"/>
                  </a:lnTo>
                  <a:lnTo>
                    <a:pt x="2653" y="3034"/>
                  </a:lnTo>
                  <a:lnTo>
                    <a:pt x="2644" y="3034"/>
                  </a:lnTo>
                  <a:lnTo>
                    <a:pt x="2596" y="3034"/>
                  </a:lnTo>
                  <a:lnTo>
                    <a:pt x="2548" y="3034"/>
                  </a:lnTo>
                  <a:lnTo>
                    <a:pt x="2510" y="3034"/>
                  </a:lnTo>
                  <a:lnTo>
                    <a:pt x="2463" y="3034"/>
                  </a:lnTo>
                  <a:lnTo>
                    <a:pt x="2424" y="3034"/>
                  </a:lnTo>
                  <a:lnTo>
                    <a:pt x="2396" y="3034"/>
                  </a:lnTo>
                  <a:lnTo>
                    <a:pt x="2358" y="3034"/>
                  </a:lnTo>
                  <a:lnTo>
                    <a:pt x="2319" y="3034"/>
                  </a:lnTo>
                  <a:lnTo>
                    <a:pt x="2281" y="3034"/>
                  </a:lnTo>
                  <a:lnTo>
                    <a:pt x="2253" y="3038"/>
                  </a:lnTo>
                  <a:lnTo>
                    <a:pt x="2214" y="3038"/>
                  </a:lnTo>
                  <a:lnTo>
                    <a:pt x="2176" y="3038"/>
                  </a:lnTo>
                  <a:lnTo>
                    <a:pt x="2138" y="3042"/>
                  </a:lnTo>
                  <a:lnTo>
                    <a:pt x="2090" y="3047"/>
                  </a:lnTo>
                  <a:lnTo>
                    <a:pt x="2052" y="3051"/>
                  </a:lnTo>
                  <a:lnTo>
                    <a:pt x="2004" y="3051"/>
                  </a:lnTo>
                  <a:lnTo>
                    <a:pt x="1966" y="3055"/>
                  </a:lnTo>
                  <a:lnTo>
                    <a:pt x="1938" y="3060"/>
                  </a:lnTo>
                  <a:lnTo>
                    <a:pt x="1909" y="3064"/>
                  </a:lnTo>
                  <a:lnTo>
                    <a:pt x="1880" y="3064"/>
                  </a:lnTo>
                  <a:lnTo>
                    <a:pt x="1842" y="3069"/>
                  </a:lnTo>
                  <a:lnTo>
                    <a:pt x="1813" y="3069"/>
                  </a:lnTo>
                  <a:lnTo>
                    <a:pt x="1785" y="3073"/>
                  </a:lnTo>
                  <a:lnTo>
                    <a:pt x="1747" y="3073"/>
                  </a:lnTo>
                  <a:lnTo>
                    <a:pt x="1718" y="3077"/>
                  </a:lnTo>
                  <a:lnTo>
                    <a:pt x="1689" y="3077"/>
                  </a:lnTo>
                  <a:lnTo>
                    <a:pt x="1651" y="3077"/>
                  </a:lnTo>
                  <a:lnTo>
                    <a:pt x="1623" y="3077"/>
                  </a:lnTo>
                  <a:lnTo>
                    <a:pt x="1584" y="3082"/>
                  </a:lnTo>
                  <a:lnTo>
                    <a:pt x="1556" y="3082"/>
                  </a:lnTo>
                  <a:lnTo>
                    <a:pt x="1518" y="3082"/>
                  </a:lnTo>
                  <a:lnTo>
                    <a:pt x="1489" y="3082"/>
                  </a:lnTo>
                  <a:lnTo>
                    <a:pt x="1451" y="3082"/>
                  </a:lnTo>
                  <a:lnTo>
                    <a:pt x="1422" y="3082"/>
                  </a:lnTo>
                  <a:lnTo>
                    <a:pt x="1384" y="3082"/>
                  </a:lnTo>
                  <a:lnTo>
                    <a:pt x="1355" y="3082"/>
                  </a:lnTo>
                  <a:lnTo>
                    <a:pt x="1327" y="3077"/>
                  </a:lnTo>
                  <a:lnTo>
                    <a:pt x="1288" y="3077"/>
                  </a:lnTo>
                  <a:lnTo>
                    <a:pt x="1260" y="3077"/>
                  </a:lnTo>
                  <a:lnTo>
                    <a:pt x="1222" y="3077"/>
                  </a:lnTo>
                  <a:lnTo>
                    <a:pt x="1193" y="3073"/>
                  </a:lnTo>
                  <a:lnTo>
                    <a:pt x="1164" y="3073"/>
                  </a:lnTo>
                  <a:lnTo>
                    <a:pt x="1126" y="3069"/>
                  </a:lnTo>
                  <a:lnTo>
                    <a:pt x="1098" y="3069"/>
                  </a:lnTo>
                  <a:lnTo>
                    <a:pt x="1069" y="3064"/>
                  </a:lnTo>
                  <a:lnTo>
                    <a:pt x="1031" y="3064"/>
                  </a:lnTo>
                  <a:lnTo>
                    <a:pt x="1002" y="3060"/>
                  </a:lnTo>
                  <a:lnTo>
                    <a:pt x="973" y="3055"/>
                  </a:lnTo>
                  <a:lnTo>
                    <a:pt x="973" y="3051"/>
                  </a:lnTo>
                  <a:lnTo>
                    <a:pt x="973" y="3047"/>
                  </a:lnTo>
                  <a:lnTo>
                    <a:pt x="964" y="3042"/>
                  </a:lnTo>
                  <a:lnTo>
                    <a:pt x="954" y="3038"/>
                  </a:lnTo>
                  <a:lnTo>
                    <a:pt x="945" y="3034"/>
                  </a:lnTo>
                  <a:lnTo>
                    <a:pt x="935" y="3025"/>
                  </a:lnTo>
                  <a:lnTo>
                    <a:pt x="926" y="3020"/>
                  </a:lnTo>
                  <a:lnTo>
                    <a:pt x="926" y="3012"/>
                  </a:lnTo>
                  <a:lnTo>
                    <a:pt x="878" y="3012"/>
                  </a:lnTo>
                  <a:lnTo>
                    <a:pt x="830" y="3012"/>
                  </a:lnTo>
                  <a:lnTo>
                    <a:pt x="792" y="3016"/>
                  </a:lnTo>
                  <a:lnTo>
                    <a:pt x="744" y="3016"/>
                  </a:lnTo>
                  <a:lnTo>
                    <a:pt x="697" y="3020"/>
                  </a:lnTo>
                  <a:lnTo>
                    <a:pt x="649" y="3020"/>
                  </a:lnTo>
                  <a:lnTo>
                    <a:pt x="601" y="3020"/>
                  </a:lnTo>
                  <a:lnTo>
                    <a:pt x="554" y="3020"/>
                  </a:lnTo>
                  <a:lnTo>
                    <a:pt x="515" y="3025"/>
                  </a:lnTo>
                  <a:lnTo>
                    <a:pt x="468" y="3020"/>
                  </a:lnTo>
                  <a:lnTo>
                    <a:pt x="420" y="3020"/>
                  </a:lnTo>
                  <a:lnTo>
                    <a:pt x="382" y="3016"/>
                  </a:lnTo>
                  <a:lnTo>
                    <a:pt x="334" y="3012"/>
                  </a:lnTo>
                  <a:lnTo>
                    <a:pt x="286" y="3007"/>
                  </a:lnTo>
                  <a:lnTo>
                    <a:pt x="248" y="2998"/>
                  </a:lnTo>
                  <a:lnTo>
                    <a:pt x="210" y="2985"/>
                  </a:lnTo>
                  <a:lnTo>
                    <a:pt x="191" y="2985"/>
                  </a:lnTo>
                  <a:lnTo>
                    <a:pt x="181" y="2985"/>
                  </a:lnTo>
                  <a:lnTo>
                    <a:pt x="162" y="2981"/>
                  </a:lnTo>
                  <a:lnTo>
                    <a:pt x="153" y="2981"/>
                  </a:lnTo>
                  <a:lnTo>
                    <a:pt x="134" y="2977"/>
                  </a:lnTo>
                  <a:lnTo>
                    <a:pt x="124" y="2977"/>
                  </a:lnTo>
                  <a:lnTo>
                    <a:pt x="114" y="2977"/>
                  </a:lnTo>
                  <a:lnTo>
                    <a:pt x="95" y="2977"/>
                  </a:lnTo>
                  <a:lnTo>
                    <a:pt x="95" y="2937"/>
                  </a:lnTo>
                  <a:lnTo>
                    <a:pt x="95" y="2880"/>
                  </a:lnTo>
                  <a:lnTo>
                    <a:pt x="95" y="2819"/>
                  </a:lnTo>
                  <a:lnTo>
                    <a:pt x="114" y="2779"/>
                  </a:lnTo>
                  <a:lnTo>
                    <a:pt x="114" y="2771"/>
                  </a:lnTo>
                  <a:lnTo>
                    <a:pt x="124" y="2762"/>
                  </a:lnTo>
                  <a:lnTo>
                    <a:pt x="134" y="2753"/>
                  </a:lnTo>
                  <a:lnTo>
                    <a:pt x="153" y="2749"/>
                  </a:lnTo>
                  <a:lnTo>
                    <a:pt x="162" y="2740"/>
                  </a:lnTo>
                  <a:lnTo>
                    <a:pt x="181" y="2735"/>
                  </a:lnTo>
                  <a:lnTo>
                    <a:pt x="200" y="2727"/>
                  </a:lnTo>
                  <a:lnTo>
                    <a:pt x="210" y="2722"/>
                  </a:lnTo>
                  <a:lnTo>
                    <a:pt x="210" y="2692"/>
                  </a:lnTo>
                  <a:lnTo>
                    <a:pt x="210" y="2661"/>
                  </a:lnTo>
                  <a:lnTo>
                    <a:pt x="219" y="2635"/>
                  </a:lnTo>
                  <a:lnTo>
                    <a:pt x="219" y="2604"/>
                  </a:lnTo>
                  <a:lnTo>
                    <a:pt x="229" y="2573"/>
                  </a:lnTo>
                  <a:lnTo>
                    <a:pt x="239" y="2547"/>
                  </a:lnTo>
                  <a:lnTo>
                    <a:pt x="248" y="2521"/>
                  </a:lnTo>
                  <a:lnTo>
                    <a:pt x="258" y="2490"/>
                  </a:lnTo>
                  <a:lnTo>
                    <a:pt x="258" y="2481"/>
                  </a:lnTo>
                  <a:lnTo>
                    <a:pt x="267" y="2464"/>
                  </a:lnTo>
                  <a:lnTo>
                    <a:pt x="277" y="2451"/>
                  </a:lnTo>
                  <a:lnTo>
                    <a:pt x="277" y="2433"/>
                  </a:lnTo>
                  <a:lnTo>
                    <a:pt x="286" y="2420"/>
                  </a:lnTo>
                  <a:lnTo>
                    <a:pt x="286" y="2407"/>
                  </a:lnTo>
                  <a:lnTo>
                    <a:pt x="286" y="2389"/>
                  </a:lnTo>
                  <a:lnTo>
                    <a:pt x="277" y="2380"/>
                  </a:lnTo>
                  <a:lnTo>
                    <a:pt x="267" y="2372"/>
                  </a:lnTo>
                  <a:lnTo>
                    <a:pt x="258" y="2363"/>
                  </a:lnTo>
                  <a:lnTo>
                    <a:pt x="248" y="2354"/>
                  </a:lnTo>
                  <a:lnTo>
                    <a:pt x="229" y="2345"/>
                  </a:lnTo>
                  <a:lnTo>
                    <a:pt x="219" y="2337"/>
                  </a:lnTo>
                  <a:lnTo>
                    <a:pt x="210" y="2328"/>
                  </a:lnTo>
                  <a:lnTo>
                    <a:pt x="200" y="2319"/>
                  </a:lnTo>
                  <a:lnTo>
                    <a:pt x="200" y="2306"/>
                  </a:lnTo>
                  <a:lnTo>
                    <a:pt x="191" y="2284"/>
                  </a:lnTo>
                  <a:lnTo>
                    <a:pt x="191" y="2262"/>
                  </a:lnTo>
                  <a:lnTo>
                    <a:pt x="191" y="2240"/>
                  </a:lnTo>
                  <a:lnTo>
                    <a:pt x="200" y="2218"/>
                  </a:lnTo>
                  <a:lnTo>
                    <a:pt x="210" y="2196"/>
                  </a:lnTo>
                  <a:lnTo>
                    <a:pt x="219" y="2174"/>
                  </a:lnTo>
                  <a:lnTo>
                    <a:pt x="229" y="2157"/>
                  </a:lnTo>
                  <a:lnTo>
                    <a:pt x="229" y="2135"/>
                  </a:lnTo>
                  <a:lnTo>
                    <a:pt x="229" y="2131"/>
                  </a:lnTo>
                  <a:lnTo>
                    <a:pt x="219" y="2131"/>
                  </a:lnTo>
                  <a:lnTo>
                    <a:pt x="210" y="2126"/>
                  </a:lnTo>
                  <a:lnTo>
                    <a:pt x="200" y="2122"/>
                  </a:lnTo>
                  <a:lnTo>
                    <a:pt x="191" y="2122"/>
                  </a:lnTo>
                  <a:lnTo>
                    <a:pt x="181" y="2117"/>
                  </a:lnTo>
                  <a:lnTo>
                    <a:pt x="172" y="2117"/>
                  </a:lnTo>
                  <a:lnTo>
                    <a:pt x="162" y="2113"/>
                  </a:lnTo>
                  <a:lnTo>
                    <a:pt x="162" y="2082"/>
                  </a:lnTo>
                  <a:lnTo>
                    <a:pt x="286" y="2043"/>
                  </a:lnTo>
                  <a:lnTo>
                    <a:pt x="277" y="2030"/>
                  </a:lnTo>
                  <a:lnTo>
                    <a:pt x="267" y="2021"/>
                  </a:lnTo>
                  <a:lnTo>
                    <a:pt x="248" y="2012"/>
                  </a:lnTo>
                  <a:lnTo>
                    <a:pt x="229" y="2003"/>
                  </a:lnTo>
                  <a:lnTo>
                    <a:pt x="200" y="1995"/>
                  </a:lnTo>
                  <a:lnTo>
                    <a:pt x="181" y="1981"/>
                  </a:lnTo>
                  <a:lnTo>
                    <a:pt x="172" y="1968"/>
                  </a:lnTo>
                  <a:lnTo>
                    <a:pt x="181" y="1955"/>
                  </a:lnTo>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
          <p:cNvSpPr/>
          <p:nvPr/>
        </p:nvSpPr>
        <p:spPr>
          <a:xfrm>
            <a:off x="1328760" y="2176560"/>
            <a:ext cx="7570800" cy="6798240"/>
          </a:xfrm>
          <a:prstGeom prst="rect">
            <a:avLst/>
          </a:prstGeom>
          <a:noFill/>
          <a:ln w="0">
            <a:noFill/>
          </a:ln>
        </p:spPr>
        <p:style>
          <a:lnRef idx="0"/>
          <a:fillRef idx="0"/>
          <a:effectRef idx="0"/>
          <a:fontRef idx="minor"/>
        </p:style>
        <p:txBody>
          <a:bodyPr lIns="90000" rIns="90000" tIns="46800" bIns="46800" anchor="t">
            <a:spAutoFit/>
          </a:bodyPr>
          <a:p>
            <a:pPr algn="just"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AL-Hor"/>
              </a:rPr>
              <a:t>الهدف من هذه الجلسة تقييم الأفكار ة تحديد ما يمكن أخذه منا ، وفي بعض الأحيان تكون الأفكار الجدية بارزة وواضحة للغاية ولكن  في الغالب الأفكار الجيدة دفينة يصعب تحديدها ونخشى عادة أن تهمل وسط العشرات من الأفكار الأقل أهمية وعملية التقييم تحتاج نوعاً من التفكير الانكماشي الذي يبدأ بعشرات الأفكار ويلخصها حتى تصل إلى القلة الجيدة </a:t>
            </a:r>
            <a:endParaRPr b="0" lang="en-US" sz="4000" spc="-1" strike="noStrike">
              <a:solidFill>
                <a:srgbClr val="000000"/>
              </a:solidFill>
              <a:latin typeface="Arial"/>
            </a:endParaRPr>
          </a:p>
        </p:txBody>
      </p:sp>
      <p:grpSp>
        <p:nvGrpSpPr>
          <p:cNvPr id="284" name=""/>
          <p:cNvGrpSpPr/>
          <p:nvPr/>
        </p:nvGrpSpPr>
        <p:grpSpPr>
          <a:xfrm>
            <a:off x="-409680" y="486360"/>
            <a:ext cx="3599640" cy="3648240"/>
            <a:chOff x="-409680" y="486360"/>
            <a:chExt cx="3599640" cy="3648240"/>
          </a:xfrm>
        </p:grpSpPr>
        <p:sp>
          <p:nvSpPr>
            <p:cNvPr id="285" name="DiagonalStripe"/>
            <p:cNvSpPr/>
            <p:nvPr/>
          </p:nvSpPr>
          <p:spPr>
            <a:xfrm>
              <a:off x="0" y="836640"/>
              <a:ext cx="2771640" cy="2879640"/>
            </a:xfrm>
            <a:custGeom>
              <a:avLst/>
              <a:gdLst>
                <a:gd name="textAreaLeft" fmla="*/ 0 w 2771640"/>
                <a:gd name="textAreaRight" fmla="*/ 2086200 w 2771640"/>
                <a:gd name="textAreaTop" fmla="*/ 0 h 2879640"/>
                <a:gd name="textAreaBottom" fmla="*/ 2167560 h 2879640"/>
              </a:gdLst>
              <a:ahLst/>
              <a:rect l="textAreaLeft" t="textAreaTop" r="textAreaRight" b="textAreaBottom"/>
              <a:pathLst>
                <a:path w="21600" h="21600">
                  <a:moveTo>
                    <a:pt x="10914" y="0"/>
                  </a:moveTo>
                  <a:lnTo>
                    <a:pt x="0" y="10914"/>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rot="18828000">
              <a:off x="-302760" y="1440360"/>
              <a:ext cx="3386160" cy="1739880"/>
            </a:xfrm>
            <a:prstGeom prst="rect">
              <a:avLst/>
            </a:prstGeom>
            <a:noFill/>
            <a:ln w="0">
              <a:noFill/>
            </a:ln>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ffff"/>
                  </a:solidFill>
                  <a:latin typeface="Arial"/>
                  <a:cs typeface="Kufi20 Normal"/>
                </a:rPr>
                <a:t>جلسة التقييم</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fill="hold">
                      <p:stCondLst>
                        <p:cond delay="indefinite"/>
                      </p:stCondLst>
                      <p:childTnLst>
                        <p:par>
                          <p:cTn id="992" fill="hold">
                            <p:stCondLst>
                              <p:cond delay="0"/>
                            </p:stCondLst>
                            <p:childTnLst>
                              <p:par>
                                <p:cTn id="993" nodeType="clickEffect" fill="hold" presetClass="entr" presetID="25">
                                  <p:stCondLst>
                                    <p:cond delay="0"/>
                                  </p:stCondLst>
                                  <p:childTnLst>
                                    <p:set>
                                      <p:cBhvr>
                                        <p:cTn id="994" dur="1" fill="hold">
                                          <p:stCondLst>
                                            <p:cond delay="0"/>
                                          </p:stCondLst>
                                        </p:cTn>
                                        <p:tgtEl>
                                          <p:spTgt spid="284"/>
                                        </p:tgtEl>
                                        <p:attrNameLst>
                                          <p:attrName>style.visibility</p:attrName>
                                        </p:attrNameLst>
                                      </p:cBhvr>
                                      <p:to>
                                        <p:strVal val="visible"/>
                                      </p:to>
                                    </p:set>
                                    <p:anim calcmode="lin" valueType="num">
                                      <p:cBhvr additive="repl">
                                        <p:cTn id="995"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996"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997"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998" dur="1000" fill="hold"/>
                                        <p:tgtEl>
                                          <p:spTgt spid="284"/>
                                        </p:tgtEl>
                                        <p:attrNameLst>
                                          <p:attrName>ppt_h</p:attrName>
                                        </p:attrNameLst>
                                      </p:cBhvr>
                                      <p:tavLst>
                                        <p:tav tm="0">
                                          <p:val>
                                            <p:strVal val="#ppt_h"/>
                                          </p:val>
                                        </p:tav>
                                        <p:tav tm="100000">
                                          <p:val>
                                            <p:strVal val="#ppt_h"/>
                                          </p:val>
                                        </p:tav>
                                      </p:tavLst>
                                    </p:anim>
                                    <p:anim calcmode="lin" valueType="num">
                                      <p:cBhvr additive="repl">
                                        <p:cTn id="999"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1000"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1001"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1002" dur="1000">
                                          <p:stCondLst>
                                            <p:cond delay="0"/>
                                          </p:stCondLst>
                                        </p:cTn>
                                        <p:tgtEl>
                                          <p:spTgt spid="284"/>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9">
                                  <p:stCondLst>
                                    <p:cond delay="0"/>
                                  </p:stCondLst>
                                  <p:childTnLst>
                                    <p:set>
                                      <p:cBhvr>
                                        <p:cTn id="1006" dur="1" fill="hold">
                                          <p:stCondLst>
                                            <p:cond delay="0"/>
                                          </p:stCondLst>
                                        </p:cTn>
                                        <p:tgtEl>
                                          <p:spTgt spid="279"/>
                                        </p:tgtEl>
                                        <p:attrNameLst>
                                          <p:attrName>style.visibility</p:attrName>
                                        </p:attrNameLst>
                                      </p:cBhvr>
                                      <p:to>
                                        <p:strVal val="visible"/>
                                      </p:to>
                                    </p:set>
                                    <p:anim calcmode="lin" valueType="num">
                                      <p:cBhvr additive="repl">
                                        <p:cTn id="1007" dur="1000" fill="hold"/>
                                        <p:tgtEl>
                                          <p:spTgt spid="279"/>
                                        </p:tgtEl>
                                        <p:attrNameLst>
                                          <p:attrName>ppt_x</p:attrName>
                                        </p:attrNameLst>
                                      </p:cBhvr>
                                      <p:tavLst>
                                        <p:tav tm="0">
                                          <p:val>
                                            <p:strVal val="#ppt_x-.2"/>
                                          </p:val>
                                        </p:tav>
                                        <p:tav tm="100000">
                                          <p:val>
                                            <p:strVal val="#ppt_x"/>
                                          </p:val>
                                        </p:tav>
                                      </p:tavLst>
                                    </p:anim>
                                    <p:anim calcmode="lin" valueType="num">
                                      <p:cBhvr additive="repl">
                                        <p:cTn id="1008" dur="1000" fill="hold"/>
                                        <p:tgtEl>
                                          <p:spTgt spid="279"/>
                                        </p:tgtEl>
                                        <p:attrNameLst>
                                          <p:attrName>ppt_y</p:attrName>
                                        </p:attrNameLst>
                                      </p:cBhvr>
                                      <p:tavLst>
                                        <p:tav tm="0">
                                          <p:val>
                                            <p:strVal val="#ppt_y"/>
                                          </p:val>
                                        </p:tav>
                                        <p:tav tm="100000">
                                          <p:val>
                                            <p:strVal val="#ppt_y"/>
                                          </p:val>
                                        </p:tav>
                                      </p:tavLst>
                                    </p:anim>
                                    <p:animEffect filter="wipe(right)" transition="in">
                                      <p:cBhvr additive="repl">
                                        <p:cTn id="1009" dur="1000"/>
                                        <p:tgtEl>
                                          <p:spTgt spid="279"/>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53">
                                  <p:stCondLst>
                                    <p:cond delay="0"/>
                                  </p:stCondLst>
                                  <p:childTnLst>
                                    <p:set>
                                      <p:cBhvr>
                                        <p:cTn id="1013" dur="1" fill="hold">
                                          <p:stCondLst>
                                            <p:cond delay="0"/>
                                          </p:stCondLst>
                                        </p:cTn>
                                        <p:tgtEl>
                                          <p:spTgt spid="283"/>
                                        </p:tgtEl>
                                        <p:attrNameLst>
                                          <p:attrName>style.visibility</p:attrName>
                                        </p:attrNameLst>
                                      </p:cBhvr>
                                      <p:to>
                                        <p:strVal val="visible"/>
                                      </p:to>
                                    </p:set>
                                    <p:anim calcmode="lin" valueType="num">
                                      <p:cBhvr additive="repl">
                                        <p:cTn id="1014" dur="500" fill="hold"/>
                                        <p:tgtEl>
                                          <p:spTgt spid="283"/>
                                        </p:tgtEl>
                                        <p:attrNameLst>
                                          <p:attrName>ppt_w</p:attrName>
                                        </p:attrNameLst>
                                      </p:cBhvr>
                                      <p:tavLst>
                                        <p:tav tm="0">
                                          <p:val>
                                            <p:fltVal val="0"/>
                                          </p:val>
                                        </p:tav>
                                        <p:tav tm="100000">
                                          <p:val>
                                            <p:strVal val="#ppt_w"/>
                                          </p:val>
                                        </p:tav>
                                      </p:tavLst>
                                    </p:anim>
                                    <p:anim calcmode="lin" valueType="num">
                                      <p:cBhvr additive="repl">
                                        <p:cTn id="1015" dur="500" fill="hold"/>
                                        <p:tgtEl>
                                          <p:spTgt spid="283"/>
                                        </p:tgtEl>
                                        <p:attrNameLst>
                                          <p:attrName>ppt_h</p:attrName>
                                        </p:attrNameLst>
                                      </p:cBhvr>
                                      <p:tavLst>
                                        <p:tav tm="0">
                                          <p:val>
                                            <p:fltVal val="0"/>
                                          </p:val>
                                        </p:tav>
                                        <p:tav tm="100000">
                                          <p:val>
                                            <p:strVal val="#ppt_h"/>
                                          </p:val>
                                        </p:tav>
                                      </p:tavLst>
                                    </p:anim>
                                    <p:animEffect filter="fade" transition="in">
                                      <p:cBhvr additive="repl">
                                        <p:cTn id="1016"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ubHalfFrame"/>
          <p:cNvSpPr/>
          <p:nvPr/>
        </p:nvSpPr>
        <p:spPr>
          <a:xfrm>
            <a:off x="0" y="836640"/>
            <a:ext cx="5148360" cy="2736720"/>
          </a:xfrm>
          <a:custGeom>
            <a:avLst/>
            <a:gdLst>
              <a:gd name="textAreaLeft" fmla="*/ 0 w 5148360"/>
              <a:gd name="textAreaRight" fmla="*/ 2630880 w 5148360"/>
              <a:gd name="textAreaTop" fmla="*/ 0 h 2736720"/>
              <a:gd name="textAreaBottom" fmla="*/ 1338120 h 2736720"/>
            </a:gdLst>
            <a:ahLst/>
            <a:rect l="textAreaLeft" t="textAreaTop" r="textAreaRight" b="textAreaBottom"/>
            <a:pathLst>
              <a:path w="21600" h="21600">
                <a:moveTo>
                  <a:pt x="0" y="0"/>
                </a:moveTo>
                <a:lnTo>
                  <a:pt x="0" y="21600"/>
                </a:lnTo>
                <a:lnTo>
                  <a:pt x="6374" y="15226"/>
                </a:lnTo>
                <a:lnTo>
                  <a:pt x="6374" y="10562"/>
                </a:lnTo>
                <a:lnTo>
                  <a:pt x="11038" y="10562"/>
                </a:lnTo>
                <a:lnTo>
                  <a:pt x="21600" y="0"/>
                </a:lnTo>
              </a:path>
            </a:pathLst>
          </a:custGeom>
          <a:blipFill rotWithShape="0">
            <a:blip r:embed="rId2">
              <a:alphaModFix amt="37000"/>
            </a:blip>
            <a:srcRect/>
            <a:tile tx="0" ty="0" sx="100000" sy="100000" algn="ctr"/>
          </a:blipFill>
          <a:ln w="0">
            <a:noFill/>
          </a:ln>
          <a:effectLst>
            <a:outerShdw dist="107932" dir="2700000" blurRad="0" rotWithShape="0">
              <a:srgbClr val="808080"/>
            </a:outerShdw>
          </a:effectLst>
        </p:spPr>
        <p:style>
          <a:lnRef idx="0"/>
          <a:fillRef idx="0"/>
          <a:effectRef idx="0"/>
          <a:fontRef idx="minor"/>
        </p:style>
        <p:txBody>
          <a:bodyPr lIns="0" rIns="0" tIns="0" bIns="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Kufi20 Normal"/>
              </a:rPr>
              <a:t>ويمكن تصنيف الأفكار إلى :</a:t>
            </a:r>
            <a:endParaRPr b="0" lang="en-US" sz="4400" spc="-1" strike="noStrike">
              <a:solidFill>
                <a:srgbClr val="000000"/>
              </a:solidFill>
              <a:latin typeface="Arial"/>
            </a:endParaRPr>
          </a:p>
        </p:txBody>
      </p:sp>
      <p:grpSp>
        <p:nvGrpSpPr>
          <p:cNvPr id="288" name=""/>
          <p:cNvGrpSpPr/>
          <p:nvPr/>
        </p:nvGrpSpPr>
        <p:grpSpPr>
          <a:xfrm>
            <a:off x="-104040" y="792360"/>
            <a:ext cx="9709200" cy="6555600"/>
            <a:chOff x="-104040" y="792360"/>
            <a:chExt cx="9709200" cy="6555600"/>
          </a:xfrm>
        </p:grpSpPr>
        <p:sp>
          <p:nvSpPr>
            <p:cNvPr id="289" name=""/>
            <p:cNvSpPr/>
            <p:nvPr/>
          </p:nvSpPr>
          <p:spPr>
            <a:xfrm rot="19900800">
              <a:off x="539280" y="2060280"/>
              <a:ext cx="6134040" cy="3122640"/>
            </a:xfrm>
            <a:prstGeom prst="rect">
              <a:avLst/>
            </a:prstGeom>
            <a:solidFill>
              <a:srgbClr val="a6c8c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rot="21126000">
              <a:off x="178920" y="1989000"/>
              <a:ext cx="9142560" cy="4753080"/>
            </a:xfrm>
            <a:custGeom>
              <a:avLst/>
              <a:gdLst/>
              <a:ahLst/>
              <a:rect l="l" t="t" r="r" b="b"/>
              <a:pathLst>
                <a:path w="3882" h="2917">
                  <a:moveTo>
                    <a:pt x="810" y="0"/>
                  </a:moveTo>
                  <a:lnTo>
                    <a:pt x="3882" y="402"/>
                  </a:lnTo>
                  <a:lnTo>
                    <a:pt x="3072" y="2917"/>
                  </a:lnTo>
                  <a:lnTo>
                    <a:pt x="0" y="2515"/>
                  </a:lnTo>
                  <a:lnTo>
                    <a:pt x="81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476280" y="4707000"/>
              <a:ext cx="57240" cy="54000"/>
            </a:xfrm>
            <a:custGeom>
              <a:avLst/>
              <a:gdLst/>
              <a:ahLst/>
              <a:rect l="l" t="t" r="r" b="b"/>
              <a:pathLst>
                <a:path w="36" h="34">
                  <a:moveTo>
                    <a:pt x="36" y="34"/>
                  </a:moveTo>
                  <a:lnTo>
                    <a:pt x="36" y="30"/>
                  </a:lnTo>
                  <a:lnTo>
                    <a:pt x="12" y="0"/>
                  </a:lnTo>
                  <a:lnTo>
                    <a:pt x="0" y="3"/>
                  </a:lnTo>
                  <a:lnTo>
                    <a:pt x="30" y="34"/>
                  </a:lnTo>
                  <a:lnTo>
                    <a:pt x="30" y="30"/>
                  </a:lnTo>
                  <a:lnTo>
                    <a:pt x="30" y="34"/>
                  </a:lnTo>
                  <a:lnTo>
                    <a:pt x="30" y="34"/>
                  </a:lnTo>
                  <a:lnTo>
                    <a:pt x="36" y="34"/>
                  </a:lnTo>
                  <a:lnTo>
                    <a:pt x="36" y="34"/>
                  </a:lnTo>
                  <a:lnTo>
                    <a:pt x="36" y="30"/>
                  </a:lnTo>
                  <a:lnTo>
                    <a:pt x="36" y="34"/>
                  </a:lnTo>
                  <a:close/>
                </a:path>
              </a:pathLst>
            </a:custGeom>
            <a:solidFill>
              <a:srgbClr val="0e0d0d"/>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rot="21463800">
            <a:off x="1728360" y="2464200"/>
            <a:ext cx="5992920" cy="6494760"/>
          </a:xfrm>
          <a:prstGeom prst="rect">
            <a:avLst/>
          </a:prstGeom>
          <a:noFill/>
          <a:ln w="0">
            <a:noFill/>
          </a:ln>
        </p:spPr>
        <p:style>
          <a:lnRef idx="0"/>
          <a:fillRef idx="0"/>
          <a:effectRef idx="0"/>
          <a:fontRef idx="minor"/>
        </p:style>
        <p:txBody>
          <a:bodyPr lIns="90000" rIns="90000" tIns="46800" bIns="46800" anchor="t">
            <a:spAutoFit/>
          </a:bodyPr>
          <a:p>
            <a:pPr marL="625320" indent="-625320" algn="r" rtl="1">
              <a:buClr>
                <a:srgbClr val="000000"/>
              </a:buClr>
              <a:buFont typeface="Arial"/>
              <a:buAutoNum type="arabicPeriod"/>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Hor"/>
              </a:rPr>
              <a:t> </a:t>
            </a:r>
            <a:r>
              <a:rPr b="0" lang="hi-IN" sz="4200" spc="-1" strike="noStrike">
                <a:solidFill>
                  <a:srgbClr val="000000"/>
                </a:solidFill>
                <a:latin typeface="Arial"/>
                <a:cs typeface="AL-Hor"/>
              </a:rPr>
              <a:t>أفكار مفيدة وقابلة للتطبيق مباشرة </a:t>
            </a:r>
            <a:r>
              <a:rPr b="0" lang="en-US" sz="4200" spc="-1" strike="noStrike">
                <a:solidFill>
                  <a:srgbClr val="000000"/>
                </a:solidFill>
                <a:latin typeface="Arial"/>
                <a:ea typeface="AL-Hor"/>
              </a:rPr>
              <a:t>0</a:t>
            </a:r>
            <a:r>
              <a:rPr b="0" lang="en-US" sz="4200" spc="-1" strike="noStrike">
                <a:solidFill>
                  <a:srgbClr val="000000"/>
                </a:solidFill>
                <a:latin typeface="Arial"/>
                <a:ea typeface="AL-Hor"/>
              </a:rPr>
              <a:t> </a:t>
            </a:r>
            <a:endParaRPr b="0" lang="en-US" sz="4200" spc="-1" strike="noStrike">
              <a:solidFill>
                <a:srgbClr val="000000"/>
              </a:solidFill>
              <a:latin typeface="Arial"/>
            </a:endParaRPr>
          </a:p>
          <a:p>
            <a:pPr marL="625320" indent="-625320" algn="r" rtl="1">
              <a:buClr>
                <a:srgbClr val="000000"/>
              </a:buClr>
              <a:buFont typeface="Arial"/>
              <a:buAutoNum type="arabicPeriod"/>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0000"/>
                </a:solidFill>
                <a:latin typeface="Arial"/>
                <a:cs typeface="AL-Hor"/>
              </a:rPr>
              <a:t>أفكار طريفة وغير عملية </a:t>
            </a:r>
            <a:r>
              <a:rPr b="0" lang="en-US" sz="4200" spc="-1" strike="noStrike">
                <a:solidFill>
                  <a:srgbClr val="000000"/>
                </a:solidFill>
                <a:latin typeface="Arial"/>
                <a:ea typeface="AL-Hor"/>
              </a:rPr>
              <a:t>0</a:t>
            </a:r>
            <a:r>
              <a:rPr b="0" lang="en-US" sz="4200" spc="-1" strike="noStrike">
                <a:solidFill>
                  <a:srgbClr val="000000"/>
                </a:solidFill>
                <a:latin typeface="Arial"/>
                <a:ea typeface="AL-Hor"/>
              </a:rPr>
              <a:t> </a:t>
            </a:r>
            <a:endParaRPr b="0" lang="en-US" sz="4200" spc="-1" strike="noStrike">
              <a:solidFill>
                <a:srgbClr val="000000"/>
              </a:solidFill>
              <a:latin typeface="Arial"/>
            </a:endParaRPr>
          </a:p>
          <a:p>
            <a:pPr marL="625320" indent="-625320" algn="r" rtl="1">
              <a:buClr>
                <a:srgbClr val="000000"/>
              </a:buClr>
              <a:buFont typeface="Arial"/>
              <a:buAutoNum type="arabicPeriod"/>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0000"/>
                </a:solidFill>
                <a:latin typeface="Arial"/>
                <a:cs typeface="AL-Hor"/>
              </a:rPr>
              <a:t>أفكار مفيدة إلا أنها غير قابلة للتطبيق مباشرة أو تحتاج إلى مزيد من البحث أو موافقة جهات أخرى </a:t>
            </a:r>
            <a:r>
              <a:rPr b="0" lang="en-US" sz="4200" spc="-1" strike="noStrike">
                <a:solidFill>
                  <a:srgbClr val="000000"/>
                </a:solidFill>
                <a:latin typeface="Arial"/>
                <a:ea typeface="AL-Hor"/>
              </a:rPr>
              <a:t>0</a:t>
            </a:r>
            <a:r>
              <a:rPr b="0" lang="en-US" sz="4200" spc="-1" strike="noStrike">
                <a:solidFill>
                  <a:srgbClr val="000000"/>
                </a:solidFill>
                <a:latin typeface="Arial"/>
                <a:ea typeface="AL-Hor"/>
              </a:rPr>
              <a:t> </a:t>
            </a:r>
            <a:endParaRPr b="0" lang="en-US" sz="4200" spc="-1" strike="noStrike">
              <a:solidFill>
                <a:srgbClr val="000000"/>
              </a:solidFill>
              <a:latin typeface="Arial"/>
            </a:endParaRPr>
          </a:p>
          <a:p>
            <a:pPr marL="625320" indent="-625320" algn="r" rtl="1">
              <a:buClr>
                <a:srgbClr val="000000"/>
              </a:buClr>
              <a:buFont typeface="Arial"/>
              <a:buAutoNum type="arabicPeriod"/>
              <a:tabLst>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000000"/>
                </a:solidFill>
                <a:latin typeface="Arial"/>
                <a:cs typeface="AL-Hor"/>
              </a:rPr>
              <a:t>أفكار مستثناة </a:t>
            </a:r>
            <a:r>
              <a:rPr b="0" lang="en-US" sz="4200" spc="-1" strike="noStrike">
                <a:solidFill>
                  <a:srgbClr val="000000"/>
                </a:solidFill>
                <a:latin typeface="Arial"/>
                <a:ea typeface="AL-Hor"/>
              </a:rPr>
              <a:t>0</a:t>
            </a:r>
            <a:r>
              <a:rPr b="0" lang="en-US" sz="4000" spc="-1" strike="noStrike">
                <a:solidFill>
                  <a:srgbClr val="000000"/>
                </a:solidFill>
                <a:latin typeface="Arial"/>
                <a:ea typeface="AL-Hor"/>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40">
                                  <p:stCondLst>
                                    <p:cond delay="0"/>
                                  </p:stCondLst>
                                  <p:iterate type="lt">
                                    <p:tmAbs val="100"/>
                                  </p:iterate>
                                  <p:childTnLst>
                                    <p:set>
                                      <p:cBhvr>
                                        <p:cTn id="1022" dur="1" fill="hold">
                                          <p:stCondLst>
                                            <p:cond delay="0"/>
                                          </p:stCondLst>
                                        </p:cTn>
                                        <p:tgtEl>
                                          <p:spTgt spid="287"/>
                                        </p:tgtEl>
                                        <p:attrNameLst>
                                          <p:attrName>style.visibility</p:attrName>
                                        </p:attrNameLst>
                                      </p:cBhvr>
                                      <p:to>
                                        <p:strVal val="visible"/>
                                      </p:to>
                                    </p:set>
                                    <p:animEffect filter="fade" transition="in">
                                      <p:cBhvr additive="repl">
                                        <p:cTn id="1023" dur="1000"/>
                                        <p:tgtEl>
                                          <p:spTgt spid="287"/>
                                        </p:tgtEl>
                                      </p:cBhvr>
                                    </p:animEffect>
                                    <p:anim calcmode="lin" valueType="num">
                                      <p:cBhvr additive="repl">
                                        <p:cTn id="1024" dur="1000" fill="hold"/>
                                        <p:tgtEl>
                                          <p:spTgt spid="287"/>
                                        </p:tgtEl>
                                        <p:attrNameLst>
                                          <p:attrName>ppt_x</p:attrName>
                                        </p:attrNameLst>
                                      </p:cBhvr>
                                      <p:tavLst>
                                        <p:tav tm="0">
                                          <p:val>
                                            <p:strVal val="#ppt_x-.1"/>
                                          </p:val>
                                        </p:tav>
                                        <p:tav tm="100000">
                                          <p:val>
                                            <p:strVal val="#ppt_x"/>
                                          </p:val>
                                        </p:tav>
                                      </p:tavLst>
                                    </p:anim>
                                    <p:anim calcmode="lin" valueType="num">
                                      <p:cBhvr additive="repl">
                                        <p:cTn id="1025" dur="10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31">
                                  <p:stCondLst>
                                    <p:cond delay="0"/>
                                  </p:stCondLst>
                                  <p:iterate type="lt">
                                    <p:tmAbs val="50"/>
                                  </p:iterate>
                                  <p:childTnLst>
                                    <p:set>
                                      <p:cBhvr>
                                        <p:cTn id="1029" dur="1" fill="hold">
                                          <p:stCondLst>
                                            <p:cond delay="0"/>
                                          </p:stCondLst>
                                        </p:cTn>
                                        <p:tgtEl>
                                          <p:spTgt spid="288"/>
                                        </p:tgtEl>
                                        <p:attrNameLst>
                                          <p:attrName>style.visibility</p:attrName>
                                        </p:attrNameLst>
                                      </p:cBhvr>
                                      <p:to>
                                        <p:strVal val="visible"/>
                                      </p:to>
                                    </p:set>
                                    <p:anim calcmode="lin" valueType="num">
                                      <p:cBhvr additive="repl">
                                        <p:cTn id="1030" dur="1000" fill="hold"/>
                                        <p:tgtEl>
                                          <p:spTgt spid="288"/>
                                        </p:tgtEl>
                                        <p:attrNameLst>
                                          <p:attrName>ppt_w</p:attrName>
                                        </p:attrNameLst>
                                      </p:cBhvr>
                                      <p:tavLst>
                                        <p:tav tm="0">
                                          <p:val>
                                            <p:fltVal val="0"/>
                                          </p:val>
                                        </p:tav>
                                        <p:tav tm="100000">
                                          <p:val>
                                            <p:strVal val="#ppt_w"/>
                                          </p:val>
                                        </p:tav>
                                      </p:tavLst>
                                    </p:anim>
                                    <p:anim calcmode="lin" valueType="num">
                                      <p:cBhvr additive="repl">
                                        <p:cTn id="1031" dur="1000" fill="hold"/>
                                        <p:tgtEl>
                                          <p:spTgt spid="288"/>
                                        </p:tgtEl>
                                        <p:attrNameLst>
                                          <p:attrName>ppt_h</p:attrName>
                                        </p:attrNameLst>
                                      </p:cBhvr>
                                      <p:tavLst>
                                        <p:tav tm="0">
                                          <p:val>
                                            <p:fltVal val="0"/>
                                          </p:val>
                                        </p:tav>
                                        <p:tav tm="100000">
                                          <p:val>
                                            <p:strVal val="#ppt_h"/>
                                          </p:val>
                                        </p:tav>
                                      </p:tavLst>
                                    </p:anim>
                                    <p:anim calcmode="lin" valueType="num">
                                      <p:cBhvr additive="repl">
                                        <p:cTn id="1032" dur="1000" fill="hold"/>
                                        <p:tgtEl>
                                          <p:spTgt spid="288"/>
                                        </p:tgtEl>
                                        <p:attrNameLst>
                                          <p:attrName>r</p:attrName>
                                        </p:attrNameLst>
                                      </p:cBhvr>
                                      <p:tavLst>
                                        <p:tav tm="0">
                                          <p:val>
                                            <p:strVal val="90"/>
                                          </p:val>
                                        </p:tav>
                                        <p:tav tm="100000">
                                          <p:val>
                                            <p:strVal val="0"/>
                                          </p:val>
                                        </p:tav>
                                      </p:tavLst>
                                    </p:anim>
                                    <p:animEffect filter="fade" transition="in">
                                      <p:cBhvr additive="repl">
                                        <p:cTn id="1033" dur="1000"/>
                                        <p:tgtEl>
                                          <p:spTgt spid="288"/>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40">
                                  <p:stCondLst>
                                    <p:cond delay="0"/>
                                  </p:stCondLst>
                                  <p:iterate type="lt">
                                    <p:tmAbs val="100"/>
                                  </p:iterate>
                                  <p:childTnLst>
                                    <p:set>
                                      <p:cBhvr>
                                        <p:cTn id="1037" dur="1" fill="hold">
                                          <p:stCondLst>
                                            <p:cond delay="0"/>
                                          </p:stCondLst>
                                        </p:cTn>
                                        <p:tgtEl>
                                          <p:spTgt spid="292">
                                            <p:txEl>
                                              <p:pRg st="0" end="0"/>
                                            </p:txEl>
                                          </p:spTgt>
                                        </p:tgtEl>
                                        <p:attrNameLst>
                                          <p:attrName>style.visibility</p:attrName>
                                        </p:attrNameLst>
                                      </p:cBhvr>
                                      <p:to>
                                        <p:strVal val="visible"/>
                                      </p:to>
                                    </p:set>
                                    <p:animEffect filter="fade" transition="in">
                                      <p:cBhvr additive="repl">
                                        <p:cTn id="1038" dur="1000"/>
                                        <p:tgtEl>
                                          <p:spTgt spid="292">
                                            <p:txEl>
                                              <p:pRg st="0" end="0"/>
                                            </p:txEl>
                                          </p:spTgt>
                                        </p:tgtEl>
                                      </p:cBhvr>
                                    </p:animEffect>
                                    <p:anim calcmode="lin" valueType="num">
                                      <p:cBhvr additive="repl">
                                        <p:cTn id="1039" dur="1000" fill="hold"/>
                                        <p:tgtEl>
                                          <p:spTgt spid="292">
                                            <p:txEl>
                                              <p:pRg st="0" end="0"/>
                                            </p:txEl>
                                          </p:spTgt>
                                        </p:tgtEl>
                                        <p:attrNameLst>
                                          <p:attrName>ppt_x</p:attrName>
                                        </p:attrNameLst>
                                      </p:cBhvr>
                                      <p:tavLst>
                                        <p:tav tm="0">
                                          <p:val>
                                            <p:strVal val="#ppt_x-.1"/>
                                          </p:val>
                                        </p:tav>
                                        <p:tav tm="100000">
                                          <p:val>
                                            <p:strVal val="#ppt_x"/>
                                          </p:val>
                                        </p:tav>
                                      </p:tavLst>
                                    </p:anim>
                                    <p:anim calcmode="lin" valueType="num">
                                      <p:cBhvr additive="repl">
                                        <p:cTn id="1040" dur="10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40">
                                  <p:stCondLst>
                                    <p:cond delay="0"/>
                                  </p:stCondLst>
                                  <p:iterate type="lt">
                                    <p:tmAbs val="100"/>
                                  </p:iterate>
                                  <p:childTnLst>
                                    <p:set>
                                      <p:cBhvr>
                                        <p:cTn id="1044" dur="1" fill="hold">
                                          <p:stCondLst>
                                            <p:cond delay="0"/>
                                          </p:stCondLst>
                                        </p:cTn>
                                        <p:tgtEl>
                                          <p:spTgt spid="292">
                                            <p:txEl>
                                              <p:pRg st="1" end="1"/>
                                            </p:txEl>
                                          </p:spTgt>
                                        </p:tgtEl>
                                        <p:attrNameLst>
                                          <p:attrName>style.visibility</p:attrName>
                                        </p:attrNameLst>
                                      </p:cBhvr>
                                      <p:to>
                                        <p:strVal val="visible"/>
                                      </p:to>
                                    </p:set>
                                    <p:animEffect filter="fade" transition="in">
                                      <p:cBhvr additive="repl">
                                        <p:cTn id="1045" dur="1000"/>
                                        <p:tgtEl>
                                          <p:spTgt spid="292">
                                            <p:txEl>
                                              <p:pRg st="1" end="1"/>
                                            </p:txEl>
                                          </p:spTgt>
                                        </p:tgtEl>
                                      </p:cBhvr>
                                    </p:animEffect>
                                    <p:anim calcmode="lin" valueType="num">
                                      <p:cBhvr additive="repl">
                                        <p:cTn id="1046" dur="1000" fill="hold"/>
                                        <p:tgtEl>
                                          <p:spTgt spid="292">
                                            <p:txEl>
                                              <p:pRg st="1" end="1"/>
                                            </p:txEl>
                                          </p:spTgt>
                                        </p:tgtEl>
                                        <p:attrNameLst>
                                          <p:attrName>ppt_x</p:attrName>
                                        </p:attrNameLst>
                                      </p:cBhvr>
                                      <p:tavLst>
                                        <p:tav tm="0">
                                          <p:val>
                                            <p:strVal val="#ppt_x-.1"/>
                                          </p:val>
                                        </p:tav>
                                        <p:tav tm="100000">
                                          <p:val>
                                            <p:strVal val="#ppt_x"/>
                                          </p:val>
                                        </p:tav>
                                      </p:tavLst>
                                    </p:anim>
                                    <p:anim calcmode="lin" valueType="num">
                                      <p:cBhvr additive="repl">
                                        <p:cTn id="1047" dur="1000" fill="hold"/>
                                        <p:tgtEl>
                                          <p:spTgt spid="2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40">
                                  <p:stCondLst>
                                    <p:cond delay="0"/>
                                  </p:stCondLst>
                                  <p:iterate type="lt">
                                    <p:tmAbs val="100"/>
                                  </p:iterate>
                                  <p:childTnLst>
                                    <p:set>
                                      <p:cBhvr>
                                        <p:cTn id="1051" dur="1" fill="hold">
                                          <p:stCondLst>
                                            <p:cond delay="0"/>
                                          </p:stCondLst>
                                        </p:cTn>
                                        <p:tgtEl>
                                          <p:spTgt spid="292">
                                            <p:txEl>
                                              <p:pRg st="2" end="2"/>
                                            </p:txEl>
                                          </p:spTgt>
                                        </p:tgtEl>
                                        <p:attrNameLst>
                                          <p:attrName>style.visibility</p:attrName>
                                        </p:attrNameLst>
                                      </p:cBhvr>
                                      <p:to>
                                        <p:strVal val="visible"/>
                                      </p:to>
                                    </p:set>
                                    <p:animEffect filter="fade" transition="in">
                                      <p:cBhvr additive="repl">
                                        <p:cTn id="1052" dur="1000"/>
                                        <p:tgtEl>
                                          <p:spTgt spid="292">
                                            <p:txEl>
                                              <p:pRg st="2" end="2"/>
                                            </p:txEl>
                                          </p:spTgt>
                                        </p:tgtEl>
                                      </p:cBhvr>
                                    </p:animEffect>
                                    <p:anim calcmode="lin" valueType="num">
                                      <p:cBhvr additive="repl">
                                        <p:cTn id="1053" dur="1000" fill="hold"/>
                                        <p:tgtEl>
                                          <p:spTgt spid="292">
                                            <p:txEl>
                                              <p:pRg st="2" end="2"/>
                                            </p:txEl>
                                          </p:spTgt>
                                        </p:tgtEl>
                                        <p:attrNameLst>
                                          <p:attrName>ppt_x</p:attrName>
                                        </p:attrNameLst>
                                      </p:cBhvr>
                                      <p:tavLst>
                                        <p:tav tm="0">
                                          <p:val>
                                            <p:strVal val="#ppt_x-.1"/>
                                          </p:val>
                                        </p:tav>
                                        <p:tav tm="100000">
                                          <p:val>
                                            <p:strVal val="#ppt_x"/>
                                          </p:val>
                                        </p:tav>
                                      </p:tavLst>
                                    </p:anim>
                                    <p:anim calcmode="lin" valueType="num">
                                      <p:cBhvr additive="repl">
                                        <p:cTn id="1054" dur="1000" fill="hold"/>
                                        <p:tgtEl>
                                          <p:spTgt spid="2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40">
                                  <p:stCondLst>
                                    <p:cond delay="0"/>
                                  </p:stCondLst>
                                  <p:iterate type="lt">
                                    <p:tmAbs val="100"/>
                                  </p:iterate>
                                  <p:childTnLst>
                                    <p:set>
                                      <p:cBhvr>
                                        <p:cTn id="1058" dur="1" fill="hold">
                                          <p:stCondLst>
                                            <p:cond delay="0"/>
                                          </p:stCondLst>
                                        </p:cTn>
                                        <p:tgtEl>
                                          <p:spTgt spid="292">
                                            <p:txEl>
                                              <p:pRg st="3" end="3"/>
                                            </p:txEl>
                                          </p:spTgt>
                                        </p:tgtEl>
                                        <p:attrNameLst>
                                          <p:attrName>style.visibility</p:attrName>
                                        </p:attrNameLst>
                                      </p:cBhvr>
                                      <p:to>
                                        <p:strVal val="visible"/>
                                      </p:to>
                                    </p:set>
                                    <p:animEffect filter="fade" transition="in">
                                      <p:cBhvr additive="repl">
                                        <p:cTn id="1059" dur="1000"/>
                                        <p:tgtEl>
                                          <p:spTgt spid="292">
                                            <p:txEl>
                                              <p:pRg st="3" end="3"/>
                                            </p:txEl>
                                          </p:spTgt>
                                        </p:tgtEl>
                                      </p:cBhvr>
                                    </p:animEffect>
                                    <p:anim calcmode="lin" valueType="num">
                                      <p:cBhvr additive="repl">
                                        <p:cTn id="1060" dur="1000" fill="hold"/>
                                        <p:tgtEl>
                                          <p:spTgt spid="292">
                                            <p:txEl>
                                              <p:pRg st="3" end="3"/>
                                            </p:txEl>
                                          </p:spTgt>
                                        </p:tgtEl>
                                        <p:attrNameLst>
                                          <p:attrName>ppt_x</p:attrName>
                                        </p:attrNameLst>
                                      </p:cBhvr>
                                      <p:tavLst>
                                        <p:tav tm="0">
                                          <p:val>
                                            <p:strVal val="#ppt_x-.1"/>
                                          </p:val>
                                        </p:tav>
                                        <p:tav tm="100000">
                                          <p:val>
                                            <p:strVal val="#ppt_x"/>
                                          </p:val>
                                        </p:tav>
                                      </p:tavLst>
                                    </p:anim>
                                    <p:anim calcmode="lin" valueType="num">
                                      <p:cBhvr additive="repl">
                                        <p:cTn id="1061" dur="1000" fill="hold"/>
                                        <p:tgtEl>
                                          <p:spTgt spid="2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82" name=""/>
          <p:cNvGrpSpPr/>
          <p:nvPr/>
        </p:nvGrpSpPr>
        <p:grpSpPr>
          <a:xfrm>
            <a:off x="303120" y="1582560"/>
            <a:ext cx="8589960" cy="5275440"/>
            <a:chOff x="303120" y="1582560"/>
            <a:chExt cx="8589960" cy="5275440"/>
          </a:xfrm>
        </p:grpSpPr>
        <p:sp>
          <p:nvSpPr>
            <p:cNvPr id="83" name=""/>
            <p:cNvSpPr/>
            <p:nvPr/>
          </p:nvSpPr>
          <p:spPr>
            <a:xfrm>
              <a:off x="4390920" y="3084480"/>
              <a:ext cx="376200" cy="2374920"/>
            </a:xfrm>
            <a:custGeom>
              <a:avLst/>
              <a:gdLst/>
              <a:ahLst/>
              <a:rect l="l" t="t" r="r" b="b"/>
              <a:pathLst>
                <a:path w="237" h="1565">
                  <a:moveTo>
                    <a:pt x="0" y="1565"/>
                  </a:moveTo>
                  <a:lnTo>
                    <a:pt x="0" y="0"/>
                  </a:lnTo>
                  <a:lnTo>
                    <a:pt x="0" y="0"/>
                  </a:lnTo>
                  <a:lnTo>
                    <a:pt x="237" y="0"/>
                  </a:lnTo>
                  <a:lnTo>
                    <a:pt x="237" y="1565"/>
                  </a:lnTo>
                  <a:lnTo>
                    <a:pt x="0" y="1565"/>
                  </a:lnTo>
                  <a:close/>
                </a:path>
              </a:pathLst>
            </a:cu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4390920" y="5459400"/>
              <a:ext cx="376200" cy="1085760"/>
            </a:xfrm>
            <a:prstGeom prst="rect">
              <a:avLst/>
            </a:pr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4390920" y="3075120"/>
              <a:ext cx="401760" cy="28440"/>
            </a:xfrm>
            <a:custGeom>
              <a:avLst/>
              <a:gdLst/>
              <a:ahLst/>
              <a:rect l="l" t="t" r="r" b="b"/>
              <a:pathLst>
                <a:path w="253" h="19">
                  <a:moveTo>
                    <a:pt x="253" y="6"/>
                  </a:moveTo>
                  <a:lnTo>
                    <a:pt x="237" y="0"/>
                  </a:lnTo>
                  <a:lnTo>
                    <a:pt x="0" y="0"/>
                  </a:lnTo>
                  <a:lnTo>
                    <a:pt x="0" y="19"/>
                  </a:lnTo>
                  <a:lnTo>
                    <a:pt x="237" y="19"/>
                  </a:lnTo>
                  <a:lnTo>
                    <a:pt x="229" y="6"/>
                  </a:lnTo>
                  <a:lnTo>
                    <a:pt x="237" y="19"/>
                  </a:lnTo>
                  <a:lnTo>
                    <a:pt x="245" y="19"/>
                  </a:lnTo>
                  <a:lnTo>
                    <a:pt x="253" y="6"/>
                  </a:lnTo>
                  <a:lnTo>
                    <a:pt x="245" y="0"/>
                  </a:lnTo>
                  <a:lnTo>
                    <a:pt x="237" y="0"/>
                  </a:lnTo>
                  <a:lnTo>
                    <a:pt x="253" y="6"/>
                  </a:lnTo>
                  <a:close/>
                </a:path>
              </a:pathLst>
            </a:custGeom>
            <a:solidFill>
              <a:srgbClr val="0e0d0d"/>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754520" y="3084480"/>
              <a:ext cx="38160" cy="3479760"/>
            </a:xfrm>
            <a:custGeom>
              <a:avLst/>
              <a:gdLst/>
              <a:ahLst/>
              <a:rect l="l" t="t" r="r" b="b"/>
              <a:pathLst>
                <a:path w="24" h="2293">
                  <a:moveTo>
                    <a:pt x="8" y="2293"/>
                  </a:moveTo>
                  <a:lnTo>
                    <a:pt x="24" y="2280"/>
                  </a:lnTo>
                  <a:lnTo>
                    <a:pt x="24" y="0"/>
                  </a:lnTo>
                  <a:lnTo>
                    <a:pt x="0" y="0"/>
                  </a:lnTo>
                  <a:lnTo>
                    <a:pt x="0" y="2280"/>
                  </a:lnTo>
                  <a:lnTo>
                    <a:pt x="8" y="2273"/>
                  </a:lnTo>
                  <a:lnTo>
                    <a:pt x="0" y="2280"/>
                  </a:lnTo>
                  <a:lnTo>
                    <a:pt x="0" y="2293"/>
                  </a:lnTo>
                  <a:lnTo>
                    <a:pt x="8" y="2293"/>
                  </a:lnTo>
                  <a:lnTo>
                    <a:pt x="16" y="2293"/>
                  </a:lnTo>
                  <a:lnTo>
                    <a:pt x="24" y="2280"/>
                  </a:lnTo>
                  <a:lnTo>
                    <a:pt x="8" y="2293"/>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4363920" y="6534000"/>
              <a:ext cx="403200" cy="30240"/>
            </a:xfrm>
            <a:custGeom>
              <a:avLst/>
              <a:gdLst/>
              <a:ahLst/>
              <a:rect l="l" t="t" r="r" b="b"/>
              <a:pathLst>
                <a:path w="254" h="20">
                  <a:moveTo>
                    <a:pt x="0" y="7"/>
                  </a:moveTo>
                  <a:lnTo>
                    <a:pt x="17" y="20"/>
                  </a:lnTo>
                  <a:lnTo>
                    <a:pt x="254" y="20"/>
                  </a:lnTo>
                  <a:lnTo>
                    <a:pt x="254" y="0"/>
                  </a:lnTo>
                  <a:lnTo>
                    <a:pt x="17" y="0"/>
                  </a:lnTo>
                  <a:lnTo>
                    <a:pt x="33" y="7"/>
                  </a:lnTo>
                  <a:lnTo>
                    <a:pt x="17" y="0"/>
                  </a:lnTo>
                  <a:lnTo>
                    <a:pt x="9" y="0"/>
                  </a:lnTo>
                  <a:lnTo>
                    <a:pt x="9" y="7"/>
                  </a:lnTo>
                  <a:lnTo>
                    <a:pt x="9" y="20"/>
                  </a:lnTo>
                  <a:lnTo>
                    <a:pt x="17" y="20"/>
                  </a:lnTo>
                  <a:lnTo>
                    <a:pt x="0" y="7"/>
                  </a:lnTo>
                  <a:close/>
                </a:path>
              </a:pathLst>
            </a:custGeom>
            <a:solidFill>
              <a:srgbClr val="0e0d0d"/>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363920" y="3075120"/>
              <a:ext cx="52560" cy="3470040"/>
            </a:xfrm>
            <a:custGeom>
              <a:avLst/>
              <a:gdLst/>
              <a:ahLst/>
              <a:rect l="l" t="t" r="r" b="b"/>
              <a:pathLst>
                <a:path w="33" h="2286">
                  <a:moveTo>
                    <a:pt x="17" y="0"/>
                  </a:moveTo>
                  <a:lnTo>
                    <a:pt x="0" y="6"/>
                  </a:lnTo>
                  <a:lnTo>
                    <a:pt x="0" y="2286"/>
                  </a:lnTo>
                  <a:lnTo>
                    <a:pt x="33" y="2286"/>
                  </a:lnTo>
                  <a:lnTo>
                    <a:pt x="33" y="6"/>
                  </a:lnTo>
                  <a:lnTo>
                    <a:pt x="17" y="19"/>
                  </a:lnTo>
                  <a:lnTo>
                    <a:pt x="33" y="6"/>
                  </a:lnTo>
                  <a:lnTo>
                    <a:pt x="25" y="0"/>
                  </a:lnTo>
                  <a:lnTo>
                    <a:pt x="17" y="0"/>
                  </a:lnTo>
                  <a:lnTo>
                    <a:pt x="9" y="0"/>
                  </a:lnTo>
                  <a:lnTo>
                    <a:pt x="0" y="6"/>
                  </a:lnTo>
                  <a:lnTo>
                    <a:pt x="17"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2768760" y="2751120"/>
              <a:ext cx="1803240" cy="4087800"/>
            </a:xfrm>
            <a:custGeom>
              <a:avLst/>
              <a:gdLst/>
              <a:ahLst/>
              <a:rect l="l" t="t" r="r" b="b"/>
              <a:pathLst>
                <a:path w="1136" h="2692">
                  <a:moveTo>
                    <a:pt x="817" y="0"/>
                  </a:moveTo>
                  <a:lnTo>
                    <a:pt x="1136" y="6"/>
                  </a:lnTo>
                  <a:lnTo>
                    <a:pt x="286" y="2692"/>
                  </a:lnTo>
                  <a:lnTo>
                    <a:pt x="0" y="2692"/>
                  </a:lnTo>
                  <a:lnTo>
                    <a:pt x="817" y="0"/>
                  </a:lnTo>
                  <a:close/>
                </a:path>
              </a:pathLst>
            </a:cu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065480" y="2743200"/>
              <a:ext cx="519120" cy="36360"/>
            </a:xfrm>
            <a:custGeom>
              <a:avLst/>
              <a:gdLst/>
              <a:ahLst/>
              <a:rect l="l" t="t" r="r" b="b"/>
              <a:pathLst>
                <a:path w="327" h="25">
                  <a:moveTo>
                    <a:pt x="327" y="19"/>
                  </a:moveTo>
                  <a:lnTo>
                    <a:pt x="319" y="6"/>
                  </a:lnTo>
                  <a:lnTo>
                    <a:pt x="0" y="0"/>
                  </a:lnTo>
                  <a:lnTo>
                    <a:pt x="0" y="19"/>
                  </a:lnTo>
                  <a:lnTo>
                    <a:pt x="319" y="25"/>
                  </a:lnTo>
                  <a:lnTo>
                    <a:pt x="303" y="12"/>
                  </a:lnTo>
                  <a:lnTo>
                    <a:pt x="319" y="25"/>
                  </a:lnTo>
                  <a:lnTo>
                    <a:pt x="327" y="19"/>
                  </a:lnTo>
                  <a:lnTo>
                    <a:pt x="327" y="12"/>
                  </a:lnTo>
                  <a:lnTo>
                    <a:pt x="327" y="6"/>
                  </a:lnTo>
                  <a:lnTo>
                    <a:pt x="319" y="6"/>
                  </a:lnTo>
                  <a:lnTo>
                    <a:pt x="327" y="19"/>
                  </a:lnTo>
                  <a:close/>
                </a:path>
              </a:pathLst>
            </a:custGeom>
            <a:solidFill>
              <a:srgbClr val="0e0d0d"/>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3209760" y="2760840"/>
              <a:ext cx="1374840" cy="4097160"/>
            </a:xfrm>
            <a:custGeom>
              <a:avLst/>
              <a:gdLst/>
              <a:ahLst/>
              <a:rect l="l" t="t" r="r" b="b"/>
              <a:pathLst>
                <a:path w="866" h="2699">
                  <a:moveTo>
                    <a:pt x="8" y="2699"/>
                  </a:moveTo>
                  <a:lnTo>
                    <a:pt x="24" y="2693"/>
                  </a:lnTo>
                  <a:lnTo>
                    <a:pt x="866" y="7"/>
                  </a:lnTo>
                  <a:lnTo>
                    <a:pt x="842" y="0"/>
                  </a:lnTo>
                  <a:lnTo>
                    <a:pt x="0" y="2686"/>
                  </a:lnTo>
                  <a:lnTo>
                    <a:pt x="8" y="2680"/>
                  </a:lnTo>
                  <a:lnTo>
                    <a:pt x="0" y="2686"/>
                  </a:lnTo>
                  <a:lnTo>
                    <a:pt x="0" y="2693"/>
                  </a:lnTo>
                  <a:lnTo>
                    <a:pt x="0" y="2693"/>
                  </a:lnTo>
                  <a:lnTo>
                    <a:pt x="0" y="2699"/>
                  </a:lnTo>
                  <a:lnTo>
                    <a:pt x="8" y="2699"/>
                  </a:lnTo>
                  <a:lnTo>
                    <a:pt x="16" y="2699"/>
                  </a:lnTo>
                  <a:lnTo>
                    <a:pt x="16" y="2699"/>
                  </a:lnTo>
                  <a:lnTo>
                    <a:pt x="24" y="2693"/>
                  </a:lnTo>
                  <a:lnTo>
                    <a:pt x="24" y="2693"/>
                  </a:lnTo>
                  <a:lnTo>
                    <a:pt x="8" y="2699"/>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2755800" y="6829560"/>
              <a:ext cx="466920" cy="28440"/>
            </a:xfrm>
            <a:custGeom>
              <a:avLst/>
              <a:gdLst/>
              <a:ahLst/>
              <a:rect l="l" t="t" r="r" b="b"/>
              <a:pathLst>
                <a:path w="294" h="19">
                  <a:moveTo>
                    <a:pt x="0" y="6"/>
                  </a:moveTo>
                  <a:lnTo>
                    <a:pt x="8" y="19"/>
                  </a:lnTo>
                  <a:lnTo>
                    <a:pt x="294" y="19"/>
                  </a:lnTo>
                  <a:lnTo>
                    <a:pt x="294" y="0"/>
                  </a:lnTo>
                  <a:lnTo>
                    <a:pt x="8" y="0"/>
                  </a:lnTo>
                  <a:lnTo>
                    <a:pt x="24" y="13"/>
                  </a:lnTo>
                  <a:lnTo>
                    <a:pt x="8" y="0"/>
                  </a:lnTo>
                  <a:lnTo>
                    <a:pt x="0" y="0"/>
                  </a:lnTo>
                  <a:lnTo>
                    <a:pt x="0" y="6"/>
                  </a:lnTo>
                  <a:lnTo>
                    <a:pt x="0" y="19"/>
                  </a:lnTo>
                  <a:lnTo>
                    <a:pt x="8" y="19"/>
                  </a:lnTo>
                  <a:lnTo>
                    <a:pt x="0" y="6"/>
                  </a:lnTo>
                  <a:close/>
                </a:path>
              </a:pathLst>
            </a:custGeom>
            <a:solidFill>
              <a:srgbClr val="0e0d0d"/>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2755800" y="2743200"/>
              <a:ext cx="1336680" cy="4105440"/>
            </a:xfrm>
            <a:custGeom>
              <a:avLst/>
              <a:gdLst/>
              <a:ahLst/>
              <a:rect l="l" t="t" r="r" b="b"/>
              <a:pathLst>
                <a:path w="842" h="2705">
                  <a:moveTo>
                    <a:pt x="825" y="0"/>
                  </a:moveTo>
                  <a:lnTo>
                    <a:pt x="817" y="6"/>
                  </a:lnTo>
                  <a:lnTo>
                    <a:pt x="0" y="2698"/>
                  </a:lnTo>
                  <a:lnTo>
                    <a:pt x="24" y="2705"/>
                  </a:lnTo>
                  <a:lnTo>
                    <a:pt x="842" y="12"/>
                  </a:lnTo>
                  <a:lnTo>
                    <a:pt x="825" y="19"/>
                  </a:lnTo>
                  <a:lnTo>
                    <a:pt x="842" y="12"/>
                  </a:lnTo>
                  <a:lnTo>
                    <a:pt x="842" y="6"/>
                  </a:lnTo>
                  <a:lnTo>
                    <a:pt x="842" y="0"/>
                  </a:lnTo>
                  <a:lnTo>
                    <a:pt x="834" y="0"/>
                  </a:lnTo>
                  <a:lnTo>
                    <a:pt x="834" y="0"/>
                  </a:lnTo>
                  <a:lnTo>
                    <a:pt x="825" y="0"/>
                  </a:lnTo>
                  <a:lnTo>
                    <a:pt x="817" y="0"/>
                  </a:lnTo>
                  <a:lnTo>
                    <a:pt x="817" y="0"/>
                  </a:lnTo>
                  <a:lnTo>
                    <a:pt x="817" y="6"/>
                  </a:lnTo>
                  <a:lnTo>
                    <a:pt x="825"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584600" y="2751120"/>
              <a:ext cx="1830600" cy="4087800"/>
            </a:xfrm>
            <a:custGeom>
              <a:avLst/>
              <a:gdLst/>
              <a:ahLst/>
              <a:rect l="l" t="t" r="r" b="b"/>
              <a:pathLst>
                <a:path w="1153" h="2692">
                  <a:moveTo>
                    <a:pt x="311" y="0"/>
                  </a:moveTo>
                  <a:lnTo>
                    <a:pt x="0" y="6"/>
                  </a:lnTo>
                  <a:lnTo>
                    <a:pt x="842" y="2692"/>
                  </a:lnTo>
                  <a:lnTo>
                    <a:pt x="1153" y="2692"/>
                  </a:lnTo>
                  <a:lnTo>
                    <a:pt x="311" y="0"/>
                  </a:lnTo>
                  <a:close/>
                </a:path>
              </a:pathLst>
            </a:cu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559400" y="2743200"/>
              <a:ext cx="519120" cy="36360"/>
            </a:xfrm>
            <a:custGeom>
              <a:avLst/>
              <a:gdLst/>
              <a:ahLst/>
              <a:rect l="l" t="t" r="r" b="b"/>
              <a:pathLst>
                <a:path w="327" h="25">
                  <a:moveTo>
                    <a:pt x="25" y="12"/>
                  </a:moveTo>
                  <a:lnTo>
                    <a:pt x="16" y="25"/>
                  </a:lnTo>
                  <a:lnTo>
                    <a:pt x="327" y="19"/>
                  </a:lnTo>
                  <a:lnTo>
                    <a:pt x="327" y="0"/>
                  </a:lnTo>
                  <a:lnTo>
                    <a:pt x="16" y="6"/>
                  </a:lnTo>
                  <a:lnTo>
                    <a:pt x="0" y="19"/>
                  </a:lnTo>
                  <a:lnTo>
                    <a:pt x="16" y="6"/>
                  </a:lnTo>
                  <a:lnTo>
                    <a:pt x="8" y="6"/>
                  </a:lnTo>
                  <a:lnTo>
                    <a:pt x="0" y="12"/>
                  </a:lnTo>
                  <a:lnTo>
                    <a:pt x="8" y="19"/>
                  </a:lnTo>
                  <a:lnTo>
                    <a:pt x="16" y="25"/>
                  </a:lnTo>
                  <a:lnTo>
                    <a:pt x="25" y="12"/>
                  </a:lnTo>
                  <a:close/>
                </a:path>
              </a:pathLst>
            </a:custGeom>
            <a:solidFill>
              <a:srgbClr val="0e0d0d"/>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559400" y="2760840"/>
              <a:ext cx="1388880" cy="4097160"/>
            </a:xfrm>
            <a:custGeom>
              <a:avLst/>
              <a:gdLst/>
              <a:ahLst/>
              <a:rect l="l" t="t" r="r" b="b"/>
              <a:pathLst>
                <a:path w="875" h="2699">
                  <a:moveTo>
                    <a:pt x="858" y="2680"/>
                  </a:moveTo>
                  <a:lnTo>
                    <a:pt x="875" y="2686"/>
                  </a:lnTo>
                  <a:lnTo>
                    <a:pt x="25" y="0"/>
                  </a:lnTo>
                  <a:lnTo>
                    <a:pt x="0" y="7"/>
                  </a:lnTo>
                  <a:lnTo>
                    <a:pt x="850" y="2693"/>
                  </a:lnTo>
                  <a:lnTo>
                    <a:pt x="858" y="2699"/>
                  </a:lnTo>
                  <a:lnTo>
                    <a:pt x="850" y="2693"/>
                  </a:lnTo>
                  <a:lnTo>
                    <a:pt x="850" y="2693"/>
                  </a:lnTo>
                  <a:lnTo>
                    <a:pt x="850" y="2699"/>
                  </a:lnTo>
                  <a:lnTo>
                    <a:pt x="858" y="2699"/>
                  </a:lnTo>
                  <a:lnTo>
                    <a:pt x="866" y="2699"/>
                  </a:lnTo>
                  <a:lnTo>
                    <a:pt x="866" y="2699"/>
                  </a:lnTo>
                  <a:lnTo>
                    <a:pt x="875" y="2693"/>
                  </a:lnTo>
                  <a:lnTo>
                    <a:pt x="875" y="2693"/>
                  </a:lnTo>
                  <a:lnTo>
                    <a:pt x="875" y="2686"/>
                  </a:lnTo>
                  <a:lnTo>
                    <a:pt x="858" y="268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921280" y="6829560"/>
              <a:ext cx="519120" cy="28440"/>
            </a:xfrm>
            <a:custGeom>
              <a:avLst/>
              <a:gdLst/>
              <a:ahLst/>
              <a:rect l="l" t="t" r="r" b="b"/>
              <a:pathLst>
                <a:path w="327" h="19">
                  <a:moveTo>
                    <a:pt x="303" y="13"/>
                  </a:moveTo>
                  <a:lnTo>
                    <a:pt x="311" y="0"/>
                  </a:lnTo>
                  <a:lnTo>
                    <a:pt x="0" y="0"/>
                  </a:lnTo>
                  <a:lnTo>
                    <a:pt x="0" y="19"/>
                  </a:lnTo>
                  <a:lnTo>
                    <a:pt x="311" y="19"/>
                  </a:lnTo>
                  <a:lnTo>
                    <a:pt x="327" y="6"/>
                  </a:lnTo>
                  <a:lnTo>
                    <a:pt x="311" y="19"/>
                  </a:lnTo>
                  <a:lnTo>
                    <a:pt x="319" y="19"/>
                  </a:lnTo>
                  <a:lnTo>
                    <a:pt x="327" y="6"/>
                  </a:lnTo>
                  <a:lnTo>
                    <a:pt x="319" y="0"/>
                  </a:lnTo>
                  <a:lnTo>
                    <a:pt x="311" y="0"/>
                  </a:lnTo>
                  <a:lnTo>
                    <a:pt x="303" y="13"/>
                  </a:lnTo>
                  <a:close/>
                </a:path>
              </a:pathLst>
            </a:custGeom>
            <a:solidFill>
              <a:srgbClr val="0e0d0d"/>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5065560" y="2743200"/>
              <a:ext cx="1374840" cy="4105440"/>
            </a:xfrm>
            <a:custGeom>
              <a:avLst/>
              <a:gdLst/>
              <a:ahLst/>
              <a:rect l="l" t="t" r="r" b="b"/>
              <a:pathLst>
                <a:path w="866" h="2705">
                  <a:moveTo>
                    <a:pt x="8" y="19"/>
                  </a:moveTo>
                  <a:lnTo>
                    <a:pt x="0" y="12"/>
                  </a:lnTo>
                  <a:lnTo>
                    <a:pt x="842" y="2705"/>
                  </a:lnTo>
                  <a:lnTo>
                    <a:pt x="866" y="2698"/>
                  </a:lnTo>
                  <a:lnTo>
                    <a:pt x="24" y="6"/>
                  </a:lnTo>
                  <a:lnTo>
                    <a:pt x="8" y="0"/>
                  </a:lnTo>
                  <a:lnTo>
                    <a:pt x="24" y="6"/>
                  </a:lnTo>
                  <a:lnTo>
                    <a:pt x="24" y="0"/>
                  </a:lnTo>
                  <a:lnTo>
                    <a:pt x="16" y="0"/>
                  </a:lnTo>
                  <a:lnTo>
                    <a:pt x="8" y="0"/>
                  </a:lnTo>
                  <a:lnTo>
                    <a:pt x="8" y="0"/>
                  </a:lnTo>
                  <a:lnTo>
                    <a:pt x="0" y="0"/>
                  </a:lnTo>
                  <a:lnTo>
                    <a:pt x="0" y="0"/>
                  </a:lnTo>
                  <a:lnTo>
                    <a:pt x="0" y="6"/>
                  </a:lnTo>
                  <a:lnTo>
                    <a:pt x="0" y="12"/>
                  </a:lnTo>
                  <a:lnTo>
                    <a:pt x="8" y="19"/>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624120" y="5332320"/>
              <a:ext cx="1895760" cy="263520"/>
            </a:xfrm>
            <a:custGeom>
              <a:avLst/>
              <a:gdLst/>
              <a:ahLst/>
              <a:rect l="l" t="t" r="r" b="b"/>
              <a:pathLst>
                <a:path w="1194" h="174">
                  <a:moveTo>
                    <a:pt x="58" y="0"/>
                  </a:moveTo>
                  <a:lnTo>
                    <a:pt x="1137" y="0"/>
                  </a:lnTo>
                  <a:lnTo>
                    <a:pt x="1194" y="174"/>
                  </a:lnTo>
                  <a:lnTo>
                    <a:pt x="0" y="174"/>
                  </a:lnTo>
                  <a:lnTo>
                    <a:pt x="58" y="0"/>
                  </a:lnTo>
                  <a:close/>
                </a:path>
              </a:pathLst>
            </a:cu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716280" y="5311800"/>
              <a:ext cx="1738440" cy="39600"/>
            </a:xfrm>
            <a:custGeom>
              <a:avLst/>
              <a:gdLst/>
              <a:ahLst/>
              <a:rect l="l" t="t" r="r" b="b"/>
              <a:pathLst>
                <a:path w="1095" h="26">
                  <a:moveTo>
                    <a:pt x="1095" y="13"/>
                  </a:moveTo>
                  <a:lnTo>
                    <a:pt x="1079" y="0"/>
                  </a:lnTo>
                  <a:lnTo>
                    <a:pt x="0" y="0"/>
                  </a:lnTo>
                  <a:lnTo>
                    <a:pt x="0" y="26"/>
                  </a:lnTo>
                  <a:lnTo>
                    <a:pt x="1079" y="26"/>
                  </a:lnTo>
                  <a:lnTo>
                    <a:pt x="1070" y="13"/>
                  </a:lnTo>
                  <a:lnTo>
                    <a:pt x="1079" y="26"/>
                  </a:lnTo>
                  <a:lnTo>
                    <a:pt x="1087" y="20"/>
                  </a:lnTo>
                  <a:lnTo>
                    <a:pt x="1095" y="13"/>
                  </a:lnTo>
                  <a:lnTo>
                    <a:pt x="1087" y="7"/>
                  </a:lnTo>
                  <a:lnTo>
                    <a:pt x="1079" y="0"/>
                  </a:lnTo>
                  <a:lnTo>
                    <a:pt x="1095" y="13"/>
                  </a:lnTo>
                  <a:close/>
                </a:path>
              </a:pathLst>
            </a:custGeom>
            <a:solidFill>
              <a:srgbClr val="0e0d0d"/>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5415120" y="5332320"/>
              <a:ext cx="117360" cy="284400"/>
            </a:xfrm>
            <a:custGeom>
              <a:avLst/>
              <a:gdLst/>
              <a:ahLst/>
              <a:rect l="l" t="t" r="r" b="b"/>
              <a:pathLst>
                <a:path w="74" h="187">
                  <a:moveTo>
                    <a:pt x="66" y="187"/>
                  </a:moveTo>
                  <a:lnTo>
                    <a:pt x="74" y="174"/>
                  </a:lnTo>
                  <a:lnTo>
                    <a:pt x="25" y="0"/>
                  </a:lnTo>
                  <a:lnTo>
                    <a:pt x="0" y="0"/>
                  </a:lnTo>
                  <a:lnTo>
                    <a:pt x="49" y="174"/>
                  </a:lnTo>
                  <a:lnTo>
                    <a:pt x="66" y="161"/>
                  </a:lnTo>
                  <a:lnTo>
                    <a:pt x="49" y="174"/>
                  </a:lnTo>
                  <a:lnTo>
                    <a:pt x="49" y="181"/>
                  </a:lnTo>
                  <a:lnTo>
                    <a:pt x="58" y="187"/>
                  </a:lnTo>
                  <a:lnTo>
                    <a:pt x="58" y="187"/>
                  </a:lnTo>
                  <a:lnTo>
                    <a:pt x="66" y="187"/>
                  </a:lnTo>
                  <a:lnTo>
                    <a:pt x="74" y="181"/>
                  </a:lnTo>
                  <a:lnTo>
                    <a:pt x="74" y="181"/>
                  </a:lnTo>
                  <a:lnTo>
                    <a:pt x="74" y="174"/>
                  </a:lnTo>
                  <a:lnTo>
                    <a:pt x="74" y="174"/>
                  </a:lnTo>
                  <a:lnTo>
                    <a:pt x="66" y="187"/>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611520" y="5576760"/>
              <a:ext cx="1908360" cy="39960"/>
            </a:xfrm>
            <a:custGeom>
              <a:avLst/>
              <a:gdLst/>
              <a:ahLst/>
              <a:rect l="l" t="t" r="r" b="b"/>
              <a:pathLst>
                <a:path w="1202" h="26">
                  <a:moveTo>
                    <a:pt x="0" y="13"/>
                  </a:moveTo>
                  <a:lnTo>
                    <a:pt x="8" y="26"/>
                  </a:lnTo>
                  <a:lnTo>
                    <a:pt x="1202" y="26"/>
                  </a:lnTo>
                  <a:lnTo>
                    <a:pt x="1202" y="0"/>
                  </a:lnTo>
                  <a:lnTo>
                    <a:pt x="8" y="0"/>
                  </a:lnTo>
                  <a:lnTo>
                    <a:pt x="25" y="13"/>
                  </a:lnTo>
                  <a:lnTo>
                    <a:pt x="8" y="0"/>
                  </a:lnTo>
                  <a:lnTo>
                    <a:pt x="0" y="7"/>
                  </a:lnTo>
                  <a:lnTo>
                    <a:pt x="0" y="13"/>
                  </a:lnTo>
                  <a:lnTo>
                    <a:pt x="0" y="20"/>
                  </a:lnTo>
                  <a:lnTo>
                    <a:pt x="8" y="26"/>
                  </a:lnTo>
                  <a:lnTo>
                    <a:pt x="0" y="13"/>
                  </a:lnTo>
                  <a:close/>
                </a:path>
              </a:pathLst>
            </a:custGeom>
            <a:solidFill>
              <a:srgbClr val="0e0d0d"/>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611520" y="5311800"/>
              <a:ext cx="130320" cy="284040"/>
            </a:xfrm>
            <a:custGeom>
              <a:avLst/>
              <a:gdLst/>
              <a:ahLst/>
              <a:rect l="l" t="t" r="r" b="b"/>
              <a:pathLst>
                <a:path w="82" h="187">
                  <a:moveTo>
                    <a:pt x="66" y="0"/>
                  </a:moveTo>
                  <a:lnTo>
                    <a:pt x="58" y="13"/>
                  </a:lnTo>
                  <a:lnTo>
                    <a:pt x="0" y="187"/>
                  </a:lnTo>
                  <a:lnTo>
                    <a:pt x="25" y="187"/>
                  </a:lnTo>
                  <a:lnTo>
                    <a:pt x="82" y="13"/>
                  </a:lnTo>
                  <a:lnTo>
                    <a:pt x="66" y="26"/>
                  </a:lnTo>
                  <a:lnTo>
                    <a:pt x="82" y="13"/>
                  </a:lnTo>
                  <a:lnTo>
                    <a:pt x="82" y="13"/>
                  </a:lnTo>
                  <a:lnTo>
                    <a:pt x="82" y="7"/>
                  </a:lnTo>
                  <a:lnTo>
                    <a:pt x="74" y="7"/>
                  </a:lnTo>
                  <a:lnTo>
                    <a:pt x="74" y="0"/>
                  </a:lnTo>
                  <a:lnTo>
                    <a:pt x="66" y="0"/>
                  </a:lnTo>
                  <a:lnTo>
                    <a:pt x="66" y="7"/>
                  </a:lnTo>
                  <a:lnTo>
                    <a:pt x="58" y="7"/>
                  </a:lnTo>
                  <a:lnTo>
                    <a:pt x="58" y="13"/>
                  </a:lnTo>
                  <a:lnTo>
                    <a:pt x="66"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378240" y="5156280"/>
              <a:ext cx="298440" cy="234720"/>
            </a:xfrm>
            <a:custGeom>
              <a:avLst/>
              <a:gdLst/>
              <a:ahLst/>
              <a:rect l="l" t="t" r="r" b="b"/>
              <a:pathLst>
                <a:path w="188" h="155">
                  <a:moveTo>
                    <a:pt x="98" y="155"/>
                  </a:moveTo>
                  <a:lnTo>
                    <a:pt x="74" y="148"/>
                  </a:lnTo>
                  <a:lnTo>
                    <a:pt x="57" y="148"/>
                  </a:lnTo>
                  <a:lnTo>
                    <a:pt x="41" y="136"/>
                  </a:lnTo>
                  <a:lnTo>
                    <a:pt x="25" y="129"/>
                  </a:lnTo>
                  <a:lnTo>
                    <a:pt x="17" y="116"/>
                  </a:lnTo>
                  <a:lnTo>
                    <a:pt x="8" y="103"/>
                  </a:lnTo>
                  <a:lnTo>
                    <a:pt x="0" y="91"/>
                  </a:lnTo>
                  <a:lnTo>
                    <a:pt x="0" y="78"/>
                  </a:lnTo>
                  <a:lnTo>
                    <a:pt x="0" y="58"/>
                  </a:lnTo>
                  <a:lnTo>
                    <a:pt x="8" y="45"/>
                  </a:lnTo>
                  <a:lnTo>
                    <a:pt x="17" y="33"/>
                  </a:lnTo>
                  <a:lnTo>
                    <a:pt x="25" y="26"/>
                  </a:lnTo>
                  <a:lnTo>
                    <a:pt x="41" y="13"/>
                  </a:lnTo>
                  <a:lnTo>
                    <a:pt x="57" y="7"/>
                  </a:lnTo>
                  <a:lnTo>
                    <a:pt x="74" y="0"/>
                  </a:lnTo>
                  <a:lnTo>
                    <a:pt x="98" y="0"/>
                  </a:lnTo>
                  <a:lnTo>
                    <a:pt x="115" y="0"/>
                  </a:lnTo>
                  <a:lnTo>
                    <a:pt x="131" y="7"/>
                  </a:lnTo>
                  <a:lnTo>
                    <a:pt x="147" y="13"/>
                  </a:lnTo>
                  <a:lnTo>
                    <a:pt x="164" y="26"/>
                  </a:lnTo>
                  <a:lnTo>
                    <a:pt x="172" y="33"/>
                  </a:lnTo>
                  <a:lnTo>
                    <a:pt x="180" y="45"/>
                  </a:lnTo>
                  <a:lnTo>
                    <a:pt x="188" y="58"/>
                  </a:lnTo>
                  <a:lnTo>
                    <a:pt x="188" y="78"/>
                  </a:lnTo>
                  <a:lnTo>
                    <a:pt x="188" y="91"/>
                  </a:lnTo>
                  <a:lnTo>
                    <a:pt x="180" y="103"/>
                  </a:lnTo>
                  <a:lnTo>
                    <a:pt x="172" y="116"/>
                  </a:lnTo>
                  <a:lnTo>
                    <a:pt x="164" y="129"/>
                  </a:lnTo>
                  <a:lnTo>
                    <a:pt x="147" y="136"/>
                  </a:lnTo>
                  <a:lnTo>
                    <a:pt x="131" y="148"/>
                  </a:lnTo>
                  <a:lnTo>
                    <a:pt x="115" y="148"/>
                  </a:lnTo>
                  <a:lnTo>
                    <a:pt x="98" y="155"/>
                  </a:lnTo>
                  <a:close/>
                </a:path>
              </a:pathLst>
            </a:cu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275440"/>
              <a:ext cx="181080" cy="125280"/>
            </a:xfrm>
            <a:custGeom>
              <a:avLst/>
              <a:gdLst/>
              <a:ahLst/>
              <a:rect l="l" t="t" r="r" b="b"/>
              <a:pathLst>
                <a:path w="114" h="83">
                  <a:moveTo>
                    <a:pt x="0" y="0"/>
                  </a:moveTo>
                  <a:lnTo>
                    <a:pt x="0" y="0"/>
                  </a:lnTo>
                  <a:lnTo>
                    <a:pt x="8" y="13"/>
                  </a:lnTo>
                  <a:lnTo>
                    <a:pt x="16" y="32"/>
                  </a:lnTo>
                  <a:lnTo>
                    <a:pt x="24" y="45"/>
                  </a:lnTo>
                  <a:lnTo>
                    <a:pt x="33" y="58"/>
                  </a:lnTo>
                  <a:lnTo>
                    <a:pt x="49" y="70"/>
                  </a:lnTo>
                  <a:lnTo>
                    <a:pt x="73" y="77"/>
                  </a:lnTo>
                  <a:lnTo>
                    <a:pt x="90" y="83"/>
                  </a:lnTo>
                  <a:lnTo>
                    <a:pt x="114" y="83"/>
                  </a:lnTo>
                  <a:lnTo>
                    <a:pt x="114" y="64"/>
                  </a:lnTo>
                  <a:lnTo>
                    <a:pt x="98" y="64"/>
                  </a:lnTo>
                  <a:lnTo>
                    <a:pt x="82" y="58"/>
                  </a:lnTo>
                  <a:lnTo>
                    <a:pt x="65" y="51"/>
                  </a:lnTo>
                  <a:lnTo>
                    <a:pt x="57" y="45"/>
                  </a:lnTo>
                  <a:lnTo>
                    <a:pt x="41" y="38"/>
                  </a:lnTo>
                  <a:lnTo>
                    <a:pt x="33" y="25"/>
                  </a:lnTo>
                  <a:lnTo>
                    <a:pt x="33" y="13"/>
                  </a:lnTo>
                  <a:lnTo>
                    <a:pt x="33" y="0"/>
                  </a:lnTo>
                  <a:lnTo>
                    <a:pt x="33" y="0"/>
                  </a:lnTo>
                  <a:lnTo>
                    <a:pt x="0"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3352680" y="5137200"/>
              <a:ext cx="181080" cy="138240"/>
            </a:xfrm>
            <a:custGeom>
              <a:avLst/>
              <a:gdLst/>
              <a:ahLst/>
              <a:rect l="l" t="t" r="r" b="b"/>
              <a:pathLst>
                <a:path w="114" h="91">
                  <a:moveTo>
                    <a:pt x="114" y="0"/>
                  </a:moveTo>
                  <a:lnTo>
                    <a:pt x="114" y="0"/>
                  </a:lnTo>
                  <a:lnTo>
                    <a:pt x="90" y="7"/>
                  </a:lnTo>
                  <a:lnTo>
                    <a:pt x="73" y="13"/>
                  </a:lnTo>
                  <a:lnTo>
                    <a:pt x="49" y="20"/>
                  </a:lnTo>
                  <a:lnTo>
                    <a:pt x="33" y="26"/>
                  </a:lnTo>
                  <a:lnTo>
                    <a:pt x="24" y="39"/>
                  </a:lnTo>
                  <a:lnTo>
                    <a:pt x="16" y="58"/>
                  </a:lnTo>
                  <a:lnTo>
                    <a:pt x="8" y="71"/>
                  </a:lnTo>
                  <a:lnTo>
                    <a:pt x="0" y="91"/>
                  </a:lnTo>
                  <a:lnTo>
                    <a:pt x="33" y="91"/>
                  </a:lnTo>
                  <a:lnTo>
                    <a:pt x="33" y="78"/>
                  </a:lnTo>
                  <a:lnTo>
                    <a:pt x="33" y="65"/>
                  </a:lnTo>
                  <a:lnTo>
                    <a:pt x="41" y="52"/>
                  </a:lnTo>
                  <a:lnTo>
                    <a:pt x="57" y="46"/>
                  </a:lnTo>
                  <a:lnTo>
                    <a:pt x="65" y="33"/>
                  </a:lnTo>
                  <a:lnTo>
                    <a:pt x="82" y="26"/>
                  </a:lnTo>
                  <a:lnTo>
                    <a:pt x="98" y="26"/>
                  </a:lnTo>
                  <a:lnTo>
                    <a:pt x="114" y="26"/>
                  </a:lnTo>
                  <a:lnTo>
                    <a:pt x="114" y="26"/>
                  </a:lnTo>
                  <a:lnTo>
                    <a:pt x="114"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533760" y="5137200"/>
              <a:ext cx="169920" cy="138240"/>
            </a:xfrm>
            <a:custGeom>
              <a:avLst/>
              <a:gdLst/>
              <a:ahLst/>
              <a:rect l="l" t="t" r="r" b="b"/>
              <a:pathLst>
                <a:path w="107" h="91">
                  <a:moveTo>
                    <a:pt x="107" y="91"/>
                  </a:moveTo>
                  <a:lnTo>
                    <a:pt x="107" y="91"/>
                  </a:lnTo>
                  <a:lnTo>
                    <a:pt x="107" y="71"/>
                  </a:lnTo>
                  <a:lnTo>
                    <a:pt x="98" y="58"/>
                  </a:lnTo>
                  <a:lnTo>
                    <a:pt x="90" y="39"/>
                  </a:lnTo>
                  <a:lnTo>
                    <a:pt x="74" y="26"/>
                  </a:lnTo>
                  <a:lnTo>
                    <a:pt x="57" y="20"/>
                  </a:lnTo>
                  <a:lnTo>
                    <a:pt x="41" y="13"/>
                  </a:lnTo>
                  <a:lnTo>
                    <a:pt x="17" y="7"/>
                  </a:lnTo>
                  <a:lnTo>
                    <a:pt x="0" y="0"/>
                  </a:lnTo>
                  <a:lnTo>
                    <a:pt x="0" y="26"/>
                  </a:lnTo>
                  <a:lnTo>
                    <a:pt x="17" y="26"/>
                  </a:lnTo>
                  <a:lnTo>
                    <a:pt x="33" y="26"/>
                  </a:lnTo>
                  <a:lnTo>
                    <a:pt x="41" y="33"/>
                  </a:lnTo>
                  <a:lnTo>
                    <a:pt x="57" y="46"/>
                  </a:lnTo>
                  <a:lnTo>
                    <a:pt x="66" y="52"/>
                  </a:lnTo>
                  <a:lnTo>
                    <a:pt x="74" y="65"/>
                  </a:lnTo>
                  <a:lnTo>
                    <a:pt x="82" y="78"/>
                  </a:lnTo>
                  <a:lnTo>
                    <a:pt x="82" y="91"/>
                  </a:lnTo>
                  <a:lnTo>
                    <a:pt x="82" y="91"/>
                  </a:lnTo>
                  <a:lnTo>
                    <a:pt x="107" y="91"/>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533760" y="5275440"/>
              <a:ext cx="169920" cy="125280"/>
            </a:xfrm>
            <a:custGeom>
              <a:avLst/>
              <a:gdLst/>
              <a:ahLst/>
              <a:rect l="l" t="t" r="r" b="b"/>
              <a:pathLst>
                <a:path w="107" h="83">
                  <a:moveTo>
                    <a:pt x="0" y="83"/>
                  </a:moveTo>
                  <a:lnTo>
                    <a:pt x="0" y="83"/>
                  </a:lnTo>
                  <a:lnTo>
                    <a:pt x="17" y="83"/>
                  </a:lnTo>
                  <a:lnTo>
                    <a:pt x="41" y="77"/>
                  </a:lnTo>
                  <a:lnTo>
                    <a:pt x="57" y="70"/>
                  </a:lnTo>
                  <a:lnTo>
                    <a:pt x="74" y="58"/>
                  </a:lnTo>
                  <a:lnTo>
                    <a:pt x="90" y="45"/>
                  </a:lnTo>
                  <a:lnTo>
                    <a:pt x="98" y="32"/>
                  </a:lnTo>
                  <a:lnTo>
                    <a:pt x="107" y="13"/>
                  </a:lnTo>
                  <a:lnTo>
                    <a:pt x="107" y="0"/>
                  </a:lnTo>
                  <a:lnTo>
                    <a:pt x="82" y="0"/>
                  </a:lnTo>
                  <a:lnTo>
                    <a:pt x="82" y="13"/>
                  </a:lnTo>
                  <a:lnTo>
                    <a:pt x="74" y="25"/>
                  </a:lnTo>
                  <a:lnTo>
                    <a:pt x="66" y="38"/>
                  </a:lnTo>
                  <a:lnTo>
                    <a:pt x="57" y="45"/>
                  </a:lnTo>
                  <a:lnTo>
                    <a:pt x="41" y="51"/>
                  </a:lnTo>
                  <a:lnTo>
                    <a:pt x="33" y="58"/>
                  </a:lnTo>
                  <a:lnTo>
                    <a:pt x="17" y="64"/>
                  </a:lnTo>
                  <a:lnTo>
                    <a:pt x="0" y="64"/>
                  </a:lnTo>
                  <a:lnTo>
                    <a:pt x="0" y="64"/>
                  </a:lnTo>
                  <a:lnTo>
                    <a:pt x="0" y="83"/>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5467320" y="5156280"/>
              <a:ext cx="311040" cy="234720"/>
            </a:xfrm>
            <a:custGeom>
              <a:avLst/>
              <a:gdLst/>
              <a:ahLst/>
              <a:rect l="l" t="t" r="r" b="b"/>
              <a:pathLst>
                <a:path w="196" h="155">
                  <a:moveTo>
                    <a:pt x="98" y="155"/>
                  </a:moveTo>
                  <a:lnTo>
                    <a:pt x="115" y="148"/>
                  </a:lnTo>
                  <a:lnTo>
                    <a:pt x="131" y="148"/>
                  </a:lnTo>
                  <a:lnTo>
                    <a:pt x="147" y="136"/>
                  </a:lnTo>
                  <a:lnTo>
                    <a:pt x="164" y="129"/>
                  </a:lnTo>
                  <a:lnTo>
                    <a:pt x="180" y="116"/>
                  </a:lnTo>
                  <a:lnTo>
                    <a:pt x="188" y="103"/>
                  </a:lnTo>
                  <a:lnTo>
                    <a:pt x="188" y="91"/>
                  </a:lnTo>
                  <a:lnTo>
                    <a:pt x="196" y="78"/>
                  </a:lnTo>
                  <a:lnTo>
                    <a:pt x="188" y="58"/>
                  </a:lnTo>
                  <a:lnTo>
                    <a:pt x="188" y="45"/>
                  </a:lnTo>
                  <a:lnTo>
                    <a:pt x="180" y="33"/>
                  </a:lnTo>
                  <a:lnTo>
                    <a:pt x="164" y="26"/>
                  </a:lnTo>
                  <a:lnTo>
                    <a:pt x="147" y="13"/>
                  </a:lnTo>
                  <a:lnTo>
                    <a:pt x="131" y="7"/>
                  </a:lnTo>
                  <a:lnTo>
                    <a:pt x="115" y="0"/>
                  </a:lnTo>
                  <a:lnTo>
                    <a:pt x="98" y="0"/>
                  </a:lnTo>
                  <a:lnTo>
                    <a:pt x="74" y="0"/>
                  </a:lnTo>
                  <a:lnTo>
                    <a:pt x="57" y="7"/>
                  </a:lnTo>
                  <a:lnTo>
                    <a:pt x="41" y="13"/>
                  </a:lnTo>
                  <a:lnTo>
                    <a:pt x="33" y="26"/>
                  </a:lnTo>
                  <a:lnTo>
                    <a:pt x="16" y="33"/>
                  </a:lnTo>
                  <a:lnTo>
                    <a:pt x="8" y="45"/>
                  </a:lnTo>
                  <a:lnTo>
                    <a:pt x="0" y="58"/>
                  </a:lnTo>
                  <a:lnTo>
                    <a:pt x="0" y="78"/>
                  </a:lnTo>
                  <a:lnTo>
                    <a:pt x="0" y="91"/>
                  </a:lnTo>
                  <a:lnTo>
                    <a:pt x="8" y="103"/>
                  </a:lnTo>
                  <a:lnTo>
                    <a:pt x="16" y="116"/>
                  </a:lnTo>
                  <a:lnTo>
                    <a:pt x="33" y="129"/>
                  </a:lnTo>
                  <a:lnTo>
                    <a:pt x="41" y="136"/>
                  </a:lnTo>
                  <a:lnTo>
                    <a:pt x="57" y="148"/>
                  </a:lnTo>
                  <a:lnTo>
                    <a:pt x="74" y="148"/>
                  </a:lnTo>
                  <a:lnTo>
                    <a:pt x="98" y="155"/>
                  </a:lnTo>
                  <a:close/>
                </a:path>
              </a:pathLst>
            </a:custGeom>
            <a:solidFill>
              <a:srgbClr val="d8cf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5622840" y="5275440"/>
              <a:ext cx="168480" cy="125280"/>
            </a:xfrm>
            <a:custGeom>
              <a:avLst/>
              <a:gdLst/>
              <a:ahLst/>
              <a:rect l="l" t="t" r="r" b="b"/>
              <a:pathLst>
                <a:path w="106" h="83">
                  <a:moveTo>
                    <a:pt x="82" y="0"/>
                  </a:moveTo>
                  <a:lnTo>
                    <a:pt x="82" y="0"/>
                  </a:lnTo>
                  <a:lnTo>
                    <a:pt x="82" y="13"/>
                  </a:lnTo>
                  <a:lnTo>
                    <a:pt x="74" y="25"/>
                  </a:lnTo>
                  <a:lnTo>
                    <a:pt x="66" y="38"/>
                  </a:lnTo>
                  <a:lnTo>
                    <a:pt x="57" y="45"/>
                  </a:lnTo>
                  <a:lnTo>
                    <a:pt x="49" y="51"/>
                  </a:lnTo>
                  <a:lnTo>
                    <a:pt x="33" y="58"/>
                  </a:lnTo>
                  <a:lnTo>
                    <a:pt x="17" y="64"/>
                  </a:lnTo>
                  <a:lnTo>
                    <a:pt x="0" y="64"/>
                  </a:lnTo>
                  <a:lnTo>
                    <a:pt x="0" y="83"/>
                  </a:lnTo>
                  <a:lnTo>
                    <a:pt x="25" y="83"/>
                  </a:lnTo>
                  <a:lnTo>
                    <a:pt x="41" y="77"/>
                  </a:lnTo>
                  <a:lnTo>
                    <a:pt x="57" y="70"/>
                  </a:lnTo>
                  <a:lnTo>
                    <a:pt x="74" y="58"/>
                  </a:lnTo>
                  <a:lnTo>
                    <a:pt x="90" y="45"/>
                  </a:lnTo>
                  <a:lnTo>
                    <a:pt x="98" y="32"/>
                  </a:lnTo>
                  <a:lnTo>
                    <a:pt x="106" y="13"/>
                  </a:lnTo>
                  <a:lnTo>
                    <a:pt x="106" y="0"/>
                  </a:lnTo>
                  <a:lnTo>
                    <a:pt x="106" y="0"/>
                  </a:lnTo>
                  <a:lnTo>
                    <a:pt x="82" y="0"/>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622840" y="5137200"/>
              <a:ext cx="168480" cy="138240"/>
            </a:xfrm>
            <a:custGeom>
              <a:avLst/>
              <a:gdLst/>
              <a:ahLst/>
              <a:rect l="l" t="t" r="r" b="b"/>
              <a:pathLst>
                <a:path w="106" h="91">
                  <a:moveTo>
                    <a:pt x="0" y="26"/>
                  </a:moveTo>
                  <a:lnTo>
                    <a:pt x="0" y="26"/>
                  </a:lnTo>
                  <a:lnTo>
                    <a:pt x="17" y="26"/>
                  </a:lnTo>
                  <a:lnTo>
                    <a:pt x="33" y="26"/>
                  </a:lnTo>
                  <a:lnTo>
                    <a:pt x="49" y="33"/>
                  </a:lnTo>
                  <a:lnTo>
                    <a:pt x="57" y="46"/>
                  </a:lnTo>
                  <a:lnTo>
                    <a:pt x="66" y="52"/>
                  </a:lnTo>
                  <a:lnTo>
                    <a:pt x="74" y="65"/>
                  </a:lnTo>
                  <a:lnTo>
                    <a:pt x="82" y="78"/>
                  </a:lnTo>
                  <a:lnTo>
                    <a:pt x="82" y="91"/>
                  </a:lnTo>
                  <a:lnTo>
                    <a:pt x="106" y="91"/>
                  </a:lnTo>
                  <a:lnTo>
                    <a:pt x="106" y="71"/>
                  </a:lnTo>
                  <a:lnTo>
                    <a:pt x="98" y="58"/>
                  </a:lnTo>
                  <a:lnTo>
                    <a:pt x="90" y="39"/>
                  </a:lnTo>
                  <a:lnTo>
                    <a:pt x="74" y="26"/>
                  </a:lnTo>
                  <a:lnTo>
                    <a:pt x="57" y="20"/>
                  </a:lnTo>
                  <a:lnTo>
                    <a:pt x="41" y="13"/>
                  </a:lnTo>
                  <a:lnTo>
                    <a:pt x="25" y="7"/>
                  </a:lnTo>
                  <a:lnTo>
                    <a:pt x="0" y="0"/>
                  </a:lnTo>
                  <a:lnTo>
                    <a:pt x="0" y="0"/>
                  </a:lnTo>
                  <a:lnTo>
                    <a:pt x="0" y="26"/>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5442120" y="5137200"/>
              <a:ext cx="180720" cy="138240"/>
            </a:xfrm>
            <a:custGeom>
              <a:avLst/>
              <a:gdLst/>
              <a:ahLst/>
              <a:rect l="l" t="t" r="r" b="b"/>
              <a:pathLst>
                <a:path w="114" h="91">
                  <a:moveTo>
                    <a:pt x="32" y="91"/>
                  </a:moveTo>
                  <a:lnTo>
                    <a:pt x="32" y="91"/>
                  </a:lnTo>
                  <a:lnTo>
                    <a:pt x="32" y="78"/>
                  </a:lnTo>
                  <a:lnTo>
                    <a:pt x="41" y="65"/>
                  </a:lnTo>
                  <a:lnTo>
                    <a:pt x="41" y="52"/>
                  </a:lnTo>
                  <a:lnTo>
                    <a:pt x="57" y="46"/>
                  </a:lnTo>
                  <a:lnTo>
                    <a:pt x="65" y="33"/>
                  </a:lnTo>
                  <a:lnTo>
                    <a:pt x="82" y="26"/>
                  </a:lnTo>
                  <a:lnTo>
                    <a:pt x="98" y="26"/>
                  </a:lnTo>
                  <a:lnTo>
                    <a:pt x="114" y="26"/>
                  </a:lnTo>
                  <a:lnTo>
                    <a:pt x="114" y="0"/>
                  </a:lnTo>
                  <a:lnTo>
                    <a:pt x="90" y="7"/>
                  </a:lnTo>
                  <a:lnTo>
                    <a:pt x="73" y="13"/>
                  </a:lnTo>
                  <a:lnTo>
                    <a:pt x="49" y="20"/>
                  </a:lnTo>
                  <a:lnTo>
                    <a:pt x="41" y="26"/>
                  </a:lnTo>
                  <a:lnTo>
                    <a:pt x="24" y="39"/>
                  </a:lnTo>
                  <a:lnTo>
                    <a:pt x="16" y="58"/>
                  </a:lnTo>
                  <a:lnTo>
                    <a:pt x="8" y="71"/>
                  </a:lnTo>
                  <a:lnTo>
                    <a:pt x="0" y="91"/>
                  </a:lnTo>
                  <a:lnTo>
                    <a:pt x="0" y="91"/>
                  </a:lnTo>
                  <a:lnTo>
                    <a:pt x="32" y="91"/>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5442120" y="5275440"/>
              <a:ext cx="180720" cy="125280"/>
            </a:xfrm>
            <a:custGeom>
              <a:avLst/>
              <a:gdLst/>
              <a:ahLst/>
              <a:rect l="l" t="t" r="r" b="b"/>
              <a:pathLst>
                <a:path w="114" h="83">
                  <a:moveTo>
                    <a:pt x="114" y="64"/>
                  </a:moveTo>
                  <a:lnTo>
                    <a:pt x="114" y="64"/>
                  </a:lnTo>
                  <a:lnTo>
                    <a:pt x="98" y="64"/>
                  </a:lnTo>
                  <a:lnTo>
                    <a:pt x="82" y="58"/>
                  </a:lnTo>
                  <a:lnTo>
                    <a:pt x="65" y="51"/>
                  </a:lnTo>
                  <a:lnTo>
                    <a:pt x="57" y="45"/>
                  </a:lnTo>
                  <a:lnTo>
                    <a:pt x="41" y="38"/>
                  </a:lnTo>
                  <a:lnTo>
                    <a:pt x="41" y="25"/>
                  </a:lnTo>
                  <a:lnTo>
                    <a:pt x="32" y="13"/>
                  </a:lnTo>
                  <a:lnTo>
                    <a:pt x="32" y="0"/>
                  </a:lnTo>
                  <a:lnTo>
                    <a:pt x="0" y="0"/>
                  </a:lnTo>
                  <a:lnTo>
                    <a:pt x="8" y="13"/>
                  </a:lnTo>
                  <a:lnTo>
                    <a:pt x="16" y="32"/>
                  </a:lnTo>
                  <a:lnTo>
                    <a:pt x="24" y="45"/>
                  </a:lnTo>
                  <a:lnTo>
                    <a:pt x="41" y="58"/>
                  </a:lnTo>
                  <a:lnTo>
                    <a:pt x="49" y="70"/>
                  </a:lnTo>
                  <a:lnTo>
                    <a:pt x="73" y="77"/>
                  </a:lnTo>
                  <a:lnTo>
                    <a:pt x="90" y="83"/>
                  </a:lnTo>
                  <a:lnTo>
                    <a:pt x="114" y="83"/>
                  </a:lnTo>
                  <a:lnTo>
                    <a:pt x="114" y="83"/>
                  </a:lnTo>
                  <a:lnTo>
                    <a:pt x="114" y="64"/>
                  </a:lnTo>
                  <a:close/>
                </a:path>
              </a:pathLst>
            </a:custGeom>
            <a:solidFill>
              <a:srgbClr val="0e0d0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303120" y="1582560"/>
              <a:ext cx="8589960" cy="4337280"/>
            </a:xfrm>
            <a:custGeom>
              <a:avLst/>
              <a:gdLst/>
              <a:ahLst/>
              <a:rect l="l" t="t" r="r" b="b"/>
              <a:pathLst>
                <a:path w="5411" h="2595">
                  <a:moveTo>
                    <a:pt x="180" y="0"/>
                  </a:moveTo>
                  <a:lnTo>
                    <a:pt x="5231" y="0"/>
                  </a:lnTo>
                  <a:lnTo>
                    <a:pt x="5248" y="0"/>
                  </a:lnTo>
                  <a:lnTo>
                    <a:pt x="5264" y="0"/>
                  </a:lnTo>
                  <a:lnTo>
                    <a:pt x="5280" y="6"/>
                  </a:lnTo>
                  <a:lnTo>
                    <a:pt x="5297" y="13"/>
                  </a:lnTo>
                  <a:lnTo>
                    <a:pt x="5313" y="13"/>
                  </a:lnTo>
                  <a:lnTo>
                    <a:pt x="5329" y="19"/>
                  </a:lnTo>
                  <a:lnTo>
                    <a:pt x="5346" y="32"/>
                  </a:lnTo>
                  <a:lnTo>
                    <a:pt x="5354" y="39"/>
                  </a:lnTo>
                  <a:lnTo>
                    <a:pt x="5370" y="45"/>
                  </a:lnTo>
                  <a:lnTo>
                    <a:pt x="5378" y="58"/>
                  </a:lnTo>
                  <a:lnTo>
                    <a:pt x="5386" y="64"/>
                  </a:lnTo>
                  <a:lnTo>
                    <a:pt x="5395" y="77"/>
                  </a:lnTo>
                  <a:lnTo>
                    <a:pt x="5403" y="90"/>
                  </a:lnTo>
                  <a:lnTo>
                    <a:pt x="5411" y="103"/>
                  </a:lnTo>
                  <a:lnTo>
                    <a:pt x="5411" y="116"/>
                  </a:lnTo>
                  <a:lnTo>
                    <a:pt x="5411" y="129"/>
                  </a:lnTo>
                  <a:lnTo>
                    <a:pt x="5411" y="2467"/>
                  </a:lnTo>
                  <a:lnTo>
                    <a:pt x="5411" y="2480"/>
                  </a:lnTo>
                  <a:lnTo>
                    <a:pt x="5411" y="2492"/>
                  </a:lnTo>
                  <a:lnTo>
                    <a:pt x="5403" y="2505"/>
                  </a:lnTo>
                  <a:lnTo>
                    <a:pt x="5395" y="2512"/>
                  </a:lnTo>
                  <a:lnTo>
                    <a:pt x="5386" y="2525"/>
                  </a:lnTo>
                  <a:lnTo>
                    <a:pt x="5378" y="2538"/>
                  </a:lnTo>
                  <a:lnTo>
                    <a:pt x="5370" y="2544"/>
                  </a:lnTo>
                  <a:lnTo>
                    <a:pt x="5354" y="2557"/>
                  </a:lnTo>
                  <a:lnTo>
                    <a:pt x="5346" y="2563"/>
                  </a:lnTo>
                  <a:lnTo>
                    <a:pt x="5329" y="2570"/>
                  </a:lnTo>
                  <a:lnTo>
                    <a:pt x="5313" y="2576"/>
                  </a:lnTo>
                  <a:lnTo>
                    <a:pt x="5297" y="2583"/>
                  </a:lnTo>
                  <a:lnTo>
                    <a:pt x="5280" y="2589"/>
                  </a:lnTo>
                  <a:lnTo>
                    <a:pt x="5264" y="2589"/>
                  </a:lnTo>
                  <a:lnTo>
                    <a:pt x="5248" y="2589"/>
                  </a:lnTo>
                  <a:lnTo>
                    <a:pt x="5231" y="2595"/>
                  </a:lnTo>
                  <a:lnTo>
                    <a:pt x="180" y="2595"/>
                  </a:lnTo>
                  <a:lnTo>
                    <a:pt x="163" y="2589"/>
                  </a:lnTo>
                  <a:lnTo>
                    <a:pt x="147" y="2589"/>
                  </a:lnTo>
                  <a:lnTo>
                    <a:pt x="131" y="2589"/>
                  </a:lnTo>
                  <a:lnTo>
                    <a:pt x="114" y="2583"/>
                  </a:lnTo>
                  <a:lnTo>
                    <a:pt x="98" y="2576"/>
                  </a:lnTo>
                  <a:lnTo>
                    <a:pt x="82" y="2570"/>
                  </a:lnTo>
                  <a:lnTo>
                    <a:pt x="65" y="2563"/>
                  </a:lnTo>
                  <a:lnTo>
                    <a:pt x="49" y="2557"/>
                  </a:lnTo>
                  <a:lnTo>
                    <a:pt x="41" y="2544"/>
                  </a:lnTo>
                  <a:lnTo>
                    <a:pt x="33" y="2538"/>
                  </a:lnTo>
                  <a:lnTo>
                    <a:pt x="25" y="2525"/>
                  </a:lnTo>
                  <a:lnTo>
                    <a:pt x="16" y="2512"/>
                  </a:lnTo>
                  <a:lnTo>
                    <a:pt x="8" y="2505"/>
                  </a:lnTo>
                  <a:lnTo>
                    <a:pt x="0" y="2492"/>
                  </a:lnTo>
                  <a:lnTo>
                    <a:pt x="0" y="2480"/>
                  </a:lnTo>
                  <a:lnTo>
                    <a:pt x="0" y="2467"/>
                  </a:lnTo>
                  <a:lnTo>
                    <a:pt x="0" y="129"/>
                  </a:lnTo>
                  <a:lnTo>
                    <a:pt x="0" y="116"/>
                  </a:lnTo>
                  <a:lnTo>
                    <a:pt x="0" y="103"/>
                  </a:lnTo>
                  <a:lnTo>
                    <a:pt x="8" y="90"/>
                  </a:lnTo>
                  <a:lnTo>
                    <a:pt x="16" y="77"/>
                  </a:lnTo>
                  <a:lnTo>
                    <a:pt x="25" y="64"/>
                  </a:lnTo>
                  <a:lnTo>
                    <a:pt x="33" y="58"/>
                  </a:lnTo>
                  <a:lnTo>
                    <a:pt x="41" y="45"/>
                  </a:lnTo>
                  <a:lnTo>
                    <a:pt x="49" y="39"/>
                  </a:lnTo>
                  <a:lnTo>
                    <a:pt x="65" y="32"/>
                  </a:lnTo>
                  <a:lnTo>
                    <a:pt x="82" y="19"/>
                  </a:lnTo>
                  <a:lnTo>
                    <a:pt x="98" y="13"/>
                  </a:lnTo>
                  <a:lnTo>
                    <a:pt x="114" y="13"/>
                  </a:lnTo>
                  <a:lnTo>
                    <a:pt x="131" y="6"/>
                  </a:lnTo>
                  <a:lnTo>
                    <a:pt x="147" y="0"/>
                  </a:lnTo>
                  <a:lnTo>
                    <a:pt x="163" y="0"/>
                  </a:lnTo>
                  <a:lnTo>
                    <a:pt x="180" y="0"/>
                  </a:lnTo>
                  <a:close/>
                </a:path>
              </a:pathLst>
            </a:custGeom>
            <a:solidFill>
              <a:srgbClr val="008000">
                <a:alpha val="39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 name=""/>
          <p:cNvSpPr/>
          <p:nvPr/>
        </p:nvSpPr>
        <p:spPr>
          <a:xfrm>
            <a:off x="5940360" y="765000"/>
            <a:ext cx="3059280" cy="1152720"/>
          </a:xfrm>
          <a:prstGeom prst="horizontalScroll">
            <a:avLst>
              <a:gd name="adj" fmla="val 15805"/>
            </a:avLst>
          </a:prstGeom>
          <a:solidFill>
            <a:srgbClr val="bbe0e3">
              <a:alpha val="74000"/>
            </a:srgbClr>
          </a:solidFill>
          <a:ln w="9360">
            <a:solidFill>
              <a:srgbClr val="bbe0e3"/>
            </a:solidFill>
            <a:miter/>
          </a:ln>
        </p:spPr>
        <p:style>
          <a:lnRef idx="0"/>
          <a:fillRef idx="0"/>
          <a:effectRef idx="0"/>
          <a:fontRef idx="minor"/>
        </p:style>
        <p:txBody>
          <a:bodyPr wrap="none" lIns="90000" rIns="90000" tIns="46800" bIns="46800" anchor="ctr">
            <a:noAutofit/>
          </a:bodyPr>
          <a:p>
            <a:pPr algn="ctr" rtl="1">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3300"/>
                </a:solidFill>
                <a:latin typeface="Arial"/>
                <a:cs typeface="AL-Hor"/>
              </a:rPr>
              <a:t>العصف الذهني</a:t>
            </a:r>
            <a:endParaRPr b="0" lang="en-US" sz="4800" spc="-1" strike="noStrike">
              <a:solidFill>
                <a:srgbClr val="000000"/>
              </a:solidFill>
              <a:latin typeface="Arial"/>
            </a:endParaRPr>
          </a:p>
        </p:txBody>
      </p:sp>
      <p:sp>
        <p:nvSpPr>
          <p:cNvPr id="116" name=""/>
          <p:cNvSpPr/>
          <p:nvPr/>
        </p:nvSpPr>
        <p:spPr>
          <a:xfrm>
            <a:off x="539640" y="1789200"/>
            <a:ext cx="8097840" cy="3994200"/>
          </a:xfrm>
          <a:prstGeom prst="rect">
            <a:avLst/>
          </a:prstGeom>
          <a:solidFill>
            <a:srgbClr val="ccff33">
              <a:alpha val="61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AL-Mohanad"/>
              </a:rPr>
              <a:t>هو أسلوب تعليمي وتدريبي يستخدم من أجل توليد – استمطار مجموعة من المهتمين بالموضوع خلال – أكبر كم من الأفكار لمعالجة موضوع من الموضوعات المفتوحة من فترة زمنية قصيرة في جو تسوده الحرية والأمان في طرح الأفكار بعيداً  عن المصادرة والتقوي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4">
                                  <p:stCondLst>
                                    <p:cond delay="0"/>
                                  </p:stCondLst>
                                  <p:childTnLst>
                                    <p:set>
                                      <p:cBhvr>
                                        <p:cTn id="44" dur="1" fill="hold">
                                          <p:stCondLst>
                                            <p:cond delay="0"/>
                                          </p:stCondLst>
                                        </p:cTn>
                                        <p:tgtEl>
                                          <p:spTgt spid="115"/>
                                        </p:tgtEl>
                                        <p:attrNameLst>
                                          <p:attrName>style.visibility</p:attrName>
                                        </p:attrNameLst>
                                      </p:cBhvr>
                                      <p:to>
                                        <p:strVal val="visible"/>
                                      </p:to>
                                    </p:set>
                                    <p:anim calcmode="lin" valueType="num" from="(-#ppt_w/2)" to="(#ppt_x)">
                                      <p:cBhvr additive="repl">
                                        <p:cTn id="45" dur="600" fill="hold">
                                          <p:stCondLst>
                                            <p:cond delay="0"/>
                                          </p:stCondLst>
                                        </p:cTn>
                                        <p:tgtEl>
                                          <p:spTgt spid="115"/>
                                        </p:tgtEl>
                                        <p:attrNameLst>
                                          <p:attrName>ppt_x</p:attrName>
                                        </p:attrNameLst>
                                      </p:cBhvr>
                                    </p:anim>
                                    <p:anim calcmode="lin" valueType="num" from="0" to="-1">
                                      <p:cBhvr additive="repl">
                                        <p:cTn id="46" dur="200" autoRev="1" fill="hold">
                                          <p:stCondLst>
                                            <p:cond delay="600"/>
                                          </p:stCondLst>
                                        </p:cTn>
                                        <p:tgtEl>
                                          <p:spTgt spid="115"/>
                                        </p:tgtEl>
                                        <p:attrNameLst>
                                          <p:attrName>xshear</p:attrName>
                                        </p:attrNameLst>
                                      </p:cBhvr>
                                    </p:anim>
                                    <p:animScale>
                                      <p:cBhvr>
                                        <p:cTn id="47" dur="200" autoRev="1" fill="hold">
                                          <p:stCondLst>
                                            <p:cond delay="600"/>
                                          </p:stCondLst>
                                        </p:cTn>
                                        <p:tgtEl>
                                          <p:spTgt spid="115"/>
                                        </p:tgtEl>
                                      </p:cBhvr>
                                      <p:from x="100000" y="100000"/>
                                      <p:to x="80000" y="100000"/>
                                    </p:animScale>
                                    <p:anim calcmode="lin" valueType="num" by="(#ppt_h/3+#ppt_w*0.1)">
                                      <p:cBhvr additive="sum">
                                        <p:cTn id="48" dur="200" autoRev="1" fill="hold">
                                          <p:stCondLst>
                                            <p:cond delay="600"/>
                                          </p:stCondLst>
                                        </p:cTn>
                                        <p:tgtEl>
                                          <p:spTgt spid="115"/>
                                        </p:tgtEl>
                                        <p:attrNameLst>
                                          <p:attrName>ppt_x</p:attrName>
                                        </p:attrNameLst>
                                      </p:cBhvr>
                                    </p:anim>
                                  </p:childTnLst>
                                </p:cTn>
                              </p:par>
                              <p:par>
                                <p:cTn id="49" nodeType="withEffect" fill="hold" presetClass="entr" presetID="56">
                                  <p:stCondLst>
                                    <p:cond delay="0"/>
                                  </p:stCondLst>
                                  <p:iterate type="lt">
                                    <p:tmAbs val="100"/>
                                  </p:iterate>
                                  <p:childTnLst>
                                    <p:set>
                                      <p:cBhvr>
                                        <p:cTn id="50" dur="1" fill="hold">
                                          <p:stCondLst>
                                            <p:cond delay="0"/>
                                          </p:stCondLst>
                                        </p:cTn>
                                        <p:tgtEl>
                                          <p:spTgt spid="115">
                                            <p:txEl>
                                              <p:pRg st="0" end="0"/>
                                            </p:txEl>
                                          </p:spTgt>
                                        </p:tgtEl>
                                        <p:attrNameLst>
                                          <p:attrName>style.visibility</p:attrName>
                                        </p:attrNameLst>
                                      </p:cBhvr>
                                      <p:to>
                                        <p:strVal val="visible"/>
                                      </p:to>
                                    </p:set>
                                    <p:anim calcmode="lin" valueType="num" by="(-#ppt_w*2)">
                                      <p:cBhvr additive="repl">
                                        <p:cTn id="51" dur="500" autoRev="1" fill="hold">
                                          <p:stCondLst>
                                            <p:cond delay="0"/>
                                          </p:stCondLst>
                                        </p:cTn>
                                        <p:tgtEl>
                                          <p:spTgt spid="115">
                                            <p:txEl>
                                              <p:pRg st="0" end="0"/>
                                            </p:txEl>
                                          </p:spTgt>
                                        </p:tgtEl>
                                        <p:attrNameLst>
                                          <p:attrName>ppt_w</p:attrName>
                                        </p:attrNameLst>
                                      </p:cBhvr>
                                    </p:anim>
                                    <p:anim calcmode="lin" valueType="num" by="(#ppt_w*0.50)">
                                      <p:cBhvr additive="repl">
                                        <p:cTn id="52" dur="500" autoRev="1" fill="hold">
                                          <p:stCondLst>
                                            <p:cond delay="0"/>
                                          </p:stCondLst>
                                        </p:cTn>
                                        <p:tgtEl>
                                          <p:spTgt spid="115">
                                            <p:txEl>
                                              <p:pRg st="0" end="0"/>
                                            </p:txEl>
                                          </p:spTgt>
                                        </p:tgtEl>
                                        <p:attrNameLst>
                                          <p:attrName>ppt_x</p:attrName>
                                        </p:attrNameLst>
                                      </p:cBhvr>
                                    </p:anim>
                                    <p:anim calcmode="lin" valueType="num" from="(-#ppt_h/2)" to="(#ppt_y)">
                                      <p:cBhvr additive="repl">
                                        <p:cTn id="53" dur="1000" fill="hold">
                                          <p:stCondLst>
                                            <p:cond delay="0"/>
                                          </p:stCondLst>
                                        </p:cTn>
                                        <p:tgtEl>
                                          <p:spTgt spid="115">
                                            <p:txEl>
                                              <p:pRg st="0" end="0"/>
                                            </p:txEl>
                                          </p:spTgt>
                                        </p:tgtEl>
                                        <p:attrNameLst>
                                          <p:attrName>ppt_y</p:attrName>
                                        </p:attrNameLst>
                                      </p:cBhvr>
                                    </p:anim>
                                    <p:animRot by="21600000">
                                      <p:cBhvr>
                                        <p:cTn id="54" dur="1000" fill="hold">
                                          <p:stCondLst>
                                            <p:cond delay="0"/>
                                          </p:stCondLst>
                                        </p:cTn>
                                        <p:tgtEl>
                                          <p:spTgt spid="115">
                                            <p:txEl>
                                              <p:pRg st="0" end="0"/>
                                            </p:txEl>
                                          </p:spTgt>
                                        </p:tgtEl>
                                        <p:attrNameLst>
                                          <p:attrName>r</p:attrName>
                                        </p:attrNameLst>
                                      </p:cBhvr>
                                    </p:animRo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6">
                                  <p:stCondLst>
                                    <p:cond delay="0"/>
                                  </p:stCondLst>
                                  <p:childTnLst>
                                    <p:set>
                                      <p:cBhvr>
                                        <p:cTn id="58" dur="1" fill="hold">
                                          <p:stCondLst>
                                            <p:cond delay="0"/>
                                          </p:stCondLst>
                                        </p:cTn>
                                        <p:tgtEl>
                                          <p:spTgt spid="82"/>
                                        </p:tgtEl>
                                        <p:attrNameLst>
                                          <p:attrName>style.visibility</p:attrName>
                                        </p:attrNameLst>
                                      </p:cBhvr>
                                      <p:to>
                                        <p:strVal val="visible"/>
                                      </p:to>
                                    </p:set>
                                    <p:animEffect filter="wipe(down)" transition="in">
                                      <p:cBhvr additive="repl">
                                        <p:cTn id="59" dur="580">
                                          <p:stCondLst>
                                            <p:cond delay="0"/>
                                          </p:stCondLst>
                                        </p:cTn>
                                        <p:tgtEl>
                                          <p:spTgt spid="82"/>
                                        </p:tgtEl>
                                      </p:cBhvr>
                                    </p:animEffect>
                                    <p:anim calcmode="lin" valueType="num">
                                      <p:cBhvr additive="repl">
                                        <p:cTn id="60"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61"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62"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63"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64"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65" dur="26" fill="hold">
                                          <p:stCondLst>
                                            <p:cond delay="650"/>
                                          </p:stCondLst>
                                        </p:cTn>
                                        <p:tgtEl>
                                          <p:spTgt spid="82"/>
                                        </p:tgtEl>
                                      </p:cBhvr>
                                      <p:to x="100000" y="60000"/>
                                    </p:animScale>
                                    <p:animScale>
                                      <p:cBhvr>
                                        <p:cTn id="66" dur="166" fill="hold">
                                          <p:stCondLst>
                                            <p:cond delay="676"/>
                                          </p:stCondLst>
                                        </p:cTn>
                                        <p:tgtEl>
                                          <p:spTgt spid="82"/>
                                        </p:tgtEl>
                                      </p:cBhvr>
                                      <p:to x="100000" y="100000"/>
                                    </p:animScale>
                                    <p:animScale>
                                      <p:cBhvr>
                                        <p:cTn id="67" dur="26" fill="hold">
                                          <p:stCondLst>
                                            <p:cond delay="1312"/>
                                          </p:stCondLst>
                                        </p:cTn>
                                        <p:tgtEl>
                                          <p:spTgt spid="82"/>
                                        </p:tgtEl>
                                      </p:cBhvr>
                                      <p:to x="100000" y="80000"/>
                                    </p:animScale>
                                    <p:animScale>
                                      <p:cBhvr>
                                        <p:cTn id="68" dur="166" fill="hold">
                                          <p:stCondLst>
                                            <p:cond delay="1338"/>
                                          </p:stCondLst>
                                        </p:cTn>
                                        <p:tgtEl>
                                          <p:spTgt spid="82"/>
                                        </p:tgtEl>
                                      </p:cBhvr>
                                      <p:to x="100000" y="100000"/>
                                    </p:animScale>
                                    <p:animScale>
                                      <p:cBhvr>
                                        <p:cTn id="69" dur="26" fill="hold">
                                          <p:stCondLst>
                                            <p:cond delay="1642"/>
                                          </p:stCondLst>
                                        </p:cTn>
                                        <p:tgtEl>
                                          <p:spTgt spid="82"/>
                                        </p:tgtEl>
                                      </p:cBhvr>
                                      <p:to x="100000" y="90000"/>
                                    </p:animScale>
                                    <p:animScale>
                                      <p:cBhvr>
                                        <p:cTn id="70" dur="166" fill="hold">
                                          <p:stCondLst>
                                            <p:cond delay="1668"/>
                                          </p:stCondLst>
                                        </p:cTn>
                                        <p:tgtEl>
                                          <p:spTgt spid="82"/>
                                        </p:tgtEl>
                                      </p:cBhvr>
                                      <p:to x="100000" y="100000"/>
                                    </p:animScale>
                                    <p:animScale>
                                      <p:cBhvr>
                                        <p:cTn id="71" dur="26" fill="hold">
                                          <p:stCondLst>
                                            <p:cond delay="1808"/>
                                          </p:stCondLst>
                                        </p:cTn>
                                        <p:tgtEl>
                                          <p:spTgt spid="82"/>
                                        </p:tgtEl>
                                      </p:cBhvr>
                                      <p:to x="100000" y="95000"/>
                                    </p:animScale>
                                    <p:animScale>
                                      <p:cBhvr>
                                        <p:cTn id="72" dur="166" fill="hold">
                                          <p:stCondLst>
                                            <p:cond delay="1834"/>
                                          </p:stCondLst>
                                        </p:cTn>
                                        <p:tgtEl>
                                          <p:spTgt spid="82"/>
                                        </p:tgtEl>
                                      </p:cBhvr>
                                      <p:to x="100000" y="100000"/>
                                    </p:animScale>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116"/>
                                        </p:tgtEl>
                                        <p:attrNameLst>
                                          <p:attrName>style.visibility</p:attrName>
                                        </p:attrNameLst>
                                      </p:cBhvr>
                                      <p:to>
                                        <p:strVal val="visible"/>
                                      </p:to>
                                    </p:set>
                                    <p:animEffect filter="fade" transition="in">
                                      <p:cBhvr additive="repl">
                                        <p:cTn id="77" dur="1000"/>
                                        <p:tgtEl>
                                          <p:spTgt spid="116"/>
                                        </p:tgtEl>
                                      </p:cBhvr>
                                    </p:animEffect>
                                    <p:anim calcmode="lin" valueType="num">
                                      <p:cBhvr additive="repl">
                                        <p:cTn id="78" dur="1000" fill="hold"/>
                                        <p:tgtEl>
                                          <p:spTgt spid="116"/>
                                        </p:tgtEl>
                                        <p:attrNameLst>
                                          <p:attrName>ppt_x</p:attrName>
                                        </p:attrNameLst>
                                      </p:cBhvr>
                                      <p:tavLst>
                                        <p:tav tm="0">
                                          <p:val>
                                            <p:strVal val="#ppt_x-.1"/>
                                          </p:val>
                                        </p:tav>
                                        <p:tav tm="100000">
                                          <p:val>
                                            <p:strVal val="#ppt_x"/>
                                          </p:val>
                                        </p:tav>
                                      </p:tavLst>
                                    </p:anim>
                                    <p:anim calcmode="lin" valueType="num">
                                      <p:cBhvr additive="repl">
                                        <p:cTn id="79" dur="10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7">
                                  <p:stCondLst>
                                    <p:cond delay="0"/>
                                  </p:stCondLst>
                                  <p:iterate type="lt">
                                    <p:tmAbs val="40"/>
                                  </p:iterate>
                                  <p:childTnLst>
                                    <p:set>
                                      <p:cBhvr>
                                        <p:cTn id="83" dur="1" fill="hold">
                                          <p:stCondLst>
                                            <p:cond delay="0"/>
                                          </p:stCondLst>
                                        </p:cTn>
                                        <p:tgtEl>
                                          <p:spTgt spid="116">
                                            <p:txEl>
                                              <p:pRg st="0" end="0"/>
                                            </p:txEl>
                                          </p:spTgt>
                                        </p:tgtEl>
                                        <p:attrNameLst>
                                          <p:attrName>style.visibility</p:attrName>
                                        </p:attrNameLst>
                                      </p:cBhvr>
                                      <p:to>
                                        <p:strVal val="visible"/>
                                      </p:to>
                                    </p:set>
                                    <p:anim calcmode="discrete" valueType="clr">
                                      <p:cBhvr additive="repl">
                                        <p:cTn id="84" dur="80"/>
                                        <p:tgtEl>
                                          <p:spTgt spid="116">
                                            <p:txEl>
                                              <p:pRg st="0" end="0"/>
                                            </p:txEl>
                                          </p:spTgt>
                                        </p:tgtEl>
                                        <p:attrNameLst>
                                          <p:attrName>style.color</p:attrName>
                                        </p:attrNameLst>
                                      </p:cBhvr>
                                      <p:tavLst>
                                        <p:tav tm="0">
                                          <p:val>
                                            <p:strVal val="rgb(-103,51,51)"/>
                                          </p:val>
                                        </p:tav>
                                        <p:tav tm="50000">
                                          <p:val>
                                            <p:strVal val="rgb(0,51,-1)"/>
                                          </p:val>
                                        </p:tav>
                                      </p:tavLst>
                                    </p:anim>
                                    <p:anim calcmode="discrete" valueType="clr">
                                      <p:cBhvr additive="repl">
                                        <p:cTn id="85" dur="80"/>
                                        <p:tgtEl>
                                          <p:spTgt spid="116">
                                            <p:txEl>
                                              <p:pRg st="0" end="0"/>
                                            </p:txEl>
                                          </p:spTgt>
                                        </p:tgtEl>
                                        <p:attrNameLst>
                                          <p:attrName>fillcolor</p:attrName>
                                        </p:attrNameLst>
                                      </p:cBhvr>
                                      <p:tavLst>
                                        <p:tav tm="0">
                                          <p:val>
                                            <p:strVal val="rgb(-103,51,51)"/>
                                          </p:val>
                                        </p:tav>
                                        <p:tav tm="50000">
                                          <p:val>
                                            <p:strVal val="rgb(-103,-103,0)"/>
                                          </p:val>
                                        </p:tav>
                                      </p:tavLst>
                                    </p:anim>
                                    <p:set>
                                      <p:cBhvr>
                                        <p:cTn id="86" dur="80"/>
                                        <p:tgtEl>
                                          <p:spTgt spid="11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1557360"/>
            <a:ext cx="9144000" cy="5300640"/>
          </a:xfrm>
          <a:prstGeom prst="horizontalScroll">
            <a:avLst>
              <a:gd name="adj" fmla="val 8175"/>
            </a:avLst>
          </a:prstGeom>
          <a:solidFill>
            <a:srgbClr val="ffcc00">
              <a:alpha val="66000"/>
            </a:srgbClr>
          </a:solidFill>
          <a:ln w="9360">
            <a:solidFill>
              <a:srgbClr val="ffcc00"/>
            </a:solidFill>
            <a:miter/>
          </a:ln>
        </p:spPr>
        <p:style>
          <a:lnRef idx="0"/>
          <a:fillRef idx="0"/>
          <a:effectRef idx="0"/>
          <a:fontRef idx="minor"/>
        </p:style>
        <p:txBody>
          <a:bodyPr lIns="90000" rIns="90000" tIns="46800" bIns="46800" anchor="ctr">
            <a:noAutofit/>
          </a:bodyPr>
          <a:p>
            <a:pPr marL="274680" indent="-274680"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300" spc="-1" strike="noStrike">
                <a:solidFill>
                  <a:srgbClr val="000000"/>
                </a:solidFill>
                <a:latin typeface="Arial"/>
                <a:cs typeface="AL-Mohanad"/>
              </a:rPr>
              <a:t>قضايا مغلقة لها إجابة واحدة صحيحة أو طريقة واحده للحل وتحتاج إلى نوع من التفكير المنطقي </a:t>
            </a:r>
            <a:endParaRPr b="0" lang="en-US" sz="4300" spc="-1" strike="noStrike">
              <a:solidFill>
                <a:srgbClr val="000000"/>
              </a:solidFill>
              <a:latin typeface="Arial"/>
            </a:endParaRPr>
          </a:p>
          <a:p>
            <a:pPr marL="274680" indent="-274680"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300" spc="-1" strike="noStrike">
                <a:solidFill>
                  <a:srgbClr val="000000"/>
                </a:solidFill>
                <a:latin typeface="Arial"/>
                <a:cs typeface="AL-Mohanad"/>
              </a:rPr>
              <a:t>قضايا مفتوحة ليس لها إجابة واحدة صحيحة بالضرورة أو طريقة واحدة للحل وإنما تحتمل إجابات متنوعة وحلولاً عديدة وتحتاج إلى نوع من التفكير الإبداعي ويصلح معها أسلوب العصف الذهني </a:t>
            </a:r>
            <a:r>
              <a:rPr b="1" lang="en-US" sz="4300" spc="-1" strike="noStrike">
                <a:solidFill>
                  <a:srgbClr val="000000"/>
                </a:solidFill>
                <a:latin typeface="Arial"/>
                <a:ea typeface="AL-Mohanad"/>
              </a:rPr>
              <a:t>0</a:t>
            </a:r>
            <a:r>
              <a:rPr b="0" lang="en-US" sz="4300" spc="-1" strike="noStrike">
                <a:solidFill>
                  <a:srgbClr val="000000"/>
                </a:solidFill>
                <a:latin typeface="Arial"/>
                <a:ea typeface="AL-Mohanad"/>
              </a:rPr>
              <a:t> </a:t>
            </a:r>
            <a:endParaRPr b="0" lang="en-US" sz="4300" spc="-1" strike="noStrike">
              <a:solidFill>
                <a:srgbClr val="000000"/>
              </a:solidFill>
              <a:latin typeface="Arial"/>
            </a:endParaRPr>
          </a:p>
        </p:txBody>
      </p:sp>
      <p:sp>
        <p:nvSpPr>
          <p:cNvPr id="118" name=""/>
          <p:cNvSpPr/>
          <p:nvPr/>
        </p:nvSpPr>
        <p:spPr>
          <a:xfrm>
            <a:off x="324000" y="765000"/>
            <a:ext cx="8424720" cy="1152720"/>
          </a:xfrm>
          <a:custGeom>
            <a:avLst/>
            <a:gdLst>
              <a:gd name="textAreaLeft" fmla="*/ 0 w 8424720"/>
              <a:gd name="textAreaRight" fmla="*/ 8425080 w 8424720"/>
              <a:gd name="textAreaTop" fmla="*/ 237960 h 1152720"/>
              <a:gd name="textAreaBottom" fmla="*/ 914760 h 1152720"/>
            </a:gdLst>
            <a:ahLst/>
            <a:rect l="textAreaLeft" t="textAreaTop" r="textAreaRight" b="textAreaBottom"/>
            <a:pathLst>
              <a:path w="21600" h="21600">
                <a:moveTo>
                  <a:pt x="0" y="2231"/>
                </a:moveTo>
                <a:cubicBezTo>
                  <a:pt x="7200" y="-5673"/>
                  <a:pt x="14400" y="10135"/>
                  <a:pt x="21600" y="2231"/>
                </a:cubicBezTo>
                <a:lnTo>
                  <a:pt x="21600" y="19369"/>
                </a:lnTo>
                <a:cubicBezTo>
                  <a:pt x="14400" y="27273"/>
                  <a:pt x="7200" y="11465"/>
                  <a:pt x="0" y="19369"/>
                </a:cubicBezTo>
                <a:close/>
              </a:path>
            </a:pathLst>
          </a:custGeom>
          <a:solidFill>
            <a:srgbClr val="bbe0e3">
              <a:alpha val="57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txBox="1"/>
          <p:nvPr/>
        </p:nvSpPr>
        <p:spPr>
          <a:xfrm>
            <a:off x="250920" y="907920"/>
            <a:ext cx="8353440" cy="927360"/>
          </a:xfrm>
          <a:prstGeom prst="rect">
            <a:avLst/>
          </a:prstGeom>
        </p:spPr>
        <p:txBody>
          <a:bodyPr wrap="none" lIns="90000" rIns="90000" tIns="46800" bIns="46800" anchor="t" anchorCtr="1">
            <a:prstTxWarp prst="textWave1">
              <a:avLst>
                <a:gd name="adj1" fmla="val 14042"/>
                <a:gd name="adj2"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ff0000">
                    <a:alpha val="69000"/>
                  </a:srgbClr>
                </a:solidFill>
                <a:effectLst>
                  <a:outerShdw dist="53966" dir="2700000" blurRad="0" rotWithShape="0">
                    <a:srgbClr val="c0c0c0">
                      <a:alpha val="80000"/>
                    </a:srgbClr>
                  </a:outerShdw>
                </a:effectLst>
                <a:latin typeface="AL-Hor"/>
              </a:rPr>
              <a:t>القضايا التي يعالجها العقل البشري نوعان </a:t>
            </a:r>
            <a:endParaRPr b="0" lang="en-US" sz="1800" spc="1" strike="noStrike">
              <a:ln w="0">
                <a:noFill/>
              </a:ln>
              <a:solidFill>
                <a:srgbClr val="ff0000">
                  <a:alpha val="69000"/>
                </a:srgbClr>
              </a:solidFill>
              <a:effectLst>
                <a:outerShdw dist="53966" dir="2700000" blurRad="0" rotWithShape="0">
                  <a:srgbClr val="c0c0c0">
                    <a:alpha val="80000"/>
                  </a:srgbClr>
                </a:outerShdw>
              </a:effectLst>
              <a:latin typeface="AL-Hor"/>
              <a:ea typeface="AL-Hor"/>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5">
                                  <p:stCondLst>
                                    <p:cond delay="0"/>
                                  </p:stCondLst>
                                  <p:childTnLst>
                                    <p:set>
                                      <p:cBhvr>
                                        <p:cTn id="92" dur="1" fill="hold">
                                          <p:stCondLst>
                                            <p:cond delay="0"/>
                                          </p:stCondLst>
                                        </p:cTn>
                                        <p:tgtEl>
                                          <p:spTgt spid="118"/>
                                        </p:tgtEl>
                                        <p:attrNameLst>
                                          <p:attrName>style.visibility</p:attrName>
                                        </p:attrNameLst>
                                      </p:cBhvr>
                                      <p:to>
                                        <p:strVal val="visible"/>
                                      </p:to>
                                    </p:set>
                                    <p:anim calcmode="lin" valueType="num">
                                      <p:cBhvr additive="repl">
                                        <p:cTn id="93"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94"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95"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96" dur="1000" fill="hold"/>
                                        <p:tgtEl>
                                          <p:spTgt spid="118"/>
                                        </p:tgtEl>
                                        <p:attrNameLst>
                                          <p:attrName>ppt_h</p:attrName>
                                        </p:attrNameLst>
                                      </p:cBhvr>
                                      <p:tavLst>
                                        <p:tav tm="0">
                                          <p:val>
                                            <p:strVal val="#ppt_h"/>
                                          </p:val>
                                        </p:tav>
                                        <p:tav tm="100000">
                                          <p:val>
                                            <p:strVal val="#ppt_h"/>
                                          </p:val>
                                        </p:tav>
                                      </p:tavLst>
                                    </p:anim>
                                    <p:anim calcmode="lin" valueType="num">
                                      <p:cBhvr additive="repl">
                                        <p:cTn id="97"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98"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99"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100" dur="1000">
                                          <p:stCondLst>
                                            <p:cond delay="0"/>
                                          </p:stCondLst>
                                        </p:cTn>
                                        <p:tgtEl>
                                          <p:spTgt spid="11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9">
                                  <p:stCondLst>
                                    <p:cond delay="0"/>
                                  </p:stCondLst>
                                  <p:childTnLst>
                                    <p:set>
                                      <p:cBhvr>
                                        <p:cTn id="104" dur="1" fill="hold">
                                          <p:stCondLst>
                                            <p:cond delay="0"/>
                                          </p:stCondLst>
                                        </p:cTn>
                                        <p:tgtEl>
                                          <p:spTgt spid="119"/>
                                        </p:tgtEl>
                                        <p:attrNameLst>
                                          <p:attrName>style.visibility</p:attrName>
                                        </p:attrNameLst>
                                      </p:cBhvr>
                                      <p:to>
                                        <p:strVal val="visible"/>
                                      </p:to>
                                    </p:set>
                                    <p:anim calcmode="lin" valueType="num">
                                      <p:cBhvr additive="repl">
                                        <p:cTn id="105" dur="500" fill="hold"/>
                                        <p:tgtEl>
                                          <p:spTgt spid="11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 dur="500" fill="hold"/>
                                        <p:tgtEl>
                                          <p:spTgt spid="11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 dur="500" fill="hold"/>
                                        <p:tgtEl>
                                          <p:spTgt spid="11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9">
                                  <p:stCondLst>
                                    <p:cond delay="0"/>
                                  </p:stCondLst>
                                  <p:childTnLst>
                                    <p:set>
                                      <p:cBhvr>
                                        <p:cTn id="112" dur="1" fill="hold">
                                          <p:stCondLst>
                                            <p:cond delay="0"/>
                                          </p:stCondLst>
                                        </p:cTn>
                                        <p:tgtEl>
                                          <p:spTgt spid="117"/>
                                        </p:tgtEl>
                                        <p:attrNameLst>
                                          <p:attrName>style.visibility</p:attrName>
                                        </p:attrNameLst>
                                      </p:cBhvr>
                                      <p:to>
                                        <p:strVal val="visible"/>
                                      </p:to>
                                    </p:set>
                                    <p:anim calcmode="lin" valueType="num">
                                      <p:cBhvr additive="repl">
                                        <p:cTn id="113" dur="1000" fill="hold"/>
                                        <p:tgtEl>
                                          <p:spTgt spid="117"/>
                                        </p:tgtEl>
                                        <p:attrNameLst>
                                          <p:attrName>ppt_x</p:attrName>
                                        </p:attrNameLst>
                                      </p:cBhvr>
                                      <p:tavLst>
                                        <p:tav tm="0">
                                          <p:val>
                                            <p:strVal val="#ppt_x-.2"/>
                                          </p:val>
                                        </p:tav>
                                        <p:tav tm="100000">
                                          <p:val>
                                            <p:strVal val="#ppt_x"/>
                                          </p:val>
                                        </p:tav>
                                      </p:tavLst>
                                    </p:anim>
                                    <p:anim calcmode="lin" valueType="num">
                                      <p:cBhvr additive="repl">
                                        <p:cTn id="114"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115" dur="1000"/>
                                        <p:tgtEl>
                                          <p:spTgt spid="11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6">
                                  <p:stCondLst>
                                    <p:cond delay="0"/>
                                  </p:stCondLst>
                                  <p:iterate type="wd">
                                    <p:tmAbs val="100"/>
                                  </p:iterate>
                                  <p:childTnLst>
                                    <p:set>
                                      <p:cBhvr>
                                        <p:cTn id="119" dur="1" fill="hold">
                                          <p:stCondLst>
                                            <p:cond delay="0"/>
                                          </p:stCondLst>
                                        </p:cTn>
                                        <p:tgtEl>
                                          <p:spTgt spid="117">
                                            <p:txEl>
                                              <p:pRg st="0" end="0"/>
                                            </p:txEl>
                                          </p:spTgt>
                                        </p:tgtEl>
                                        <p:attrNameLst>
                                          <p:attrName>style.visibility</p:attrName>
                                        </p:attrNameLst>
                                      </p:cBhvr>
                                      <p:to>
                                        <p:strVal val="visible"/>
                                      </p:to>
                                    </p:set>
                                    <p:anim calcmode="lin" valueType="num" by="(-#ppt_w*2)">
                                      <p:cBhvr additive="repl">
                                        <p:cTn id="120" dur="500" autoRev="1" fill="hold">
                                          <p:stCondLst>
                                            <p:cond delay="0"/>
                                          </p:stCondLst>
                                        </p:cTn>
                                        <p:tgtEl>
                                          <p:spTgt spid="117">
                                            <p:txEl>
                                              <p:pRg st="0" end="0"/>
                                            </p:txEl>
                                          </p:spTgt>
                                        </p:tgtEl>
                                        <p:attrNameLst>
                                          <p:attrName>ppt_w</p:attrName>
                                        </p:attrNameLst>
                                      </p:cBhvr>
                                    </p:anim>
                                    <p:anim calcmode="lin" valueType="num" by="(#ppt_w*0.50)">
                                      <p:cBhvr additive="repl">
                                        <p:cTn id="121" dur="500" autoRev="1" fill="hold">
                                          <p:stCondLst>
                                            <p:cond delay="0"/>
                                          </p:stCondLst>
                                        </p:cTn>
                                        <p:tgtEl>
                                          <p:spTgt spid="117">
                                            <p:txEl>
                                              <p:pRg st="0" end="0"/>
                                            </p:txEl>
                                          </p:spTgt>
                                        </p:tgtEl>
                                        <p:attrNameLst>
                                          <p:attrName>ppt_x</p:attrName>
                                        </p:attrNameLst>
                                      </p:cBhvr>
                                    </p:anim>
                                    <p:anim calcmode="lin" valueType="num" from="(-#ppt_h/2)" to="(#ppt_y)">
                                      <p:cBhvr additive="repl">
                                        <p:cTn id="122" dur="1000" fill="hold">
                                          <p:stCondLst>
                                            <p:cond delay="0"/>
                                          </p:stCondLst>
                                        </p:cTn>
                                        <p:tgtEl>
                                          <p:spTgt spid="117">
                                            <p:txEl>
                                              <p:pRg st="0" end="0"/>
                                            </p:txEl>
                                          </p:spTgt>
                                        </p:tgtEl>
                                        <p:attrNameLst>
                                          <p:attrName>ppt_y</p:attrName>
                                        </p:attrNameLst>
                                      </p:cBhvr>
                                    </p:anim>
                                    <p:animRot by="21600000">
                                      <p:cBhvr>
                                        <p:cTn id="123" dur="1000" fill="hold">
                                          <p:stCondLst>
                                            <p:cond delay="0"/>
                                          </p:stCondLst>
                                        </p:cTn>
                                        <p:tgtEl>
                                          <p:spTgt spid="117">
                                            <p:txEl>
                                              <p:pRg st="0" end="0"/>
                                            </p:txEl>
                                          </p:spTgt>
                                        </p:tgtEl>
                                        <p:attrNameLst>
                                          <p:attrName>r</p:attrName>
                                        </p:attrNameLst>
                                      </p:cBhvr>
                                    </p:animRo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6">
                                  <p:stCondLst>
                                    <p:cond delay="0"/>
                                  </p:stCondLst>
                                  <p:iterate type="wd">
                                    <p:tmAbs val="100"/>
                                  </p:iterate>
                                  <p:childTnLst>
                                    <p:set>
                                      <p:cBhvr>
                                        <p:cTn id="127" dur="1" fill="hold">
                                          <p:stCondLst>
                                            <p:cond delay="0"/>
                                          </p:stCondLst>
                                        </p:cTn>
                                        <p:tgtEl>
                                          <p:spTgt spid="117">
                                            <p:txEl>
                                              <p:pRg st="1" end="1"/>
                                            </p:txEl>
                                          </p:spTgt>
                                        </p:tgtEl>
                                        <p:attrNameLst>
                                          <p:attrName>style.visibility</p:attrName>
                                        </p:attrNameLst>
                                      </p:cBhvr>
                                      <p:to>
                                        <p:strVal val="visible"/>
                                      </p:to>
                                    </p:set>
                                    <p:anim calcmode="lin" valueType="num" by="(-#ppt_w*2)">
                                      <p:cBhvr additive="repl">
                                        <p:cTn id="128" dur="500" autoRev="1" fill="hold">
                                          <p:stCondLst>
                                            <p:cond delay="0"/>
                                          </p:stCondLst>
                                        </p:cTn>
                                        <p:tgtEl>
                                          <p:spTgt spid="117">
                                            <p:txEl>
                                              <p:pRg st="1" end="1"/>
                                            </p:txEl>
                                          </p:spTgt>
                                        </p:tgtEl>
                                        <p:attrNameLst>
                                          <p:attrName>ppt_w</p:attrName>
                                        </p:attrNameLst>
                                      </p:cBhvr>
                                    </p:anim>
                                    <p:anim calcmode="lin" valueType="num" by="(#ppt_w*0.50)">
                                      <p:cBhvr additive="repl">
                                        <p:cTn id="129" dur="500" autoRev="1" fill="hold">
                                          <p:stCondLst>
                                            <p:cond delay="0"/>
                                          </p:stCondLst>
                                        </p:cTn>
                                        <p:tgtEl>
                                          <p:spTgt spid="117">
                                            <p:txEl>
                                              <p:pRg st="1" end="1"/>
                                            </p:txEl>
                                          </p:spTgt>
                                        </p:tgtEl>
                                        <p:attrNameLst>
                                          <p:attrName>ppt_x</p:attrName>
                                        </p:attrNameLst>
                                      </p:cBhvr>
                                    </p:anim>
                                    <p:anim calcmode="lin" valueType="num" from="(-#ppt_h/2)" to="(#ppt_y)">
                                      <p:cBhvr additive="repl">
                                        <p:cTn id="130" dur="1000" fill="hold">
                                          <p:stCondLst>
                                            <p:cond delay="0"/>
                                          </p:stCondLst>
                                        </p:cTn>
                                        <p:tgtEl>
                                          <p:spTgt spid="117">
                                            <p:txEl>
                                              <p:pRg st="1" end="1"/>
                                            </p:txEl>
                                          </p:spTgt>
                                        </p:tgtEl>
                                        <p:attrNameLst>
                                          <p:attrName>ppt_y</p:attrName>
                                        </p:attrNameLst>
                                      </p:cBhvr>
                                    </p:anim>
                                    <p:animRot by="21600000">
                                      <p:cBhvr>
                                        <p:cTn id="131" dur="1000" fill="hold">
                                          <p:stCondLst>
                                            <p:cond delay="0"/>
                                          </p:stCondLst>
                                        </p:cTn>
                                        <p:tgtEl>
                                          <p:spTgt spid="117">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4572000" y="1557360"/>
            <a:ext cx="4572000" cy="865080"/>
          </a:xfrm>
          <a:prstGeom prst="bevel">
            <a:avLst>
              <a:gd name="adj" fmla="val 24264"/>
            </a:avLst>
          </a:prstGeom>
          <a:blipFill rotWithShape="0">
            <a:blip r:embed="rId2">
              <a:alphaModFix amt="49000"/>
            </a:blip>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Kufi20 Normal"/>
              </a:rPr>
              <a:t>خصائص التفكير المنطقي </a:t>
            </a:r>
            <a:endParaRPr b="0" lang="en-US" sz="3600" spc="-1" strike="noStrike">
              <a:solidFill>
                <a:srgbClr val="000000"/>
              </a:solidFill>
              <a:latin typeface="Arial"/>
            </a:endParaRPr>
          </a:p>
        </p:txBody>
      </p:sp>
      <p:sp>
        <p:nvSpPr>
          <p:cNvPr id="121" name=""/>
          <p:cNvSpPr/>
          <p:nvPr/>
        </p:nvSpPr>
        <p:spPr>
          <a:xfrm>
            <a:off x="0" y="1557360"/>
            <a:ext cx="4572000" cy="865080"/>
          </a:xfrm>
          <a:prstGeom prst="bevel">
            <a:avLst>
              <a:gd name="adj" fmla="val 24264"/>
            </a:avLst>
          </a:prstGeom>
          <a:blipFill rotWithShape="0">
            <a:blip r:embed="rId3">
              <a:alphaModFix amt="49000"/>
            </a:blip>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Kufi20 Normal"/>
              </a:rPr>
              <a:t>خصائص التفكير الإبداعي</a:t>
            </a:r>
            <a:endParaRPr b="0" lang="en-US" sz="3600" spc="-1" strike="noStrike">
              <a:solidFill>
                <a:srgbClr val="000000"/>
              </a:solidFill>
              <a:latin typeface="Arial"/>
            </a:endParaRPr>
          </a:p>
        </p:txBody>
      </p:sp>
      <p:sp>
        <p:nvSpPr>
          <p:cNvPr id="122" name=""/>
          <p:cNvSpPr/>
          <p:nvPr/>
        </p:nvSpPr>
        <p:spPr>
          <a:xfrm>
            <a:off x="0" y="2421000"/>
            <a:ext cx="4572000" cy="4437000"/>
          </a:xfrm>
          <a:prstGeom prst="bevel">
            <a:avLst>
              <a:gd name="adj" fmla="val 4514"/>
            </a:avLst>
          </a:prstGeom>
          <a:solidFill>
            <a:srgbClr val="ffffff">
              <a:alpha val="56000"/>
            </a:srgbClr>
          </a:solidFill>
          <a:ln w="0">
            <a:noFill/>
          </a:ln>
        </p:spPr>
        <p:style>
          <a:lnRef idx="0"/>
          <a:fillRef idx="0"/>
          <a:effectRef idx="0"/>
          <a:fontRef idx="minor"/>
        </p:style>
        <p:txBody>
          <a:bodyPr lIns="90000" rIns="90000" tIns="46800" bIns="46800" anchor="t">
            <a:noAutofit/>
          </a:bodyPr>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يعتد على التخيل والإبداع </a:t>
            </a:r>
            <a:endParaRPr b="0" lang="en-US" sz="3300" spc="-1" strike="noStrike">
              <a:solidFill>
                <a:srgbClr val="000000"/>
              </a:solidFill>
              <a:latin typeface="Arial"/>
            </a:endParaRPr>
          </a:p>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يعتمد على تدفق الأفكار وتعددها</a:t>
            </a:r>
            <a:endParaRPr b="0" lang="en-US" sz="3300" spc="-1" strike="noStrike">
              <a:solidFill>
                <a:srgbClr val="000000"/>
              </a:solidFill>
              <a:latin typeface="Arial"/>
            </a:endParaRPr>
          </a:p>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تفكير أفقي يتعرض لكل الأفكار الممكنة </a:t>
            </a:r>
            <a:endParaRPr b="0" lang="en-US" sz="3300" spc="-1" strike="noStrike">
              <a:solidFill>
                <a:srgbClr val="000000"/>
              </a:solidFill>
              <a:latin typeface="Arial"/>
            </a:endParaRPr>
          </a:p>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يأخذ الأفكار المرتبطة وغير المرتبطة بالمشكلة حتى لو كانت أفكاراً غير عملية </a:t>
            </a:r>
            <a:endParaRPr b="0" lang="en-US" sz="3300" spc="-1" strike="noStrike">
              <a:solidFill>
                <a:srgbClr val="000000"/>
              </a:solidFill>
              <a:latin typeface="Arial"/>
            </a:endParaRPr>
          </a:p>
          <a:p>
            <a:pPr marL="264960" indent="-264960" algn="just" rtl="1">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يتبع كل المسارات حتى قليلة الاحتمال </a:t>
            </a:r>
            <a:r>
              <a:rPr b="0" lang="en-US" sz="3300" spc="-1" strike="noStrike">
                <a:solidFill>
                  <a:srgbClr val="000000"/>
                </a:solidFill>
                <a:latin typeface="Arial"/>
                <a:ea typeface="AL-Mohanad"/>
              </a:rPr>
              <a:t>0</a:t>
            </a:r>
            <a:r>
              <a:rPr b="0" lang="en-US" sz="3300" spc="-1" strike="noStrike">
                <a:solidFill>
                  <a:srgbClr val="000000"/>
                </a:solidFill>
                <a:latin typeface="Arial"/>
                <a:ea typeface="AL-Mohanad"/>
              </a:rPr>
              <a:t> </a:t>
            </a:r>
            <a:endParaRPr b="0" lang="en-US" sz="3300" spc="-1" strike="noStrike">
              <a:solidFill>
                <a:srgbClr val="000000"/>
              </a:solidFill>
              <a:latin typeface="Arial"/>
            </a:endParaRPr>
          </a:p>
        </p:txBody>
      </p:sp>
      <p:sp>
        <p:nvSpPr>
          <p:cNvPr id="123" name=""/>
          <p:cNvSpPr/>
          <p:nvPr/>
        </p:nvSpPr>
        <p:spPr>
          <a:xfrm>
            <a:off x="4572000" y="2421000"/>
            <a:ext cx="4572000" cy="4437000"/>
          </a:xfrm>
          <a:prstGeom prst="bevel">
            <a:avLst>
              <a:gd name="adj" fmla="val 5491"/>
            </a:avLst>
          </a:prstGeom>
          <a:solidFill>
            <a:srgbClr val="ffff00">
              <a:alpha val="39000"/>
            </a:srgbClr>
          </a:solidFill>
          <a:ln w="0">
            <a:noFill/>
          </a:ln>
        </p:spPr>
        <p:style>
          <a:lnRef idx="0"/>
          <a:fillRef idx="0"/>
          <a:effectRef idx="0"/>
          <a:fontRef idx="minor"/>
        </p:style>
        <p:txBody>
          <a:bodyPr lIns="90000" rIns="90000" tIns="46800" bIns="46800" anchor="ctr">
            <a:noAutofit/>
          </a:bodyPr>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يعتمد على المنطق وإتباع الخطوات العملية الموصلة إليه</a:t>
            </a:r>
            <a:r>
              <a:rPr b="0" lang="en-US" sz="3300" spc="-1" strike="noStrike">
                <a:solidFill>
                  <a:srgbClr val="000000"/>
                </a:solidFill>
                <a:latin typeface="Arial"/>
                <a:ea typeface="AL-Mohanad"/>
              </a:rPr>
              <a:t>0</a:t>
            </a:r>
            <a:endParaRPr b="0" lang="en-US" sz="3300" spc="-1" strike="noStrike">
              <a:solidFill>
                <a:srgbClr val="000000"/>
              </a:solidFill>
              <a:latin typeface="Arial"/>
            </a:endParaRPr>
          </a:p>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انكماشي يقلص الأفكار المعروضة </a:t>
            </a:r>
            <a:endParaRPr b="0" lang="en-US" sz="3300" spc="-1" strike="noStrike">
              <a:solidFill>
                <a:srgbClr val="000000"/>
              </a:solidFill>
              <a:latin typeface="Arial"/>
            </a:endParaRPr>
          </a:p>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تفكير رأسي يحلل المشكلة ويتدرج في الحل</a:t>
            </a:r>
            <a:endParaRPr b="0" lang="en-US" sz="3300" spc="-1" strike="noStrike">
              <a:solidFill>
                <a:srgbClr val="000000"/>
              </a:solidFill>
              <a:latin typeface="Arial"/>
            </a:endParaRPr>
          </a:p>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L-Mohanad"/>
              </a:rPr>
              <a:t> يتجنب التفرعات غير المرتبطة بالمشكلة بصورة مباشرة </a:t>
            </a:r>
            <a:endParaRPr b="0" lang="en-US" sz="3300" spc="-1" strike="noStrike">
              <a:solidFill>
                <a:srgbClr val="000000"/>
              </a:solidFill>
              <a:latin typeface="Arial"/>
            </a:endParaRPr>
          </a:p>
          <a:p>
            <a:pPr marL="264960" indent="-264960" algn="just" rtl="1">
              <a:lnSpc>
                <a:spcPct val="6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000000"/>
                </a:solidFill>
                <a:latin typeface="Arial"/>
                <a:cs typeface="AL-Mohanad"/>
              </a:rPr>
              <a:t>يتبع المسارات الأكثر احتمالاً </a:t>
            </a:r>
            <a:endParaRPr b="0" lang="en-US" sz="3300" spc="-1" strike="noStrike">
              <a:solidFill>
                <a:srgbClr val="000000"/>
              </a:solidFill>
              <a:latin typeface="Arial"/>
            </a:endParaRPr>
          </a:p>
        </p:txBody>
      </p:sp>
      <p:sp>
        <p:nvSpPr>
          <p:cNvPr id="124" name=""/>
          <p:cNvSpPr/>
          <p:nvPr/>
        </p:nvSpPr>
        <p:spPr>
          <a:xfrm>
            <a:off x="0" y="836640"/>
            <a:ext cx="9144000" cy="720720"/>
          </a:xfrm>
          <a:prstGeom prst="bevel">
            <a:avLst>
              <a:gd name="adj" fmla="val 25329"/>
            </a:avLst>
          </a:prstGeom>
          <a:blipFill rotWithShape="0">
            <a:blip r:embed="rId4">
              <a:alphaModFix amt="52000"/>
            </a:blip>
            <a:srcRect/>
            <a:tile tx="0" ty="0" sx="100000" sy="100000" algn="ctr"/>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cs typeface="Kufi20 Normal"/>
              </a:rPr>
              <a:t>مقارنة بين خصائص التفكير المنطقي و التفكير الإبداعي</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9">
                                  <p:stCondLst>
                                    <p:cond delay="0"/>
                                  </p:stCondLst>
                                  <p:childTnLst>
                                    <p:set>
                                      <p:cBhvr>
                                        <p:cTn id="137" dur="1" fill="hold">
                                          <p:stCondLst>
                                            <p:cond delay="0"/>
                                          </p:stCondLst>
                                        </p:cTn>
                                        <p:tgtEl>
                                          <p:spTgt spid="124"/>
                                        </p:tgtEl>
                                        <p:attrNameLst>
                                          <p:attrName>style.visibility</p:attrName>
                                        </p:attrNameLst>
                                      </p:cBhvr>
                                      <p:to>
                                        <p:strVal val="visible"/>
                                      </p:to>
                                    </p:set>
                                    <p:anim calcmode="lin" valueType="num">
                                      <p:cBhvr additive="repl">
                                        <p:cTn id="138" dur="500" fill="hold"/>
                                        <p:tgtEl>
                                          <p:spTgt spid="12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 dur="500" fill="hold"/>
                                        <p:tgtEl>
                                          <p:spTgt spid="12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0" dur="500" fill="hold"/>
                                        <p:tgtEl>
                                          <p:spTgt spid="12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8">
                                  <p:stCondLst>
                                    <p:cond delay="0"/>
                                  </p:stCondLst>
                                  <p:iterate type="wd">
                                    <p:tmAbs val="500"/>
                                  </p:iterate>
                                  <p:childTnLst>
                                    <p:set>
                                      <p:cBhvr>
                                        <p:cTn id="145" dur="1" fill="hold">
                                          <p:stCondLst>
                                            <p:cond delay="0"/>
                                          </p:stCondLst>
                                        </p:cTn>
                                        <p:tgtEl>
                                          <p:spTgt spid="124">
                                            <p:txEl>
                                              <p:pRg st="0" end="0"/>
                                            </p:txEl>
                                          </p:spTgt>
                                        </p:tgtEl>
                                        <p:attrNameLst>
                                          <p:attrName>style.visibility</p:attrName>
                                        </p:attrNameLst>
                                      </p:cBhvr>
                                      <p:to>
                                        <p:strVal val="visible"/>
                                      </p:to>
                                    </p:set>
                                    <p:set>
                                      <p:cBhvr>
                                        <p:cTn id="146" dur="455" fill="hold">
                                          <p:stCondLst>
                                            <p:cond delay="0"/>
                                          </p:stCondLst>
                                        </p:cTn>
                                        <p:tgtEl>
                                          <p:spTgt spid="124">
                                            <p:txEl>
                                              <p:pRg st="0" end="0"/>
                                            </p:txEl>
                                          </p:spTgt>
                                        </p:tgtEl>
                                        <p:attrNameLst>
                                          <p:attrName>r</p:attrName>
                                        </p:attrNameLst>
                                      </p:cBhvr>
                                      <p:to>
                                        <p:strVal val="-45"/>
                                      </p:to>
                                    </p:set>
                                    <p:anim calcmode="lin" valueType="num">
                                      <p:cBhvr additive="repl">
                                        <p:cTn id="147" dur="455" fill="hold">
                                          <p:stCondLst>
                                            <p:cond delay="455"/>
                                          </p:stCondLst>
                                        </p:cTn>
                                        <p:tgtEl>
                                          <p:spTgt spid="12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48" dur="455" fill="hold">
                                          <p:stCondLst>
                                            <p:cond delay="0"/>
                                          </p:stCondLst>
                                        </p:cTn>
                                        <p:tgtEl>
                                          <p:spTgt spid="12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49" dur="156" autoRev="1" fill="hold">
                                          <p:stCondLst>
                                            <p:cond delay="455"/>
                                          </p:stCondLst>
                                        </p:cTn>
                                        <p:tgtEl>
                                          <p:spTgt spid="12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0" dur="136" fill="hold">
                                          <p:stCondLst>
                                            <p:cond delay="864"/>
                                          </p:stCondLst>
                                        </p:cTn>
                                        <p:tgtEl>
                                          <p:spTgt spid="12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6">
                                  <p:stCondLst>
                                    <p:cond delay="0"/>
                                  </p:stCondLst>
                                  <p:childTnLst>
                                    <p:set>
                                      <p:cBhvr>
                                        <p:cTn id="154" dur="1" fill="hold">
                                          <p:stCondLst>
                                            <p:cond delay="0"/>
                                          </p:stCondLst>
                                        </p:cTn>
                                        <p:tgtEl>
                                          <p:spTgt spid="120"/>
                                        </p:tgtEl>
                                        <p:attrNameLst>
                                          <p:attrName>style.visibility</p:attrName>
                                        </p:attrNameLst>
                                      </p:cBhvr>
                                      <p:to>
                                        <p:strVal val="visible"/>
                                      </p:to>
                                    </p:set>
                                    <p:animEffect filter="wipe(down)" transition="in">
                                      <p:cBhvr additive="repl">
                                        <p:cTn id="155" dur="580">
                                          <p:stCondLst>
                                            <p:cond delay="0"/>
                                          </p:stCondLst>
                                        </p:cTn>
                                        <p:tgtEl>
                                          <p:spTgt spid="120"/>
                                        </p:tgtEl>
                                      </p:cBhvr>
                                    </p:animEffect>
                                    <p:anim calcmode="lin" valueType="num">
                                      <p:cBhvr additive="repl">
                                        <p:cTn id="156"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157"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158"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159"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160"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161" dur="26" fill="hold">
                                          <p:stCondLst>
                                            <p:cond delay="650"/>
                                          </p:stCondLst>
                                        </p:cTn>
                                        <p:tgtEl>
                                          <p:spTgt spid="120"/>
                                        </p:tgtEl>
                                      </p:cBhvr>
                                      <p:to x="100000" y="60000"/>
                                    </p:animScale>
                                    <p:animScale>
                                      <p:cBhvr>
                                        <p:cTn id="162" dur="166" fill="hold">
                                          <p:stCondLst>
                                            <p:cond delay="676"/>
                                          </p:stCondLst>
                                        </p:cTn>
                                        <p:tgtEl>
                                          <p:spTgt spid="120"/>
                                        </p:tgtEl>
                                      </p:cBhvr>
                                      <p:to x="100000" y="100000"/>
                                    </p:animScale>
                                    <p:animScale>
                                      <p:cBhvr>
                                        <p:cTn id="163" dur="26" fill="hold">
                                          <p:stCondLst>
                                            <p:cond delay="1312"/>
                                          </p:stCondLst>
                                        </p:cTn>
                                        <p:tgtEl>
                                          <p:spTgt spid="120"/>
                                        </p:tgtEl>
                                      </p:cBhvr>
                                      <p:to x="100000" y="80000"/>
                                    </p:animScale>
                                    <p:animScale>
                                      <p:cBhvr>
                                        <p:cTn id="164" dur="166" fill="hold">
                                          <p:stCondLst>
                                            <p:cond delay="1338"/>
                                          </p:stCondLst>
                                        </p:cTn>
                                        <p:tgtEl>
                                          <p:spTgt spid="120"/>
                                        </p:tgtEl>
                                      </p:cBhvr>
                                      <p:to x="100000" y="100000"/>
                                    </p:animScale>
                                    <p:animScale>
                                      <p:cBhvr>
                                        <p:cTn id="165" dur="26" fill="hold">
                                          <p:stCondLst>
                                            <p:cond delay="1642"/>
                                          </p:stCondLst>
                                        </p:cTn>
                                        <p:tgtEl>
                                          <p:spTgt spid="120"/>
                                        </p:tgtEl>
                                      </p:cBhvr>
                                      <p:to x="100000" y="90000"/>
                                    </p:animScale>
                                    <p:animScale>
                                      <p:cBhvr>
                                        <p:cTn id="166" dur="166" fill="hold">
                                          <p:stCondLst>
                                            <p:cond delay="1668"/>
                                          </p:stCondLst>
                                        </p:cTn>
                                        <p:tgtEl>
                                          <p:spTgt spid="120"/>
                                        </p:tgtEl>
                                      </p:cBhvr>
                                      <p:to x="100000" y="100000"/>
                                    </p:animScale>
                                    <p:animScale>
                                      <p:cBhvr>
                                        <p:cTn id="167" dur="26" fill="hold">
                                          <p:stCondLst>
                                            <p:cond delay="1808"/>
                                          </p:stCondLst>
                                        </p:cTn>
                                        <p:tgtEl>
                                          <p:spTgt spid="120"/>
                                        </p:tgtEl>
                                      </p:cBhvr>
                                      <p:to x="100000" y="95000"/>
                                    </p:animScale>
                                    <p:animScale>
                                      <p:cBhvr>
                                        <p:cTn id="168" dur="166" fill="hold">
                                          <p:stCondLst>
                                            <p:cond delay="1834"/>
                                          </p:stCondLst>
                                        </p:cTn>
                                        <p:tgtEl>
                                          <p:spTgt spid="120"/>
                                        </p:tgtEl>
                                      </p:cBhvr>
                                      <p:to x="100000" y="100000"/>
                                    </p:animScale>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6">
                                  <p:stCondLst>
                                    <p:cond delay="0"/>
                                  </p:stCondLst>
                                  <p:childTnLst>
                                    <p:set>
                                      <p:cBhvr>
                                        <p:cTn id="172" dur="1" fill="hold">
                                          <p:stCondLst>
                                            <p:cond delay="0"/>
                                          </p:stCondLst>
                                        </p:cTn>
                                        <p:tgtEl>
                                          <p:spTgt spid="121"/>
                                        </p:tgtEl>
                                        <p:attrNameLst>
                                          <p:attrName>style.visibility</p:attrName>
                                        </p:attrNameLst>
                                      </p:cBhvr>
                                      <p:to>
                                        <p:strVal val="visible"/>
                                      </p:to>
                                    </p:set>
                                    <p:animEffect filter="wipe(down)" transition="in">
                                      <p:cBhvr additive="repl">
                                        <p:cTn id="173" dur="580">
                                          <p:stCondLst>
                                            <p:cond delay="0"/>
                                          </p:stCondLst>
                                        </p:cTn>
                                        <p:tgtEl>
                                          <p:spTgt spid="121"/>
                                        </p:tgtEl>
                                      </p:cBhvr>
                                    </p:animEffect>
                                    <p:anim calcmode="lin" valueType="num">
                                      <p:cBhvr additive="repl">
                                        <p:cTn id="174" dur="1822">
                                          <p:stCondLst>
                                            <p:cond delay="0"/>
                                          </p:stCondLst>
                                        </p:cTn>
                                        <p:tgtEl>
                                          <p:spTgt spid="121"/>
                                        </p:tgtEl>
                                        <p:attrNameLst>
                                          <p:attrName>ppt_x</p:attrName>
                                        </p:attrNameLst>
                                      </p:cBhvr>
                                      <p:tavLst>
                                        <p:tav tm="0">
                                          <p:val>
                                            <p:strVal val="#ppt_x-0.25"/>
                                          </p:val>
                                        </p:tav>
                                        <p:tav tm="100000">
                                          <p:val>
                                            <p:strVal val="#ppt_x"/>
                                          </p:val>
                                        </p:tav>
                                      </p:tavLst>
                                    </p:anim>
                                    <p:anim calcmode="lin" valueType="num">
                                      <p:cBhvr additive="repl">
                                        <p:cTn id="175" dur="664">
                                          <p:stCondLst>
                                            <p:cond delay="0"/>
                                          </p:stCondLst>
                                        </p:cTn>
                                        <p:tgtEl>
                                          <p:spTgt spid="121"/>
                                        </p:tgtEl>
                                        <p:attrNameLst>
                                          <p:attrName>ppt_y</p:attrName>
                                        </p:attrNameLst>
                                      </p:cBhvr>
                                      <p:tavLst>
                                        <p:tav fmla="y-sin(pi*$)/3" tm="0">
                                          <p:val>
                                            <p:fltVal val="0.5"/>
                                          </p:val>
                                        </p:tav>
                                        <p:tav fmla="y-sin(pi*$)/3" tm="100000">
                                          <p:val>
                                            <p:fltVal val="1"/>
                                          </p:val>
                                        </p:tav>
                                      </p:tavLst>
                                    </p:anim>
                                    <p:anim calcmode="lin" valueType="num">
                                      <p:cBhvr additive="repl">
                                        <p:cTn id="176" dur="664">
                                          <p:stCondLst>
                                            <p:cond delay="664"/>
                                          </p:stCondLst>
                                        </p:cTn>
                                        <p:tgtEl>
                                          <p:spTgt spid="121"/>
                                        </p:tgtEl>
                                        <p:attrNameLst>
                                          <p:attrName>ppt_y</p:attrName>
                                        </p:attrNameLst>
                                      </p:cBhvr>
                                      <p:tavLst>
                                        <p:tav fmla="y-sin(pi*$)/9" tm="0">
                                          <p:val>
                                            <p:fltVal val="0"/>
                                          </p:val>
                                        </p:tav>
                                        <p:tav fmla="y-sin(pi*$)/9" tm="100000">
                                          <p:val>
                                            <p:fltVal val="1"/>
                                          </p:val>
                                        </p:tav>
                                      </p:tavLst>
                                    </p:anim>
                                    <p:anim calcmode="lin" valueType="num">
                                      <p:cBhvr additive="repl">
                                        <p:cTn id="177" dur="332">
                                          <p:stCondLst>
                                            <p:cond delay="1324"/>
                                          </p:stCondLst>
                                        </p:cTn>
                                        <p:tgtEl>
                                          <p:spTgt spid="121"/>
                                        </p:tgtEl>
                                        <p:attrNameLst>
                                          <p:attrName>ppt_y</p:attrName>
                                        </p:attrNameLst>
                                      </p:cBhvr>
                                      <p:tavLst>
                                        <p:tav fmla="y-sin(pi*$)/27" tm="0">
                                          <p:val>
                                            <p:fltVal val="0"/>
                                          </p:val>
                                        </p:tav>
                                        <p:tav fmla="y-sin(pi*$)/27" tm="100000">
                                          <p:val>
                                            <p:fltVal val="1"/>
                                          </p:val>
                                        </p:tav>
                                      </p:tavLst>
                                    </p:anim>
                                    <p:anim calcmode="lin" valueType="num">
                                      <p:cBhvr additive="repl">
                                        <p:cTn id="178" dur="164">
                                          <p:stCondLst>
                                            <p:cond delay="1656"/>
                                          </p:stCondLst>
                                        </p:cTn>
                                        <p:tgtEl>
                                          <p:spTgt spid="121"/>
                                        </p:tgtEl>
                                        <p:attrNameLst>
                                          <p:attrName>ppt_y</p:attrName>
                                        </p:attrNameLst>
                                      </p:cBhvr>
                                      <p:tavLst>
                                        <p:tav fmla="y-sin(pi*$)/81" tm="0">
                                          <p:val>
                                            <p:fltVal val="0"/>
                                          </p:val>
                                        </p:tav>
                                        <p:tav fmla="y-sin(pi*$)/81" tm="100000">
                                          <p:val>
                                            <p:fltVal val="1"/>
                                          </p:val>
                                        </p:tav>
                                      </p:tavLst>
                                    </p:anim>
                                    <p:animScale>
                                      <p:cBhvr>
                                        <p:cTn id="179" dur="26" fill="hold">
                                          <p:stCondLst>
                                            <p:cond delay="650"/>
                                          </p:stCondLst>
                                        </p:cTn>
                                        <p:tgtEl>
                                          <p:spTgt spid="121"/>
                                        </p:tgtEl>
                                      </p:cBhvr>
                                      <p:to x="100000" y="60000"/>
                                    </p:animScale>
                                    <p:animScale>
                                      <p:cBhvr>
                                        <p:cTn id="180" dur="166" fill="hold">
                                          <p:stCondLst>
                                            <p:cond delay="676"/>
                                          </p:stCondLst>
                                        </p:cTn>
                                        <p:tgtEl>
                                          <p:spTgt spid="121"/>
                                        </p:tgtEl>
                                      </p:cBhvr>
                                      <p:to x="100000" y="100000"/>
                                    </p:animScale>
                                    <p:animScale>
                                      <p:cBhvr>
                                        <p:cTn id="181" dur="26" fill="hold">
                                          <p:stCondLst>
                                            <p:cond delay="1312"/>
                                          </p:stCondLst>
                                        </p:cTn>
                                        <p:tgtEl>
                                          <p:spTgt spid="121"/>
                                        </p:tgtEl>
                                      </p:cBhvr>
                                      <p:to x="100000" y="80000"/>
                                    </p:animScale>
                                    <p:animScale>
                                      <p:cBhvr>
                                        <p:cTn id="182" dur="166" fill="hold">
                                          <p:stCondLst>
                                            <p:cond delay="1338"/>
                                          </p:stCondLst>
                                        </p:cTn>
                                        <p:tgtEl>
                                          <p:spTgt spid="121"/>
                                        </p:tgtEl>
                                      </p:cBhvr>
                                      <p:to x="100000" y="100000"/>
                                    </p:animScale>
                                    <p:animScale>
                                      <p:cBhvr>
                                        <p:cTn id="183" dur="26" fill="hold">
                                          <p:stCondLst>
                                            <p:cond delay="1642"/>
                                          </p:stCondLst>
                                        </p:cTn>
                                        <p:tgtEl>
                                          <p:spTgt spid="121"/>
                                        </p:tgtEl>
                                      </p:cBhvr>
                                      <p:to x="100000" y="90000"/>
                                    </p:animScale>
                                    <p:animScale>
                                      <p:cBhvr>
                                        <p:cTn id="184" dur="166" fill="hold">
                                          <p:stCondLst>
                                            <p:cond delay="1668"/>
                                          </p:stCondLst>
                                        </p:cTn>
                                        <p:tgtEl>
                                          <p:spTgt spid="121"/>
                                        </p:tgtEl>
                                      </p:cBhvr>
                                      <p:to x="100000" y="100000"/>
                                    </p:animScale>
                                    <p:animScale>
                                      <p:cBhvr>
                                        <p:cTn id="185" dur="26" fill="hold">
                                          <p:stCondLst>
                                            <p:cond delay="1808"/>
                                          </p:stCondLst>
                                        </p:cTn>
                                        <p:tgtEl>
                                          <p:spTgt spid="121"/>
                                        </p:tgtEl>
                                      </p:cBhvr>
                                      <p:to x="100000" y="95000"/>
                                    </p:animScale>
                                    <p:animScale>
                                      <p:cBhvr>
                                        <p:cTn id="186" dur="166" fill="hold">
                                          <p:stCondLst>
                                            <p:cond delay="1834"/>
                                          </p:stCondLst>
                                        </p:cTn>
                                        <p:tgtEl>
                                          <p:spTgt spid="121"/>
                                        </p:tgtEl>
                                      </p:cBhvr>
                                      <p:to x="100000" y="100000"/>
                                    </p:animScale>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1">
                                  <p:stCondLst>
                                    <p:cond delay="0"/>
                                  </p:stCondLst>
                                  <p:iterate type="lt">
                                    <p:tmAbs val="50"/>
                                  </p:iterate>
                                  <p:childTnLst>
                                    <p:set>
                                      <p:cBhvr>
                                        <p:cTn id="190" dur="1" fill="hold">
                                          <p:stCondLst>
                                            <p:cond delay="0"/>
                                          </p:stCondLst>
                                        </p:cTn>
                                        <p:tgtEl>
                                          <p:spTgt spid="120">
                                            <p:txEl>
                                              <p:pRg st="0" end="0"/>
                                            </p:txEl>
                                          </p:spTgt>
                                        </p:tgtEl>
                                        <p:attrNameLst>
                                          <p:attrName>style.visibility</p:attrName>
                                        </p:attrNameLst>
                                      </p:cBhvr>
                                      <p:to>
                                        <p:strVal val="visible"/>
                                      </p:to>
                                    </p:set>
                                    <p:anim calcmode="lin" valueType="num">
                                      <p:cBhvr additive="repl">
                                        <p:cTn id="191" dur="500" fill="hold"/>
                                        <p:tgtEl>
                                          <p:spTgt spid="12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2" dur="500" fill="hold"/>
                                        <p:tgtEl>
                                          <p:spTgt spid="120">
                                            <p:txEl>
                                              <p:pRg st="0" end="0"/>
                                            </p:txEl>
                                          </p:spTgt>
                                        </p:tgtEl>
                                        <p:attrNameLst>
                                          <p:attrName>ppt_y</p:attrName>
                                        </p:attrNameLst>
                                      </p:cBhvr>
                                      <p:tavLst>
                                        <p:tav tm="0">
                                          <p:val>
                                            <p:strVal val="#ppt_y"/>
                                          </p:val>
                                        </p:tav>
                                        <p:tav tm="100000">
                                          <p:val>
                                            <p:strVal val="#ppt_y"/>
                                          </p:val>
                                        </p:tav>
                                      </p:tavLst>
                                    </p:anim>
                                    <p:anim calcmode="lin" valueType="num">
                                      <p:cBhvr additive="repl">
                                        <p:cTn id="193" dur="500" fill="hold"/>
                                        <p:tgtEl>
                                          <p:spTgt spid="12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 dur="500" fill="hold"/>
                                        <p:tgtEl>
                                          <p:spTgt spid="12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 dur="500"/>
                                        <p:tgtEl>
                                          <p:spTgt spid="120">
                                            <p:txEl>
                                              <p:pRg st="0" end="0"/>
                                            </p:txEl>
                                          </p:spTgt>
                                        </p:tgtEl>
                                      </p:cBhvr>
                                    </p:animEffect>
                                  </p:childTnLst>
                                </p:cTn>
                              </p:par>
                            </p:childTnLst>
                          </p:cTn>
                        </p:par>
                        <p:par>
                          <p:cTn id="196" fill="hold">
                            <p:stCondLst>
                              <p:cond delay="1400"/>
                            </p:stCondLst>
                            <p:childTnLst>
                              <p:par>
                                <p:cTn id="197" nodeType="afterEffect" fill="hold" presetClass="emph" presetID="35" repeatCount="indefinite">
                                  <p:stCondLst>
                                    <p:cond delay="0"/>
                                  </p:stCondLst>
                                  <p:iterate type="lt">
                                    <p:tmAbs val="0"/>
                                  </p:iterate>
                                  <p:childTnLst>
                                    <p:anim calcmode="discrete" valueType="num">
                                      <p:cBhvr additive="repl">
                                        <p:cTn id="198" dur="1000" fill="hold"/>
                                        <p:tgtEl>
                                          <p:spTgt spid="120">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1">
                                  <p:stCondLst>
                                    <p:cond delay="0"/>
                                  </p:stCondLst>
                                  <p:iterate type="lt">
                                    <p:tmAbs val="50"/>
                                  </p:iterate>
                                  <p:childTnLst>
                                    <p:set>
                                      <p:cBhvr>
                                        <p:cTn id="202" dur="1" fill="hold">
                                          <p:stCondLst>
                                            <p:cond delay="0"/>
                                          </p:stCondLst>
                                        </p:cTn>
                                        <p:tgtEl>
                                          <p:spTgt spid="121">
                                            <p:txEl>
                                              <p:pRg st="0" end="0"/>
                                            </p:txEl>
                                          </p:spTgt>
                                        </p:tgtEl>
                                        <p:attrNameLst>
                                          <p:attrName>style.visibility</p:attrName>
                                        </p:attrNameLst>
                                      </p:cBhvr>
                                      <p:to>
                                        <p:strVal val="visible"/>
                                      </p:to>
                                    </p:set>
                                    <p:anim calcmode="lin" valueType="num">
                                      <p:cBhvr additive="repl">
                                        <p:cTn id="203" dur="500" fill="hold"/>
                                        <p:tgtEl>
                                          <p:spTgt spid="12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4" dur="500" fill="hold"/>
                                        <p:tgtEl>
                                          <p:spTgt spid="121">
                                            <p:txEl>
                                              <p:pRg st="0" end="0"/>
                                            </p:txEl>
                                          </p:spTgt>
                                        </p:tgtEl>
                                        <p:attrNameLst>
                                          <p:attrName>ppt_y</p:attrName>
                                        </p:attrNameLst>
                                      </p:cBhvr>
                                      <p:tavLst>
                                        <p:tav tm="0">
                                          <p:val>
                                            <p:strVal val="#ppt_y"/>
                                          </p:val>
                                        </p:tav>
                                        <p:tav tm="100000">
                                          <p:val>
                                            <p:strVal val="#ppt_y"/>
                                          </p:val>
                                        </p:tav>
                                      </p:tavLst>
                                    </p:anim>
                                    <p:anim calcmode="lin" valueType="num">
                                      <p:cBhvr additive="repl">
                                        <p:cTn id="205" dur="500" fill="hold"/>
                                        <p:tgtEl>
                                          <p:spTgt spid="12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6" dur="500" fill="hold"/>
                                        <p:tgtEl>
                                          <p:spTgt spid="12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7" dur="500"/>
                                        <p:tgtEl>
                                          <p:spTgt spid="121">
                                            <p:txEl>
                                              <p:pRg st="0" end="0"/>
                                            </p:txEl>
                                          </p:spTgt>
                                        </p:tgtEl>
                                      </p:cBhvr>
                                    </p:animEffect>
                                  </p:childTnLst>
                                </p:cTn>
                              </p:par>
                            </p:childTnLst>
                          </p:cTn>
                        </p:par>
                        <p:par>
                          <p:cTn id="208" fill="hold">
                            <p:stCondLst>
                              <p:cond delay="1450"/>
                            </p:stCondLst>
                            <p:childTnLst>
                              <p:par>
                                <p:cTn id="209" nodeType="afterEffect" fill="hold" presetClass="emph" presetID="35" repeatCount="indefinite">
                                  <p:stCondLst>
                                    <p:cond delay="0"/>
                                  </p:stCondLst>
                                  <p:iterate type="lt">
                                    <p:tmAbs val="0"/>
                                  </p:iterate>
                                  <p:childTnLst>
                                    <p:anim calcmode="discrete" valueType="num">
                                      <p:cBhvr additive="repl">
                                        <p:cTn id="210" dur="1000" fill="hold"/>
                                        <p:tgtEl>
                                          <p:spTgt spid="121">
                                            <p:txEl>
                                              <p:pRg st="0" end="0"/>
                                            </p:txEl>
                                          </p:spTgt>
                                        </p:tgtEl>
                                        <p:attrNameLst>
                                          <p:attrName>style.visibility</p:attrName>
                                        </p:attrNameLst>
                                      </p:cBhvr>
                                      <p:tavLst>
                                        <p:tav tm="0">
                                          <p:val>
                                            <p:strVal val="hidden"/>
                                          </p:val>
                                        </p:tav>
                                        <p:tav tm="50000">
                                          <p:val>
                                            <p:strVal val="visible"/>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5">
                                  <p:stCondLst>
                                    <p:cond delay="0"/>
                                  </p:stCondLst>
                                  <p:childTnLst>
                                    <p:set>
                                      <p:cBhvr>
                                        <p:cTn id="214" dur="1" fill="hold">
                                          <p:stCondLst>
                                            <p:cond delay="0"/>
                                          </p:stCondLst>
                                        </p:cTn>
                                        <p:tgtEl>
                                          <p:spTgt spid="123"/>
                                        </p:tgtEl>
                                        <p:attrNameLst>
                                          <p:attrName>style.visibility</p:attrName>
                                        </p:attrNameLst>
                                      </p:cBhvr>
                                      <p:to>
                                        <p:strVal val="visible"/>
                                      </p:to>
                                    </p:set>
                                    <p:animEffect filter="fade" transition="in">
                                      <p:cBhvr additive="repl">
                                        <p:cTn id="215" dur="2000"/>
                                        <p:tgtEl>
                                          <p:spTgt spid="123"/>
                                        </p:tgtEl>
                                      </p:cBhvr>
                                    </p:animEffect>
                                    <p:anim calcmode="lin" valueType="num">
                                      <p:cBhvr additive="repl">
                                        <p:cTn id="216" dur="2000" fill="hold"/>
                                        <p:tgtEl>
                                          <p:spTgt spid="123"/>
                                        </p:tgtEl>
                                        <p:attrNameLst>
                                          <p:attrName>r</p:attrName>
                                        </p:attrNameLst>
                                      </p:cBhvr>
                                      <p:tavLst>
                                        <p:tav tm="0">
                                          <p:val>
                                            <p:strVal val="720"/>
                                          </p:val>
                                        </p:tav>
                                        <p:tav tm="100000">
                                          <p:val>
                                            <p:strVal val="0"/>
                                          </p:val>
                                        </p:tav>
                                      </p:tavLst>
                                    </p:anim>
                                    <p:anim calcmode="lin" valueType="num">
                                      <p:cBhvr additive="repl">
                                        <p:cTn id="217" dur="2000" fill="hold"/>
                                        <p:tgtEl>
                                          <p:spTgt spid="123"/>
                                        </p:tgtEl>
                                        <p:attrNameLst>
                                          <p:attrName>ppt_h</p:attrName>
                                        </p:attrNameLst>
                                      </p:cBhvr>
                                      <p:tavLst>
                                        <p:tav tm="0">
                                          <p:val>
                                            <p:fltVal val="0"/>
                                          </p:val>
                                        </p:tav>
                                        <p:tav tm="100000">
                                          <p:val>
                                            <p:strVal val="#ppt_h"/>
                                          </p:val>
                                        </p:tav>
                                      </p:tavLst>
                                    </p:anim>
                                    <p:anim calcmode="lin" valueType="num">
                                      <p:cBhvr additive="repl">
                                        <p:cTn id="218" dur="2000" fill="hold"/>
                                        <p:tgtEl>
                                          <p:spTgt spid="123"/>
                                        </p:tgtEl>
                                        <p:attrNameLst>
                                          <p:attrName>ppt_w</p:attrName>
                                        </p:attrNameLst>
                                      </p:cBhvr>
                                      <p:tavLst>
                                        <p:tav tm="0">
                                          <p:val>
                                            <p:fltVal val="0"/>
                                          </p:val>
                                        </p:tav>
                                        <p:tav tm="100000">
                                          <p:val>
                                            <p:strVal val="#ppt_w"/>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5">
                                  <p:stCondLst>
                                    <p:cond delay="0"/>
                                  </p:stCondLst>
                                  <p:childTnLst>
                                    <p:set>
                                      <p:cBhvr>
                                        <p:cTn id="222" dur="1" fill="hold">
                                          <p:stCondLst>
                                            <p:cond delay="0"/>
                                          </p:stCondLst>
                                        </p:cTn>
                                        <p:tgtEl>
                                          <p:spTgt spid="122"/>
                                        </p:tgtEl>
                                        <p:attrNameLst>
                                          <p:attrName>style.visibility</p:attrName>
                                        </p:attrNameLst>
                                      </p:cBhvr>
                                      <p:to>
                                        <p:strVal val="visible"/>
                                      </p:to>
                                    </p:set>
                                    <p:animEffect filter="fade" transition="in">
                                      <p:cBhvr additive="repl">
                                        <p:cTn id="223" dur="2000"/>
                                        <p:tgtEl>
                                          <p:spTgt spid="122"/>
                                        </p:tgtEl>
                                      </p:cBhvr>
                                    </p:animEffect>
                                    <p:anim calcmode="lin" valueType="num">
                                      <p:cBhvr additive="repl">
                                        <p:cTn id="224" dur="2000" fill="hold"/>
                                        <p:tgtEl>
                                          <p:spTgt spid="122"/>
                                        </p:tgtEl>
                                        <p:attrNameLst>
                                          <p:attrName>r</p:attrName>
                                        </p:attrNameLst>
                                      </p:cBhvr>
                                      <p:tavLst>
                                        <p:tav tm="0">
                                          <p:val>
                                            <p:strVal val="720"/>
                                          </p:val>
                                        </p:tav>
                                        <p:tav tm="100000">
                                          <p:val>
                                            <p:strVal val="0"/>
                                          </p:val>
                                        </p:tav>
                                      </p:tavLst>
                                    </p:anim>
                                    <p:anim calcmode="lin" valueType="num">
                                      <p:cBhvr additive="repl">
                                        <p:cTn id="225" dur="2000" fill="hold"/>
                                        <p:tgtEl>
                                          <p:spTgt spid="122"/>
                                        </p:tgtEl>
                                        <p:attrNameLst>
                                          <p:attrName>ppt_h</p:attrName>
                                        </p:attrNameLst>
                                      </p:cBhvr>
                                      <p:tavLst>
                                        <p:tav tm="0">
                                          <p:val>
                                            <p:fltVal val="0"/>
                                          </p:val>
                                        </p:tav>
                                        <p:tav tm="100000">
                                          <p:val>
                                            <p:strVal val="#ppt_h"/>
                                          </p:val>
                                        </p:tav>
                                      </p:tavLst>
                                    </p:anim>
                                    <p:anim calcmode="lin" valueType="num">
                                      <p:cBhvr additive="repl">
                                        <p:cTn id="226" dur="2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6">
                                  <p:stCondLst>
                                    <p:cond delay="0"/>
                                  </p:stCondLst>
                                  <p:childTnLst>
                                    <p:set>
                                      <p:cBhvr>
                                        <p:cTn id="230" dur="1" fill="hold">
                                          <p:stCondLst>
                                            <p:cond delay="0"/>
                                          </p:stCondLst>
                                        </p:cTn>
                                        <p:tgtEl>
                                          <p:spTgt spid="123">
                                            <p:txEl>
                                              <p:pRg st="0" end="0"/>
                                            </p:txEl>
                                          </p:spTgt>
                                        </p:tgtEl>
                                        <p:attrNameLst>
                                          <p:attrName>style.visibility</p:attrName>
                                        </p:attrNameLst>
                                      </p:cBhvr>
                                      <p:to>
                                        <p:strVal val="visible"/>
                                      </p:to>
                                    </p:set>
                                    <p:animEffect filter="wipe(down)" transition="in">
                                      <p:cBhvr additive="repl">
                                        <p:cTn id="231" dur="580">
                                          <p:stCondLst>
                                            <p:cond delay="0"/>
                                          </p:stCondLst>
                                        </p:cTn>
                                        <p:tgtEl>
                                          <p:spTgt spid="123">
                                            <p:txEl>
                                              <p:pRg st="0" end="0"/>
                                            </p:txEl>
                                          </p:spTgt>
                                        </p:tgtEl>
                                      </p:cBhvr>
                                    </p:animEffect>
                                    <p:anim calcmode="lin" valueType="num">
                                      <p:cBhvr additive="repl">
                                        <p:cTn id="232" dur="1822">
                                          <p:stCondLst>
                                            <p:cond delay="0"/>
                                          </p:stCondLst>
                                        </p:cTn>
                                        <p:tgtEl>
                                          <p:spTgt spid="123">
                                            <p:txEl>
                                              <p:pRg st="0" end="0"/>
                                            </p:txEl>
                                          </p:spTgt>
                                        </p:tgtEl>
                                        <p:attrNameLst>
                                          <p:attrName>ppt_x</p:attrName>
                                        </p:attrNameLst>
                                      </p:cBhvr>
                                      <p:tavLst>
                                        <p:tav tm="0">
                                          <p:val>
                                            <p:strVal val="#ppt_x-0.25"/>
                                          </p:val>
                                        </p:tav>
                                        <p:tav tm="100000">
                                          <p:val>
                                            <p:strVal val="#ppt_x"/>
                                          </p:val>
                                        </p:tav>
                                      </p:tavLst>
                                    </p:anim>
                                    <p:anim calcmode="lin" valueType="num">
                                      <p:cBhvr additive="repl">
                                        <p:cTn id="233" dur="664">
                                          <p:stCondLst>
                                            <p:cond delay="0"/>
                                          </p:stCondLst>
                                        </p:cTn>
                                        <p:tgtEl>
                                          <p:spTgt spid="12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34" dur="664">
                                          <p:stCondLst>
                                            <p:cond delay="664"/>
                                          </p:stCondLst>
                                        </p:cTn>
                                        <p:tgtEl>
                                          <p:spTgt spid="12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35" dur="332">
                                          <p:stCondLst>
                                            <p:cond delay="1324"/>
                                          </p:stCondLst>
                                        </p:cTn>
                                        <p:tgtEl>
                                          <p:spTgt spid="12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36" dur="164">
                                          <p:stCondLst>
                                            <p:cond delay="1656"/>
                                          </p:stCondLst>
                                        </p:cTn>
                                        <p:tgtEl>
                                          <p:spTgt spid="123">
                                            <p:txEl>
                                              <p:pRg st="0" end="0"/>
                                            </p:txEl>
                                          </p:spTgt>
                                        </p:tgtEl>
                                        <p:attrNameLst>
                                          <p:attrName>ppt_y</p:attrName>
                                        </p:attrNameLst>
                                      </p:cBhvr>
                                      <p:tavLst>
                                        <p:tav fmla="y-sin(pi*$)/81" tm="0">
                                          <p:val>
                                            <p:fltVal val="0"/>
                                          </p:val>
                                        </p:tav>
                                        <p:tav fmla="y-sin(pi*$)/81" tm="100000">
                                          <p:val>
                                            <p:fltVal val="1"/>
                                          </p:val>
                                        </p:tav>
                                      </p:tavLst>
                                    </p:anim>
                                    <p:animScale>
                                      <p:cBhvr>
                                        <p:cTn id="237" dur="26" fill="hold">
                                          <p:stCondLst>
                                            <p:cond delay="650"/>
                                          </p:stCondLst>
                                        </p:cTn>
                                        <p:tgtEl>
                                          <p:spTgt spid="123">
                                            <p:txEl>
                                              <p:pRg st="0" end="0"/>
                                            </p:txEl>
                                          </p:spTgt>
                                        </p:tgtEl>
                                      </p:cBhvr>
                                      <p:to x="100000" y="60000"/>
                                    </p:animScale>
                                    <p:animScale>
                                      <p:cBhvr>
                                        <p:cTn id="238" dur="166" fill="hold">
                                          <p:stCondLst>
                                            <p:cond delay="676"/>
                                          </p:stCondLst>
                                        </p:cTn>
                                        <p:tgtEl>
                                          <p:spTgt spid="123">
                                            <p:txEl>
                                              <p:pRg st="0" end="0"/>
                                            </p:txEl>
                                          </p:spTgt>
                                        </p:tgtEl>
                                      </p:cBhvr>
                                      <p:to x="100000" y="100000"/>
                                    </p:animScale>
                                    <p:animScale>
                                      <p:cBhvr>
                                        <p:cTn id="239" dur="26" fill="hold">
                                          <p:stCondLst>
                                            <p:cond delay="1312"/>
                                          </p:stCondLst>
                                        </p:cTn>
                                        <p:tgtEl>
                                          <p:spTgt spid="123">
                                            <p:txEl>
                                              <p:pRg st="0" end="0"/>
                                            </p:txEl>
                                          </p:spTgt>
                                        </p:tgtEl>
                                      </p:cBhvr>
                                      <p:to x="100000" y="80000"/>
                                    </p:animScale>
                                    <p:animScale>
                                      <p:cBhvr>
                                        <p:cTn id="240" dur="166" fill="hold">
                                          <p:stCondLst>
                                            <p:cond delay="1338"/>
                                          </p:stCondLst>
                                        </p:cTn>
                                        <p:tgtEl>
                                          <p:spTgt spid="123">
                                            <p:txEl>
                                              <p:pRg st="0" end="0"/>
                                            </p:txEl>
                                          </p:spTgt>
                                        </p:tgtEl>
                                      </p:cBhvr>
                                      <p:to x="100000" y="100000"/>
                                    </p:animScale>
                                    <p:animScale>
                                      <p:cBhvr>
                                        <p:cTn id="241" dur="26" fill="hold">
                                          <p:stCondLst>
                                            <p:cond delay="1642"/>
                                          </p:stCondLst>
                                        </p:cTn>
                                        <p:tgtEl>
                                          <p:spTgt spid="123">
                                            <p:txEl>
                                              <p:pRg st="0" end="0"/>
                                            </p:txEl>
                                          </p:spTgt>
                                        </p:tgtEl>
                                      </p:cBhvr>
                                      <p:to x="100000" y="90000"/>
                                    </p:animScale>
                                    <p:animScale>
                                      <p:cBhvr>
                                        <p:cTn id="242" dur="166" fill="hold">
                                          <p:stCondLst>
                                            <p:cond delay="1668"/>
                                          </p:stCondLst>
                                        </p:cTn>
                                        <p:tgtEl>
                                          <p:spTgt spid="123">
                                            <p:txEl>
                                              <p:pRg st="0" end="0"/>
                                            </p:txEl>
                                          </p:spTgt>
                                        </p:tgtEl>
                                      </p:cBhvr>
                                      <p:to x="100000" y="100000"/>
                                    </p:animScale>
                                    <p:animScale>
                                      <p:cBhvr>
                                        <p:cTn id="243" dur="26" fill="hold">
                                          <p:stCondLst>
                                            <p:cond delay="1808"/>
                                          </p:stCondLst>
                                        </p:cTn>
                                        <p:tgtEl>
                                          <p:spTgt spid="123">
                                            <p:txEl>
                                              <p:pRg st="0" end="0"/>
                                            </p:txEl>
                                          </p:spTgt>
                                        </p:tgtEl>
                                      </p:cBhvr>
                                      <p:to x="100000" y="95000"/>
                                    </p:animScale>
                                    <p:animScale>
                                      <p:cBhvr>
                                        <p:cTn id="244" dur="166" fill="hold">
                                          <p:stCondLst>
                                            <p:cond delay="1834"/>
                                          </p:stCondLst>
                                        </p:cTn>
                                        <p:tgtEl>
                                          <p:spTgt spid="123">
                                            <p:txEl>
                                              <p:pRg st="0" end="0"/>
                                            </p:txEl>
                                          </p:spTgt>
                                        </p:tgtEl>
                                      </p:cBhvr>
                                      <p:to x="100000" y="100000"/>
                                    </p:animScale>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6">
                                  <p:stCondLst>
                                    <p:cond delay="0"/>
                                  </p:stCondLst>
                                  <p:childTnLst>
                                    <p:set>
                                      <p:cBhvr>
                                        <p:cTn id="248" dur="1" fill="hold">
                                          <p:stCondLst>
                                            <p:cond delay="0"/>
                                          </p:stCondLst>
                                        </p:cTn>
                                        <p:tgtEl>
                                          <p:spTgt spid="122">
                                            <p:txEl>
                                              <p:pRg st="0" end="0"/>
                                            </p:txEl>
                                          </p:spTgt>
                                        </p:tgtEl>
                                        <p:attrNameLst>
                                          <p:attrName>style.visibility</p:attrName>
                                        </p:attrNameLst>
                                      </p:cBhvr>
                                      <p:to>
                                        <p:strVal val="visible"/>
                                      </p:to>
                                    </p:set>
                                    <p:animEffect filter="wipe(down)" transition="in">
                                      <p:cBhvr additive="repl">
                                        <p:cTn id="249" dur="580">
                                          <p:stCondLst>
                                            <p:cond delay="0"/>
                                          </p:stCondLst>
                                        </p:cTn>
                                        <p:tgtEl>
                                          <p:spTgt spid="122">
                                            <p:txEl>
                                              <p:pRg st="0" end="0"/>
                                            </p:txEl>
                                          </p:spTgt>
                                        </p:tgtEl>
                                      </p:cBhvr>
                                    </p:animEffect>
                                    <p:anim calcmode="lin" valueType="num">
                                      <p:cBhvr additive="repl">
                                        <p:cTn id="250" dur="1822">
                                          <p:stCondLst>
                                            <p:cond delay="0"/>
                                          </p:stCondLst>
                                        </p:cTn>
                                        <p:tgtEl>
                                          <p:spTgt spid="122">
                                            <p:txEl>
                                              <p:pRg st="0" end="0"/>
                                            </p:txEl>
                                          </p:spTgt>
                                        </p:tgtEl>
                                        <p:attrNameLst>
                                          <p:attrName>ppt_x</p:attrName>
                                        </p:attrNameLst>
                                      </p:cBhvr>
                                      <p:tavLst>
                                        <p:tav tm="0">
                                          <p:val>
                                            <p:strVal val="#ppt_x-0.25"/>
                                          </p:val>
                                        </p:tav>
                                        <p:tav tm="100000">
                                          <p:val>
                                            <p:strVal val="#ppt_x"/>
                                          </p:val>
                                        </p:tav>
                                      </p:tavLst>
                                    </p:anim>
                                    <p:anim calcmode="lin" valueType="num">
                                      <p:cBhvr additive="repl">
                                        <p:cTn id="251" dur="664">
                                          <p:stCondLst>
                                            <p:cond delay="0"/>
                                          </p:stCondLst>
                                        </p:cTn>
                                        <p:tgtEl>
                                          <p:spTgt spid="12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52" dur="664">
                                          <p:stCondLst>
                                            <p:cond delay="664"/>
                                          </p:stCondLst>
                                        </p:cTn>
                                        <p:tgtEl>
                                          <p:spTgt spid="12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53" dur="332">
                                          <p:stCondLst>
                                            <p:cond delay="1324"/>
                                          </p:stCondLst>
                                        </p:cTn>
                                        <p:tgtEl>
                                          <p:spTgt spid="12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54" dur="164">
                                          <p:stCondLst>
                                            <p:cond delay="1656"/>
                                          </p:stCondLst>
                                        </p:cTn>
                                        <p:tgtEl>
                                          <p:spTgt spid="122">
                                            <p:txEl>
                                              <p:pRg st="0" end="0"/>
                                            </p:txEl>
                                          </p:spTgt>
                                        </p:tgtEl>
                                        <p:attrNameLst>
                                          <p:attrName>ppt_y</p:attrName>
                                        </p:attrNameLst>
                                      </p:cBhvr>
                                      <p:tavLst>
                                        <p:tav fmla="y-sin(pi*$)/81" tm="0">
                                          <p:val>
                                            <p:fltVal val="0"/>
                                          </p:val>
                                        </p:tav>
                                        <p:tav fmla="y-sin(pi*$)/81" tm="100000">
                                          <p:val>
                                            <p:fltVal val="1"/>
                                          </p:val>
                                        </p:tav>
                                      </p:tavLst>
                                    </p:anim>
                                    <p:animScale>
                                      <p:cBhvr>
                                        <p:cTn id="255" dur="26" fill="hold">
                                          <p:stCondLst>
                                            <p:cond delay="650"/>
                                          </p:stCondLst>
                                        </p:cTn>
                                        <p:tgtEl>
                                          <p:spTgt spid="122">
                                            <p:txEl>
                                              <p:pRg st="0" end="0"/>
                                            </p:txEl>
                                          </p:spTgt>
                                        </p:tgtEl>
                                      </p:cBhvr>
                                      <p:to x="100000" y="60000"/>
                                    </p:animScale>
                                    <p:animScale>
                                      <p:cBhvr>
                                        <p:cTn id="256" dur="166" fill="hold">
                                          <p:stCondLst>
                                            <p:cond delay="676"/>
                                          </p:stCondLst>
                                        </p:cTn>
                                        <p:tgtEl>
                                          <p:spTgt spid="122">
                                            <p:txEl>
                                              <p:pRg st="0" end="0"/>
                                            </p:txEl>
                                          </p:spTgt>
                                        </p:tgtEl>
                                      </p:cBhvr>
                                      <p:to x="100000" y="100000"/>
                                    </p:animScale>
                                    <p:animScale>
                                      <p:cBhvr>
                                        <p:cTn id="257" dur="26" fill="hold">
                                          <p:stCondLst>
                                            <p:cond delay="1312"/>
                                          </p:stCondLst>
                                        </p:cTn>
                                        <p:tgtEl>
                                          <p:spTgt spid="122">
                                            <p:txEl>
                                              <p:pRg st="0" end="0"/>
                                            </p:txEl>
                                          </p:spTgt>
                                        </p:tgtEl>
                                      </p:cBhvr>
                                      <p:to x="100000" y="80000"/>
                                    </p:animScale>
                                    <p:animScale>
                                      <p:cBhvr>
                                        <p:cTn id="258" dur="166" fill="hold">
                                          <p:stCondLst>
                                            <p:cond delay="1338"/>
                                          </p:stCondLst>
                                        </p:cTn>
                                        <p:tgtEl>
                                          <p:spTgt spid="122">
                                            <p:txEl>
                                              <p:pRg st="0" end="0"/>
                                            </p:txEl>
                                          </p:spTgt>
                                        </p:tgtEl>
                                      </p:cBhvr>
                                      <p:to x="100000" y="100000"/>
                                    </p:animScale>
                                    <p:animScale>
                                      <p:cBhvr>
                                        <p:cTn id="259" dur="26" fill="hold">
                                          <p:stCondLst>
                                            <p:cond delay="1642"/>
                                          </p:stCondLst>
                                        </p:cTn>
                                        <p:tgtEl>
                                          <p:spTgt spid="122">
                                            <p:txEl>
                                              <p:pRg st="0" end="0"/>
                                            </p:txEl>
                                          </p:spTgt>
                                        </p:tgtEl>
                                      </p:cBhvr>
                                      <p:to x="100000" y="90000"/>
                                    </p:animScale>
                                    <p:animScale>
                                      <p:cBhvr>
                                        <p:cTn id="260" dur="166" fill="hold">
                                          <p:stCondLst>
                                            <p:cond delay="1668"/>
                                          </p:stCondLst>
                                        </p:cTn>
                                        <p:tgtEl>
                                          <p:spTgt spid="122">
                                            <p:txEl>
                                              <p:pRg st="0" end="0"/>
                                            </p:txEl>
                                          </p:spTgt>
                                        </p:tgtEl>
                                      </p:cBhvr>
                                      <p:to x="100000" y="100000"/>
                                    </p:animScale>
                                    <p:animScale>
                                      <p:cBhvr>
                                        <p:cTn id="261" dur="26" fill="hold">
                                          <p:stCondLst>
                                            <p:cond delay="1808"/>
                                          </p:stCondLst>
                                        </p:cTn>
                                        <p:tgtEl>
                                          <p:spTgt spid="122">
                                            <p:txEl>
                                              <p:pRg st="0" end="0"/>
                                            </p:txEl>
                                          </p:spTgt>
                                        </p:tgtEl>
                                      </p:cBhvr>
                                      <p:to x="100000" y="95000"/>
                                    </p:animScale>
                                    <p:animScale>
                                      <p:cBhvr>
                                        <p:cTn id="262" dur="166" fill="hold">
                                          <p:stCondLst>
                                            <p:cond delay="1834"/>
                                          </p:stCondLst>
                                        </p:cTn>
                                        <p:tgtEl>
                                          <p:spTgt spid="122">
                                            <p:txEl>
                                              <p:pRg st="0" end="0"/>
                                            </p:txEl>
                                          </p:spTgt>
                                        </p:tgtEl>
                                      </p:cBhvr>
                                      <p:to x="100000" y="100000"/>
                                    </p:animScale>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6">
                                  <p:stCondLst>
                                    <p:cond delay="0"/>
                                  </p:stCondLst>
                                  <p:childTnLst>
                                    <p:set>
                                      <p:cBhvr>
                                        <p:cTn id="266" dur="1" fill="hold">
                                          <p:stCondLst>
                                            <p:cond delay="0"/>
                                          </p:stCondLst>
                                        </p:cTn>
                                        <p:tgtEl>
                                          <p:spTgt spid="123">
                                            <p:txEl>
                                              <p:pRg st="1" end="1"/>
                                            </p:txEl>
                                          </p:spTgt>
                                        </p:tgtEl>
                                        <p:attrNameLst>
                                          <p:attrName>style.visibility</p:attrName>
                                        </p:attrNameLst>
                                      </p:cBhvr>
                                      <p:to>
                                        <p:strVal val="visible"/>
                                      </p:to>
                                    </p:set>
                                    <p:animEffect filter="wipe(down)" transition="in">
                                      <p:cBhvr additive="repl">
                                        <p:cTn id="267" dur="580">
                                          <p:stCondLst>
                                            <p:cond delay="0"/>
                                          </p:stCondLst>
                                        </p:cTn>
                                        <p:tgtEl>
                                          <p:spTgt spid="123">
                                            <p:txEl>
                                              <p:pRg st="1" end="1"/>
                                            </p:txEl>
                                          </p:spTgt>
                                        </p:tgtEl>
                                      </p:cBhvr>
                                    </p:animEffect>
                                    <p:anim calcmode="lin" valueType="num">
                                      <p:cBhvr additive="repl">
                                        <p:cTn id="268" dur="1822">
                                          <p:stCondLst>
                                            <p:cond delay="0"/>
                                          </p:stCondLst>
                                        </p:cTn>
                                        <p:tgtEl>
                                          <p:spTgt spid="123">
                                            <p:txEl>
                                              <p:pRg st="1" end="1"/>
                                            </p:txEl>
                                          </p:spTgt>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123">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123">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123">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123">
                                            <p:txEl>
                                              <p:pRg st="1" end="1"/>
                                            </p:txEl>
                                          </p:spTgt>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123">
                                            <p:txEl>
                                              <p:pRg st="1" end="1"/>
                                            </p:txEl>
                                          </p:spTgt>
                                        </p:tgtEl>
                                      </p:cBhvr>
                                      <p:to x="100000" y="60000"/>
                                    </p:animScale>
                                    <p:animScale>
                                      <p:cBhvr>
                                        <p:cTn id="274" dur="166" fill="hold">
                                          <p:stCondLst>
                                            <p:cond delay="676"/>
                                          </p:stCondLst>
                                        </p:cTn>
                                        <p:tgtEl>
                                          <p:spTgt spid="123">
                                            <p:txEl>
                                              <p:pRg st="1" end="1"/>
                                            </p:txEl>
                                          </p:spTgt>
                                        </p:tgtEl>
                                      </p:cBhvr>
                                      <p:to x="100000" y="100000"/>
                                    </p:animScale>
                                    <p:animScale>
                                      <p:cBhvr>
                                        <p:cTn id="275" dur="26" fill="hold">
                                          <p:stCondLst>
                                            <p:cond delay="1312"/>
                                          </p:stCondLst>
                                        </p:cTn>
                                        <p:tgtEl>
                                          <p:spTgt spid="123">
                                            <p:txEl>
                                              <p:pRg st="1" end="1"/>
                                            </p:txEl>
                                          </p:spTgt>
                                        </p:tgtEl>
                                      </p:cBhvr>
                                      <p:to x="100000" y="80000"/>
                                    </p:animScale>
                                    <p:animScale>
                                      <p:cBhvr>
                                        <p:cTn id="276" dur="166" fill="hold">
                                          <p:stCondLst>
                                            <p:cond delay="1338"/>
                                          </p:stCondLst>
                                        </p:cTn>
                                        <p:tgtEl>
                                          <p:spTgt spid="123">
                                            <p:txEl>
                                              <p:pRg st="1" end="1"/>
                                            </p:txEl>
                                          </p:spTgt>
                                        </p:tgtEl>
                                      </p:cBhvr>
                                      <p:to x="100000" y="100000"/>
                                    </p:animScale>
                                    <p:animScale>
                                      <p:cBhvr>
                                        <p:cTn id="277" dur="26" fill="hold">
                                          <p:stCondLst>
                                            <p:cond delay="1642"/>
                                          </p:stCondLst>
                                        </p:cTn>
                                        <p:tgtEl>
                                          <p:spTgt spid="123">
                                            <p:txEl>
                                              <p:pRg st="1" end="1"/>
                                            </p:txEl>
                                          </p:spTgt>
                                        </p:tgtEl>
                                      </p:cBhvr>
                                      <p:to x="100000" y="90000"/>
                                    </p:animScale>
                                    <p:animScale>
                                      <p:cBhvr>
                                        <p:cTn id="278" dur="166" fill="hold">
                                          <p:stCondLst>
                                            <p:cond delay="1668"/>
                                          </p:stCondLst>
                                        </p:cTn>
                                        <p:tgtEl>
                                          <p:spTgt spid="123">
                                            <p:txEl>
                                              <p:pRg st="1" end="1"/>
                                            </p:txEl>
                                          </p:spTgt>
                                        </p:tgtEl>
                                      </p:cBhvr>
                                      <p:to x="100000" y="100000"/>
                                    </p:animScale>
                                    <p:animScale>
                                      <p:cBhvr>
                                        <p:cTn id="279" dur="26" fill="hold">
                                          <p:stCondLst>
                                            <p:cond delay="1808"/>
                                          </p:stCondLst>
                                        </p:cTn>
                                        <p:tgtEl>
                                          <p:spTgt spid="123">
                                            <p:txEl>
                                              <p:pRg st="1" end="1"/>
                                            </p:txEl>
                                          </p:spTgt>
                                        </p:tgtEl>
                                      </p:cBhvr>
                                      <p:to x="100000" y="95000"/>
                                    </p:animScale>
                                    <p:animScale>
                                      <p:cBhvr>
                                        <p:cTn id="280" dur="166" fill="hold">
                                          <p:stCondLst>
                                            <p:cond delay="1834"/>
                                          </p:stCondLst>
                                        </p:cTn>
                                        <p:tgtEl>
                                          <p:spTgt spid="123">
                                            <p:txEl>
                                              <p:pRg st="1" end="1"/>
                                            </p:txEl>
                                          </p:spTgt>
                                        </p:tgtEl>
                                      </p:cBhvr>
                                      <p:to x="100000" y="100000"/>
                                    </p:animScale>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6">
                                  <p:stCondLst>
                                    <p:cond delay="0"/>
                                  </p:stCondLst>
                                  <p:childTnLst>
                                    <p:set>
                                      <p:cBhvr>
                                        <p:cTn id="284" dur="1" fill="hold">
                                          <p:stCondLst>
                                            <p:cond delay="0"/>
                                          </p:stCondLst>
                                        </p:cTn>
                                        <p:tgtEl>
                                          <p:spTgt spid="122">
                                            <p:txEl>
                                              <p:pRg st="1" end="1"/>
                                            </p:txEl>
                                          </p:spTgt>
                                        </p:tgtEl>
                                        <p:attrNameLst>
                                          <p:attrName>style.visibility</p:attrName>
                                        </p:attrNameLst>
                                      </p:cBhvr>
                                      <p:to>
                                        <p:strVal val="visible"/>
                                      </p:to>
                                    </p:set>
                                    <p:animEffect filter="wipe(down)" transition="in">
                                      <p:cBhvr additive="repl">
                                        <p:cTn id="285" dur="580">
                                          <p:stCondLst>
                                            <p:cond delay="0"/>
                                          </p:stCondLst>
                                        </p:cTn>
                                        <p:tgtEl>
                                          <p:spTgt spid="122">
                                            <p:txEl>
                                              <p:pRg st="1" end="1"/>
                                            </p:txEl>
                                          </p:spTgt>
                                        </p:tgtEl>
                                      </p:cBhvr>
                                    </p:animEffect>
                                    <p:anim calcmode="lin" valueType="num">
                                      <p:cBhvr additive="repl">
                                        <p:cTn id="286" dur="1822">
                                          <p:stCondLst>
                                            <p:cond delay="0"/>
                                          </p:stCondLst>
                                        </p:cTn>
                                        <p:tgtEl>
                                          <p:spTgt spid="122">
                                            <p:txEl>
                                              <p:pRg st="1" end="1"/>
                                            </p:txEl>
                                          </p:spTgt>
                                        </p:tgtEl>
                                        <p:attrNameLst>
                                          <p:attrName>ppt_x</p:attrName>
                                        </p:attrNameLst>
                                      </p:cBhvr>
                                      <p:tavLst>
                                        <p:tav tm="0">
                                          <p:val>
                                            <p:strVal val="#ppt_x-0.25"/>
                                          </p:val>
                                        </p:tav>
                                        <p:tav tm="100000">
                                          <p:val>
                                            <p:strVal val="#ppt_x"/>
                                          </p:val>
                                        </p:tav>
                                      </p:tavLst>
                                    </p:anim>
                                    <p:anim calcmode="lin" valueType="num">
                                      <p:cBhvr additive="repl">
                                        <p:cTn id="287" dur="664">
                                          <p:stCondLst>
                                            <p:cond delay="0"/>
                                          </p:stCondLst>
                                        </p:cTn>
                                        <p:tgtEl>
                                          <p:spTgt spid="12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8" dur="664">
                                          <p:stCondLst>
                                            <p:cond delay="664"/>
                                          </p:stCondLst>
                                        </p:cTn>
                                        <p:tgtEl>
                                          <p:spTgt spid="12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9" dur="332">
                                          <p:stCondLst>
                                            <p:cond delay="1324"/>
                                          </p:stCondLst>
                                        </p:cTn>
                                        <p:tgtEl>
                                          <p:spTgt spid="12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90" dur="164">
                                          <p:stCondLst>
                                            <p:cond delay="1656"/>
                                          </p:stCondLst>
                                        </p:cTn>
                                        <p:tgtEl>
                                          <p:spTgt spid="122">
                                            <p:txEl>
                                              <p:pRg st="1" end="1"/>
                                            </p:txEl>
                                          </p:spTgt>
                                        </p:tgtEl>
                                        <p:attrNameLst>
                                          <p:attrName>ppt_y</p:attrName>
                                        </p:attrNameLst>
                                      </p:cBhvr>
                                      <p:tavLst>
                                        <p:tav fmla="y-sin(pi*$)/81" tm="0">
                                          <p:val>
                                            <p:fltVal val="0"/>
                                          </p:val>
                                        </p:tav>
                                        <p:tav fmla="y-sin(pi*$)/81" tm="100000">
                                          <p:val>
                                            <p:fltVal val="1"/>
                                          </p:val>
                                        </p:tav>
                                      </p:tavLst>
                                    </p:anim>
                                    <p:animScale>
                                      <p:cBhvr>
                                        <p:cTn id="291" dur="26" fill="hold">
                                          <p:stCondLst>
                                            <p:cond delay="650"/>
                                          </p:stCondLst>
                                        </p:cTn>
                                        <p:tgtEl>
                                          <p:spTgt spid="122">
                                            <p:txEl>
                                              <p:pRg st="1" end="1"/>
                                            </p:txEl>
                                          </p:spTgt>
                                        </p:tgtEl>
                                      </p:cBhvr>
                                      <p:to x="100000" y="60000"/>
                                    </p:animScale>
                                    <p:animScale>
                                      <p:cBhvr>
                                        <p:cTn id="292" dur="166" fill="hold">
                                          <p:stCondLst>
                                            <p:cond delay="676"/>
                                          </p:stCondLst>
                                        </p:cTn>
                                        <p:tgtEl>
                                          <p:spTgt spid="122">
                                            <p:txEl>
                                              <p:pRg st="1" end="1"/>
                                            </p:txEl>
                                          </p:spTgt>
                                        </p:tgtEl>
                                      </p:cBhvr>
                                      <p:to x="100000" y="100000"/>
                                    </p:animScale>
                                    <p:animScale>
                                      <p:cBhvr>
                                        <p:cTn id="293" dur="26" fill="hold">
                                          <p:stCondLst>
                                            <p:cond delay="1312"/>
                                          </p:stCondLst>
                                        </p:cTn>
                                        <p:tgtEl>
                                          <p:spTgt spid="122">
                                            <p:txEl>
                                              <p:pRg st="1" end="1"/>
                                            </p:txEl>
                                          </p:spTgt>
                                        </p:tgtEl>
                                      </p:cBhvr>
                                      <p:to x="100000" y="80000"/>
                                    </p:animScale>
                                    <p:animScale>
                                      <p:cBhvr>
                                        <p:cTn id="294" dur="166" fill="hold">
                                          <p:stCondLst>
                                            <p:cond delay="1338"/>
                                          </p:stCondLst>
                                        </p:cTn>
                                        <p:tgtEl>
                                          <p:spTgt spid="122">
                                            <p:txEl>
                                              <p:pRg st="1" end="1"/>
                                            </p:txEl>
                                          </p:spTgt>
                                        </p:tgtEl>
                                      </p:cBhvr>
                                      <p:to x="100000" y="100000"/>
                                    </p:animScale>
                                    <p:animScale>
                                      <p:cBhvr>
                                        <p:cTn id="295" dur="26" fill="hold">
                                          <p:stCondLst>
                                            <p:cond delay="1642"/>
                                          </p:stCondLst>
                                        </p:cTn>
                                        <p:tgtEl>
                                          <p:spTgt spid="122">
                                            <p:txEl>
                                              <p:pRg st="1" end="1"/>
                                            </p:txEl>
                                          </p:spTgt>
                                        </p:tgtEl>
                                      </p:cBhvr>
                                      <p:to x="100000" y="90000"/>
                                    </p:animScale>
                                    <p:animScale>
                                      <p:cBhvr>
                                        <p:cTn id="296" dur="166" fill="hold">
                                          <p:stCondLst>
                                            <p:cond delay="1668"/>
                                          </p:stCondLst>
                                        </p:cTn>
                                        <p:tgtEl>
                                          <p:spTgt spid="122">
                                            <p:txEl>
                                              <p:pRg st="1" end="1"/>
                                            </p:txEl>
                                          </p:spTgt>
                                        </p:tgtEl>
                                      </p:cBhvr>
                                      <p:to x="100000" y="100000"/>
                                    </p:animScale>
                                    <p:animScale>
                                      <p:cBhvr>
                                        <p:cTn id="297" dur="26" fill="hold">
                                          <p:stCondLst>
                                            <p:cond delay="1808"/>
                                          </p:stCondLst>
                                        </p:cTn>
                                        <p:tgtEl>
                                          <p:spTgt spid="122">
                                            <p:txEl>
                                              <p:pRg st="1" end="1"/>
                                            </p:txEl>
                                          </p:spTgt>
                                        </p:tgtEl>
                                      </p:cBhvr>
                                      <p:to x="100000" y="95000"/>
                                    </p:animScale>
                                    <p:animScale>
                                      <p:cBhvr>
                                        <p:cTn id="298" dur="166" fill="hold">
                                          <p:stCondLst>
                                            <p:cond delay="1834"/>
                                          </p:stCondLst>
                                        </p:cTn>
                                        <p:tgtEl>
                                          <p:spTgt spid="122">
                                            <p:txEl>
                                              <p:pRg st="1" end="1"/>
                                            </p:txEl>
                                          </p:spTgt>
                                        </p:tgtEl>
                                      </p:cBhvr>
                                      <p:to x="100000" y="100000"/>
                                    </p:animScale>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6">
                                  <p:stCondLst>
                                    <p:cond delay="0"/>
                                  </p:stCondLst>
                                  <p:childTnLst>
                                    <p:set>
                                      <p:cBhvr>
                                        <p:cTn id="302" dur="1" fill="hold">
                                          <p:stCondLst>
                                            <p:cond delay="0"/>
                                          </p:stCondLst>
                                        </p:cTn>
                                        <p:tgtEl>
                                          <p:spTgt spid="123">
                                            <p:txEl>
                                              <p:pRg st="2" end="2"/>
                                            </p:txEl>
                                          </p:spTgt>
                                        </p:tgtEl>
                                        <p:attrNameLst>
                                          <p:attrName>style.visibility</p:attrName>
                                        </p:attrNameLst>
                                      </p:cBhvr>
                                      <p:to>
                                        <p:strVal val="visible"/>
                                      </p:to>
                                    </p:set>
                                    <p:animEffect filter="wipe(down)" transition="in">
                                      <p:cBhvr additive="repl">
                                        <p:cTn id="303" dur="580">
                                          <p:stCondLst>
                                            <p:cond delay="0"/>
                                          </p:stCondLst>
                                        </p:cTn>
                                        <p:tgtEl>
                                          <p:spTgt spid="123">
                                            <p:txEl>
                                              <p:pRg st="2" end="2"/>
                                            </p:txEl>
                                          </p:spTgt>
                                        </p:tgtEl>
                                      </p:cBhvr>
                                    </p:animEffect>
                                    <p:anim calcmode="lin" valueType="num">
                                      <p:cBhvr additive="repl">
                                        <p:cTn id="304" dur="1822">
                                          <p:stCondLst>
                                            <p:cond delay="0"/>
                                          </p:stCondLst>
                                        </p:cTn>
                                        <p:tgtEl>
                                          <p:spTgt spid="123">
                                            <p:txEl>
                                              <p:pRg st="2" end="2"/>
                                            </p:txEl>
                                          </p:spTgt>
                                        </p:tgtEl>
                                        <p:attrNameLst>
                                          <p:attrName>ppt_x</p:attrName>
                                        </p:attrNameLst>
                                      </p:cBhvr>
                                      <p:tavLst>
                                        <p:tav tm="0">
                                          <p:val>
                                            <p:strVal val="#ppt_x-0.25"/>
                                          </p:val>
                                        </p:tav>
                                        <p:tav tm="100000">
                                          <p:val>
                                            <p:strVal val="#ppt_x"/>
                                          </p:val>
                                        </p:tav>
                                      </p:tavLst>
                                    </p:anim>
                                    <p:anim calcmode="lin" valueType="num">
                                      <p:cBhvr additive="repl">
                                        <p:cTn id="305" dur="664">
                                          <p:stCondLst>
                                            <p:cond delay="0"/>
                                          </p:stCondLst>
                                        </p:cTn>
                                        <p:tgtEl>
                                          <p:spTgt spid="123">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06" dur="664">
                                          <p:stCondLst>
                                            <p:cond delay="664"/>
                                          </p:stCondLst>
                                        </p:cTn>
                                        <p:tgtEl>
                                          <p:spTgt spid="123">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07" dur="332">
                                          <p:stCondLst>
                                            <p:cond delay="1324"/>
                                          </p:stCondLst>
                                        </p:cTn>
                                        <p:tgtEl>
                                          <p:spTgt spid="123">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08" dur="164">
                                          <p:stCondLst>
                                            <p:cond delay="1656"/>
                                          </p:stCondLst>
                                        </p:cTn>
                                        <p:tgtEl>
                                          <p:spTgt spid="123">
                                            <p:txEl>
                                              <p:pRg st="2" end="2"/>
                                            </p:txEl>
                                          </p:spTgt>
                                        </p:tgtEl>
                                        <p:attrNameLst>
                                          <p:attrName>ppt_y</p:attrName>
                                        </p:attrNameLst>
                                      </p:cBhvr>
                                      <p:tavLst>
                                        <p:tav fmla="y-sin(pi*$)/81" tm="0">
                                          <p:val>
                                            <p:fltVal val="0"/>
                                          </p:val>
                                        </p:tav>
                                        <p:tav fmla="y-sin(pi*$)/81" tm="100000">
                                          <p:val>
                                            <p:fltVal val="1"/>
                                          </p:val>
                                        </p:tav>
                                      </p:tavLst>
                                    </p:anim>
                                    <p:animScale>
                                      <p:cBhvr>
                                        <p:cTn id="309" dur="26" fill="hold">
                                          <p:stCondLst>
                                            <p:cond delay="650"/>
                                          </p:stCondLst>
                                        </p:cTn>
                                        <p:tgtEl>
                                          <p:spTgt spid="123">
                                            <p:txEl>
                                              <p:pRg st="2" end="2"/>
                                            </p:txEl>
                                          </p:spTgt>
                                        </p:tgtEl>
                                      </p:cBhvr>
                                      <p:to x="100000" y="60000"/>
                                    </p:animScale>
                                    <p:animScale>
                                      <p:cBhvr>
                                        <p:cTn id="310" dur="166" fill="hold">
                                          <p:stCondLst>
                                            <p:cond delay="676"/>
                                          </p:stCondLst>
                                        </p:cTn>
                                        <p:tgtEl>
                                          <p:spTgt spid="123">
                                            <p:txEl>
                                              <p:pRg st="2" end="2"/>
                                            </p:txEl>
                                          </p:spTgt>
                                        </p:tgtEl>
                                      </p:cBhvr>
                                      <p:to x="100000" y="100000"/>
                                    </p:animScale>
                                    <p:animScale>
                                      <p:cBhvr>
                                        <p:cTn id="311" dur="26" fill="hold">
                                          <p:stCondLst>
                                            <p:cond delay="1312"/>
                                          </p:stCondLst>
                                        </p:cTn>
                                        <p:tgtEl>
                                          <p:spTgt spid="123">
                                            <p:txEl>
                                              <p:pRg st="2" end="2"/>
                                            </p:txEl>
                                          </p:spTgt>
                                        </p:tgtEl>
                                      </p:cBhvr>
                                      <p:to x="100000" y="80000"/>
                                    </p:animScale>
                                    <p:animScale>
                                      <p:cBhvr>
                                        <p:cTn id="312" dur="166" fill="hold">
                                          <p:stCondLst>
                                            <p:cond delay="1338"/>
                                          </p:stCondLst>
                                        </p:cTn>
                                        <p:tgtEl>
                                          <p:spTgt spid="123">
                                            <p:txEl>
                                              <p:pRg st="2" end="2"/>
                                            </p:txEl>
                                          </p:spTgt>
                                        </p:tgtEl>
                                      </p:cBhvr>
                                      <p:to x="100000" y="100000"/>
                                    </p:animScale>
                                    <p:animScale>
                                      <p:cBhvr>
                                        <p:cTn id="313" dur="26" fill="hold">
                                          <p:stCondLst>
                                            <p:cond delay="1642"/>
                                          </p:stCondLst>
                                        </p:cTn>
                                        <p:tgtEl>
                                          <p:spTgt spid="123">
                                            <p:txEl>
                                              <p:pRg st="2" end="2"/>
                                            </p:txEl>
                                          </p:spTgt>
                                        </p:tgtEl>
                                      </p:cBhvr>
                                      <p:to x="100000" y="90000"/>
                                    </p:animScale>
                                    <p:animScale>
                                      <p:cBhvr>
                                        <p:cTn id="314" dur="166" fill="hold">
                                          <p:stCondLst>
                                            <p:cond delay="1668"/>
                                          </p:stCondLst>
                                        </p:cTn>
                                        <p:tgtEl>
                                          <p:spTgt spid="123">
                                            <p:txEl>
                                              <p:pRg st="2" end="2"/>
                                            </p:txEl>
                                          </p:spTgt>
                                        </p:tgtEl>
                                      </p:cBhvr>
                                      <p:to x="100000" y="100000"/>
                                    </p:animScale>
                                    <p:animScale>
                                      <p:cBhvr>
                                        <p:cTn id="315" dur="26" fill="hold">
                                          <p:stCondLst>
                                            <p:cond delay="1808"/>
                                          </p:stCondLst>
                                        </p:cTn>
                                        <p:tgtEl>
                                          <p:spTgt spid="123">
                                            <p:txEl>
                                              <p:pRg st="2" end="2"/>
                                            </p:txEl>
                                          </p:spTgt>
                                        </p:tgtEl>
                                      </p:cBhvr>
                                      <p:to x="100000" y="95000"/>
                                    </p:animScale>
                                    <p:animScale>
                                      <p:cBhvr>
                                        <p:cTn id="316" dur="166" fill="hold">
                                          <p:stCondLst>
                                            <p:cond delay="1834"/>
                                          </p:stCondLst>
                                        </p:cTn>
                                        <p:tgtEl>
                                          <p:spTgt spid="123">
                                            <p:txEl>
                                              <p:pRg st="2" end="2"/>
                                            </p:txEl>
                                          </p:spTgt>
                                        </p:tgtEl>
                                      </p:cBhvr>
                                      <p:to x="100000" y="100000"/>
                                    </p:animScale>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6">
                                  <p:stCondLst>
                                    <p:cond delay="0"/>
                                  </p:stCondLst>
                                  <p:childTnLst>
                                    <p:set>
                                      <p:cBhvr>
                                        <p:cTn id="320" dur="1" fill="hold">
                                          <p:stCondLst>
                                            <p:cond delay="0"/>
                                          </p:stCondLst>
                                        </p:cTn>
                                        <p:tgtEl>
                                          <p:spTgt spid="122">
                                            <p:txEl>
                                              <p:pRg st="2" end="2"/>
                                            </p:txEl>
                                          </p:spTgt>
                                        </p:tgtEl>
                                        <p:attrNameLst>
                                          <p:attrName>style.visibility</p:attrName>
                                        </p:attrNameLst>
                                      </p:cBhvr>
                                      <p:to>
                                        <p:strVal val="visible"/>
                                      </p:to>
                                    </p:set>
                                    <p:animEffect filter="wipe(down)" transition="in">
                                      <p:cBhvr additive="repl">
                                        <p:cTn id="321" dur="580">
                                          <p:stCondLst>
                                            <p:cond delay="0"/>
                                          </p:stCondLst>
                                        </p:cTn>
                                        <p:tgtEl>
                                          <p:spTgt spid="122">
                                            <p:txEl>
                                              <p:pRg st="2" end="2"/>
                                            </p:txEl>
                                          </p:spTgt>
                                        </p:tgtEl>
                                      </p:cBhvr>
                                    </p:animEffect>
                                    <p:anim calcmode="lin" valueType="num">
                                      <p:cBhvr additive="repl">
                                        <p:cTn id="322" dur="1822">
                                          <p:stCondLst>
                                            <p:cond delay="0"/>
                                          </p:stCondLst>
                                        </p:cTn>
                                        <p:tgtEl>
                                          <p:spTgt spid="122">
                                            <p:txEl>
                                              <p:pRg st="2" end="2"/>
                                            </p:txEl>
                                          </p:spTgt>
                                        </p:tgtEl>
                                        <p:attrNameLst>
                                          <p:attrName>ppt_x</p:attrName>
                                        </p:attrNameLst>
                                      </p:cBhvr>
                                      <p:tavLst>
                                        <p:tav tm="0">
                                          <p:val>
                                            <p:strVal val="#ppt_x-0.25"/>
                                          </p:val>
                                        </p:tav>
                                        <p:tav tm="100000">
                                          <p:val>
                                            <p:strVal val="#ppt_x"/>
                                          </p:val>
                                        </p:tav>
                                      </p:tavLst>
                                    </p:anim>
                                    <p:anim calcmode="lin" valueType="num">
                                      <p:cBhvr additive="repl">
                                        <p:cTn id="323" dur="664">
                                          <p:stCondLst>
                                            <p:cond delay="0"/>
                                          </p:stCondLst>
                                        </p:cTn>
                                        <p:tgtEl>
                                          <p:spTgt spid="12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24" dur="664">
                                          <p:stCondLst>
                                            <p:cond delay="664"/>
                                          </p:stCondLst>
                                        </p:cTn>
                                        <p:tgtEl>
                                          <p:spTgt spid="12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25" dur="332">
                                          <p:stCondLst>
                                            <p:cond delay="1324"/>
                                          </p:stCondLst>
                                        </p:cTn>
                                        <p:tgtEl>
                                          <p:spTgt spid="12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26" dur="164">
                                          <p:stCondLst>
                                            <p:cond delay="1656"/>
                                          </p:stCondLst>
                                        </p:cTn>
                                        <p:tgtEl>
                                          <p:spTgt spid="122">
                                            <p:txEl>
                                              <p:pRg st="2" end="2"/>
                                            </p:txEl>
                                          </p:spTgt>
                                        </p:tgtEl>
                                        <p:attrNameLst>
                                          <p:attrName>ppt_y</p:attrName>
                                        </p:attrNameLst>
                                      </p:cBhvr>
                                      <p:tavLst>
                                        <p:tav fmla="y-sin(pi*$)/81" tm="0">
                                          <p:val>
                                            <p:fltVal val="0"/>
                                          </p:val>
                                        </p:tav>
                                        <p:tav fmla="y-sin(pi*$)/81" tm="100000">
                                          <p:val>
                                            <p:fltVal val="1"/>
                                          </p:val>
                                        </p:tav>
                                      </p:tavLst>
                                    </p:anim>
                                    <p:animScale>
                                      <p:cBhvr>
                                        <p:cTn id="327" dur="26" fill="hold">
                                          <p:stCondLst>
                                            <p:cond delay="650"/>
                                          </p:stCondLst>
                                        </p:cTn>
                                        <p:tgtEl>
                                          <p:spTgt spid="122">
                                            <p:txEl>
                                              <p:pRg st="2" end="2"/>
                                            </p:txEl>
                                          </p:spTgt>
                                        </p:tgtEl>
                                      </p:cBhvr>
                                      <p:to x="100000" y="60000"/>
                                    </p:animScale>
                                    <p:animScale>
                                      <p:cBhvr>
                                        <p:cTn id="328" dur="166" fill="hold">
                                          <p:stCondLst>
                                            <p:cond delay="676"/>
                                          </p:stCondLst>
                                        </p:cTn>
                                        <p:tgtEl>
                                          <p:spTgt spid="122">
                                            <p:txEl>
                                              <p:pRg st="2" end="2"/>
                                            </p:txEl>
                                          </p:spTgt>
                                        </p:tgtEl>
                                      </p:cBhvr>
                                      <p:to x="100000" y="100000"/>
                                    </p:animScale>
                                    <p:animScale>
                                      <p:cBhvr>
                                        <p:cTn id="329" dur="26" fill="hold">
                                          <p:stCondLst>
                                            <p:cond delay="1312"/>
                                          </p:stCondLst>
                                        </p:cTn>
                                        <p:tgtEl>
                                          <p:spTgt spid="122">
                                            <p:txEl>
                                              <p:pRg st="2" end="2"/>
                                            </p:txEl>
                                          </p:spTgt>
                                        </p:tgtEl>
                                      </p:cBhvr>
                                      <p:to x="100000" y="80000"/>
                                    </p:animScale>
                                    <p:animScale>
                                      <p:cBhvr>
                                        <p:cTn id="330" dur="166" fill="hold">
                                          <p:stCondLst>
                                            <p:cond delay="1338"/>
                                          </p:stCondLst>
                                        </p:cTn>
                                        <p:tgtEl>
                                          <p:spTgt spid="122">
                                            <p:txEl>
                                              <p:pRg st="2" end="2"/>
                                            </p:txEl>
                                          </p:spTgt>
                                        </p:tgtEl>
                                      </p:cBhvr>
                                      <p:to x="100000" y="100000"/>
                                    </p:animScale>
                                    <p:animScale>
                                      <p:cBhvr>
                                        <p:cTn id="331" dur="26" fill="hold">
                                          <p:stCondLst>
                                            <p:cond delay="1642"/>
                                          </p:stCondLst>
                                        </p:cTn>
                                        <p:tgtEl>
                                          <p:spTgt spid="122">
                                            <p:txEl>
                                              <p:pRg st="2" end="2"/>
                                            </p:txEl>
                                          </p:spTgt>
                                        </p:tgtEl>
                                      </p:cBhvr>
                                      <p:to x="100000" y="90000"/>
                                    </p:animScale>
                                    <p:animScale>
                                      <p:cBhvr>
                                        <p:cTn id="332" dur="166" fill="hold">
                                          <p:stCondLst>
                                            <p:cond delay="1668"/>
                                          </p:stCondLst>
                                        </p:cTn>
                                        <p:tgtEl>
                                          <p:spTgt spid="122">
                                            <p:txEl>
                                              <p:pRg st="2" end="2"/>
                                            </p:txEl>
                                          </p:spTgt>
                                        </p:tgtEl>
                                      </p:cBhvr>
                                      <p:to x="100000" y="100000"/>
                                    </p:animScale>
                                    <p:animScale>
                                      <p:cBhvr>
                                        <p:cTn id="333" dur="26" fill="hold">
                                          <p:stCondLst>
                                            <p:cond delay="1808"/>
                                          </p:stCondLst>
                                        </p:cTn>
                                        <p:tgtEl>
                                          <p:spTgt spid="122">
                                            <p:txEl>
                                              <p:pRg st="2" end="2"/>
                                            </p:txEl>
                                          </p:spTgt>
                                        </p:tgtEl>
                                      </p:cBhvr>
                                      <p:to x="100000" y="95000"/>
                                    </p:animScale>
                                    <p:animScale>
                                      <p:cBhvr>
                                        <p:cTn id="334" dur="166" fill="hold">
                                          <p:stCondLst>
                                            <p:cond delay="1834"/>
                                          </p:stCondLst>
                                        </p:cTn>
                                        <p:tgtEl>
                                          <p:spTgt spid="122">
                                            <p:txEl>
                                              <p:pRg st="2" end="2"/>
                                            </p:txEl>
                                          </p:spTgt>
                                        </p:tgtEl>
                                      </p:cBhvr>
                                      <p:to x="100000" y="100000"/>
                                    </p:animScale>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6">
                                  <p:stCondLst>
                                    <p:cond delay="0"/>
                                  </p:stCondLst>
                                  <p:childTnLst>
                                    <p:set>
                                      <p:cBhvr>
                                        <p:cTn id="338" dur="1" fill="hold">
                                          <p:stCondLst>
                                            <p:cond delay="0"/>
                                          </p:stCondLst>
                                        </p:cTn>
                                        <p:tgtEl>
                                          <p:spTgt spid="123">
                                            <p:txEl>
                                              <p:pRg st="3" end="3"/>
                                            </p:txEl>
                                          </p:spTgt>
                                        </p:tgtEl>
                                        <p:attrNameLst>
                                          <p:attrName>style.visibility</p:attrName>
                                        </p:attrNameLst>
                                      </p:cBhvr>
                                      <p:to>
                                        <p:strVal val="visible"/>
                                      </p:to>
                                    </p:set>
                                    <p:animEffect filter="wipe(down)" transition="in">
                                      <p:cBhvr additive="repl">
                                        <p:cTn id="339" dur="580">
                                          <p:stCondLst>
                                            <p:cond delay="0"/>
                                          </p:stCondLst>
                                        </p:cTn>
                                        <p:tgtEl>
                                          <p:spTgt spid="123">
                                            <p:txEl>
                                              <p:pRg st="3" end="3"/>
                                            </p:txEl>
                                          </p:spTgt>
                                        </p:tgtEl>
                                      </p:cBhvr>
                                    </p:animEffect>
                                    <p:anim calcmode="lin" valueType="num">
                                      <p:cBhvr additive="repl">
                                        <p:cTn id="340" dur="1822">
                                          <p:stCondLst>
                                            <p:cond delay="0"/>
                                          </p:stCondLst>
                                        </p:cTn>
                                        <p:tgtEl>
                                          <p:spTgt spid="123">
                                            <p:txEl>
                                              <p:pRg st="3" end="3"/>
                                            </p:txEl>
                                          </p:spTgt>
                                        </p:tgtEl>
                                        <p:attrNameLst>
                                          <p:attrName>ppt_x</p:attrName>
                                        </p:attrNameLst>
                                      </p:cBhvr>
                                      <p:tavLst>
                                        <p:tav tm="0">
                                          <p:val>
                                            <p:strVal val="#ppt_x-0.25"/>
                                          </p:val>
                                        </p:tav>
                                        <p:tav tm="100000">
                                          <p:val>
                                            <p:strVal val="#ppt_x"/>
                                          </p:val>
                                        </p:tav>
                                      </p:tavLst>
                                    </p:anim>
                                    <p:anim calcmode="lin" valueType="num">
                                      <p:cBhvr additive="repl">
                                        <p:cTn id="341" dur="664">
                                          <p:stCondLst>
                                            <p:cond delay="0"/>
                                          </p:stCondLst>
                                        </p:cTn>
                                        <p:tgtEl>
                                          <p:spTgt spid="123">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42" dur="664">
                                          <p:stCondLst>
                                            <p:cond delay="664"/>
                                          </p:stCondLst>
                                        </p:cTn>
                                        <p:tgtEl>
                                          <p:spTgt spid="123">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43" dur="332">
                                          <p:stCondLst>
                                            <p:cond delay="1324"/>
                                          </p:stCondLst>
                                        </p:cTn>
                                        <p:tgtEl>
                                          <p:spTgt spid="123">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44" dur="164">
                                          <p:stCondLst>
                                            <p:cond delay="1656"/>
                                          </p:stCondLst>
                                        </p:cTn>
                                        <p:tgtEl>
                                          <p:spTgt spid="123">
                                            <p:txEl>
                                              <p:pRg st="3" end="3"/>
                                            </p:txEl>
                                          </p:spTgt>
                                        </p:tgtEl>
                                        <p:attrNameLst>
                                          <p:attrName>ppt_y</p:attrName>
                                        </p:attrNameLst>
                                      </p:cBhvr>
                                      <p:tavLst>
                                        <p:tav fmla="y-sin(pi*$)/81" tm="0">
                                          <p:val>
                                            <p:fltVal val="0"/>
                                          </p:val>
                                        </p:tav>
                                        <p:tav fmla="y-sin(pi*$)/81" tm="100000">
                                          <p:val>
                                            <p:fltVal val="1"/>
                                          </p:val>
                                        </p:tav>
                                      </p:tavLst>
                                    </p:anim>
                                    <p:animScale>
                                      <p:cBhvr>
                                        <p:cTn id="345" dur="26" fill="hold">
                                          <p:stCondLst>
                                            <p:cond delay="650"/>
                                          </p:stCondLst>
                                        </p:cTn>
                                        <p:tgtEl>
                                          <p:spTgt spid="123">
                                            <p:txEl>
                                              <p:pRg st="3" end="3"/>
                                            </p:txEl>
                                          </p:spTgt>
                                        </p:tgtEl>
                                      </p:cBhvr>
                                      <p:to x="100000" y="60000"/>
                                    </p:animScale>
                                    <p:animScale>
                                      <p:cBhvr>
                                        <p:cTn id="346" dur="166" fill="hold">
                                          <p:stCondLst>
                                            <p:cond delay="676"/>
                                          </p:stCondLst>
                                        </p:cTn>
                                        <p:tgtEl>
                                          <p:spTgt spid="123">
                                            <p:txEl>
                                              <p:pRg st="3" end="3"/>
                                            </p:txEl>
                                          </p:spTgt>
                                        </p:tgtEl>
                                      </p:cBhvr>
                                      <p:to x="100000" y="100000"/>
                                    </p:animScale>
                                    <p:animScale>
                                      <p:cBhvr>
                                        <p:cTn id="347" dur="26" fill="hold">
                                          <p:stCondLst>
                                            <p:cond delay="1312"/>
                                          </p:stCondLst>
                                        </p:cTn>
                                        <p:tgtEl>
                                          <p:spTgt spid="123">
                                            <p:txEl>
                                              <p:pRg st="3" end="3"/>
                                            </p:txEl>
                                          </p:spTgt>
                                        </p:tgtEl>
                                      </p:cBhvr>
                                      <p:to x="100000" y="80000"/>
                                    </p:animScale>
                                    <p:animScale>
                                      <p:cBhvr>
                                        <p:cTn id="348" dur="166" fill="hold">
                                          <p:stCondLst>
                                            <p:cond delay="1338"/>
                                          </p:stCondLst>
                                        </p:cTn>
                                        <p:tgtEl>
                                          <p:spTgt spid="123">
                                            <p:txEl>
                                              <p:pRg st="3" end="3"/>
                                            </p:txEl>
                                          </p:spTgt>
                                        </p:tgtEl>
                                      </p:cBhvr>
                                      <p:to x="100000" y="100000"/>
                                    </p:animScale>
                                    <p:animScale>
                                      <p:cBhvr>
                                        <p:cTn id="349" dur="26" fill="hold">
                                          <p:stCondLst>
                                            <p:cond delay="1642"/>
                                          </p:stCondLst>
                                        </p:cTn>
                                        <p:tgtEl>
                                          <p:spTgt spid="123">
                                            <p:txEl>
                                              <p:pRg st="3" end="3"/>
                                            </p:txEl>
                                          </p:spTgt>
                                        </p:tgtEl>
                                      </p:cBhvr>
                                      <p:to x="100000" y="90000"/>
                                    </p:animScale>
                                    <p:animScale>
                                      <p:cBhvr>
                                        <p:cTn id="350" dur="166" fill="hold">
                                          <p:stCondLst>
                                            <p:cond delay="1668"/>
                                          </p:stCondLst>
                                        </p:cTn>
                                        <p:tgtEl>
                                          <p:spTgt spid="123">
                                            <p:txEl>
                                              <p:pRg st="3" end="3"/>
                                            </p:txEl>
                                          </p:spTgt>
                                        </p:tgtEl>
                                      </p:cBhvr>
                                      <p:to x="100000" y="100000"/>
                                    </p:animScale>
                                    <p:animScale>
                                      <p:cBhvr>
                                        <p:cTn id="351" dur="26" fill="hold">
                                          <p:stCondLst>
                                            <p:cond delay="1808"/>
                                          </p:stCondLst>
                                        </p:cTn>
                                        <p:tgtEl>
                                          <p:spTgt spid="123">
                                            <p:txEl>
                                              <p:pRg st="3" end="3"/>
                                            </p:txEl>
                                          </p:spTgt>
                                        </p:tgtEl>
                                      </p:cBhvr>
                                      <p:to x="100000" y="95000"/>
                                    </p:animScale>
                                    <p:animScale>
                                      <p:cBhvr>
                                        <p:cTn id="352" dur="166" fill="hold">
                                          <p:stCondLst>
                                            <p:cond delay="1834"/>
                                          </p:stCondLst>
                                        </p:cTn>
                                        <p:tgtEl>
                                          <p:spTgt spid="123">
                                            <p:txEl>
                                              <p:pRg st="3" end="3"/>
                                            </p:txEl>
                                          </p:spTgt>
                                        </p:tgtEl>
                                      </p:cBhvr>
                                      <p:to x="100000" y="100000"/>
                                    </p:animScale>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6">
                                  <p:stCondLst>
                                    <p:cond delay="0"/>
                                  </p:stCondLst>
                                  <p:childTnLst>
                                    <p:set>
                                      <p:cBhvr>
                                        <p:cTn id="356" dur="1" fill="hold">
                                          <p:stCondLst>
                                            <p:cond delay="0"/>
                                          </p:stCondLst>
                                        </p:cTn>
                                        <p:tgtEl>
                                          <p:spTgt spid="122">
                                            <p:txEl>
                                              <p:pRg st="3" end="3"/>
                                            </p:txEl>
                                          </p:spTgt>
                                        </p:tgtEl>
                                        <p:attrNameLst>
                                          <p:attrName>style.visibility</p:attrName>
                                        </p:attrNameLst>
                                      </p:cBhvr>
                                      <p:to>
                                        <p:strVal val="visible"/>
                                      </p:to>
                                    </p:set>
                                    <p:animEffect filter="wipe(down)" transition="in">
                                      <p:cBhvr additive="repl">
                                        <p:cTn id="357" dur="580">
                                          <p:stCondLst>
                                            <p:cond delay="0"/>
                                          </p:stCondLst>
                                        </p:cTn>
                                        <p:tgtEl>
                                          <p:spTgt spid="122">
                                            <p:txEl>
                                              <p:pRg st="3" end="3"/>
                                            </p:txEl>
                                          </p:spTgt>
                                        </p:tgtEl>
                                      </p:cBhvr>
                                    </p:animEffect>
                                    <p:anim calcmode="lin" valueType="num">
                                      <p:cBhvr additive="repl">
                                        <p:cTn id="358" dur="1822">
                                          <p:stCondLst>
                                            <p:cond delay="0"/>
                                          </p:stCondLst>
                                        </p:cTn>
                                        <p:tgtEl>
                                          <p:spTgt spid="122">
                                            <p:txEl>
                                              <p:pRg st="3" end="3"/>
                                            </p:txEl>
                                          </p:spTgt>
                                        </p:tgtEl>
                                        <p:attrNameLst>
                                          <p:attrName>ppt_x</p:attrName>
                                        </p:attrNameLst>
                                      </p:cBhvr>
                                      <p:tavLst>
                                        <p:tav tm="0">
                                          <p:val>
                                            <p:strVal val="#ppt_x-0.25"/>
                                          </p:val>
                                        </p:tav>
                                        <p:tav tm="100000">
                                          <p:val>
                                            <p:strVal val="#ppt_x"/>
                                          </p:val>
                                        </p:tav>
                                      </p:tavLst>
                                    </p:anim>
                                    <p:anim calcmode="lin" valueType="num">
                                      <p:cBhvr additive="repl">
                                        <p:cTn id="359" dur="664">
                                          <p:stCondLst>
                                            <p:cond delay="0"/>
                                          </p:stCondLst>
                                        </p:cTn>
                                        <p:tgtEl>
                                          <p:spTgt spid="12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360" dur="664">
                                          <p:stCondLst>
                                            <p:cond delay="664"/>
                                          </p:stCondLst>
                                        </p:cTn>
                                        <p:tgtEl>
                                          <p:spTgt spid="12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61" dur="332">
                                          <p:stCondLst>
                                            <p:cond delay="1324"/>
                                          </p:stCondLst>
                                        </p:cTn>
                                        <p:tgtEl>
                                          <p:spTgt spid="12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62" dur="164">
                                          <p:stCondLst>
                                            <p:cond delay="1656"/>
                                          </p:stCondLst>
                                        </p:cTn>
                                        <p:tgtEl>
                                          <p:spTgt spid="122">
                                            <p:txEl>
                                              <p:pRg st="3" end="3"/>
                                            </p:txEl>
                                          </p:spTgt>
                                        </p:tgtEl>
                                        <p:attrNameLst>
                                          <p:attrName>ppt_y</p:attrName>
                                        </p:attrNameLst>
                                      </p:cBhvr>
                                      <p:tavLst>
                                        <p:tav fmla="y-sin(pi*$)/81" tm="0">
                                          <p:val>
                                            <p:fltVal val="0"/>
                                          </p:val>
                                        </p:tav>
                                        <p:tav fmla="y-sin(pi*$)/81" tm="100000">
                                          <p:val>
                                            <p:fltVal val="1"/>
                                          </p:val>
                                        </p:tav>
                                      </p:tavLst>
                                    </p:anim>
                                    <p:animScale>
                                      <p:cBhvr>
                                        <p:cTn id="363" dur="26" fill="hold">
                                          <p:stCondLst>
                                            <p:cond delay="650"/>
                                          </p:stCondLst>
                                        </p:cTn>
                                        <p:tgtEl>
                                          <p:spTgt spid="122">
                                            <p:txEl>
                                              <p:pRg st="3" end="3"/>
                                            </p:txEl>
                                          </p:spTgt>
                                        </p:tgtEl>
                                      </p:cBhvr>
                                      <p:to x="100000" y="60000"/>
                                    </p:animScale>
                                    <p:animScale>
                                      <p:cBhvr>
                                        <p:cTn id="364" dur="166" fill="hold">
                                          <p:stCondLst>
                                            <p:cond delay="676"/>
                                          </p:stCondLst>
                                        </p:cTn>
                                        <p:tgtEl>
                                          <p:spTgt spid="122">
                                            <p:txEl>
                                              <p:pRg st="3" end="3"/>
                                            </p:txEl>
                                          </p:spTgt>
                                        </p:tgtEl>
                                      </p:cBhvr>
                                      <p:to x="100000" y="100000"/>
                                    </p:animScale>
                                    <p:animScale>
                                      <p:cBhvr>
                                        <p:cTn id="365" dur="26" fill="hold">
                                          <p:stCondLst>
                                            <p:cond delay="1312"/>
                                          </p:stCondLst>
                                        </p:cTn>
                                        <p:tgtEl>
                                          <p:spTgt spid="122">
                                            <p:txEl>
                                              <p:pRg st="3" end="3"/>
                                            </p:txEl>
                                          </p:spTgt>
                                        </p:tgtEl>
                                      </p:cBhvr>
                                      <p:to x="100000" y="80000"/>
                                    </p:animScale>
                                    <p:animScale>
                                      <p:cBhvr>
                                        <p:cTn id="366" dur="166" fill="hold">
                                          <p:stCondLst>
                                            <p:cond delay="1338"/>
                                          </p:stCondLst>
                                        </p:cTn>
                                        <p:tgtEl>
                                          <p:spTgt spid="122">
                                            <p:txEl>
                                              <p:pRg st="3" end="3"/>
                                            </p:txEl>
                                          </p:spTgt>
                                        </p:tgtEl>
                                      </p:cBhvr>
                                      <p:to x="100000" y="100000"/>
                                    </p:animScale>
                                    <p:animScale>
                                      <p:cBhvr>
                                        <p:cTn id="367" dur="26" fill="hold">
                                          <p:stCondLst>
                                            <p:cond delay="1642"/>
                                          </p:stCondLst>
                                        </p:cTn>
                                        <p:tgtEl>
                                          <p:spTgt spid="122">
                                            <p:txEl>
                                              <p:pRg st="3" end="3"/>
                                            </p:txEl>
                                          </p:spTgt>
                                        </p:tgtEl>
                                      </p:cBhvr>
                                      <p:to x="100000" y="90000"/>
                                    </p:animScale>
                                    <p:animScale>
                                      <p:cBhvr>
                                        <p:cTn id="368" dur="166" fill="hold">
                                          <p:stCondLst>
                                            <p:cond delay="1668"/>
                                          </p:stCondLst>
                                        </p:cTn>
                                        <p:tgtEl>
                                          <p:spTgt spid="122">
                                            <p:txEl>
                                              <p:pRg st="3" end="3"/>
                                            </p:txEl>
                                          </p:spTgt>
                                        </p:tgtEl>
                                      </p:cBhvr>
                                      <p:to x="100000" y="100000"/>
                                    </p:animScale>
                                    <p:animScale>
                                      <p:cBhvr>
                                        <p:cTn id="369" dur="26" fill="hold">
                                          <p:stCondLst>
                                            <p:cond delay="1808"/>
                                          </p:stCondLst>
                                        </p:cTn>
                                        <p:tgtEl>
                                          <p:spTgt spid="122">
                                            <p:txEl>
                                              <p:pRg st="3" end="3"/>
                                            </p:txEl>
                                          </p:spTgt>
                                        </p:tgtEl>
                                      </p:cBhvr>
                                      <p:to x="100000" y="95000"/>
                                    </p:animScale>
                                    <p:animScale>
                                      <p:cBhvr>
                                        <p:cTn id="370" dur="166" fill="hold">
                                          <p:stCondLst>
                                            <p:cond delay="1834"/>
                                          </p:stCondLst>
                                        </p:cTn>
                                        <p:tgtEl>
                                          <p:spTgt spid="122">
                                            <p:txEl>
                                              <p:pRg st="3" end="3"/>
                                            </p:txEl>
                                          </p:spTgt>
                                        </p:tgtEl>
                                      </p:cBhvr>
                                      <p:to x="100000" y="100000"/>
                                    </p:animScale>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6">
                                  <p:stCondLst>
                                    <p:cond delay="0"/>
                                  </p:stCondLst>
                                  <p:childTnLst>
                                    <p:set>
                                      <p:cBhvr>
                                        <p:cTn id="374" dur="1" fill="hold">
                                          <p:stCondLst>
                                            <p:cond delay="0"/>
                                          </p:stCondLst>
                                        </p:cTn>
                                        <p:tgtEl>
                                          <p:spTgt spid="123">
                                            <p:txEl>
                                              <p:pRg st="4" end="4"/>
                                            </p:txEl>
                                          </p:spTgt>
                                        </p:tgtEl>
                                        <p:attrNameLst>
                                          <p:attrName>style.visibility</p:attrName>
                                        </p:attrNameLst>
                                      </p:cBhvr>
                                      <p:to>
                                        <p:strVal val="visible"/>
                                      </p:to>
                                    </p:set>
                                    <p:animEffect filter="wipe(down)" transition="in">
                                      <p:cBhvr additive="repl">
                                        <p:cTn id="375" dur="580">
                                          <p:stCondLst>
                                            <p:cond delay="0"/>
                                          </p:stCondLst>
                                        </p:cTn>
                                        <p:tgtEl>
                                          <p:spTgt spid="123">
                                            <p:txEl>
                                              <p:pRg st="4" end="4"/>
                                            </p:txEl>
                                          </p:spTgt>
                                        </p:tgtEl>
                                      </p:cBhvr>
                                    </p:animEffect>
                                    <p:anim calcmode="lin" valueType="num">
                                      <p:cBhvr additive="repl">
                                        <p:cTn id="376" dur="1822">
                                          <p:stCondLst>
                                            <p:cond delay="0"/>
                                          </p:stCondLst>
                                        </p:cTn>
                                        <p:tgtEl>
                                          <p:spTgt spid="123">
                                            <p:txEl>
                                              <p:pRg st="4" end="4"/>
                                            </p:txEl>
                                          </p:spTgt>
                                        </p:tgtEl>
                                        <p:attrNameLst>
                                          <p:attrName>ppt_x</p:attrName>
                                        </p:attrNameLst>
                                      </p:cBhvr>
                                      <p:tavLst>
                                        <p:tav tm="0">
                                          <p:val>
                                            <p:strVal val="#ppt_x-0.25"/>
                                          </p:val>
                                        </p:tav>
                                        <p:tav tm="100000">
                                          <p:val>
                                            <p:strVal val="#ppt_x"/>
                                          </p:val>
                                        </p:tav>
                                      </p:tavLst>
                                    </p:anim>
                                    <p:anim calcmode="lin" valueType="num">
                                      <p:cBhvr additive="repl">
                                        <p:cTn id="377" dur="664">
                                          <p:stCondLst>
                                            <p:cond delay="0"/>
                                          </p:stCondLst>
                                        </p:cTn>
                                        <p:tgtEl>
                                          <p:spTgt spid="123">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78" dur="664">
                                          <p:stCondLst>
                                            <p:cond delay="664"/>
                                          </p:stCondLst>
                                        </p:cTn>
                                        <p:tgtEl>
                                          <p:spTgt spid="123">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79" dur="332">
                                          <p:stCondLst>
                                            <p:cond delay="1324"/>
                                          </p:stCondLst>
                                        </p:cTn>
                                        <p:tgtEl>
                                          <p:spTgt spid="123">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80" dur="164">
                                          <p:stCondLst>
                                            <p:cond delay="1656"/>
                                          </p:stCondLst>
                                        </p:cTn>
                                        <p:tgtEl>
                                          <p:spTgt spid="123">
                                            <p:txEl>
                                              <p:pRg st="4" end="4"/>
                                            </p:txEl>
                                          </p:spTgt>
                                        </p:tgtEl>
                                        <p:attrNameLst>
                                          <p:attrName>ppt_y</p:attrName>
                                        </p:attrNameLst>
                                      </p:cBhvr>
                                      <p:tavLst>
                                        <p:tav fmla="y-sin(pi*$)/81" tm="0">
                                          <p:val>
                                            <p:fltVal val="0"/>
                                          </p:val>
                                        </p:tav>
                                        <p:tav fmla="y-sin(pi*$)/81" tm="100000">
                                          <p:val>
                                            <p:fltVal val="1"/>
                                          </p:val>
                                        </p:tav>
                                      </p:tavLst>
                                    </p:anim>
                                    <p:animScale>
                                      <p:cBhvr>
                                        <p:cTn id="381" dur="26" fill="hold">
                                          <p:stCondLst>
                                            <p:cond delay="650"/>
                                          </p:stCondLst>
                                        </p:cTn>
                                        <p:tgtEl>
                                          <p:spTgt spid="123">
                                            <p:txEl>
                                              <p:pRg st="4" end="4"/>
                                            </p:txEl>
                                          </p:spTgt>
                                        </p:tgtEl>
                                      </p:cBhvr>
                                      <p:to x="100000" y="60000"/>
                                    </p:animScale>
                                    <p:animScale>
                                      <p:cBhvr>
                                        <p:cTn id="382" dur="166" fill="hold">
                                          <p:stCondLst>
                                            <p:cond delay="676"/>
                                          </p:stCondLst>
                                        </p:cTn>
                                        <p:tgtEl>
                                          <p:spTgt spid="123">
                                            <p:txEl>
                                              <p:pRg st="4" end="4"/>
                                            </p:txEl>
                                          </p:spTgt>
                                        </p:tgtEl>
                                      </p:cBhvr>
                                      <p:to x="100000" y="100000"/>
                                    </p:animScale>
                                    <p:animScale>
                                      <p:cBhvr>
                                        <p:cTn id="383" dur="26" fill="hold">
                                          <p:stCondLst>
                                            <p:cond delay="1312"/>
                                          </p:stCondLst>
                                        </p:cTn>
                                        <p:tgtEl>
                                          <p:spTgt spid="123">
                                            <p:txEl>
                                              <p:pRg st="4" end="4"/>
                                            </p:txEl>
                                          </p:spTgt>
                                        </p:tgtEl>
                                      </p:cBhvr>
                                      <p:to x="100000" y="80000"/>
                                    </p:animScale>
                                    <p:animScale>
                                      <p:cBhvr>
                                        <p:cTn id="384" dur="166" fill="hold">
                                          <p:stCondLst>
                                            <p:cond delay="1338"/>
                                          </p:stCondLst>
                                        </p:cTn>
                                        <p:tgtEl>
                                          <p:spTgt spid="123">
                                            <p:txEl>
                                              <p:pRg st="4" end="4"/>
                                            </p:txEl>
                                          </p:spTgt>
                                        </p:tgtEl>
                                      </p:cBhvr>
                                      <p:to x="100000" y="100000"/>
                                    </p:animScale>
                                    <p:animScale>
                                      <p:cBhvr>
                                        <p:cTn id="385" dur="26" fill="hold">
                                          <p:stCondLst>
                                            <p:cond delay="1642"/>
                                          </p:stCondLst>
                                        </p:cTn>
                                        <p:tgtEl>
                                          <p:spTgt spid="123">
                                            <p:txEl>
                                              <p:pRg st="4" end="4"/>
                                            </p:txEl>
                                          </p:spTgt>
                                        </p:tgtEl>
                                      </p:cBhvr>
                                      <p:to x="100000" y="90000"/>
                                    </p:animScale>
                                    <p:animScale>
                                      <p:cBhvr>
                                        <p:cTn id="386" dur="166" fill="hold">
                                          <p:stCondLst>
                                            <p:cond delay="1668"/>
                                          </p:stCondLst>
                                        </p:cTn>
                                        <p:tgtEl>
                                          <p:spTgt spid="123">
                                            <p:txEl>
                                              <p:pRg st="4" end="4"/>
                                            </p:txEl>
                                          </p:spTgt>
                                        </p:tgtEl>
                                      </p:cBhvr>
                                      <p:to x="100000" y="100000"/>
                                    </p:animScale>
                                    <p:animScale>
                                      <p:cBhvr>
                                        <p:cTn id="387" dur="26" fill="hold">
                                          <p:stCondLst>
                                            <p:cond delay="1808"/>
                                          </p:stCondLst>
                                        </p:cTn>
                                        <p:tgtEl>
                                          <p:spTgt spid="123">
                                            <p:txEl>
                                              <p:pRg st="4" end="4"/>
                                            </p:txEl>
                                          </p:spTgt>
                                        </p:tgtEl>
                                      </p:cBhvr>
                                      <p:to x="100000" y="95000"/>
                                    </p:animScale>
                                    <p:animScale>
                                      <p:cBhvr>
                                        <p:cTn id="388" dur="166" fill="hold">
                                          <p:stCondLst>
                                            <p:cond delay="1834"/>
                                          </p:stCondLst>
                                        </p:cTn>
                                        <p:tgtEl>
                                          <p:spTgt spid="123">
                                            <p:txEl>
                                              <p:pRg st="4" end="4"/>
                                            </p:txEl>
                                          </p:spTgt>
                                        </p:tgtEl>
                                      </p:cBhvr>
                                      <p:to x="100000" y="10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6">
                                  <p:stCondLst>
                                    <p:cond delay="0"/>
                                  </p:stCondLst>
                                  <p:childTnLst>
                                    <p:set>
                                      <p:cBhvr>
                                        <p:cTn id="392" dur="1" fill="hold">
                                          <p:stCondLst>
                                            <p:cond delay="0"/>
                                          </p:stCondLst>
                                        </p:cTn>
                                        <p:tgtEl>
                                          <p:spTgt spid="122">
                                            <p:txEl>
                                              <p:pRg st="4" end="4"/>
                                            </p:txEl>
                                          </p:spTgt>
                                        </p:tgtEl>
                                        <p:attrNameLst>
                                          <p:attrName>style.visibility</p:attrName>
                                        </p:attrNameLst>
                                      </p:cBhvr>
                                      <p:to>
                                        <p:strVal val="visible"/>
                                      </p:to>
                                    </p:set>
                                    <p:animEffect filter="wipe(down)" transition="in">
                                      <p:cBhvr additive="repl">
                                        <p:cTn id="393" dur="580">
                                          <p:stCondLst>
                                            <p:cond delay="0"/>
                                          </p:stCondLst>
                                        </p:cTn>
                                        <p:tgtEl>
                                          <p:spTgt spid="122">
                                            <p:txEl>
                                              <p:pRg st="4" end="4"/>
                                            </p:txEl>
                                          </p:spTgt>
                                        </p:tgtEl>
                                      </p:cBhvr>
                                    </p:animEffect>
                                    <p:anim calcmode="lin" valueType="num">
                                      <p:cBhvr additive="repl">
                                        <p:cTn id="394" dur="1822">
                                          <p:stCondLst>
                                            <p:cond delay="0"/>
                                          </p:stCondLst>
                                        </p:cTn>
                                        <p:tgtEl>
                                          <p:spTgt spid="122">
                                            <p:txEl>
                                              <p:pRg st="4" end="4"/>
                                            </p:txEl>
                                          </p:spTgt>
                                        </p:tgtEl>
                                        <p:attrNameLst>
                                          <p:attrName>ppt_x</p:attrName>
                                        </p:attrNameLst>
                                      </p:cBhvr>
                                      <p:tavLst>
                                        <p:tav tm="0">
                                          <p:val>
                                            <p:strVal val="#ppt_x-0.25"/>
                                          </p:val>
                                        </p:tav>
                                        <p:tav tm="100000">
                                          <p:val>
                                            <p:strVal val="#ppt_x"/>
                                          </p:val>
                                        </p:tav>
                                      </p:tavLst>
                                    </p:anim>
                                    <p:anim calcmode="lin" valueType="num">
                                      <p:cBhvr additive="repl">
                                        <p:cTn id="395" dur="664">
                                          <p:stCondLst>
                                            <p:cond delay="0"/>
                                          </p:stCondLst>
                                        </p:cTn>
                                        <p:tgtEl>
                                          <p:spTgt spid="122">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96" dur="664">
                                          <p:stCondLst>
                                            <p:cond delay="664"/>
                                          </p:stCondLst>
                                        </p:cTn>
                                        <p:tgtEl>
                                          <p:spTgt spid="122">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97" dur="332">
                                          <p:stCondLst>
                                            <p:cond delay="1324"/>
                                          </p:stCondLst>
                                        </p:cTn>
                                        <p:tgtEl>
                                          <p:spTgt spid="122">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98" dur="164">
                                          <p:stCondLst>
                                            <p:cond delay="1656"/>
                                          </p:stCondLst>
                                        </p:cTn>
                                        <p:tgtEl>
                                          <p:spTgt spid="122">
                                            <p:txEl>
                                              <p:pRg st="4" end="4"/>
                                            </p:txEl>
                                          </p:spTgt>
                                        </p:tgtEl>
                                        <p:attrNameLst>
                                          <p:attrName>ppt_y</p:attrName>
                                        </p:attrNameLst>
                                      </p:cBhvr>
                                      <p:tavLst>
                                        <p:tav fmla="y-sin(pi*$)/81" tm="0">
                                          <p:val>
                                            <p:fltVal val="0"/>
                                          </p:val>
                                        </p:tav>
                                        <p:tav fmla="y-sin(pi*$)/81" tm="100000">
                                          <p:val>
                                            <p:fltVal val="1"/>
                                          </p:val>
                                        </p:tav>
                                      </p:tavLst>
                                    </p:anim>
                                    <p:animScale>
                                      <p:cBhvr>
                                        <p:cTn id="399" dur="26" fill="hold">
                                          <p:stCondLst>
                                            <p:cond delay="650"/>
                                          </p:stCondLst>
                                        </p:cTn>
                                        <p:tgtEl>
                                          <p:spTgt spid="122">
                                            <p:txEl>
                                              <p:pRg st="4" end="4"/>
                                            </p:txEl>
                                          </p:spTgt>
                                        </p:tgtEl>
                                      </p:cBhvr>
                                      <p:to x="100000" y="60000"/>
                                    </p:animScale>
                                    <p:animScale>
                                      <p:cBhvr>
                                        <p:cTn id="400" dur="166" fill="hold">
                                          <p:stCondLst>
                                            <p:cond delay="676"/>
                                          </p:stCondLst>
                                        </p:cTn>
                                        <p:tgtEl>
                                          <p:spTgt spid="122">
                                            <p:txEl>
                                              <p:pRg st="4" end="4"/>
                                            </p:txEl>
                                          </p:spTgt>
                                        </p:tgtEl>
                                      </p:cBhvr>
                                      <p:to x="100000" y="100000"/>
                                    </p:animScale>
                                    <p:animScale>
                                      <p:cBhvr>
                                        <p:cTn id="401" dur="26" fill="hold">
                                          <p:stCondLst>
                                            <p:cond delay="1312"/>
                                          </p:stCondLst>
                                        </p:cTn>
                                        <p:tgtEl>
                                          <p:spTgt spid="122">
                                            <p:txEl>
                                              <p:pRg st="4" end="4"/>
                                            </p:txEl>
                                          </p:spTgt>
                                        </p:tgtEl>
                                      </p:cBhvr>
                                      <p:to x="100000" y="80000"/>
                                    </p:animScale>
                                    <p:animScale>
                                      <p:cBhvr>
                                        <p:cTn id="402" dur="166" fill="hold">
                                          <p:stCondLst>
                                            <p:cond delay="1338"/>
                                          </p:stCondLst>
                                        </p:cTn>
                                        <p:tgtEl>
                                          <p:spTgt spid="122">
                                            <p:txEl>
                                              <p:pRg st="4" end="4"/>
                                            </p:txEl>
                                          </p:spTgt>
                                        </p:tgtEl>
                                      </p:cBhvr>
                                      <p:to x="100000" y="100000"/>
                                    </p:animScale>
                                    <p:animScale>
                                      <p:cBhvr>
                                        <p:cTn id="403" dur="26" fill="hold">
                                          <p:stCondLst>
                                            <p:cond delay="1642"/>
                                          </p:stCondLst>
                                        </p:cTn>
                                        <p:tgtEl>
                                          <p:spTgt spid="122">
                                            <p:txEl>
                                              <p:pRg st="4" end="4"/>
                                            </p:txEl>
                                          </p:spTgt>
                                        </p:tgtEl>
                                      </p:cBhvr>
                                      <p:to x="100000" y="90000"/>
                                    </p:animScale>
                                    <p:animScale>
                                      <p:cBhvr>
                                        <p:cTn id="404" dur="166" fill="hold">
                                          <p:stCondLst>
                                            <p:cond delay="1668"/>
                                          </p:stCondLst>
                                        </p:cTn>
                                        <p:tgtEl>
                                          <p:spTgt spid="122">
                                            <p:txEl>
                                              <p:pRg st="4" end="4"/>
                                            </p:txEl>
                                          </p:spTgt>
                                        </p:tgtEl>
                                      </p:cBhvr>
                                      <p:to x="100000" y="100000"/>
                                    </p:animScale>
                                    <p:animScale>
                                      <p:cBhvr>
                                        <p:cTn id="405" dur="26" fill="hold">
                                          <p:stCondLst>
                                            <p:cond delay="1808"/>
                                          </p:stCondLst>
                                        </p:cTn>
                                        <p:tgtEl>
                                          <p:spTgt spid="122">
                                            <p:txEl>
                                              <p:pRg st="4" end="4"/>
                                            </p:txEl>
                                          </p:spTgt>
                                        </p:tgtEl>
                                      </p:cBhvr>
                                      <p:to x="100000" y="95000"/>
                                    </p:animScale>
                                    <p:animScale>
                                      <p:cBhvr>
                                        <p:cTn id="406" dur="166" fill="hold">
                                          <p:stCondLst>
                                            <p:cond delay="1834"/>
                                          </p:stCondLst>
                                        </p:cTn>
                                        <p:tgtEl>
                                          <p:spTgt spid="122">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1236600" y="1887480"/>
            <a:ext cx="6740280" cy="4187880"/>
            <a:chOff x="1236600" y="1887480"/>
            <a:chExt cx="6740280" cy="4187880"/>
          </a:xfrm>
        </p:grpSpPr>
        <p:sp>
          <p:nvSpPr>
            <p:cNvPr id="126" name="_s29756"/>
            <p:cNvSpPr/>
            <p:nvPr/>
          </p:nvSpPr>
          <p:spPr>
            <a:xfrm>
              <a:off x="3755880" y="2482920"/>
              <a:ext cx="1701360" cy="1701720"/>
            </a:xfrm>
            <a:prstGeom prst="ellipse">
              <a:avLst/>
            </a:prstGeom>
            <a:solidFill>
              <a:srgbClr val="808080">
                <a:alpha val="50000"/>
              </a:srgbClr>
            </a:solidFill>
            <a:ln w="57240">
              <a:solidFill>
                <a:srgbClr val="80808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_s29757"/>
            <p:cNvSpPr/>
            <p:nvPr/>
          </p:nvSpPr>
          <p:spPr>
            <a:xfrm>
              <a:off x="3755880" y="1887480"/>
              <a:ext cx="170136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6600"/>
                  </a:solidFill>
                  <a:latin typeface="Arial"/>
                  <a:cs typeface="AL-Hor"/>
                </a:rPr>
                <a:t>ارجاء التقويم</a:t>
              </a:r>
              <a:r>
                <a:rPr b="0" lang="en-US" sz="6000" spc="-1" strike="noStrike">
                  <a:solidFill>
                    <a:srgbClr val="cc00cc"/>
                  </a:solidFill>
                  <a:latin typeface="Arial"/>
                  <a:ea typeface="AL-Hor"/>
                </a:rPr>
                <a:t> </a:t>
              </a:r>
              <a:endParaRPr b="0" lang="en-US" sz="6000" spc="-1" strike="noStrike">
                <a:solidFill>
                  <a:srgbClr val="000000"/>
                </a:solidFill>
                <a:latin typeface="Arial"/>
              </a:endParaRPr>
            </a:p>
          </p:txBody>
        </p:sp>
        <p:sp>
          <p:nvSpPr>
            <p:cNvPr id="128" name="_s29758"/>
            <p:cNvSpPr/>
            <p:nvPr/>
          </p:nvSpPr>
          <p:spPr>
            <a:xfrm>
              <a:off x="4403520" y="3130560"/>
              <a:ext cx="1701360" cy="1701720"/>
            </a:xfrm>
            <a:prstGeom prst="ellipse">
              <a:avLst/>
            </a:prstGeom>
            <a:solidFill>
              <a:srgbClr val="99cc00">
                <a:alpha val="50000"/>
              </a:srgbClr>
            </a:solidFill>
            <a:ln w="57240">
              <a:solidFill>
                <a:srgbClr val="99cc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_s29759"/>
            <p:cNvSpPr/>
            <p:nvPr/>
          </p:nvSpPr>
          <p:spPr>
            <a:xfrm>
              <a:off x="6275160" y="3768840"/>
              <a:ext cx="170172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Hor"/>
                </a:rPr>
                <a:t>البناء على افكار الآخرين</a:t>
              </a:r>
              <a:endParaRPr b="0" lang="en-US" sz="4800" spc="-1" strike="noStrike">
                <a:solidFill>
                  <a:srgbClr val="000000"/>
                </a:solidFill>
                <a:latin typeface="Arial"/>
              </a:endParaRPr>
            </a:p>
          </p:txBody>
        </p:sp>
        <p:sp>
          <p:nvSpPr>
            <p:cNvPr id="130" name="_s29761"/>
            <p:cNvSpPr/>
            <p:nvPr/>
          </p:nvSpPr>
          <p:spPr>
            <a:xfrm>
              <a:off x="3755880" y="3778200"/>
              <a:ext cx="1701360" cy="1702080"/>
            </a:xfrm>
            <a:prstGeom prst="ellipse">
              <a:avLst/>
            </a:prstGeom>
            <a:solidFill>
              <a:srgbClr val="009999">
                <a:alpha val="50000"/>
              </a:srgbClr>
            </a:solidFill>
            <a:ln w="57240">
              <a:solidFill>
                <a:srgbClr val="0099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_s29762"/>
            <p:cNvSpPr/>
            <p:nvPr/>
          </p:nvSpPr>
          <p:spPr>
            <a:xfrm>
              <a:off x="3755880" y="5649840"/>
              <a:ext cx="1701360" cy="4255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3300"/>
                  </a:solidFill>
                  <a:latin typeface="Arial"/>
                  <a:cs typeface="AL-Hor"/>
                </a:rPr>
                <a:t>الكم قبل الكيف</a:t>
              </a:r>
              <a:endParaRPr b="0" lang="en-US" sz="6000" spc="-1" strike="noStrike">
                <a:solidFill>
                  <a:srgbClr val="000000"/>
                </a:solidFill>
                <a:latin typeface="Arial"/>
              </a:endParaRPr>
            </a:p>
          </p:txBody>
        </p:sp>
        <p:sp>
          <p:nvSpPr>
            <p:cNvPr id="132" name="_s29754"/>
            <p:cNvSpPr/>
            <p:nvPr/>
          </p:nvSpPr>
          <p:spPr>
            <a:xfrm>
              <a:off x="3108240" y="3130560"/>
              <a:ext cx="1701360" cy="1701720"/>
            </a:xfrm>
            <a:prstGeom prst="ellipse">
              <a:avLst/>
            </a:prstGeom>
            <a:solidFill>
              <a:srgbClr val="333399">
                <a:alpha val="50000"/>
              </a:srgbClr>
            </a:solidFill>
            <a:ln w="57240">
              <a:solidFill>
                <a:srgbClr val="3333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_s29755"/>
            <p:cNvSpPr/>
            <p:nvPr/>
          </p:nvSpPr>
          <p:spPr>
            <a:xfrm>
              <a:off x="1236600" y="3768840"/>
              <a:ext cx="1701360" cy="425520"/>
            </a:xfrm>
            <a:prstGeom prst="rect">
              <a:avLst/>
            </a:prstGeom>
            <a:noFill/>
            <a:ln w="0">
              <a:noFill/>
            </a:ln>
          </p:spPr>
          <p:style>
            <a:lnRef idx="0"/>
            <a:fillRef idx="0"/>
            <a:effectRef idx="0"/>
            <a:fontRef idx="minor"/>
          </p:style>
          <p:txBody>
            <a:bodyPr wrap="none" lIns="147240" rIns="147240" tIns="73440" bIns="73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3399"/>
                  </a:solidFill>
                  <a:latin typeface="Arial"/>
                  <a:cs typeface="AL-Hor"/>
                </a:rPr>
                <a:t>اطلاق حرية التفكير</a:t>
              </a:r>
              <a:endParaRPr b="0" lang="en-US" sz="6000" spc="-1" strike="noStrike">
                <a:solidFill>
                  <a:srgbClr val="000000"/>
                </a:solidFill>
                <a:latin typeface="Arial"/>
              </a:endParaRPr>
            </a:p>
          </p:txBody>
        </p:sp>
      </p:grpSp>
      <p:sp>
        <p:nvSpPr>
          <p:cNvPr id="134" name=""/>
          <p:cNvSpPr/>
          <p:nvPr/>
        </p:nvSpPr>
        <p:spPr>
          <a:xfrm>
            <a:off x="1258920" y="907920"/>
            <a:ext cx="6769080" cy="1008360"/>
          </a:xfrm>
          <a:custGeom>
            <a:avLst/>
            <a:gdLst>
              <a:gd name="textAreaLeft" fmla="*/ 846000 w 6769080"/>
              <a:gd name="textAreaRight" fmla="*/ 5923080 w 6769080"/>
              <a:gd name="textAreaTop" fmla="*/ 0 h 1008360"/>
              <a:gd name="textAreaBottom" fmla="*/ 672120 h 1008360"/>
            </a:gdLst>
            <a:ahLst/>
            <a:rect l="textAreaLeft" t="textAreaTop" r="textAreaRight" b="textAreaBottom"/>
            <a:pathLst>
              <a:path w="21600" h="21600">
                <a:moveTo>
                  <a:pt x="5400" y="14400"/>
                </a:moveTo>
                <a:lnTo>
                  <a:pt x="5400" y="19800"/>
                </a:lnTo>
                <a:cubicBezTo>
                  <a:pt x="5400" y="20700"/>
                  <a:pt x="4980" y="21600"/>
                  <a:pt x="4560" y="21600"/>
                </a:cubicBezTo>
                <a:lnTo>
                  <a:pt x="0" y="21600"/>
                </a:lnTo>
                <a:lnTo>
                  <a:pt x="2750" y="14400"/>
                </a:lnTo>
                <a:lnTo>
                  <a:pt x="0" y="7200"/>
                </a:lnTo>
                <a:lnTo>
                  <a:pt x="2700" y="7200"/>
                </a:lnTo>
                <a:lnTo>
                  <a:pt x="2700" y="1800"/>
                </a:lnTo>
                <a:cubicBezTo>
                  <a:pt x="2700" y="900"/>
                  <a:pt x="3120" y="0"/>
                  <a:pt x="3540" y="0"/>
                </a:cubicBezTo>
                <a:lnTo>
                  <a:pt x="18060" y="0"/>
                </a:lnTo>
                <a:cubicBezTo>
                  <a:pt x="18480" y="0"/>
                  <a:pt x="18900" y="900"/>
                  <a:pt x="18900" y="1800"/>
                </a:cubicBezTo>
                <a:lnTo>
                  <a:pt x="18900" y="7200"/>
                </a:lnTo>
                <a:lnTo>
                  <a:pt x="21600" y="7200"/>
                </a:lnTo>
                <a:lnTo>
                  <a:pt x="18850" y="14400"/>
                </a:lnTo>
                <a:lnTo>
                  <a:pt x="21600" y="21600"/>
                </a:lnTo>
                <a:lnTo>
                  <a:pt x="17040" y="21600"/>
                </a:lnTo>
                <a:cubicBezTo>
                  <a:pt x="16620" y="21600"/>
                  <a:pt x="16200" y="20700"/>
                  <a:pt x="16200" y="19800"/>
                </a:cubicBezTo>
                <a:lnTo>
                  <a:pt x="16200" y="14400"/>
                </a:lnTo>
                <a:close/>
              </a:path>
              <a:path fill="darkenLess" w="21600" h="21600">
                <a:moveTo>
                  <a:pt x="5400" y="14400"/>
                </a:moveTo>
                <a:lnTo>
                  <a:pt x="5400" y="19800"/>
                </a:lnTo>
                <a:cubicBezTo>
                  <a:pt x="5400" y="18900"/>
                  <a:pt x="4980" y="18000"/>
                  <a:pt x="4560" y="18000"/>
                </a:cubicBezTo>
                <a:lnTo>
                  <a:pt x="3540" y="18000"/>
                </a:lnTo>
                <a:cubicBezTo>
                  <a:pt x="3120" y="18000"/>
                  <a:pt x="2700" y="17100"/>
                  <a:pt x="2700" y="16200"/>
                </a:cubicBezTo>
                <a:cubicBezTo>
                  <a:pt x="2700" y="15300"/>
                  <a:pt x="3120" y="14400"/>
                  <a:pt x="3540" y="14400"/>
                </a:cubicBezTo>
                <a:close/>
              </a:path>
              <a:path fill="darkenLess" w="21600" h="21600">
                <a:moveTo>
                  <a:pt x="16200" y="14400"/>
                </a:moveTo>
                <a:lnTo>
                  <a:pt x="16200" y="19800"/>
                </a:lnTo>
                <a:cubicBezTo>
                  <a:pt x="16200" y="18900"/>
                  <a:pt x="16620" y="18000"/>
                  <a:pt x="17040" y="18000"/>
                </a:cubicBezTo>
                <a:lnTo>
                  <a:pt x="18060" y="18000"/>
                </a:lnTo>
                <a:cubicBezTo>
                  <a:pt x="18480" y="18000"/>
                  <a:pt x="18900" y="17100"/>
                  <a:pt x="18900" y="16200"/>
                </a:cubicBezTo>
                <a:cubicBezTo>
                  <a:pt x="18900" y="15300"/>
                  <a:pt x="18480" y="14400"/>
                  <a:pt x="18060" y="14400"/>
                </a:cubicBezTo>
                <a:close/>
              </a:path>
              <a:path fill="darkenLess" w="21600" h="21600">
                <a:moveTo>
                  <a:pt x="2700" y="16200"/>
                </a:moveTo>
                <a:lnTo>
                  <a:pt x="2700" y="7200"/>
                </a:lnTo>
              </a:path>
              <a:path fill="darkenLess" w="21600" h="21600">
                <a:moveTo>
                  <a:pt x="18900" y="16200"/>
                </a:moveTo>
                <a:lnTo>
                  <a:pt x="18900" y="7200"/>
                </a:lnTo>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6600"/>
                </a:solidFill>
                <a:latin typeface="Arial"/>
                <a:cs typeface="Al-Homam"/>
              </a:rPr>
              <a:t>مبادئ العصف الذهني</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5">
                                  <p:stCondLst>
                                    <p:cond delay="0"/>
                                  </p:stCondLst>
                                  <p:childTnLst>
                                    <p:set>
                                      <p:cBhvr>
                                        <p:cTn id="412" dur="1" fill="hold">
                                          <p:stCondLst>
                                            <p:cond delay="0"/>
                                          </p:stCondLst>
                                        </p:cTn>
                                        <p:tgtEl>
                                          <p:spTgt spid="134"/>
                                        </p:tgtEl>
                                        <p:attrNameLst>
                                          <p:attrName>style.visibility</p:attrName>
                                        </p:attrNameLst>
                                      </p:cBhvr>
                                      <p:to>
                                        <p:strVal val="visible"/>
                                      </p:to>
                                    </p:set>
                                    <p:anim calcmode="lin" valueType="num">
                                      <p:cBhvr additive="repl">
                                        <p:cTn id="413"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414"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415"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416" dur="1000" fill="hold"/>
                                        <p:tgtEl>
                                          <p:spTgt spid="134"/>
                                        </p:tgtEl>
                                        <p:attrNameLst>
                                          <p:attrName>ppt_h</p:attrName>
                                        </p:attrNameLst>
                                      </p:cBhvr>
                                      <p:tavLst>
                                        <p:tav tm="0">
                                          <p:val>
                                            <p:strVal val="#ppt_h"/>
                                          </p:val>
                                        </p:tav>
                                        <p:tav tm="100000">
                                          <p:val>
                                            <p:strVal val="#ppt_h"/>
                                          </p:val>
                                        </p:tav>
                                      </p:tavLst>
                                    </p:anim>
                                    <p:anim calcmode="lin" valueType="num">
                                      <p:cBhvr additive="repl">
                                        <p:cTn id="417"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418"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419"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420" dur="1000">
                                          <p:stCondLst>
                                            <p:cond delay="0"/>
                                          </p:stCondLst>
                                        </p:cTn>
                                        <p:tgtEl>
                                          <p:spTgt spid="134"/>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8">
                                  <p:stCondLst>
                                    <p:cond delay="0"/>
                                  </p:stCondLst>
                                  <p:iterate type="wd">
                                    <p:tmAbs val="500"/>
                                  </p:iterate>
                                  <p:childTnLst>
                                    <p:set>
                                      <p:cBhvr>
                                        <p:cTn id="424" dur="1" fill="hold">
                                          <p:stCondLst>
                                            <p:cond delay="0"/>
                                          </p:stCondLst>
                                        </p:cTn>
                                        <p:tgtEl>
                                          <p:spTgt spid="134">
                                            <p:txEl>
                                              <p:pRg st="0" end="0"/>
                                            </p:txEl>
                                          </p:spTgt>
                                        </p:tgtEl>
                                        <p:attrNameLst>
                                          <p:attrName>style.visibility</p:attrName>
                                        </p:attrNameLst>
                                      </p:cBhvr>
                                      <p:to>
                                        <p:strVal val="visible"/>
                                      </p:to>
                                    </p:set>
                                    <p:set>
                                      <p:cBhvr>
                                        <p:cTn id="425" dur="455" fill="hold">
                                          <p:stCondLst>
                                            <p:cond delay="0"/>
                                          </p:stCondLst>
                                        </p:cTn>
                                        <p:tgtEl>
                                          <p:spTgt spid="134">
                                            <p:txEl>
                                              <p:pRg st="0" end="0"/>
                                            </p:txEl>
                                          </p:spTgt>
                                        </p:tgtEl>
                                        <p:attrNameLst>
                                          <p:attrName>r</p:attrName>
                                        </p:attrNameLst>
                                      </p:cBhvr>
                                      <p:to>
                                        <p:strVal val="-45"/>
                                      </p:to>
                                    </p:set>
                                    <p:anim calcmode="lin" valueType="num">
                                      <p:cBhvr additive="repl">
                                        <p:cTn id="426" dur="455" fill="hold">
                                          <p:stCondLst>
                                            <p:cond delay="455"/>
                                          </p:stCondLst>
                                        </p:cTn>
                                        <p:tgtEl>
                                          <p:spTgt spid="13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27" dur="455" fill="hold">
                                          <p:stCondLst>
                                            <p:cond delay="0"/>
                                          </p:stCondLst>
                                        </p:cTn>
                                        <p:tgtEl>
                                          <p:spTgt spid="13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28" dur="156" autoRev="1" fill="hold">
                                          <p:stCondLst>
                                            <p:cond delay="455"/>
                                          </p:stCondLst>
                                        </p:cTn>
                                        <p:tgtEl>
                                          <p:spTgt spid="13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29" dur="136" fill="hold">
                                          <p:stCondLst>
                                            <p:cond delay="864"/>
                                          </p:stCondLst>
                                        </p:cTn>
                                        <p:tgtEl>
                                          <p:spTgt spid="13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0">
                                  <p:stCondLst>
                                    <p:cond delay="0"/>
                                  </p:stCondLst>
                                  <p:childTnLst>
                                    <p:set>
                                      <p:cBhvr>
                                        <p:cTn id="433" dur="1" fill="hold">
                                          <p:stCondLst>
                                            <p:cond delay="0"/>
                                          </p:stCondLst>
                                        </p:cTn>
                                        <p:tgtEl>
                                          <p:spTgt spid="126"/>
                                        </p:tgtEl>
                                        <p:attrNameLst>
                                          <p:attrName>style.visibility</p:attrName>
                                        </p:attrNameLst>
                                      </p:cBhvr>
                                      <p:to>
                                        <p:strVal val="visible"/>
                                      </p:to>
                                    </p:set>
                                    <p:animEffect filter="wedge" transition="in">
                                      <p:cBhvr additive="repl">
                                        <p:cTn id="434" dur="5000"/>
                                        <p:tgtEl>
                                          <p:spTgt spid="126"/>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0">
                                  <p:stCondLst>
                                    <p:cond delay="0"/>
                                  </p:stCondLst>
                                  <p:childTnLst>
                                    <p:set>
                                      <p:cBhvr>
                                        <p:cTn id="438" dur="1" fill="hold">
                                          <p:stCondLst>
                                            <p:cond delay="0"/>
                                          </p:stCondLst>
                                        </p:cTn>
                                        <p:tgtEl>
                                          <p:spTgt spid="132"/>
                                        </p:tgtEl>
                                        <p:attrNameLst>
                                          <p:attrName>style.visibility</p:attrName>
                                        </p:attrNameLst>
                                      </p:cBhvr>
                                      <p:to>
                                        <p:strVal val="visible"/>
                                      </p:to>
                                    </p:set>
                                    <p:animEffect filter="wedge" transition="in">
                                      <p:cBhvr additive="repl">
                                        <p:cTn id="439" dur="5000"/>
                                        <p:tgtEl>
                                          <p:spTgt spid="132"/>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0">
                                  <p:stCondLst>
                                    <p:cond delay="0"/>
                                  </p:stCondLst>
                                  <p:childTnLst>
                                    <p:set>
                                      <p:cBhvr>
                                        <p:cTn id="443" dur="1" fill="hold">
                                          <p:stCondLst>
                                            <p:cond delay="0"/>
                                          </p:stCondLst>
                                        </p:cTn>
                                        <p:tgtEl>
                                          <p:spTgt spid="130"/>
                                        </p:tgtEl>
                                        <p:attrNameLst>
                                          <p:attrName>style.visibility</p:attrName>
                                        </p:attrNameLst>
                                      </p:cBhvr>
                                      <p:to>
                                        <p:strVal val="visible"/>
                                      </p:to>
                                    </p:set>
                                    <p:animEffect filter="wedge" transition="in">
                                      <p:cBhvr additive="repl">
                                        <p:cTn id="444" dur="5000"/>
                                        <p:tgtEl>
                                          <p:spTgt spid="130"/>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0">
                                  <p:stCondLst>
                                    <p:cond delay="0"/>
                                  </p:stCondLst>
                                  <p:childTnLst>
                                    <p:set>
                                      <p:cBhvr>
                                        <p:cTn id="448" dur="1" fill="hold">
                                          <p:stCondLst>
                                            <p:cond delay="0"/>
                                          </p:stCondLst>
                                        </p:cTn>
                                        <p:tgtEl>
                                          <p:spTgt spid="128"/>
                                        </p:tgtEl>
                                        <p:attrNameLst>
                                          <p:attrName>style.visibility</p:attrName>
                                        </p:attrNameLst>
                                      </p:cBhvr>
                                      <p:to>
                                        <p:strVal val="visible"/>
                                      </p:to>
                                    </p:set>
                                    <p:animEffect filter="wedge" transition="in">
                                      <p:cBhvr additive="repl">
                                        <p:cTn id="449"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Firewall"/>
          <p:cNvSpPr/>
          <p:nvPr/>
        </p:nvSpPr>
        <p:spPr>
          <a:xfrm>
            <a:off x="0" y="836640"/>
            <a:ext cx="9144000" cy="5905440"/>
          </a:xfrm>
          <a:prstGeom prst="pie">
            <a:avLst/>
          </a:prstGeom>
          <a:solidFill>
            <a:srgbClr val="996633">
              <a:alpha val="54000"/>
            </a:srgbClr>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txBox="1"/>
          <p:nvPr/>
        </p:nvSpPr>
        <p:spPr>
          <a:xfrm>
            <a:off x="1187280" y="3571920"/>
            <a:ext cx="6480360" cy="18730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solidFill>
                  <a:srgbClr val="0000ff"/>
                </a:solidFill>
                <a:latin typeface="Kufi20 Normal"/>
              </a:rPr>
              <a:t>معوقات التفكير الإبداعي </a:t>
            </a:r>
            <a:endParaRPr b="0" lang="en-US" sz="1800" spc="1" strike="noStrike">
              <a:ln w="0">
                <a:noFill/>
              </a:ln>
              <a:solidFill>
                <a:srgbClr val="0000ff"/>
              </a:solidFill>
              <a:latin typeface="Kufi20 Normal"/>
              <a:ea typeface="Kufi20 Normal"/>
            </a:endParaRPr>
          </a:p>
        </p:txBody>
      </p:sp>
    </p:spTree>
  </p:cSld>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6">
                                  <p:stCondLst>
                                    <p:cond delay="0"/>
                                  </p:stCondLst>
                                  <p:childTnLst>
                                    <p:set>
                                      <p:cBhvr>
                                        <p:cTn id="455" dur="1" fill="hold">
                                          <p:stCondLst>
                                            <p:cond delay="0"/>
                                          </p:stCondLst>
                                        </p:cTn>
                                        <p:tgtEl>
                                          <p:spTgt spid="135"/>
                                        </p:tgtEl>
                                        <p:attrNameLst>
                                          <p:attrName>style.visibility</p:attrName>
                                        </p:attrNameLst>
                                      </p:cBhvr>
                                      <p:to>
                                        <p:strVal val="visible"/>
                                      </p:to>
                                    </p:set>
                                    <p:animEffect filter="wipe(down)" transition="in">
                                      <p:cBhvr additive="repl">
                                        <p:cTn id="456" dur="580">
                                          <p:stCondLst>
                                            <p:cond delay="0"/>
                                          </p:stCondLst>
                                        </p:cTn>
                                        <p:tgtEl>
                                          <p:spTgt spid="135"/>
                                        </p:tgtEl>
                                      </p:cBhvr>
                                    </p:animEffect>
                                    <p:anim calcmode="lin" valueType="num">
                                      <p:cBhvr additive="repl">
                                        <p:cTn id="457" dur="1822">
                                          <p:stCondLst>
                                            <p:cond delay="0"/>
                                          </p:stCondLst>
                                        </p:cTn>
                                        <p:tgtEl>
                                          <p:spTgt spid="135"/>
                                        </p:tgtEl>
                                        <p:attrNameLst>
                                          <p:attrName>ppt_x</p:attrName>
                                        </p:attrNameLst>
                                      </p:cBhvr>
                                      <p:tavLst>
                                        <p:tav tm="0">
                                          <p:val>
                                            <p:strVal val="#ppt_x-0.25"/>
                                          </p:val>
                                        </p:tav>
                                        <p:tav tm="100000">
                                          <p:val>
                                            <p:strVal val="#ppt_x"/>
                                          </p:val>
                                        </p:tav>
                                      </p:tavLst>
                                    </p:anim>
                                    <p:anim calcmode="lin" valueType="num">
                                      <p:cBhvr additive="repl">
                                        <p:cTn id="458" dur="664">
                                          <p:stCondLst>
                                            <p:cond delay="0"/>
                                          </p:stCondLst>
                                        </p:cTn>
                                        <p:tgtEl>
                                          <p:spTgt spid="135"/>
                                        </p:tgtEl>
                                        <p:attrNameLst>
                                          <p:attrName>ppt_y</p:attrName>
                                        </p:attrNameLst>
                                      </p:cBhvr>
                                      <p:tavLst>
                                        <p:tav fmla="y-sin(pi*$)/3" tm="0">
                                          <p:val>
                                            <p:fltVal val="0.5"/>
                                          </p:val>
                                        </p:tav>
                                        <p:tav fmla="y-sin(pi*$)/3" tm="100000">
                                          <p:val>
                                            <p:fltVal val="1"/>
                                          </p:val>
                                        </p:tav>
                                      </p:tavLst>
                                    </p:anim>
                                    <p:anim calcmode="lin" valueType="num">
                                      <p:cBhvr additive="repl">
                                        <p:cTn id="459" dur="664">
                                          <p:stCondLst>
                                            <p:cond delay="664"/>
                                          </p:stCondLst>
                                        </p:cTn>
                                        <p:tgtEl>
                                          <p:spTgt spid="135"/>
                                        </p:tgtEl>
                                        <p:attrNameLst>
                                          <p:attrName>ppt_y</p:attrName>
                                        </p:attrNameLst>
                                      </p:cBhvr>
                                      <p:tavLst>
                                        <p:tav fmla="y-sin(pi*$)/9" tm="0">
                                          <p:val>
                                            <p:fltVal val="0"/>
                                          </p:val>
                                        </p:tav>
                                        <p:tav fmla="y-sin(pi*$)/9" tm="100000">
                                          <p:val>
                                            <p:fltVal val="1"/>
                                          </p:val>
                                        </p:tav>
                                      </p:tavLst>
                                    </p:anim>
                                    <p:anim calcmode="lin" valueType="num">
                                      <p:cBhvr additive="repl">
                                        <p:cTn id="460" dur="332">
                                          <p:stCondLst>
                                            <p:cond delay="1324"/>
                                          </p:stCondLst>
                                        </p:cTn>
                                        <p:tgtEl>
                                          <p:spTgt spid="135"/>
                                        </p:tgtEl>
                                        <p:attrNameLst>
                                          <p:attrName>ppt_y</p:attrName>
                                        </p:attrNameLst>
                                      </p:cBhvr>
                                      <p:tavLst>
                                        <p:tav fmla="y-sin(pi*$)/27" tm="0">
                                          <p:val>
                                            <p:fltVal val="0"/>
                                          </p:val>
                                        </p:tav>
                                        <p:tav fmla="y-sin(pi*$)/27" tm="100000">
                                          <p:val>
                                            <p:fltVal val="1"/>
                                          </p:val>
                                        </p:tav>
                                      </p:tavLst>
                                    </p:anim>
                                    <p:anim calcmode="lin" valueType="num">
                                      <p:cBhvr additive="repl">
                                        <p:cTn id="461" dur="164">
                                          <p:stCondLst>
                                            <p:cond delay="1656"/>
                                          </p:stCondLst>
                                        </p:cTn>
                                        <p:tgtEl>
                                          <p:spTgt spid="135"/>
                                        </p:tgtEl>
                                        <p:attrNameLst>
                                          <p:attrName>ppt_y</p:attrName>
                                        </p:attrNameLst>
                                      </p:cBhvr>
                                      <p:tavLst>
                                        <p:tav fmla="y-sin(pi*$)/81" tm="0">
                                          <p:val>
                                            <p:fltVal val="0"/>
                                          </p:val>
                                        </p:tav>
                                        <p:tav fmla="y-sin(pi*$)/81" tm="100000">
                                          <p:val>
                                            <p:fltVal val="1"/>
                                          </p:val>
                                        </p:tav>
                                      </p:tavLst>
                                    </p:anim>
                                    <p:animScale>
                                      <p:cBhvr>
                                        <p:cTn id="462" dur="26" fill="hold">
                                          <p:stCondLst>
                                            <p:cond delay="650"/>
                                          </p:stCondLst>
                                        </p:cTn>
                                        <p:tgtEl>
                                          <p:spTgt spid="135"/>
                                        </p:tgtEl>
                                      </p:cBhvr>
                                      <p:to x="100000" y="60000"/>
                                    </p:animScale>
                                    <p:animScale>
                                      <p:cBhvr>
                                        <p:cTn id="463" dur="166" fill="hold">
                                          <p:stCondLst>
                                            <p:cond delay="676"/>
                                          </p:stCondLst>
                                        </p:cTn>
                                        <p:tgtEl>
                                          <p:spTgt spid="135"/>
                                        </p:tgtEl>
                                      </p:cBhvr>
                                      <p:to x="100000" y="100000"/>
                                    </p:animScale>
                                    <p:animScale>
                                      <p:cBhvr>
                                        <p:cTn id="464" dur="26" fill="hold">
                                          <p:stCondLst>
                                            <p:cond delay="1312"/>
                                          </p:stCondLst>
                                        </p:cTn>
                                        <p:tgtEl>
                                          <p:spTgt spid="135"/>
                                        </p:tgtEl>
                                      </p:cBhvr>
                                      <p:to x="100000" y="80000"/>
                                    </p:animScale>
                                    <p:animScale>
                                      <p:cBhvr>
                                        <p:cTn id="465" dur="166" fill="hold">
                                          <p:stCondLst>
                                            <p:cond delay="1338"/>
                                          </p:stCondLst>
                                        </p:cTn>
                                        <p:tgtEl>
                                          <p:spTgt spid="135"/>
                                        </p:tgtEl>
                                      </p:cBhvr>
                                      <p:to x="100000" y="100000"/>
                                    </p:animScale>
                                    <p:animScale>
                                      <p:cBhvr>
                                        <p:cTn id="466" dur="26" fill="hold">
                                          <p:stCondLst>
                                            <p:cond delay="1642"/>
                                          </p:stCondLst>
                                        </p:cTn>
                                        <p:tgtEl>
                                          <p:spTgt spid="135"/>
                                        </p:tgtEl>
                                      </p:cBhvr>
                                      <p:to x="100000" y="90000"/>
                                    </p:animScale>
                                    <p:animScale>
                                      <p:cBhvr>
                                        <p:cTn id="467" dur="166" fill="hold">
                                          <p:stCondLst>
                                            <p:cond delay="1668"/>
                                          </p:stCondLst>
                                        </p:cTn>
                                        <p:tgtEl>
                                          <p:spTgt spid="135"/>
                                        </p:tgtEl>
                                      </p:cBhvr>
                                      <p:to x="100000" y="100000"/>
                                    </p:animScale>
                                    <p:animScale>
                                      <p:cBhvr>
                                        <p:cTn id="468" dur="26" fill="hold">
                                          <p:stCondLst>
                                            <p:cond delay="1808"/>
                                          </p:stCondLst>
                                        </p:cTn>
                                        <p:tgtEl>
                                          <p:spTgt spid="135"/>
                                        </p:tgtEl>
                                      </p:cBhvr>
                                      <p:to x="100000" y="95000"/>
                                    </p:animScale>
                                    <p:animScale>
                                      <p:cBhvr>
                                        <p:cTn id="469" dur="166" fill="hold">
                                          <p:stCondLst>
                                            <p:cond delay="1834"/>
                                          </p:stCondLst>
                                        </p:cTn>
                                        <p:tgtEl>
                                          <p:spTgt spid="135"/>
                                        </p:tgtEl>
                                      </p:cBhvr>
                                      <p:to x="100000" y="100000"/>
                                    </p:animScale>
                                  </p:childTnLst>
                                </p:cTn>
                              </p:par>
                            </p:childTnLst>
                          </p:cTn>
                        </p:par>
                        <p:par>
                          <p:cTn id="470" fill="hold">
                            <p:stCondLst>
                              <p:cond delay="2000"/>
                            </p:stCondLst>
                            <p:childTnLst>
                              <p:par>
                                <p:cTn id="471" nodeType="afterEffect" fill="hold" presetClass="entr" presetID="35">
                                  <p:stCondLst>
                                    <p:cond delay="0"/>
                                  </p:stCondLst>
                                  <p:childTnLst>
                                    <p:set>
                                      <p:cBhvr>
                                        <p:cTn id="472" dur="1" fill="hold">
                                          <p:stCondLst>
                                            <p:cond delay="0"/>
                                          </p:stCondLst>
                                        </p:cTn>
                                        <p:tgtEl>
                                          <p:spTgt spid="136"/>
                                        </p:tgtEl>
                                        <p:attrNameLst>
                                          <p:attrName>style.visibility</p:attrName>
                                        </p:attrNameLst>
                                      </p:cBhvr>
                                      <p:to>
                                        <p:strVal val="visible"/>
                                      </p:to>
                                    </p:set>
                                    <p:animEffect filter="fade" transition="in">
                                      <p:cBhvr additive="repl">
                                        <p:cTn id="473" dur="2000"/>
                                        <p:tgtEl>
                                          <p:spTgt spid="136"/>
                                        </p:tgtEl>
                                      </p:cBhvr>
                                    </p:animEffect>
                                    <p:anim calcmode="lin" valueType="num">
                                      <p:cBhvr additive="repl">
                                        <p:cTn id="474" dur="2000" fill="hold"/>
                                        <p:tgtEl>
                                          <p:spTgt spid="136"/>
                                        </p:tgtEl>
                                        <p:attrNameLst>
                                          <p:attrName>r</p:attrName>
                                        </p:attrNameLst>
                                      </p:cBhvr>
                                      <p:tavLst>
                                        <p:tav tm="0">
                                          <p:val>
                                            <p:strVal val="720"/>
                                          </p:val>
                                        </p:tav>
                                        <p:tav tm="100000">
                                          <p:val>
                                            <p:strVal val="0"/>
                                          </p:val>
                                        </p:tav>
                                      </p:tavLst>
                                    </p:anim>
                                    <p:anim calcmode="lin" valueType="num">
                                      <p:cBhvr additive="repl">
                                        <p:cTn id="475" dur="2000" fill="hold"/>
                                        <p:tgtEl>
                                          <p:spTgt spid="136"/>
                                        </p:tgtEl>
                                        <p:attrNameLst>
                                          <p:attrName>ppt_h</p:attrName>
                                        </p:attrNameLst>
                                      </p:cBhvr>
                                      <p:tavLst>
                                        <p:tav tm="0">
                                          <p:val>
                                            <p:fltVal val="0"/>
                                          </p:val>
                                        </p:tav>
                                        <p:tav tm="100000">
                                          <p:val>
                                            <p:strVal val="#ppt_h"/>
                                          </p:val>
                                        </p:tav>
                                      </p:tavLst>
                                    </p:anim>
                                    <p:anim calcmode="lin" valueType="num">
                                      <p:cBhvr additive="repl">
                                        <p:cTn id="476" dur="2000" fill="hold"/>
                                        <p:tgtEl>
                                          <p:spTgt spid="136"/>
                                        </p:tgtEl>
                                        <p:attrNameLst>
                                          <p:attrName>ppt_w</p:attrName>
                                        </p:attrNameLst>
                                      </p:cBhvr>
                                      <p:tavLst>
                                        <p:tav tm="0">
                                          <p:val>
                                            <p:fltVal val="0"/>
                                          </p:val>
                                        </p:tav>
                                        <p:tav tm="100000">
                                          <p:val>
                                            <p:strVal val="#ppt_w"/>
                                          </p:val>
                                        </p:tav>
                                      </p:tavLst>
                                    </p:anim>
                                  </p:childTnLst>
                                </p:cTn>
                              </p:par>
                            </p:childTnLst>
                          </p:cTn>
                        </p:par>
                        <p:par>
                          <p:cTn id="477" fill="hold">
                            <p:stCondLst>
                              <p:cond delay="4000"/>
                            </p:stCondLst>
                            <p:childTnLst>
                              <p:par>
                                <p:cTn id="478" nodeType="afterEffect" fill="hold" presetClass="path" presetID="25">
                                  <p:stCondLst>
                                    <p:cond delay="0"/>
                                  </p:stCondLst>
                                  <p:childTnLst>
                                    <p:animMotion origin="layout" path="M 0 0 C -0.022 -0.02269 -0.033 -0.06139 -0.027 -0.10009 C -0.024 -0.11344 -0.02 -0.12678 -0.014 -0.13746 C -0.01 -0.10677 0.004 -0.07874 0.025 -0.06139 C 0.025 -0.09876 0.041 -0.13479 0.068 -0.15081 C 0.077 -0.15748 0.087 -0.16015 0.097 -0.16148 C 0.082 -0.1388 0.074 -0.10677 0.077 -0.0734 C 0.099 -0.09742 0.13 -0.10276 0.157 -0.08541 C 0.166 -0.08007 0.175 -0.07073 0.181 -0.06139 C 0.158 -0.06406 0.134 -0.05205 0.117 -0.02803 C 0.144 -0.02002 0.167 0.00801 0.174 0.04671 C 0.176 0.06006 0.176 0.0734 0.174 0.08675 C 0.161 0.06139 0.139 0.04404 0.115 0.04137 C 0.127 0.07474 0.124 0.11611 0.106 0.1468 C 0.099 0.15748 0.091 0.16682 0.082 0.17216 C 0.089 0.1428 0.085 0.10943 0.072 0.08274 C 0.06 0.11611 0.034 0.1388 0.004 0.1388 C -0.007 0.1388 -0.017 0.13613 -0.026 0.13079 C -0.004 0.12011 0.013 0.09475 0.021 0.06406 C -0.007 0.07207 -0.036 0.06006 -0.055 0.02936 C -0.062 0.01735 -0.066 0.00534 -0.069 -0.00801 C -0.049 0.00934 -0.023 0.01201 0 0 Z">
                                      <p:cBhvr>
                                        <p:cTn id="479" dur="2000" fill="hold"/>
                                        <p:tgtEl>
                                          <p:spTgt spid="136"/>
                                        </p:tgtEl>
                                      </p:cBhvr>
                                    </p:animMotion>
                                  </p:childTnLst>
                                </p:cTn>
                              </p:par>
                            </p:childTnLst>
                          </p:cTn>
                        </p:par>
                        <p:par>
                          <p:cTn id="480" fill="hold">
                            <p:stCondLst>
                              <p:cond delay="6000"/>
                            </p:stCondLst>
                            <p:childTnLst>
                              <p:par>
                                <p:cTn id="481" nodeType="afterEffect" fill="hold" presetClass="emph" presetID="23" repeatCount="indefinite">
                                  <p:stCondLst>
                                    <p:cond delay="0"/>
                                  </p:stCondLst>
                                  <p:childTnLst>
                                    <p:animClr clrSpc="hsl" dir="cw">
                                      <p:cBhvr>
                                        <p:cTn id="482" dur="2000" fill="hold"/>
                                        <p:tgtEl>
                                          <p:spTgt spid="136"/>
                                        </p:tgtEl>
                                        <p:attrNameLst>
                                          <p:attrName>style.color</p:attrName>
                                        </p:attrNameLst>
                                      </p:cBhvr>
                                      <p:by>
                                        <p:hsl h="10842352.9411765" s="0" l="0"/>
                                      </p:by>
                                    </p:animClr>
                                    <p:animClr clrSpc="hsl" dir="cw">
                                      <p:cBhvr>
                                        <p:cTn id="483" dur="2000" fill="hold"/>
                                        <p:tgtEl>
                                          <p:spTgt spid="136"/>
                                        </p:tgtEl>
                                        <p:attrNameLst>
                                          <p:attrName>fillcolor</p:attrName>
                                        </p:attrNameLst>
                                      </p:cBhvr>
                                      <p:by>
                                        <p:hsl h="10842352.9411765" s="0" l="0"/>
                                      </p:by>
                                    </p:animClr>
                                    <p:animClr clrSpc="hsl" dir="cw">
                                      <p:cBhvr>
                                        <p:cTn id="484" dur="2000" fill="hold"/>
                                        <p:tgtEl>
                                          <p:spTgt spid="136"/>
                                        </p:tgtEl>
                                        <p:attrNameLst>
                                          <p:attrName>stroke.color</p:attrName>
                                        </p:attrNameLst>
                                      </p:cBhvr>
                                      <p:by>
                                        <p:hsl h="10842352.9411765" s="0" l="0"/>
                                      </p:by>
                                    </p:animClr>
                                    <p:set>
                                      <p:cBhvr>
                                        <p:cTn id="485" dur="2000" fill="hold"/>
                                        <p:tgtEl>
                                          <p:spTgt spid="136"/>
                                        </p:tgtEl>
                                        <p:attrNameLst>
                                          <p:attrName>fill.type</p:attrName>
                                        </p:attrNameLst>
                                      </p:cBhvr>
                                      <p:to>
                                        <p:strVal val="solid"/>
                                      </p:to>
                                    </p:set>
                                  </p:childTnLst>
                                </p:cTn>
                              </p:par>
                              <p:par>
                                <p:cTn id="486" nodeType="withEffect" fill="hold" presetClass="emph" presetID="14" repeatCount="indefinite">
                                  <p:stCondLst>
                                    <p:cond delay="0"/>
                                  </p:stCondLst>
                                  <p:childTnLst>
                                    <p:animClr clrSpc="rgb">
                                      <p:cBhvr>
                                        <p:cTn id="487" dur="4750" fill="hold">
                                          <p:stCondLst>
                                            <p:cond delay="250"/>
                                          </p:stCondLst>
                                        </p:cTn>
                                        <p:tgtEl>
                                          <p:spTgt spid="136"/>
                                        </p:tgtEl>
                                        <p:attrNameLst>
                                          <p:attrName>style.color</p:attrName>
                                        </p:attrNameLst>
                                      </p:cBhvr>
                                      <p:to>
                                        <a:srgbClr val="333399"/>
                                      </p:to>
                                    </p:animClr>
                                    <p:animClr clrSpc="rgb">
                                      <p:cBhvr>
                                        <p:cTn id="488" dur="4750" fill="hold">
                                          <p:stCondLst>
                                            <p:cond delay="250"/>
                                          </p:stCondLst>
                                        </p:cTn>
                                        <p:tgtEl>
                                          <p:spTgt spid="136"/>
                                        </p:tgtEl>
                                        <p:attrNameLst>
                                          <p:attrName>fillcolor</p:attrName>
                                        </p:attrNameLst>
                                      </p:cBhvr>
                                      <p:to>
                                        <a:srgbClr val="333399"/>
                                      </p:to>
                                    </p:animClr>
                                    <p:set>
                                      <p:cBhvr>
                                        <p:cTn id="489" dur="4750" fill="hold">
                                          <p:stCondLst>
                                            <p:cond delay="250"/>
                                          </p:stCondLst>
                                        </p:cTn>
                                        <p:tgtEl>
                                          <p:spTgt spid="136"/>
                                        </p:tgtEl>
                                        <p:attrNameLst>
                                          <p:attrName>fill.type</p:attrName>
                                        </p:attrNameLst>
                                      </p:cBhvr>
                                      <p:to>
                                        <p:strVal val="solid"/>
                                      </p:to>
                                    </p:set>
                                    <p:animScale>
                                      <p:cBhvr>
                                        <p:cTn id="490" dur="500" fill="hold">
                                          <p:stCondLst>
                                            <p:cond delay="0"/>
                                          </p:stCondLst>
                                        </p:cTn>
                                        <p:tgtEl>
                                          <p:spTgt spid="136"/>
                                        </p:tgtEl>
                                      </p:cBhvr>
                                      <p:from x="100000" y="100000"/>
                                      <p:to x="100000" y="5000"/>
                                    </p:animScale>
                                    <p:animScale>
                                      <p:cBhvr>
                                        <p:cTn id="491" dur="500" fill="hold">
                                          <p:stCondLst>
                                            <p:cond delay="500"/>
                                          </p:stCondLst>
                                        </p:cTn>
                                        <p:tgtEl>
                                          <p:spTgt spid="136"/>
                                        </p:tgtEl>
                                      </p:cBhvr>
                                      <p:from x="100000" y="5000"/>
                                      <p:to x="120000" y="150000"/>
                                    </p:animScale>
                                    <p:animScale>
                                      <p:cBhvr>
                                        <p:cTn id="492" dur="1500" fill="hold">
                                          <p:stCondLst>
                                            <p:cond delay="3500"/>
                                          </p:stCondLst>
                                        </p:cTn>
                                        <p:tgtEl>
                                          <p:spTgt spid="136"/>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CurvedRibbon3"/>
          <p:cNvSpPr/>
          <p:nvPr/>
        </p:nvSpPr>
        <p:spPr>
          <a:xfrm>
            <a:off x="-181080" y="836640"/>
            <a:ext cx="6048360" cy="4753080"/>
          </a:xfrm>
          <a:custGeom>
            <a:avLst/>
            <a:gdLst/>
            <a:ahLst/>
            <a:rect l="l" t="t" r="r" b="b"/>
            <a:pathLst>
              <a:path w="21600" h="21600">
                <a:moveTo>
                  <a:pt x="5306" y="9487"/>
                </a:moveTo>
                <a:lnTo>
                  <a:pt x="3709" y="7311"/>
                </a:lnTo>
                <a:lnTo>
                  <a:pt x="922" y="8440"/>
                </a:lnTo>
                <a:arcTo wR="10156" hR="10156" stAng="-9993689" swAng="1531230"/>
                <a:lnTo>
                  <a:pt x="2402" y="4009"/>
                </a:lnTo>
                <a:arcTo wR="10800" hR="10800" stAng="-8462459" swAng="6124918"/>
                <a:lnTo>
                  <a:pt x="18697" y="4414"/>
                </a:lnTo>
                <a:arcTo wR="10156" hR="10156" stAng="-2337541" swAng="1531230"/>
                <a:lnTo>
                  <a:pt x="17891" y="7311"/>
                </a:lnTo>
                <a:lnTo>
                  <a:pt x="16294" y="9487"/>
                </a:lnTo>
                <a:arcTo wR="5649" hR="5649" stAng="-806311" swAng="-2296844"/>
                <a:lnTo>
                  <a:pt x="14699" y="5860"/>
                </a:lnTo>
                <a:arcTo wR="6293" hR="6293" stAng="-3103156" swAng="-4593689"/>
                <a:lnTo>
                  <a:pt x="7300" y="6366"/>
                </a:lnTo>
                <a:arcTo wR="5649" hR="5649" stAng="-7696844" swAng="-2296844"/>
                <a:close/>
              </a:path>
              <a:path fill="none" w="21600" h="21600">
                <a:moveTo>
                  <a:pt x="2903" y="4414"/>
                </a:moveTo>
                <a:lnTo>
                  <a:pt x="5907" y="6843"/>
                </a:lnTo>
                <a:arcTo wR="6293" hR="6293" stAng="-8462459" swAng="765615"/>
              </a:path>
              <a:path fill="none" w="21600" h="21600">
                <a:moveTo>
                  <a:pt x="5907" y="6843"/>
                </a:moveTo>
                <a:lnTo>
                  <a:pt x="7300" y="6366"/>
                </a:lnTo>
              </a:path>
              <a:path fill="none" w="21600" h="21600">
                <a:moveTo>
                  <a:pt x="18697" y="4414"/>
                </a:moveTo>
                <a:lnTo>
                  <a:pt x="15693" y="6843"/>
                </a:lnTo>
                <a:arcTo wR="6293" hR="6293" stAng="-2337541" swAng="-765615"/>
              </a:path>
              <a:path fill="none" w="21600" h="21600">
                <a:moveTo>
                  <a:pt x="15693" y="6843"/>
                </a:moveTo>
                <a:lnTo>
                  <a:pt x="14300" y="6366"/>
                </a:lnTo>
              </a:path>
            </a:pathLst>
          </a:custGeom>
          <a:solidFill>
            <a:srgbClr val="ccccff"/>
          </a:solidFill>
          <a:ln w="44280">
            <a:solidFill>
              <a:srgbClr val="bef6fe"/>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txBox="1"/>
          <p:nvPr/>
        </p:nvSpPr>
        <p:spPr>
          <a:xfrm rot="21318000">
            <a:off x="0" y="902880"/>
            <a:ext cx="5433840" cy="4051440"/>
          </a:xfrm>
          <a:prstGeom prst="rect">
            <a:avLst/>
          </a:prstGeom>
        </p:spPr>
        <p:txBody>
          <a:bodyPr wrap="none" lIns="90000" rIns="90000" tIns="46800" bIns="46800" anchor="t" anchorCtr="1">
            <a:prstTxWarp prst="textArchUpPour">
              <a:avLst>
                <a:gd name="adj1" fmla="val 12950338"/>
                <a:gd name="adj2" fmla="val 54852"/>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Al-Homam"/>
              </a:rPr>
              <a:t>1-</a:t>
            </a:r>
            <a:r>
              <a:rPr b="0" lang="hi-IN" sz="1800" spc="1" strike="noStrike">
                <a:ln w="9360">
                  <a:solidFill>
                    <a:srgbClr val="000000"/>
                  </a:solidFill>
                  <a:miter/>
                </a:ln>
                <a:blipFill rotWithShape="0">
                  <a:blip r:embed="rId3"/>
                  <a:srcRect/>
                  <a:tile tx="0" ty="0" sx="100000" sy="100000" algn="ctr"/>
                </a:blipFill>
                <a:latin typeface="Al-Homam"/>
              </a:rPr>
              <a:t>معوقات الإدراكية</a:t>
            </a:r>
            <a:r>
              <a:rPr b="0" lang="en-US" sz="1800" spc="1" strike="noStrike">
                <a:ln w="9360">
                  <a:solidFill>
                    <a:srgbClr val="000000"/>
                  </a:solidFill>
                  <a:miter/>
                </a:ln>
                <a:blipFill rotWithShape="0">
                  <a:blip r:embed="rId4"/>
                  <a:srcRect/>
                  <a:tile tx="0" ty="0" sx="100000" sy="100000" algn="ctr"/>
                </a:blipFill>
                <a:latin typeface="Al-Homam"/>
              </a:rPr>
              <a:t> </a:t>
            </a:r>
            <a:endParaRPr b="0" lang="en-US" sz="1800" spc="1" strike="noStrike">
              <a:ln w="9360">
                <a:solidFill>
                  <a:srgbClr val="000000"/>
                </a:solidFill>
                <a:miter/>
              </a:ln>
              <a:blipFill rotWithShape="0">
                <a:blip r:embed="rId5"/>
                <a:srcRect/>
                <a:tile tx="0" ty="0" sx="100000" sy="100000" algn="ctr"/>
              </a:blipFill>
              <a:latin typeface="Al-Homam"/>
              <a:ea typeface="Al-Homam"/>
            </a:endParaRPr>
          </a:p>
        </p:txBody>
      </p:sp>
      <p:sp>
        <p:nvSpPr>
          <p:cNvPr id="139" name="Documents"/>
          <p:cNvSpPr/>
          <p:nvPr/>
        </p:nvSpPr>
        <p:spPr>
          <a:xfrm rot="20997000">
            <a:off x="345960" y="2421000"/>
            <a:ext cx="8469360" cy="3889440"/>
          </a:xfrm>
          <a:prstGeom prst="pie">
            <a:avLst/>
          </a:prstGeom>
          <a:gradFill rotWithShape="0">
            <a:gsLst>
              <a:gs pos="0">
                <a:srgbClr val="ffa800">
                  <a:alpha val="54117"/>
                </a:srgbClr>
              </a:gs>
              <a:gs pos="100000">
                <a:srgbClr val="825600"/>
              </a:gs>
            </a:gsLst>
            <a:lin ang="14106000"/>
          </a:gradFill>
          <a:ln w="12600">
            <a:solidFill>
              <a:srgbClr val="ff99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pPr algn="just"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500" spc="-1" strike="noStrike">
                <a:solidFill>
                  <a:srgbClr val="0000ff"/>
                </a:solidFill>
                <a:latin typeface="Arial"/>
                <a:cs typeface="AL-Mohanad"/>
              </a:rPr>
              <a:t>وتتمثل في تبني الإنسان طريقة واحدة للنظر إلى الأشياء أو الأمور فهو لا يدرك الشيء إلا من خلال أبعاد تحددها النظرة المقيدة التي تخفي عنه الخصائص الأخرى لهذا الشيء </a:t>
            </a:r>
            <a:endParaRPr b="0" lang="en-US" sz="4500" spc="-1" strike="noStrike">
              <a:solidFill>
                <a:srgbClr val="000000"/>
              </a:solidFill>
              <a:latin typeface="Arial"/>
            </a:endParaRPr>
          </a:p>
        </p:txBody>
      </p:sp>
      <p:pic>
        <p:nvPicPr>
          <p:cNvPr id="140" name="" descr="">
            <a:hlinkClick r:id="" action="ppaction://hlinkshowjump?jump=nextslide"/>
          </p:cNvPr>
          <p:cNvPicPr/>
          <p:nvPr/>
        </p:nvPicPr>
        <p:blipFill>
          <a:blip r:embed="rId6"/>
          <a:stretch/>
        </p:blipFill>
        <p:spPr>
          <a:xfrm>
            <a:off x="1692360" y="752400"/>
            <a:ext cx="1366920" cy="94788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5">
                                  <p:stCondLst>
                                    <p:cond delay="0"/>
                                  </p:stCondLst>
                                  <p:childTnLst>
                                    <p:set>
                                      <p:cBhvr>
                                        <p:cTn id="498" dur="1" fill="hold">
                                          <p:stCondLst>
                                            <p:cond delay="0"/>
                                          </p:stCondLst>
                                        </p:cTn>
                                        <p:tgtEl>
                                          <p:spTgt spid="137"/>
                                        </p:tgtEl>
                                        <p:attrNameLst>
                                          <p:attrName>style.visibility</p:attrName>
                                        </p:attrNameLst>
                                      </p:cBhvr>
                                      <p:to>
                                        <p:strVal val="visible"/>
                                      </p:to>
                                    </p:set>
                                    <p:anim calcmode="lin" valueType="num">
                                      <p:cBhvr additive="repl">
                                        <p:cTn id="499"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500"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501"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502" dur="1000" fill="hold"/>
                                        <p:tgtEl>
                                          <p:spTgt spid="137"/>
                                        </p:tgtEl>
                                        <p:attrNameLst>
                                          <p:attrName>ppt_h</p:attrName>
                                        </p:attrNameLst>
                                      </p:cBhvr>
                                      <p:tavLst>
                                        <p:tav tm="0">
                                          <p:val>
                                            <p:strVal val="#ppt_h"/>
                                          </p:val>
                                        </p:tav>
                                        <p:tav tm="100000">
                                          <p:val>
                                            <p:strVal val="#ppt_h"/>
                                          </p:val>
                                        </p:tav>
                                      </p:tavLst>
                                    </p:anim>
                                    <p:anim calcmode="lin" valueType="num">
                                      <p:cBhvr additive="repl">
                                        <p:cTn id="503"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504"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505"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506" dur="1000">
                                          <p:stCondLst>
                                            <p:cond delay="0"/>
                                          </p:stCondLst>
                                        </p:cTn>
                                        <p:tgtEl>
                                          <p:spTgt spid="137"/>
                                        </p:tgtEl>
                                      </p:cBhvr>
                                    </p:animEffect>
                                  </p:childTnLst>
                                </p:cTn>
                              </p:par>
                            </p:childTnLst>
                          </p:cTn>
                        </p:par>
                        <p:par>
                          <p:cTn id="507" fill="hold">
                            <p:stCondLst>
                              <p:cond delay="1000"/>
                            </p:stCondLst>
                            <p:childTnLst>
                              <p:par>
                                <p:cTn id="508" nodeType="afterEffect" fill="hold" presetClass="entr" presetID="1">
                                  <p:stCondLst>
                                    <p:cond delay="0"/>
                                  </p:stCondLst>
                                  <p:childTnLst>
                                    <p:set>
                                      <p:cBhvr>
                                        <p:cTn id="509" dur="1" fill="hold">
                                          <p:stCondLst>
                                            <p:cond delay="0"/>
                                          </p:stCondLst>
                                        </p:cTn>
                                        <p:tgtEl>
                                          <p:spTgt spid="140"/>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xit" presetID="10">
                                  <p:stCondLst>
                                    <p:cond delay="0"/>
                                  </p:stCondLst>
                                  <p:childTnLst>
                                    <p:animEffect filter="fade" transition="out">
                                      <p:cBhvr additive="repl">
                                        <p:cTn id="513" dur="2000"/>
                                        <p:tgtEl>
                                          <p:spTgt spid="140"/>
                                        </p:tgtEl>
                                      </p:cBhvr>
                                    </p:animEffect>
                                    <p:set>
                                      <p:cBhvr>
                                        <p:cTn id="514" dur="1" fill="hold">
                                          <p:stCondLst>
                                            <p:cond delay="1999"/>
                                          </p:stCondLst>
                                        </p:cTn>
                                        <p:tgtEl>
                                          <p:spTgt spid="140"/>
                                        </p:tgtEl>
                                        <p:attrNameLst>
                                          <p:attrName>style.visibility</p:attrName>
                                        </p:attrNameLst>
                                      </p:cBhvr>
                                      <p:to>
                                        <p:strVal val="hidden"/>
                                      </p:to>
                                    </p:set>
                                  </p:childTnLst>
                                </p:cTn>
                              </p:par>
                              <p:par>
                                <p:cTn id="515" nodeType="withEffect" fill="hold" presetClass="entr" presetID="51">
                                  <p:stCondLst>
                                    <p:cond delay="0"/>
                                  </p:stCondLst>
                                  <p:childTnLst>
                                    <p:set>
                                      <p:cBhvr>
                                        <p:cTn id="516" dur="1" fill="hold">
                                          <p:stCondLst>
                                            <p:cond delay="0"/>
                                          </p:stCondLst>
                                        </p:cTn>
                                        <p:tgtEl>
                                          <p:spTgt spid="138"/>
                                        </p:tgtEl>
                                        <p:attrNameLst>
                                          <p:attrName>style.visibility</p:attrName>
                                        </p:attrNameLst>
                                      </p:cBhvr>
                                      <p:to>
                                        <p:strVal val="visible"/>
                                      </p:to>
                                    </p:set>
                                    <p:animEffect filter="fade" transition="in">
                                      <p:cBhvr additive="repl">
                                        <p:cTn id="517" dur="770"/>
                                        <p:tgtEl>
                                          <p:spTgt spid="138"/>
                                        </p:tgtEl>
                                      </p:cBhvr>
                                    </p:animEffect>
                                    <p:animScale>
                                      <p:cBhvr>
                                        <p:cTn id="518" dur="770" fill="hold"/>
                                        <p:tgtEl>
                                          <p:spTgt spid="138"/>
                                        </p:tgtEl>
                                      </p:cBhvr>
                                      <p:from x="10000" y="10000"/>
                                      <p:to x="200000" y="450000"/>
                                    </p:animScale>
                                    <p:animScale>
                                      <p:cBhvr>
                                        <p:cTn id="519" dur="1230" fill="hold">
                                          <p:stCondLst>
                                            <p:cond delay="770"/>
                                          </p:stCondLst>
                                        </p:cTn>
                                        <p:tgtEl>
                                          <p:spTgt spid="138"/>
                                        </p:tgtEl>
                                      </p:cBhvr>
                                      <p:from x="200000" y="450000"/>
                                      <p:to x="100000" y="100000"/>
                                    </p:animScale>
                                    <p:set>
                                      <p:cBhvr>
                                        <p:cTn id="520" dur="770" fill="hold"/>
                                        <p:tgtEl>
                                          <p:spTgt spid="138"/>
                                        </p:tgtEl>
                                        <p:attrNameLst>
                                          <p:attrName>ppt_x</p:attrName>
                                        </p:attrNameLst>
                                      </p:cBhvr>
                                      <p:to>
                                        <p:strVal val="(0.5)"/>
                                      </p:to>
                                    </p:set>
                                    <p:anim calcmode="lin" valueType="num" from="(0.5)" to="(#ppt_x)">
                                      <p:cBhvr additive="repl">
                                        <p:cTn id="521" dur="1230" fill="hold">
                                          <p:stCondLst>
                                            <p:cond delay="770"/>
                                          </p:stCondLst>
                                        </p:cTn>
                                        <p:tgtEl>
                                          <p:spTgt spid="138"/>
                                        </p:tgtEl>
                                        <p:attrNameLst>
                                          <p:attrName>ppt_x</p:attrName>
                                        </p:attrNameLst>
                                      </p:cBhvr>
                                    </p:anim>
                                    <p:set>
                                      <p:cBhvr>
                                        <p:cTn id="522" dur="770" fill="hold"/>
                                        <p:tgtEl>
                                          <p:spTgt spid="138"/>
                                        </p:tgtEl>
                                        <p:attrNameLst>
                                          <p:attrName>ppt_y</p:attrName>
                                        </p:attrNameLst>
                                      </p:cBhvr>
                                      <p:to>
                                        <p:strVal val="(#ppt_y+0.4)"/>
                                      </p:to>
                                    </p:set>
                                    <p:anim calcmode="lin" valueType="num" from="(#ppt_y+0.4)" to="(#ppt_y)">
                                      <p:cBhvr additive="repl">
                                        <p:cTn id="523" dur="1230" fill="hold">
                                          <p:stCondLst>
                                            <p:cond delay="770"/>
                                          </p:stCondLst>
                                        </p:cTn>
                                        <p:tgtEl>
                                          <p:spTgt spid="138"/>
                                        </p:tgtEl>
                                        <p:attrNameLst>
                                          <p:attrName>ppt_y</p:attrName>
                                        </p:attrNameLst>
                                      </p:cBhvr>
                                    </p:anim>
                                  </p:childTnLst>
                                </p:cTn>
                              </p:par>
                            </p:childTnLst>
                          </p:cTn>
                        </p:par>
                        <p:par>
                          <p:cTn id="524" fill="hold">
                            <p:stCondLst>
                              <p:cond delay="2000"/>
                            </p:stCondLst>
                            <p:childTnLst>
                              <p:par>
                                <p:cTn id="525" nodeType="afterEffect" fill="hold" presetClass="emph" presetID="35" repeatCount="indefinite">
                                  <p:stCondLst>
                                    <p:cond delay="0"/>
                                  </p:stCondLst>
                                  <p:childTnLst>
                                    <p:anim calcmode="discrete" valueType="num">
                                      <p:cBhvr additive="repl">
                                        <p:cTn id="526" dur="1000" fill="hold"/>
                                        <p:tgtEl>
                                          <p:spTgt spid="138"/>
                                        </p:tgtEl>
                                        <p:attrNameLst>
                                          <p:attrName>style.visibility</p:attrName>
                                        </p:attrNameLst>
                                      </p:cBhvr>
                                      <p:tavLst>
                                        <p:tav tm="0">
                                          <p:val>
                                            <p:strVal val="hidden"/>
                                          </p:val>
                                        </p:tav>
                                        <p:tav tm="50000">
                                          <p:val>
                                            <p:strVal val="visible"/>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56">
                                  <p:stCondLst>
                                    <p:cond delay="0"/>
                                  </p:stCondLst>
                                  <p:iterate type="lt">
                                    <p:tmAbs val="100"/>
                                  </p:iterate>
                                  <p:childTnLst>
                                    <p:set>
                                      <p:cBhvr>
                                        <p:cTn id="530" dur="1" fill="hold">
                                          <p:stCondLst>
                                            <p:cond delay="0"/>
                                          </p:stCondLst>
                                        </p:cTn>
                                        <p:tgtEl>
                                          <p:spTgt spid="139"/>
                                        </p:tgtEl>
                                        <p:attrNameLst>
                                          <p:attrName>style.visibility</p:attrName>
                                        </p:attrNameLst>
                                      </p:cBhvr>
                                      <p:to>
                                        <p:strVal val="visible"/>
                                      </p:to>
                                    </p:set>
                                    <p:anim calcmode="lin" valueType="num" by="(-#ppt_w*2)">
                                      <p:cBhvr additive="repl">
                                        <p:cTn id="531" dur="500" autoRev="1" fill="hold">
                                          <p:stCondLst>
                                            <p:cond delay="0"/>
                                          </p:stCondLst>
                                        </p:cTn>
                                        <p:tgtEl>
                                          <p:spTgt spid="139"/>
                                        </p:tgtEl>
                                        <p:attrNameLst>
                                          <p:attrName>ppt_w</p:attrName>
                                        </p:attrNameLst>
                                      </p:cBhvr>
                                    </p:anim>
                                    <p:anim calcmode="lin" valueType="num" by="(#ppt_w*0.50)">
                                      <p:cBhvr additive="repl">
                                        <p:cTn id="532" dur="500" autoRev="1" fill="hold">
                                          <p:stCondLst>
                                            <p:cond delay="0"/>
                                          </p:stCondLst>
                                        </p:cTn>
                                        <p:tgtEl>
                                          <p:spTgt spid="139"/>
                                        </p:tgtEl>
                                        <p:attrNameLst>
                                          <p:attrName>ppt_x</p:attrName>
                                        </p:attrNameLst>
                                      </p:cBhvr>
                                    </p:anim>
                                    <p:anim calcmode="lin" valueType="num" from="(-#ppt_h/2)" to="(#ppt_y)">
                                      <p:cBhvr additive="repl">
                                        <p:cTn id="533" dur="1000" fill="hold">
                                          <p:stCondLst>
                                            <p:cond delay="0"/>
                                          </p:stCondLst>
                                        </p:cTn>
                                        <p:tgtEl>
                                          <p:spTgt spid="139"/>
                                        </p:tgtEl>
                                        <p:attrNameLst>
                                          <p:attrName>ppt_y</p:attrName>
                                        </p:attrNameLst>
                                      </p:cBhvr>
                                    </p:anim>
                                    <p:animRot by="21600000">
                                      <p:cBhvr>
                                        <p:cTn id="534" dur="1000" fill="hold">
                                          <p:stCondLst>
                                            <p:cond delay="0"/>
                                          </p:stCondLst>
                                        </p:cTn>
                                        <p:tgtEl>
                                          <p:spTgt spid="139"/>
                                        </p:tgtEl>
                                        <p:attrNameLst>
                                          <p:attrName>r</p:attrName>
                                        </p:attrNameLst>
                                      </p:cBhvr>
                                    </p:animRo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56">
                                  <p:stCondLst>
                                    <p:cond delay="0"/>
                                  </p:stCondLst>
                                  <p:iterate type="wd">
                                    <p:tmAbs val="100"/>
                                  </p:iterate>
                                  <p:childTnLst>
                                    <p:set>
                                      <p:cBhvr>
                                        <p:cTn id="538" dur="1" fill="hold">
                                          <p:stCondLst>
                                            <p:cond delay="0"/>
                                          </p:stCondLst>
                                        </p:cTn>
                                        <p:tgtEl>
                                          <p:spTgt spid="139">
                                            <p:txEl>
                                              <p:pRg st="0" end="0"/>
                                            </p:txEl>
                                          </p:spTgt>
                                        </p:tgtEl>
                                        <p:attrNameLst>
                                          <p:attrName>style.visibility</p:attrName>
                                        </p:attrNameLst>
                                      </p:cBhvr>
                                      <p:to>
                                        <p:strVal val="visible"/>
                                      </p:to>
                                    </p:set>
                                    <p:anim calcmode="lin" valueType="num" by="(-#ppt_w*2)">
                                      <p:cBhvr additive="repl">
                                        <p:cTn id="539" dur="500" autoRev="1" fill="hold">
                                          <p:stCondLst>
                                            <p:cond delay="0"/>
                                          </p:stCondLst>
                                        </p:cTn>
                                        <p:tgtEl>
                                          <p:spTgt spid="139">
                                            <p:txEl>
                                              <p:pRg st="0" end="0"/>
                                            </p:txEl>
                                          </p:spTgt>
                                        </p:tgtEl>
                                        <p:attrNameLst>
                                          <p:attrName>ppt_w</p:attrName>
                                        </p:attrNameLst>
                                      </p:cBhvr>
                                    </p:anim>
                                    <p:anim calcmode="lin" valueType="num" by="(#ppt_w*0.50)">
                                      <p:cBhvr additive="repl">
                                        <p:cTn id="540" dur="500" autoRev="1" fill="hold">
                                          <p:stCondLst>
                                            <p:cond delay="0"/>
                                          </p:stCondLst>
                                        </p:cTn>
                                        <p:tgtEl>
                                          <p:spTgt spid="139">
                                            <p:txEl>
                                              <p:pRg st="0" end="0"/>
                                            </p:txEl>
                                          </p:spTgt>
                                        </p:tgtEl>
                                        <p:attrNameLst>
                                          <p:attrName>ppt_x</p:attrName>
                                        </p:attrNameLst>
                                      </p:cBhvr>
                                    </p:anim>
                                    <p:anim calcmode="lin" valueType="num" from="(-#ppt_h/2)" to="(#ppt_y)">
                                      <p:cBhvr additive="repl">
                                        <p:cTn id="541" dur="1000" fill="hold">
                                          <p:stCondLst>
                                            <p:cond delay="0"/>
                                          </p:stCondLst>
                                        </p:cTn>
                                        <p:tgtEl>
                                          <p:spTgt spid="139">
                                            <p:txEl>
                                              <p:pRg st="0" end="0"/>
                                            </p:txEl>
                                          </p:spTgt>
                                        </p:tgtEl>
                                        <p:attrNameLst>
                                          <p:attrName>ppt_y</p:attrName>
                                        </p:attrNameLst>
                                      </p:cBhvr>
                                    </p:anim>
                                    <p:animRot by="21600000">
                                      <p:cBhvr>
                                        <p:cTn id="542" dur="1000" fill="hold">
                                          <p:stCondLst>
                                            <p:cond delay="0"/>
                                          </p:stCondLst>
                                        </p:cTn>
                                        <p:tgtEl>
                                          <p:spTgt spid="13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rot="20987400">
            <a:off x="2703240" y="1341360"/>
            <a:ext cx="5467320" cy="5040360"/>
          </a:xfrm>
          <a:prstGeom prst="foldedCorner">
            <a:avLst>
              <a:gd name="adj" fmla="val 28189"/>
            </a:avLst>
          </a:prstGeom>
          <a:gradFill rotWithShape="0">
            <a:gsLst>
              <a:gs pos="0">
                <a:srgbClr val="000000"/>
              </a:gs>
              <a:gs pos="50000">
                <a:srgbClr val="ffcc66"/>
              </a:gs>
              <a:gs pos="100000">
                <a:srgbClr val="000000"/>
              </a:gs>
            </a:gsLst>
            <a:lin ang="14112000"/>
          </a:gradFill>
          <a:ln w="0">
            <a:noFill/>
          </a:ln>
        </p:spPr>
        <p:style>
          <a:lnRef idx="0"/>
          <a:fillRef idx="0"/>
          <a:effectRef idx="0"/>
          <a:fontRef idx="minor"/>
        </p:style>
        <p:txBody>
          <a:bodyPr lIns="180000" rIns="180000" tIns="180000" bIns="180000" anchor="t">
            <a:noAutofit/>
          </a:bodyPr>
          <a:p>
            <a:pPr algn="just"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ff"/>
                </a:solidFill>
                <a:latin typeface="Arial"/>
                <a:cs typeface="AL-Mohanad"/>
              </a:rPr>
              <a:t>وتتمثل بالخوف من الفشل ، ويرجع هذا إلى عدم ثقة الفرد بنفسه وقدرته على ابتكار أفكار جديدة وإقناع الآخرين بها ، وللتغلب على هذا العائق يجب أن يدعم الإنسان ثقته بنفسه وقدراته على الإبداع وبأنه لا يقل كثيراً في قدراته ومواهبه</a:t>
            </a:r>
            <a:r>
              <a:rPr b="1" lang="en-US" sz="4000" spc="-1" strike="noStrike">
                <a:solidFill>
                  <a:srgbClr val="ffffff"/>
                </a:solidFill>
                <a:latin typeface="Arial"/>
                <a:ea typeface="AL-Mohanad"/>
              </a:rPr>
              <a:t>      </a:t>
            </a:r>
            <a:r>
              <a:rPr b="1" lang="en-US" sz="4000" spc="-1" strike="noStrike">
                <a:solidFill>
                  <a:srgbClr val="ffcc66"/>
                </a:solidFill>
                <a:latin typeface="Arial"/>
                <a:ea typeface="AL-Mohanad"/>
              </a:rPr>
              <a:t>0</a:t>
            </a:r>
            <a:r>
              <a:rPr b="1" lang="en-US" sz="4000" spc="-1" strike="noStrike">
                <a:solidFill>
                  <a:srgbClr val="ffffff"/>
                </a:solidFill>
                <a:latin typeface="Arial"/>
                <a:ea typeface="AL-Mohanad"/>
              </a:rPr>
              <a:t>     </a:t>
            </a:r>
            <a:r>
              <a:rPr b="1" lang="hi-IN" sz="4000" spc="-1" strike="noStrike">
                <a:solidFill>
                  <a:srgbClr val="0000ff"/>
                </a:solidFill>
                <a:latin typeface="Arial"/>
                <a:cs typeface="AL-Mohanad"/>
              </a:rPr>
              <a:t>عن العديد من العلماء</a:t>
            </a:r>
            <a:r>
              <a:rPr b="1" lang="en-US" sz="4000" spc="-1" strike="noStrike">
                <a:solidFill>
                  <a:srgbClr val="ffffff"/>
                </a:solidFill>
                <a:latin typeface="Arial"/>
                <a:ea typeface="AL-Mohanad"/>
              </a:rPr>
              <a:t>             </a:t>
            </a:r>
            <a:r>
              <a:rPr b="1" lang="en-US" sz="4000" spc="-1" strike="noStrike">
                <a:solidFill>
                  <a:srgbClr val="000000"/>
                </a:solidFill>
                <a:latin typeface="Arial"/>
                <a:ea typeface="AL-Mohanad"/>
              </a:rPr>
              <a:t>0</a:t>
            </a:r>
            <a:r>
              <a:rPr b="1" lang="en-US" sz="4000" spc="-1" strike="noStrike">
                <a:solidFill>
                  <a:srgbClr val="ff0066"/>
                </a:solidFill>
                <a:latin typeface="Arial"/>
                <a:ea typeface="AL-Mohanad"/>
              </a:rPr>
              <a:t> </a:t>
            </a:r>
            <a:r>
              <a:rPr b="1" lang="en-US" sz="4000" spc="-1" strike="noStrike">
                <a:solidFill>
                  <a:srgbClr val="ffffff"/>
                </a:solidFill>
                <a:latin typeface="Arial"/>
                <a:ea typeface="AL-Mohanad"/>
              </a:rPr>
              <a:t>     </a:t>
            </a:r>
            <a:r>
              <a:rPr b="1" lang="hi-IN" sz="4000" spc="-1" strike="noStrike">
                <a:solidFill>
                  <a:srgbClr val="0000ff"/>
                </a:solidFill>
                <a:latin typeface="Arial"/>
                <a:cs typeface="AL-Mohanad"/>
              </a:rPr>
              <a:t>الذين أبدعوا واخترعوا</a:t>
            </a:r>
            <a:r>
              <a:rPr b="1" lang="en-US" sz="4000" spc="-1" strike="noStrike">
                <a:solidFill>
                  <a:srgbClr val="ffffff"/>
                </a:solidFill>
                <a:latin typeface="Arial"/>
                <a:ea typeface="AL-Mohanad"/>
              </a:rPr>
              <a:t>                    </a:t>
            </a:r>
            <a:r>
              <a:rPr b="1" lang="en-US" sz="4000" spc="-1" strike="noStrike">
                <a:solidFill>
                  <a:srgbClr val="ff0000"/>
                </a:solidFill>
                <a:latin typeface="Arial"/>
                <a:ea typeface="AL-Mohanad"/>
              </a:rPr>
              <a:t>0</a:t>
            </a:r>
            <a:r>
              <a:rPr b="1" lang="en-US" sz="4000" spc="-1" strike="noStrike">
                <a:solidFill>
                  <a:srgbClr val="ffffff"/>
                </a:solidFill>
                <a:latin typeface="Arial"/>
                <a:ea typeface="AL-Mohanad"/>
              </a:rPr>
              <a:t>           </a:t>
            </a:r>
            <a:r>
              <a:rPr b="1" lang="hi-IN" sz="4000" spc="-1" strike="noStrike">
                <a:solidFill>
                  <a:srgbClr val="0000ff"/>
                </a:solidFill>
                <a:latin typeface="Arial"/>
                <a:cs typeface="AL-Mohanad"/>
              </a:rPr>
              <a:t>واكتشفوا </a:t>
            </a:r>
            <a:r>
              <a:rPr b="1" lang="en-US" sz="4000" spc="-1" strike="noStrike">
                <a:solidFill>
                  <a:srgbClr val="0000ff"/>
                </a:solidFill>
                <a:latin typeface="Arial"/>
                <a:ea typeface="AL-Mohanad"/>
              </a:rPr>
              <a:t>0</a:t>
            </a:r>
            <a:r>
              <a:rPr b="1" lang="en-US" sz="4000" spc="-1" strike="noStrike">
                <a:solidFill>
                  <a:srgbClr val="ff0000"/>
                </a:solidFill>
                <a:latin typeface="Arial"/>
                <a:ea typeface="AL-Mohanad"/>
              </a:rPr>
              <a:t> </a:t>
            </a:r>
            <a:endParaRPr b="0" lang="en-US" sz="4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DiagonalStripe"/>
          <p:cNvSpPr/>
          <p:nvPr/>
        </p:nvSpPr>
        <p:spPr>
          <a:xfrm>
            <a:off x="0" y="836640"/>
            <a:ext cx="3924360" cy="3313080"/>
          </a:xfrm>
          <a:custGeom>
            <a:avLst/>
            <a:gdLst>
              <a:gd name="textAreaLeft" fmla="*/ 0 w 3924360"/>
              <a:gd name="textAreaRight" fmla="*/ 3138480 w 3924360"/>
              <a:gd name="textAreaTop" fmla="*/ 0 h 3313080"/>
              <a:gd name="textAreaBottom" fmla="*/ 2649600 h 3313080"/>
            </a:gdLst>
            <a:ahLst/>
            <a:rect l="textAreaLeft" t="textAreaTop" r="textAreaRight" b="textAreaBottom"/>
            <a:pathLst>
              <a:path w="21600" h="21600">
                <a:moveTo>
                  <a:pt x="12948" y="0"/>
                </a:moveTo>
                <a:lnTo>
                  <a:pt x="0" y="12948"/>
                </a:lnTo>
              </a:path>
              <a:path w="21600" h="21600">
                <a:moveTo>
                  <a:pt x="0" y="21600"/>
                </a:moveTo>
                <a:lnTo>
                  <a:pt x="21600" y="0"/>
                </a:ln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rot="19154400">
            <a:off x="-76320" y="1738800"/>
            <a:ext cx="37684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Al-Homam"/>
              </a:rPr>
              <a:t>2</a:t>
            </a:r>
            <a:r>
              <a:rPr b="0" lang="en-US" sz="4000" spc="-1" strike="noStrike">
                <a:solidFill>
                  <a:srgbClr val="ff0000"/>
                </a:solidFill>
                <a:latin typeface="Arial"/>
                <a:ea typeface="Al-Homam"/>
              </a:rPr>
              <a:t>-العوائق النفسية</a:t>
            </a:r>
            <a:r>
              <a:rPr b="0" lang="en-US" sz="4800" spc="-1" strike="noStrike">
                <a:solidFill>
                  <a:srgbClr val="ff0000"/>
                </a:solidFill>
                <a:latin typeface="Arial"/>
                <a:ea typeface="Al-Homam"/>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56">
                                  <p:stCondLst>
                                    <p:cond delay="0"/>
                                  </p:stCondLst>
                                  <p:iterate type="lt">
                                    <p:tmAbs val="100"/>
                                  </p:iterate>
                                  <p:childTnLst>
                                    <p:set>
                                      <p:cBhvr>
                                        <p:cTn id="548" dur="1" fill="hold">
                                          <p:stCondLst>
                                            <p:cond delay="0"/>
                                          </p:stCondLst>
                                        </p:cTn>
                                        <p:tgtEl>
                                          <p:spTgt spid="142"/>
                                        </p:tgtEl>
                                        <p:attrNameLst>
                                          <p:attrName>style.visibility</p:attrName>
                                        </p:attrNameLst>
                                      </p:cBhvr>
                                      <p:to>
                                        <p:strVal val="visible"/>
                                      </p:to>
                                    </p:set>
                                    <p:anim calcmode="lin" valueType="num" by="(-#ppt_w*2)">
                                      <p:cBhvr additive="repl">
                                        <p:cTn id="549" dur="500" autoRev="1" fill="hold">
                                          <p:stCondLst>
                                            <p:cond delay="0"/>
                                          </p:stCondLst>
                                        </p:cTn>
                                        <p:tgtEl>
                                          <p:spTgt spid="142"/>
                                        </p:tgtEl>
                                        <p:attrNameLst>
                                          <p:attrName>ppt_w</p:attrName>
                                        </p:attrNameLst>
                                      </p:cBhvr>
                                    </p:anim>
                                    <p:anim calcmode="lin" valueType="num" by="(#ppt_w*0.50)">
                                      <p:cBhvr additive="repl">
                                        <p:cTn id="550" dur="500" autoRev="1" fill="hold">
                                          <p:stCondLst>
                                            <p:cond delay="0"/>
                                          </p:stCondLst>
                                        </p:cTn>
                                        <p:tgtEl>
                                          <p:spTgt spid="142"/>
                                        </p:tgtEl>
                                        <p:attrNameLst>
                                          <p:attrName>ppt_x</p:attrName>
                                        </p:attrNameLst>
                                      </p:cBhvr>
                                    </p:anim>
                                    <p:anim calcmode="lin" valueType="num" from="(-#ppt_h/2)" to="(#ppt_y)">
                                      <p:cBhvr additive="repl">
                                        <p:cTn id="551" dur="1000" fill="hold">
                                          <p:stCondLst>
                                            <p:cond delay="0"/>
                                          </p:stCondLst>
                                        </p:cTn>
                                        <p:tgtEl>
                                          <p:spTgt spid="142"/>
                                        </p:tgtEl>
                                        <p:attrNameLst>
                                          <p:attrName>ppt_y</p:attrName>
                                        </p:attrNameLst>
                                      </p:cBhvr>
                                    </p:anim>
                                    <p:animRot by="21600000">
                                      <p:cBhvr>
                                        <p:cTn id="552" dur="1000" fill="hold">
                                          <p:stCondLst>
                                            <p:cond delay="0"/>
                                          </p:stCondLst>
                                        </p:cTn>
                                        <p:tgtEl>
                                          <p:spTgt spid="142"/>
                                        </p:tgtEl>
                                        <p:attrNameLst>
                                          <p:attrName>r</p:attrName>
                                        </p:attrNameLst>
                                      </p:cBhvr>
                                    </p:animRo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6">
                                  <p:stCondLst>
                                    <p:cond delay="0"/>
                                  </p:stCondLst>
                                  <p:iterate type="lt">
                                    <p:tmAbs val="0"/>
                                  </p:iterate>
                                  <p:childTnLst>
                                    <p:set>
                                      <p:cBhvr>
                                        <p:cTn id="556" dur="1" fill="hold">
                                          <p:stCondLst>
                                            <p:cond delay="0"/>
                                          </p:stCondLst>
                                        </p:cTn>
                                        <p:tgtEl>
                                          <p:spTgt spid="143">
                                            <p:txEl>
                                              <p:pRg st="0" end="0"/>
                                            </p:txEl>
                                          </p:spTgt>
                                        </p:tgtEl>
                                        <p:attrNameLst>
                                          <p:attrName>style.visibility</p:attrName>
                                        </p:attrNameLst>
                                      </p:cBhvr>
                                      <p:to>
                                        <p:strVal val="visible"/>
                                      </p:to>
                                    </p:set>
                                    <p:animEffect filter="wipe(down)" transition="in">
                                      <p:cBhvr additive="repl">
                                        <p:cTn id="557" dur="580">
                                          <p:stCondLst>
                                            <p:cond delay="0"/>
                                          </p:stCondLst>
                                        </p:cTn>
                                        <p:tgtEl>
                                          <p:spTgt spid="143">
                                            <p:txEl>
                                              <p:pRg st="0" end="0"/>
                                            </p:txEl>
                                          </p:spTgt>
                                        </p:tgtEl>
                                      </p:cBhvr>
                                    </p:animEffect>
                                    <p:anim calcmode="lin" valueType="num">
                                      <p:cBhvr additive="repl">
                                        <p:cTn id="558" dur="1822">
                                          <p:stCondLst>
                                            <p:cond delay="0"/>
                                          </p:stCondLst>
                                        </p:cTn>
                                        <p:tgtEl>
                                          <p:spTgt spid="143">
                                            <p:txEl>
                                              <p:pRg st="0" end="0"/>
                                            </p:txEl>
                                          </p:spTgt>
                                        </p:tgtEl>
                                        <p:attrNameLst>
                                          <p:attrName>ppt_x</p:attrName>
                                        </p:attrNameLst>
                                      </p:cBhvr>
                                      <p:tavLst>
                                        <p:tav tm="0">
                                          <p:val>
                                            <p:strVal val="#ppt_x-0.25"/>
                                          </p:val>
                                        </p:tav>
                                        <p:tav tm="100000">
                                          <p:val>
                                            <p:strVal val="#ppt_x"/>
                                          </p:val>
                                        </p:tav>
                                      </p:tavLst>
                                    </p:anim>
                                    <p:anim calcmode="lin" valueType="num">
                                      <p:cBhvr additive="repl">
                                        <p:cTn id="559" dur="664">
                                          <p:stCondLst>
                                            <p:cond delay="0"/>
                                          </p:stCondLst>
                                        </p:cTn>
                                        <p:tgtEl>
                                          <p:spTgt spid="143">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60" dur="664">
                                          <p:stCondLst>
                                            <p:cond delay="664"/>
                                          </p:stCondLst>
                                        </p:cTn>
                                        <p:tgtEl>
                                          <p:spTgt spid="143">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61" dur="332">
                                          <p:stCondLst>
                                            <p:cond delay="1324"/>
                                          </p:stCondLst>
                                        </p:cTn>
                                        <p:tgtEl>
                                          <p:spTgt spid="143">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62" dur="164">
                                          <p:stCondLst>
                                            <p:cond delay="1656"/>
                                          </p:stCondLst>
                                        </p:cTn>
                                        <p:tgtEl>
                                          <p:spTgt spid="143">
                                            <p:txEl>
                                              <p:pRg st="0" end="0"/>
                                            </p:txEl>
                                          </p:spTgt>
                                        </p:tgtEl>
                                        <p:attrNameLst>
                                          <p:attrName>ppt_y</p:attrName>
                                        </p:attrNameLst>
                                      </p:cBhvr>
                                      <p:tavLst>
                                        <p:tav fmla="y-sin(pi*$)/81" tm="0">
                                          <p:val>
                                            <p:fltVal val="0"/>
                                          </p:val>
                                        </p:tav>
                                        <p:tav fmla="y-sin(pi*$)/81" tm="100000">
                                          <p:val>
                                            <p:fltVal val="1"/>
                                          </p:val>
                                        </p:tav>
                                      </p:tavLst>
                                    </p:anim>
                                    <p:animScale>
                                      <p:cBhvr>
                                        <p:cTn id="563" dur="26" fill="hold">
                                          <p:stCondLst>
                                            <p:cond delay="650"/>
                                          </p:stCondLst>
                                        </p:cTn>
                                        <p:tgtEl>
                                          <p:spTgt spid="143">
                                            <p:txEl>
                                              <p:pRg st="0" end="0"/>
                                            </p:txEl>
                                          </p:spTgt>
                                        </p:tgtEl>
                                      </p:cBhvr>
                                      <p:to x="100000" y="60000"/>
                                    </p:animScale>
                                    <p:animScale>
                                      <p:cBhvr>
                                        <p:cTn id="564" dur="166" fill="hold">
                                          <p:stCondLst>
                                            <p:cond delay="676"/>
                                          </p:stCondLst>
                                        </p:cTn>
                                        <p:tgtEl>
                                          <p:spTgt spid="143">
                                            <p:txEl>
                                              <p:pRg st="0" end="0"/>
                                            </p:txEl>
                                          </p:spTgt>
                                        </p:tgtEl>
                                      </p:cBhvr>
                                      <p:to x="100000" y="100000"/>
                                    </p:animScale>
                                    <p:animScale>
                                      <p:cBhvr>
                                        <p:cTn id="565" dur="26" fill="hold">
                                          <p:stCondLst>
                                            <p:cond delay="1312"/>
                                          </p:stCondLst>
                                        </p:cTn>
                                        <p:tgtEl>
                                          <p:spTgt spid="143">
                                            <p:txEl>
                                              <p:pRg st="0" end="0"/>
                                            </p:txEl>
                                          </p:spTgt>
                                        </p:tgtEl>
                                      </p:cBhvr>
                                      <p:to x="100000" y="80000"/>
                                    </p:animScale>
                                    <p:animScale>
                                      <p:cBhvr>
                                        <p:cTn id="566" dur="166" fill="hold">
                                          <p:stCondLst>
                                            <p:cond delay="1338"/>
                                          </p:stCondLst>
                                        </p:cTn>
                                        <p:tgtEl>
                                          <p:spTgt spid="143">
                                            <p:txEl>
                                              <p:pRg st="0" end="0"/>
                                            </p:txEl>
                                          </p:spTgt>
                                        </p:tgtEl>
                                      </p:cBhvr>
                                      <p:to x="100000" y="100000"/>
                                    </p:animScale>
                                    <p:animScale>
                                      <p:cBhvr>
                                        <p:cTn id="567" dur="26" fill="hold">
                                          <p:stCondLst>
                                            <p:cond delay="1642"/>
                                          </p:stCondLst>
                                        </p:cTn>
                                        <p:tgtEl>
                                          <p:spTgt spid="143">
                                            <p:txEl>
                                              <p:pRg st="0" end="0"/>
                                            </p:txEl>
                                          </p:spTgt>
                                        </p:tgtEl>
                                      </p:cBhvr>
                                      <p:to x="100000" y="90000"/>
                                    </p:animScale>
                                    <p:animScale>
                                      <p:cBhvr>
                                        <p:cTn id="568" dur="166" fill="hold">
                                          <p:stCondLst>
                                            <p:cond delay="1668"/>
                                          </p:stCondLst>
                                        </p:cTn>
                                        <p:tgtEl>
                                          <p:spTgt spid="143">
                                            <p:txEl>
                                              <p:pRg st="0" end="0"/>
                                            </p:txEl>
                                          </p:spTgt>
                                        </p:tgtEl>
                                      </p:cBhvr>
                                      <p:to x="100000" y="100000"/>
                                    </p:animScale>
                                    <p:animScale>
                                      <p:cBhvr>
                                        <p:cTn id="569" dur="26" fill="hold">
                                          <p:stCondLst>
                                            <p:cond delay="1808"/>
                                          </p:stCondLst>
                                        </p:cTn>
                                        <p:tgtEl>
                                          <p:spTgt spid="143">
                                            <p:txEl>
                                              <p:pRg st="0" end="0"/>
                                            </p:txEl>
                                          </p:spTgt>
                                        </p:tgtEl>
                                      </p:cBhvr>
                                      <p:to x="100000" y="95000"/>
                                    </p:animScale>
                                    <p:animScale>
                                      <p:cBhvr>
                                        <p:cTn id="570" dur="166" fill="hold">
                                          <p:stCondLst>
                                            <p:cond delay="1834"/>
                                          </p:stCondLst>
                                        </p:cTn>
                                        <p:tgtEl>
                                          <p:spTgt spid="143">
                                            <p:txEl>
                                              <p:pRg st="0" end="0"/>
                                            </p:txEl>
                                          </p:spTgt>
                                        </p:tgtEl>
                                      </p:cBhvr>
                                      <p:to x="100000" y="100000"/>
                                    </p:animScale>
                                  </p:childTnLst>
                                </p:cTn>
                              </p:par>
                            </p:childTnLst>
                          </p:cTn>
                        </p:par>
                        <p:par>
                          <p:cTn id="571" fill="hold">
                            <p:stCondLst>
                              <p:cond delay="2000"/>
                            </p:stCondLst>
                            <p:childTnLst>
                              <p:par>
                                <p:cTn id="572" nodeType="afterEffect" fill="hold" presetClass="emph" presetID="36" repeatCount="indefinite">
                                  <p:stCondLst>
                                    <p:cond delay="0"/>
                                  </p:stCondLst>
                                  <p:iterate type="lt">
                                    <p:tmAbs val="25"/>
                                  </p:iterate>
                                  <p:childTnLst>
                                    <p:animScale>
                                      <p:cBhvr>
                                        <p:cTn id="573" dur="250" autoRev="1" fill="hold">
                                          <p:stCondLst>
                                            <p:cond delay="0"/>
                                          </p:stCondLst>
                                        </p:cTn>
                                        <p:tgtEl>
                                          <p:spTgt spid="143">
                                            <p:txEl>
                                              <p:pRg st="0" end="0"/>
                                            </p:txEl>
                                          </p:spTgt>
                                        </p:tgtEl>
                                      </p:cBhvr>
                                      <p:to x="80000" y="100000"/>
                                    </p:animScale>
                                    <p:anim calcmode="lin" valueType="num" by="(#ppt_w*0.10)">
                                      <p:cBhvr additive="repl">
                                        <p:cTn id="574" dur="250" autoRev="1" fill="hold">
                                          <p:stCondLst>
                                            <p:cond delay="0"/>
                                          </p:stCondLst>
                                        </p:cTn>
                                        <p:tgtEl>
                                          <p:spTgt spid="143">
                                            <p:txEl>
                                              <p:pRg st="0" end="0"/>
                                            </p:txEl>
                                          </p:spTgt>
                                        </p:tgtEl>
                                        <p:attrNameLst>
                                          <p:attrName>ppt_x</p:attrName>
                                        </p:attrNameLst>
                                      </p:cBhvr>
                                    </p:anim>
                                    <p:anim calcmode="lin" valueType="num" by="(-#ppt_w*0.10)">
                                      <p:cBhvr additive="repl">
                                        <p:cTn id="575" dur="250" autoRev="1" fill="hold">
                                          <p:stCondLst>
                                            <p:cond delay="0"/>
                                          </p:stCondLst>
                                        </p:cTn>
                                        <p:tgtEl>
                                          <p:spTgt spid="143">
                                            <p:txEl>
                                              <p:pRg st="0" end="0"/>
                                            </p:txEl>
                                          </p:spTgt>
                                        </p:tgtEl>
                                        <p:attrNameLst>
                                          <p:attrName>ppt_y</p:attrName>
                                        </p:attrNameLst>
                                      </p:cBhvr>
                                    </p:anim>
                                    <p:animRot by="-480000">
                                      <p:cBhvr>
                                        <p:cTn id="576" dur="250" autoRev="1" fill="hold">
                                          <p:stCondLst>
                                            <p:cond delay="0"/>
                                          </p:stCondLst>
                                        </p:cTn>
                                        <p:tgtEl>
                                          <p:spTgt spid="143">
                                            <p:txEl>
                                              <p:pRg st="0" end="0"/>
                                            </p:txEl>
                                          </p:spTgt>
                                        </p:tgtEl>
                                        <p:attrNameLst>
                                          <p:attrName>r</p:attrName>
                                        </p:attrNameLst>
                                      </p:cBhvr>
                                    </p:animRo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0">
                                  <p:stCondLst>
                                    <p:cond delay="0"/>
                                  </p:stCondLst>
                                  <p:iterate type="lt">
                                    <p:tmAbs val="100"/>
                                  </p:iterate>
                                  <p:childTnLst>
                                    <p:set>
                                      <p:cBhvr>
                                        <p:cTn id="580" dur="1" fill="hold">
                                          <p:stCondLst>
                                            <p:cond delay="0"/>
                                          </p:stCondLst>
                                        </p:cTn>
                                        <p:tgtEl>
                                          <p:spTgt spid="141"/>
                                        </p:tgtEl>
                                        <p:attrNameLst>
                                          <p:attrName>style.visibility</p:attrName>
                                        </p:attrNameLst>
                                      </p:cBhvr>
                                      <p:to>
                                        <p:strVal val="visible"/>
                                      </p:to>
                                    </p:set>
                                    <p:animEffect filter="fade" transition="in">
                                      <p:cBhvr additive="repl">
                                        <p:cTn id="581" dur="1000"/>
                                        <p:tgtEl>
                                          <p:spTgt spid="141"/>
                                        </p:tgtEl>
                                      </p:cBhvr>
                                    </p:animEffect>
                                    <p:anim calcmode="lin" valueType="num">
                                      <p:cBhvr additive="repl">
                                        <p:cTn id="582" dur="1000" fill="hold"/>
                                        <p:tgtEl>
                                          <p:spTgt spid="141"/>
                                        </p:tgtEl>
                                        <p:attrNameLst>
                                          <p:attrName>ppt_x</p:attrName>
                                        </p:attrNameLst>
                                      </p:cBhvr>
                                      <p:tavLst>
                                        <p:tav tm="0">
                                          <p:val>
                                            <p:strVal val="#ppt_x-.1"/>
                                          </p:val>
                                        </p:tav>
                                        <p:tav tm="100000">
                                          <p:val>
                                            <p:strVal val="#ppt_x"/>
                                          </p:val>
                                        </p:tav>
                                      </p:tavLst>
                                    </p:anim>
                                    <p:anim calcmode="lin" valueType="num">
                                      <p:cBhvr additive="repl">
                                        <p:cTn id="583" dur="10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51">
                                  <p:stCondLst>
                                    <p:cond delay="0"/>
                                  </p:stCondLst>
                                  <p:iterate type="wd">
                                    <p:tmAbs val="0"/>
                                  </p:iterate>
                                  <p:childTnLst>
                                    <p:set>
                                      <p:cBhvr>
                                        <p:cTn id="58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588" dur="770"/>
                                        <p:tgtEl>
                                          <p:spTgt spid="141">
                                            <p:txEl>
                                              <p:pRg st="0" end="0"/>
                                            </p:txEl>
                                          </p:spTgt>
                                        </p:tgtEl>
                                      </p:cBhvr>
                                    </p:animEffect>
                                    <p:animScale>
                                      <p:cBhvr>
                                        <p:cTn id="589" dur="770" fill="hold"/>
                                        <p:tgtEl>
                                          <p:spTgt spid="141">
                                            <p:txEl>
                                              <p:pRg st="0" end="0"/>
                                            </p:txEl>
                                          </p:spTgt>
                                        </p:tgtEl>
                                      </p:cBhvr>
                                      <p:from x="10000" y="10000"/>
                                      <p:to x="200000" y="450000"/>
                                    </p:animScale>
                                    <p:animScale>
                                      <p:cBhvr>
                                        <p:cTn id="590" dur="1230" fill="hold">
                                          <p:stCondLst>
                                            <p:cond delay="770"/>
                                          </p:stCondLst>
                                        </p:cTn>
                                        <p:tgtEl>
                                          <p:spTgt spid="141">
                                            <p:txEl>
                                              <p:pRg st="0" end="0"/>
                                            </p:txEl>
                                          </p:spTgt>
                                        </p:tgtEl>
                                      </p:cBhvr>
                                      <p:from x="200000" y="450000"/>
                                      <p:to x="100000" y="100000"/>
                                    </p:animScale>
                                    <p:set>
                                      <p:cBhvr>
                                        <p:cTn id="591" dur="770" fill="hold"/>
                                        <p:tgtEl>
                                          <p:spTgt spid="141">
                                            <p:txEl>
                                              <p:pRg st="0" end="0"/>
                                            </p:txEl>
                                          </p:spTgt>
                                        </p:tgtEl>
                                        <p:attrNameLst>
                                          <p:attrName>ppt_x</p:attrName>
                                        </p:attrNameLst>
                                      </p:cBhvr>
                                      <p:to>
                                        <p:strVal val="(0.5)"/>
                                      </p:to>
                                    </p:set>
                                    <p:anim calcmode="lin" valueType="num" from="(0.5)" to="(#ppt_x)">
                                      <p:cBhvr additive="repl">
                                        <p:cTn id="592" dur="1230" fill="hold">
                                          <p:stCondLst>
                                            <p:cond delay="770"/>
                                          </p:stCondLst>
                                        </p:cTn>
                                        <p:tgtEl>
                                          <p:spTgt spid="141">
                                            <p:txEl>
                                              <p:pRg st="0" end="0"/>
                                            </p:txEl>
                                          </p:spTgt>
                                        </p:tgtEl>
                                        <p:attrNameLst>
                                          <p:attrName>ppt_x</p:attrName>
                                        </p:attrNameLst>
                                      </p:cBhvr>
                                    </p:anim>
                                    <p:set>
                                      <p:cBhvr>
                                        <p:cTn id="593" dur="770" fill="hold"/>
                                        <p:tgtEl>
                                          <p:spTgt spid="141">
                                            <p:txEl>
                                              <p:pRg st="0" end="0"/>
                                            </p:txEl>
                                          </p:spTgt>
                                        </p:tgtEl>
                                        <p:attrNameLst>
                                          <p:attrName>ppt_y</p:attrName>
                                        </p:attrNameLst>
                                      </p:cBhvr>
                                      <p:to>
                                        <p:strVal val="(#ppt_y+0.4)"/>
                                      </p:to>
                                    </p:set>
                                    <p:anim calcmode="lin" valueType="num" from="(#ppt_y+0.4)" to="(#ppt_y)">
                                      <p:cBhvr additive="repl">
                                        <p:cTn id="594" dur="1230" fill="hold">
                                          <p:stCondLst>
                                            <p:cond delay="770"/>
                                          </p:stCondLst>
                                        </p:cTn>
                                        <p:tgtEl>
                                          <p:spTgt spid="141">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3T02:00:16Z</dcterms:created>
  <dc:creator>تعديل غرم الله الزهراني_الباحة</dc:creator>
  <dc:description/>
  <dc:language>en-US</dc:language>
  <cp:lastModifiedBy>أبو فيصل </cp:lastModifiedBy>
  <dcterms:modified xsi:type="dcterms:W3CDTF">2002-02-27T03:43:10Z</dcterms:modified>
  <cp:revision>296</cp:revision>
  <dc:subject>055700748</dc:subject>
  <dc:title>الشريحة 1</dc:title>
</cp:coreProperties>
</file>