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24A-1C62-456A-844C-EEDD8447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06F-935F-491F-9F3E-B4439A3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D3D-5DBF-48F8-A3C2-BB31D0E2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C49-6E2A-4CDE-AA9F-ECC1C3D2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58C-EF6D-4814-B080-110AAEE9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816-1564-4260-BE47-73D39202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1A0-524A-4832-8A2A-6B700A2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5D8-9BF6-48A3-B0E9-E23D506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789-4D8D-4328-AC27-7F3532C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1DA-0428-4070-8DFA-99EE5F1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9F8-BDD4-4DD7-8682-400AAEA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24E-97A4-4A25-9756-2A271F6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A9C-A304-42F2-A8AC-23BBED178B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40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  <a:cs typeface="Simplified Arabic"/>
              </a:rPr>
              <a:t>برنامج حماة المستقب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الدورة التدريبية الثا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لإعــداد المدرب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ّان _ المملكة الأردنية الهاش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01- 06/03/2005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57800" y="1371600"/>
          <a:ext cx="762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371600"/>
                    <a:ext cx="762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36360"/>
            <a:ext cx="12877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14600" y="1409760"/>
            <a:ext cx="99072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186-F71D-49C4-9469-315A546CF4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كون شعوري عندما يطلب منك تقديم عرض ما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13762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اثق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1951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ائ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5920" y="2527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واثق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55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الثانية والثالثة ... لا تخف فهذا شيء طبي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ea typeface="Simplified Arabic"/>
              </a:rPr>
              <a:t>( فمعظم الناس لديهم هذا الشعور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4D2-18B2-41B6-BFD4-3983A2107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2290680"/>
            <a:ext cx="89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نطباع الأول والانطباع الأخير تجاه الحضور هو ما يجعل المحاضرة إيجابية ومفض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81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حدد النقاط بما يتفق مع رغب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920" y="4449600"/>
            <a:ext cx="90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عطي مختصراً عاماً قبل الدخول في تفاصيل النق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584-BC27-4A6C-AABA-CF7A6E4FF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98612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كثر من وسيلة إحساس استعمالها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لكلام والوسائل البصري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14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أسعى لمعرفة التغذية الراج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920" y="3270240"/>
            <a:ext cx="90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تحدّث عن مشاكلهم واحتياج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FF4-1A62-4734-A215-1684A2AE5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200" y="1550880"/>
            <a:ext cx="88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cs typeface="Simplified Arabic"/>
              </a:rPr>
              <a:t>هناك طريقتان لبدء المحاضر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2003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83680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صباح الخير، أرحب بكم في هذا الصباح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37116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غير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48080"/>
            <a:ext cx="86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حاول شد انتباه الحضور بشكل أكبر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كسر الحاجز النف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164-ECB1-4612-A31E-9F4BE5DCB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1389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فاجئ الحضور بأشياء لا يعرف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87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ذكّرهم بشيء يعرفونه ”السنة الماضية عندما كنت هنا قلت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08764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أل سؤال عام ... غير مبا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2666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شجّع فضول الحضور لشيء ما،،، ليس من الضروري أن أحصل على جواب م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73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عرض عليهم شيئاً يشاهدونه ” فيلم، إحصائية،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52360" y="4952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بدأ معهم بشكل حيوي وهام واجعل ذلك واضحاً على وجه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68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عرض عليهم حقائق وأرقام لها علاق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DB6-033E-4603-8055-16375375C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9720" y="53352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1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شخص بإمكانه أن يفكر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80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. والمدرب يتحدث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2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2390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تعطي المستمع شيئاً ممتعـاً للوقت المتبقي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80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لمة فـي الدقيق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5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ذهب في مرحلة ”الإقفال الأوتوماتيكي“ بعد عشر دقائق من الحديث، إذا لم يعطى شيئاً ينش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624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تنويع مصادر الإرسال والأدوات المستعم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5D1-C8EC-4AEB-BD7F-3B8220F68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0" y="2443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إذا أعطيت الرسالة مرة واحدة فإن المستمع يتذكر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 من حديثي بعد سنة، وإذا أعطيت الرسالة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6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مرات فإن نسبة التذكر ترتفع إلى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9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3750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أن نعيد، أن نجدد، أن نراج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389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فضل الأشكال الدائرية والأرقام والألوا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8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دراسات أثبتت أن الحضور في القاعات الخلفية أقل مشاركة من الصفوف الأما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9720" y="142884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820-47E7-4305-B2F0-49A555547C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57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ذكّر أنني أملك معلومات، الجمهور يريد أن يستمع إ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علي أن أجيب على أسئلة ا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655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يريدني  أن انج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4040" y="33415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لا يعرف أني خائ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1547640"/>
            <a:ext cx="89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 يجب أن أركّز على مهارات إزالة الخوف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F81-7964-4F2C-8442-7F1CB62688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1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جاهل الاعتقادات الخاطئة ( بأنني سوف أنسى كل شي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3763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تخيّل أسوأ شيء ممكن أن يحصل (ثم أضع له حلولاً افتراض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تعمل إيحاءات نفسية داخلية ( أنا أفضل متحدّث في هذا العالم .. أكون أن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609480"/>
            <a:ext cx="89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كيف اواجه الخوف 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E0-290C-47A5-AB90-7937EAFAC6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0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فكّر في أشياء إيجابية .. ( سأنجح 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211720"/>
            <a:ext cx="62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صعد بعض الطوابق واهبط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3246480"/>
            <a:ext cx="67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بادر في مواجهة الخوف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44960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ُظهر خوفي ل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67012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وتزعم أنك جرمٌ صغيرٌ .. وفيك انطوى العالم الأكب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1080" y="375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لا يبلغ المجد من لم يركب الخطرا .. ولا ينال العلا من قدّم الحذ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F41-65FC-4BA5-99FE-A160479B85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28600"/>
            <a:ext cx="7993080" cy="76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بيان من متدرب/ متدرب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سأكمل الدورة إذا... وفقط إذا...</a:t>
            </a:r>
            <a:r>
              <a:rPr b="1" lang="ar-AE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رغب بالتعل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كنت أرغب بالاستمرار حتى نهاية الرحلة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ستمتع بالعمل مع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وفر الوقت الكافي لأقضيه مع المجتم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عتقد أن بإمكاني أن أؤثر في أداء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84C-85E1-4B29-876E-3575E62AE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27672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ثاؤب عدة مرات ليسترخي الفكّّ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13540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جنّب التدخ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862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مارس التأمّل، وأتخيل أني احاضر والحضور يشيد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5165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خيّل أني تلقي حديثاً عظيماً ... وسوف يحدث هذ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74524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حاول التخلّّص من الخوف .. لأني لن استطيع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8108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يبات شدّ العضلات ( اليدين، الساقين، المع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208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آخذ نفساً عميقاً (مراراًً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6AF-F301-4983-8411-7D08A3D7A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6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في بداية البرنامج التدريبي، لا يفكّر المتدرب في المدرب أو في المحتوى التدريبي،وإنما في أوقات الاستراحة،نهاية اليوم التدريبي، الأصوات، الروائ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عندما يصل المتدربون إلى قاعة التدريب فإنهم يعانون نوعاً ما من عدم التوازن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83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لتميّز في كسر الحاجز النفسي سوف يساعد المتدرب على الاندماج في البرنامج التدر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إزالة الخوف من الطرفين، من المتدرب تجاه المدرب أو من المدرب تجاه الحضور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سر الحاجز النفسي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ماذا نحتاج لذلك ...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479-9FC9-4373-9AE9-C37EB5898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96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حدد احتياجاته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1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مفرح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236844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طرفة خفيف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13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حزين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1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أرقام وإحصا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عرّف زميل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عد الدو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331920"/>
            <a:ext cx="5715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أساليب كسر الحاجز النفسي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422100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سؤال غير مباش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 شخص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2FC-5AD9-4F0E-B787-9372F9F25B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365040"/>
            <a:ext cx="612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شروط أسلوب كسر الحاجز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193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م تجربته مسبقاً وأدى نتائ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28800"/>
            <a:ext cx="89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ه علاقة بالبرنامج التدريبي ( ما أمكن ذل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وجد فيه حيوية ونش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481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غير معقّد ويتميّز بالترت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0368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متدربون يستمتعون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29732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متميّز ومتفرّد ( لم يسبق للمتدربين تجربته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9068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يجابي ولا يزعج الآ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559260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ن تكون مدته قصيرة ( من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إلى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دقائق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A91-2A38-4FF9-BAED-5A7AAA9794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94920" y="-30240"/>
            <a:ext cx="576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محاضر المتميّز يتبع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07360" y="523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مقد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565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وسط (الجسد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981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دّ الانتباه ( كسر الحاجز النفسي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76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ض النقاط الرئ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36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حديد الأهدا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09700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ياجات الجمه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30700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نقاط يجب أن ت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346536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يف تسيطر على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82572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سائل دعم، أسئلة، مراجع، وسائل بص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1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مال معارضة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46274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خات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50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راجع ما قل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9280" y="55166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صار النق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877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قفال الكلمات والتعل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5238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ستقو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قل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024000" cy="561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92000" y="83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34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B17-C128-47F0-A40A-13706F2F78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806400"/>
            <a:ext cx="83055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تابع) التعريف والمقدم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5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دة في سطور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B.C. = Aim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B.C. = Introduction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.I.S.S. = Keep It Short and Simple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D8B-46DA-4317-8974-E450AE7C1D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8960"/>
            <a:ext cx="8642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نت رأسي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248436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97720" y="190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97720" y="127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7720" y="37656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97720" y="306072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7720" y="44290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7720" y="536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800000"/>
                </a:solidFill>
                <a:latin typeface="Arial"/>
                <a:cs typeface="Simplified Arabic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3200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خرج الحروف بمخارجها الصحيحة ( لا تأكل الكلما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95588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نوّع في نبرة وسرعة الصوت والح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53044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أكّد من لفظ الكلمات بالشكل الصحيح (راجع الكلمات الصعب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132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ركّز على الكلمات المهمّة والق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527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عيد العبارات الهامة بشكل مغاير ( في سرعة ونبرة الصو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سرعة الصوت اجعله متنوعاً، للفكاهات اجعله سريعاً، في الأمور الحزينة والهامة جداً اجعله بطيئ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4370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لزم أن اوضّح صوتي وأن اجعله أعلى من المعت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07360" y="1547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407360" y="2771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407360" y="2195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07360" y="334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407360" y="4068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07360" y="478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07360" y="5724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40A-86A2-4F75-99F9-068288B6CB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5720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خّن صوتي ( انها لحظات تاريخية لن تتكرر .. ابدأ بحيوي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1337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خدم الصوت للتأثير على الكلمات التي تريد التركيز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03356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ن لا اكون مملاً ( نبرة الصوت ثابت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609560"/>
            <a:ext cx="59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رعة، النبرة، الحدّة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819520"/>
            <a:ext cx="74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ان لا اخشى الوقفات أثناء الحديث ( فن الوقف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ذر الصوت المرتفع للغاية، أو المنخفض للغاية، أو الصـاخب للغاية، أو الحاد للغاية، فإنها تصرف المستمع ع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956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سرع للفكاهة والمعلومات الحيوية، أبطئ للفكرة المعقّدة، الفكرة الجادة، نهاية النكته، للإثارة، للأشياء الحز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C93-607B-4029-B432-5D34780D29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72200" y="1350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فلأكن 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أن</a:t>
            </a: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ا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...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69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ّث على سجيّ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دون تكلّ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ـذر أن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ّد غير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ـواء في صوتـه أو نبرتـه أو هندامه ( اخلق تميزّ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خا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ن اكو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بيعياً في حركا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بدون حركة سريعة أو بطيئة جد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ذر التقعّر أو التكلّف في الكلام (الفصحى المبالغ في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ند الضحك اضحك مع الحضور، وعند الأمور الحزينة احزن معهم ( تفاعل مع الحضو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3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بحث بجد عن آخر المعلومات والإحصاءات في مجال المحاضرة ( جدد معلوماتك باستمرار،، جدد ..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دد  .. ج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نفعل مع الحديـث، اغضـب، اضحـك، اسخر ... وليكن ذلك واضحاً في نبرات صو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59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م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حاضراً متميزاً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8B2-8955-4C47-B47D-71F5E89AD673}" type="slidenum">
              <a:t>28</a:t>
            </a:fld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7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بدأ الاتصال بالعين في نهاية الفكرة أو الجمل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نظر إلى الجميع، وبشكل دوري،، لا اركّز على شخص واحد أو جهة واحدة ( قد اربكه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ظر إلى النافذة ,, الحضور سيفعل نفس الشيء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ركّز على جهة واحدة فقط ... سأخسر الآخرين حتم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8937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نظر قد يقتل أو يحيي محاضرتي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ذا علي ملاحظة الآ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سى أن انظر إلى الصفوف الخل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دع المذكرات تسرقني  من جمهور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754-C36F-4951-9F77-B539580B7D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1480" y="22860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عرض والإلقا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0280" y="1523880"/>
            <a:ext cx="85788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* ما هو التدريب...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الذي نعنيه بهذا المفهوم...؟ وما الذي يتضمنه...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أحد أهم آليات التعلي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عملية إيصال مادة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متلقي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تغيير مهارة أو نمط أو سلوك م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(التعليم... عملية تغيير تستند إلى التعري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رسل... المادة... المرسل إليه/إليه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4E2-0E84-4AF9-AF37-86817B75A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8280" y="360360"/>
            <a:ext cx="9670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إذا كنت اقرأ من المذكرات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جب علي أن أضع هذه النقاط في اعتبار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5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بدأ الحديث بدون النظر إلى المذكرات ( ستكون بداية قو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44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كون متمرساً ومتدرباً على مذكراتي (أحضّر، أحضّر ، وأحضّ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368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ذا كانت هناك إحصائيات وأرقـام، يفضّل أن اقرأها من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يعطي مصداقية أكب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48308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جعل نظراتي خاطفة على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5926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ا العب مع مذكراتي ( سوف يوضّح للحضور بأني متوت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5D3-7ADB-4947-8945-17BAF9C7C2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297840" y="1133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وظف ا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54840" y="192564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تس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29304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احث عن 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78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640" y="1422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0280" y="2214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10280" y="3294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192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عملات المعدنية التي بج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6360" y="19256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أؤشر على الحضور وكأنني يتسول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55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الحضور يعلم أنني متوتر، ولكنه سيسأل متى آخر مرة استحممت فيها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394164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عقّ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10280" y="4302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3998880"/>
            <a:ext cx="48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كأنني أغسلهما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4586400"/>
            <a:ext cx="22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جواهر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4950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00" y="46623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مجوهراتي، ساع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31F-81CD-4E49-8209-DFFDBD945F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38120" y="11365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عاشق الول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5640" y="1928880"/>
            <a:ext cx="33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طبيب العي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27939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يّ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219640" y="1425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10280" y="2217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0280" y="3152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1224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حضن نفسي أمام الحضور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192888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ستمرار ينظارتي .. هل هي فوق أم تحت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28656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منشغل بملابسي وهندامي بصورة مزع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586320"/>
            <a:ext cx="19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10280" y="3944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657600"/>
            <a:ext cx="48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قلم، المؤشر، أي شي أجده أمامه ... وهذا يزعج الحض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ED9-25F5-4411-87D3-600CCAB6A8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35280" y="1519200"/>
            <a:ext cx="705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وق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01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التركيز في المحاضر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0495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في السيطرة على الحض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36972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جمع شتات أفكار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275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وقفات لن تنسيني ما قلت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EDE-D836-4030-9D03-CC45641C62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523880" y="260280"/>
            <a:ext cx="58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كيف؟.. ومتى أقف؟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63044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بد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62864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ك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أن تسأ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بند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حدوث أي 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335772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التصف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114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فترة الاست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210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كلمة الأخ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257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وقبل قولي ( شكرا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1FC-28B7-46B4-82F2-CFCA9ECDB4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جعلها طويلة ( تعكس التردد وعدم التحضير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3190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أجعل وقفاتي بالطول نفس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1082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عن الحديث وسط الجمل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87036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طويلاً ضمن الفكرة الواحد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11640" y="30492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علي الحذر من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1F1-20A1-422F-B25C-2C9960CF0A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39280" y="155412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سلوكيات اجتماع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0" y="2163600"/>
            <a:ext cx="70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دارة الفصل (عيب في المدر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3360" y="28494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ثقة بال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99520" y="3459240"/>
            <a:ext cx="37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ثقاف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120" y="3808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ماذا لا يتجاوب المتدربون في القاعة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99800" y="399240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مستويات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875-0C17-45A5-A493-C38E0FCCCE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كيف يمكنني التأكد من وصول المعلومة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أو تأثير المعلومة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55920" y="1922400"/>
            <a:ext cx="37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طويل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18080" y="383688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قصير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2610000"/>
            <a:ext cx="37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تغيير في السلوك الع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117960"/>
            <a:ext cx="30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است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481640"/>
            <a:ext cx="27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أسئلة الشف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505764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نقاش المفتو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028000" y="199548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101080" y="393048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9D3-ED73-4B31-8BC5-F182670A00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89640" y="380880"/>
            <a:ext cx="8433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سؤال ... لماذا نسأل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1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شجيع الحضور على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8432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قييم تحضير المتدربين لواجباتهم,المراجعة والتلخي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32148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أكد من وصول المعلو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4668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نمية حب الاستطلاع والتعلم الذاتي تنمية مهارات التفك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708440"/>
            <a:ext cx="74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يطرة على الحضور, لفت انظار المشاك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249876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سر الحاجز النفسي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Ice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02F-AE06-4C01-AE4F-027EA518F3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33400" y="380880"/>
            <a:ext cx="625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سئلة يجب أن أتجنبها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1401840"/>
            <a:ext cx="64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مباشرة في بدايات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16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سأل عن العرق والأصل ( محرجة نوعاً م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28494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عمر ( خاصة للنسا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345924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ح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0384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فاصيل الشخص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4678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دور حول المد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8A8-D6EB-41EE-AFAF-4548A493E3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0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3240"/>
            <a:ext cx="861048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990000"/>
                </a:solidFill>
                <a:latin typeface="Arial"/>
                <a:cs typeface="PT Bold Heading"/>
              </a:rPr>
              <a:t>الخطابة</a:t>
            </a:r>
            <a:r>
              <a:rPr b="1" lang="ar-AE" sz="5500" spc="-1" strike="noStrike">
                <a:solidFill>
                  <a:srgbClr val="990000"/>
                </a:solidFill>
                <a:latin typeface="Arial"/>
                <a:ea typeface="PT Bold Heading"/>
              </a:rPr>
              <a:t>:</a:t>
            </a:r>
            <a:r>
              <a:rPr b="1" lang="ar-AE" sz="55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شافهة الجمهور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أثير عليهم أو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مالتهم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إيصال خبر أو فكرة ما لمجموعـة من السامعين بشكل مقنع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مؤثر ومغير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بن سين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: (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حسبها شرف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أنها وظيفة قادة الأمم من الأنبياء والمرسلين ومن شاكلهم من العلماء والعاملين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عظماء الملوك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كبار الساسة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)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9C8-CCB2-4DEB-B827-2373BB328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9080" y="380880"/>
            <a:ext cx="57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خصائص الأسئل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1319040"/>
            <a:ext cx="43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باشرة وبساطة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95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وضوح ودقة المعن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98108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سلسل ال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27432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راعاة قدرات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352680"/>
            <a:ext cx="45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شارة تفكير الطل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4038480"/>
            <a:ext cx="48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نوع في الأسئلة والأسل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506-2B85-456C-A566-0F8131D994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1680"/>
            <a:ext cx="8610480" cy="83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تعامل م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الأعمار والأجناس والطوائف المختلفة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رجال... (الأمثلة العملية الوظيف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نساء... (لفظ المؤنث... الحياة الاجتماعية... التقدير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شباب... (الأمثلة الحياتية... الاهتمامات... الأمثلة الإيجاب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طلاب... (المناهج الدراسية... الحياة داخل المدرسة... البيت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ديانات والأفكار والفلسفات... (الطرح بالحيادية التام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أجناس والطوائف والمذاهب... (تجنب النقاط المثيرة للإزعاج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فئات الخاصة...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0D7-32EC-40FD-8757-7DE5CEF6C8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579600"/>
            <a:ext cx="5688000" cy="1196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العوامل التي تؤثر على التعلّم</a:t>
            </a: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حــ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ادة (الموضو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22424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بيئ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جمهور (العد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عمــــ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أدوات التعليم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42260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إبـــد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مستوى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18148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عوامل يمكن التحكم ب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929-D21E-44DC-A547-8C8661C7EF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280" y="295200"/>
            <a:ext cx="883944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مرتبطة بالمرسل/ المرسل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قوية في التأث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وف من الارتباك أو الإحراج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فهم التام للموضوع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تخدام جمل وعبارات وكلمات غامضة... (المستوى الثقافي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لفظ بجملً غير صحيحة... متقطعة... وغير تام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صغاء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يد والعملي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غذية الراجع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م طريقة واحدة للاتصال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محاولة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باك أو التشويش عن عمد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9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ترتيب الماد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3B8-2267-4A30-BB53-7A14856D84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20720"/>
            <a:ext cx="83059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ب- معوقات مرتبطة بالمتلقي/ المتلقي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صور المغلوط لما تم شرحه... (سوء الفهم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نتقاد المبالغ فيه... (الانتقاد لغرض الانتقاد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جل أو الكبر... (عدم الاستفسار عما يجهله/ تجهله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حكم السريع والرفض المسبق لشخصية المدرب/ المدرب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شعور بقلة الاهتمام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شرود الذهن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حقيقية في التغي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0CD-1E09-486A-9E38-ADD0318B44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914400"/>
            <a:ext cx="83059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ج- معوقات عامة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قيت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ئ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هاق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تصال ضعيف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غط الزائد من أجل النتائج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ضغط كبير في الوقت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إحباط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يس هناك نظام عام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A70-3E03-4943-8382-8950DA4C26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19640" y="1649520"/>
            <a:ext cx="36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قد كنت مجحفاً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765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قد كنت كثير التوج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28600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واثقاً من نفسي بصورة زائدة عن ال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895480"/>
            <a:ext cx="58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تدرب على فن الإل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4221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ظهر كيف أطوّع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685800" y="16765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 أكن صبور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05320"/>
            <a:ext cx="72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حافظ على وعودي .. ( الوقت، .. الخ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487692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عاملت مع الحضور كما لو كانوا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4403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دع لهم فرصة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ED3-B0BC-4AFD-9D20-C27C9F98CBE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1371600"/>
            <a:ext cx="42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ستطع أن أسكن خوف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998720"/>
            <a:ext cx="57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صغيراً جداً / عديم الخب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535040" y="2011320"/>
            <a:ext cx="60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نت كبيراً جداً وفاقد السي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590920"/>
            <a:ext cx="45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قمت بتغيير أماك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3200400"/>
            <a:ext cx="62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خفّضت عليهم فترات الاسترا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380988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كن مرتب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35520" y="434340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نسيت أسمائ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29120" y="4952880"/>
            <a:ext cx="4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حساس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4120" y="5562720"/>
            <a:ext cx="47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نظري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550-B2A1-4882-BA32-57B0871502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0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182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ستمع لما اريد قوله ..أو يشاهد ما اريد عرضه(ديل كارين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أخذ المبادرة والفعل بالتوافق مع مجمل أهداف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438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فهم ويستوعب القصد من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4040" y="30481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تفق مع ما سمعه وشاه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533520"/>
            <a:ext cx="895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ن يحقق العرض المستوى المطلوب من النجاح إلا إذا نجحت في جعل الحضو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F94-B735-41E7-8CE6-B7844755BF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260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عند تصميم البرنامج التدريبي،علي تجنّب ما ي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898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ادة قد حضّرت لمجال تدريبي مختلف أو لنوع آخر من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20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غير مطابقة للزمن الذي يحصل فيه التدر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5920" y="2778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امدة وغير قابلة للتوا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354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لم تحقق نجاحاً في الماض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3933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معت من مصادر كثيرة بحيث تبدو مفككة وغير متناس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واد مطابقة لحالة بلد مع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55134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من النوع الذي يتضمن حقوق النشر والاست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7C4-2954-4C2C-81AE-6DFCB8ACE9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80880"/>
            <a:ext cx="8664480" cy="75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همية الخطابة والعرض والإلقاء</a:t>
            </a: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لضرورة التواصل الإنساني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تغير خطبة ما فردا أو أكثر... أو مجتمعا بأكمله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تم اتخاذ قرارات مصيرية وهامة بناء على أسلوبي في العرض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ؤثر على سمعة مؤسستي وعملي (والأهم سمعتي أنا... بلا شك...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في اجتماعات داخلية أو خارجية لشرح وجهة نظر المؤسس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أمام لجنة أو مجلس إدارة أو في مؤتمر عام أو في ورشة عمل أو في مناسبات اجتماعية مختلف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كلم أمام أناس أعرفهم... أو لا أعرفهم... أقل مني ثقافة... أو أعلى... دوني أكاديميا... من جنسي...أو من الجنس الآخر... أكبر سنا... أو أصغر... عدد كبير... أو أفراد محدودين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996-E2F2-4196-AD58-341FD3FAE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8200" y="1355760"/>
            <a:ext cx="90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رغبة والإصرار والصبر/ العمل مع الا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709200" y="2011320"/>
            <a:ext cx="113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عرف واحدد ماذا اريد( احقق ذاتي/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سجّل اسمي في التاريخ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4240" y="2697120"/>
            <a:ext cx="101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وق والحماس/ الشعور بالمسؤولية/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3320" y="3306600"/>
            <a:ext cx="103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ثقة الداخلية/ الاعتزاز بالنفس/ الايمان بما اقو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56240" y="22860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المهارات التي يجب أن تتواف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في شخصيتي لكي أصبح مدربا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658880" y="3916440"/>
            <a:ext cx="12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ستطيع ان احلل الاحتياجات/ الوضع/العلم والتحضير المس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53640" y="4572000"/>
            <a:ext cx="94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تح والتعاون/الاستفادة من خبرات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وفوق كل ذي علم عليم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55520" y="55926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خبرة/ تطور المستوى باستمر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AC1-EDED-4EC0-8CF7-E0A0DA1F77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fill="hold">
                      <p:stCondLst>
                        <p:cond delay="0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16560" y="593640"/>
            <a:ext cx="723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اذا سيحدث إذا لم أتدرب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600200"/>
            <a:ext cx="85294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طرف بعيني بشكل متكرر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عن الكلمات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كون منظّما... وسأرتبك وأقول ما يخطر على بالي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قول (آآآ) مرات كثيرة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في الصفحة عن الجملة التي كنت سأقرؤها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C11-B609-425A-B936-6104092D5D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52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يجب أن</a:t>
            </a: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احذر من تكرار نفسي كل مرة وفي كل 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لا تقع في مصيدة النشاط التقليدية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681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4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وقت في الاتصال المباشر بالمتدربين وإلقاء المحاض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33670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البحث وإعداد الموضوع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40068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8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تنمية الفاعلية الذاتية، وحضور المؤتمرات والدورات والبحث في الأساليب الجديدة للمتدرب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4360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%</a:t>
            </a:r>
            <a:r>
              <a:rPr b="1" lang="ar-AE" sz="2800" spc="-1" strike="noStrike">
                <a:solidFill>
                  <a:srgbClr val="ff0000"/>
                </a:solidFill>
                <a:latin typeface="Arial"/>
                <a:ea typeface="Simplified Arabic"/>
              </a:rPr>
              <a:t> 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التفكير خارج نطاق المؤسسة، والأفكار الإبداع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523-D8AC-4673-AD21-0BEE926C89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195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في ذه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سمع الاسم جيد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قدر المستطاع أثناء التدري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473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نظر إلى السمات البارزة في المتدرب واربطها بالاس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3520"/>
            <a:ext cx="89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مهارة تذكّر أسماء المتدربين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429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من الأفضل أن أستخدم بطاقات تعريف الاسم ما أمكن ذلك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كتب اسمك على هواك )</a:t>
            </a: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13B-2B71-405A-BEBB-B3255CCC36C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374840" y="390600"/>
            <a:ext cx="1209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ريد أن أصبح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      محاضرا محترفا/ محاضرة محترفة... كيف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039760"/>
            <a:ext cx="81486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ستعداد التام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ختيار مستشارين ومستشارات متميزين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شتراك في دورات مشهود لها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كتابة ملخّص عن المادة التدريبية (أو موضوع المحاضر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لتحاق بحلقات تدريب المدربين والمدربات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دورتي الأول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قييم والمراجعة المستمرة (قياس فجوة الأداء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497400"/>
            <a:ext cx="519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0D9-2A5B-4AE8-AB09-203C5E7008C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0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009200" y="207792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يز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11760" y="27115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هداف, الاحتياجات التدري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720" y="3397320"/>
            <a:ext cx="10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رّف على خصائص المتدربين, ماذا يريدون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91240" y="130176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274320" y="4083120"/>
            <a:ext cx="111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طّط جيدا لعملية التدريب وارسم خريطة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487880" y="4800600"/>
            <a:ext cx="124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ّب جيدا على استخدام الأجهز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تدرّب, تدرّب, تدرّب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200" y="5530680"/>
            <a:ext cx="10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ّع المادة العلمية على المتدربين قبل الد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190-582F-4F0A-8EFF-E5517417CC2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691240" y="118440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6504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7320" y="195408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حضور المبكر(النظر, المعدات, التوصيلات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9400" y="257976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عد عن الإنهاك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6600" y="3203640"/>
            <a:ext cx="60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لابس بطريقة مريح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798720"/>
            <a:ext cx="90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ضر معك </a:t>
            </a:r>
            <a:r>
              <a:rPr b="1" lang="ar-AE" sz="4400" spc="-1" strike="noStrike" u="sng">
                <a:solidFill>
                  <a:srgbClr val="a50021"/>
                </a:solidFill>
                <a:uFillTx/>
                <a:latin typeface="Arial"/>
                <a:cs typeface="Simplified Arabic"/>
              </a:rPr>
              <a:t>دائما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نسخاً احتياطية من المواد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9720" y="4616280"/>
            <a:ext cx="108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لط مع المتدربين لخلق جو الألفة والتفاع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6240"/>
            <a:ext cx="91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صافح المتدربين لخلق جو الألف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تذكر العادات الاجتماعية والشرع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3A3-9503-44C9-B6D6-6D4BCA706B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0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0680" y="2116080"/>
            <a:ext cx="92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فتتاح على مستوى عالي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قدر الإمكان )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954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بدأ بنغمة عالية وصوت قوي وافتتاحية مؤث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ت رأسي .. يا صو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0440" y="40384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ّف نفسك جي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321200" y="4768920"/>
            <a:ext cx="124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ن الحضور تقديم أنفسهم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و عرّف زميلك/زميلتك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B40-0C18-4C39-846E-9D2DE3528E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57480" y="2133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اهدافك وجدولك الزم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8954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أوقات الراحة وسجلها في مكان ظاه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قواعد الدور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82720" y="419112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تنتظر المتأخرين وأبدا في موعد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5680" y="47545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ا تقم بتخليص ما فات على المتأخري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719000" y="5454720"/>
            <a:ext cx="127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حدّد توقعاتك من المتدربين( هل من إضافة...حاضرين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212-490D-447B-885C-A4DFB52CE1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566320" y="125748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84680" y="1949400"/>
            <a:ext cx="93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مهارات لغة الجسد, النظر, الصو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590920"/>
            <a:ext cx="909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لق جوا من المرح في جلسة التدري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 ( استمتعوا, استمتعوا, استمتعوا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1100160" y="3581280"/>
            <a:ext cx="119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ان تجيب على جميع اسئلة الحضور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اهتمام به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7320" y="4191120"/>
            <a:ext cx="9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امل بكياسة مع الأشخاص المشاكس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4876920"/>
            <a:ext cx="93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ع وقتك بطريقة سليمة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فن إدارة الوق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377280" y="556272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جع المتدربين على التخيل واستعمال الحوا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68D-019F-489F-8B0A-634478DCC3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15328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990000"/>
                </a:solidFill>
                <a:latin typeface="Arial"/>
                <a:ea typeface="PT Bold Heading"/>
              </a:rPr>
              <a:t> استعدادي يعني أنني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فك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تغير وأسعى للتغيي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نفسي أولا... (الروح ثم الجسد)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در ذاتي... أقتنص وقتي... وأحترم غيري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رأ الآخرين وأتميز في التعامل معهم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90A-7DDE-487D-9A11-EADCC0ED95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927080"/>
            <a:ext cx="905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ذا سألك احد ولم تعرف الإجابة لا تكذب ولا تتهر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كن صادق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2520" y="304812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نب استعمال المصطلحات المعق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28160" y="3778200"/>
            <a:ext cx="94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مل الوسائل البصرية لجذب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662360"/>
            <a:ext cx="907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وقف من حين لآخر لتتعرف على رأي المشارك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فن الوقف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AC7-7DF0-43AE-8FF4-980507A6676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900800" y="1981080"/>
            <a:ext cx="127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في ايقاع الدرس ونوع طرق العرض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19520"/>
            <a:ext cx="90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ول بين المتدربين ولا تقف في نفس المكان طوال الوقت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غة الجس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191120"/>
            <a:ext cx="91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تطوعين لشرح بعض الأفكار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شاركني وسوف اتذك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029200"/>
            <a:ext cx="910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رّر الأسئلة أو أعد صياغتها في حال عدم فهم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195-490B-4824-BB5A-ABA6EA9D535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389400" y="127332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ختام جلسة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101680"/>
            <a:ext cx="90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جيل الملاحظات وتصحيحها أولاً بأول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يعجبني / لا يعجب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65760" y="289548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تام بقوة كما كانت البداية بقو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2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ير الحضور بواجبات ما بعد الدورة، التحدي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أعرج أخ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3880" y="4387680"/>
            <a:ext cx="10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عرف على رأي الحضور ...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تغذية الراجع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119560"/>
            <a:ext cx="9077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كر من ينساهم الناس عادة 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صحاب المراجع، العاملون، المنفذو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E89-8620-42AE-B128-C0D3C64435E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777960" y="304920"/>
            <a:ext cx="10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PT Bold Heading"/>
              </a:rPr>
              <a:t>سبع رسائل... إذا وصلت... فأنا متميز/ متميز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990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ضيع وقتك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ن أنتم ولماذا أتيتم إلى هنا (إشباع حاجات الجمه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سالتي واضحة ومادتي منظم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سوف ألقي حديثي بصورة حوارية ممتعة (احتواء الحض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وضوعي (الجمهور يريد أن يستمع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ليكم أهم نقاط الحديث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قد انتهيت (الانهاء بخاتمة قوية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5C4-70B9-4885-8837-8323F70E466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60948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ديل كار ينجي يقول هنالك ثلاثة أساسيات للم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3560"/>
            <a:ext cx="89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يكتسب حق التحدث في الموضو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228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ناعات ومشاعر عميقة تجعل عيناه تلمعان وتجعل صوته يفيض بالمشاعر والعواط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920" y="46004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صص وموضوعات وتشبيهات كثيرة توضح موضوعه ورسالت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DF7-ED57-4EB7-899A-F60A466EB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9720" y="264492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عجبون ب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40600" y="27892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17680" y="32180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لا يعجبون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40600" y="336564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040600" y="38908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360" y="37227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كونون محايدين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40600" y="44672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2040" y="426708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يشعرون بالأسف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01120" y="1692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6600" y="1527120"/>
            <a:ext cx="109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نهاية العرض أو المحاضرة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إن نظرة الجمهور تجاهي للمرة الأولى ستكون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84F-4E63-414D-8227-058DFB735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533520"/>
            <a:ext cx="5688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لهذه الاسباب ارفض الحديث امام الجمهور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صبح أضحو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رتجف ولا أستطيع ا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36232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م أحضر لهذا الموضوع من 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3208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نسى ما أريد ان أق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43240"/>
            <a:ext cx="358128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دي لهجة غريبة ولا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يمكنني التحدث أمام الن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36576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خاف من تقييم الناس لي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خوف من الفش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081320"/>
            <a:ext cx="360072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جمهور مثقف ولا يمكن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وقوف متحدثاً أما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32-ECAF-49F4-A88D-4014C90967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lfi</cp:lastModifiedBy>
  <dcterms:modified xsi:type="dcterms:W3CDTF">2007-01-19T11:46:20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