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C21-E8C6-47AE-9CD0-AB94367C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805-5318-4F64-9D06-B87FC85C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F30-6AC5-45F6-9E5D-901C1555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2DB-7D57-4642-BF39-64B2D3B5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D61-1FC9-497C-A7C2-57AF0753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08A-F651-4AA3-9F36-9C70CF59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724-7D2A-4F4D-AD01-C20C73FC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3FC-28B9-4EA2-88F0-A20B3D82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D4F-474C-4C54-890E-EE0DE05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033-3774-4AE8-853E-0136C3D4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3BA-8D44-4C60-81CF-513E9FB7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62B-D210-4E66-B32D-45B9504F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صالح الدقلة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5D9-DF03-4D00-8F34-DFEB05CB0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4941360"/>
            <a:ext cx="3095640" cy="1055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66ff">
                  <a:alpha val="54117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صالح الدقلة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79640" y="1302480"/>
            <a:ext cx="6048360" cy="3278880"/>
            <a:chOff x="1979640" y="1302480"/>
            <a:chExt cx="6048360" cy="3278880"/>
          </a:xfrm>
        </p:grpSpPr>
        <p:sp>
          <p:nvSpPr>
            <p:cNvPr id="43" name=""/>
            <p:cNvSpPr/>
            <p:nvPr/>
          </p:nvSpPr>
          <p:spPr>
            <a:xfrm>
              <a:off x="1979640" y="1413000"/>
              <a:ext cx="6048360" cy="3168360"/>
            </a:xfrm>
            <a:custGeom>
              <a:avLst/>
              <a:gdLst/>
              <a:ahLst/>
              <a:rect l="l" t="t" r="r" b="b"/>
              <a:pathLst>
                <a:path w="3831" h="1870">
                  <a:moveTo>
                    <a:pt x="408" y="1793"/>
                  </a:moveTo>
                  <a:cubicBezTo>
                    <a:pt x="357" y="1870"/>
                    <a:pt x="228" y="1845"/>
                    <a:pt x="160" y="1793"/>
                  </a:cubicBezTo>
                  <a:cubicBezTo>
                    <a:pt x="75" y="1729"/>
                    <a:pt x="169" y="1779"/>
                    <a:pt x="89" y="1740"/>
                  </a:cubicBezTo>
                  <a:cubicBezTo>
                    <a:pt x="77" y="1690"/>
                    <a:pt x="58" y="1694"/>
                    <a:pt x="27" y="1651"/>
                  </a:cubicBezTo>
                  <a:cubicBezTo>
                    <a:pt x="7" y="1554"/>
                    <a:pt x="18" y="1591"/>
                    <a:pt x="0" y="1536"/>
                  </a:cubicBezTo>
                  <a:cubicBezTo>
                    <a:pt x="18" y="1292"/>
                    <a:pt x="0" y="1330"/>
                    <a:pt x="80" y="1173"/>
                  </a:cubicBezTo>
                  <a:cubicBezTo>
                    <a:pt x="94" y="1102"/>
                    <a:pt x="98" y="1064"/>
                    <a:pt x="133" y="1004"/>
                  </a:cubicBezTo>
                  <a:cubicBezTo>
                    <a:pt x="164" y="882"/>
                    <a:pt x="187" y="761"/>
                    <a:pt x="248" y="650"/>
                  </a:cubicBezTo>
                  <a:cubicBezTo>
                    <a:pt x="270" y="564"/>
                    <a:pt x="343" y="513"/>
                    <a:pt x="426" y="490"/>
                  </a:cubicBezTo>
                  <a:cubicBezTo>
                    <a:pt x="443" y="485"/>
                    <a:pt x="462" y="485"/>
                    <a:pt x="479" y="481"/>
                  </a:cubicBezTo>
                  <a:cubicBezTo>
                    <a:pt x="497" y="477"/>
                    <a:pt x="532" y="464"/>
                    <a:pt x="532" y="464"/>
                  </a:cubicBezTo>
                  <a:cubicBezTo>
                    <a:pt x="631" y="471"/>
                    <a:pt x="717" y="482"/>
                    <a:pt x="815" y="473"/>
                  </a:cubicBezTo>
                  <a:cubicBezTo>
                    <a:pt x="871" y="436"/>
                    <a:pt x="929" y="414"/>
                    <a:pt x="993" y="393"/>
                  </a:cubicBezTo>
                  <a:cubicBezTo>
                    <a:pt x="1040" y="405"/>
                    <a:pt x="1088" y="405"/>
                    <a:pt x="1135" y="419"/>
                  </a:cubicBezTo>
                  <a:cubicBezTo>
                    <a:pt x="1225" y="413"/>
                    <a:pt x="1262" y="410"/>
                    <a:pt x="1338" y="384"/>
                  </a:cubicBezTo>
                  <a:cubicBezTo>
                    <a:pt x="1383" y="368"/>
                    <a:pt x="1401" y="328"/>
                    <a:pt x="1445" y="313"/>
                  </a:cubicBezTo>
                  <a:cubicBezTo>
                    <a:pt x="1451" y="301"/>
                    <a:pt x="1454" y="289"/>
                    <a:pt x="1462" y="278"/>
                  </a:cubicBezTo>
                  <a:cubicBezTo>
                    <a:pt x="1469" y="268"/>
                    <a:pt x="1483" y="262"/>
                    <a:pt x="1489" y="251"/>
                  </a:cubicBezTo>
                  <a:cubicBezTo>
                    <a:pt x="1496" y="238"/>
                    <a:pt x="1491" y="220"/>
                    <a:pt x="1498" y="207"/>
                  </a:cubicBezTo>
                  <a:cubicBezTo>
                    <a:pt x="1517" y="167"/>
                    <a:pt x="1580" y="152"/>
                    <a:pt x="1613" y="136"/>
                  </a:cubicBezTo>
                  <a:cubicBezTo>
                    <a:pt x="1746" y="74"/>
                    <a:pt x="1675" y="92"/>
                    <a:pt x="1764" y="74"/>
                  </a:cubicBezTo>
                  <a:cubicBezTo>
                    <a:pt x="1776" y="68"/>
                    <a:pt x="1786" y="58"/>
                    <a:pt x="1799" y="56"/>
                  </a:cubicBezTo>
                  <a:cubicBezTo>
                    <a:pt x="1824" y="52"/>
                    <a:pt x="1838" y="80"/>
                    <a:pt x="1852" y="92"/>
                  </a:cubicBezTo>
                  <a:cubicBezTo>
                    <a:pt x="1877" y="112"/>
                    <a:pt x="1904" y="139"/>
                    <a:pt x="1932" y="154"/>
                  </a:cubicBezTo>
                  <a:cubicBezTo>
                    <a:pt x="2012" y="198"/>
                    <a:pt x="2040" y="198"/>
                    <a:pt x="2136" y="207"/>
                  </a:cubicBezTo>
                  <a:cubicBezTo>
                    <a:pt x="2235" y="202"/>
                    <a:pt x="2285" y="208"/>
                    <a:pt x="2366" y="180"/>
                  </a:cubicBezTo>
                  <a:cubicBezTo>
                    <a:pt x="2525" y="234"/>
                    <a:pt x="2400" y="198"/>
                    <a:pt x="2756" y="207"/>
                  </a:cubicBezTo>
                  <a:cubicBezTo>
                    <a:pt x="2905" y="255"/>
                    <a:pt x="2790" y="224"/>
                    <a:pt x="3111" y="216"/>
                  </a:cubicBezTo>
                  <a:cubicBezTo>
                    <a:pt x="3129" y="210"/>
                    <a:pt x="3146" y="204"/>
                    <a:pt x="3164" y="198"/>
                  </a:cubicBezTo>
                  <a:cubicBezTo>
                    <a:pt x="3187" y="190"/>
                    <a:pt x="3235" y="180"/>
                    <a:pt x="3235" y="180"/>
                  </a:cubicBezTo>
                  <a:cubicBezTo>
                    <a:pt x="3351" y="104"/>
                    <a:pt x="3495" y="91"/>
                    <a:pt x="3625" y="47"/>
                  </a:cubicBezTo>
                  <a:cubicBezTo>
                    <a:pt x="3640" y="42"/>
                    <a:pt x="3654" y="33"/>
                    <a:pt x="3669" y="29"/>
                  </a:cubicBezTo>
                  <a:cubicBezTo>
                    <a:pt x="3683" y="25"/>
                    <a:pt x="3699" y="25"/>
                    <a:pt x="3713" y="21"/>
                  </a:cubicBezTo>
                  <a:cubicBezTo>
                    <a:pt x="3731" y="16"/>
                    <a:pt x="3766" y="3"/>
                    <a:pt x="3766" y="3"/>
                  </a:cubicBezTo>
                  <a:cubicBezTo>
                    <a:pt x="3784" y="6"/>
                    <a:pt x="3806" y="0"/>
                    <a:pt x="3820" y="12"/>
                  </a:cubicBezTo>
                  <a:cubicBezTo>
                    <a:pt x="3831" y="22"/>
                    <a:pt x="3828" y="41"/>
                    <a:pt x="3828" y="56"/>
                  </a:cubicBezTo>
                  <a:cubicBezTo>
                    <a:pt x="3828" y="202"/>
                    <a:pt x="3809" y="324"/>
                    <a:pt x="3793" y="464"/>
                  </a:cubicBezTo>
                  <a:cubicBezTo>
                    <a:pt x="3790" y="691"/>
                    <a:pt x="3790" y="919"/>
                    <a:pt x="3784" y="1146"/>
                  </a:cubicBezTo>
                  <a:cubicBezTo>
                    <a:pt x="3783" y="1191"/>
                    <a:pt x="3757" y="1230"/>
                    <a:pt x="3740" y="1270"/>
                  </a:cubicBezTo>
                  <a:cubicBezTo>
                    <a:pt x="3683" y="1400"/>
                    <a:pt x="3572" y="1461"/>
                    <a:pt x="3456" y="1536"/>
                  </a:cubicBezTo>
                  <a:cubicBezTo>
                    <a:pt x="3384" y="1582"/>
                    <a:pt x="3338" y="1605"/>
                    <a:pt x="3252" y="1616"/>
                  </a:cubicBezTo>
                  <a:cubicBezTo>
                    <a:pt x="3192" y="1637"/>
                    <a:pt x="3128" y="1645"/>
                    <a:pt x="3066" y="1660"/>
                  </a:cubicBezTo>
                  <a:cubicBezTo>
                    <a:pt x="2951" y="1652"/>
                    <a:pt x="2844" y="1629"/>
                    <a:pt x="2730" y="1616"/>
                  </a:cubicBezTo>
                  <a:cubicBezTo>
                    <a:pt x="2616" y="1587"/>
                    <a:pt x="2517" y="1522"/>
                    <a:pt x="2411" y="1474"/>
                  </a:cubicBezTo>
                  <a:cubicBezTo>
                    <a:pt x="2371" y="1456"/>
                    <a:pt x="2334" y="1430"/>
                    <a:pt x="2295" y="1412"/>
                  </a:cubicBezTo>
                  <a:cubicBezTo>
                    <a:pt x="2278" y="1404"/>
                    <a:pt x="2242" y="1394"/>
                    <a:pt x="2242" y="1394"/>
                  </a:cubicBezTo>
                  <a:cubicBezTo>
                    <a:pt x="2136" y="1399"/>
                    <a:pt x="2070" y="1413"/>
                    <a:pt x="1976" y="1394"/>
                  </a:cubicBezTo>
                  <a:cubicBezTo>
                    <a:pt x="1895" y="1378"/>
                    <a:pt x="1931" y="1376"/>
                    <a:pt x="1852" y="1350"/>
                  </a:cubicBezTo>
                  <a:cubicBezTo>
                    <a:pt x="1775" y="1325"/>
                    <a:pt x="1692" y="1304"/>
                    <a:pt x="1613" y="1288"/>
                  </a:cubicBezTo>
                  <a:cubicBezTo>
                    <a:pt x="1477" y="1294"/>
                    <a:pt x="1341" y="1295"/>
                    <a:pt x="1205" y="1306"/>
                  </a:cubicBezTo>
                  <a:cubicBezTo>
                    <a:pt x="1183" y="1308"/>
                    <a:pt x="1162" y="1332"/>
                    <a:pt x="1143" y="1341"/>
                  </a:cubicBezTo>
                  <a:cubicBezTo>
                    <a:pt x="1126" y="1349"/>
                    <a:pt x="1090" y="1359"/>
                    <a:pt x="1090" y="1359"/>
                  </a:cubicBezTo>
                  <a:cubicBezTo>
                    <a:pt x="1031" y="1403"/>
                    <a:pt x="986" y="1421"/>
                    <a:pt x="913" y="1438"/>
                  </a:cubicBezTo>
                  <a:cubicBezTo>
                    <a:pt x="858" y="1475"/>
                    <a:pt x="868" y="1456"/>
                    <a:pt x="815" y="1518"/>
                  </a:cubicBezTo>
                  <a:cubicBezTo>
                    <a:pt x="800" y="1570"/>
                    <a:pt x="821" y="1523"/>
                    <a:pt x="771" y="1563"/>
                  </a:cubicBezTo>
                  <a:cubicBezTo>
                    <a:pt x="751" y="1579"/>
                    <a:pt x="738" y="1600"/>
                    <a:pt x="718" y="1616"/>
                  </a:cubicBezTo>
                  <a:cubicBezTo>
                    <a:pt x="680" y="1647"/>
                    <a:pt x="622" y="1673"/>
                    <a:pt x="576" y="1695"/>
                  </a:cubicBezTo>
                  <a:cubicBezTo>
                    <a:pt x="560" y="1743"/>
                    <a:pt x="511" y="1789"/>
                    <a:pt x="461" y="1802"/>
                  </a:cubicBezTo>
                  <a:cubicBezTo>
                    <a:pt x="446" y="1806"/>
                    <a:pt x="432" y="1807"/>
                    <a:pt x="417" y="1811"/>
                  </a:cubicBezTo>
                  <a:cubicBezTo>
                    <a:pt x="408" y="1813"/>
                    <a:pt x="394" y="1828"/>
                    <a:pt x="390" y="1820"/>
                  </a:cubicBezTo>
                  <a:cubicBezTo>
                    <a:pt x="385" y="1810"/>
                    <a:pt x="402" y="1802"/>
                    <a:pt x="408" y="17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ff99ff">
                    <a:alpha val="5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 rot="21232200">
              <a:off x="2482560" y="1571400"/>
              <a:ext cx="5184720" cy="272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2">
                      <a:alphaModFix amt="95000"/>
                    </a:blip>
                    <a:srcRect/>
                    <a:stretch/>
                  </a:blipFill>
                  <a:latin typeface="Monotype Koufi"/>
                </a:rPr>
                <a:t>إدارة المتدربين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3">
                    <a:alphaModFix amt="95000"/>
                  </a:blip>
                  <a:srcRect/>
                  <a:stretch/>
                </a:blipFill>
                <a:latin typeface="Monotype Koufi"/>
                <a:ea typeface="Monotype Kouf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solidFill>
            <a:srgbClr val="33cccc">
              <a:alpha val="4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نماط المتدرب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2131920"/>
            <a:ext cx="3378240" cy="3384720"/>
          </a:xfrm>
          <a:prstGeom prst="rect">
            <a:avLst/>
          </a:prstGeom>
          <a:solidFill>
            <a:srgbClr val="33cccc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ثرث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مسرف في تقديم الدع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مشاغب المفر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إيجا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ثير الشكو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غير المكتر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7400" y="2131920"/>
            <a:ext cx="3449880" cy="3384720"/>
          </a:xfrm>
          <a:prstGeom prst="rect">
            <a:avLst/>
          </a:prstGeom>
          <a:solidFill>
            <a:srgbClr val="33cccc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مدعي المعر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اجتماع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شو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سي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خج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تع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84000" y="2193480"/>
            <a:ext cx="4103640" cy="1451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تعامل مع الأنما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 تكون بسبب ان ما تم مناقشته والاتفاق عليه يتعارض مع طموحاتهم ومصالح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يول عدوانية لدى بعض المتدر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284640"/>
            <a:ext cx="77752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التزام بالحقائ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لا تتحيز لرأي مع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جمع الآخرين حولك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ضعف السيطر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لوب الحوار غير منظ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وضوع غير مثير للاهتم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خروج عن الموض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3284640"/>
            <a:ext cx="7775280" cy="201600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مسك بزمام الأمو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دستور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سأل عن علاقة ما يطرح بالموض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أعد صياغة الفكرة وقد نحو الهد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رض غير جي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وضوع با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اقات مسبقة للمتدر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جود شواهد من الحيا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حادثات الجان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284640"/>
            <a:ext cx="77752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توقف عن الحديث للفت الانظ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تحرك في اتجاه المتحدث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وجه اسئلة مباشرة مع مراعاة ردود الفع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ستخدم اسمائهم  في مثال ملائ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م التجانس الوظيفي أو الثقا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فرص النقا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لتواصل  البصر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مط المشاركات موح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سيطرة بعض الأعضاء على المجموع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حم الضعفاء وقو وجهات نظر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حجم مشاركات الأقوياء ووظف مسارها(داخلي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طلب مسح عام لوجهات النظر وانتقي ما تتوسع في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غير توزيع المهام والأدوار أو وضع الجلس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عدم ملائمة اسلوب التدري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تاحة الفرصة للنقاش غير الموج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لة توظيف وسائل التخط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أخر الحضور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أعطال في الأجهز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ياع الوقت قبل استكمال ال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خطة زمن مفصلة  والتزم بها و ابدأ في الوقت المحد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ختر الأسلوب بعناية وضع بدائل للطوار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كن لبقا في استخلاص النتائج وغلق الحو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تخذ إجراءات سريعة (مناسبة ) مع الأنماط غير المساع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مدار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واصلات والمواق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ارتباط ب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مشكلات شخص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سلوب التدريب الرتيب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رغبة أكثر المجموعة في تأخير بداية البرنامج والانصراف المبك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نظام مبدئي متفق علي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قلل فترات الراحة وشدد في الالتز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ظهر تقديرك للظروف وإحساسك بها وتعامل بمرونة إيجاب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عدد جه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مرار المجموعات دون تغي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للية المجموعات وتصارع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قسم بشكل غير انتمائ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غير المجموع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وفق وجهات النظر وركز على نقاط الاتفا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نطباع غير الجيد عن سبب الترشي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شعور بعلاقة التدريب بمهار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جود مثبط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دم القناعة بجدوى التدريب أو الموضو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284640"/>
            <a:ext cx="777564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دع فرصة لتفريغ الشحنات، واقترب منهم في فترات الراح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ربط المعطيات بمجال العمل وبمجال الحياة أيضا وجعل لها قي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متدح التفاعل الإيجابي واستثمر المساعد المتط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عبر بإخلاص واستعد بمواقف وشواهد عمل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3720" y="1025640"/>
            <a:ext cx="8352000" cy="3987720"/>
          </a:xfrm>
          <a:prstGeom prst="rect">
            <a:avLst/>
          </a:prstGeom>
          <a:gradFill rotWithShape="0">
            <a:gsLst>
              <a:gs pos="0">
                <a:srgbClr val="ccffcc">
                  <a:alpha val="60392"/>
                </a:srgbClr>
              </a:gs>
              <a:gs pos="100000">
                <a:srgbClr val="ffffff">
                  <a:alpha val="6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أهداف الجلس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لتعرف على بعض مهارات إدارة المتدر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قتراح حلول للتعامل مع بعض أنواع المتدرب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وضع حلول لبعض المشكلات الشائ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84360" y="1700280"/>
            <a:ext cx="6120000" cy="398772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ccffcc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محتويات الجلسة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14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قواعد التعامل الع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لماذا يحضر المتدربون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أنماط المتدر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كيفية التعامل مع كل نم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تقديم التدر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765840" cy="4114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ور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عصف الذهن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حلقات النقاش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دراسة الحال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عر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لعب الأدو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 تختار الأسلوب التدريب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طبيعة الهد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طبيعة المادة التدريب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زمن المتاح وزمن التقدي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نوع المتدربين وعدد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نوع القا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إمكانات المتاح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معايير أخرى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7080" y="609120"/>
            <a:ext cx="4678560" cy="1143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نشاط   ( </a:t>
            </a: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م تفسر اختلاف الناس في فكرة م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و الحكم على شيء ما  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 ما الأقسام التي تتوقعها للناس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7080" y="609120"/>
            <a:ext cx="4678560" cy="1143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لماذا يحضر المتدربون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5960" y="1700280"/>
            <a:ext cx="7772400" cy="4114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</a:rPr>
              <a:t>هناك أسباب متوقعة منه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إضافة برنامجا تدريبيا في سجل الوظي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عتقاده بأن التدريب فرصة للهروب من العم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 يشعر بأن البرنامج حيلة لإبعاده من العم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ليدا لزمل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لاستفادة من عائدات التدريب المادية والمعنو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مارس رغبات مكبوتة في العمل مثل حرية الرأي أو النقا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404640"/>
            <a:ext cx="6478920" cy="1224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800000"/>
                </a:solidFill>
                <a:latin typeface="Times New Roman"/>
              </a:rPr>
              <a:t>ماذا 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سينتج عن الاختلاف في الثقافة والخبرات والدوافع والنفسيات</a:t>
            </a:r>
            <a:r>
              <a:rPr b="0" lang="ar-SA" sz="2800" spc="-1" strike="noStrike">
                <a:solidFill>
                  <a:srgbClr val="800000"/>
                </a:solidFill>
                <a:latin typeface="Times New Roman"/>
              </a:rPr>
              <a:t> 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صارع المجموعات وبروز الشل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هوين من أهمية التدري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م الاقتناع بإمكانية تطبيق معطيات التدريب على الواق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تفاعل مع التدريبات والأنشط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شتغال بقراء الملفات والأحاديث الجانب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شوائية في الحديث ومقاطعات  وتحي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قد ل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نتج عن الاختلافات النفسية عد كبير من الأنماط الشخصية ذات الطباع المختلف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7080" y="333000"/>
            <a:ext cx="4678560" cy="145116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موقع المدرب من إشكالات المتدرب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920" y="1981080"/>
            <a:ext cx="7812000" cy="41148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ccec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حديد غير دقيق ل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عداد غير مناسب للمادة ال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ام غير مناسب لوسائل التدريب والأجه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قدرة على التعامل مع المواق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فتقار للقدرة على قيادة المجموعات نحو ا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ستيعاب المادة ال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لثقة بالنف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فتقار لفنون الجذب والتشوي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abic</cp:lastModifiedBy>
  <dcterms:modified xsi:type="dcterms:W3CDTF">2005-11-28T12:23:59Z</dcterms:modified>
  <cp:revision>10</cp:revision>
  <dc:subject/>
  <dc:title>PowerPoint Presentation</dc:title>
</cp:coreProperties>
</file>