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894-F68B-4932-A33E-80D61F81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5AF-48DD-4BE9-B9F9-2A102067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7C9-616D-4AD9-9DA0-ED7E84E1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F757-DD55-4476-AF39-19149015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7B2E-31F2-49E2-9FFD-F14E5F07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B827-3C3D-478E-B692-7BB39D51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5807-7E3F-4A32-8136-3B1075CF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8DF4-7FD1-46FC-A996-1838F4BA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B7EC-A7A9-4D6D-93B9-C8D617A2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AEA0-84EC-431E-87FB-8729E5FB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3314-1F2E-49EA-899D-B525B974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CF08-2D0E-4B84-9AA5-A689030F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346F-4219-4851-85D2-3FB5165D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5A75-4871-4A63-B7FA-96BC0C2B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3761-1A09-4207-BEEE-A483B2F0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2530-23DE-4327-8EE6-805BFE12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913B-7A5D-48DD-98C3-C42AC8FA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3F3-5441-4C79-AF1D-69261674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C92-F1A0-491A-9543-677F2F65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10B1-5136-45C9-952C-63A358DD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977-9394-4D48-8EF3-6350C4FB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9F6-760F-426A-AA99-FA669EE8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130-0431-4605-BD82-A534FA83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8BB-CB27-45F7-9D43-A21D97C4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3779-AAF9-46B5-8A94-75D0459373A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6BB2-EBA8-4E67-954E-C4C0A48D9D2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eec94"/>
                </a:solidFill>
                <a:latin typeface="Times New Roman"/>
              </a:rPr>
              <a:t>تذوق طعم الحياة الزوجية بعد معرفة الأسرار الستة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ملخص بسيط لشريط الشيخ جاسم المطو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فهم النفسيات بين الزوجي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ما هي المشكلة بين الزوجين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4382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 الرجال يتكلمون و يتعاملون مع النساء بلغة و نفسية الرجال, والنساء يتكلمون و يتعاملون مع الرجال بلغة و نفسية النساء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00"/>
                </a:solidFill>
                <a:latin typeface="Times New Roman"/>
              </a:rPr>
              <a:t>السر الأو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ب ان يثبت نفسه بما ينتج، أما المرأة فتحب ان تثبت نفسها بإعتمادها على الرجل و بإخراج عاطفت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قاعدة: الجزء يحن الى أصله (آدم أصله من التراب، وحواء جزء من آد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راسة: عملت ع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مرأة في وظيفة مديرة بنك بأمريكا، وسئلوا: إذا اردتم إتخاذ قرار في عملكم من تستشيرون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نتيجة: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% قالوا نستشير أزواجنا !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السر الثان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الرجل يستخدم الجانب الأيسر من مخه، أما المرأة فتستخدم الجانب الأيمن من مخها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سر: الأرقام، التحليل، الترتيب، القرارات، التخطي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من: العاطفة، الخيال، الأبعاد، الابداع، التناسق، الألحان، الذو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دراسة: تمت على أكثر م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امرأة و رجل في الكويت – كم تتكلم المرأة في اليوم؟ وكم يتكلم الرجل في اليوم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النتيجة: المرأة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ف كلمة  - - - الرجل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اف كلم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ثال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نظر الى الصورة بشكل كامل بينما المرأة تنظر الى تفاصيل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ن المرأة تحب التفاصيل بينما الرجل تكفيه النظرة العام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الرجل لايهمه ماذا يوجد داخل البيت بقدر ما يهمه أن يؤمن مستقبل البي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راب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تاج الى وقت اكثر حتى يجمع عواطفه ثم يخرج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اطفة في الجانب الأيمن من المخ وهو الجانب الذي تستخدمه المرأة أكثر من الرج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رجل يعبر عن عواطفه بالعمل، أما المرأة فتعبر عن عاطفتها بالكلا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خام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مهيأ للتفكير في حل المشاكل بينما المرأة مهيأة للقيام بالأعما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لاقة بين المرأة والرجل ليست علاقة تفاضل وانما علاقة تكا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زوج يجب عليه أن يفرق بين كلام الزوجة: هل هو مشكلة تريد لها حل، أم إخبار فق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ساد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إن الاختلاف الجسدي والعضوي بين الرجل والمرأة له تأثير نفسي على الطرف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مرأة: العادة الشهرية، النفاس، الح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رجل: العمل والكدح وتأثيرها على البي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17:37:52Z</dcterms:created>
  <dc:creator>FAB</dc:creator>
  <dc:description/>
  <dc:language>en-US</dc:language>
  <cp:lastModifiedBy>Aramco User</cp:lastModifiedBy>
  <dcterms:modified xsi:type="dcterms:W3CDTF">2004-03-02T10:09:14Z</dcterms:modified>
  <cp:revision>13</cp:revision>
  <dc:subject/>
  <dc:title>تذوق طعم الحياة الزوجية بعد معرفة الأسرار الستة</dc:title>
</cp:coreProperties>
</file>