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EFC-976A-4745-82A3-99114CA6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C84-C540-4811-986C-21B77D8B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D1D-B620-4AD8-BE26-616F853F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813-E088-4893-A981-BDD063DB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B523-8E58-4329-8847-E4EACC46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AB2A-E226-410D-A35E-B737F43E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C608-AD70-472F-8D4B-54869804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A239-0347-4F03-9459-2FFBF889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E256-3829-4334-B1B7-E6F9EE9D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DB2A-31E4-4023-8FFD-0590D1D1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721B-C8AA-4641-9B5A-C2AF67B4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AAB-53C0-4C4F-BDFB-9C56A3CC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D048-C93F-4C3C-986E-7CF1A024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497B-7858-47F7-9E55-19B45FC6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3AB2-5EFF-4C39-81F9-3EC5E3A9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107D-57C3-413E-A32F-9CDF2A163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8FB3-ACB9-4A6D-A9BE-7ED8ABD7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62D-BBA1-437D-8F1D-5297D8B3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7875-FB99-4A26-A274-576F8153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3F52-B2F7-46BF-A74A-2256886B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72C-ECE4-437B-850D-31C0DD03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221-B39D-4132-AE53-B5BE5DC2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DA0-8377-4E2B-BE48-1A199941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0E5-6B7D-4D9B-B388-7AE00872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B524-A6A3-41C9-A4E3-BA35739E09F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6FF9-9F55-4E1B-A760-5D52E3865E8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تذوق طعم الحياة الزوجية بعد معرفة الأسرار الستة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ملخص بسيط لشريط الشيخ جاسم المطوع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فهم النفسيات بين الزوجي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eec94"/>
                </a:solidFill>
                <a:latin typeface="Times New Roman"/>
              </a:rPr>
              <a:t>ما هي المشكلة بين الزوجين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4382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 الرجال يتكلمون و يتعاملون مع النساء بلغة و نفسية الرجال, والنساء يتكلمون و يتعاملون مع الرجال بلغة و نفسية النساء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00"/>
                </a:solidFill>
                <a:latin typeface="Times New Roman"/>
              </a:rPr>
              <a:t>السر الأو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ب ان يثبت نفسه بما ينتج، أما المرأة فتحب ان تثبت نفسها بإعتمادها على الرجل و بإخراج عاطفت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قاعدة: الجزء يحن الى أصله (آدم أصله من التراب، وحواء جزء من آد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دراسة: عملت على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500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امرأة في وظيفة مديرة بنك بأمريكا، وسئلوا: إذا اردتم إتخاذ قرار في عملكم من تستشيرون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نتيجة: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64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% قالوا نستشير أزواجنا !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imes New Roman"/>
              </a:rPr>
              <a:t>السر الثان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الرجل يستخدم الجانب الأيسر من مخه، أما المرأة فتستخدم الجانب الأيمن من مخها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سر: الأرقام، التحليل، الترتيب، القرارات، التخطي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lnSpc>
                <a:spcPct val="90000"/>
              </a:lnSpc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صفات الجانب الأيمن: العاطفة، الخيال، الأبعاد، الابداع، التناسق، الألحان، الذو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دراسة: تمت على أكثر من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امرأة و رجل في الكويت – كم تتكلم المرأة في اليوم؟ وكم يتكلم الرجل في اليوم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النتيجة: المرأة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ف كلمة  - - - الرجل=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الاف كلم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ثال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نظر الى الصورة بشكل كامل بينما المرأة تنظر الى تفاصيل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ي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ن المرأة تحب التفاصيل بينما الرجل تكفيه النظرة العامة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الرجل لايهمه ماذا يوجد داخل البيت بقدر ما يهمه أن يؤمن مستقبل البيت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راب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يحتاج الى وقت اكثر حتى يجمع عواطفه ثم يخرجها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اطفة في الجانب الأيمن من المخ وهو الجانب الذي تستخدمه المرأة أكثر من الرج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رجل يعبر عن عواطفه بالعمل، أما المرأة فتعبر عن عاطفتها بالكلا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لخام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رجل مهيأ للتفكير في حل المشاكل بينما المرأة مهيأة للقيام بالأعمال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علوم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علاقة بين المرأة والرجل ليست علاقة تفاضل وانما علاقة تكا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زوج يجب عليه أن يفرق بين كلام الزوجة: هل هو مشكلة تريد لها حل، أم إخبار فقط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00"/>
                </a:solidFill>
                <a:latin typeface="Times New Roman"/>
              </a:rPr>
              <a:t>السر اساد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إن الاختلاف الجسدي والعضوي بين الرجل والمرأة له تأثير نفسي على الطرفين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مرأة: العادة الشهرية، النفاس، الحم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أسباب التأثيرات عند الرجل: العمل والكدح وتأثيرها على البي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</a:rPr>
              <a:t>أسرار كيفية التعامل و فهم النفسيات بين الزوجين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17:37:52Z</dcterms:created>
  <dc:creator>FAB</dc:creator>
  <dc:description/>
  <dc:language>en-US</dc:language>
  <cp:lastModifiedBy>Aramco User</cp:lastModifiedBy>
  <dcterms:modified xsi:type="dcterms:W3CDTF">2004-03-02T10:09:14Z</dcterms:modified>
  <cp:revision>13</cp:revision>
  <dc:subject/>
  <dc:title>تذوق طعم الحياة الزوجية بعد معرفة الأسرار الستة</dc:title>
</cp:coreProperties>
</file>