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D4F8-C4A7-4667-88CF-FC4DA431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B7A5-33EC-435A-96FF-4CF9743F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B4E-99CF-4110-9489-69323937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B31-B49D-49FE-B3C8-D43391F7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B9D2-090D-4AA6-B286-30B86F47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4FBF-7E21-4016-A9B3-79324AB2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B1F6-A331-4E62-A8B2-F75ED778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7C5B-9D7D-42EB-B56D-765E42CF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56AA-CAB4-4F8E-94F7-94C64F15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25BA-3176-4F5B-807B-FFDEFA1A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2C67-7F44-41A5-8B40-DE4789D7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6C9-4C16-4EF9-A583-B62D0761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ECA5-2A81-4336-8BA3-6F9902A2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FA79-02F8-4F1F-8985-EADE5C9F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75DC-A411-47A3-B389-C4F6606E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FAA2-DF06-4FCD-9F96-8F420934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373E-1299-43B3-959A-23113068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6CC1-F040-4DED-A51E-4DD8CDC1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09A4-A045-456F-B721-85C95796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FC4B-260E-4A31-8ECD-A0470F33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2BD6-C762-4D5B-9B15-75016F8A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18A7-B3A8-4C4B-81C4-099C093E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D5B5-820A-4C17-90F1-6023D6F1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3D24-888C-42B0-89B9-D93E42C4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A8F5-0740-4B97-8F71-E1DA78B7222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5C0D-C82A-4B04-BC04-F47F4A4B715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eec94"/>
                </a:solidFill>
                <a:latin typeface="Times New Roman"/>
              </a:rPr>
              <a:t>تذوق طعم الحياة الزوجية بعد معرفة الأسرار الستة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ملخص بسيط لشريط الشيخ جاسم المطو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فهم النفسيات بين الزوجي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ما هي المشكلة بين الزوجين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4382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ن الرجال يتكلمون و يتعاملون مع النساء بلغة و نفسية الرجال, والنساء يتكلمون و يتعاملون مع الرجال بلغة و نفسية النساء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00"/>
                </a:solidFill>
                <a:latin typeface="Times New Roman"/>
              </a:rPr>
              <a:t>السر الأو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ب ان يثبت نفسه بما ينتج، أما المرأة فتحب ان تثبت نفسها بإعتمادها على الرجل و بإخراج عاطفت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قاعدة: الجزء يحن الى أصله (آدم أصله من التراب، وحواء جزء من آدم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راسة: عملت على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امرأة في وظيفة مديرة بنك بأمريكا، وسئلوا: إذا اردتم إتخاذ قرار في عملكم من تستشيرون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نتيجة: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6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% قالوا نستشير أزواجنا !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السر الثان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الرجل يستخدم الجانب الأيسر من مخه، أما المرأة فتستخدم الجانب الأيمن من مخها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سر: الأرقام، التحليل، الترتيب، القرارات، التخطي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من: العاطفة، الخيال، الأبعاد، الابداع، التناسق، الألحان، الذو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دراسة: تمت على أكثر م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امرأة و رجل في الكويت – كم تتكلم المرأة في اليوم؟ وكم يتكلم الرجل في اليوم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النتيجة: المرأة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ف كلمة  - - - الرجل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اف كلم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ثال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نظر الى الصورة بشكل كامل بينما المرأة تنظر الى تفاصيل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ن المرأة تحب التفاصيل بينما الرجل تكفيه النظرة العام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الرجل لايهمه ماذا يوجد داخل البيت بقدر ما يهمه أن يؤمن مستقبل البي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راب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تاج الى وقت اكثر حتى يجمع عواطفه ثم يخرج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اطفة في الجانب الأيمن من المخ وهو الجانب الذي تستخدمه المرأة أكثر من الرج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رجل يعبر عن عواطفه بالعمل، أما المرأة فتعبر عن عاطفتها بالكلا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خام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مهيأ للتفكير في حل المشاكل بينما المرأة مهيأة للقيام بالأعمال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لاقة بين المرأة والرجل ليست علاقة تفاضل وانما علاقة تكا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زوج يجب عليه أن يفرق بين كلام الزوجة: هل هو مشكلة تريد لها حل، أم إخبار فق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ساد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إن الاختلاف الجسدي والعضوي بين الرجل والمرأة له تأثير نفسي على الطرفين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مرأة: العادة الشهرية، النفاس، الح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رجل: العمل والكدح وتأثيرها على البي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17:37:52Z</dcterms:created>
  <dc:creator>FAB</dc:creator>
  <dc:description/>
  <dc:language>en-US</dc:language>
  <cp:lastModifiedBy>Aramco User</cp:lastModifiedBy>
  <dcterms:modified xsi:type="dcterms:W3CDTF">2004-03-02T10:09:14Z</dcterms:modified>
  <cp:revision>13</cp:revision>
  <dc:subject/>
  <dc:title>تذوق طعم الحياة الزوجية بعد معرفة الأسرار الستة</dc:title>
</cp:coreProperties>
</file>