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62F-0F23-42C1-A111-D0A90E33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180-A58E-42ED-9DA4-0D68E38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BEA-50C9-42F9-AB93-7BA6E220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1F6-07FF-4907-B3A2-855AC47F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6B2-9F84-45C4-A27B-9CEDA70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ED3-033D-436F-946D-DABCEB86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DEF-9A9C-448D-848E-2C4B904A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AFD-3E40-4C02-BAE0-60E984CE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71A-E765-42D9-AB1E-731B85DB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ED6-7814-4589-B1C2-AEF2044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9A8-9F81-4A13-8509-ECCA7B16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3C8-01A1-4D95-8B5E-12E447A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E01-5EC1-415E-9973-6A7F3F1BA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OUTPUT_000052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52480" y="2743200"/>
            <a:ext cx="5334120" cy="10666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0" y="2932200"/>
            <a:ext cx="41911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تحس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274760" y="1371600"/>
            <a:ext cx="6040440" cy="1279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79680" y="1538280"/>
            <a:ext cx="54864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يست مرضا ولكنها حالة عاب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دث لأسباب خارحية مث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شاغل وضيق الوق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324480" y="4102200"/>
            <a:ext cx="25956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ش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ذهن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348000" y="407988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ذ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نو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319800" y="5657760"/>
            <a:ext cx="25956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و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000" y="4102200"/>
            <a:ext cx="2728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ي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348000" y="560376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رق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3000" y="5657760"/>
            <a:ext cx="27288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حسين 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74760" y="1371600"/>
            <a:ext cx="60404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79680" y="1447920"/>
            <a:ext cx="54864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سح نظارتك أو بدلها بنظارة جدي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705720" y="4102200"/>
            <a:ext cx="1909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سرتى ليس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سجمة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81280" y="4079880"/>
            <a:ext cx="2057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ط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در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553080" y="5657760"/>
            <a:ext cx="198144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ديقى 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فى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4102200"/>
            <a:ext cx="21952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ح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فه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يعرف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57600" y="5603760"/>
            <a:ext cx="1967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د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0200" y="5657760"/>
            <a:ext cx="18144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هتم 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مى وأ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362320"/>
            <a:ext cx="863136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2514600"/>
            <a:ext cx="81532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قريبون يسيئون إلى فيرى العالم كما يحب أن يراه هو وليس كما العا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وى الدنيا المتضادات هيا نمسح الغبارعن النظارة أو نستبدلها بنظارة أخر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438280" y="5500800"/>
            <a:ext cx="426744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666880" y="5638680"/>
            <a:ext cx="380700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قول الإمام على بن أبى طالب : الحلم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طاء ساتر والعقل حسام قاطع فاس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لل عقلك بحلمك وقاتل هواك بعق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16002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76120" y="1816200"/>
            <a:ext cx="18576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نفوسن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عقولنا كنو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حصى علي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شف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76320"/>
            <a:ext cx="7239240" cy="1447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47920" y="453960"/>
            <a:ext cx="60958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 أنظر إلى الحياة بايجاب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1616040"/>
            <a:ext cx="2362320" cy="1279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34320" y="1752480"/>
            <a:ext cx="204624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رى 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ملوء من الإن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الفار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76920" y="17524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مان بأ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كون مدب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خلق ش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90920" y="1739880"/>
            <a:ext cx="1827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حث عن المف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كل شى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اد الذى يع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نيع النشا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895480"/>
            <a:ext cx="2362320" cy="1279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34320" y="29718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كر دائما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ناء وليس الهد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لا تحسد ولا تكر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8320" y="30481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أنفسنا د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رور ونحب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ون تبعية أو امتهان 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438280" y="3035160"/>
            <a:ext cx="198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اءلوا بالخ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دوه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 فش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كنه نجح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289548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52280" y="297180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اقع المر ل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تغير إلا بالتدري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طرات الماء تقط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صخرة العظي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4191120"/>
            <a:ext cx="2286000" cy="1307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600" y="4406760"/>
            <a:ext cx="193356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جاح مره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عمل والصب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بال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419112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97760" y="4427640"/>
            <a:ext cx="1817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صائب كل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نها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43434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يوب يمك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حيحها بالاتق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نوب بالتوب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92360" y="4330800"/>
            <a:ext cx="17510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ن مسئول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أنفسنا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غير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548640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934320" y="57150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ضا نتائج أعمال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تى ولو كانت صغ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دد العزم ونتوك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الل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76320" y="54864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556272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الصحة وال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علم والثقافةوال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نسامح ولا نعاد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81080" y="0"/>
            <a:ext cx="525780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7096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1840" y="1600200"/>
            <a:ext cx="380664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ه المهمة ليست سهلة ولكن أستطيع القيام ب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2860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412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دىء أعصاب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2743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352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886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495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10382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4120" y="1004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فضل أن ن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5029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780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حتاج إلى حركة ونشا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6181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71800" y="166680"/>
            <a:ext cx="32767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اموس الايجاب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088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ب أن أتق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88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ا ش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63039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6104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تغض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61040" y="1066680"/>
            <a:ext cx="32734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بدلا من القو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472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كس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87692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780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ضع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5780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خا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105520" y="2743200"/>
            <a:ext cx="3886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اليوم شاق ب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5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57800" y="3900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ظن أننى سأنجح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25780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عتقد أنه يتحق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2757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ا اليوم مفعم ب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آمل أن يتحق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7800" y="388620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إن شاء الله سأنج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سوف أحاول وأس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52880" y="1614600"/>
            <a:ext cx="41148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عمل صعب أو هذه المهمة صعب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ة أسرار عملية للتفوق وال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4674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عتمد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كثر م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اسة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ف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419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ذل الجه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ملاز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 الح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و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نظر إلى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جا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920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ج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ن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733920" y="350532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ر عيسى وحواريو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على جثة كلب فقالو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نتن جيفة هذ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كلب فقال عيسى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: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أنظروا إلى أسنان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شد بياضه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قول أحد الأدباء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إن أنت قلتها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إن سكت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لها إذن ومت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9200" y="3581280"/>
            <a:ext cx="159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هى اعطنى الشجاع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فى القدرة على تغيي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أقد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عل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قناعة على تقبل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ل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مكنن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حكمة على معرف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فرق بين الاثنين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1520" y="3657600"/>
            <a:ext cx="1676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راء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5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ه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638680" y="3657600"/>
            <a:ext cx="1524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شتهر عبد الرحم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ن أبى حاتم الرازى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صاحب الكتاب العظي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(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جرح والتعديل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)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ملازمته لوالده وكث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أخذ عنه وكان يقو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ربما كان يأكل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مشى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دخل البيت وأقرأ عليه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63600" y="4114800"/>
            <a:ext cx="2192400" cy="1835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340000" y="59785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مع تحيات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قاوم الإهما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148440" y="1981080"/>
            <a:ext cx="2895480" cy="327672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276720"/>
              <a:gd name="textAreaBottom" fmla="*/ 3135600 h 3276720"/>
            </a:gdLst>
            <a:ahLst/>
            <a:rect l="textAreaLeft" t="textAreaTop" r="textAreaRight" b="textAreaBottom"/>
            <a:pathLst>
              <a:path w="21600" h="24444">
                <a:moveTo>
                  <a:pt x="3600" y="0"/>
                </a:moveTo>
                <a:arcTo wR="3600" hR="3600" stAng="16200000" swAng="-5400000"/>
                <a:lnTo>
                  <a:pt x="0" y="20844"/>
                </a:lnTo>
                <a:arcTo wR="3600" hR="3600" stAng="10800000" swAng="-5400000"/>
                <a:lnTo>
                  <a:pt x="18000" y="24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33412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42124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إن أى تساهل أو إهمال فى الأمور الصغيرة يصل إلى الأمور الكب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176640" y="1981080"/>
            <a:ext cx="2965320" cy="3276720"/>
          </a:xfrm>
          <a:custGeom>
            <a:avLst/>
            <a:gdLst>
              <a:gd name="textAreaLeft" fmla="*/ 144720 w 2965320"/>
              <a:gd name="textAreaRight" fmla="*/ 2820600 w 2965320"/>
              <a:gd name="textAreaTop" fmla="*/ 144720 h 3276720"/>
              <a:gd name="textAreaBottom" fmla="*/ 3132000 h 3276720"/>
            </a:gdLst>
            <a:ahLst/>
            <a:rect l="textAreaLeft" t="textAreaTop" r="textAreaRight" b="textAreaBottom"/>
            <a:pathLst>
              <a:path w="21600" h="23868">
                <a:moveTo>
                  <a:pt x="3600" y="0"/>
                </a:moveTo>
                <a:arcTo wR="3600" hR="3600" stAng="16200000" swAng="-5400000"/>
                <a:lnTo>
                  <a:pt x="0" y="20268"/>
                </a:lnTo>
                <a:arcTo wR="3600" hR="3600" stAng="10800000" swAng="-5400000"/>
                <a:lnTo>
                  <a:pt x="18000" y="23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13080" y="2133720"/>
            <a:ext cx="26830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افىء أو عاقب نفسك :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حرم نفسك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راحة أو 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ذى تحب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2133720"/>
            <a:ext cx="261936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أل نفسك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ماذا أقو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هذا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ركت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س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أخر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2949480" cy="3276720"/>
          </a:xfrm>
          <a:custGeom>
            <a:avLst/>
            <a:gdLst>
              <a:gd name="textAreaLeft" fmla="*/ 144000 w 2949480"/>
              <a:gd name="textAreaRight" fmla="*/ 2805480 w 2949480"/>
              <a:gd name="textAreaTop" fmla="*/ 144000 h 3276720"/>
              <a:gd name="textAreaBottom" fmla="*/ 3132720 h 3276720"/>
            </a:gdLst>
            <a:ahLst/>
            <a:rect l="textAreaLeft" t="textAreaTop" r="textAreaRight" b="textAreaBottom"/>
            <a:pathLst>
              <a:path w="21600" h="23996">
                <a:moveTo>
                  <a:pt x="3600" y="0"/>
                </a:moveTo>
                <a:arcTo wR="3600" hR="3600" stAng="16200000" swAng="-5400000"/>
                <a:lnTo>
                  <a:pt x="0" y="20396"/>
                </a:lnTo>
                <a:arcTo wR="3600" hR="3600" stAng="10800000" swAng="-5400000"/>
                <a:lnTo>
                  <a:pt x="18000" y="23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9440" y="2162160"/>
            <a:ext cx="26686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حاسب نفسك : تم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عمالك حتى تستمت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وقت مرح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4376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23088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صة حديث سعد بن معاذ وقول النبى عند قبر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سيطر على نفسك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148440" y="1981080"/>
            <a:ext cx="2895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23000" y="4876920"/>
            <a:ext cx="2192400" cy="1143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0" y="4986360"/>
            <a:ext cx="18288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طرق السيط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ثلاث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176640" y="1981080"/>
            <a:ext cx="296532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13080" y="2133720"/>
            <a:ext cx="26830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رد بذاته 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ضعيفة ولكن لا بد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جماعية وإل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تسلم الفر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يجابى لسل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مجمو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48520" y="2133720"/>
            <a:ext cx="2619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ستطاع أ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سيطر على الآل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كون والفضاء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أرض ولكنه فش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فى السيطرة ع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981080"/>
            <a:ext cx="2949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2171880"/>
            <a:ext cx="26686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لعاقل ي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ن يحول الانهزام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صر والسلبية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والانكسار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رتفاع بأن يجيد فنو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تعامل مع السلب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143760"/>
            <a:ext cx="838224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30880"/>
            <a:ext cx="81565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مقياس نجاح ذلك على أمر واحد : وضوح الهدف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876920"/>
            <a:ext cx="213336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عرفة الانسا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فن معاملت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1460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أعمال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أنواعه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اجات الأساسي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لفرد والمجتمع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حول الفشل إلى 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124080"/>
            <a:ext cx="431964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124080"/>
            <a:ext cx="44956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3276720"/>
            <a:ext cx="392400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لم أوفق لحد الآ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يعنى تعلمت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خترت طريقا آخر لمراد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لدى الحجة للبداية من جدي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ى المحاولة والسع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24440" y="3276720"/>
            <a:ext cx="3762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ت انسان فاش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م تفعل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ن تصل لمراد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أتلفت حياتك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يك الرضوخ للواق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943600"/>
            <a:ext cx="83822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5943600"/>
            <a:ext cx="815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ديسون :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0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محاولة فاشلة قبل أن يخترع الكهرباء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نجاح والتفوق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الهام +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9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جهد واجتهاد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72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00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معنى الحقيق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1080" y="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8280" y="3808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قض على التوتر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458200" cy="2971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6000" y="2114640"/>
            <a:ext cx="7383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كفاية من النوم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ساعات والحصول على الراح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دقائق فترة الظه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بدء بالحضروات والفاكهة بكميات كبيرة وحفض كميات اللحوم والدسم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رص على التمرينات الرياضية يفرز الجسم الايدرفين المهدىء للمزاج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70040" y="3352680"/>
            <a:ext cx="738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 عميق وطويل وإخراجه ببطء يقلل من ضربات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ضاء وقت مع أصدقاء مرحين يتمتعون ب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بحث عن الضحك لتأثيره الايجابى فى دفع الاكتئا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6483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4775040"/>
            <a:ext cx="7383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ي دراسة أمريك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جد التسامح فى داخلك واعط للآخرين أعذا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رغ مشاعر الغضب والخوف على ورق ثم مزقه وارم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5715000"/>
            <a:ext cx="738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تتعلم الصمت أثناء الغضب فلا داعى للكلام وأنت متوتر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لا تحكم على الآخرين فلست زعيم الكون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كن عطوفا على نفسك فلا تجلدها ولكن لا تضيع الفر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استعن بالأصدقاء والأقارب والاخوان فى حل المشكلة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205740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24382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طوات التغيير العش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808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15200" y="5745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طوات 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الة ال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رب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599080" y="76320"/>
            <a:ext cx="1541520" cy="190476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4760"/>
              <a:gd name="textAreaBottom" fmla="*/ 1829520 h 1904760"/>
            </a:gdLst>
            <a:ahLst/>
            <a:rect l="textAreaLeft" t="textAreaTop" r="textAreaRight" b="textAreaBottom"/>
            <a:pathLst>
              <a:path w="21600" h="26689">
                <a:moveTo>
                  <a:pt x="3600" y="0"/>
                </a:moveTo>
                <a:arcTo wR="3600" hR="3600" stAng="16200000" swAng="-5400000"/>
                <a:lnTo>
                  <a:pt x="0" y="23089"/>
                </a:lnTo>
                <a:arcTo wR="3600" hR="3600" stAng="10800000" swAng="-5400000"/>
                <a:lnTo>
                  <a:pt x="18000" y="26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91320" y="27000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عتراف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خطأ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تجاه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لم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3843360" y="76320"/>
            <a:ext cx="1566720" cy="1904760"/>
          </a:xfrm>
          <a:custGeom>
            <a:avLst/>
            <a:gdLst>
              <a:gd name="textAreaLeft" fmla="*/ 76320 w 1566720"/>
              <a:gd name="textAreaRight" fmla="*/ 1490400 w 1566720"/>
              <a:gd name="textAreaTop" fmla="*/ 76320 h 1904760"/>
              <a:gd name="textAreaBottom" fmla="*/ 1828440 h 19047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6200" y="270000"/>
            <a:ext cx="1368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سئو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م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س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76320"/>
            <a:ext cx="1600200" cy="19047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04760"/>
              <a:gd name="textAreaBottom" fmla="*/ 1826640 h 1904760"/>
            </a:gdLst>
            <a:ahLst/>
            <a:rect l="textAreaLeft" t="textAreaTop" r="textAreaRight" b="textAreaBottom"/>
            <a:pathLst>
              <a:path w="21600" h="25710">
                <a:moveTo>
                  <a:pt x="3600" y="0"/>
                </a:moveTo>
                <a:arcTo wR="3600" hR="3600" stAng="16200000" swAng="-5400000"/>
                <a:lnTo>
                  <a:pt x="0" y="22110"/>
                </a:lnTo>
                <a:arcTo wR="3600" hR="3600" stAng="10800000" swAng="-5400000"/>
                <a:lnTo>
                  <a:pt x="18000" y="25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82680" y="270000"/>
            <a:ext cx="13986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ل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جم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حرر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وه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95200" y="76320"/>
            <a:ext cx="1533600" cy="190476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1904760"/>
              <a:gd name="textAreaBottom" fmla="*/ 1829880 h 1904760"/>
            </a:gdLst>
            <a:ahLst/>
            <a:rect l="textAreaLeft" t="textAreaTop" r="textAreaRight" b="textAreaBottom"/>
            <a:pathLst>
              <a:path w="21600" h="26826">
                <a:moveTo>
                  <a:pt x="3600" y="0"/>
                </a:moveTo>
                <a:arcTo wR="3600" hR="3600" stAng="16200000" swAng="-5400000"/>
                <a:lnTo>
                  <a:pt x="0" y="23226"/>
                </a:lnTo>
                <a:arcTo wR="3600" hR="3600" stAng="10800000" swAng="-5400000"/>
                <a:lnTo>
                  <a:pt x="18000" y="26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2920" y="326880"/>
            <a:ext cx="1339560" cy="13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ض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قتك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وم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أنهم السب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ستط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قاد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صنع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حاس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كل 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فعل أو 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915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قيد 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طريقة 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هى ستأت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هد بالمت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ا تنتظ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ثا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 تؤ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لتزم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ت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كي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ح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خ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ما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المسئو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فر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62320" y="457200"/>
            <a:ext cx="446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جعل الحظوظ حظوظ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9880" y="354636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1541520" cy="190512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5120"/>
              <a:gd name="textAreaBottom" fmla="*/ 1829880 h 1905120"/>
            </a:gdLst>
            <a:ahLst/>
            <a:rect l="textAreaLeft" t="textAreaTop" r="textAreaRight" b="textAreaBottom"/>
            <a:pathLst>
              <a:path w="21600" h="26694">
                <a:moveTo>
                  <a:pt x="3600" y="0"/>
                </a:moveTo>
                <a:arcTo wR="3600" hR="3600" stAng="16200000" swAng="-5400000"/>
                <a:lnTo>
                  <a:pt x="0" y="23094"/>
                </a:lnTo>
                <a:arcTo wR="3600" hR="3600" stAng="10800000" swAng="-5400000"/>
                <a:lnTo>
                  <a:pt x="18000" y="26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4520" y="19368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ارج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424640" y="0"/>
            <a:ext cx="1567080" cy="1905120"/>
          </a:xfrm>
          <a:custGeom>
            <a:avLst/>
            <a:gdLst>
              <a:gd name="textAreaLeft" fmla="*/ 76320 w 1567080"/>
              <a:gd name="textAreaRight" fmla="*/ 1490760 w 1567080"/>
              <a:gd name="textAreaTop" fmla="*/ 76320 h 1905120"/>
              <a:gd name="textAreaBottom" fmla="*/ 1828800 h 1905120"/>
            </a:gdLst>
            <a:ahLst/>
            <a:rect l="textAreaLeft" t="textAreaTop" r="textAreaRight" b="textAreaBottom"/>
            <a:pathLst>
              <a:path w="21600" h="26258">
                <a:moveTo>
                  <a:pt x="3600" y="0"/>
                </a:moveTo>
                <a:arcTo wR="3600" hR="3600" stAng="16200000" swAng="-5400000"/>
                <a:lnTo>
                  <a:pt x="0" y="22658"/>
                </a:lnTo>
                <a:arcTo wR="3600" hR="3600" stAng="10800000" swAng="-5400000"/>
                <a:lnTo>
                  <a:pt x="18000" y="26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67480" y="193680"/>
            <a:ext cx="1368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اخ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س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وج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م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يو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فاء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رج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شها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915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ي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627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فط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ف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جائ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771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روح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يمان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051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سائ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ا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اق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رأ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ثقا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828800"/>
            <a:ext cx="485640" cy="1509840"/>
          </a:xfrm>
          <a:prstGeom prst="upArrow">
            <a:avLst>
              <a:gd name="adj1" fmla="val 50000"/>
              <a:gd name="adj2" fmla="val 7772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480060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288120"/>
            <a:ext cx="83822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6324480"/>
            <a:ext cx="815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ثقة بالنفس تعنى قبول المرء بحالته الحاضرة وتحسينها وتطويره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 طرق لإطالة العمر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دخ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كافي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467480" y="350532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يزيد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30 </a:t>
            </a: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عاما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إلى العمر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بتعا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سم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فوظ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مرين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733920" y="358128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مواد الحافظ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تؤثر سلبيا عل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جهاز الهضم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استعاضة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بالفاكهة الموسمي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حفظ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تجنب السكر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جب الابتعا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عن الدس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9200" y="3962520"/>
            <a:ext cx="1597320" cy="24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ضيف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ى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عمر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سنوات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43800" y="4572000"/>
            <a:ext cx="136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إقلاع باعتدا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ضيف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سنو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91520" y="55627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لب ف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يوم تساو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خسار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ن العمر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38680" y="3581280"/>
            <a:ext cx="1524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فنجان قهو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فى اليو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تساوى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00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مليجرام كفايي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62720" y="541008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فنجان + تدخي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قص =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05120" y="3124080"/>
            <a:ext cx="5333760" cy="7621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3270240"/>
            <a:ext cx="44658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التغلب على الإحبا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5529240" y="2133720"/>
            <a:ext cx="170964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910120" y="227016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ع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مسيرة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يا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33720" y="228600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جز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نجا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2133720"/>
            <a:ext cx="191628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38480" y="228600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ع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اب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ه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7016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غ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320"/>
            <a:ext cx="4876920" cy="974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36440"/>
            <a:ext cx="44290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حباط هو التوتر إلى حد الاستسل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شعور بالعجز والرغبة فى الانطواء والعزل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529240" y="1143000"/>
            <a:ext cx="170964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910120" y="127944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غ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ماع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3720" y="129528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أس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646440" y="1143000"/>
            <a:ext cx="191628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8480" y="129528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ع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نفي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نفس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م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فري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اح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394400" y="5527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بس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ح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للتعق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ي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ت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خرو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ء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طل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سي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إسعا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ز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زء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لا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روت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سل وقرف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79440"/>
            <a:ext cx="10670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طر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ص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257800" y="301680"/>
            <a:ext cx="3508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كيف تقاوم الإحباط 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99072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96080" y="135576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سباب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05740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96080" y="242244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تائج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8:01:39Z</dcterms:created>
  <dc:creator> </dc:creator>
  <dc:description/>
  <dc:language>en-US</dc:language>
  <cp:lastModifiedBy>Gamal</cp:lastModifiedBy>
  <dcterms:modified xsi:type="dcterms:W3CDTF">2007-05-13T14:12:10Z</dcterms:modified>
  <cp:revision>52</cp:revision>
  <dc:subject/>
  <dc:title>عرض تقديمي من PowerPoint</dc:title>
</cp:coreProperties>
</file>