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7.wmf" ContentType="image/x-wmf"/>
  <Override PartName="/ppt/media/image26.png" ContentType="image/png"/>
  <Override PartName="/ppt/media/image25.wmf" ContentType="image/x-wmf"/>
  <Override PartName="/ppt/media/image23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19.wmf" ContentType="image/x-wmf"/>
  <Override PartName="/ppt/media/image20.wmf" ContentType="image/x-wmf"/>
  <Override PartName="/ppt/media/image18.png" ContentType="image/png"/>
  <Override PartName="/ppt/media/image6.jpeg" ContentType="image/jpeg"/>
  <Override PartName="/ppt/media/image17.wmf" ContentType="image/x-wmf"/>
  <Override PartName="/ppt/media/image16.jpeg" ContentType="image/jpeg"/>
  <Override PartName="/ppt/media/image35.wmf" ContentType="image/x-wmf"/>
  <Override PartName="/ppt/media/image39.gif" ContentType="image/gif"/>
  <Override PartName="/ppt/media/image15.png" ContentType="image/png"/>
  <Override PartName="/ppt/media/image34.wmf" ContentType="image/x-wmf"/>
  <Override PartName="/ppt/media/image9.wmf" ContentType="image/x-wmf"/>
  <Override PartName="/ppt/media/image10.jpeg" ContentType="image/jpeg"/>
  <Override PartName="/ppt/media/image42.jpeg" ContentType="image/jpeg"/>
  <Override PartName="/ppt/media/image2.gif" ContentType="image/gif"/>
  <Override PartName="/ppt/media/image8.jpeg" ContentType="image/jpeg"/>
  <Override PartName="/ppt/media/image38.png" ContentType="image/png"/>
  <Override PartName="/ppt/media/image41.wmf" ContentType="image/x-wmf"/>
  <Override PartName="/ppt/media/image30.wmf" ContentType="image/x-wmf"/>
  <Override PartName="/ppt/media/image32.png" ContentType="image/png"/>
  <Override PartName="/ppt/media/image1.jpeg" ContentType="image/jpeg"/>
  <Override PartName="/ppt/media/image40.wmf" ContentType="image/x-wmf"/>
  <Override PartName="/ppt/media/image36.wmf" ContentType="image/x-wmf"/>
  <Override PartName="/ppt/media/image44.jpeg" ContentType="image/jpeg"/>
  <Override PartName="/ppt/media/image45.wmf" ContentType="image/x-wmf"/>
  <Override PartName="/ppt/media/image4.jpeg" ContentType="image/jpeg"/>
  <Override PartName="/ppt/media/image5.png" ContentType="image/png"/>
  <Override PartName="/ppt/media/image43.jpeg" ContentType="image/jpeg"/>
  <Override PartName="/ppt/media/image28.png" ContentType="image/png"/>
  <Override PartName="/ppt/media/image31.wmf" ContentType="image/x-wmf"/>
  <Override PartName="/ppt/media/image11.png" ContentType="image/png"/>
  <Override PartName="/ppt/media/image29.wmf" ContentType="image/x-wmf"/>
  <Override PartName="/ppt/media/image14.gif" ContentType="image/gif"/>
  <Override PartName="/ppt/media/image37.wmf" ContentType="image/x-wmf"/>
  <Override PartName="/ppt/media/image7.wmf" ContentType="image/x-wmf"/>
  <Override PartName="/ppt/media/image13.jpeg" ContentType="image/jpeg"/>
  <Override PartName="/ppt/media/image12.jpeg" ContentType="image/jpeg"/>
  <Override PartName="/ppt/media/image33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7EED-A476-4703-8499-4CBB51636B0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8A15-FCB5-4B94-A69B-04DCAEFB87A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977F-23D7-46F4-95B6-2334BC029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F8CD-A044-4E8F-A009-019924D4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70F7-4471-4C3E-A1B1-411FDBF7F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3314-381E-425A-A2B9-F2FFF5E09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2D94-EA1F-4D72-A12A-2789C8B9E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6417-EE61-4033-9B37-ED35D04B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017B-65AB-4108-9276-61AA1BA6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B987-6E5B-4022-992C-FF50B92C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2F80-C8F5-4442-A112-91F3B385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9074-A6D2-4A3A-8756-A2B3AB38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B9BC-BC18-443E-BE96-302BB584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AF4D-F2C5-43AC-839D-613F47CD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F3526-B615-49E1-899D-F84E403E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B242F-1FC2-451E-8B84-5DCF3B5D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E3A7-CED2-480F-A32B-96BD4532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5A45-0BEA-4944-AF36-4DA5907EC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CEB5-E23F-46C9-9A80-A93A99599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C51BF9-9B5A-46CF-B4FD-CBDE7E28D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46DDAB-8886-4E31-9D72-0286EAEB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318748-2C76-4229-B1C9-5DB51048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D7367C-D34C-4260-B068-42683649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C346F2-8757-4573-A835-7DEC8E00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90D0-2108-420A-AB07-5930CBDD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93CBF7-A69B-4EB0-95FF-4A717A3C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268A2C-A1DC-4FBF-B5AF-DAE06F7C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F18AAA-70DE-4F6B-9883-31EB264D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18A1A9-4027-410D-8F77-EFECCF34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4BA15F-92A4-4858-8986-E0315698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DD2C75-B735-46A9-B7DF-AF5CC102E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CB2DB1-8C8A-42D3-A365-3CCE99D42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1B7D4-301B-4B25-AC11-EAC53A874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75B8A-EA58-4D0D-A937-52940CC3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CFF0C-3A24-4507-9F41-6A328C45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D470-13B1-4495-8F51-335E9A73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D7A12-2CA3-4218-9158-56802222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6442B-99DC-4D68-B2DB-9672F6E2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CB17D-EA41-4201-9DF4-BD89923D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75F2D-8865-4E33-8F6E-58DB7D31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F4E6C-B3B9-4CE0-A57F-7A255C03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ECA94-00AB-4CBF-9436-FEB5413C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D383F-1AC1-44A7-91A1-5A520753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21E91-A8E1-4178-AE6D-5A25F95C6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1D07E-4562-47F1-A416-A2D556AAE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C47C86-59BC-4397-B2C1-57448C286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4FE8-9270-4F63-A5E4-181EF518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BD7382-1457-463C-8D88-7B5B62E9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F03509-7285-489F-B99E-61DBCCA8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D50470-6591-475A-8AA4-70BF6BD7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F5904E-78C1-4B7C-B8A8-B4B7CAB4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4E30EF-E9DB-4DF1-9342-277B5870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819B0D-0131-4FDF-B6BE-089A83BB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D4BE7C-6D8A-4647-B1CF-523FB26B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D33E1B-9F96-480D-AA71-A85512AC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409613-228F-4B93-99A5-2976DE7B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DF0F07-1AC5-4FD0-98A5-D87B57CDC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455C-4D00-4923-95FF-9EA6D146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8DCE9E-A1CF-4DDA-9641-3533C31D7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737655-42CC-48B1-B190-1F8D2149A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B9B508-0F88-4A98-BF6C-5D1DE035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675CFB-EADA-4B46-9F9C-74F27221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52349E-560A-4026-91C2-EAEFDFAD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E9267D-157F-46D7-BE50-103D22FC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D9BF57-4E5A-4D13-83DD-1A1292DC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07B271-66D0-4AFC-8E90-F5511465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5EFA8D-6F17-439F-9230-026405C3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597134-2D11-40CF-BE36-8F49311B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3C34-853A-400B-A484-69BD7EE9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2A7F16-3524-4AE6-92C7-ABBB2E12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698A8E-64CF-42F2-A645-EA8C8EE24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0F57AF-E390-48E7-A583-118388150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8C0DC0-0112-4739-9EF8-27EF6396F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2D48C2-257E-4625-A234-496EDC24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891A62-4DAA-43A3-B9C8-89B68AF7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E4EB70-CA32-4F9F-BDBB-2C706724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ABA556-91AD-48DB-BF0D-3E568759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C43A79-AA79-41D0-B39A-3767F165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A269DC-FC96-4B4D-BEF5-E36B2B40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221A-150B-4369-9D49-57900804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3967E2-FACB-4CC3-865A-39DAC5DB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6B6EB2-5517-4A76-8936-0F437579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FBF31B-050A-42F0-B6F1-177B041C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45C8A4-5125-4303-8BC1-8F6DB2695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612BCB-8ADD-407C-B5D0-EAAD57BDA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4FE9-51A3-494B-8F96-2D392E82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958D-0EAA-44E5-990D-0590057D6BB2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ACC4-655A-46F7-B89A-3AECC7900D7A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699E-564E-4047-B486-5FB62675F602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3FF6-3226-46A4-A020-CFDC3AFEE3F7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BE63-B9B4-4414-950E-2FEFB5D1EB1B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80EB-B8D3-42E9-8431-6EC95994CCA6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0630-39C8-4050-AE36-9F905A2E8CFB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gif"/><Relationship Id="rId3" Type="http://schemas.openxmlformats.org/officeDocument/2006/relationships/image" Target="../media/image39.gif"/><Relationship Id="rId4" Type="http://schemas.openxmlformats.org/officeDocument/2006/relationships/image" Target="../media/image40.wmf"/><Relationship Id="rId5" Type="http://schemas.openxmlformats.org/officeDocument/2006/relationships/image" Target="../media/image41.wmf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SA" sz="7200" spc="-1" strike="noStrike">
                <a:solidFill>
                  <a:srgbClr val="fe8637"/>
                </a:solidFill>
                <a:latin typeface="Century Schoolbook"/>
                <a:cs typeface="K Elham"/>
              </a:rPr>
              <a:t>الذكاء الاجتماعي </a:t>
            </a:r>
            <a:endParaRPr b="0" lang="en-US" sz="7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TextBox 7"/>
          <p:cNvSpPr/>
          <p:nvPr/>
        </p:nvSpPr>
        <p:spPr>
          <a:xfrm>
            <a:off x="3505320" y="5105520"/>
            <a:ext cx="5257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e8637"/>
                </a:solidFill>
                <a:latin typeface="Verdana"/>
                <a:cs typeface="AL-Mohanad Bold"/>
              </a:rPr>
              <a:t>للمدرب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Verdana"/>
                <a:ea typeface="AL-Mohanad Bold"/>
              </a:rPr>
              <a:t>        د. خالد بن صالح المنيف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Rectangle 2"/>
          <p:cNvSpPr/>
          <p:nvPr/>
        </p:nvSpPr>
        <p:spPr>
          <a:xfrm>
            <a:off x="228600" y="1676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entury Schoolbook"/>
                <a:cs typeface="K Elham"/>
              </a:rPr>
              <a:t>فن  التعامل  وقوة التأثير 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1" name="Group 10"/>
          <p:cNvGrpSpPr/>
          <p:nvPr/>
        </p:nvGrpSpPr>
        <p:grpSpPr>
          <a:xfrm>
            <a:off x="2895480" y="3276720"/>
            <a:ext cx="3657600" cy="1632240"/>
            <a:chOff x="2895480" y="3276720"/>
            <a:chExt cx="3657600" cy="1632240"/>
          </a:xfrm>
        </p:grpSpPr>
        <p:sp>
          <p:nvSpPr>
            <p:cNvPr id="362" name="WordArt 4"/>
            <p:cNvSpPr txBox="1"/>
            <p:nvPr/>
          </p:nvSpPr>
          <p:spPr>
            <a:xfrm>
              <a:off x="2895480" y="3276720"/>
              <a:ext cx="3657600" cy="99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7598d9"/>
                    </a:solidFill>
                    <a:miter/>
                  </a:ln>
                  <a:solidFill>
                    <a:srgbClr val="bfbfb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K Elham"/>
                </a:rPr>
                <a:t> </a:t>
              </a:r>
              <a:endParaRPr b="0" lang="en-US" sz="1800" spc="1" strike="noStrike">
                <a:ln w="9360">
                  <a:solidFill>
                    <a:srgbClr val="7598d9"/>
                  </a:solidFill>
                  <a:miter/>
                </a:ln>
                <a:solidFill>
                  <a:srgbClr val="bfbfb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K Elham"/>
                <a:ea typeface="K Elham"/>
              </a:endParaRPr>
            </a:p>
          </p:txBody>
        </p:sp>
        <p:pic>
          <p:nvPicPr>
            <p:cNvPr id="363" name="Picture 4" descr="C:\Documents and Settings\asus\My Documents\عرض\صور4\backbghearts.gif"/>
            <p:cNvPicPr/>
            <p:nvPr/>
          </p:nvPicPr>
          <p:blipFill>
            <a:blip r:embed="rId2"/>
            <a:stretch/>
          </p:blipFill>
          <p:spPr>
            <a:xfrm>
              <a:off x="2895480" y="3276720"/>
              <a:ext cx="365760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9"/>
            <p:cNvSpPr/>
            <p:nvPr/>
          </p:nvSpPr>
          <p:spPr>
            <a:xfrm>
              <a:off x="3047760" y="3352680"/>
              <a:ext cx="32767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800" spc="-1" strike="noStrike">
                  <a:solidFill>
                    <a:srgbClr val="a6a6a6"/>
                  </a:solidFill>
                  <a:latin typeface="Verdana"/>
                  <a:cs typeface="AL-Mohanad Bold"/>
                </a:rPr>
                <a:t>ســــحـــر الــحـــب</a:t>
              </a:r>
              <a:endParaRPr b="0" lang="en-US" sz="4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 rot="19777200">
            <a:off x="375840" y="5405400"/>
            <a:ext cx="2057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لاتتكبر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WordArt 4"/>
          <p:cNvSpPr txBox="1"/>
          <p:nvPr/>
        </p:nvSpPr>
        <p:spPr>
          <a:xfrm>
            <a:off x="2438280" y="1752480"/>
            <a:ext cx="3657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12600">
                  <a:solidFill>
                    <a:srgbClr val="515d73"/>
                  </a:solidFill>
                  <a:miter/>
                </a:ln>
                <a:solidFill>
                  <a:srgbClr val="ffff9b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K Elham"/>
              </a:rPr>
              <a:t>اشراقات</a:t>
            </a:r>
            <a:endParaRPr b="1" lang="en-US" sz="7200" spc="1" strike="noStrike">
              <a:ln w="12600">
                <a:solidFill>
                  <a:srgbClr val="515d73"/>
                </a:solidFill>
                <a:miter/>
              </a:ln>
              <a:solidFill>
                <a:srgbClr val="ffff9b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K Elham"/>
              <a:ea typeface="K Elham"/>
            </a:endParaRPr>
          </a:p>
        </p:txBody>
      </p:sp>
      <p:sp>
        <p:nvSpPr>
          <p:cNvPr id="394" name="Rectangle 3"/>
          <p:cNvSpPr/>
          <p:nvPr/>
        </p:nvSpPr>
        <p:spPr>
          <a:xfrm rot="19908000">
            <a:off x="2752200" y="5543640"/>
            <a:ext cx="1905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لاحظ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Rectangle 3"/>
          <p:cNvSpPr/>
          <p:nvPr/>
        </p:nvSpPr>
        <p:spPr>
          <a:xfrm rot="20265600">
            <a:off x="4541400" y="5547960"/>
            <a:ext cx="3048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فكر بأهميتهم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6" name="Picture 7" descr="C:\Documents and Settings\asus\My Documents\عرض\صور4\80.gif"/>
          <p:cNvPicPr/>
          <p:nvPr/>
        </p:nvPicPr>
        <p:blipFill>
          <a:blip r:embed="rId2"/>
          <a:stretch/>
        </p:blipFill>
        <p:spPr>
          <a:xfrm>
            <a:off x="6095880" y="533520"/>
            <a:ext cx="1057320" cy="1057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8" name="Diagram 5" descr=""/>
          <p:cNvPicPr/>
          <p:nvPr/>
        </p:nvPicPr>
        <p:blipFill>
          <a:blip r:embed="rId1"/>
          <a:stretch/>
        </p:blipFill>
        <p:spPr>
          <a:xfrm>
            <a:off x="0" y="-907920"/>
            <a:ext cx="8259840" cy="86198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5" descr="C:\Documents and Settings\asus\My Documents\عرض\صور1\48.JPG"/>
          <p:cNvPicPr/>
          <p:nvPr/>
        </p:nvPicPr>
        <p:blipFill>
          <a:blip r:embed="rId1"/>
          <a:stretch/>
        </p:blipFill>
        <p:spPr>
          <a:xfrm>
            <a:off x="-228600" y="228600"/>
            <a:ext cx="2708280" cy="152388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3124080" y="1069920"/>
            <a:ext cx="51055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cc"/>
                </a:solidFill>
                <a:latin typeface="Century Schoolbook"/>
                <a:ea typeface="AL-Mohanad Bold"/>
              </a:rPr>
              <a:t>* ماذا  يقول الناس الذين  يملكون تقمص عاطفي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فهم ماتشعر به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أنا حزين  لأجلك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إن ضربات قلبي تتسارع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أنا  سعيد  لأجلك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cc"/>
                </a:solidFill>
                <a:latin typeface="Century Schoolbook"/>
                <a:ea typeface="AL-Mohanad Bold"/>
              </a:rPr>
              <a:t>* ماذا  يفعلون 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يبكون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تتغير  تعابيره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يساعدون الآخرين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يشعر بالفرح  إذا  فازو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1" name="Picture 4" descr="C:\Documents and Settings\asus\My Documents\عرض\صور4\DSGNC039.WMF"/>
          <p:cNvPicPr/>
          <p:nvPr/>
        </p:nvPicPr>
        <p:blipFill>
          <a:blip r:embed="rId2"/>
          <a:stretch/>
        </p:blipFill>
        <p:spPr>
          <a:xfrm>
            <a:off x="1295280" y="3048120"/>
            <a:ext cx="2895840" cy="2290680"/>
          </a:xfrm>
          <a:prstGeom prst="rect">
            <a:avLst/>
          </a:prstGeom>
          <a:ln w="0">
            <a:noFill/>
          </a:ln>
        </p:spPr>
      </p:pic>
      <p:sp>
        <p:nvSpPr>
          <p:cNvPr id="402" name="WordArt 6"/>
          <p:cNvSpPr txBox="1"/>
          <p:nvPr/>
        </p:nvSpPr>
        <p:spPr>
          <a:xfrm>
            <a:off x="609480" y="609480"/>
            <a:ext cx="990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تأمل</a:t>
            </a:r>
            <a:endParaRPr b="0" lang="en-US" sz="1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out" orient="horz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4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4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4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1640" y="228240"/>
            <a:ext cx="38862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70c0"/>
                </a:solidFill>
                <a:latin typeface="Century Schoolbook"/>
                <a:cs typeface="K Elham"/>
              </a:rPr>
              <a:t>كُن  صيادا  ماهراً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5105520" y="2361960"/>
            <a:ext cx="30477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b0f0"/>
                </a:solidFill>
                <a:latin typeface="Century Schoolbook"/>
                <a:cs typeface="AL-Mohanad Bold"/>
              </a:rPr>
              <a:t>ماذا  يريد  السمك؟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b0f0"/>
                </a:solidFill>
                <a:latin typeface="Century Schoolbook"/>
                <a:cs typeface="AL-Mohanad Bold"/>
              </a:rPr>
              <a:t>الحصان  والخادمة الذكية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b0f0"/>
                </a:solidFill>
                <a:latin typeface="Century Schoolbook"/>
                <a:cs typeface="AL-Mohanad Bold"/>
              </a:rPr>
              <a:t>كار نجي وصاحب الفندق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blinds dir="vert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e8637"/>
                </a:solidFill>
                <a:latin typeface="Century Schoolbook"/>
                <a:cs typeface="K Elham"/>
              </a:rPr>
              <a:t>قاعدة  خطيرة  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523880" y="167616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لاتنتصر في كل  معركة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 thruBlk="true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4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4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724280" y="456840"/>
            <a:ext cx="3276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9933"/>
                </a:solidFill>
                <a:latin typeface="Century Schoolbook"/>
                <a:cs typeface="K Elham"/>
              </a:rPr>
              <a:t>هل  تُريد  أن يحتفى بك  أينما  ذهبت؟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2819520" y="3276720"/>
            <a:ext cx="533376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حصائية  شركة الهاتف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لرئيس وطائر زوج خادمته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مندوب التسويق  الذكي  والطوابع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لشيك العجيب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ستراتيجية روزفلت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9" name="Picture 5" descr="C:\Documents and Settings\asus\My Documents\My Pictures\Microsoft Clip Organizer\j0402446.jpg"/>
          <p:cNvPicPr/>
          <p:nvPr/>
        </p:nvPicPr>
        <p:blipFill>
          <a:blip r:embed="rId1"/>
          <a:stretch/>
        </p:blipFill>
        <p:spPr>
          <a:xfrm>
            <a:off x="987480" y="530280"/>
            <a:ext cx="3286080" cy="26035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6" descr="E:\CLIPART\OBJECTS\COMMU\TELE017.WMF"/>
          <p:cNvPicPr/>
          <p:nvPr/>
        </p:nvPicPr>
        <p:blipFill>
          <a:blip r:embed="rId2"/>
          <a:stretch/>
        </p:blipFill>
        <p:spPr>
          <a:xfrm>
            <a:off x="2362320" y="3733920"/>
            <a:ext cx="946080" cy="7617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7" descr="E:\CLIPART\ANIMALS\ANIMBIRD\BIRD032.WMF"/>
          <p:cNvPicPr/>
          <p:nvPr/>
        </p:nvPicPr>
        <p:blipFill>
          <a:blip r:embed="rId3"/>
          <a:stretch/>
        </p:blipFill>
        <p:spPr>
          <a:xfrm>
            <a:off x="533520" y="4641840"/>
            <a:ext cx="1218960" cy="8064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9" descr="C:\Documents and Settings\asus\My Documents\My Pictures\stamp.gif"/>
          <p:cNvPicPr/>
          <p:nvPr/>
        </p:nvPicPr>
        <p:blipFill>
          <a:blip r:embed="rId4"/>
          <a:stretch/>
        </p:blipFill>
        <p:spPr>
          <a:xfrm>
            <a:off x="2286000" y="5181480"/>
            <a:ext cx="963720" cy="824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5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5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33"/>
                </a:solidFill>
                <a:latin typeface="Century Schoolbook"/>
                <a:cs typeface="K Elham"/>
              </a:rPr>
              <a:t>استخدم رصيد المليون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828800" y="1980720"/>
            <a:ext cx="5410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لماذا  الابتسامة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ماذا  تفعل الابتسامة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5" name="Picture 5" descr="D:\only me\wafa\photo\smilie.gif"/>
          <p:cNvPicPr/>
          <p:nvPr/>
        </p:nvPicPr>
        <p:blipFill>
          <a:blip r:embed="rId1"/>
          <a:stretch/>
        </p:blipFill>
        <p:spPr>
          <a:xfrm>
            <a:off x="762120" y="4267080"/>
            <a:ext cx="1904760" cy="18957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5" descr="D:\only me\wafa\photo\smilie.gif"/>
          <p:cNvPicPr/>
          <p:nvPr/>
        </p:nvPicPr>
        <p:blipFill>
          <a:blip r:embed="rId2"/>
          <a:stretch/>
        </p:blipFill>
        <p:spPr>
          <a:xfrm>
            <a:off x="2057400" y="1601640"/>
            <a:ext cx="915840" cy="9115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5" descr="D:\only me\wafa\photo\smilie.gif"/>
          <p:cNvPicPr/>
          <p:nvPr/>
        </p:nvPicPr>
        <p:blipFill>
          <a:blip r:embed="rId3"/>
          <a:stretch/>
        </p:blipFill>
        <p:spPr>
          <a:xfrm>
            <a:off x="5410080" y="4648320"/>
            <a:ext cx="1219320" cy="12128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5" descr="D:\only me\wafa\photo\smilie.gif"/>
          <p:cNvPicPr/>
          <p:nvPr/>
        </p:nvPicPr>
        <p:blipFill>
          <a:blip r:embed="rId4"/>
          <a:stretch/>
        </p:blipFill>
        <p:spPr>
          <a:xfrm>
            <a:off x="7311960" y="609480"/>
            <a:ext cx="6890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33"/>
                </a:solidFill>
                <a:latin typeface="Century Schoolbook"/>
                <a:cs typeface="K Elham"/>
              </a:rPr>
              <a:t>لاتكلفك  درهما  ولا دينارا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962520" y="1599840"/>
            <a:ext cx="441936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أفرغت يا أبا الوليد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كيف  تكون أفضل  متحدثا؟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كارنجي وعالم النبات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بوزان وفائدة  المرض</a:t>
            </a:r>
            <a:r>
              <a:rPr b="0" lang="ar-SA" sz="3200" spc="-1" strike="noStrike">
                <a:solidFill>
                  <a:srgbClr val="ffffff"/>
                </a:solidFill>
                <a:latin typeface="Century Schoolbook"/>
                <a:ea typeface="AL-Mohanad Bold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d"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8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8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8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8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2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8120" y="837720"/>
            <a:ext cx="25905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9933"/>
                </a:solidFill>
                <a:latin typeface="Century Schoolbook"/>
                <a:cs typeface="K Elham"/>
              </a:rPr>
              <a:t>ماهي  أهمية الاستماع؟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09480" y="3429000"/>
            <a:ext cx="74678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23" name="Group 5"/>
          <p:cNvGrpSpPr/>
          <p:nvPr/>
        </p:nvGrpSpPr>
        <p:grpSpPr>
          <a:xfrm>
            <a:off x="304920" y="228600"/>
            <a:ext cx="2081160" cy="1460520"/>
            <a:chOff x="304920" y="228600"/>
            <a:chExt cx="2081160" cy="1460520"/>
          </a:xfrm>
        </p:grpSpPr>
        <p:pic>
          <p:nvPicPr>
            <p:cNvPr id="424" name="Picture 8" descr="E:\CLIPART\BORDERS\BRDRMISC\BDROC007.WMF"/>
            <p:cNvPicPr/>
            <p:nvPr/>
          </p:nvPicPr>
          <p:blipFill>
            <a:blip r:embed="rId1"/>
            <a:stretch/>
          </p:blipFill>
          <p:spPr>
            <a:xfrm>
              <a:off x="304920" y="380880"/>
              <a:ext cx="2081160" cy="13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Rectangle 2"/>
            <p:cNvSpPr/>
            <p:nvPr/>
          </p:nvSpPr>
          <p:spPr>
            <a:xfrm>
              <a:off x="533520" y="228600"/>
              <a:ext cx="14000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ff0000"/>
                  </a:solidFill>
                  <a:latin typeface="Century Schoolbook"/>
                  <a:cs typeface="K Elham"/>
                </a:rPr>
                <a:t>تمرين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6" name="Picture 7" descr="C:\Documents and Settings\asus\My Documents\My Pictures\ear.jpg"/>
          <p:cNvPicPr/>
          <p:nvPr/>
        </p:nvPicPr>
        <p:blipFill>
          <a:blip r:embed="rId2"/>
          <a:stretch/>
        </p:blipFill>
        <p:spPr>
          <a:xfrm>
            <a:off x="6095880" y="390600"/>
            <a:ext cx="216216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2"/>
          <p:cNvSpPr/>
          <p:nvPr/>
        </p:nvSpPr>
        <p:spPr>
          <a:xfrm>
            <a:off x="1600200" y="47160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9933"/>
                </a:solidFill>
                <a:latin typeface="Verdana"/>
                <a:ea typeface="K Elham"/>
              </a:rPr>
              <a:t> </a:t>
            </a:r>
            <a:r>
              <a:rPr b="1" lang="ar-SA" sz="4400" spc="-1" strike="noStrike">
                <a:solidFill>
                  <a:srgbClr val="ff9933"/>
                </a:solidFill>
                <a:latin typeface="Verdana"/>
                <a:cs typeface="K Elham"/>
              </a:rPr>
              <a:t>هناك </a:t>
            </a:r>
            <a:r>
              <a:rPr b="1" lang="ar-SA" sz="4400" spc="-1" strike="noStrike">
                <a:solidFill>
                  <a:srgbClr val="ff9933"/>
                </a:solidFill>
                <a:latin typeface="Verdana"/>
                <a:ea typeface="K Elham"/>
              </a:rPr>
              <a:t>5</a:t>
            </a:r>
            <a:r>
              <a:rPr b="1" lang="ar-SA" sz="4400" spc="-1" strike="noStrike">
                <a:solidFill>
                  <a:srgbClr val="ff9933"/>
                </a:solidFill>
                <a:latin typeface="Verdana"/>
                <a:ea typeface="K Elham"/>
              </a:rPr>
              <a:t> نقاط اساسية </a:t>
            </a:r>
            <a:r>
              <a:rPr b="1" lang="ar-SA" sz="4800" spc="-1" strike="noStrike">
                <a:solidFill>
                  <a:srgbClr val="ff9933"/>
                </a:solidFill>
                <a:latin typeface="Verdana"/>
                <a:ea typeface="K Elham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838080" y="1676520"/>
            <a:ext cx="69343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  <a:ea typeface="AL-Mohanad Bold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  <a:ea typeface="AL-Mohanad Bold"/>
              </a:rPr>
              <a:t>. انظر  الى محدثك بانتباه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Verdana"/>
                <a:cs typeface="AL-Mohanad Bold"/>
              </a:rPr>
              <a:t>ما دمت تستمع له فيجب أن تنظر اليه ايضا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  <a:ea typeface="AL-Mohanad Bold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  <a:ea typeface="AL-Mohanad Bold"/>
              </a:rPr>
              <a:t>. اقترب من المتحدث واستمع بإصغاء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Verdana"/>
                <a:cs typeface="AL-Mohanad Bold"/>
              </a:rPr>
              <a:t>وكأنك لا تريد أن تفوتك أي كلم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  <a:ea typeface="AL-Mohanad Bold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  <a:ea typeface="AL-Mohanad Bold"/>
              </a:rPr>
              <a:t>. اطرح الاسئلة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Verdana"/>
                <a:cs typeface="AL-Mohanad Bold"/>
              </a:rPr>
              <a:t>اجعل متحدثك متأكدا بأنك تستمع له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  <a:ea typeface="AL-Mohanad Bold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  <a:ea typeface="AL-Mohanad Bold"/>
              </a:rPr>
              <a:t>. لا تقاطع المتحدث ولا تخرج عن الموضوع حين تسأله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  <a:ea typeface="AL-Mohanad Bold"/>
              </a:rPr>
              <a:t>5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  <a:ea typeface="AL-Mohanad Bold"/>
              </a:rPr>
              <a:t>. استعمل كلمات المتحدث حين تحاوره وتجنب استعمال (أنا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فأنك اذا استعملت (أنا) تغير تركيز الحديث من المتحدث ال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مستمع وهذا يجعله المستمع ويجعلك المتحدث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9" name="Picture 4" descr="C:\Documents and Settings\asus\My Documents\My Pictures\Microsoft Clip Organizer\j0293480.wmf"/>
          <p:cNvPicPr/>
          <p:nvPr/>
        </p:nvPicPr>
        <p:blipFill>
          <a:blip r:embed="rId1"/>
          <a:stretch/>
        </p:blipFill>
        <p:spPr>
          <a:xfrm>
            <a:off x="762120" y="685800"/>
            <a:ext cx="2098440" cy="1295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9933"/>
                </a:solidFill>
                <a:latin typeface="Century Schoolbook"/>
                <a:cs typeface="K Elham"/>
              </a:rPr>
              <a:t>قبل البداية؟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0" y="2133360"/>
            <a:ext cx="3581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لذي  يقول  أنه لن  يتغير  فلا يضيع  وقته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لذي أتى ليتعرف أو يقارن أو يتسلى فلن يستفيد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ssolv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590560" y="45684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33"/>
                </a:solidFill>
                <a:latin typeface="Century Schoolbook"/>
                <a:cs typeface="K Elham"/>
              </a:rPr>
              <a:t>مهارة الاستماع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657240" y="2743200"/>
            <a:ext cx="4343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كيف نتقن فن الاستماع؟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2" name="Picture 4" descr="C:\Documents and Settings\asus\My Documents\My Pictures\listen02.gif"/>
          <p:cNvPicPr/>
          <p:nvPr/>
        </p:nvPicPr>
        <p:blipFill>
          <a:blip r:embed="rId1"/>
          <a:stretch/>
        </p:blipFill>
        <p:spPr>
          <a:xfrm>
            <a:off x="762120" y="2438280"/>
            <a:ext cx="3038400" cy="2371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6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3" descr="C:\Documents and Settings\asus\My Documents\My Pictures\Microsoft Clip Organizer\j0311820.wmf"/>
          <p:cNvPicPr/>
          <p:nvPr/>
        </p:nvPicPr>
        <p:blipFill>
          <a:blip r:embed="rId1"/>
          <a:stretch/>
        </p:blipFill>
        <p:spPr>
          <a:xfrm>
            <a:off x="2514600" y="2463840"/>
            <a:ext cx="3881520" cy="340344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33"/>
                </a:solidFill>
                <a:latin typeface="Century Schoolbook"/>
                <a:cs typeface="K Elham"/>
              </a:rPr>
              <a:t>أنواع الاستماع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dissolve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77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4" dur="770" fill="hold"/>
                                        <p:tgtEl>
                                          <p:spTgt spid="4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6" dur="77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8" dur="77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98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3"/>
          <p:cNvSpPr/>
          <p:nvPr/>
        </p:nvSpPr>
        <p:spPr>
          <a:xfrm>
            <a:off x="7315200" y="3039840"/>
            <a:ext cx="1523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بنكٌ في غاية الغرابة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380880" y="751680"/>
            <a:ext cx="5865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ومن عجائبه  أن حساباته  غير  قابلة  للإلغاء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L-Mohanad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Rectangle 4"/>
          <p:cNvSpPr/>
          <p:nvPr/>
        </p:nvSpPr>
        <p:spPr>
          <a:xfrm rot="21236400">
            <a:off x="5943600" y="2430000"/>
            <a:ext cx="129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ليس  كبقية البنوك!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Rectangle 5"/>
          <p:cNvSpPr/>
          <p:nvPr/>
        </p:nvSpPr>
        <p:spPr>
          <a:xfrm rot="21304200">
            <a:off x="3966840" y="2792880"/>
            <a:ext cx="1374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Arial"/>
                <a:cs typeface="AL-Mohanad Bold"/>
              </a:rPr>
              <a:t>بنك  تفتحُ فيه  ماشئت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Arial"/>
                <a:ea typeface="AL-Mohanad Bold"/>
              </a:rPr>
              <a:t> من الحسابات 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Rectangle 6"/>
          <p:cNvSpPr/>
          <p:nvPr/>
        </p:nvSpPr>
        <p:spPr>
          <a:xfrm>
            <a:off x="1905120" y="1956240"/>
            <a:ext cx="1589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والحساب  لايستغرق فتحه سوى (ثواني)!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0" y="2771640"/>
            <a:ext cx="15238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Arial"/>
                <a:ea typeface="AL-Mohanad Bold"/>
              </a:rPr>
              <a:t> الإيداع   والسحب فيه  بلا أوراق أو  أختام  !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1" name="Rectangle 8" descr=""/>
          <p:cNvPicPr/>
          <p:nvPr/>
        </p:nvPicPr>
        <p:blipFill>
          <a:blip r:embed="rId1"/>
          <a:stretch/>
        </p:blipFill>
        <p:spPr>
          <a:xfrm>
            <a:off x="5102280" y="49320"/>
            <a:ext cx="3633840" cy="209052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9"/>
          <p:cNvSpPr/>
          <p:nvPr/>
        </p:nvSpPr>
        <p:spPr>
          <a:xfrm>
            <a:off x="762120" y="1600200"/>
            <a:ext cx="510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AL-Mohanad Bold"/>
              </a:rPr>
              <a:t>هل عرفتم  هذا  البنك العجيب!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u"/>
  </p:transition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3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4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5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0" dur="8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1" dur="8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2" dur="8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7" dur="8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8" dur="8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9" dur="8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4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5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6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8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9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0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77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6" dur="770" fill="hold"/>
                                        <p:tgtEl>
                                          <p:spTgt spid="4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8" dur="77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0" dur="77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9933"/>
                </a:solidFill>
                <a:latin typeface="Century Schoolbook"/>
                <a:cs typeface="K Elham"/>
              </a:rPr>
              <a:t>بنك المشاعر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419360" y="1676160"/>
            <a:ext cx="3886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0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مقدار الثقة التي نبنيها وندخرها في علاقة ما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0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لادخار: الاحترام واللطف والنزاهة والالتزام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0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لسحب: عدم الاحترام، العجرفة وتأليه الذات، الخيانة وعدم الالتزام، الحكم الظالم أو التهديد، الاعتراف بأخطاء الآخرين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5" name="Picture 4" descr="C:\Documents and Settings\asus\My Documents\عرض\صور4\GOVT137.WMF"/>
          <p:cNvPicPr/>
          <p:nvPr/>
        </p:nvPicPr>
        <p:blipFill>
          <a:blip r:embed="rId2"/>
          <a:stretch/>
        </p:blipFill>
        <p:spPr>
          <a:xfrm>
            <a:off x="685800" y="1905120"/>
            <a:ext cx="3228840" cy="35528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666880" y="761760"/>
            <a:ext cx="6096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9933"/>
                </a:solidFill>
                <a:latin typeface="Century Schoolbook"/>
                <a:cs typeface="K Elham"/>
              </a:rPr>
              <a:t>اختر  شخص  عزيز  وتأمل في ثلاثة سحوبات وخصومات متوقعة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2895480"/>
            <a:ext cx="38098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خصومات متوقعة 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542160" indent="-542160" algn="r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.....................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542160" indent="-542160" algn="r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.....................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542160" indent="-542160" algn="r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.....................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54216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5421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00600" y="2819160"/>
            <a:ext cx="31240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09880" indent="-209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يداعات متوقعة 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09880" indent="-209880" algn="r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.....................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09880" indent="-209880" algn="r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.....................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09880" indent="-209880" algn="r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.....................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9" name="Picture 8" descr="E:\CLIPART\BORDERS\BRDRMISC\BDROC007.WMF"/>
          <p:cNvPicPr/>
          <p:nvPr/>
        </p:nvPicPr>
        <p:blipFill>
          <a:blip r:embed="rId1"/>
          <a:stretch/>
        </p:blipFill>
        <p:spPr>
          <a:xfrm>
            <a:off x="304920" y="533520"/>
            <a:ext cx="2270160" cy="152388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2"/>
          <p:cNvSpPr/>
          <p:nvPr/>
        </p:nvSpPr>
        <p:spPr>
          <a:xfrm>
            <a:off x="228600" y="76320"/>
            <a:ext cx="2286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Century Schoolbook"/>
                <a:cs typeface="K Elham"/>
              </a:rPr>
              <a:t>تمرين فردي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2000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2000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2000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b0f0"/>
                </a:solidFill>
                <a:latin typeface="Century Schoolbook"/>
                <a:cs typeface="K Elham"/>
              </a:rPr>
              <a:t>الفرصة  الوحيدة (الانطباع الأول)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837720" y="1904760"/>
            <a:ext cx="7086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لبداية  من ذاتك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بتسم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تفاءل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شخص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قدم نفسك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نظر لعينيه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قرأ في الأحداث...وأحفظ  شيئا من الطرف والنوادر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53" name="Picture 6" descr="E:\CLIPART\PEOPLE\MENPROF\MENO076.WMF"/>
          <p:cNvPicPr/>
          <p:nvPr/>
        </p:nvPicPr>
        <p:blipFill>
          <a:blip r:embed="rId1"/>
          <a:stretch/>
        </p:blipFill>
        <p:spPr>
          <a:xfrm>
            <a:off x="1828800" y="2286000"/>
            <a:ext cx="2286000" cy="2535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6" dur="5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1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6" dur="500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1" dur="500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500"/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1" dur="500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3809880" y="1371600"/>
            <a:ext cx="42674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لاتتحدث عن نفسك كثير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لاتدعي المعرفة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حفظ ماء وجه محدثك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55" name="Picture 6" descr="C:\Documents and Settings\asus\My Documents\عرض\صور4\GOVT143.WMF"/>
          <p:cNvPicPr/>
          <p:nvPr/>
        </p:nvPicPr>
        <p:blipFill>
          <a:blip r:embed="rId1"/>
          <a:stretch/>
        </p:blipFill>
        <p:spPr>
          <a:xfrm>
            <a:off x="380880" y="685800"/>
            <a:ext cx="4724640" cy="5562720"/>
          </a:xfrm>
          <a:prstGeom prst="rect">
            <a:avLst/>
          </a:prstGeom>
          <a:ln w="0">
            <a:noFill/>
          </a:ln>
        </p:spPr>
      </p:pic>
      <p:pic>
        <p:nvPicPr>
          <p:cNvPr id="456" name="WordArt 4" descr=""/>
          <p:cNvPicPr/>
          <p:nvPr/>
        </p:nvPicPr>
        <p:blipFill>
          <a:blip r:embed="rId2"/>
          <a:stretch/>
        </p:blipFill>
        <p:spPr>
          <a:xfrm>
            <a:off x="1749600" y="3651120"/>
            <a:ext cx="1670040" cy="10130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10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10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9933"/>
                </a:solidFill>
                <a:latin typeface="Century Schoolbook"/>
                <a:cs typeface="K Elham"/>
              </a:rPr>
              <a:t>لاتكن فضوليا!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6840" y="1600200"/>
            <a:ext cx="74674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ضع لك محيطا حيويا  ولاتتجاوز محيط الآخرين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20680" indent="-2206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لحبيب  اللهم  صلي وسلم عليه مع  أبي تراب؟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59" name="Picture 6" descr="C:\Documents and Settings\asus\My Documents\عرض\صور4\DSGNC036.WMF"/>
          <p:cNvPicPr/>
          <p:nvPr/>
        </p:nvPicPr>
        <p:blipFill>
          <a:blip r:embed="rId1"/>
          <a:stretch/>
        </p:blipFill>
        <p:spPr>
          <a:xfrm>
            <a:off x="3276720" y="3809880"/>
            <a:ext cx="2438280" cy="189396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7" descr="C:\Documents and Settings\asus\My Documents\عرض\صور4\EROAD178.WMF"/>
          <p:cNvPicPr/>
          <p:nvPr/>
        </p:nvPicPr>
        <p:blipFill>
          <a:blip r:embed="rId2"/>
          <a:stretch/>
        </p:blipFill>
        <p:spPr>
          <a:xfrm>
            <a:off x="762120" y="388620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6" descr="C:\Documents and Settings\asus\My Documents\عرض\صور4\SGNRD022.WMF"/>
          <p:cNvPicPr/>
          <p:nvPr/>
        </p:nvPicPr>
        <p:blipFill>
          <a:blip r:embed="rId3"/>
          <a:stretch/>
        </p:blipFill>
        <p:spPr>
          <a:xfrm>
            <a:off x="6858000" y="3956040"/>
            <a:ext cx="1309680" cy="1378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e8637"/>
                </a:solidFill>
                <a:latin typeface="Century Schoolbook"/>
                <a:cs typeface="K Elham"/>
              </a:rPr>
              <a:t>اقتنص  المواقف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63" name="Picture 5" descr="C:\Documents and Settings\asus\My Documents\عرض\صور4\ICONN103.WMF"/>
          <p:cNvPicPr/>
          <p:nvPr/>
        </p:nvPicPr>
        <p:blipFill>
          <a:blip r:embed="rId1"/>
          <a:stretch/>
        </p:blipFill>
        <p:spPr>
          <a:xfrm>
            <a:off x="6095880" y="18288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5" descr="E:\CLIPART\PEOPLE\HANDS\HAND141.WMF"/>
          <p:cNvPicPr/>
          <p:nvPr/>
        </p:nvPicPr>
        <p:blipFill>
          <a:blip r:embed="rId2"/>
          <a:stretch/>
        </p:blipFill>
        <p:spPr>
          <a:xfrm>
            <a:off x="914400" y="1600200"/>
            <a:ext cx="4191120" cy="402912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 txBox="1"/>
          <p:nvPr/>
        </p:nvSpPr>
        <p:spPr>
          <a:xfrm rot="20706600">
            <a:off x="1914120" y="2358720"/>
            <a:ext cx="152388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أهم موقفين في الحياة!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blinds dir="vert"/>
  </p:transition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3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20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152280" y="0"/>
            <a:ext cx="8610840" cy="472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e8637"/>
                </a:solidFill>
                <a:latin typeface="Century Schoolbook"/>
                <a:cs typeface="K Elham"/>
              </a:rPr>
              <a:t>الشمعة  المضيئة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1295280" y="1905120"/>
            <a:ext cx="5943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قصة ذو المسدسين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تجنب الانتقاد (انتقاد كاد يكلف  الحياة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أقصر الطرق لكسب العداوات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69" name="Rectangle 6" descr=""/>
          <p:cNvPicPr/>
          <p:nvPr/>
        </p:nvPicPr>
        <p:blipFill>
          <a:blip r:embed="rId1"/>
          <a:stretch/>
        </p:blipFill>
        <p:spPr>
          <a:xfrm>
            <a:off x="2359080" y="4840200"/>
            <a:ext cx="5346720" cy="8287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6" descr="C:\Documents and Settings\asus\My Documents\My Pictures\d8207cba96.gif"/>
          <p:cNvPicPr/>
          <p:nvPr/>
        </p:nvPicPr>
        <p:blipFill>
          <a:blip r:embed="rId2"/>
          <a:stretch/>
        </p:blipFill>
        <p:spPr>
          <a:xfrm>
            <a:off x="76320" y="533520"/>
            <a:ext cx="2381040" cy="38098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6" descr="C:\Documents and Settings\asus\My Documents\My Pictures\d8207cba96.gif"/>
          <p:cNvPicPr/>
          <p:nvPr/>
        </p:nvPicPr>
        <p:blipFill>
          <a:blip r:embed="rId3"/>
          <a:stretch/>
        </p:blipFill>
        <p:spPr>
          <a:xfrm>
            <a:off x="6705720" y="533520"/>
            <a:ext cx="2381040" cy="38098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8" descr="E:\CLIPART\ANIMALS\INSECTS\INSEC053.WMF"/>
          <p:cNvPicPr/>
          <p:nvPr/>
        </p:nvPicPr>
        <p:blipFill>
          <a:blip r:embed="rId4"/>
          <a:stretch/>
        </p:blipFill>
        <p:spPr>
          <a:xfrm>
            <a:off x="838080" y="5172120"/>
            <a:ext cx="1629000" cy="1305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9" descr="E:\CLIPART\ANIMALS\CARTANIM\CINSE022.WMF"/>
          <p:cNvPicPr/>
          <p:nvPr/>
        </p:nvPicPr>
        <p:blipFill>
          <a:blip r:embed="rId5"/>
          <a:stretch/>
        </p:blipFill>
        <p:spPr>
          <a:xfrm>
            <a:off x="6553080" y="5791320"/>
            <a:ext cx="863640" cy="676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2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2" dur="500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500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061" dur="200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6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7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8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2895480" y="1828800"/>
            <a:ext cx="5639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هل  تشعر أنك ناجح في كسب الآخرين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هل تستطيع الخروج  من المواقف المحرجة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هل تتحدث فينصت لك الآخرون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هل تحس أن الناس يفرحون  بوجودك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هل تتعامل مع الكل بحسب حاله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هل وقعت لك مشاكل بسبب تعاملك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هل أعجبك تعامل شخص وحاكيت فعله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هل رأيت شخصا محبوبا وتمنيت أن تُحب مثله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Picture 4" descr="C:\Documents and Settings\asus\My Documents\عرض\صور4\GOVT098.WMF"/>
          <p:cNvPicPr/>
          <p:nvPr/>
        </p:nvPicPr>
        <p:blipFill>
          <a:blip r:embed="rId1"/>
          <a:stretch/>
        </p:blipFill>
        <p:spPr>
          <a:xfrm>
            <a:off x="457200" y="3809880"/>
            <a:ext cx="2666880" cy="2551320"/>
          </a:xfrm>
          <a:prstGeom prst="rect">
            <a:avLst/>
          </a:prstGeom>
          <a:ln w="0">
            <a:noFill/>
          </a:ln>
        </p:spPr>
      </p:pic>
      <p:sp>
        <p:nvSpPr>
          <p:cNvPr id="369" name="Right Triangle 6"/>
          <p:cNvSpPr/>
          <p:nvPr/>
        </p:nvSpPr>
        <p:spPr>
          <a:xfrm rot="5400000">
            <a:off x="1866960" y="-1866960"/>
            <a:ext cx="3581280" cy="7315200"/>
          </a:xfrm>
          <a:prstGeom prst="rtTriangle">
            <a:avLst/>
          </a:prstGeom>
          <a:solidFill>
            <a:srgbClr val="fe9650"/>
          </a:solidFill>
          <a:ln w="0">
            <a:noFill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-360" y="-914400"/>
            <a:ext cx="38098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Century Schoolbook"/>
                <a:cs typeface="K Elham"/>
              </a:rPr>
              <a:t>حقق  أمانيك  مع..</a:t>
            </a:r>
            <a:br>
              <a:rPr sz="4400"/>
            </a:br>
            <a:r>
              <a:rPr b="0" lang="ar-SA" sz="4400" spc="-1" strike="noStrike">
                <a:solidFill>
                  <a:srgbClr val="ffffff"/>
                </a:solidFill>
                <a:latin typeface="Century Schoolbook"/>
                <a:ea typeface="K Elham"/>
              </a:rPr>
              <a:t> دورة الذكاء الاجتماعي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wipe dir="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d6f0"/>
            </a:gs>
            <a:gs pos="100000">
              <a:srgbClr val="ffe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276720" y="350640"/>
            <a:ext cx="220968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900" spc="-1" strike="noStrike">
                <a:solidFill>
                  <a:srgbClr val="ffffff"/>
                </a:solidFill>
                <a:latin typeface="Century Schoolbook"/>
                <a:cs typeface="K Elham"/>
              </a:rPr>
              <a:t>فن</a:t>
            </a:r>
            <a:br>
              <a:rPr sz="4900"/>
            </a:br>
            <a:r>
              <a:rPr b="1" lang="ar-SA" sz="4900" spc="-1" strike="noStrike">
                <a:solidFill>
                  <a:srgbClr val="ffffff"/>
                </a:solidFill>
                <a:latin typeface="Century Schoolbook"/>
                <a:ea typeface="K Elham"/>
              </a:rPr>
              <a:t> النقد</a:t>
            </a:r>
            <a:endParaRPr b="0" lang="en-US" sz="4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5866920" y="10666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44583"/>
                </a:solidFill>
                <a:latin typeface="Century Schoolbook"/>
                <a:cs typeface="AL-Mohanad Bold"/>
              </a:rPr>
              <a:t>قواعد النقد البناء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44583"/>
                </a:solidFill>
                <a:latin typeface="Century Schoolbook"/>
                <a:cs typeface="AL-Mohanad Bold"/>
              </a:rPr>
              <a:t>حسن النية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44583"/>
                </a:solidFill>
                <a:latin typeface="Century Schoolbook"/>
                <a:cs typeface="AL-Mohanad Bold"/>
              </a:rPr>
              <a:t>السرية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44583"/>
                </a:solidFill>
                <a:latin typeface="Century Schoolbook"/>
                <a:cs typeface="AL-Mohanad Bold"/>
              </a:rPr>
              <a:t>لا تداهم النواي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44583"/>
                </a:solidFill>
                <a:latin typeface="Century Schoolbook"/>
                <a:cs typeface="AL-Mohanad Bold"/>
              </a:rPr>
              <a:t>متعاطف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44583"/>
                </a:solidFill>
                <a:latin typeface="Century Schoolbook"/>
                <a:cs typeface="AL-Mohanad Bold"/>
              </a:rPr>
              <a:t>لا تكثر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44583"/>
                </a:solidFill>
                <a:latin typeface="Century Schoolbook"/>
                <a:cs typeface="AL-Mohanad Bold"/>
              </a:rPr>
              <a:t>السلوك لا الهوية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44583"/>
                </a:solidFill>
                <a:latin typeface="Century Schoolbook"/>
                <a:cs typeface="AL-Mohanad Bold"/>
              </a:rPr>
              <a:t>النقد بين  القبول والتقبل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d"/>
  </p:transition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9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1000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1000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0" dur="1000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8" dur="1000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1000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4" dur="1000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2" dur="1000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d2611c"/>
                </a:solidFill>
                <a:latin typeface="Century Schoolbook"/>
                <a:cs typeface="ACS  Zomorrod Extra Bold"/>
              </a:rPr>
              <a:t>استراتيجية  الفطيرة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575f6d"/>
                </a:solidFill>
                <a:latin typeface="Century Schoolbook"/>
                <a:cs typeface="Andalus"/>
              </a:rPr>
              <a:t>ثناء_الملاحظة_شكر</a:t>
            </a:r>
            <a:endParaRPr b="0" lang="en-US" sz="8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قم  بكتابة  رسالة تنصح  فيها زميلا  مقصرا في صلاة الجماعة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9" name="Picture 8" descr="E:\CLIPART\BORDERS\BRDRMISC\BDROC007.WMF"/>
          <p:cNvPicPr/>
          <p:nvPr/>
        </p:nvPicPr>
        <p:blipFill>
          <a:blip r:embed="rId1"/>
          <a:stretch/>
        </p:blipFill>
        <p:spPr>
          <a:xfrm>
            <a:off x="228600" y="0"/>
            <a:ext cx="2270160" cy="1523880"/>
          </a:xfrm>
          <a:prstGeom prst="rect">
            <a:avLst/>
          </a:prstGeom>
          <a:ln w="0">
            <a:noFill/>
          </a:ln>
        </p:spPr>
      </p:pic>
      <p:sp>
        <p:nvSpPr>
          <p:cNvPr id="480" name="Rectangle 5"/>
          <p:cNvSpPr/>
          <p:nvPr/>
        </p:nvSpPr>
        <p:spPr>
          <a:xfrm>
            <a:off x="537480" y="590400"/>
            <a:ext cx="127656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fff39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75f6d"/>
                </a:solidFill>
                <a:latin typeface="Verdana"/>
                <a:cs typeface="Andalus"/>
              </a:rPr>
              <a:t>نشاط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885840" y="228600"/>
            <a:ext cx="4267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9933"/>
                </a:solidFill>
                <a:latin typeface="Century Schoolbook"/>
                <a:cs typeface="K Elham"/>
              </a:rPr>
              <a:t>قبل  فن النقد  اتقن  فن..............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diamond/>
  </p:transition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5" descr="C:\Documents and Settings\asus\My Documents\عرض\صور4\4.JPG"/>
          <p:cNvPicPr/>
          <p:nvPr/>
        </p:nvPicPr>
        <p:blipFill>
          <a:blip r:embed="rId1"/>
          <a:stretch/>
        </p:blipFill>
        <p:spPr>
          <a:xfrm rot="18546600">
            <a:off x="1947600" y="569160"/>
            <a:ext cx="5085000" cy="677700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 rot="19577400">
            <a:off x="2031840" y="1374840"/>
            <a:ext cx="2286000" cy="18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Century Schoolbook"/>
                <a:cs typeface="K Elham"/>
              </a:rPr>
              <a:t>كيف تتعامل مع المعروف عندما تقدمه او يقدم لك؟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wedge/>
  </p:transition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599840" y="2057400"/>
            <a:ext cx="609588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>
                <a:solidFill>
                  <a:srgbClr val="000000"/>
                </a:solidFill>
                <a:latin typeface="Century Schoolbook"/>
                <a:cs typeface="K Elham"/>
              </a:rPr>
              <a:t>من الفائز؟</a:t>
            </a:r>
            <a:endParaRPr b="0" lang="en-US" sz="10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strips dir="ru"/>
  </p:transition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575f6d"/>
                </a:solidFill>
                <a:latin typeface="Century Schoolbook"/>
              </a:rPr>
              <a:t>انتصار  بطعم  الهزيمة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القاعدة الأجمل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in wi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87" name="Picture 4" descr="C:\Documents and Settings\asus\My Documents\عرض\صور4\DSGNC041.WMF"/>
          <p:cNvPicPr/>
          <p:nvPr/>
        </p:nvPicPr>
        <p:blipFill>
          <a:blip r:embed="rId1"/>
          <a:stretch/>
        </p:blipFill>
        <p:spPr>
          <a:xfrm>
            <a:off x="2057400" y="2286000"/>
            <a:ext cx="3591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تنازعت مع  أحد  إخوانك على  موضوع إحضار اختك من الجامعة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ماهي  الحلول الممكنة وماهو الحل الأمثل؟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89" name="Group 5"/>
          <p:cNvGrpSpPr/>
          <p:nvPr/>
        </p:nvGrpSpPr>
        <p:grpSpPr>
          <a:xfrm>
            <a:off x="457200" y="152280"/>
            <a:ext cx="2819520" cy="1460520"/>
            <a:chOff x="457200" y="152280"/>
            <a:chExt cx="2819520" cy="1460520"/>
          </a:xfrm>
        </p:grpSpPr>
        <p:pic>
          <p:nvPicPr>
            <p:cNvPr id="490" name="Picture 8" descr="E:\CLIPART\BORDERS\BRDRMISC\BDROC007.WMF"/>
            <p:cNvPicPr/>
            <p:nvPr/>
          </p:nvPicPr>
          <p:blipFill>
            <a:blip r:embed="rId1"/>
            <a:stretch/>
          </p:blipFill>
          <p:spPr>
            <a:xfrm>
              <a:off x="457200" y="304560"/>
              <a:ext cx="2819520" cy="13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Rectangle 2"/>
            <p:cNvSpPr/>
            <p:nvPr/>
          </p:nvSpPr>
          <p:spPr>
            <a:xfrm>
              <a:off x="766800" y="152280"/>
              <a:ext cx="18972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ff0000"/>
                  </a:solidFill>
                  <a:latin typeface="Century Schoolbook"/>
                  <a:cs typeface="K Elham"/>
                </a:rPr>
                <a:t>تمرين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Box 2"/>
          <p:cNvSpPr/>
          <p:nvPr/>
        </p:nvSpPr>
        <p:spPr>
          <a:xfrm>
            <a:off x="1295280" y="1905120"/>
            <a:ext cx="5235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e8637"/>
                </a:solidFill>
                <a:latin typeface="Verdana"/>
                <a:cs typeface="K Elham"/>
              </a:rPr>
              <a:t>تم بحمد الله</a:t>
            </a:r>
            <a:endParaRPr b="0" lang="en-US" sz="8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TextBox 3"/>
          <p:cNvSpPr/>
          <p:nvPr/>
        </p:nvSpPr>
        <p:spPr>
          <a:xfrm>
            <a:off x="2590920" y="586728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Verdana"/>
                <a:cs typeface="AL-Mohanad Bold"/>
              </a:rPr>
              <a:t>د. خالد بن صالح المني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21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6" dur="8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7" dur="8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8" dur="8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429000" y="380880"/>
            <a:ext cx="358128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9933"/>
                </a:solidFill>
                <a:latin typeface="Century Schoolbook"/>
                <a:cs typeface="K Elham"/>
              </a:rPr>
              <a:t>قبل  أن  نبدأ ..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2819520" y="1828800"/>
            <a:ext cx="5486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لا ترضى بأقل من عشر فوائد 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 وعاهد الله  بنية صادقة على التطبيق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out" orient="ver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380520" y="2819160"/>
            <a:ext cx="48769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15%</a:t>
            </a: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 من النجاح الوظيفي  يرجع للذكاء المنطقي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85%</a:t>
            </a: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 يرجع للذكاء العاطفي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4" name="Rectangle 5" descr=""/>
          <p:cNvPicPr/>
          <p:nvPr/>
        </p:nvPicPr>
        <p:blipFill>
          <a:blip r:embed="rId1"/>
          <a:stretch/>
        </p:blipFill>
        <p:spPr>
          <a:xfrm>
            <a:off x="291960" y="42840"/>
            <a:ext cx="4627800" cy="3267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C:\Documents and Settings\asus\My Documents\عرض\صور4\23.JPG"/>
          <p:cNvPicPr/>
          <p:nvPr/>
        </p:nvPicPr>
        <p:blipFill>
          <a:blip r:embed="rId2"/>
          <a:stretch/>
        </p:blipFill>
        <p:spPr>
          <a:xfrm>
            <a:off x="5257800" y="380880"/>
            <a:ext cx="3152880" cy="24321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9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c8d6f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504960" y="380520"/>
            <a:ext cx="4267080" cy="25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e8637"/>
                </a:solidFill>
                <a:latin typeface="Century Schoolbook"/>
                <a:cs typeface="K Elham"/>
              </a:rPr>
              <a:t>مكــــــاســــبـــــــك من حسن الخلق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219320" y="3428640"/>
            <a:ext cx="63244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51440" indent="-451440" algn="r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..................................................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1440" indent="-451440" algn="r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.................................................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1440" indent="-451440" algn="r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.................................................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1440" indent="-451440" algn="r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.................................................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1440" indent="-451440" algn="r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.................................................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1440" indent="-451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378" name="Group 8"/>
          <p:cNvGrpSpPr/>
          <p:nvPr/>
        </p:nvGrpSpPr>
        <p:grpSpPr>
          <a:xfrm>
            <a:off x="304920" y="228600"/>
            <a:ext cx="2081160" cy="1460520"/>
            <a:chOff x="304920" y="228600"/>
            <a:chExt cx="2081160" cy="1460520"/>
          </a:xfrm>
        </p:grpSpPr>
        <p:pic>
          <p:nvPicPr>
            <p:cNvPr id="379" name="Picture 8" descr="E:\CLIPART\BORDERS\BRDRMISC\BDROC007.WMF"/>
            <p:cNvPicPr/>
            <p:nvPr/>
          </p:nvPicPr>
          <p:blipFill>
            <a:blip r:embed="rId1"/>
            <a:stretch/>
          </p:blipFill>
          <p:spPr>
            <a:xfrm>
              <a:off x="304920" y="380880"/>
              <a:ext cx="2081160" cy="13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Rectangle 2"/>
            <p:cNvSpPr/>
            <p:nvPr/>
          </p:nvSpPr>
          <p:spPr>
            <a:xfrm>
              <a:off x="533520" y="228600"/>
              <a:ext cx="14000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ff0000"/>
                  </a:solidFill>
                  <a:latin typeface="Century Schoolbook"/>
                  <a:cs typeface="K Elham"/>
                </a:rPr>
                <a:t>تمرين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81" name="Picture 5" descr="C:\Documents and Settings\asus\My Documents\عرض\صور4\3.JPG"/>
          <p:cNvPicPr/>
          <p:nvPr/>
        </p:nvPicPr>
        <p:blipFill>
          <a:blip r:embed="rId2"/>
          <a:stretch/>
        </p:blipFill>
        <p:spPr>
          <a:xfrm>
            <a:off x="4419720" y="0"/>
            <a:ext cx="2133360" cy="1747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257800" y="1188720"/>
            <a:ext cx="27432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200" spc="-1" strike="noStrike">
                <a:solidFill>
                  <a:srgbClr val="fe8637"/>
                </a:solidFill>
                <a:latin typeface="Century Schoolbook"/>
                <a:cs typeface="K Elham"/>
              </a:rPr>
              <a:t>مكاسبك</a:t>
            </a:r>
            <a:endParaRPr b="0" lang="en-US" sz="6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6000" y="3048120"/>
            <a:ext cx="43419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e8637"/>
                </a:solidFill>
                <a:latin typeface="Century Schoolbook"/>
                <a:cs typeface="AL-Mohanad Bold"/>
              </a:rPr>
              <a:t>لتفـعيل مرؤوسيهم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66cc"/>
                </a:solidFill>
                <a:latin typeface="Century Schoolbook"/>
                <a:cs typeface="AL-Mohanad Bold"/>
              </a:rPr>
              <a:t>لأسرة سعيدة وتربية حميدة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b0f0"/>
                </a:solidFill>
                <a:latin typeface="Century Schoolbook"/>
                <a:cs typeface="AL-Mohanad Bold"/>
              </a:rPr>
              <a:t>الأزواج و الزوجات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9966"/>
                </a:solidFill>
                <a:latin typeface="Century Schoolbook"/>
                <a:cs typeface="AL-Mohanad Bold"/>
              </a:rPr>
              <a:t>الدعــــاة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8a7007"/>
                </a:solidFill>
                <a:latin typeface="Century Schoolbook"/>
                <a:cs typeface="AL-Mohanad Bold"/>
              </a:rPr>
              <a:t>والمربين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267080" y="3504960"/>
            <a:ext cx="3657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ff33"/>
                </a:solidFill>
                <a:latin typeface="Century Schoolbook"/>
                <a:cs typeface="AL-Mohanad Bold"/>
              </a:rPr>
              <a:t>التعامل مع الناس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7598d9"/>
                </a:solidFill>
                <a:latin typeface="Century Schoolbook"/>
                <a:cs typeface="AL-Mohanad Bold"/>
              </a:rPr>
              <a:t>نحن في حـاجـتـهم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Century Schoolbook"/>
                <a:cs typeface="AL-Mohanad Bold"/>
              </a:rPr>
              <a:t>وهم في حاجتنا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668c4"/>
                </a:solidFill>
                <a:latin typeface="Century Schoolbook"/>
                <a:cs typeface="AL-Mohanad Bold"/>
              </a:rPr>
              <a:t>لـلـدنـيـا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66"/>
                </a:solidFill>
                <a:latin typeface="Al-Kharashi 45"/>
                <a:cs typeface="AL-Mohanad Bold"/>
              </a:rPr>
              <a:t>وللآخـــــرة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5" name="Picture 5" descr="C:\Documents and Settings\asus\My Documents\عرض\صور\GOVT131.WMF"/>
          <p:cNvPicPr/>
          <p:nvPr/>
        </p:nvPicPr>
        <p:blipFill>
          <a:blip r:embed="rId1"/>
          <a:stretch/>
        </p:blipFill>
        <p:spPr>
          <a:xfrm>
            <a:off x="1828800" y="685800"/>
            <a:ext cx="2590920" cy="197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5" descr="C:\Documents and Settings\asus\My Documents\عرض\صور4\8.JPG"/>
          <p:cNvPicPr/>
          <p:nvPr/>
        </p:nvPicPr>
        <p:blipFill>
          <a:blip r:embed="rId1"/>
          <a:stretch/>
        </p:blipFill>
        <p:spPr>
          <a:xfrm>
            <a:off x="6477120" y="-2590920"/>
            <a:ext cx="2185920" cy="259092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 rot="684600">
            <a:off x="5743440" y="1133280"/>
            <a:ext cx="1594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cs typeface="K Elham"/>
              </a:rPr>
              <a:t>الخطوة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ea typeface="K Elham"/>
              </a:rPr>
              <a:t> الأولى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8" name="Rectangle 6" descr=""/>
          <p:cNvPicPr/>
          <p:nvPr/>
        </p:nvPicPr>
        <p:blipFill>
          <a:blip r:embed="rId2"/>
          <a:stretch/>
        </p:blipFill>
        <p:spPr>
          <a:xfrm>
            <a:off x="-66600" y="1670040"/>
            <a:ext cx="8345520" cy="485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11111E-006 L -0.08611 0.4 E">
                                      <p:cBhvr>
                                        <p:cTn id="304" dur="20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9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3809880" y="1069920"/>
            <a:ext cx="4572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أعمق رغبة إنسانية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ماهو الشيء الذي  يجعل  الآخرين  سعداء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هل تعرف  اول ما تطالب به  الدول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لسلوك لا الهوية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أغنى رجلين في العالم  يقدمان  لك  وصفة  سحرية للتعامل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رقم قياسي للزواج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0" name="Picture 4" descr="D:\only me\wafa3\no body\Things\brxbxp28323.jpg"/>
          <p:cNvPicPr/>
          <p:nvPr/>
        </p:nvPicPr>
        <p:blipFill>
          <a:blip r:embed="rId1"/>
          <a:stretch/>
        </p:blipFill>
        <p:spPr>
          <a:xfrm>
            <a:off x="609480" y="1155600"/>
            <a:ext cx="3407040" cy="417852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 rot="21363000">
            <a:off x="1117080" y="2248920"/>
            <a:ext cx="243864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entury Schoolbook"/>
                <a:cs typeface="K Elham"/>
              </a:rPr>
              <a:t>السر</a:t>
            </a:r>
            <a:br>
              <a:rPr sz="4400"/>
            </a:br>
            <a:r>
              <a:rPr b="0" lang="ar-SA" sz="4400" spc="-1" strike="noStrike">
                <a:solidFill>
                  <a:srgbClr val="000000"/>
                </a:solidFill>
                <a:latin typeface="Century Schoolbook"/>
                <a:ea typeface="K Elham"/>
              </a:rPr>
              <a:t> الخطير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wheel spokes="8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1T20:54:18Z</dcterms:created>
  <dc:creator>user</dc:creator>
  <dc:description/>
  <dc:language>en-US</dc:language>
  <cp:lastModifiedBy>www.arabswell.com</cp:lastModifiedBy>
  <dcterms:modified xsi:type="dcterms:W3CDTF">2008-03-03T13:10:54Z</dcterms:modified>
  <cp:revision>29</cp:revision>
  <dc:subject/>
  <dc:title>فن  التعامل  وقوة التأثير  </dc:title>
</cp:coreProperties>
</file>