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39F9-5B8A-4CCD-AB78-432C404D4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5EE2-2D00-4B0B-B650-AA0979EC5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3F92-F1F6-43B4-9F8C-C7F5CEF94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E0A6-FBBE-4E2B-B661-DE19387FD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87CD-F2CA-475E-BC4A-02AF83573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BD9C-C35C-4C81-A24D-ABE2AC53A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4F2C-BBEB-42A3-A3CB-1F4D65CDA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EC47-F9AD-44BC-AEFC-51C3622CF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5DAD-C9AF-4F4D-97FE-FA2C8EFEE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9588-1F7D-4A53-A07C-6670A8A1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2DF8-B49D-4525-8763-F3CA4F3F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39A4-29E4-4CDB-A67A-6725B3EA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061EF-A441-4827-9F6F-C146A93ABAC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1196640"/>
            <a:ext cx="7631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Mohanad Bold"/>
              </a:rPr>
              <a:t>دورة بعنوان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4076280"/>
            <a:ext cx="655344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Mohanad Bold"/>
              </a:rPr>
              <a:t>من إعداد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Mohanad Bold"/>
              </a:rPr>
              <a:t>أبو أسـام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9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MCS Jeddah S_I 3d."/>
              </a:rPr>
              <a:t>استراحة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dvertisingLight"/>
              </a:rPr>
              <a:t>* جدول افتراضي لأنشطة وأعمال رجل عمره سبعون سنة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24000" y="2492280"/>
          <a:ext cx="8569080" cy="3184560"/>
        </p:xfrm>
        <a:graphic>
          <a:graphicData uri="http://schemas.openxmlformats.org/drawingml/2006/table">
            <a:tbl>
              <a:tblPr/>
              <a:tblGrid>
                <a:gridCol w="792000"/>
                <a:gridCol w="765360"/>
                <a:gridCol w="777600"/>
                <a:gridCol w="781200"/>
                <a:gridCol w="777960"/>
                <a:gridCol w="780840"/>
                <a:gridCol w="777960"/>
                <a:gridCol w="781200"/>
                <a:gridCol w="777600"/>
                <a:gridCol w="779760"/>
                <a:gridCol w="777600"/>
              </a:tblGrid>
              <a:tr h="265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الباق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المجمو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الاتصالات الهاتفية بمعدل نصف ساعة يوميا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التنقل من مكان لآخر بمعدل نصف ساعة يوميا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الأعمال المنزلية والرحلات والتنزه بمعدل ساعة واحدة يوميا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اللقاءات الاجتماعية والودية بين الأصدقاء بمعدل ساعة يوميا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الأعمال المعتادة والمراجعات الحكومية بمعدل نصف ساعة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الأكل والشرب بمعدل ساعة ونصف يوميا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العمل من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raditional Arabic"/>
                        </a:rPr>
                        <a:t>7</a:t>
                      </a: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ـ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raditional Arabic"/>
                        </a:rPr>
                        <a:t>2.5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raditional Arabic"/>
                        </a:rPr>
                        <a:t> يوميا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النوم (بمعدل ثماني ساعات يوميا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نوع النشا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r>
                        <a:rPr b="1" lang="ar-S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سنوات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r>
                        <a:rPr b="1" lang="ar-S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سنة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مايستغرقه بالسنو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2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النسبة السنوية من العم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MCS Gulf S_U normal.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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MCS Gulf S_U normal."/>
              </a:rPr>
              <a:t> ضع لك خططاً مكتوبة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MCS Gulf S_U normal.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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MCS Gulf S_U normal."/>
              </a:rPr>
              <a:t> ضع لك جداول يوم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MCS Gulf S_U normal.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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MCS Gulf S_U normal."/>
              </a:rPr>
              <a:t> خطط للأمور اليقينية أو المحتمل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MCS Gulf S_U normal.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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MCS Gulf S_U normal."/>
              </a:rPr>
              <a:t> ضع لك خططاً يومية وأسبوعية وشهرية وسنو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MCS Gulf S_U normal.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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MCS Gulf S_U normal."/>
              </a:rPr>
              <a:t> كن مرناً في وضع خطط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MCS Gulf S_U normal.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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MCS Gulf S_U normal."/>
              </a:rPr>
              <a:t> إقضِ عشر دقائق في نهاية كل يوم لنشاطات اليوم التال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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MCS Gulf S_U normal."/>
              </a:rPr>
              <a:t> راجع خطتك دائماً (الأسبوعية – الجمعة ، الشهرية – نهاية الشهر ، السنوية – كل أربعة أو ثلاثة اشهر) وفي المراجعة قيم خطتك السابقة ، ورتب لخطتك القادم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L-Mohanad Bold"/>
              </a:rPr>
              <a:t>*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MCS Shafa E_U 3D.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ohanad Bold"/>
              </a:rPr>
              <a:t>تذكر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تخطيط جيد للوقت + إجراءات إيجابية لمواجهة مضيعات الوق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= إدارة فعالة للوق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Mohanad Bold"/>
              </a:rPr>
              <a:t>الإضاءة الثانية: التخطي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8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1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4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7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0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3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6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9" dur="5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2" dur="5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5" dur="500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84360" y="1125360"/>
            <a:ext cx="7773840" cy="403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0000"/>
                </a:solidFill>
                <a:latin typeface="Arial"/>
                <a:cs typeface="AL-Hotham"/>
              </a:rPr>
              <a:t>برمج نفسك أخي على أنك رجل فعّال مغتنم لوقتك ، وتخيل الناس وهم ينظرون إليك للإقتداء ،</a:t>
            </a:r>
            <a:br>
              <a:rPr sz="5400"/>
            </a:br>
            <a:r>
              <a:rPr b="0" lang="hi-IN" sz="5400" spc="-1" strike="noStrike">
                <a:solidFill>
                  <a:srgbClr val="000000"/>
                </a:solidFill>
                <a:latin typeface="Arial"/>
                <a:cs typeface="AL-Hotham"/>
              </a:rPr>
              <a:t>واعلم بأنك أهلٌ لذلك.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SKR HEAD1 Outlined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768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4" dur="768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6" dur="768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8" dur="768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368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dvertisingMedium"/>
              </a:rPr>
              <a:t>الإضاءة الثالثة: إدارة الأولويات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MCS Taybah S_U normal.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072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DecoType Naskh Variants"/>
                <a:ea typeface="AL-Mohanad Bold"/>
              </a:rPr>
              <a:t> حدد أولويات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Eras Demi ITC"/>
                <a:ea typeface="AL-Mohanad Bold"/>
              </a:rPr>
              <a:t> أكتب أولويات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Eras Demi ITC"/>
                <a:ea typeface="AL-Mohanad Bold"/>
              </a:rPr>
              <a:t> رتب أولويات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Eras Demi ITC"/>
                <a:ea typeface="AL-Mohanad Bold"/>
              </a:rPr>
              <a:t> ضع جدولاً لأولويات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Eras Demi ITC"/>
                <a:ea typeface="AL-Mohanad Bold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Wingdings 3"/>
                <a:ea typeface="Wingdings 3"/>
              </a:rPr>
              <a:t></a:t>
            </a:r>
            <a:r>
              <a:rPr b="0" lang="ar-SA" sz="4000" spc="-1" strike="noStrike">
                <a:solidFill>
                  <a:srgbClr val="000000"/>
                </a:solidFill>
                <a:latin typeface="Eras Demi ITC"/>
                <a:cs typeface="AL-Mohanad Bold"/>
              </a:rPr>
              <a:t>هل درست جدول إيزنهاور لضبط الأولويات 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Mohanad Bold"/>
              </a:rPr>
              <a:t>جدول إيزن هاور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32360" y="907560"/>
            <a:ext cx="295272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 rtl="1">
              <a:lnSpc>
                <a:spcPct val="100000"/>
              </a:lnSpc>
              <a:spcBef>
                <a:spcPts val="5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800" spc="-1" strike="noStrike">
                <a:solidFill>
                  <a:srgbClr val="000000"/>
                </a:solidFill>
                <a:latin typeface="DecoType Naskh Variants"/>
                <a:ea typeface="DecoType Naskh Variants"/>
              </a:rPr>
              <a:t>×</a:t>
            </a:r>
            <a:endParaRPr b="0" lang="en-US" sz="2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1600" y="3611520"/>
            <a:ext cx="395604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30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2100" spc="-1" strike="noStrike">
                <a:solidFill>
                  <a:srgbClr val="000000"/>
                </a:solidFill>
                <a:latin typeface="Wingdings 2"/>
                <a:ea typeface="Wingdings 2"/>
              </a:rPr>
              <a:t></a:t>
            </a:r>
            <a:r>
              <a:rPr b="0" lang="ar-SA" sz="1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  <a:cs typeface="AdvertisingLight"/>
                        </a:rPr>
                        <a:t>مهم وغير عاج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  <a:ea typeface="AdvertisingLight"/>
                        </a:rPr>
                        <a:t>( الزيارات والمكالمات 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dvertisingLight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  <a:cs typeface="AdvertisingLight"/>
                        </a:rPr>
                        <a:t>مهم وعاجل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  <a:ea typeface="AdvertisingLight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  <a:ea typeface="AdvertisingLight"/>
                        </a:rPr>
                        <a:t>( كالأزمات والمواقف الطارئة ، والمهام التي اقترب موعدها 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dvertisingLight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  <a:cs typeface="AdvertisingLight"/>
                        </a:rPr>
                        <a:t>غير عاجل وغير مهم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  <a:ea typeface="AdvertisingLight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  <a:ea typeface="AdvertisingLight"/>
                        </a:rPr>
                        <a:t>( كالأمور الروتينية والمكررة ، كحوائج المنزل أو السيارة 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dvertisingLight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  <a:cs typeface="AdvertisingLight"/>
                        </a:rPr>
                        <a:t>غير مهم وعاجل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  <a:ea typeface="AdvertisingLight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  <a:ea typeface="AdvertisingLight"/>
                        </a:rPr>
                        <a:t>(يخضع لرغبات الأهل والنفس 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dvertisingLight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7093080" y="4148280"/>
            <a:ext cx="1871640" cy="576000"/>
          </a:xfrm>
          <a:prstGeom prst="leftArrow">
            <a:avLst>
              <a:gd name="adj1" fmla="val 50000"/>
              <a:gd name="adj2" fmla="val 81234"/>
            </a:avLst>
          </a:prstGeom>
          <a:gradFill rotWithShape="0">
            <a:gsLst>
              <a:gs pos="0">
                <a:srgbClr val="d559a3"/>
              </a:gs>
              <a:gs pos="100000">
                <a:srgbClr val="781e5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  <a:cs typeface="Traditional Arabic"/>
              </a:rPr>
              <a:t>يمكن تفويض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093080" y="2060640"/>
            <a:ext cx="1871640" cy="576360"/>
          </a:xfrm>
          <a:prstGeom prst="leftArrow">
            <a:avLst>
              <a:gd name="adj1" fmla="val 50000"/>
              <a:gd name="adj2" fmla="val 81184"/>
            </a:avLst>
          </a:prstGeom>
          <a:gradFill rotWithShape="0">
            <a:gsLst>
              <a:gs pos="0">
                <a:srgbClr val="d559a3"/>
              </a:gs>
              <a:gs pos="100000">
                <a:srgbClr val="781e5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  <a:cs typeface="Traditional Arabic"/>
              </a:rPr>
              <a:t>لايمكن تفويض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2060640"/>
            <a:ext cx="1871640" cy="576360"/>
          </a:xfrm>
          <a:prstGeom prst="rightArrow">
            <a:avLst>
              <a:gd name="adj1" fmla="val 50000"/>
              <a:gd name="adj2" fmla="val 81184"/>
            </a:avLst>
          </a:prstGeom>
          <a:gradFill rotWithShape="0">
            <a:gsLst>
              <a:gs pos="0">
                <a:srgbClr val="be3085"/>
              </a:gs>
              <a:gs pos="100000">
                <a:srgbClr val="57163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  <a:cs typeface="Traditional Arabic"/>
              </a:rPr>
              <a:t>يمكن تفويض بعض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4365720"/>
            <a:ext cx="1871640" cy="576000"/>
          </a:xfrm>
          <a:prstGeom prst="rightArrow">
            <a:avLst>
              <a:gd name="adj1" fmla="val 50000"/>
              <a:gd name="adj2" fmla="val 81234"/>
            </a:avLst>
          </a:prstGeom>
          <a:gradFill rotWithShape="0">
            <a:gsLst>
              <a:gs pos="0">
                <a:srgbClr val="be3085"/>
              </a:gs>
              <a:gs pos="100000">
                <a:srgbClr val="57163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أفضل تفويض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00720" y="1341360"/>
            <a:ext cx="3600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 algn="ctr" rtl="1"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 rtl="1">
              <a:lnSpc>
                <a:spcPct val="9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 rtl="1">
              <a:lnSpc>
                <a:spcPct val="9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400" spc="-1" strike="noStrike">
                <a:solidFill>
                  <a:srgbClr val="000000"/>
                </a:solidFill>
                <a:latin typeface="Wingdings 2"/>
                <a:ea typeface="Wingdings 2"/>
              </a:rPr>
              <a:t></a:t>
            </a:r>
            <a:endParaRPr b="0" lang="en-US" sz="10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9280" y="1484280"/>
            <a:ext cx="395604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30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2100" spc="-1" strike="noStrike">
                <a:solidFill>
                  <a:srgbClr val="000000"/>
                </a:solidFill>
                <a:latin typeface="Wingdings 2"/>
                <a:ea typeface="Wingdings 2"/>
              </a:rPr>
              <a:t></a:t>
            </a:r>
            <a:r>
              <a:rPr b="0" lang="ar-SA" sz="121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0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0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0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0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Mohanad Bold"/>
              </a:rPr>
              <a:t>الإضاءة الأخيرة: التنفي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AL-Mohanad Bold"/>
              </a:rPr>
              <a:t>إستعن باللـه ولا تعجز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AL-Mohanad Bold"/>
              </a:rPr>
              <a:t>تخلص من حولك وقوتك إلى حول اللـه وقوته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AL-Mohanad Bold"/>
              </a:rPr>
              <a:t>إبدأ أعمالك في الصباح الباكر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AL-Mohanad Bold"/>
              </a:rPr>
              <a:t>إبدأ أعمالك بالأهم فالمهم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AL-Mohanad Bold"/>
              </a:rPr>
              <a:t>أنجز العمل المناسب في الوقت المناسب ، ولا تسوف أو تؤجل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AL-Mohanad Bold"/>
              </a:rPr>
              <a:t>تخلص من مضيعات الوقت ومن لصوصه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AL-Mohanad Bold"/>
              </a:rPr>
              <a:t>كن في مكان هادئ بعيداً عن الضوضاء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AL-Mohanad Bold"/>
              </a:rPr>
              <a:t>ضع لك جدولاً للأعمال الطارئة أياً كانت ، كالمكالمات أو الزيارات الغير متفق عليها سابقاً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AL-Mohanad Bold"/>
              </a:rPr>
              <a:t>كرر عبارة ”عد للعمل“ ، ”عد للعمل“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Wingdings 2"/>
                <a:ea typeface="Wingdings 2"/>
              </a:rPr>
              <a:t>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  <a:ea typeface="AL-Mohanad Bold"/>
              </a:rPr>
              <a:t> عليك بالدعاء ، ولا تنس تلبية حق الوالدين والأهل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dvertisingLight"/>
              </a:rPr>
              <a:t>المراج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L-Mohanad Bold"/>
              </a:rPr>
              <a:t>* المراجع التي تم الرجوع إليها للإفادة منها في هذه الدورة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ohanad Bold"/>
              </a:rPr>
              <a:t>ــ فن وعلم إدارة الوقت . الجزء الثاني . أ. رعد حسن الصر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ohanad Bold"/>
              </a:rPr>
              <a:t>ــ فن إدارة الوقت . عبداللـه البوص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ohanad Bold"/>
              </a:rPr>
              <a:t>ــ فن إدارة الوقت . محمد ديما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ohanad Bold"/>
              </a:rPr>
              <a:t>ــ كتاب إدارة الوقت (ضمن دورة تدريبية) للدكتور طارق السويدان. إصدار قرطبة للإنتاج الفن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ohanad Bold"/>
              </a:rPr>
              <a:t>ــ كتاب تحكم في وقتك. بريان تراس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ohanad Bold"/>
              </a:rPr>
              <a:t>ــ كتاب قيمة الزمن عند العلماء. عبدالفتاح أبو غد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ohanad Bold"/>
              </a:rPr>
              <a:t>ــ رسالة الوقت أنفاس لا تعود. الشيخ عبدالملك القاس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ohanad Bold"/>
              </a:rPr>
              <a:t>ــ كتاب محمد ناصرالدين الألباني محدث العصر وناصر السنة. إبراهيم العل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ohanad Bold"/>
              </a:rPr>
              <a:t>ــ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L-Mohanad Bold"/>
              </a:rPr>
              <a:t>100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ohanad Bold"/>
              </a:rPr>
              <a:t>فائدة من العلامة ابن عثيمين (محاضرة صوتية). الشيخ محمد صالح المنج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600"/>
                            </p:stCondLst>
                            <p:childTnLst>
                              <p:par>
                                <p:cTn id="63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4450"/>
                            </p:stCondLst>
                            <p:childTnLst>
                              <p:par>
                                <p:cTn id="64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7150"/>
                            </p:stCondLst>
                            <p:childTnLst>
                              <p:par>
                                <p:cTn id="64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9100"/>
                            </p:stCondLst>
                            <p:childTnLst>
                              <p:par>
                                <p:cTn id="64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0800"/>
                            </p:stCondLst>
                            <p:childTnLst>
                              <p:par>
                                <p:cTn id="65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15000"/>
                            </p:stCondLst>
                            <p:childTnLst>
                              <p:par>
                                <p:cTn id="65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16850"/>
                            </p:stCondLst>
                            <p:childTnLst>
                              <p:par>
                                <p:cTn id="66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9400"/>
                            </p:stCondLst>
                            <p:childTnLst>
                              <p:par>
                                <p:cTn id="66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22050"/>
                            </p:stCondLst>
                            <p:childTnLst>
                              <p:par>
                                <p:cTn id="66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25500"/>
                            </p:stCondLst>
                            <p:childTnLst>
                              <p:par>
                                <p:cTn id="67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Mohanad Bold"/>
              </a:rPr>
              <a:t>نهاية المطا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11 BT"/>
              </a:rPr>
              <a:t>ـ ولا أنسى أن أشكرك أخي على تفضلك بالاضطلاع على ما في طيات هذه الدورة التي استمتعنا سوياً بما فيها ، وأسأل اللـه بمنه وكرمه أن يرزقنا العمل بما فيها من صواب ، والعفو والمغفرة عما فيه من خطأ أو زلل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وما أبرئ نفسي إنني بشــــــر       أسهو وأخطئ مالم يحمني قـــد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ومـا أرى عـذراً أولى بذي زلـل      مــــــــــــن أقــــــــول مقراً إننــي بشـــ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ولك مني ومن الإخوة بشبكة الأمجاد الإسلامية وافر التحايا وأطيب الأمني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0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2000"/>
                            </p:stCondLst>
                            <p:childTnLst>
                              <p:par>
                                <p:cTn id="68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10300"/>
                            </p:stCondLst>
                            <p:childTnLst>
                              <p:par>
                                <p:cTn id="69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13150"/>
                            </p:stCondLst>
                            <p:childTnLst>
                              <p:par>
                                <p:cTn id="69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6950"/>
                            </p:stCondLst>
                            <p:childTnLst>
                              <p:par>
                                <p:cTn id="70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295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*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 Outlined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Battar"/>
              </a:rPr>
              <a:t>محاور الدورة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 Outlined"/>
              </a:rPr>
              <a:t>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CS Taybah E_U 3d."/>
              </a:rPr>
              <a:t> </a:t>
            </a:r>
            <a:r>
              <a:rPr b="0" lang="hi-IN" sz="4000" spc="-1" strike="noStrike">
                <a:solidFill>
                  <a:srgbClr val="000000"/>
                </a:solidFill>
                <a:latin typeface="Arial"/>
                <a:cs typeface="AL-Battar"/>
              </a:rPr>
              <a:t>الوقت في الكتاب والسنة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CS Taybah E_U 3d."/>
              </a:rPr>
              <a:t> </a:t>
            </a:r>
            <a:r>
              <a:rPr b="0" lang="hi-IN" sz="4000" spc="-1" strike="noStrike">
                <a:solidFill>
                  <a:srgbClr val="000000"/>
                </a:solidFill>
                <a:latin typeface="Arial"/>
                <a:cs typeface="AL-Battar"/>
              </a:rPr>
              <a:t>خصائص الوقت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CS Taybah E_U 3d."/>
              </a:rPr>
              <a:t> </a:t>
            </a:r>
            <a:r>
              <a:rPr b="0" lang="hi-IN" sz="4000" spc="-1" strike="noStrike">
                <a:solidFill>
                  <a:srgbClr val="000000"/>
                </a:solidFill>
                <a:latin typeface="Arial"/>
                <a:cs typeface="AL-Battar"/>
              </a:rPr>
              <a:t>إضاءات للناجحين مع الوقت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CS Taybah E_U 3d."/>
              </a:rPr>
              <a:t> </a:t>
            </a:r>
            <a:r>
              <a:rPr b="0" lang="hi-IN" sz="4000" spc="-1" strike="noStrike">
                <a:solidFill>
                  <a:srgbClr val="000000"/>
                </a:solidFill>
                <a:latin typeface="Arial"/>
                <a:cs typeface="AL-Battar"/>
              </a:rPr>
              <a:t>هذه حاله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* </a:t>
            </a:r>
            <a:r>
              <a:rPr b="0" lang="hi-IN" sz="4000" spc="-1" strike="noStrike">
                <a:solidFill>
                  <a:srgbClr val="000000"/>
                </a:solidFill>
                <a:latin typeface="Arial"/>
                <a:cs typeface="AL-Battar"/>
              </a:rPr>
              <a:t>إدارة الوقت بفاعليه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2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2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73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5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Mohanad Bold"/>
              </a:rPr>
              <a:t>الوقت في الكتاب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AdvertisingMedium"/>
              </a:rPr>
              <a:t>أقسم المولى سبحانه بأغلب الأوقات والأزمان لأهميتها ، فمن ذلك قوله تعالى: </a:t>
            </a:r>
            <a:r>
              <a:rPr b="0" lang="en-US" sz="24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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AdvertisingMedium"/>
              </a:rPr>
              <a:t>والفجر وليالٍ عشر </a:t>
            </a:r>
            <a:r>
              <a:rPr b="0" lang="en-US" sz="24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dvertisingMedium"/>
              </a:rPr>
              <a:t> ، وقوله سبحانه : </a:t>
            </a:r>
            <a:r>
              <a:rPr b="0" lang="en-US" sz="24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dvertisingMedium"/>
              </a:rPr>
              <a:t> والليل إذا يغشى والنهار إذا تجلى </a:t>
            </a:r>
            <a:r>
              <a:rPr b="0" lang="en-US" sz="24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dvertisingMediu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AdvertisingMedium"/>
              </a:rPr>
              <a:t>ويقول سبحانه : </a:t>
            </a:r>
            <a:r>
              <a:rPr b="0" lang="en-US" sz="24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dvertisingMedium"/>
              </a:rPr>
              <a:t> والعصر </a:t>
            </a:r>
            <a:r>
              <a:rPr b="0" lang="en-US" sz="24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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AdvertisingMedium"/>
              </a:rPr>
              <a:t>، يقول ابن عباس ـ رضي الله عنه ـ: "العصر هو : الزمن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AdvertisingMedium"/>
              </a:rPr>
              <a:t>وقال الشيخ : عطية محمد سالم ـ رحمه اللـه ـ: في الأضواء: ” هو الدهر كله ، أقسم اللـه به لما فيه من العجائب ، أمة تذهب ، وأمة تأتي ، وقدر ينفد ، وآية تظهر ، وهو هو لا يتغير ، ليل يعقبه نهار ، ونهار يطرده ليل ، فهو في نفسه عجب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AdvertisingMedium"/>
              </a:rPr>
              <a:t>وأرى الزمان سفينة تجري بنا          نـحو المنون ولا نرى حركات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Mohanad Bold"/>
              </a:rPr>
              <a:t>الوقت في السنة: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* في صحيح البخاري من حديث ابن عباس ـ رضي اللـه عنهما ـ قال : قال رسول اللـه ـ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dvertisingMedium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dvertisingExtraBold"/>
                <a:ea typeface="AdvertisingMedium"/>
              </a:rPr>
              <a:t>$</a:t>
            </a:r>
            <a:r>
              <a:rPr b="0" lang="ar-SA" sz="3200" spc="-1" strike="noStrike">
                <a:solidFill>
                  <a:srgbClr val="000000"/>
                </a:solidFill>
                <a:latin typeface="AdvertisingExtraBold"/>
                <a:ea typeface="AdvertisingMedium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dvertisingExtraBold"/>
                <a:cs typeface="AL-Mohanad Bold"/>
              </a:rPr>
              <a:t>ـ : ” نعمتان مغبون فيهما كثير من الناس : الصحة والفراغ“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dvertisingExtraBold"/>
                <a:cs typeface="AL-Mohanad Bold"/>
              </a:rPr>
              <a:t>ــ ” النعم ما يتنعم به الإنسان ويستلذ به ، والغبن أن يشتري بأضعاف الثمن ، أو يبيع بدون ثمن المثل“      ( ابن الخازن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dvertisingExtraBold"/>
                <a:cs typeface="AL-Mohanad Bold"/>
              </a:rPr>
              <a:t>ــ ” فأفاد أن المستفيد من ذلك قِلَّة ، وأما الكثير مفرِّط مغبون ”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dvertisingExtraBold"/>
                <a:ea typeface="AL-Mohanad Bold"/>
              </a:rPr>
              <a:t>                                                                ( عبدالفتاح أبو غدة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4360" y="5300640"/>
            <a:ext cx="799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  <a:cs typeface="AL-Mohanad Bold"/>
              </a:rPr>
              <a:t>خصائص الوقت: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SKR HEAD1 Outlined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. سرعة انقضائه: فهو يمر مر السحاب ، ويجري جري السحاب سواءً زمن مسرة وفرح ، أم كان اكتئاب وتر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. أن ما مضى منه لا يعود ولا يُعوض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ــ قال الحسن البصري ـ رحمه اللـه ـ: يا ابن آدم ... أنا خلق جديد ، وعلى عملي شهيد ، فتزود مني ، فإني إذا مضيت لا أعود إلى يوم القيام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. أنه أنفس ما يملك الإنسان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ـ قال طيفور البطامي ـ رحمه اللـه ـ: إن الليل والنهار رأس مال المؤمن ، ربحها الجنة ، وخسرانها النا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152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  <a:cs typeface="AL-Mohanad Bold"/>
              </a:rPr>
              <a:t>إضاءات للناجحين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814716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* قال أبو النصر أباذي: ” مراعاة الوقت من علامات التيقظ“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* قال ابن مسعود ــ رضي اللـه عنه ــ : ” ما ندمت على شيء ندمي على يوم غربت شمسه نقص فيه أجلي ولم يزد فيه عملي“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* كان أبو مسلم الخولاني ـ رحمه اللـه ـ يقول: ” لو رأيت الجنة ما كان عندي مستزاد ، ولو رأيت النار غداً ما كان عندي مستزاد“ لأنه أوقاته معمورة بطاعة اللـ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* قالت داية داوود الطائي: يا أبا سليمان أما تشتهي الخبز . . .؟ قال: يا داية بين مضغ الخبز وشرب الفتيت قراءة خمسين آ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2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4920" y="5440320"/>
            <a:ext cx="821844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Mohanad Bold"/>
              </a:rPr>
              <a:t>فهذه حالهم ..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ohanad Bold"/>
              </a:rPr>
              <a:t>ــ ولقد ثبت بما لا يدع مجالاً للشك عن طلاب الشيخ ابن باز ـ رحمه اللـه ـ أن الشيخ كان دائماً ما يسبح بين إجابة على أسئلة المستفتين ، ومحاضراته المسموعة دالة على ذلك .                                                                                       </a:t>
            </a:r>
            <a:br>
              <a:rPr sz="2400"/>
            </a:b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L-Mohanad Bold"/>
              </a:rPr>
              <a:t>                                                                               ( الأخ أبو أسامه )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ohanad Bold"/>
              </a:rPr>
              <a:t>ــ الشيخ الألباني ـ رحمه اللـه ـ يقول عن نفسه : ”ولذا فإنني ألازم هذه المكتبة ملازمة موظفيها لها ، ويتراوح ما أقضيه من الوقت فيها ما بين ست ساعات إلى ثماني ساعات يومياً ، على اختلاف النظام الصيفي والشتوي في  الدوام“ ، وأحياناً كان يبقى فيها اثنتي عشر ساعة ، لا يفتر عن المطالعة والتعليق والتحقيق إلا أثناء فترات الصلاة. </a:t>
            </a:r>
            <a:br>
              <a:rPr sz="2400"/>
            </a:b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L-Mohanad Bold"/>
              </a:rPr>
              <a:t>                                                                              ( أ.إبراهيم العلي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ohanad Bold"/>
              </a:rPr>
              <a:t>ــ وإذا قلت إن الشيخ ابن عثيمين ـ رحمه اللـه ـ يمر الساعة الرابعة إلا خمس دقائق مثلاً من المكان الفلاني ، وهو ذاهب إلى المسجد ، فإنك تجده يمر بذلك المكان في ذلك الوقت بالضبط ، فهو يمشي كالساعة ، وإذا أعطى موعداً إلتزم به ، فقد جربت ذلك  بموعدين معه أسبوعياً على هاتفه الخاص خصصت للرد على المستفتين عن طريق الإنترنت ، فكان يلتزم بالإجابة ، ويخبر بالتأجيل إذا حصل ، مع كثرة مواعيده وأشغاله.</a:t>
            </a:r>
            <a:br>
              <a:rPr sz="2400"/>
            </a:b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L-Mohanad Bold"/>
              </a:rPr>
              <a:t>                                                                  ( الشيخ محمد صالح المنجد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98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98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98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98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3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  <a:cs typeface="AL-Mateen"/>
              </a:rPr>
              <a:t>فما هي حالك أخي ...؟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768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4" dur="768" fill="hold"/>
                                        <p:tgtEl>
                                          <p:spTgt spid="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6" dur="768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8" dur="768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L-Mohanad Bold"/>
              </a:rPr>
              <a:t>* كيف ندير أوقاتنا بفاعليه 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0755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AL-Sayf Bold"/>
              </a:rPr>
              <a:t>الإضاءة الأولى: ضع لك هدفا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L-Sayf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L-Sayf Bold"/>
              </a:rPr>
              <a:t> إجعل هدفك مشروعاً بالإخلاص والمتابعة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L-Sayf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L-Sayf Bold"/>
              </a:rPr>
              <a:t> إجعل هدفك واقعياً : كن داعية ، وكن مخترعاً ، كن كي تكو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L-Sayf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L-Sayf Bold"/>
              </a:rPr>
              <a:t> إجعل هدفك مهما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L-Sayf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L-Sayf Bold"/>
              </a:rPr>
              <a:t> إجعل هدفك أمامك تراه دائما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L-Sayf Bold"/>
              </a:rPr>
              <a:t> إجعل هدفك وفق ميولك واهتمامات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L-Sayf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L-Sayf Bold"/>
              </a:rPr>
              <a:t> إجعل هدفك محدداً وقابلاً للتقييم : سأقرأ في اليوم ثلاثين صفحة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L-Sayf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L-Sayf Bold"/>
              </a:rPr>
              <a:t> إجعل هدفك باعثاً على التحدي: سأقيم مشروعاً دعوياً على مستوى الحي ولو كنت طالبا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T Simple Bold Ruled"/>
              </a:rPr>
              <a:t>* تذكر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  <a:cs typeface="PT Simple Bold Ruled"/>
              </a:rPr>
              <a:t>إحفز نفسك لتحقيق أهدافك ، وكافئها بعد ذل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5T11:45:35Z</dcterms:created>
  <dc:creator>*************</dc:creator>
  <dc:description/>
  <dc:language>en-US</dc:language>
  <cp:lastModifiedBy>ajmifd0a</cp:lastModifiedBy>
  <dcterms:modified xsi:type="dcterms:W3CDTF">2007-06-27T05:59:34Z</dcterms:modified>
  <cp:revision>26</cp:revision>
  <dc:subject/>
  <dc:title>يسر منتدى صُنَّاع الأجياد  بشبكة الأمجاد الإسلامية أن يقدم هذه الدورة بعنوان:</dc:title>
</cp:coreProperties>
</file>