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8EB-C0BE-463D-988A-02E21272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902-F36F-4D25-A3CB-DE8B223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302-BAA9-4A59-9335-071FBB03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311-29A1-47BD-BB2D-D3C2F52C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523-387C-431E-AD15-34E8BF3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FAA-879C-41DB-827E-2CE9C25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F4B-7005-4FE7-AD4F-61FEAF5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5A1-5F47-4CD5-A592-56C80F1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A70-C4FC-4484-A1B5-79E9384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D25-09A5-452C-8779-3D4EDC1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347-FAE3-4053-B8C4-0C79A68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BB5-1E30-4B27-809A-A461849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476-C5C5-403B-8279-0F72720CE8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اتصال الشفوي هو الاتصال الذي يتم بين المرسِل والمستقبِل بوساطة اللغة المنطو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ينبع من هذا الاتصال قضيتان الأولى قضية استقبال اللغة والثانية قضية استعمال اللغ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ولاً- : قضية استقبال اللغة الشف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يس هناك استقبال واحد للغة الشفوية لأنه ليس هناك مستقبل واحد . وهناك أشكال كثيرة لاستقبال اللغة الشفوية تختلف بحسب المكان والرسالة وموقف المستقبِل وهيبة المرس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 - استقبال اللغة الشفوية بحسب المكا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حدد المكان طبيعة استقبال اللغة الشفوية لدى المستقبل . فقد يكون المكان قاعة درس فيفرض على المستقبل الطالب أن يجلس صامتاً . فلو انتقل إلى المسجد فلا كلام أثناء صلاة الجماعة ، ولو انتقل إلى الاستراحة لابد له أو الزيارة فلا سكوت هناك لأن طبيعة المكان تتطلب ذلك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 - استقبال اللغة الشفوية بحسب موقف المستقبِ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يس للمستقبل موقف واحد أثناء تلقيه الرسالة ؛ فقد يكون خائفاً فتنخفض نسبة فهمه للرسالة ، ومن ثم يضعف تفاعله معها ، وقد يكون مرهقاً وقد يكون رئيساً في العم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 - استقبال اللغة الشفوية بحسب موضوع الرسال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ختلف استقبال اللغة الشفوية أحياناً بحسب الرسالة . فقد تكون ذات طابع ديني أرسلها رجل دين فإن المستقبل سيستقبلها بمزيد من الوعي والإدراك والحرص. وإذا كانت الرسالة ذات طابع شعاري سيكون تفاعل المستقبل معها أقل .  وكل يوم نحن نستقبل مئات الرسائل في التربية والمعرفة العلمية والاجتماعية والأخلاقية، وغيرها، ويختلف استقبالنا لكل رسالة عن الأخرى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 - استقبال اللغة الشفوية بحسب هيبة المرسِ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رتفع درجة الاستقبال إذا كان المرسِل ذا هيبة لدى الناس . فرجال الدين محترمون يثق الناس بعلمهم وتقواهم فيأخذون عنهم سلوكهم قدوة وينفعلون بأحاديثهم . وهناك رجال تربية واقتصاد ومجتمع وفن وعلم وصحافة يتمتعون بهيبة كبيرة لدى الجمهور وهم يستطيعون أن يكونوا أكثر أثراً من غيرهم في الجمهور نتيجة لهذه الهيب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خلاصة : إن استقبال اللغة الشفوية يرجع من حيث القوة والضعف إلى عوامل المكان والموقف والرسالة والهيبة أو إليها جميعا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 - :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قالت العرب : لسانك حصانك إن صنته صانك . من تأتي خطورة اللغة الشفوية في قضايا الاتصال . فقد يقود استعمال اللغة الشفوية مستعملها إلـى السجن ، فينال العقاب ، وقد ترفع من شأنه فيُحمد في مجتمعه وأهله . فالناس يتفاوتون في قدراتهم على استعمال اللغة الشفوية . وهذا التفاوت بين الناس هو سبب التباين في التأثير في المستقبل ، وسبب من أسباب تفاعله أو عدم تفاعله مع الرسالة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- استعمال الألفا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نتقي المرسل الألفاظ التي يرغب في استعمالها في قناة الاتصال لاعتقاده بأنها تلائم الهدف وتؤثر في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مرسل عادة ما ينتقي ألفاظاً دون أخرى لأنه يراعي الأشياء التالية في أثناء الاستقبا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اجتماعياً : فلا يستخدم ألفاظاً مثلاً أسماء بعض الثياب لأن هذا الاستعمال لا يقره مجتمع المستقبلين للغة الشفوية العربية ، ومقابل ذلك نراه يستعمل الألفاظ الدالة على الأخلاق والدين والفضائل لأنه يعرف أنها مقبولة ولها وقع إيجابي على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مهنياً : يتفق أصحاب المهن المختلفة على ألفاظ تدل على معان محددة ، فإذا أرسل أحدهم رسالة إلى آخر يلتزم بالألفاظ المتعارف عليها في هذا الحقل . ففي الحقل الدبلوماسي تختلف الكلمات التالية فيما بينها ويجب عدم واحدة مكان الأخرى : استنكر ، شجب ، احتج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أخلاقياً : لكل مجتمع أخلاقه ومفرداته المقبولة أخلاقياً ، وأي استخدام لألفاظ غيرها سيبدو المستخدم خارجاً على الأعراف الأخلاقية . مثل الشتائم البذيئة والألفاظ غير المؤدبة والنابية . ومقابل ذلك فإن استخدام الألفاظ التي يوافق عليها العرف العام في المجتمع سـيكون مقبولاً من كل أفراده . وسيبدو مرسلها مقبول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- : استعمال الأساليب : الرسالة ليست ألفاظاً فقط بل هي جمل وتراكيب تصنع أساليب مختلفة . وتهدف الأساليب إلى التأثير في المستقبل انطلاقاً من تنوعها وأشكال صياغتها .  وتختلف الأساليب بحسب الظرف والمهنة والشخص المرسل وثقافته ... فهناك أسلوب دبلوماسي أساسه اللباقة والدقة والاحترام واللطف والحرص على انتقاء الألفاظ المناسبة ، وهناك أسلوب أصحاب المهن من حدادين ونجارين وسائقين وحلاقين ، وهناك أساليب التكريم والتبجيل ( طويل العمر ، صاحب السعادة ، حضرة الأستاذ ) ، وأساليب الدعاء للإنسان أو الدعاء عليه : بارك الله بك ، رحم الله والديك ، بالرفاه والبنين ، عظم الله أجرك ، لابارك الله بك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هم في ذلك تقيد المرسل بالأسلوب الملائم للتأثير في المستقبل ، وعدم الخروج على المتداول من هذه الأساليب في الثقافة العربية لئلا ينفر المستقبِل من المرسل ، ويبتعد عن التفاعل مع رسالته 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- : استعمال الدلالة : هناك دلالة مباشرة للألفاظ والتراكيب ، وهذه الدلالة مقبولة لأنها الأصل في اتصال المرسل بالمستقبل . ولكن المرسل قد يستخدم دلالات أخرى ذات طابع إيحائي ، مثل : أن يشيح بوجهه للدلالة على النفور ، وأن يفرك يديه للدلالة على التوتر . وقد يستخدم قرائن لفظية معينة للدلالة على أمر ما مثل : إن الطيور على أشكالها تقع إذا أراد المطابقة بين أصدقاء السوء . وما شاء الله للدلالة على التعجب من شيء قابلناه ، والحمد لله لنعبر عن شكرنا لله على نعمه علينا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1:34:15Z</dcterms:created>
  <dc:creator>CSS</dc:creator>
  <dc:description/>
  <dc:language>en-US</dc:language>
  <cp:lastModifiedBy>CSS</cp:lastModifiedBy>
  <dcterms:modified xsi:type="dcterms:W3CDTF">2005-10-14T11:42:07Z</dcterms:modified>
  <cp:revision>2</cp:revision>
  <dc:subject/>
  <dc:title>مهارات الاتصال الشفوي</dc:title>
</cp:coreProperties>
</file>