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D2FB-29AF-45AB-9C35-7C3A5EE6C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3DF5-3EA6-4D9B-8081-3612898FD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1503-EA09-4B53-B374-6927D0068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A3D3-FA46-4DA4-B904-8095C4FDF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3853F-3CE5-4CFE-8D9F-89876D0F2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EE27C-48AE-4ADD-8A6B-BAD83DF02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57A2E-356D-4FC1-905F-3734AA30F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B6EFA-42E2-4989-A60A-CC875C0D4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CA2C8-9395-4B0D-B80C-F17FC1F9D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960E8-6378-4DE4-9509-F3C2AC0EA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1EAB8-8A6E-40AD-B6DF-F6FE8E2A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698F-1510-4D5E-8074-ABE6C4FCD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97309-284F-4283-AE14-9C7EAC8D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46BCA-44CF-4B27-B1B7-1C5D4381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5CA03-C131-48CF-B7D9-B934FE6A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56298-FE1D-433E-AB68-E8D893A9F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F40B3-0772-4E92-9310-75B423288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8558-4E80-4054-A8E8-3B5F63D7D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4BF1-5B90-42F8-B533-928925791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E1C0-8B5B-4114-B144-3B2865BF1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8175-6130-419A-A0E4-1350E148F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43DF-4B24-4E87-A48C-BAF6E449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2574-6D55-40C7-8F75-6D3D0306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E005-C30B-4FDD-8A67-120F92CF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 algn="r" rtl="1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 algn="r" rtl="1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 algn="r" rtl="1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 algn="r" rtl="1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2E986-F466-4AB9-9715-6423D8203E0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1563D-8D8A-4EF5-B453-240570F5592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8600" y="380880"/>
            <a:ext cx="9144000" cy="64008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dce7f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8000" spc="-1" strike="noStrike">
                <a:solidFill>
                  <a:srgbClr val="336699"/>
                </a:solidFill>
                <a:latin typeface="Times New Roman"/>
                <a:ea typeface="AL-Hor"/>
              </a:rPr>
              <a:t>                     دور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8000" spc="-1" strike="noStrike">
                <a:solidFill>
                  <a:srgbClr val="336699"/>
                </a:solidFill>
                <a:latin typeface="Times New Roman"/>
                <a:cs typeface="Times New Roman"/>
              </a:rPr>
              <a:t>ترتيب </a:t>
            </a:r>
            <a:r>
              <a:rPr b="1" i="1" lang="ar-SA" sz="8000" spc="-1" strike="noStrike">
                <a:solidFill>
                  <a:srgbClr val="336699"/>
                </a:solidFill>
                <a:latin typeface="Times New Roman"/>
                <a:cs typeface="AGA Battouta Outline"/>
              </a:rPr>
              <a:t>الأولويات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8100" spc="-1" strike="noStrike">
                <a:solidFill>
                  <a:srgbClr val="336699"/>
                </a:solidFill>
                <a:latin typeface="Times New Roman"/>
                <a:ea typeface="AGA Battouta Outline"/>
              </a:rPr>
              <a:t> </a:t>
            </a:r>
            <a:r>
              <a:rPr b="1" i="1" lang="en-US" sz="4400" spc="-1" strike="noStrike">
                <a:solidFill>
                  <a:srgbClr val="336699"/>
                </a:solidFill>
                <a:latin typeface="Times New Roman"/>
              </a:rPr>
              <a:t>First important pri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0000"/>
                </a:solidFill>
                <a:latin typeface="Times New Roman"/>
                <a:cs typeface="PT Bold Heading"/>
              </a:rPr>
              <a:t>المدرب / صلاح معما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20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800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80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89000" y="1557360"/>
            <a:ext cx="887868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Verdana"/>
                <a:ea typeface="AdvertisingExtraBold"/>
              </a:rPr>
              <a:t>1</a:t>
            </a:r>
            <a:r>
              <a:rPr b="1" lang="en-US" sz="3400" spc="-1" strike="noStrike">
                <a:solidFill>
                  <a:srgbClr val="cc0000"/>
                </a:solidFill>
                <a:latin typeface="Verdana"/>
                <a:ea typeface="AdvertisingExtraBold"/>
              </a:rPr>
              <a:t> - عندما تنوي مصادقة زميل لك بالمدرسة ، ما الأولويات المهمة التي تضعها في اعتبارك  ؟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Verdana"/>
                <a:ea typeface="AdvertisingExtraBold"/>
              </a:rPr>
              <a:t> </a:t>
            </a:r>
            <a:r>
              <a:rPr b="1" lang="en-US" sz="3400" spc="-1" strike="noStrike">
                <a:solidFill>
                  <a:srgbClr val="cc0000"/>
                </a:solidFill>
                <a:latin typeface="Verdana"/>
                <a:ea typeface="AdvertisingExtraBold"/>
              </a:rPr>
              <a:t>2</a:t>
            </a:r>
            <a:r>
              <a:rPr b="1" lang="en-US" sz="3400" spc="-1" strike="noStrike">
                <a:solidFill>
                  <a:srgbClr val="cc0000"/>
                </a:solidFill>
                <a:latin typeface="Verdana"/>
                <a:ea typeface="AdvertisingExtraBold"/>
              </a:rPr>
              <a:t> - إذا كنت تنظم حفلة عائلية ، ما الأولويات التي تضعها في اعتبارك ؟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Verdana"/>
                <a:ea typeface="AdvertisingExtraBold"/>
              </a:rPr>
              <a:t>3</a:t>
            </a:r>
            <a:r>
              <a:rPr b="1" lang="en-US" sz="3400" spc="-1" strike="noStrike">
                <a:solidFill>
                  <a:srgbClr val="cc0000"/>
                </a:solidFill>
                <a:latin typeface="Verdana"/>
                <a:ea typeface="AdvertisingExtraBold"/>
              </a:rPr>
              <a:t> - إذا كنت تنوي النقل من عملك ، فما أولوياتك ؟ 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Verdana"/>
                <a:ea typeface="AdvertisingExtraBold"/>
              </a:rPr>
              <a:t>4</a:t>
            </a:r>
            <a:r>
              <a:rPr b="1" lang="en-US" sz="3400" spc="-1" strike="noStrike">
                <a:solidFill>
                  <a:srgbClr val="cc0000"/>
                </a:solidFill>
                <a:latin typeface="Verdana"/>
                <a:ea typeface="AdvertisingExtraBold"/>
              </a:rPr>
              <a:t> - أنتَ تضع خطة للمذاكرة ، فما أولوياتك ؟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124080" y="76320"/>
            <a:ext cx="3353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5e0000"/>
                    </a:gs>
                    <a:gs pos="50000">
                      <a:srgbClr val="cc0000"/>
                    </a:gs>
                    <a:gs pos="100000">
                      <a:srgbClr val="5e0000"/>
                    </a:gs>
                  </a:gsLst>
                  <a:lin ang="8100000"/>
                </a:gradFill>
                <a:effectLst>
                  <a:outerShdw dist="153753" dir="2700000" blurRad="0" rotWithShape="0">
                    <a:srgbClr val="c0c0c0">
                      <a:alpha val="50000"/>
                    </a:srgbClr>
                  </a:outerShdw>
                </a:effectLst>
                <a:latin typeface="ACS  Topazz"/>
              </a:rPr>
              <a:t>المشروع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5e0000"/>
                  </a:gs>
                  <a:gs pos="50000">
                    <a:srgbClr val="cc0000"/>
                  </a:gs>
                  <a:gs pos="100000">
                    <a:srgbClr val="5e0000"/>
                  </a:gs>
                </a:gsLst>
                <a:lin ang="8100000"/>
              </a:gradFill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  <a:latin typeface="ACS  Topazz"/>
              <a:ea typeface="ACS  Topazz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143000" y="3411360"/>
            <a:ext cx="7056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يقول علي بن ابي طالب رضي الل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– من اشتغل بغير المهم ضيع الاهم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9280" y="624852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وقيل \ كثير من الفاشلين هم ضحايا ضياع أولوياته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447920" y="533520"/>
            <a:ext cx="2971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336699"/>
                    </a:gs>
                    <a:gs pos="100000">
                      <a:srgbClr val="a3b2c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c0c0c0">
                      <a:alpha val="50000"/>
                    </a:srgbClr>
                  </a:outerShdw>
                </a:effectLst>
                <a:latin typeface="ACS  Topazz"/>
              </a:rPr>
              <a:t>مقدمة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336699"/>
                  </a:gs>
                  <a:gs pos="100000">
                    <a:srgbClr val="a3b2c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  <a:latin typeface="ACS  Topazz"/>
              <a:ea typeface="ACS  Topazz"/>
            </a:endParaRPr>
          </a:p>
        </p:txBody>
      </p:sp>
      <p:sp>
        <p:nvSpPr>
          <p:cNvPr id="88" name=""/>
          <p:cNvSpPr/>
          <p:nvPr/>
        </p:nvSpPr>
        <p:spPr>
          <a:xfrm>
            <a:off x="-152280" y="2362320"/>
            <a:ext cx="929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قال الله تعالى :. ( أجعلتم سقاية الحاج وعمارة المسجد الحرام كمن آمن بالله واليوم الآخر وجاهد في سبيل الله ، لا يستوون عند الله , والله لا يهدي القوم الظالمين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43000" y="504360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ووصية ابي بكر الصديق لعمر بن الخطا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33520" y="914400"/>
            <a:ext cx="7989840" cy="4967280"/>
          </a:xfrm>
          <a:custGeom>
            <a:avLst/>
            <a:gdLst>
              <a:gd name="textAreaLeft" fmla="*/ 1823760 w 7989840"/>
              <a:gd name="textAreaRight" fmla="*/ 6166080 w 7989840"/>
              <a:gd name="textAreaTop" fmla="*/ 1134000 h 4967280"/>
              <a:gd name="textAreaBottom" fmla="*/ 3833280 h 496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انك لا تملك إلا أن تقوم بعمل واح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في كل وقت ، فإذا عملت ما هو مه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فلن تستطيع أن تعمل ما هو أه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وإذا انشغلت بما هو تافه فلن تستطي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أن تنشغل بما هو ضروري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1779480" y="396720"/>
          <a:ext cx="5764320" cy="822600"/>
        </p:xfrm>
        <a:graphic>
          <a:graphicData uri="http://schemas.openxmlformats.org/drawingml/2006/table">
            <a:tbl>
              <a:tblPr/>
              <a:tblGrid>
                <a:gridCol w="5764320"/>
              </a:tblGrid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i-IN" sz="4800" spc="-1" strike="noStrike">
                          <a:solidFill>
                            <a:srgbClr val="000000"/>
                          </a:solidFill>
                          <a:latin typeface="Times New Roman"/>
                          <a:cs typeface="Mohammad alsahan"/>
                        </a:rPr>
                        <a:t>الأولويات المهمة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"/>
          <p:cNvSpPr/>
          <p:nvPr/>
        </p:nvSpPr>
        <p:spPr>
          <a:xfrm>
            <a:off x="0" y="973800"/>
            <a:ext cx="90676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mohammad bold art 1"/>
              </a:rPr>
              <a:t>هناك بعض الأشياء أهم من أشياء أخرى ، وهناك بعض العوامل أهم من عوامل أخرى ، كما أن هناك بعض الأهداف أهم من غيرها ، وبعض النتائج أهم من غيرها ، في التفكير حول موقف ما ، وبعد أن تكون قد جمعت عدداً من الأفكار ، عليك أن تقرر أياً من هذه الأفكار يعتبر أكثر أهمية بحيث تستطيع عمل شيء ما لهذه الأفكار ( قم باختيار الأولويات المهمة من بينها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mohammad bold art 1"/>
              </a:rPr>
              <a:t>*   الذي تعتقده أكثر أهمية في نظرك فإن شخصاً آخر قد يسقطه من أولوياته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1360" algn="just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mohammad bold art 1"/>
              </a:rPr>
              <a:t>يجب أن تعرف بالضبط لماذا أخذت شيئاً ما كأولوية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1360" algn="just" rtl="1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mohammad bold art 1"/>
              </a:rPr>
              <a:t>عدم اعتبار الأفكار التي تظهر أنها مهمة من خلال النظرة الأولى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066680" y="105120"/>
            <a:ext cx="673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000099"/>
                </a:solidFill>
                <a:latin typeface="Verdana"/>
                <a:cs typeface="Al Moharib Anbopi Ibrahim ."/>
              </a:rPr>
              <a:t>مثال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320" y="1979280"/>
            <a:ext cx="8915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  <a:ea typeface="AdvertisingExtraBold"/>
              </a:rPr>
              <a:t> يريد شخص أن يقترض منك نقوداً . من العوامل المختلفة أختر ما يلي  على اعتبار أنها أولوياتك 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99"/>
                </a:solidFill>
                <a:latin typeface="Verdana"/>
                <a:cs typeface="AdvertisingExtraBold"/>
              </a:rPr>
              <a:t>هل النقود متوفرة معك 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99"/>
                </a:solidFill>
                <a:latin typeface="Verdana"/>
                <a:cs typeface="AdvertisingExtraBold"/>
              </a:rPr>
              <a:t>هل تثق بالشخص المدين 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99"/>
                </a:solidFill>
                <a:latin typeface="Verdana"/>
                <a:cs typeface="AdvertisingExtraBold"/>
              </a:rPr>
              <a:t>هل تستطيع إقراضها 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99"/>
                </a:solidFill>
                <a:latin typeface="Verdana"/>
                <a:cs typeface="AdvertisingExtraBold"/>
              </a:rPr>
              <a:t>متى سيعيدها المدين 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771640" y="260280"/>
            <a:ext cx="554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000000"/>
                </a:solidFill>
                <a:latin typeface="AGA Arabesque Desktop"/>
                <a:cs typeface="AGA Arabesque Desktop"/>
              </a:rPr>
              <a:t>تدريبات</a:t>
            </a:r>
            <a:r>
              <a:rPr b="1" lang="en-US" sz="4800" spc="-1" strike="noStrike">
                <a:solidFill>
                  <a:srgbClr val="000000"/>
                </a:solidFill>
                <a:latin typeface="AGA Arabesque Desktop"/>
                <a:ea typeface="AGA Arabesque Desktop"/>
              </a:rPr>
              <a:t>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9280" y="1916280"/>
            <a:ext cx="871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  <a:cs typeface="MCS Badr S_I normal."/>
              </a:rPr>
              <a:t>رتب حسب أو لوياتك العوامل المؤثرة في اختيار وظيفة ما 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6320" y="1512000"/>
            <a:ext cx="906768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82"/>
                </a:solidFill>
                <a:latin typeface="Verdana"/>
                <a:ea typeface="AdvertisingExtraBold"/>
              </a:rPr>
              <a:t>1</a:t>
            </a:r>
            <a:r>
              <a:rPr b="1" lang="en-US" sz="2600" spc="-1" strike="noStrike">
                <a:solidFill>
                  <a:srgbClr val="000082"/>
                </a:solidFill>
                <a:latin typeface="Verdana"/>
                <a:ea typeface="AdvertisingExtraBold"/>
              </a:rPr>
              <a:t> -  يكتشف أب أن ابنه ( عمره </a:t>
            </a:r>
            <a:r>
              <a:rPr b="1" lang="en-US" sz="2600" spc="-1" strike="noStrike">
                <a:solidFill>
                  <a:srgbClr val="000082"/>
                </a:solidFill>
                <a:latin typeface="Verdana"/>
                <a:ea typeface="AdvertisingExtraBold"/>
              </a:rPr>
              <a:t>10</a:t>
            </a:r>
            <a:r>
              <a:rPr b="1" lang="en-US" sz="2600" spc="-1" strike="noStrike">
                <a:solidFill>
                  <a:srgbClr val="000082"/>
                </a:solidFill>
                <a:latin typeface="Verdana"/>
                <a:ea typeface="AdvertisingExtraBold"/>
              </a:rPr>
              <a:t> سنوات ) سرق لعبة  من شخص ما , ماذا يجب أن تكون الأولويات عند ذلك الأب ؟ 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82"/>
                </a:solidFill>
                <a:latin typeface="Verdana"/>
                <a:ea typeface="AdvertisingExtraBold"/>
              </a:rPr>
              <a:t>2</a:t>
            </a:r>
            <a:r>
              <a:rPr b="1" lang="en-US" sz="2600" spc="-1" strike="noStrike">
                <a:solidFill>
                  <a:srgbClr val="000082"/>
                </a:solidFill>
                <a:latin typeface="Verdana"/>
                <a:ea typeface="AdvertisingExtraBold"/>
              </a:rPr>
              <a:t> - قم بعمل الأهداف حول شراء سيارة ، ومن ثم قم بعمل الأولويات المهمة الأولى على الأهداف التي وضعتها 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82"/>
                </a:solidFill>
                <a:latin typeface="Verdana"/>
                <a:ea typeface="AdvertisingExtraBold"/>
              </a:rPr>
              <a:t>3</a:t>
            </a:r>
            <a:r>
              <a:rPr b="1" lang="en-US" sz="2600" spc="-1" strike="noStrike">
                <a:solidFill>
                  <a:srgbClr val="000082"/>
                </a:solidFill>
                <a:latin typeface="Verdana"/>
                <a:ea typeface="AdvertisingExtraBold"/>
              </a:rPr>
              <a:t> - إذا كنت تنظم حفلة مدرسية ، ما أولوياتك ؟ 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82"/>
                </a:solidFill>
                <a:latin typeface="Verdana"/>
                <a:ea typeface="AdvertisingExtraBold"/>
              </a:rPr>
              <a:t>@ </a:t>
            </a:r>
            <a:r>
              <a:rPr b="1" lang="en-US" sz="2600" spc="-1" strike="noStrike">
                <a:solidFill>
                  <a:srgbClr val="000082"/>
                </a:solidFill>
                <a:latin typeface="Verdana"/>
                <a:ea typeface="AdvertisingExtraBold"/>
              </a:rPr>
              <a:t>4</a:t>
            </a:r>
            <a:r>
              <a:rPr b="1" lang="en-US" sz="2600" spc="-1" strike="noStrike">
                <a:solidFill>
                  <a:srgbClr val="000082"/>
                </a:solidFill>
                <a:latin typeface="Verdana"/>
                <a:ea typeface="AdvertisingExtraBold"/>
              </a:rPr>
              <a:t> – عزمت إدارة مدرستك القيام  برحلة وصادف نفس اليوم قيام رفاقك برحلة برية وزادت حيرتك عندما جاءك اتصال من أخيك وتذكر بموعد الرحلة التي وعدتهم بها من أسبوع ، ماذا يجب أن تكون الأوليات عندك ؟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124080" y="76320"/>
            <a:ext cx="3353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336699"/>
                    </a:gs>
                    <a:gs pos="100000">
                      <a:srgbClr val="a3b2c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c0c0c0">
                      <a:alpha val="50000"/>
                    </a:srgbClr>
                  </a:outerShdw>
                </a:effectLst>
                <a:latin typeface="ACS  Topazz"/>
              </a:rPr>
              <a:t>التمارين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336699"/>
                  </a:gs>
                  <a:gs pos="100000">
                    <a:srgbClr val="a3b2c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  <a:latin typeface="ACS  Topazz"/>
              <a:ea typeface="ACS  Topazz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6320" y="1418400"/>
            <a:ext cx="8915400" cy="45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0000"/>
                </a:solidFill>
                <a:latin typeface="Verdana"/>
                <a:cs typeface="AF_Taif Normal"/>
              </a:rPr>
              <a:t>المناقشة: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AF_Taif Normal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AF_Taif Normal"/>
              </a:rPr>
              <a:t> - هل الأولويات طبيعية ، أم أنه يتوجب عليك القيام بمجهود خاص لاختيارها 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AF_Taif Norm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AF_Taif Normal"/>
              </a:rPr>
              <a:t> - هل الأولويات دائماً واضحة ؟ 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AF_Taif Normal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AF_Taif Normal"/>
              </a:rPr>
              <a:t> - متى يكون الأمر أكثر فائدة لإيجاد الأولويات 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AF_Taif Normal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AF_Taif Normal"/>
              </a:rPr>
              <a:t> - كيف تختار الأولويات ؟ .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AF_Taif Norm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819520" y="0"/>
            <a:ext cx="327636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6699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WinSoft Thuluth Pro"/>
              </a:rPr>
              <a:t>العملية</a:t>
            </a:r>
            <a:endParaRPr b="1" lang="en-US" sz="6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336699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WinSoft Thuluth Pro"/>
              <a:ea typeface="WinSoft Thuluth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1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8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8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8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8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8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909800" y="89640"/>
            <a:ext cx="532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Verdana"/>
                <a:cs typeface="Al Moharib Anbopi Ibrahim ."/>
              </a:rPr>
              <a:t>المبادئ</a:t>
            </a:r>
            <a:r>
              <a:rPr b="1" lang="en-US" sz="8000" spc="-1" strike="noStrike">
                <a:solidFill>
                  <a:srgbClr val="000000"/>
                </a:solidFill>
                <a:latin typeface="Verdana"/>
                <a:ea typeface="Al Moharib Anbopi Ibrahim .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4800"/>
            <a:ext cx="8991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Verdana"/>
                <a:ea typeface="AdvertisingExtraBold"/>
              </a:rPr>
              <a:t>1</a:t>
            </a:r>
            <a:r>
              <a:rPr b="1" lang="en-US" sz="2700" spc="-1" strike="noStrike">
                <a:solidFill>
                  <a:srgbClr val="000000"/>
                </a:solidFill>
                <a:latin typeface="Verdana"/>
                <a:ea typeface="AdvertisingExtraBold"/>
              </a:rPr>
              <a:t> - من الضروري جداً الحصول على أكبر عدد من الأفكار أولاً ، ومن ثم البدء باختيار  الأولويات من بينها 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Verdana"/>
                <a:ea typeface="AdvertisingExtraBold"/>
              </a:rPr>
              <a:t>2</a:t>
            </a:r>
            <a:r>
              <a:rPr b="1" lang="en-US" sz="2700" spc="-1" strike="noStrike">
                <a:solidFill>
                  <a:srgbClr val="000000"/>
                </a:solidFill>
                <a:latin typeface="Verdana"/>
                <a:ea typeface="AdvertisingExtraBold"/>
              </a:rPr>
              <a:t> - الناس المختلفون ربما يكون لديهم أولويات مختلفة في التعامل مع الموقف الواحد .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Verdana"/>
                <a:ea typeface="AdvertisingExtraBold"/>
              </a:rPr>
              <a:t>3</a:t>
            </a:r>
            <a:r>
              <a:rPr b="1" lang="en-US" sz="2700" spc="-1" strike="noStrike">
                <a:solidFill>
                  <a:srgbClr val="000000"/>
                </a:solidFill>
                <a:latin typeface="Verdana"/>
                <a:ea typeface="AdvertisingExtraBold"/>
              </a:rPr>
              <a:t> - يجب أن تعرف بالضبط لماذا اخترت شيئاً ما كأولوية ؟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Verdana"/>
                <a:ea typeface="AdvertisingExtraBold"/>
              </a:rPr>
              <a:t>4</a:t>
            </a:r>
            <a:r>
              <a:rPr b="1" lang="en-US" sz="2700" spc="-1" strike="noStrike">
                <a:solidFill>
                  <a:srgbClr val="000000"/>
                </a:solidFill>
                <a:latin typeface="Verdana"/>
                <a:ea typeface="AdvertisingExtraBold"/>
              </a:rPr>
              <a:t> - إذا كان من الصعب اختيار أهم الأشياء فحاول النظر إليها من الجانب الآخر واترك ( أهمل ) الأولويات الأقل أهمية وتعرف على ما تبقى لديك من الأولويات 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Verdana"/>
                <a:ea typeface="AdvertisingExtraBold"/>
              </a:rPr>
              <a:t>5</a:t>
            </a:r>
            <a:r>
              <a:rPr b="1" lang="en-US" sz="2700" spc="-1" strike="noStrike">
                <a:solidFill>
                  <a:srgbClr val="000000"/>
                </a:solidFill>
                <a:latin typeface="Verdana"/>
                <a:ea typeface="AdvertisingExtraBold"/>
              </a:rPr>
              <a:t> - يجب عدم تجاهل الأفكار التي لم يتم اختيارها كأولويات فسوف يتم أخذها بعين الاعتبار ولكن بعد الأولويات 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4T09:35:26Z</dcterms:created>
  <dc:creator>wasrmsas</dc:creator>
  <dc:description/>
  <dc:language>en-US</dc:language>
  <cp:lastModifiedBy>Vaio</cp:lastModifiedBy>
  <dcterms:modified xsi:type="dcterms:W3CDTF">2006-04-28T15:09:53Z</dcterms:modified>
  <cp:revision>30</cp:revision>
  <dc:subject/>
  <dc:title>الشريحة 1</dc:title>
</cp:coreProperties>
</file>