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9D08-83ED-499D-BB19-04DA7B0B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A1DE-C419-438C-A5B4-E824A665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C21A-B5E9-4CAF-873D-940B3ADF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F9B0-4937-4468-9294-5DF66842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6FE8-257F-4676-940D-1121DCD3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9EAA-F0F0-4A7A-BBBB-5EF723DA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9B36-90EA-4BEB-A0A4-03657433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A2CF-9F34-4AF8-836D-F3A9969B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989B-B550-4688-998F-29AE5171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3985-CE7F-4721-B033-1C2CD53E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002C-49A9-418E-8E2B-ADC8F270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D714-C0D2-4A89-8606-8E7B0C3D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C216-D14C-452A-984E-20F33B1D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75F7-5BCB-4C15-9F5E-0E6DA4F6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8D07-EB96-4BE6-BC35-242B6F9F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8B1B-61BA-44E5-A653-3A77472C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CF62-94FE-4053-8EAA-191B8EC41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764C-31C9-48E4-BA68-2DD667D8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F52F-3C3D-44A6-AE60-25099482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EABF-C128-4A67-BCA3-5300B408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3620-97D3-4B42-A068-FCDC672F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8832-7AF1-4163-8FF4-4CFC37B2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8386-C7BD-4FA2-88F0-44552954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0E48-0F10-4EC8-87C4-124D9AA2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4991-46B8-4371-AC95-A990A7007D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1A60-EF7E-4E0B-B386-84962DB3AC2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380880"/>
            <a:ext cx="9144000" cy="64008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dce7f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8000" spc="-1" strike="noStrike">
                <a:solidFill>
                  <a:srgbClr val="336699"/>
                </a:solidFill>
                <a:latin typeface="Times New Roman"/>
                <a:ea typeface="AL-Hor"/>
              </a:rPr>
              <a:t>                     دور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8000" spc="-1" strike="noStrike">
                <a:solidFill>
                  <a:srgbClr val="336699"/>
                </a:solidFill>
                <a:latin typeface="Times New Roman"/>
                <a:cs typeface="Times New Roman"/>
              </a:rPr>
              <a:t>ترتيب </a:t>
            </a:r>
            <a:r>
              <a:rPr b="1" i="1" lang="ar-SA" sz="8000" spc="-1" strike="noStrike">
                <a:solidFill>
                  <a:srgbClr val="336699"/>
                </a:solidFill>
                <a:latin typeface="Times New Roman"/>
                <a:cs typeface="AGA Battouta Outline"/>
              </a:rPr>
              <a:t>الأولويا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8100" spc="-1" strike="noStrike">
                <a:solidFill>
                  <a:srgbClr val="336699"/>
                </a:solidFill>
                <a:latin typeface="Times New Roman"/>
                <a:ea typeface="AGA Battouta Outline"/>
              </a:rPr>
              <a:t> </a:t>
            </a:r>
            <a:r>
              <a:rPr b="1" i="1" lang="en-US" sz="4400" spc="-1" strike="noStrike">
                <a:solidFill>
                  <a:srgbClr val="336699"/>
                </a:solidFill>
                <a:latin typeface="Times New Roman"/>
              </a:rPr>
              <a:t>First important pri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00"/>
                </a:solidFill>
                <a:latin typeface="Times New Roman"/>
                <a:cs typeface="PT Bold Heading"/>
              </a:rPr>
              <a:t>المدرب / صلاح معما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2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8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80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89000" y="1557360"/>
            <a:ext cx="88786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1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 - عندما تنوي مصادقة زميل لك بالمدرسة ، ما الأولويات المهمة التي تضعها في اعتبارك  ؟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 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2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 - إذا كنت تنظم حفلة عائلية ، ما الأولويات التي تضعها في اعتبارك ؟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3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 - إذا كنت تنوي النقل من عملك ، فما أولوياتك ؟ 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4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 - أنتَ تضع خطة للمذاكرة ، فما أولوياتك ؟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124080" y="76320"/>
            <a:ext cx="3353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5e0000"/>
                    </a:gs>
                    <a:gs pos="50000">
                      <a:srgbClr val="cc0000"/>
                    </a:gs>
                    <a:gs pos="100000">
                      <a:srgbClr val="5e00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CS  Topazz"/>
              </a:rPr>
              <a:t>المشروع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5e0000"/>
                  </a:gs>
                  <a:gs pos="50000">
                    <a:srgbClr val="cc0000"/>
                  </a:gs>
                  <a:gs pos="100000">
                    <a:srgbClr val="5e0000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CS  Topazz"/>
              <a:ea typeface="ACS  Topazz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43000" y="3411360"/>
            <a:ext cx="705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يقول علي بن ابي طالب رضي الل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– من اشتغل بغير المهم ضيع الاهم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62485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وقيل \ كثير من الفاشلين هم ضحايا ضياع أولوياته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447920" y="53352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a3b2c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CS  Topazz"/>
              </a:rPr>
              <a:t>مقدمة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a3b2c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CS  Topazz"/>
              <a:ea typeface="ACS  Topazz"/>
            </a:endParaRPr>
          </a:p>
        </p:txBody>
      </p:sp>
      <p:sp>
        <p:nvSpPr>
          <p:cNvPr id="88" name=""/>
          <p:cNvSpPr/>
          <p:nvPr/>
        </p:nvSpPr>
        <p:spPr>
          <a:xfrm>
            <a:off x="-152280" y="2362320"/>
            <a:ext cx="92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قال الله تعالى :. ( أجعلتم سقاية الحاج وعمارة المسجد الحرام كمن آمن بالله واليوم الآخر وجاهد في سبيل الله ، لا يستوون عند الله , والله لا يهدي القوم الظالمين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504360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ووصية ابي بكر الصديق لعمر بن الخط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3520" y="914400"/>
            <a:ext cx="7989840" cy="4967280"/>
          </a:xfrm>
          <a:custGeom>
            <a:avLst/>
            <a:gdLst>
              <a:gd name="textAreaLeft" fmla="*/ 1823760 w 7989840"/>
              <a:gd name="textAreaRight" fmla="*/ 6166080 w 7989840"/>
              <a:gd name="textAreaTop" fmla="*/ 1134000 h 4967280"/>
              <a:gd name="textAreaBottom" fmla="*/ 3833280 h 496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نك لا تملك إلا أن تقوم بعمل واح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في كل وقت ، فإذا عملت ما هو مه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فلن تستطيع أن تعمل ما هو أه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وإذا انشغلت بما هو تافه فلن تستطي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أن تنشغل بما هو ضرور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779480" y="396720"/>
          <a:ext cx="5764320" cy="822600"/>
        </p:xfrm>
        <a:graphic>
          <a:graphicData uri="http://schemas.openxmlformats.org/drawingml/2006/table">
            <a:tbl>
              <a:tblPr/>
              <a:tblGrid>
                <a:gridCol w="576432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i-IN" sz="4800" spc="-1" strike="noStrike">
                          <a:solidFill>
                            <a:srgbClr val="000000"/>
                          </a:solidFill>
                          <a:latin typeface="Times New Roman"/>
                          <a:cs typeface="Mohammad alsahan"/>
                        </a:rPr>
                        <a:t>الأولويات المهمة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0" y="973800"/>
            <a:ext cx="9067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mohammad bold art 1"/>
              </a:rPr>
              <a:t>هناك بعض الأشياء أهم من أشياء أخرى ، وهناك بعض العوامل أهم من عوامل أخرى ، كما أن هناك بعض الأهداف أهم من غيرها ، وبعض النتائج أهم من غيرها ، في التفكير حول موقف ما ، وبعد أن تكون قد جمعت عدداً من الأفكار ، عليك أن تقرر أياً من هذه الأفكار يعتبر أكثر أهمية بحيث تستطيع عمل شيء ما لهذه الأفكار ( قم باختيار الأولويات المهمة من بينها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mohammad bold art 1"/>
              </a:rPr>
              <a:t>*   الذي تعتقده أكثر أهمية في نظرك فإن شخصاً آخر قد يسقطه من أولوياته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1360" algn="just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mohammad bold art 1"/>
              </a:rPr>
              <a:t>يجب أن تعرف بالضبط لماذا أخذت شيئاً ما كأولوية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1360" algn="just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mohammad bold art 1"/>
              </a:rPr>
              <a:t>عدم اعتبار الأفكار التي تظهر أنها مهمة من خلال النظرة الأولى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66680" y="105120"/>
            <a:ext cx="67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000099"/>
                </a:solidFill>
                <a:latin typeface="Verdana"/>
                <a:cs typeface="Al Moharib Anbopi Ibrahim ."/>
              </a:rPr>
              <a:t>مثا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1979280"/>
            <a:ext cx="8915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  <a:ea typeface="AdvertisingExtraBold"/>
              </a:rPr>
              <a:t> يريد شخص أن يقترض منك نقوداً . من العوامل المختلفة أختر ما يلي  على اعتبار أنها أولوياتك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99"/>
                </a:solidFill>
                <a:latin typeface="Verdana"/>
                <a:cs typeface="AdvertisingExtraBold"/>
              </a:rPr>
              <a:t>هل النقود متوفرة معك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99"/>
                </a:solidFill>
                <a:latin typeface="Verdana"/>
                <a:cs typeface="AdvertisingExtraBold"/>
              </a:rPr>
              <a:t>هل تثق بالشخص المدين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99"/>
                </a:solidFill>
                <a:latin typeface="Verdana"/>
                <a:cs typeface="AdvertisingExtraBold"/>
              </a:rPr>
              <a:t>هل تستطيع إقراضها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99"/>
                </a:solidFill>
                <a:latin typeface="Verdana"/>
                <a:cs typeface="AdvertisingExtraBold"/>
              </a:rPr>
              <a:t>متى سيعيدها المدين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771640" y="260280"/>
            <a:ext cx="554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AGA Arabesque Desktop"/>
                <a:cs typeface="AGA Arabesque Desktop"/>
              </a:rPr>
              <a:t>تدريبات</a:t>
            </a:r>
            <a:r>
              <a:rPr b="1" lang="en-US" sz="4800" spc="-1" strike="noStrike">
                <a:solidFill>
                  <a:srgbClr val="000000"/>
                </a:solidFill>
                <a:latin typeface="AGA Arabesque Desktop"/>
                <a:ea typeface="AGA Arabesque Desktop"/>
              </a:rPr>
              <a:t>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191628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MCS Badr S_I normal."/>
              </a:rPr>
              <a:t>رتب حسب أو لوياتك العوامل المؤثرة في اختيار وظيفة ما 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6320" y="1512000"/>
            <a:ext cx="90676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1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 -  يكتشف أب أن ابنه ( عمره 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10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 سنوات ) سرق لعبة  من شخص ما , ماذا يجب أن تكون الأولويات عند ذلك الأب ؟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2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 - قم بعمل الأهداف حول شراء سيارة ، ومن ثم قم بعمل الأولويات المهمة الأولى على الأهداف التي وضعتها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3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 - إذا كنت تنظم حفلة مدرسية ، ما أولوياتك ؟ 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@ 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4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 – عزمت إدارة مدرستك القيام  برحلة وصادف نفس اليوم قيام رفاقك برحلة برية وزادت حيرتك عندما جاءك اتصال من أخيك وتذكر بموعد الرحلة التي وعدتهم بها من أسبوع ، ماذا يجب أن تكون الأوليات عندك ؟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124080" y="76320"/>
            <a:ext cx="3353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a3b2c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CS  Topazz"/>
              </a:rPr>
              <a:t>التمارين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a3b2c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CS  Topazz"/>
              <a:ea typeface="ACS  Topazz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320" y="1418400"/>
            <a:ext cx="89154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Verdana"/>
                <a:cs typeface="AF_Taif Normal"/>
              </a:rPr>
              <a:t>المناقشة: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 - هل الأولويات طبيعية ، أم أنه يتوجب عليك القيام بمجهود خاص لاختيارها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 - هل الأولويات دائماً واضحة ؟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 - متى يكون الأمر أكثر فائدة لإيجاد الأولويات 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 - كيف تختار الأولويات ؟ .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819520" y="0"/>
            <a:ext cx="3276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66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WinSoft Thuluth Pro"/>
              </a:rPr>
              <a:t>العملية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66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WinSoft Thuluth Pro"/>
              <a:ea typeface="WinSoft Thuluth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09800" y="89640"/>
            <a:ext cx="53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Verdana"/>
                <a:cs typeface="Al Moharib Anbopi Ibrahim ."/>
              </a:rPr>
              <a:t>المبادئ</a:t>
            </a:r>
            <a:r>
              <a:rPr b="1" lang="en-US" sz="8000" spc="-1" strike="noStrike">
                <a:solidFill>
                  <a:srgbClr val="000000"/>
                </a:solidFill>
                <a:latin typeface="Verdana"/>
                <a:ea typeface="Al Moharib Anbopi Ibrahim .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4800"/>
            <a:ext cx="8991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1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 - من الضروري جداً الحصول على أكبر عدد من الأفكار أولاً ، ومن ثم البدء باختيار  الأولويات من بينها 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2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 - الناس المختلفون ربما يكون لديهم أولويات مختلفة في التعامل مع الموقف الواحد .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3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 - يجب أن تعرف بالضبط لماذا اخترت شيئاً ما كأولوية ؟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4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 - إذا كان من الصعب اختيار أهم الأشياء فحاول النظر إليها من الجانب الآخر واترك ( أهمل ) الأولويات الأقل أهمية وتعرف على ما تبقى لديك من الأولويات 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5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 - يجب عدم تجاهل الأفكار التي لم يتم اختيارها كأولويات فسوف يتم أخذها بعين الاعتبار ولكن بعد الأولويات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09:35:26Z</dcterms:created>
  <dc:creator>wasrmsas</dc:creator>
  <dc:description/>
  <dc:language>en-US</dc:language>
  <cp:lastModifiedBy>Vaio</cp:lastModifiedBy>
  <dcterms:modified xsi:type="dcterms:W3CDTF">2006-04-28T15:09:53Z</dcterms:modified>
  <cp:revision>30</cp:revision>
  <dc:subject/>
  <dc:title>الشريحة 1</dc:title>
</cp:coreProperties>
</file>