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9AA-9EC2-4DCC-B50A-B952D38A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D62-F217-4D71-8178-5F25675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D7C-4FBB-4586-B5D1-E5B57516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E6B-5DCB-4347-9003-175D960E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8532-87B3-4B22-91FC-8416699C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BE7-5367-4FCF-AA44-84BFFA1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1887-9A77-49FD-8EC2-E1D1F3BE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8F01-193F-469C-B6DF-2CA9254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C9E-04B3-40D6-872A-D2BCB414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342E-58E0-4BE6-97A4-FBFB1B3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484D-5BE3-4C4E-A682-89C583C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474-142A-4722-8553-E88226A9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0AB1-2872-4FE6-8227-38DE1EF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C08C-B500-4B1A-9C50-E3ECE5A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BCE1-3040-4F7E-930A-0103C97E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743-266E-4589-BB2B-EDB9BFEC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860C-33B6-4CC6-80D6-6222D0D3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CB6-B603-4153-B56E-7901963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8A2-BEA6-4DBA-AC94-58A133B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34D-02AD-4EC8-96AD-D63EB1F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AF3-721C-4F94-9BFF-4BB88C4B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B9F-B9A4-4970-A45A-9286499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FD1-FD16-489E-B0B4-A2ECA15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886-0ABA-452D-B8B7-2AC407C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780C-A4BA-451D-A601-8E480E448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944A-4DA6-4CD7-A935-CCE66738F2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80880"/>
            <a:ext cx="9144000" cy="6400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dce7f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ea typeface="AL-Hor"/>
              </a:rPr>
              <a:t>                     د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Times New Roman"/>
              </a:rPr>
              <a:t>ترتيب </a:t>
            </a: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AGA Battouta Outline"/>
              </a:rPr>
              <a:t>الأولوي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100" spc="-1" strike="noStrike">
                <a:solidFill>
                  <a:srgbClr val="336699"/>
                </a:solidFill>
                <a:latin typeface="Times New Roman"/>
                <a:ea typeface="AGA Battouta Outline"/>
              </a:rPr>
              <a:t> 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irst important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PT Bold Heading"/>
              </a:rPr>
              <a:t>المدرب / صلاح مع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9000" y="1557360"/>
            <a:ext cx="8878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1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عندما تنوي مصادقة زميل لك بالمدرسة ، ما الأولويات المهمة التي تضعها في اعتبارك 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2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ظم حفلة عائلية ، ما الأولويات التي تضعها في اعتبار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3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وي النقل من عملك ، فما أولوياتك ؟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4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أنتَ تضع خطة للمذاكرة ، فما أولويات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5e0000"/>
                    </a:gs>
                    <a:gs pos="50000">
                      <a:srgbClr val="cc0000"/>
                    </a:gs>
                    <a:gs pos="100000">
                      <a:srgbClr val="5e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مشرو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0000"/>
                  </a:gs>
                  <a:gs pos="50000">
                    <a:srgbClr val="cc0000"/>
                  </a:gs>
                  <a:gs pos="100000">
                    <a:srgbClr val="5e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341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قول علي بن ابي طالب رضي ال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– من اشتغل بغير المهم ضيع الاهم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4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يل \ كثير من الفاشلين هم ضحايا ضياع أولو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533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مقدمة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  <p:sp>
        <p:nvSpPr>
          <p:cNvPr id="88" name=""/>
          <p:cNvSpPr/>
          <p:nvPr/>
        </p:nvSpPr>
        <p:spPr>
          <a:xfrm>
            <a:off x="-15228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قال الله تعالى :. ( أجعلتم سقاية الحاج وعمارة المسجد الحرام كمن آمن بالله واليوم الآخر وجاهد في سبيل الله ، لا يستوون عند الله , والله لا يهدي القوم الظالمي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0436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وصية ابي بكر الصديق لعمر بن الخط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914400"/>
            <a:ext cx="7989840" cy="4967280"/>
          </a:xfrm>
          <a:custGeom>
            <a:avLst/>
            <a:gdLst>
              <a:gd name="textAreaLeft" fmla="*/ 1823760 w 7989840"/>
              <a:gd name="textAreaRight" fmla="*/ 6166080 w 7989840"/>
              <a:gd name="textAreaTop" fmla="*/ 1134000 h 4967280"/>
              <a:gd name="textAreaBottom" fmla="*/ 383328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نك لا تملك إلا أن تقوم بعمل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كل وقت ، فإذا عملت ما هو م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لن تستطيع أن تعمل ما هو أ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إذا انشغلت بما هو تافه فلن تستط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تنشغل بما هو ضرور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9480" y="396720"/>
          <a:ext cx="5764320" cy="822600"/>
        </p:xfrm>
        <a:graphic>
          <a:graphicData uri="http://schemas.openxmlformats.org/drawingml/2006/table">
            <a:tbl>
              <a:tblPr/>
              <a:tblGrid>
                <a:gridCol w="57643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4800" spc="-1" strike="noStrike">
                          <a:solidFill>
                            <a:srgbClr val="000000"/>
                          </a:solidFill>
                          <a:latin typeface="Times New Roman"/>
                          <a:cs typeface="Mohammad alsahan"/>
                        </a:rPr>
                        <a:t>الأولويات المهم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973800"/>
            <a:ext cx="906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هناك بعض الأشياء أهم من أشياء أخرى ، وهناك بعض العوامل أهم من عوامل أخرى ، كما أن هناك بعض الأهداف أهم من غيرها ، وبعض النتائج أهم من غيرها ، في التفكير حول موقف ما ، وبعد أن تكون قد جمعت عدداً من الأفكار ، عليك أن تقرر أياً من هذه الأفكار يعتبر أكثر أهمية بحيث تستطيع عمل شيء ما لهذه الأفكار ( قم باختيار الأولويات المهمة من بينها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ohammad bold art 1"/>
              </a:rPr>
              <a:t>*   الذي تعتقده أكثر أهمية في نظرك فإن شخصاً آخر قد يسقطه من أولويات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يجب أن تعرف بالضبط لماذا أخذت شيئاً ما كأولو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hammad bold art 1"/>
              </a:rPr>
              <a:t>عدم اعتبار الأفكار التي تظهر أنها مهمة من خلال النظرة الأول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5120"/>
            <a:ext cx="67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99"/>
                </a:solidFill>
                <a:latin typeface="Verdana"/>
                <a:cs typeface="Al Moharib Anbopi Ibrahim ."/>
              </a:rPr>
              <a:t>مث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979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  <a:ea typeface="AdvertisingExtraBold"/>
              </a:rPr>
              <a:t> يريد شخص أن يقترض منك نقوداً . من العوامل المختلفة أختر ما يلي  على اعتبار أنها أولويات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النقود متوفرة معك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ثق بالشخص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ستطيع إقراضها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متى سيعيدها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60280"/>
            <a:ext cx="55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GA Arabesque Desktop"/>
                <a:cs typeface="AGA Arabesque Desktop"/>
              </a:rPr>
              <a:t>تدريبات</a:t>
            </a:r>
            <a:r>
              <a:rPr b="1" lang="en-US" sz="4800" spc="-1" strike="noStrike">
                <a:solidFill>
                  <a:srgbClr val="000000"/>
                </a:solidFill>
                <a:latin typeface="AGA Arabesque Desktop"/>
                <a:ea typeface="AGA Arabesque Desktop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MCS Badr S_I normal."/>
              </a:rPr>
              <a:t>رتب حسب أو لوياتك العوامل المؤثرة في اختيار وظيفة ما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1512000"/>
            <a:ext cx="906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 يكتشف أب أن ابنه ( عمره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0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سنوات ) سرق لعبة  من شخص ما , ماذا يجب أن تكون الأولويات عند ذلك الأب ؟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2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قم بعمل الأهداف حول شراء سيارة ، ومن ثم قم بعمل الأولويات المهمة الأولى على الأهداف التي وضعتها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3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إذا كنت تنظم حفلة مدرسية ، ما أولوياتك ؟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@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4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– عزمت إدارة مدرستك القيام  برحلة وصادف نفس اليوم قيام رفاقك برحلة برية وزادت حيرتك عندما جاءك اتصال من أخيك وتذكر بموعد الرحلة التي وعدتهم بها من أسبوع ، ماذا يجب أن تكون الأوليات عندك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تماري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320" y="1418400"/>
            <a:ext cx="8915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Verdana"/>
                <a:cs typeface="AF_Taif Normal"/>
              </a:rPr>
              <a:t>المناقشة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طبيعية ، أم أنه يتوجب عليك القيام بمجهود خاص لاختيارها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دائماً واضحة ؟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متى يكون الأمر أكثر فائدة لإيجاد الأولويات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كيف تختار الأولويات ؟ 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WinSoft Thuluth Pro"/>
              </a:rPr>
              <a:t>العملية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WinSoft Thuluth Pro"/>
              <a:ea typeface="WinSoft Thuluth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9800" y="89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Verdana"/>
                <a:cs typeface="Al Moharib Anbopi Ibrahim ."/>
              </a:rPr>
              <a:t>المبادئ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l Moharib Anbopi Ibrahim .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4800"/>
            <a:ext cx="899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من الضروري جداً الحصول على أكبر عدد من الأفكار أولاً ، ومن ثم البدء باختيار  الأولويات من بينها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الناس المختلفون ربما يكون لديهم أولويات مختلفة في التعامل مع الموقف الواحد .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أن تعرف بالضبط لماذا اخترت شيئاً ما كأولوية 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إذا كان من الصعب اختيار أهم الأشياء فحاول النظر إليها من الجانب الآخر واترك ( أهمل ) الأولويات الأقل أهمية وتعرف على ما تبقى لديك من الأولويات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عدم تجاهل الأفكار التي لم يتم اختيارها كأولويات فسوف يتم أخذها بعين الاعتبار ولكن بعد الأولويات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26Z</dcterms:created>
  <dc:creator>wasrmsas</dc:creator>
  <dc:description/>
  <dc:language>en-US</dc:language>
  <cp:lastModifiedBy>Vaio</cp:lastModifiedBy>
  <dcterms:modified xsi:type="dcterms:W3CDTF">2006-04-28T15:09:53Z</dcterms:modified>
  <cp:revision>30</cp:revision>
  <dc:subject/>
  <dc:title>الشريحة 1</dc:title>
</cp:coreProperties>
</file>