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FE0-7B8F-4DF8-AA01-8E6BD091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B94-5FDA-4B17-BE53-5B4F5CBB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09A6-666F-4153-8200-1F5E356E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C3D-786C-48D9-AF2F-F148F39C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D3EE-D95A-4313-B028-8FA0EB62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2CCB-B428-47DA-A627-89401C61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3056-D71F-4D30-A825-5D745C5C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D861-66A8-4A4E-97DE-7828DE77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C30C-983B-443E-8358-96A03CCE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EA9D-34FF-4EE8-8FCA-7BC47A89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AD17-496E-4510-AB4D-AA1ABA77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42D-B3AB-44E9-9709-4E004FEF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A995-8861-429C-9DFC-5D93E666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FA70-38E8-45E4-990F-F19E40E9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7721-58A1-4797-ACF8-8434DD61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1AFE-55A5-47D0-8076-D0B7A89A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D827-0798-4DA9-8FF7-C87A6101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F76-CEE1-4095-975A-8FDD2074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2B1-DE6B-400E-8CF8-A14675F3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834-33C3-472D-82E4-D76F71DF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E56-711E-4459-B32D-5FB73866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CA0-7CE6-4F3E-B75D-D1F1D23C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E08-DDD7-4F11-B920-AC9077EA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D1D2-E84B-4394-BB36-27909378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87B6-CE36-4291-9525-AC0E294683F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8D83-45DC-4110-AFBB-092B9D3C8F8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Times New Roman"/>
              </a:rPr>
              <a:t>أسباب أدت إلى أهمية الإدارة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1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الإدارة عنصر من عناصر الإنتاج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كبر حجم المنظمات وتعقد عملياتها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تخصص وتقسيم العم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352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ستخدام موارد اقتصادية تتسم بالند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191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عمل في ظروف بيئية سريعة التغي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029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تعاظم دور الدول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1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الإدارة عملية مستمرة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إدارة نشاط شام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إدارة نشاط متخص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إدارة علم وفن ومهن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5181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إدارة علم جام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طبيعة الإدارة وخصائصه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1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تحديد الخطوات الأساسية التي يتكون منها العمل ، ثم اختيار أفضل طريقة لأداء هذا العمل في أقصر وقت ممكن . وذلك باستخدام الطريقة العلمية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ff33"/>
                </a:solidFill>
                <a:latin typeface="Times New Roman"/>
                <a:cs typeface="Andalus"/>
              </a:rPr>
              <a:t>الإدارة العلمي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أسس الإدارة العلم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2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اختيار العاملين وتدريبهم على استخدام الطريقة العلمية لانجاز الأعمال ، وتنمية التعاون بينهم ، وزيادة الحوافز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ff33"/>
                </a:solidFill>
                <a:latin typeface="Times New Roman"/>
                <a:cs typeface="Andalus"/>
              </a:rPr>
              <a:t>الإدارة العلمي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أسس الإدارة العلم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3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تقسيم العمل بين الإدارة والعمال بحيث يقوم كل منهم بالواجبات الخاصة به ، وبذلك تزيد الكفاية الانتاجية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ff33"/>
                </a:solidFill>
                <a:latin typeface="Times New Roman"/>
                <a:cs typeface="Andalus"/>
              </a:rPr>
              <a:t>الإدارة العلمي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أسس الإدارة العلم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4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الاعتراف بأن وظيفة الإدارة هي التخطيط للعمل ، وذلك بدلاً من أن يترك للعمال حرية اختيار الطريقة التي ينجزون بها الأعمال ، مما يؤدي إلى تضارب الطرق وعدم التنسيق ، أن على الإدارة التنسيق بين الجهود الجماعية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ff33"/>
                </a:solidFill>
                <a:latin typeface="Times New Roman"/>
                <a:cs typeface="Andalus"/>
              </a:rPr>
              <a:t>الإدارة العلمي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أسس الإدارة العلم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20:25:57Z</dcterms:created>
  <dc:creator>Main</dc:creator>
  <dc:description/>
  <dc:language>en-US</dc:language>
  <cp:lastModifiedBy>Main</cp:lastModifiedBy>
  <dcterms:modified xsi:type="dcterms:W3CDTF">2004-01-01T20:47:07Z</dcterms:modified>
  <cp:revision>9</cp:revision>
  <dc:subject/>
  <dc:title>أسباب أدت إلى أهمية الإدارة</dc:title>
</cp:coreProperties>
</file>